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0A2E-62EB-4A38-A558-3FDC6B72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A62-D170-410F-B5D1-13740237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EFA-386D-463B-8140-97223F78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BE0-7BA8-486E-AF7A-950711BC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A1F4-2032-47D4-A124-90889B73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242C-835F-4E7E-BA83-2AE55C86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F4ED-5006-4459-A3F7-9107C54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6414-1D24-4C3D-A748-1589B54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DEE-A809-47E6-B06B-B046BED8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070-5B12-4036-A5C3-C73C3BD4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38B6-F0E9-4BA4-AAA7-9EA5BEE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DF9-29FF-4802-B511-DFD9247B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FDB-B12E-403C-B77D-1EC7FE4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39D-0BCC-4BAD-B5C0-B8D2655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A56C-99FE-4402-9911-3F65F930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6AE3-5F66-4605-97E6-7C6B6CB4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27E7-29B5-406A-9E7A-D9493B8A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28B-52A1-4518-8766-A50C7905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AA4-B996-4676-A40B-AA61481D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1F5-67A6-4146-BD0C-AA0349C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B40-A214-4028-B719-0BDCE7AF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3D5-75D0-453F-8F0E-9D5744E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EAA-BAD8-4836-A4C3-342961E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980-DB28-44FD-8DAF-28ABC9D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B938-34CA-40FB-85EB-50DBAC3E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64B7-F16A-44DC-93F4-CD59B7437C0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434960"/>
            <a:ext cx="647676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Aetiology of Psychiatric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r. Fatima Alhaid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fessor &amp; Consul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&amp; Adolescent Psychiatr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ege of Medicine, KS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"/>
              </a:rPr>
              <a:t>Approaches to Etiology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 Genetic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mily risk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in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option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tic causes have been studies mainly in moderate to severe mood disorders and schizophren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 Biochemical stud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n be directed either to the cause of the disease or to the mechanism by which it produces its effec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t studies have focused on the monoamine neurotransmitt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 Hydroxy tryptam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adrena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pam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 Endocrinolo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rmonal changes can have profound effects or mood and behavi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. Neuropatholo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    Attempt to answer the question as to whether a structural change in the brain (localized or diffuse) accompanies a particular kind of mental dis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n obvious application to the etiology of dementia and other psychiatric disorders associated with organic les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.  Psychological theories of etiolo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                 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a) Psychoanaly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s a comprehensive range of explanation for clinical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enome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ntral feature is the concept of unconscious mind which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acteriz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– divorce from re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– being dynam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– being in conflict with the conscious mi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is important in the etiology of neurotic disord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urosis originate from failure to pass normally through 3 stag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 development ora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a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genit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xiety is the central symptom of all neuro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ense mechanisms (such as rationaliz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 projec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 used to reduce anxiet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                 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b) Learning theor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riences in childhood and later life give rise to neuro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c) Cognitive theor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mptoms and behavior are produced and maintained by maladaptive ways of think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 Social Sc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19360" y="1904760"/>
            <a:ext cx="661968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y of the concepts used by sociologists are relevant to psychia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.g.  (1) Life events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igration, unhappy marriage, problems of wor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2) Family factors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ack of social support, criticism, and ov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tion within the fami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601560"/>
            <a:ext cx="701064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19360" y="1974600"/>
            <a:ext cx="661968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33 year old wom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ther of 5 childr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s with low mood and diminished interest in life activ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vorced 8 months ago and return back to live with her fami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r father faces financial difficul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r grand father has history of major depress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il eye by a relativ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801360"/>
            <a:ext cx="70106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66"/>
                </a:solidFill>
                <a:latin typeface="Arial"/>
              </a:rPr>
              <a:t>Vague but important to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00360" y="2131920"/>
            <a:ext cx="6734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agnose and understan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 early interven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mize treat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In Psychiatry, the study of causation is complicated by two problems: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uses are often remote in time from the effects that they produce e.g. childhood experience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ult anxiety disord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A single cause may lead to several effects e.g. deprivation of parental affec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tisocial behavior, suicide, depression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 A single effect may arise from several causes e.g.  M.R.    Depress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500" spc="-1" strike="noStrike" u="sng">
                <a:solidFill>
                  <a:srgbClr val="336666"/>
                </a:solidFill>
                <a:uFillTx/>
                <a:latin typeface="Arial"/>
              </a:rPr>
              <a:t>Classification of Causes:</a:t>
            </a:r>
            <a:br>
              <a:rPr sz="2500"/>
            </a:br>
            <a:br>
              <a:rPr sz="21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   1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nature:</a:t>
            </a:r>
            <a:br>
              <a:rPr sz="24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a)  Biological      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b)  Psychologic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c) 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According to the effect: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 Predisposing factor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b.  Precipitating factor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c.  Perpetuating (maintaining) factor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-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disposing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Operating from early life, that determine a person’s vulnerability to causes acting close to the time of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on is often used to describe the mental and physical make up of a person at any point in his lif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ersonality is always an essential element that help to explain why the patient responds to certain stressful events and he reacts in a particular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- Genetic endow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nvironment in u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uma at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&amp; psychological factors in infancy &amp;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-  Precipitating fact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s that occur shortly before the onset of a disorder and appear to have induced 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sical dise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s of j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ing residen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-  Perpetuating fact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factors prolong the course of a disorder after it has been provok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ensic to the disorder (avoidance in phobic disorde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 circumstances (marital discords, over protecting pare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352680" y="6087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Predisposing factor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4724280" y="12193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86200" y="1752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Constitu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724280" y="23623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b9b9b9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3392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Illnes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724280" y="373392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solidFill>
            <a:srgbClr val="b9b9b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76720" y="533520"/>
          <a:ext cx="3124080" cy="5331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505320" y="1752480"/>
          <a:ext cx="2666880" cy="48744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733920" y="3048120"/>
          <a:ext cx="2286000" cy="5331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62520" y="4876920"/>
          <a:ext cx="1752480" cy="4572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Recover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04920" y="2971800"/>
          <a:ext cx="1600200" cy="6397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Precipitating factor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086600" y="3886200"/>
          <a:ext cx="1600200" cy="6397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Perpetuating factor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AutoShape 83"/>
          <p:cNvSpPr/>
          <p:nvPr/>
        </p:nvSpPr>
        <p:spPr>
          <a:xfrm>
            <a:off x="1981080" y="3200400"/>
            <a:ext cx="1524240" cy="152280"/>
          </a:xfrm>
          <a:prstGeom prst="rightArrow">
            <a:avLst>
              <a:gd name="adj1" fmla="val 50000"/>
              <a:gd name="adj2" fmla="val 250236"/>
            </a:avLst>
          </a:prstGeom>
          <a:solidFill>
            <a:srgbClr val="b9b9b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AutoShape 85"/>
          <p:cNvSpPr/>
          <p:nvPr/>
        </p:nvSpPr>
        <p:spPr>
          <a:xfrm>
            <a:off x="5105520" y="4114800"/>
            <a:ext cx="1828800" cy="152280"/>
          </a:xfrm>
          <a:prstGeom prst="leftArrow">
            <a:avLst>
              <a:gd name="adj1" fmla="val 50000"/>
              <a:gd name="adj2" fmla="val 300236"/>
            </a:avLst>
          </a:prstGeom>
          <a:solidFill>
            <a:srgbClr val="b9b9b9"/>
          </a:solidFill>
          <a:ln w="9360">
            <a:solidFill>
              <a:srgbClr val="2a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7:22:03Z</dcterms:created>
  <dc:creator>Jose Wendell Cuyos</dc:creator>
  <dc:description/>
  <dc:language>en-US</dc:language>
  <cp:lastModifiedBy>Mac</cp:lastModifiedBy>
  <dcterms:modified xsi:type="dcterms:W3CDTF">2010-12-26T17:19:21Z</dcterms:modified>
  <cp:revision>16</cp:revision>
  <dc:subject/>
  <dc:title>Aetiology of Psychiatric Disorders</dc:title>
</cp:coreProperties>
</file>