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B7BC-32A7-484E-8C48-A8C0AD7A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0C4F-0DDB-4503-BC15-3F5EF139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49A-00AF-4A01-A6E0-D4AEBF1E6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DEF-C8FD-43C0-A5FB-A9D1B371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4AC27-0843-490C-B851-E821C66A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D3C3-8A13-425A-BBE3-C29482135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64EF-03E1-4B38-A498-00A397DC9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CEE1-FA9A-4EDA-B99B-8BB4DD9C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AE74-ECE0-4609-9950-617838E5D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0907-35CC-423A-BE5D-23B461ED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64A2-B70E-4918-B473-151FFD9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33A-88D9-4A09-8CA1-D824D82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38B8-9584-450C-A256-C726046E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B8ED-5A37-4F9F-9708-79598D3F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3922-CF43-46D6-9D06-73166D18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F1A6-90F0-4EEA-80C4-BC259F6E6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0FB6-FC75-451F-9B21-556925CC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78D-3E82-4959-9FF7-6B9105106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8C7-FCAE-40B2-B833-98CBA194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57D5-0309-4571-B468-A50151D3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BAC5-7D52-4D04-92EF-700D16F3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047-CAA5-460E-AA47-63F6741A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8E9A-71DE-41F0-8D79-47CEF0EF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616-498E-4050-977B-8610756B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29F-3638-4726-9107-539ADCF98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6912-765B-4BE2-B58F-2AC739E156AA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434960"/>
            <a:ext cx="6476760" cy="13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66"/>
                </a:solidFill>
                <a:latin typeface="Arial"/>
              </a:rPr>
              <a:t>Aetiology of Psychiatric Disorde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r. Fatima Alhaida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fessor &amp;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ild &amp; Adolescent Psychiatris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ollege of Medicine, KS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u="sng">
                <a:solidFill>
                  <a:srgbClr val="336666"/>
                </a:solidFill>
                <a:uFillTx/>
                <a:latin typeface="Arial"/>
              </a:rPr>
              <a:t>Approaches to Etiology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. Genetic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mily risk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win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doption studi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netic causes have been studies mainly in moderate to severe mood disorders and schizophren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2. Biochemical stud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n be directed either to the cause of the disease or to the mechanism by which it produces its effec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t studies have focused on the monoamine neurotransmitt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 Hydroxy tryptamin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radrenal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pam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3. Endocrin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ormonal changes can have profound effects or mood and behavio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4. Neuropath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    Attempt to answer the question as to whether a structural change in the brain (localized or diffuse) accompanies a particular kind of mental disord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n obvious application to the etiology of dementia and other psychiatric disorders associated with organic lesion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5.  Psychological theories of etiology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"/>
              </a:rPr>
              <a:t>       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a) Psychoanalys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ovides a comprehensive range of explanation for clinical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enomen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entral feature is the concept of unconscious mind which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racterized b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– divorce from real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 – being dynam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 – being in conflict with the conscious min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t is important in the etiology of neurotic disorder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urosis originate from failure to pass normally through 3 stage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f development ora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al 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genit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xiety is the central symptom of all neuro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efense mechanisms (such as rationalizatio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d projec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re used to reduce anxiet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0666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       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b) Learning theor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eriences in childhood and later life give rise to neurosi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c) Cognitive theori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ymptoms and behavior are produced and maintained by maladaptive ways of thinking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 Social Sc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19360" y="1904760"/>
            <a:ext cx="6619680" cy="408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ny of the concepts used by sociologists are relevant to psychiatr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.g.  (1) Life event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Migration, unhappy marriage, problems of work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(2) Family factor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lack of social support, criticism, and ov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otection within the fami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601560"/>
            <a:ext cx="701064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Exampl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19360" y="1974600"/>
            <a:ext cx="661968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 33 year old woma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ther of 5 childre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sents with low mood and diminished interest in life activ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ivorced 8 months ago and return back to live with her family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r father faces financial difficul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er grand father has history of major depressio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il eye by a relativ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801360"/>
            <a:ext cx="701064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336666"/>
                </a:solidFill>
                <a:latin typeface="Arial"/>
              </a:rPr>
              <a:t>Vague but important to: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00360" y="2131920"/>
            <a:ext cx="673416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iagnose and understan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w early interven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ptimize treat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336666"/>
                </a:solidFill>
                <a:latin typeface="Arial"/>
              </a:rPr>
              <a:t>In Psychiatry, the study of causation is complicated by two problems: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uses are often remote in time from the effects that they produce e.g. childhood experience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dult anxiety disorder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336666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) A single cause may lead to several effects e.g. deprivation of parental affection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tisocial behavior, suicide, depression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)  A single effect may arise from several causes e.g.  M.R.    Depress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500" spc="-1" strike="noStrike" u="sng">
                <a:solidFill>
                  <a:srgbClr val="336666"/>
                </a:solidFill>
                <a:uFillTx/>
                <a:latin typeface="Arial"/>
              </a:rPr>
              <a:t>Classification of Causes:</a:t>
            </a:r>
            <a:br>
              <a:rPr sz="2500"/>
            </a:br>
            <a:br>
              <a:rPr sz="21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                    1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ording to nature:</a:t>
            </a:r>
            <a:br>
              <a:rPr sz="24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a)  Biological      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b)  Psychological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c) 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 According to the effect: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.  Predisposing factor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b.  Precipitating factor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c.  Perpetuating (maintaining) factors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-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edisposing fac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Operating from early life, that determine a person’s vulnerability to causes acting close to the time of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itution is often used to describe the mental and physical make up of a person at any point in his lif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Personality is always an essential element that help to explain why the patient responds to certain stressful events and he reacts in a particular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 - Genetic endow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nvironment in ut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rauma at bi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cial &amp; psychological factors in infancy &amp; early childh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B-  Precipitating fact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s that occur shortly before the onset of a disorder and appear to have induced i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hysical disea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ss of jo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anging residenc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100" spc="-1" strike="noStrike" u="sng">
                <a:solidFill>
                  <a:srgbClr val="000000"/>
                </a:solidFill>
                <a:uFillTx/>
                <a:latin typeface="Arial"/>
              </a:rPr>
              <a:t>C-  Perpetuating factor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se factors prolong the course of a disorder after it has been provoked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trensic to the disorder (avoidance in phobic disorder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cial circumstances (marital discords, over protecting parent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352680" y="60876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Predisposing factor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4724280" y="121932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cc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886200" y="175248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Constitution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4724280" y="23623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b9b9b9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733920" y="31240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66"/>
                </a:solidFill>
                <a:latin typeface="Times New Roman"/>
              </a:rPr>
              <a:t>Illness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AutoShape 7"/>
          <p:cNvSpPr/>
          <p:nvPr/>
        </p:nvSpPr>
        <p:spPr>
          <a:xfrm>
            <a:off x="4724280" y="3733920"/>
            <a:ext cx="152640" cy="1066680"/>
          </a:xfrm>
          <a:prstGeom prst="downArrow">
            <a:avLst>
              <a:gd name="adj1" fmla="val 50000"/>
              <a:gd name="adj2" fmla="val 174705"/>
            </a:avLst>
          </a:prstGeom>
          <a:solidFill>
            <a:srgbClr val="b9b9b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276720" y="533520"/>
          <a:ext cx="3124080" cy="5331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505320" y="1752480"/>
          <a:ext cx="2666880" cy="487440"/>
        </p:xfrm>
        <a:graphic>
          <a:graphicData uri="http://schemas.openxmlformats.org/drawingml/2006/table">
            <a:tbl>
              <a:tblPr/>
              <a:tblGrid>
                <a:gridCol w="26668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3733920" y="3048120"/>
          <a:ext cx="2286000" cy="533160"/>
        </p:xfrm>
        <a:graphic>
          <a:graphicData uri="http://schemas.openxmlformats.org/drawingml/2006/table">
            <a:tbl>
              <a:tblPr/>
              <a:tblGrid>
                <a:gridCol w="2286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62520" y="4876920"/>
          <a:ext cx="1752480" cy="457200"/>
        </p:xfrm>
        <a:graphic>
          <a:graphicData uri="http://schemas.openxmlformats.org/drawingml/2006/table">
            <a:tbl>
              <a:tblPr/>
              <a:tblGrid>
                <a:gridCol w="175248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Recovery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04920" y="2971800"/>
          <a:ext cx="1600200" cy="6397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Precipitating factor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7086600" y="3886200"/>
          <a:ext cx="1600200" cy="63972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6666"/>
                          </a:solidFill>
                          <a:latin typeface="Arial"/>
                        </a:rPr>
                        <a:t>Perpetuating factors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66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AutoShape 83"/>
          <p:cNvSpPr/>
          <p:nvPr/>
        </p:nvSpPr>
        <p:spPr>
          <a:xfrm>
            <a:off x="1981080" y="3200400"/>
            <a:ext cx="1524240" cy="152280"/>
          </a:xfrm>
          <a:prstGeom prst="rightArrow">
            <a:avLst>
              <a:gd name="adj1" fmla="val 50000"/>
              <a:gd name="adj2" fmla="val 250236"/>
            </a:avLst>
          </a:prstGeom>
          <a:solidFill>
            <a:srgbClr val="b9b9b9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AutoShape 85"/>
          <p:cNvSpPr/>
          <p:nvPr/>
        </p:nvSpPr>
        <p:spPr>
          <a:xfrm>
            <a:off x="5105520" y="4114800"/>
            <a:ext cx="1828800" cy="152280"/>
          </a:xfrm>
          <a:prstGeom prst="leftArrow">
            <a:avLst>
              <a:gd name="adj1" fmla="val 50000"/>
              <a:gd name="adj2" fmla="val 300236"/>
            </a:avLst>
          </a:prstGeom>
          <a:solidFill>
            <a:srgbClr val="b9b9b9"/>
          </a:solidFill>
          <a:ln w="9360">
            <a:solidFill>
              <a:srgbClr val="2a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3T07:22:03Z</dcterms:created>
  <dc:creator>Jose Wendell Cuyos</dc:creator>
  <dc:description/>
  <dc:language>en-US</dc:language>
  <cp:lastModifiedBy>Mac</cp:lastModifiedBy>
  <dcterms:modified xsi:type="dcterms:W3CDTF">2010-12-26T17:19:21Z</dcterms:modified>
  <cp:revision>16</cp:revision>
  <dc:subject/>
  <dc:title>Aetiology of Psychiatric Disorders</dc:title>
</cp:coreProperties>
</file>