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3AB-A6C9-4293-9F0F-BE6D4486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A4A-04CB-40E1-8336-3A62446A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A78-5A1F-4DA9-BB39-EBED69F6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1DE-C403-42E5-A1DF-51DCDDE5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61D-9F72-45D9-8D81-395A63C0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9CD-494B-4AC8-8A31-416ABECA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AF2-FCBF-4A7D-903D-BEEDAA21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679B-8BA3-4D89-934C-1523ACA3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E55-BB28-497B-BB1C-2B7EF53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D2D-8B70-4CC1-A45D-C01764C5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E4A-4547-42CE-A059-84E35ED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BF0-940F-465A-AD1D-E1DE5FF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720-49D8-468B-8C61-EAEE224BDD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lla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My Documents\My Pictures\Slide1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ll no 10 is –ve control ( -ve Ag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ontains diluent ( 0,5% phenol saline) + Brucella 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zone phenome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Excess Abs or blocking Abs(non specif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ppears –ve Agg even Abs are present ( false –ve resul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 this problem by diluting the s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zone phenome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user\My Documents\My Pictures\Agg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actors Affecting Measurement of Ag/Ab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1500120"/>
            <a:ext cx="8157960" cy="49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Ab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form of 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15120" y="50720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267"/>
          <p:cNvGrpSpPr/>
          <p:nvPr/>
        </p:nvGrpSpPr>
        <p:grpSpPr>
          <a:xfrm>
            <a:off x="4143240" y="1600920"/>
            <a:ext cx="2193840" cy="2053440"/>
            <a:chOff x="4143240" y="1600920"/>
            <a:chExt cx="2193840" cy="2053440"/>
          </a:xfrm>
        </p:grpSpPr>
        <p:sp>
          <p:nvSpPr>
            <p:cNvPr id="109" name="Rectangle 1264"/>
            <p:cNvSpPr/>
            <p:nvPr/>
          </p:nvSpPr>
          <p:spPr>
            <a:xfrm>
              <a:off x="414324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259"/>
            <p:cNvGrpSpPr/>
            <p:nvPr/>
          </p:nvGrpSpPr>
          <p:grpSpPr>
            <a:xfrm>
              <a:off x="4216320" y="1600920"/>
              <a:ext cx="2022120" cy="2011680"/>
              <a:chOff x="4216320" y="1600920"/>
              <a:chExt cx="2022120" cy="2011680"/>
            </a:xfrm>
          </p:grpSpPr>
          <p:grpSp>
            <p:nvGrpSpPr>
              <p:cNvPr id="111" name="Group 1252"/>
              <p:cNvGrpSpPr/>
              <p:nvPr/>
            </p:nvGrpSpPr>
            <p:grpSpPr>
              <a:xfrm>
                <a:off x="4216320" y="1600920"/>
                <a:ext cx="2022120" cy="1816920"/>
                <a:chOff x="4216320" y="1600920"/>
                <a:chExt cx="2022120" cy="1816920"/>
              </a:xfrm>
            </p:grpSpPr>
            <p:grpSp>
              <p:nvGrpSpPr>
                <p:cNvPr id="112" name="Group 1115"/>
                <p:cNvGrpSpPr/>
                <p:nvPr/>
              </p:nvGrpSpPr>
              <p:grpSpPr>
                <a:xfrm>
                  <a:off x="4216320" y="1600920"/>
                  <a:ext cx="1190160" cy="968040"/>
                  <a:chOff x="4216320" y="1600920"/>
                  <a:chExt cx="1190160" cy="968040"/>
                </a:xfrm>
              </p:grpSpPr>
              <p:sp>
                <p:nvSpPr>
                  <p:cNvPr id="113" name="AutoShape 1112"/>
                  <p:cNvSpPr/>
                  <p:nvPr/>
                </p:nvSpPr>
                <p:spPr>
                  <a:xfrm rot="18115200">
                    <a:off x="4867200" y="202896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113"/>
                  <p:cNvSpPr/>
                  <p:nvPr/>
                </p:nvSpPr>
                <p:spPr>
                  <a:xfrm>
                    <a:off x="4711680" y="2018880"/>
                    <a:ext cx="191160" cy="11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1114"/>
                  <p:cNvSpPr/>
                  <p:nvPr/>
                </p:nvSpPr>
                <p:spPr>
                  <a:xfrm flipV="1" rot="18114600">
                    <a:off x="4301640" y="1686240"/>
                    <a:ext cx="453600" cy="453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1126"/>
                <p:cNvGrpSpPr/>
                <p:nvPr/>
              </p:nvGrpSpPr>
              <p:grpSpPr>
                <a:xfrm>
                  <a:off x="4996440" y="2148120"/>
                  <a:ext cx="438120" cy="501480"/>
                  <a:chOff x="4996440" y="2148120"/>
                  <a:chExt cx="438120" cy="501480"/>
                </a:xfrm>
              </p:grpSpPr>
              <p:sp>
                <p:nvSpPr>
                  <p:cNvPr id="117" name="Oval 1117"/>
                  <p:cNvSpPr/>
                  <p:nvPr/>
                </p:nvSpPr>
                <p:spPr>
                  <a:xfrm rot="1860600">
                    <a:off x="5293080" y="217008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1118"/>
                  <p:cNvSpPr/>
                  <p:nvPr/>
                </p:nvSpPr>
                <p:spPr>
                  <a:xfrm rot="1860600">
                    <a:off x="5018760" y="218448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1119"/>
                  <p:cNvSpPr/>
                  <p:nvPr/>
                </p:nvSpPr>
                <p:spPr>
                  <a:xfrm rot="1860600">
                    <a:off x="5159880" y="250812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123"/>
                  <p:cNvSpPr/>
                  <p:nvPr/>
                </p:nvSpPr>
                <p:spPr>
                  <a:xfrm>
                    <a:off x="5118120" y="22788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124"/>
                  <p:cNvSpPr/>
                  <p:nvPr/>
                </p:nvSpPr>
                <p:spPr>
                  <a:xfrm flipV="1">
                    <a:off x="5222520" y="22791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125"/>
                  <p:cNvSpPr/>
                  <p:nvPr/>
                </p:nvSpPr>
                <p:spPr>
                  <a:xfrm>
                    <a:off x="5218560" y="23727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127"/>
                <p:cNvGrpSpPr/>
                <p:nvPr/>
              </p:nvGrpSpPr>
              <p:grpSpPr>
                <a:xfrm>
                  <a:off x="4996440" y="2302560"/>
                  <a:ext cx="461160" cy="1115280"/>
                  <a:chOff x="4996440" y="2302560"/>
                  <a:chExt cx="461160" cy="1115280"/>
                </a:xfrm>
              </p:grpSpPr>
              <p:sp>
                <p:nvSpPr>
                  <p:cNvPr id="124" name="AutoShape 1128"/>
                  <p:cNvSpPr/>
                  <p:nvPr/>
                </p:nvSpPr>
                <p:spPr>
                  <a:xfrm rot="10800000">
                    <a:off x="4996440" y="230256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1129"/>
                  <p:cNvSpPr/>
                  <p:nvPr/>
                </p:nvSpPr>
                <p:spPr>
                  <a:xfrm flipV="1">
                    <a:off x="5223960" y="27543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1130"/>
                  <p:cNvSpPr/>
                  <p:nvPr/>
                </p:nvSpPr>
                <p:spPr>
                  <a:xfrm flipV="1" rot="10800000">
                    <a:off x="5004000" y="2964240"/>
                    <a:ext cx="45360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31"/>
                <p:cNvGrpSpPr/>
                <p:nvPr/>
              </p:nvGrpSpPr>
              <p:grpSpPr>
                <a:xfrm>
                  <a:off x="5038920" y="1726560"/>
                  <a:ext cx="1199520" cy="799560"/>
                  <a:chOff x="5038920" y="1726560"/>
                  <a:chExt cx="1199520" cy="799560"/>
                </a:xfrm>
              </p:grpSpPr>
              <p:sp>
                <p:nvSpPr>
                  <p:cNvPr id="128" name="AutoShape 1132"/>
                  <p:cNvSpPr/>
                  <p:nvPr/>
                </p:nvSpPr>
                <p:spPr>
                  <a:xfrm rot="4258800">
                    <a:off x="5100480" y="201060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133"/>
                  <p:cNvSpPr/>
                  <p:nvPr/>
                </p:nvSpPr>
                <p:spPr>
                  <a:xfrm flipH="1">
                    <a:off x="5539680" y="2090520"/>
                    <a:ext cx="21312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134"/>
                  <p:cNvSpPr/>
                  <p:nvPr/>
                </p:nvSpPr>
                <p:spPr>
                  <a:xfrm flipV="1" rot="4258200">
                    <a:off x="5723280" y="1788120"/>
                    <a:ext cx="453600" cy="453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Text Box 1255"/>
              <p:cNvSpPr/>
              <p:nvPr/>
            </p:nvSpPr>
            <p:spPr>
              <a:xfrm>
                <a:off x="4240080" y="3152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b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269"/>
          <p:cNvGrpSpPr/>
          <p:nvPr/>
        </p:nvGrpSpPr>
        <p:grpSpPr>
          <a:xfrm>
            <a:off x="4143240" y="3643200"/>
            <a:ext cx="4387680" cy="2677320"/>
            <a:chOff x="4143240" y="3643200"/>
            <a:chExt cx="4387680" cy="2677320"/>
          </a:xfrm>
        </p:grpSpPr>
        <p:sp>
          <p:nvSpPr>
            <p:cNvPr id="133" name="Rectangle 1263"/>
            <p:cNvSpPr/>
            <p:nvPr/>
          </p:nvSpPr>
          <p:spPr>
            <a:xfrm>
              <a:off x="4143240" y="3643200"/>
              <a:ext cx="4387680" cy="260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262"/>
            <p:cNvGrpSpPr/>
            <p:nvPr/>
          </p:nvGrpSpPr>
          <p:grpSpPr>
            <a:xfrm>
              <a:off x="4351680" y="3656880"/>
              <a:ext cx="4082040" cy="2663640"/>
              <a:chOff x="4351680" y="3656880"/>
              <a:chExt cx="4082040" cy="2663640"/>
            </a:xfrm>
          </p:grpSpPr>
          <p:grpSp>
            <p:nvGrpSpPr>
              <p:cNvPr id="135" name="Group 1254"/>
              <p:cNvGrpSpPr/>
              <p:nvPr/>
            </p:nvGrpSpPr>
            <p:grpSpPr>
              <a:xfrm>
                <a:off x="4786560" y="3656880"/>
                <a:ext cx="3234600" cy="2374200"/>
                <a:chOff x="4786560" y="3656880"/>
                <a:chExt cx="3234600" cy="2374200"/>
              </a:xfrm>
            </p:grpSpPr>
            <p:grpSp>
              <p:nvGrpSpPr>
                <p:cNvPr id="136" name="Group 1142"/>
                <p:cNvGrpSpPr/>
                <p:nvPr/>
              </p:nvGrpSpPr>
              <p:grpSpPr>
                <a:xfrm>
                  <a:off x="6781680" y="3718080"/>
                  <a:ext cx="457920" cy="437760"/>
                  <a:chOff x="6781680" y="3718080"/>
                  <a:chExt cx="457920" cy="437760"/>
                </a:xfrm>
              </p:grpSpPr>
              <p:sp>
                <p:nvSpPr>
                  <p:cNvPr id="137" name="Oval 1143"/>
                  <p:cNvSpPr/>
                  <p:nvPr/>
                </p:nvSpPr>
                <p:spPr>
                  <a:xfrm rot="4560600">
                    <a:off x="7119720" y="3873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Oval 1144"/>
                  <p:cNvSpPr/>
                  <p:nvPr/>
                </p:nvSpPr>
                <p:spPr>
                  <a:xfrm rot="4560600">
                    <a:off x="6946920" y="372096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Oval 1145"/>
                  <p:cNvSpPr/>
                  <p:nvPr/>
                </p:nvSpPr>
                <p:spPr>
                  <a:xfrm rot="4560600">
                    <a:off x="6801480" y="403308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1146"/>
                  <p:cNvSpPr/>
                  <p:nvPr/>
                </p:nvSpPr>
                <p:spPr>
                  <a:xfrm>
                    <a:off x="6990480" y="382392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1147"/>
                  <p:cNvSpPr/>
                  <p:nvPr/>
                </p:nvSpPr>
                <p:spPr>
                  <a:xfrm>
                    <a:off x="6994800" y="395388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1148"/>
                  <p:cNvSpPr/>
                  <p:nvPr/>
                </p:nvSpPr>
                <p:spPr>
                  <a:xfrm flipH="1">
                    <a:off x="6892560" y="39549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1149"/>
                <p:cNvGrpSpPr/>
                <p:nvPr/>
              </p:nvGrpSpPr>
              <p:grpSpPr>
                <a:xfrm>
                  <a:off x="5875200" y="4009680"/>
                  <a:ext cx="428040" cy="430200"/>
                  <a:chOff x="5875200" y="4009680"/>
                  <a:chExt cx="428040" cy="430200"/>
                </a:xfrm>
              </p:grpSpPr>
              <p:sp>
                <p:nvSpPr>
                  <p:cNvPr id="144" name="Oval 1150"/>
                  <p:cNvSpPr/>
                  <p:nvPr/>
                </p:nvSpPr>
                <p:spPr>
                  <a:xfrm rot="1860600">
                    <a:off x="6166440" y="403308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1151"/>
                  <p:cNvSpPr/>
                  <p:nvPr/>
                </p:nvSpPr>
                <p:spPr>
                  <a:xfrm rot="1860600">
                    <a:off x="5892480" y="40449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Oval 1152"/>
                  <p:cNvSpPr/>
                  <p:nvPr/>
                </p:nvSpPr>
                <p:spPr>
                  <a:xfrm rot="1860600">
                    <a:off x="6033240" y="4316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153"/>
                  <p:cNvSpPr/>
                  <p:nvPr/>
                </p:nvSpPr>
                <p:spPr>
                  <a:xfrm>
                    <a:off x="5999760" y="4124160"/>
                    <a:ext cx="8064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154"/>
                  <p:cNvSpPr/>
                  <p:nvPr/>
                </p:nvSpPr>
                <p:spPr>
                  <a:xfrm flipV="1">
                    <a:off x="6096240" y="41166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55"/>
                  <p:cNvSpPr/>
                  <p:nvPr/>
                </p:nvSpPr>
                <p:spPr>
                  <a:xfrm>
                    <a:off x="6092280" y="4202640"/>
                    <a:ext cx="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167"/>
                <p:cNvGrpSpPr/>
                <p:nvPr/>
              </p:nvGrpSpPr>
              <p:grpSpPr>
                <a:xfrm>
                  <a:off x="5872320" y="4176720"/>
                  <a:ext cx="461160" cy="936000"/>
                  <a:chOff x="5872320" y="4176720"/>
                  <a:chExt cx="461160" cy="936000"/>
                </a:xfrm>
              </p:grpSpPr>
              <p:sp>
                <p:nvSpPr>
                  <p:cNvPr id="151" name="AutoShape 1168"/>
                  <p:cNvSpPr/>
                  <p:nvPr/>
                </p:nvSpPr>
                <p:spPr>
                  <a:xfrm>
                    <a:off x="5879880" y="473184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169"/>
                  <p:cNvSpPr/>
                  <p:nvPr/>
                </p:nvSpPr>
                <p:spPr>
                  <a:xfrm>
                    <a:off x="6105960" y="454428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170"/>
                  <p:cNvSpPr/>
                  <p:nvPr/>
                </p:nvSpPr>
                <p:spPr>
                  <a:xfrm flipV="1">
                    <a:off x="5872320" y="417636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71"/>
                <p:cNvGrpSpPr/>
                <p:nvPr/>
              </p:nvGrpSpPr>
              <p:grpSpPr>
                <a:xfrm>
                  <a:off x="5970960" y="3889080"/>
                  <a:ext cx="1115280" cy="387360"/>
                  <a:chOff x="5970960" y="3889080"/>
                  <a:chExt cx="1115280" cy="387360"/>
                </a:xfrm>
              </p:grpSpPr>
              <p:sp>
                <p:nvSpPr>
                  <p:cNvPr id="155" name="AutoShape 1172"/>
                  <p:cNvSpPr/>
                  <p:nvPr/>
                </p:nvSpPr>
                <p:spPr>
                  <a:xfrm rot="5400000">
                    <a:off x="6007320" y="3858840"/>
                    <a:ext cx="38088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1173"/>
                  <p:cNvSpPr/>
                  <p:nvPr/>
                </p:nvSpPr>
                <p:spPr>
                  <a:xfrm flipH="1">
                    <a:off x="6422760" y="4085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74"/>
                  <p:cNvSpPr/>
                  <p:nvPr/>
                </p:nvSpPr>
                <p:spPr>
                  <a:xfrm flipV="1" rot="5400000">
                    <a:off x="6669000" y="3852720"/>
                    <a:ext cx="38088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1175"/>
                <p:cNvGrpSpPr/>
                <p:nvPr/>
              </p:nvGrpSpPr>
              <p:grpSpPr>
                <a:xfrm>
                  <a:off x="5075640" y="3904920"/>
                  <a:ext cx="1115280" cy="387360"/>
                  <a:chOff x="5075640" y="3904920"/>
                  <a:chExt cx="1115280" cy="387360"/>
                </a:xfrm>
              </p:grpSpPr>
              <p:sp>
                <p:nvSpPr>
                  <p:cNvPr id="159" name="AutoShape 1176"/>
                  <p:cNvSpPr/>
                  <p:nvPr/>
                </p:nvSpPr>
                <p:spPr>
                  <a:xfrm rot="5400000">
                    <a:off x="5112000" y="3874680"/>
                    <a:ext cx="38088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1177"/>
                  <p:cNvSpPr/>
                  <p:nvPr/>
                </p:nvSpPr>
                <p:spPr>
                  <a:xfrm flipH="1">
                    <a:off x="5527440" y="410112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1178"/>
                  <p:cNvSpPr/>
                  <p:nvPr/>
                </p:nvSpPr>
                <p:spPr>
                  <a:xfrm flipV="1" rot="5400000">
                    <a:off x="5773680" y="3868560"/>
                    <a:ext cx="38088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182"/>
                <p:cNvGrpSpPr/>
                <p:nvPr/>
              </p:nvGrpSpPr>
              <p:grpSpPr>
                <a:xfrm>
                  <a:off x="4940280" y="3870000"/>
                  <a:ext cx="457920" cy="437760"/>
                  <a:chOff x="4940280" y="3870000"/>
                  <a:chExt cx="457920" cy="437760"/>
                </a:xfrm>
              </p:grpSpPr>
              <p:sp>
                <p:nvSpPr>
                  <p:cNvPr id="163" name="Oval 1183"/>
                  <p:cNvSpPr/>
                  <p:nvPr/>
                </p:nvSpPr>
                <p:spPr>
                  <a:xfrm rot="4560600">
                    <a:off x="5278320" y="402516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4"/>
                  <p:cNvSpPr/>
                  <p:nvPr/>
                </p:nvSpPr>
                <p:spPr>
                  <a:xfrm rot="4560600">
                    <a:off x="5105520" y="38728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85"/>
                  <p:cNvSpPr/>
                  <p:nvPr/>
                </p:nvSpPr>
                <p:spPr>
                  <a:xfrm rot="4560600">
                    <a:off x="4960080" y="41850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186"/>
                  <p:cNvSpPr/>
                  <p:nvPr/>
                </p:nvSpPr>
                <p:spPr>
                  <a:xfrm>
                    <a:off x="5149080" y="39758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187"/>
                  <p:cNvSpPr/>
                  <p:nvPr/>
                </p:nvSpPr>
                <p:spPr>
                  <a:xfrm>
                    <a:off x="5153400" y="410580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188"/>
                  <p:cNvSpPr/>
                  <p:nvPr/>
                </p:nvSpPr>
                <p:spPr>
                  <a:xfrm flipH="1">
                    <a:off x="5051160" y="41068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189"/>
                <p:cNvGrpSpPr/>
                <p:nvPr/>
              </p:nvGrpSpPr>
              <p:grpSpPr>
                <a:xfrm>
                  <a:off x="5829480" y="4823280"/>
                  <a:ext cx="389160" cy="414000"/>
                  <a:chOff x="5829480" y="4823280"/>
                  <a:chExt cx="389160" cy="414000"/>
                </a:xfrm>
              </p:grpSpPr>
              <p:sp>
                <p:nvSpPr>
                  <p:cNvPr id="170" name="Oval 1190"/>
                  <p:cNvSpPr/>
                  <p:nvPr/>
                </p:nvSpPr>
                <p:spPr>
                  <a:xfrm rot="21479400">
                    <a:off x="6054480" y="48254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191"/>
                  <p:cNvSpPr/>
                  <p:nvPr/>
                </p:nvSpPr>
                <p:spPr>
                  <a:xfrm rot="21479400">
                    <a:off x="5830920" y="49849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192"/>
                  <p:cNvSpPr/>
                  <p:nvPr/>
                </p:nvSpPr>
                <p:spPr>
                  <a:xfrm rot="21479400">
                    <a:off x="6097320" y="5135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193"/>
                  <p:cNvSpPr/>
                  <p:nvPr/>
                </p:nvSpPr>
                <p:spPr>
                  <a:xfrm>
                    <a:off x="5946840" y="5033160"/>
                    <a:ext cx="111600" cy="2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194"/>
                  <p:cNvSpPr/>
                  <p:nvPr/>
                </p:nvSpPr>
                <p:spPr>
                  <a:xfrm flipV="1">
                    <a:off x="6076080" y="4921560"/>
                    <a:ext cx="2844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195"/>
                  <p:cNvSpPr/>
                  <p:nvPr/>
                </p:nvSpPr>
                <p:spPr>
                  <a:xfrm>
                    <a:off x="6067080" y="5048640"/>
                    <a:ext cx="62280" cy="95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1196"/>
                <p:cNvGrpSpPr/>
                <p:nvPr/>
              </p:nvGrpSpPr>
              <p:grpSpPr>
                <a:xfrm>
                  <a:off x="4835880" y="4655880"/>
                  <a:ext cx="428040" cy="441720"/>
                  <a:chOff x="4835880" y="4655880"/>
                  <a:chExt cx="428040" cy="441720"/>
                </a:xfrm>
              </p:grpSpPr>
              <p:sp>
                <p:nvSpPr>
                  <p:cNvPr id="177" name="Oval 1197"/>
                  <p:cNvSpPr/>
                  <p:nvPr/>
                </p:nvSpPr>
                <p:spPr>
                  <a:xfrm flipV="1" rot="19246200">
                    <a:off x="5126760" y="49435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198"/>
                  <p:cNvSpPr/>
                  <p:nvPr/>
                </p:nvSpPr>
                <p:spPr>
                  <a:xfrm flipV="1" rot="19246200">
                    <a:off x="4853520" y="4971240"/>
                    <a:ext cx="118800" cy="993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199"/>
                  <p:cNvSpPr/>
                  <p:nvPr/>
                </p:nvSpPr>
                <p:spPr>
                  <a:xfrm flipV="1" rot="19246200">
                    <a:off x="4954320" y="46821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200"/>
                  <p:cNvSpPr/>
                  <p:nvPr/>
                </p:nvSpPr>
                <p:spPr>
                  <a:xfrm flipV="1">
                    <a:off x="4956480" y="4893840"/>
                    <a:ext cx="68040" cy="9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201"/>
                  <p:cNvSpPr/>
                  <p:nvPr/>
                </p:nvSpPr>
                <p:spPr>
                  <a:xfrm>
                    <a:off x="5039280" y="4883760"/>
                    <a:ext cx="109080" cy="81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202"/>
                  <p:cNvSpPr/>
                  <p:nvPr/>
                </p:nvSpPr>
                <p:spPr>
                  <a:xfrm flipH="1" flipV="1">
                    <a:off x="5020200" y="4781520"/>
                    <a:ext cx="16560" cy="11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203"/>
                <p:cNvGrpSpPr/>
                <p:nvPr/>
              </p:nvGrpSpPr>
              <p:grpSpPr>
                <a:xfrm>
                  <a:off x="4786560" y="4021200"/>
                  <a:ext cx="461880" cy="935640"/>
                  <a:chOff x="4786560" y="4021200"/>
                  <a:chExt cx="461880" cy="935640"/>
                </a:xfrm>
              </p:grpSpPr>
              <p:sp>
                <p:nvSpPr>
                  <p:cNvPr id="184" name="AutoShape 1204"/>
                  <p:cNvSpPr/>
                  <p:nvPr/>
                </p:nvSpPr>
                <p:spPr>
                  <a:xfrm>
                    <a:off x="4794480" y="4575960"/>
                    <a:ext cx="45396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1205"/>
                  <p:cNvSpPr/>
                  <p:nvPr/>
                </p:nvSpPr>
                <p:spPr>
                  <a:xfrm>
                    <a:off x="5020200" y="438840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1206"/>
                  <p:cNvSpPr/>
                  <p:nvPr/>
                </p:nvSpPr>
                <p:spPr>
                  <a:xfrm flipV="1">
                    <a:off x="4786560" y="4021200"/>
                    <a:ext cx="425520" cy="3564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1207"/>
                <p:cNvGrpSpPr/>
                <p:nvPr/>
              </p:nvGrpSpPr>
              <p:grpSpPr>
                <a:xfrm>
                  <a:off x="4984560" y="4821120"/>
                  <a:ext cx="1115280" cy="387000"/>
                  <a:chOff x="4984560" y="4821120"/>
                  <a:chExt cx="1115280" cy="387000"/>
                </a:xfrm>
              </p:grpSpPr>
              <p:sp>
                <p:nvSpPr>
                  <p:cNvPr id="188" name="AutoShape 1208"/>
                  <p:cNvSpPr/>
                  <p:nvPr/>
                </p:nvSpPr>
                <p:spPr>
                  <a:xfrm rot="16200000">
                    <a:off x="5682600" y="4784400"/>
                    <a:ext cx="38052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09"/>
                  <p:cNvSpPr/>
                  <p:nvPr/>
                </p:nvSpPr>
                <p:spPr>
                  <a:xfrm>
                    <a:off x="5422680" y="5012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1210"/>
                  <p:cNvSpPr/>
                  <p:nvPr/>
                </p:nvSpPr>
                <p:spPr>
                  <a:xfrm flipV="1" rot="16200000">
                    <a:off x="5020920" y="4790520"/>
                    <a:ext cx="38052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211"/>
                <p:cNvGrpSpPr/>
                <p:nvPr/>
              </p:nvGrpSpPr>
              <p:grpSpPr>
                <a:xfrm>
                  <a:off x="6903360" y="3656880"/>
                  <a:ext cx="992880" cy="974880"/>
                  <a:chOff x="6903360" y="3656880"/>
                  <a:chExt cx="992880" cy="974880"/>
                </a:xfrm>
              </p:grpSpPr>
              <p:sp>
                <p:nvSpPr>
                  <p:cNvPr id="192" name="AutoShape 1212"/>
                  <p:cNvSpPr/>
                  <p:nvPr/>
                </p:nvSpPr>
                <p:spPr>
                  <a:xfrm rot="18900000">
                    <a:off x="7373520" y="4146120"/>
                    <a:ext cx="45468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213"/>
                  <p:cNvSpPr/>
                  <p:nvPr/>
                </p:nvSpPr>
                <p:spPr>
                  <a:xfrm>
                    <a:off x="7328160" y="4073040"/>
                    <a:ext cx="13392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214"/>
                  <p:cNvSpPr/>
                  <p:nvPr/>
                </p:nvSpPr>
                <p:spPr>
                  <a:xfrm flipV="1" rot="18900000">
                    <a:off x="6971040" y="3761640"/>
                    <a:ext cx="454680" cy="3801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215"/>
                <p:cNvGrpSpPr/>
                <p:nvPr/>
              </p:nvGrpSpPr>
              <p:grpSpPr>
                <a:xfrm>
                  <a:off x="7546680" y="4227120"/>
                  <a:ext cx="428760" cy="426960"/>
                  <a:chOff x="7546680" y="4227120"/>
                  <a:chExt cx="428760" cy="426960"/>
                </a:xfrm>
              </p:grpSpPr>
              <p:sp>
                <p:nvSpPr>
                  <p:cNvPr id="196" name="Oval 1216"/>
                  <p:cNvSpPr/>
                  <p:nvPr/>
                </p:nvSpPr>
                <p:spPr>
                  <a:xfrm rot="1987800">
                    <a:off x="7838640" y="42512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Oval 1217"/>
                  <p:cNvSpPr/>
                  <p:nvPr/>
                </p:nvSpPr>
                <p:spPr>
                  <a:xfrm rot="1987800">
                    <a:off x="7563960" y="425304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Oval 1218"/>
                  <p:cNvSpPr/>
                  <p:nvPr/>
                </p:nvSpPr>
                <p:spPr>
                  <a:xfrm rot="1987800">
                    <a:off x="7695000" y="45295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219"/>
                  <p:cNvSpPr/>
                  <p:nvPr/>
                </p:nvSpPr>
                <p:spPr>
                  <a:xfrm>
                    <a:off x="7670520" y="4334040"/>
                    <a:ext cx="77400" cy="8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220"/>
                  <p:cNvSpPr/>
                  <p:nvPr/>
                </p:nvSpPr>
                <p:spPr>
                  <a:xfrm flipV="1">
                    <a:off x="7763760" y="4333320"/>
                    <a:ext cx="9972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1221"/>
                  <p:cNvSpPr/>
                  <p:nvPr/>
                </p:nvSpPr>
                <p:spPr>
                  <a:xfrm flipH="1">
                    <a:off x="7755840" y="4415760"/>
                    <a:ext cx="396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226"/>
                <p:cNvGrpSpPr/>
                <p:nvPr/>
              </p:nvGrpSpPr>
              <p:grpSpPr>
                <a:xfrm>
                  <a:off x="7146360" y="4282560"/>
                  <a:ext cx="874800" cy="1032480"/>
                  <a:chOff x="7146360" y="4282560"/>
                  <a:chExt cx="874800" cy="1032480"/>
                </a:xfrm>
              </p:grpSpPr>
              <p:sp>
                <p:nvSpPr>
                  <p:cNvPr id="203" name="AutoShape 1227"/>
                  <p:cNvSpPr/>
                  <p:nvPr/>
                </p:nvSpPr>
                <p:spPr>
                  <a:xfrm flipV="1" rot="12643200">
                    <a:off x="7211520" y="4844520"/>
                    <a:ext cx="453600" cy="38124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228"/>
                  <p:cNvSpPr/>
                  <p:nvPr/>
                </p:nvSpPr>
                <p:spPr>
                  <a:xfrm flipH="1">
                    <a:off x="7535880" y="4710960"/>
                    <a:ext cx="96480" cy="16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229"/>
                  <p:cNvSpPr/>
                  <p:nvPr/>
                </p:nvSpPr>
                <p:spPr>
                  <a:xfrm rot="12643200">
                    <a:off x="7502040" y="437184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30"/>
                <p:cNvGrpSpPr/>
                <p:nvPr/>
              </p:nvGrpSpPr>
              <p:grpSpPr>
                <a:xfrm>
                  <a:off x="6482520" y="5485680"/>
                  <a:ext cx="493200" cy="382680"/>
                  <a:chOff x="6482520" y="5485680"/>
                  <a:chExt cx="493200" cy="382680"/>
                </a:xfrm>
              </p:grpSpPr>
              <p:sp>
                <p:nvSpPr>
                  <p:cNvPr id="207" name="Oval 1231"/>
                  <p:cNvSpPr/>
                  <p:nvPr/>
                </p:nvSpPr>
                <p:spPr>
                  <a:xfrm rot="18586200">
                    <a:off x="6531120" y="5502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232"/>
                  <p:cNvSpPr/>
                  <p:nvPr/>
                </p:nvSpPr>
                <p:spPr>
                  <a:xfrm rot="18586200">
                    <a:off x="6510240" y="57322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1233"/>
                  <p:cNvSpPr/>
                  <p:nvPr/>
                </p:nvSpPr>
                <p:spPr>
                  <a:xfrm rot="18586200">
                    <a:off x="6847920" y="56646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34"/>
                  <p:cNvSpPr/>
                  <p:nvPr/>
                </p:nvSpPr>
                <p:spPr>
                  <a:xfrm flipV="1">
                    <a:off x="6598800" y="5690880"/>
                    <a:ext cx="10980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35"/>
                  <p:cNvSpPr/>
                  <p:nvPr/>
                </p:nvSpPr>
                <p:spPr>
                  <a:xfrm flipH="1" flipV="1">
                    <a:off x="6633360" y="5598720"/>
                    <a:ext cx="67680" cy="9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236"/>
                  <p:cNvSpPr/>
                  <p:nvPr/>
                </p:nvSpPr>
                <p:spPr>
                  <a:xfrm>
                    <a:off x="6705360" y="5695200"/>
                    <a:ext cx="134640" cy="2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237"/>
                <p:cNvGrpSpPr/>
                <p:nvPr/>
              </p:nvGrpSpPr>
              <p:grpSpPr>
                <a:xfrm>
                  <a:off x="7070760" y="4924800"/>
                  <a:ext cx="428040" cy="444240"/>
                  <a:chOff x="7070760" y="4924800"/>
                  <a:chExt cx="428040" cy="444240"/>
                </a:xfrm>
              </p:grpSpPr>
              <p:sp>
                <p:nvSpPr>
                  <p:cNvPr id="214" name="Oval 1238"/>
                  <p:cNvSpPr/>
                  <p:nvPr/>
                </p:nvSpPr>
                <p:spPr>
                  <a:xfrm rot="2428800">
                    <a:off x="7361280" y="498456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239"/>
                  <p:cNvSpPr/>
                  <p:nvPr/>
                </p:nvSpPr>
                <p:spPr>
                  <a:xfrm rot="2428800">
                    <a:off x="7088760" y="495108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240"/>
                  <p:cNvSpPr/>
                  <p:nvPr/>
                </p:nvSpPr>
                <p:spPr>
                  <a:xfrm rot="2428800">
                    <a:off x="7183440" y="52423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41"/>
                  <p:cNvSpPr/>
                  <p:nvPr/>
                </p:nvSpPr>
                <p:spPr>
                  <a:xfrm>
                    <a:off x="7190640" y="5037840"/>
                    <a:ext cx="6660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242"/>
                  <p:cNvSpPr/>
                  <p:nvPr/>
                </p:nvSpPr>
                <p:spPr>
                  <a:xfrm flipV="1">
                    <a:off x="7271280" y="5061960"/>
                    <a:ext cx="111240" cy="7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243"/>
                  <p:cNvSpPr/>
                  <p:nvPr/>
                </p:nvSpPr>
                <p:spPr>
                  <a:xfrm flipH="1">
                    <a:off x="7250400" y="5130360"/>
                    <a:ext cx="18720" cy="11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244"/>
                <p:cNvGrpSpPr/>
                <p:nvPr/>
              </p:nvGrpSpPr>
              <p:grpSpPr>
                <a:xfrm>
                  <a:off x="5904720" y="4878720"/>
                  <a:ext cx="961200" cy="999360"/>
                  <a:chOff x="5904720" y="4878720"/>
                  <a:chExt cx="961200" cy="999360"/>
                </a:xfrm>
              </p:grpSpPr>
              <p:sp>
                <p:nvSpPr>
                  <p:cNvPr id="221" name="AutoShape 1245"/>
                  <p:cNvSpPr/>
                  <p:nvPr/>
                </p:nvSpPr>
                <p:spPr>
                  <a:xfrm rot="19146600">
                    <a:off x="6342840" y="539496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246"/>
                  <p:cNvSpPr/>
                  <p:nvPr/>
                </p:nvSpPr>
                <p:spPr>
                  <a:xfrm>
                    <a:off x="6321600" y="5300280"/>
                    <a:ext cx="123840" cy="14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247"/>
                  <p:cNvSpPr/>
                  <p:nvPr/>
                </p:nvSpPr>
                <p:spPr>
                  <a:xfrm flipV="1" rot="19146000">
                    <a:off x="5973840" y="498060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248"/>
                <p:cNvGrpSpPr/>
                <p:nvPr/>
              </p:nvGrpSpPr>
              <p:grpSpPr>
                <a:xfrm>
                  <a:off x="6636600" y="4995360"/>
                  <a:ext cx="885600" cy="1035720"/>
                  <a:chOff x="6636600" y="4995360"/>
                  <a:chExt cx="885600" cy="1035720"/>
                </a:xfrm>
              </p:grpSpPr>
              <p:sp>
                <p:nvSpPr>
                  <p:cNvPr id="225" name="AutoShape 1249"/>
                  <p:cNvSpPr/>
                  <p:nvPr/>
                </p:nvSpPr>
                <p:spPr>
                  <a:xfrm rot="1989000">
                    <a:off x="6703920" y="5556960"/>
                    <a:ext cx="453600" cy="38088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250"/>
                  <p:cNvSpPr/>
                  <p:nvPr/>
                </p:nvSpPr>
                <p:spPr>
                  <a:xfrm flipH="1">
                    <a:off x="7033680" y="5430600"/>
                    <a:ext cx="103320" cy="15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251"/>
                  <p:cNvSpPr/>
                  <p:nvPr/>
                </p:nvSpPr>
                <p:spPr>
                  <a:xfrm flipV="1" rot="1989000">
                    <a:off x="7001280" y="5088240"/>
                    <a:ext cx="453600" cy="38052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1258"/>
              <p:cNvSpPr/>
              <p:nvPr/>
            </p:nvSpPr>
            <p:spPr>
              <a:xfrm>
                <a:off x="4351680" y="5860800"/>
                <a:ext cx="40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quivalence – Lattice form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1268"/>
          <p:cNvGrpSpPr/>
          <p:nvPr/>
        </p:nvGrpSpPr>
        <p:grpSpPr>
          <a:xfrm>
            <a:off x="6357960" y="1643040"/>
            <a:ext cx="2193840" cy="2011320"/>
            <a:chOff x="6357960" y="1643040"/>
            <a:chExt cx="2193840" cy="2011320"/>
          </a:xfrm>
        </p:grpSpPr>
        <p:sp>
          <p:nvSpPr>
            <p:cNvPr id="230" name="Rectangle 1265"/>
            <p:cNvSpPr/>
            <p:nvPr/>
          </p:nvSpPr>
          <p:spPr>
            <a:xfrm>
              <a:off x="635796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260"/>
            <p:cNvGrpSpPr/>
            <p:nvPr/>
          </p:nvGrpSpPr>
          <p:grpSpPr>
            <a:xfrm>
              <a:off x="6735960" y="1891080"/>
              <a:ext cx="1379160" cy="1712160"/>
              <a:chOff x="6735960" y="1891080"/>
              <a:chExt cx="1379160" cy="1712160"/>
            </a:xfrm>
          </p:grpSpPr>
          <p:grpSp>
            <p:nvGrpSpPr>
              <p:cNvPr id="232" name="Group 1180"/>
              <p:cNvGrpSpPr/>
              <p:nvPr/>
            </p:nvGrpSpPr>
            <p:grpSpPr>
              <a:xfrm>
                <a:off x="6762600" y="1891080"/>
                <a:ext cx="1352520" cy="655200"/>
                <a:chOff x="6762600" y="1891080"/>
                <a:chExt cx="1352520" cy="655200"/>
              </a:xfrm>
            </p:grpSpPr>
            <p:grpSp>
              <p:nvGrpSpPr>
                <p:cNvPr id="233" name="Group 1135"/>
                <p:cNvGrpSpPr/>
                <p:nvPr/>
              </p:nvGrpSpPr>
              <p:grpSpPr>
                <a:xfrm>
                  <a:off x="7677000" y="2021040"/>
                  <a:ext cx="438120" cy="501480"/>
                  <a:chOff x="7677000" y="2021040"/>
                  <a:chExt cx="438120" cy="501480"/>
                </a:xfrm>
              </p:grpSpPr>
              <p:sp>
                <p:nvSpPr>
                  <p:cNvPr id="234" name="Oval 1136"/>
                  <p:cNvSpPr/>
                  <p:nvPr/>
                </p:nvSpPr>
                <p:spPr>
                  <a:xfrm rot="1860600">
                    <a:off x="7973640" y="20430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137"/>
                  <p:cNvSpPr/>
                  <p:nvPr/>
                </p:nvSpPr>
                <p:spPr>
                  <a:xfrm rot="1860600">
                    <a:off x="7699320" y="205740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138"/>
                  <p:cNvSpPr/>
                  <p:nvPr/>
                </p:nvSpPr>
                <p:spPr>
                  <a:xfrm rot="1860600">
                    <a:off x="7840440" y="238104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139"/>
                  <p:cNvSpPr/>
                  <p:nvPr/>
                </p:nvSpPr>
                <p:spPr>
                  <a:xfrm>
                    <a:off x="7798680" y="215172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1140"/>
                  <p:cNvSpPr/>
                  <p:nvPr/>
                </p:nvSpPr>
                <p:spPr>
                  <a:xfrm flipV="1">
                    <a:off x="7903080" y="21520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141"/>
                  <p:cNvSpPr/>
                  <p:nvPr/>
                </p:nvSpPr>
                <p:spPr>
                  <a:xfrm>
                    <a:off x="7899120" y="224568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56"/>
                <p:cNvGrpSpPr/>
                <p:nvPr/>
              </p:nvGrpSpPr>
              <p:grpSpPr>
                <a:xfrm>
                  <a:off x="6762600" y="2044800"/>
                  <a:ext cx="438120" cy="501480"/>
                  <a:chOff x="6762600" y="2044800"/>
                  <a:chExt cx="438120" cy="501480"/>
                </a:xfrm>
              </p:grpSpPr>
              <p:sp>
                <p:nvSpPr>
                  <p:cNvPr id="241" name="Oval 1157"/>
                  <p:cNvSpPr/>
                  <p:nvPr/>
                </p:nvSpPr>
                <p:spPr>
                  <a:xfrm rot="1860600">
                    <a:off x="7059240" y="206676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158"/>
                  <p:cNvSpPr/>
                  <p:nvPr/>
                </p:nvSpPr>
                <p:spPr>
                  <a:xfrm rot="1860600">
                    <a:off x="6784920" y="208116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159"/>
                  <p:cNvSpPr/>
                  <p:nvPr/>
                </p:nvSpPr>
                <p:spPr>
                  <a:xfrm rot="1860600">
                    <a:off x="6926040" y="24048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160"/>
                  <p:cNvSpPr/>
                  <p:nvPr/>
                </p:nvSpPr>
                <p:spPr>
                  <a:xfrm>
                    <a:off x="6884280" y="21754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161"/>
                  <p:cNvSpPr/>
                  <p:nvPr/>
                </p:nvSpPr>
                <p:spPr>
                  <a:xfrm flipV="1">
                    <a:off x="6988680" y="217584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162"/>
                  <p:cNvSpPr/>
                  <p:nvPr/>
                </p:nvSpPr>
                <p:spPr>
                  <a:xfrm>
                    <a:off x="6984720" y="2269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63"/>
                <p:cNvGrpSpPr/>
                <p:nvPr/>
              </p:nvGrpSpPr>
              <p:grpSpPr>
                <a:xfrm>
                  <a:off x="6877440" y="1891080"/>
                  <a:ext cx="1115280" cy="461160"/>
                  <a:chOff x="6877440" y="1891080"/>
                  <a:chExt cx="1115280" cy="461160"/>
                </a:xfrm>
              </p:grpSpPr>
              <p:sp>
                <p:nvSpPr>
                  <p:cNvPr id="248" name="AutoShape 1164"/>
                  <p:cNvSpPr/>
                  <p:nvPr/>
                </p:nvSpPr>
                <p:spPr>
                  <a:xfrm rot="5400000">
                    <a:off x="6877440" y="1898280"/>
                    <a:ext cx="453600" cy="45396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165"/>
                  <p:cNvSpPr/>
                  <p:nvPr/>
                </p:nvSpPr>
                <p:spPr>
                  <a:xfrm flipH="1">
                    <a:off x="7329240" y="21268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166"/>
                  <p:cNvSpPr/>
                  <p:nvPr/>
                </p:nvSpPr>
                <p:spPr>
                  <a:xfrm flipV="1" rot="5400000">
                    <a:off x="7539120" y="1891080"/>
                    <a:ext cx="453600" cy="453600"/>
                  </a:xfrm>
                  <a:prstGeom prst="pie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Text Box 1256"/>
              <p:cNvSpPr/>
              <p:nvPr/>
            </p:nvSpPr>
            <p:spPr>
              <a:xfrm>
                <a:off x="6735960" y="3143520"/>
                <a:ext cx="13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g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notes in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must not be hemolyzed or conta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must be left 30min at room temperature before us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(+ve,-ve) must be used regul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expiration date of kits, diluents and reag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using any kit, read the instructions provided carefu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6212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glu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184400"/>
            <a:ext cx="8610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 : Ag Ab interaction where Ag is a particulate material ( cell, bacteria, carr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23920" y="2143080"/>
            <a:ext cx="8610480" cy="4000680"/>
            <a:chOff x="223920" y="2143080"/>
            <a:chExt cx="8610480" cy="4000680"/>
          </a:xfrm>
        </p:grpSpPr>
        <p:grpSp>
          <p:nvGrpSpPr>
            <p:cNvPr id="46" name="Group 25"/>
            <p:cNvGrpSpPr/>
            <p:nvPr/>
          </p:nvGrpSpPr>
          <p:grpSpPr>
            <a:xfrm>
              <a:off x="2143080" y="3786120"/>
              <a:ext cx="5888160" cy="2357640"/>
              <a:chOff x="2143080" y="3786120"/>
              <a:chExt cx="5888160" cy="2357640"/>
            </a:xfrm>
          </p:grpSpPr>
          <p:sp>
            <p:nvSpPr>
              <p:cNvPr id="47" name="Rectangle 24"/>
              <p:cNvSpPr/>
              <p:nvPr/>
            </p:nvSpPr>
            <p:spPr>
              <a:xfrm>
                <a:off x="2143080" y="3786120"/>
                <a:ext cx="5888160" cy="235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Group 23"/>
              <p:cNvGrpSpPr/>
              <p:nvPr/>
            </p:nvGrpSpPr>
            <p:grpSpPr>
              <a:xfrm>
                <a:off x="2357280" y="4357800"/>
                <a:ext cx="4721760" cy="1533240"/>
                <a:chOff x="2357280" y="4357800"/>
                <a:chExt cx="4721760" cy="1533240"/>
              </a:xfrm>
            </p:grpSpPr>
            <p:sp>
              <p:nvSpPr>
                <p:cNvPr id="49" name="WordArt 4"/>
                <p:cNvSpPr txBox="1"/>
                <p:nvPr/>
              </p:nvSpPr>
              <p:spPr>
                <a:xfrm>
                  <a:off x="5572080" y="5319720"/>
                  <a:ext cx="73044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0" name="WordArt 9"/>
                <p:cNvSpPr txBox="1"/>
                <p:nvPr/>
              </p:nvSpPr>
              <p:spPr>
                <a:xfrm rot="16984200">
                  <a:off x="6187680" y="4362480"/>
                  <a:ext cx="73008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1" name="Oval 5"/>
                <p:cNvSpPr/>
                <p:nvPr/>
              </p:nvSpPr>
              <p:spPr>
                <a:xfrm>
                  <a:off x="5403960" y="496872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8"/>
                <p:cNvSpPr/>
                <p:nvPr/>
              </p:nvSpPr>
              <p:spPr>
                <a:xfrm>
                  <a:off x="6059520" y="4965480"/>
                  <a:ext cx="4287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Oval 10"/>
                <p:cNvSpPr/>
                <p:nvPr/>
              </p:nvSpPr>
              <p:spPr>
                <a:xfrm>
                  <a:off x="6000840" y="442908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WordArt 12"/>
                <p:cNvSpPr txBox="1"/>
                <p:nvPr/>
              </p:nvSpPr>
              <p:spPr>
                <a:xfrm>
                  <a:off x="2357280" y="5143320"/>
                  <a:ext cx="730440" cy="571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5" name="Oval 13"/>
                <p:cNvSpPr/>
                <p:nvPr/>
              </p:nvSpPr>
              <p:spPr>
                <a:xfrm>
                  <a:off x="3726000" y="520056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14"/>
                <p:cNvSpPr/>
                <p:nvPr/>
              </p:nvSpPr>
              <p:spPr>
                <a:xfrm>
                  <a:off x="2980800" y="51051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4649040" y="511956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Rectangle 26"/>
            <p:cNvSpPr/>
            <p:nvPr/>
          </p:nvSpPr>
          <p:spPr>
            <a:xfrm>
              <a:off x="223920" y="2143080"/>
              <a:ext cx="86104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gglutination test: Qualitative/ Quantitative(Ab titer)  agglutination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 is used to determine either Ag or Ab in patient 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2428920" y="3857760"/>
            <a:ext cx="10713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500280" y="5715000"/>
            <a:ext cx="914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f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5357880" y="4429080"/>
            <a:ext cx="426960" cy="426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 rot="5613600">
            <a:off x="4768920" y="4699440"/>
            <a:ext cx="73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3" name="WordArt 9"/>
          <p:cNvSpPr txBox="1"/>
          <p:nvPr/>
        </p:nvSpPr>
        <p:spPr>
          <a:xfrm rot="204000">
            <a:off x="4715640" y="3306600"/>
            <a:ext cx="73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643800" y="5357880"/>
            <a:ext cx="928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My Documents\My Pictures\agg reaction.jpg"/>
          <p:cNvPicPr/>
          <p:nvPr/>
        </p:nvPicPr>
        <p:blipFill>
          <a:blip r:embed="rId1"/>
          <a:stretch/>
        </p:blipFill>
        <p:spPr>
          <a:xfrm>
            <a:off x="2143080" y="2486160"/>
            <a:ext cx="48578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cross link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 Ti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: No of Ab units per unit volume of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erial doubling di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est dilution(last tube or well) that gives agglutination is end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titer is the reciprocal of end poi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ucella 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called Brucellosis ,Malta f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agents: Brucella abortus, Br. melitensis ,and other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test need to determine the amount of Ab to Brucella Ag  in patient sa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Brucella abortus 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uent : 0.5% phenol s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 of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content of patient’s serum is measured by adding a constant amount of Brucella abortus colored Ag to serially diluted se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b titers above 80 units are considered clinically signific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b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Quantita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rocedure(Quantitati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100 ul of  diluent in wells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60ul of diluent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40 ul of serum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tip , mix and transfer 100ul from well 1 to wel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eat the previous step till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ard 100ulfrom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25ul of Br. Abortus Ag to all we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 and incubate the plate at 37 c O.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1440" y="2357280"/>
          <a:ext cx="7959600" cy="3292560"/>
        </p:xfrm>
        <a:graphic>
          <a:graphicData uri="http://schemas.openxmlformats.org/drawingml/2006/table">
            <a:tbl>
              <a:tblPr/>
              <a:tblGrid>
                <a:gridCol w="1006200"/>
                <a:gridCol w="871560"/>
                <a:gridCol w="600120"/>
                <a:gridCol w="509760"/>
                <a:gridCol w="627120"/>
                <a:gridCol w="511200"/>
                <a:gridCol w="603000"/>
                <a:gridCol w="604800"/>
                <a:gridCol w="676440"/>
                <a:gridCol w="612720"/>
                <a:gridCol w="520560"/>
                <a:gridCol w="81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4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cella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7" name="Straight Arrow Connector 9"/>
          <p:cNvCxnSpPr/>
          <p:nvPr/>
        </p:nvCxnSpPr>
        <p:spPr>
          <a:xfrm>
            <a:off x="2214360" y="2642760"/>
            <a:ext cx="5072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rved Connector 14"/>
          <p:cNvCxnSpPr/>
          <p:nvPr/>
        </p:nvCxnSpPr>
        <p:spPr>
          <a:xfrm flipV="1">
            <a:off x="228600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rved Connector 17"/>
          <p:cNvCxnSpPr/>
          <p:nvPr/>
        </p:nvCxnSpPr>
        <p:spPr>
          <a:xfrm flipV="1">
            <a:off x="2999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5"/>
          <p:cNvCxnSpPr/>
          <p:nvPr/>
        </p:nvCxnSpPr>
        <p:spPr>
          <a:xfrm flipV="1">
            <a:off x="6286680" y="3214080"/>
            <a:ext cx="4291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urved Connector 28"/>
          <p:cNvCxnSpPr/>
          <p:nvPr/>
        </p:nvCxnSpPr>
        <p:spPr>
          <a:xfrm flipV="1">
            <a:off x="150012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urved Connector 30"/>
          <p:cNvCxnSpPr/>
          <p:nvPr/>
        </p:nvCxnSpPr>
        <p:spPr>
          <a:xfrm flipV="1">
            <a:off x="349992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34"/>
          <p:cNvCxnSpPr/>
          <p:nvPr/>
        </p:nvCxnSpPr>
        <p:spPr>
          <a:xfrm>
            <a:off x="1285560" y="4071960"/>
            <a:ext cx="5715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Rectangle 40"/>
          <p:cNvSpPr/>
          <p:nvPr/>
        </p:nvSpPr>
        <p:spPr>
          <a:xfrm>
            <a:off x="500040" y="1643040"/>
            <a:ext cx="8001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Curved Connector 20"/>
          <p:cNvCxnSpPr/>
          <p:nvPr/>
        </p:nvCxnSpPr>
        <p:spPr>
          <a:xfrm flipV="1">
            <a:off x="407160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Curved Connector 22"/>
          <p:cNvCxnSpPr/>
          <p:nvPr/>
        </p:nvCxnSpPr>
        <p:spPr>
          <a:xfrm flipV="1">
            <a:off x="457164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urved Connector 23"/>
          <p:cNvCxnSpPr/>
          <p:nvPr/>
        </p:nvCxnSpPr>
        <p:spPr>
          <a:xfrm flipV="1">
            <a:off x="5285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ve result= Agglutination( membrane or film or Sheath appe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e result=no Agglutination( button form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n 3"/>
          <p:cNvSpPr/>
          <p:nvPr/>
        </p:nvSpPr>
        <p:spPr>
          <a:xfrm>
            <a:off x="2428920" y="3929040"/>
            <a:ext cx="642960" cy="157176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n 4"/>
          <p:cNvSpPr/>
          <p:nvPr/>
        </p:nvSpPr>
        <p:spPr>
          <a:xfrm>
            <a:off x="5143680" y="4000680"/>
            <a:ext cx="642600" cy="157140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Connector 5"/>
          <p:cNvSpPr/>
          <p:nvPr/>
        </p:nvSpPr>
        <p:spPr>
          <a:xfrm flipV="1">
            <a:off x="2428920" y="5286240"/>
            <a:ext cx="642960" cy="2145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6"/>
          <p:cNvSpPr/>
          <p:nvPr/>
        </p:nvSpPr>
        <p:spPr>
          <a:xfrm rot="9425400">
            <a:off x="2394000" y="4463640"/>
            <a:ext cx="1141200" cy="4176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7"/>
          <p:cNvSpPr/>
          <p:nvPr/>
        </p:nvSpPr>
        <p:spPr>
          <a:xfrm rot="9425400">
            <a:off x="5118840" y="4478040"/>
            <a:ext cx="1119240" cy="47304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owchart: Connector 8"/>
          <p:cNvSpPr/>
          <p:nvPr/>
        </p:nvSpPr>
        <p:spPr>
          <a:xfrm>
            <a:off x="5429160" y="5500800"/>
            <a:ext cx="7164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85880" y="4643280"/>
            <a:ext cx="10713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6357960" y="4714920"/>
            <a:ext cx="15001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14:01Z</dcterms:created>
  <dc:creator>ksu</dc:creator>
  <dc:description/>
  <dc:language>en-US</dc:language>
  <cp:lastModifiedBy>ksu</cp:lastModifiedBy>
  <dcterms:modified xsi:type="dcterms:W3CDTF">2012-02-11T06:45:47Z</dcterms:modified>
  <cp:revision>29</cp:revision>
  <dc:subject/>
  <dc:title>Agglutination</dc:title>
</cp:coreProperties>
</file>