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DEE-E5A1-4839-8B9F-A9A90C7F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2440-E8C2-41C4-A192-683EEE47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686-B5F7-4CA6-B0B0-6F264341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50B-7FA9-45FA-9740-63FE51EA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5A92-5A78-47CC-853C-BA16B600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6036-2A5C-4FD5-A42E-893FDE07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E3B-4440-463D-AE22-7954CA1D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AC7B-13D3-4560-8479-494CCEEB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F151-8007-49EC-A8E5-3771A2ED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90C-84AD-46EC-AFD9-63EF2500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21B-896D-4219-BC10-03674080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9D69-C240-4E31-818E-0E6728BC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C973-A33A-43EF-9B53-057F23D51A2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lut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rect Agglutination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rucella Agglutination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user\My Documents\My Pictures\Slide18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ll no 10 is –ve control ( -ve Ag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contains diluent ( 0,5% phenol saline) + Brucella A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Prozone phenomen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e to Excess Abs or blocking Abs(non specifi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st appears –ve Agg even Abs are present ( false –ve resul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lve this problem by diluting the samp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zone phenomen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Documents and Settings\user\My Documents\My Pictures\Agg.jpg"/>
          <p:cNvPicPr/>
          <p:nvPr/>
        </p:nvPicPr>
        <p:blipFill>
          <a:blip r:embed="rId1"/>
          <a:stretch/>
        </p:blipFill>
        <p:spPr>
          <a:xfrm>
            <a:off x="1714680" y="1785960"/>
            <a:ext cx="5500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actors Affecting Measurement of Ag/Ab Re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320" y="1500120"/>
            <a:ext cx="8157960" cy="4929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id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 : Ab ra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form of A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7215120" y="507204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267"/>
          <p:cNvGrpSpPr/>
          <p:nvPr/>
        </p:nvGrpSpPr>
        <p:grpSpPr>
          <a:xfrm>
            <a:off x="4143240" y="1600920"/>
            <a:ext cx="2193840" cy="2053440"/>
            <a:chOff x="4143240" y="1600920"/>
            <a:chExt cx="2193840" cy="2053440"/>
          </a:xfrm>
        </p:grpSpPr>
        <p:sp>
          <p:nvSpPr>
            <p:cNvPr id="109" name="Rectangle 1264"/>
            <p:cNvSpPr/>
            <p:nvPr/>
          </p:nvSpPr>
          <p:spPr>
            <a:xfrm>
              <a:off x="4143240" y="1643040"/>
              <a:ext cx="2193840" cy="201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1259"/>
            <p:cNvGrpSpPr/>
            <p:nvPr/>
          </p:nvGrpSpPr>
          <p:grpSpPr>
            <a:xfrm>
              <a:off x="4216320" y="1600920"/>
              <a:ext cx="2022120" cy="2011680"/>
              <a:chOff x="4216320" y="1600920"/>
              <a:chExt cx="2022120" cy="2011680"/>
            </a:xfrm>
          </p:grpSpPr>
          <p:grpSp>
            <p:nvGrpSpPr>
              <p:cNvPr id="111" name="Group 1252"/>
              <p:cNvGrpSpPr/>
              <p:nvPr/>
            </p:nvGrpSpPr>
            <p:grpSpPr>
              <a:xfrm>
                <a:off x="4216320" y="1600920"/>
                <a:ext cx="2022120" cy="1816920"/>
                <a:chOff x="4216320" y="1600920"/>
                <a:chExt cx="2022120" cy="1816920"/>
              </a:xfrm>
            </p:grpSpPr>
            <p:grpSp>
              <p:nvGrpSpPr>
                <p:cNvPr id="112" name="Group 1115"/>
                <p:cNvGrpSpPr/>
                <p:nvPr/>
              </p:nvGrpSpPr>
              <p:grpSpPr>
                <a:xfrm>
                  <a:off x="4216320" y="1600920"/>
                  <a:ext cx="1190160" cy="968040"/>
                  <a:chOff x="4216320" y="1600920"/>
                  <a:chExt cx="1190160" cy="968040"/>
                </a:xfrm>
              </p:grpSpPr>
              <p:sp>
                <p:nvSpPr>
                  <p:cNvPr id="113" name="AutoShape 1112"/>
                  <p:cNvSpPr/>
                  <p:nvPr/>
                </p:nvSpPr>
                <p:spPr>
                  <a:xfrm rot="18115200">
                    <a:off x="4867200" y="2028960"/>
                    <a:ext cx="453600" cy="45396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453960"/>
                      <a:gd name="textAreaBottom" fmla="*/ 162720 h 45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1113"/>
                  <p:cNvSpPr/>
                  <p:nvPr/>
                </p:nvSpPr>
                <p:spPr>
                  <a:xfrm>
                    <a:off x="4711680" y="2018880"/>
                    <a:ext cx="191160" cy="119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AutoShape 1114"/>
                  <p:cNvSpPr/>
                  <p:nvPr/>
                </p:nvSpPr>
                <p:spPr>
                  <a:xfrm flipV="1" rot="18114600">
                    <a:off x="4301640" y="1686240"/>
                    <a:ext cx="453600" cy="45324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453240"/>
                      <a:gd name="textAreaBottom" fmla="*/ 162360 h 453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1126"/>
                <p:cNvGrpSpPr/>
                <p:nvPr/>
              </p:nvGrpSpPr>
              <p:grpSpPr>
                <a:xfrm>
                  <a:off x="4996440" y="2148120"/>
                  <a:ext cx="438120" cy="501480"/>
                  <a:chOff x="4996440" y="2148120"/>
                  <a:chExt cx="438120" cy="501480"/>
                </a:xfrm>
              </p:grpSpPr>
              <p:sp>
                <p:nvSpPr>
                  <p:cNvPr id="117" name="Oval 1117"/>
                  <p:cNvSpPr/>
                  <p:nvPr/>
                </p:nvSpPr>
                <p:spPr>
                  <a:xfrm rot="1860600">
                    <a:off x="5293080" y="217008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Oval 1118"/>
                  <p:cNvSpPr/>
                  <p:nvPr/>
                </p:nvSpPr>
                <p:spPr>
                  <a:xfrm rot="1860600">
                    <a:off x="5018760" y="2184480"/>
                    <a:ext cx="11880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Oval 1119"/>
                  <p:cNvSpPr/>
                  <p:nvPr/>
                </p:nvSpPr>
                <p:spPr>
                  <a:xfrm rot="1860600">
                    <a:off x="5159880" y="250812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Line 1123"/>
                  <p:cNvSpPr/>
                  <p:nvPr/>
                </p:nvSpPr>
                <p:spPr>
                  <a:xfrm>
                    <a:off x="5118120" y="227880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Line 1124"/>
                  <p:cNvSpPr/>
                  <p:nvPr/>
                </p:nvSpPr>
                <p:spPr>
                  <a:xfrm flipV="1">
                    <a:off x="5222520" y="227916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Line 1125"/>
                  <p:cNvSpPr/>
                  <p:nvPr/>
                </p:nvSpPr>
                <p:spPr>
                  <a:xfrm>
                    <a:off x="5218560" y="237276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Group 1127"/>
                <p:cNvGrpSpPr/>
                <p:nvPr/>
              </p:nvGrpSpPr>
              <p:grpSpPr>
                <a:xfrm>
                  <a:off x="4996440" y="2302560"/>
                  <a:ext cx="461160" cy="1115280"/>
                  <a:chOff x="4996440" y="2302560"/>
                  <a:chExt cx="461160" cy="1115280"/>
                </a:xfrm>
              </p:grpSpPr>
              <p:sp>
                <p:nvSpPr>
                  <p:cNvPr id="124" name="AutoShape 1128"/>
                  <p:cNvSpPr/>
                  <p:nvPr/>
                </p:nvSpPr>
                <p:spPr>
                  <a:xfrm rot="10800000">
                    <a:off x="4996440" y="2302560"/>
                    <a:ext cx="453600" cy="45396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453960"/>
                      <a:gd name="textAreaBottom" fmla="*/ 162720 h 45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Line 1129"/>
                  <p:cNvSpPr/>
                  <p:nvPr/>
                </p:nvSpPr>
                <p:spPr>
                  <a:xfrm flipV="1">
                    <a:off x="5223960" y="2754360"/>
                    <a:ext cx="0" cy="22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AutoShape 1130"/>
                  <p:cNvSpPr/>
                  <p:nvPr/>
                </p:nvSpPr>
                <p:spPr>
                  <a:xfrm flipV="1" rot="10800000">
                    <a:off x="5004000" y="2964240"/>
                    <a:ext cx="453600" cy="45360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360 h 453600"/>
                      <a:gd name="textAreaBottom" fmla="*/ 162720 h 453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1131"/>
                <p:cNvGrpSpPr/>
                <p:nvPr/>
              </p:nvGrpSpPr>
              <p:grpSpPr>
                <a:xfrm>
                  <a:off x="5038920" y="1726560"/>
                  <a:ext cx="1199520" cy="799560"/>
                  <a:chOff x="5038920" y="1726560"/>
                  <a:chExt cx="1199520" cy="799560"/>
                </a:xfrm>
              </p:grpSpPr>
              <p:sp>
                <p:nvSpPr>
                  <p:cNvPr id="128" name="AutoShape 1132"/>
                  <p:cNvSpPr/>
                  <p:nvPr/>
                </p:nvSpPr>
                <p:spPr>
                  <a:xfrm rot="4258800">
                    <a:off x="5100480" y="2010600"/>
                    <a:ext cx="453600" cy="45396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453960"/>
                      <a:gd name="textAreaBottom" fmla="*/ 162720 h 45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Line 1133"/>
                  <p:cNvSpPr/>
                  <p:nvPr/>
                </p:nvSpPr>
                <p:spPr>
                  <a:xfrm flipH="1">
                    <a:off x="5539680" y="2090520"/>
                    <a:ext cx="213120" cy="73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AutoShape 1134"/>
                  <p:cNvSpPr/>
                  <p:nvPr/>
                </p:nvSpPr>
                <p:spPr>
                  <a:xfrm flipV="1" rot="4258200">
                    <a:off x="5723280" y="1788120"/>
                    <a:ext cx="453600" cy="45324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453240"/>
                      <a:gd name="textAreaBottom" fmla="*/ 162360 h 453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1" name="Text Box 1255"/>
              <p:cNvSpPr/>
              <p:nvPr/>
            </p:nvSpPr>
            <p:spPr>
              <a:xfrm>
                <a:off x="4240080" y="31528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b exce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" name="Group 1269"/>
          <p:cNvGrpSpPr/>
          <p:nvPr/>
        </p:nvGrpSpPr>
        <p:grpSpPr>
          <a:xfrm>
            <a:off x="4143240" y="3643200"/>
            <a:ext cx="4387680" cy="2677320"/>
            <a:chOff x="4143240" y="3643200"/>
            <a:chExt cx="4387680" cy="2677320"/>
          </a:xfrm>
        </p:grpSpPr>
        <p:sp>
          <p:nvSpPr>
            <p:cNvPr id="133" name="Rectangle 1263"/>
            <p:cNvSpPr/>
            <p:nvPr/>
          </p:nvSpPr>
          <p:spPr>
            <a:xfrm>
              <a:off x="4143240" y="3643200"/>
              <a:ext cx="4387680" cy="2608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Group 1262"/>
            <p:cNvGrpSpPr/>
            <p:nvPr/>
          </p:nvGrpSpPr>
          <p:grpSpPr>
            <a:xfrm>
              <a:off x="4351680" y="3656880"/>
              <a:ext cx="4082040" cy="2663640"/>
              <a:chOff x="4351680" y="3656880"/>
              <a:chExt cx="4082040" cy="2663640"/>
            </a:xfrm>
          </p:grpSpPr>
          <p:grpSp>
            <p:nvGrpSpPr>
              <p:cNvPr id="135" name="Group 1254"/>
              <p:cNvGrpSpPr/>
              <p:nvPr/>
            </p:nvGrpSpPr>
            <p:grpSpPr>
              <a:xfrm>
                <a:off x="4786560" y="3656880"/>
                <a:ext cx="3234600" cy="2374200"/>
                <a:chOff x="4786560" y="3656880"/>
                <a:chExt cx="3234600" cy="2374200"/>
              </a:xfrm>
            </p:grpSpPr>
            <p:grpSp>
              <p:nvGrpSpPr>
                <p:cNvPr id="136" name="Group 1142"/>
                <p:cNvGrpSpPr/>
                <p:nvPr/>
              </p:nvGrpSpPr>
              <p:grpSpPr>
                <a:xfrm>
                  <a:off x="6781680" y="3718080"/>
                  <a:ext cx="457920" cy="437760"/>
                  <a:chOff x="6781680" y="3718080"/>
                  <a:chExt cx="457920" cy="437760"/>
                </a:xfrm>
              </p:grpSpPr>
              <p:sp>
                <p:nvSpPr>
                  <p:cNvPr id="137" name="Oval 1143"/>
                  <p:cNvSpPr/>
                  <p:nvPr/>
                </p:nvSpPr>
                <p:spPr>
                  <a:xfrm rot="4560600">
                    <a:off x="7119720" y="387324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Oval 1144"/>
                  <p:cNvSpPr/>
                  <p:nvPr/>
                </p:nvSpPr>
                <p:spPr>
                  <a:xfrm rot="4560600">
                    <a:off x="6946920" y="3720960"/>
                    <a:ext cx="993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Oval 1145"/>
                  <p:cNvSpPr/>
                  <p:nvPr/>
                </p:nvSpPr>
                <p:spPr>
                  <a:xfrm rot="4560600">
                    <a:off x="6801480" y="403308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Line 1146"/>
                  <p:cNvSpPr/>
                  <p:nvPr/>
                </p:nvSpPr>
                <p:spPr>
                  <a:xfrm>
                    <a:off x="6990480" y="382392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1147"/>
                  <p:cNvSpPr/>
                  <p:nvPr/>
                </p:nvSpPr>
                <p:spPr>
                  <a:xfrm>
                    <a:off x="6994800" y="3953880"/>
                    <a:ext cx="114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1148"/>
                  <p:cNvSpPr/>
                  <p:nvPr/>
                </p:nvSpPr>
                <p:spPr>
                  <a:xfrm flipH="1">
                    <a:off x="6892560" y="395496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Group 1149"/>
                <p:cNvGrpSpPr/>
                <p:nvPr/>
              </p:nvGrpSpPr>
              <p:grpSpPr>
                <a:xfrm>
                  <a:off x="5875200" y="4009680"/>
                  <a:ext cx="428040" cy="430200"/>
                  <a:chOff x="5875200" y="4009680"/>
                  <a:chExt cx="428040" cy="430200"/>
                </a:xfrm>
              </p:grpSpPr>
              <p:sp>
                <p:nvSpPr>
                  <p:cNvPr id="144" name="Oval 1150"/>
                  <p:cNvSpPr/>
                  <p:nvPr/>
                </p:nvSpPr>
                <p:spPr>
                  <a:xfrm rot="1860600">
                    <a:off x="6166440" y="403308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Oval 1151"/>
                  <p:cNvSpPr/>
                  <p:nvPr/>
                </p:nvSpPr>
                <p:spPr>
                  <a:xfrm rot="1860600">
                    <a:off x="5892480" y="404496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Oval 1152"/>
                  <p:cNvSpPr/>
                  <p:nvPr/>
                </p:nvSpPr>
                <p:spPr>
                  <a:xfrm rot="1860600">
                    <a:off x="6033240" y="431640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153"/>
                  <p:cNvSpPr/>
                  <p:nvPr/>
                </p:nvSpPr>
                <p:spPr>
                  <a:xfrm>
                    <a:off x="5999760" y="4124160"/>
                    <a:ext cx="80640" cy="80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Line 1154"/>
                  <p:cNvSpPr/>
                  <p:nvPr/>
                </p:nvSpPr>
                <p:spPr>
                  <a:xfrm flipV="1">
                    <a:off x="6096240" y="411660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Line 1155"/>
                  <p:cNvSpPr/>
                  <p:nvPr/>
                </p:nvSpPr>
                <p:spPr>
                  <a:xfrm>
                    <a:off x="6092280" y="4202640"/>
                    <a:ext cx="0" cy="114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1167"/>
                <p:cNvGrpSpPr/>
                <p:nvPr/>
              </p:nvGrpSpPr>
              <p:grpSpPr>
                <a:xfrm>
                  <a:off x="5872320" y="4176720"/>
                  <a:ext cx="461160" cy="936000"/>
                  <a:chOff x="5872320" y="4176720"/>
                  <a:chExt cx="461160" cy="936000"/>
                </a:xfrm>
              </p:grpSpPr>
              <p:sp>
                <p:nvSpPr>
                  <p:cNvPr id="151" name="AutoShape 1168"/>
                  <p:cNvSpPr/>
                  <p:nvPr/>
                </p:nvSpPr>
                <p:spPr>
                  <a:xfrm>
                    <a:off x="5879880" y="4731840"/>
                    <a:ext cx="453600" cy="38088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380880"/>
                      <a:gd name="textAreaBottom" fmla="*/ 13644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1169"/>
                  <p:cNvSpPr/>
                  <p:nvPr/>
                </p:nvSpPr>
                <p:spPr>
                  <a:xfrm>
                    <a:off x="6105960" y="4544280"/>
                    <a:ext cx="0" cy="189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1170"/>
                  <p:cNvSpPr/>
                  <p:nvPr/>
                </p:nvSpPr>
                <p:spPr>
                  <a:xfrm flipV="1">
                    <a:off x="5872320" y="4176360"/>
                    <a:ext cx="453600" cy="38052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380520"/>
                      <a:gd name="textAreaBottom" fmla="*/ 136440 h 38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1171"/>
                <p:cNvGrpSpPr/>
                <p:nvPr/>
              </p:nvGrpSpPr>
              <p:grpSpPr>
                <a:xfrm>
                  <a:off x="5970960" y="3889080"/>
                  <a:ext cx="1115280" cy="387360"/>
                  <a:chOff x="5970960" y="3889080"/>
                  <a:chExt cx="1115280" cy="387360"/>
                </a:xfrm>
              </p:grpSpPr>
              <p:sp>
                <p:nvSpPr>
                  <p:cNvPr id="155" name="AutoShape 1172"/>
                  <p:cNvSpPr/>
                  <p:nvPr/>
                </p:nvSpPr>
                <p:spPr>
                  <a:xfrm rot="5400000">
                    <a:off x="6007320" y="3858840"/>
                    <a:ext cx="380880" cy="453960"/>
                  </a:xfrm>
                  <a:custGeom>
                    <a:avLst/>
                    <a:gdLst>
                      <a:gd name="textAreaLeft" fmla="*/ 0 w 380880"/>
                      <a:gd name="textAreaRight" fmla="*/ 381240 w 380880"/>
                      <a:gd name="textAreaTop" fmla="*/ 0 h 453960"/>
                      <a:gd name="textAreaBottom" fmla="*/ 162720 h 45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Line 1173"/>
                  <p:cNvSpPr/>
                  <p:nvPr/>
                </p:nvSpPr>
                <p:spPr>
                  <a:xfrm flipH="1">
                    <a:off x="6422760" y="4085280"/>
                    <a:ext cx="225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1174"/>
                  <p:cNvSpPr/>
                  <p:nvPr/>
                </p:nvSpPr>
                <p:spPr>
                  <a:xfrm flipV="1" rot="5400000">
                    <a:off x="6669000" y="3852720"/>
                    <a:ext cx="380880" cy="453600"/>
                  </a:xfrm>
                  <a:custGeom>
                    <a:avLst/>
                    <a:gdLst>
                      <a:gd name="textAreaLeft" fmla="*/ 0 w 380880"/>
                      <a:gd name="textAreaRight" fmla="*/ 381240 w 380880"/>
                      <a:gd name="textAreaTop" fmla="*/ 360 h 453600"/>
                      <a:gd name="textAreaBottom" fmla="*/ 162720 h 453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1175"/>
                <p:cNvGrpSpPr/>
                <p:nvPr/>
              </p:nvGrpSpPr>
              <p:grpSpPr>
                <a:xfrm>
                  <a:off x="5075640" y="3904920"/>
                  <a:ext cx="1115280" cy="387360"/>
                  <a:chOff x="5075640" y="3904920"/>
                  <a:chExt cx="1115280" cy="387360"/>
                </a:xfrm>
              </p:grpSpPr>
              <p:sp>
                <p:nvSpPr>
                  <p:cNvPr id="159" name="AutoShape 1176"/>
                  <p:cNvSpPr/>
                  <p:nvPr/>
                </p:nvSpPr>
                <p:spPr>
                  <a:xfrm rot="5400000">
                    <a:off x="5112000" y="3874680"/>
                    <a:ext cx="380880" cy="453960"/>
                  </a:xfrm>
                  <a:custGeom>
                    <a:avLst/>
                    <a:gdLst>
                      <a:gd name="textAreaLeft" fmla="*/ 0 w 380880"/>
                      <a:gd name="textAreaRight" fmla="*/ 381240 w 380880"/>
                      <a:gd name="textAreaTop" fmla="*/ 0 h 453960"/>
                      <a:gd name="textAreaBottom" fmla="*/ 162720 h 45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1177"/>
                  <p:cNvSpPr/>
                  <p:nvPr/>
                </p:nvSpPr>
                <p:spPr>
                  <a:xfrm flipH="1">
                    <a:off x="5527440" y="4101120"/>
                    <a:ext cx="225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AutoShape 1178"/>
                  <p:cNvSpPr/>
                  <p:nvPr/>
                </p:nvSpPr>
                <p:spPr>
                  <a:xfrm flipV="1" rot="5400000">
                    <a:off x="5773680" y="3868560"/>
                    <a:ext cx="380880" cy="453600"/>
                  </a:xfrm>
                  <a:custGeom>
                    <a:avLst/>
                    <a:gdLst>
                      <a:gd name="textAreaLeft" fmla="*/ 0 w 380880"/>
                      <a:gd name="textAreaRight" fmla="*/ 381240 w 380880"/>
                      <a:gd name="textAreaTop" fmla="*/ 360 h 453600"/>
                      <a:gd name="textAreaBottom" fmla="*/ 162720 h 453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1182"/>
                <p:cNvGrpSpPr/>
                <p:nvPr/>
              </p:nvGrpSpPr>
              <p:grpSpPr>
                <a:xfrm>
                  <a:off x="4940280" y="3870000"/>
                  <a:ext cx="457920" cy="437760"/>
                  <a:chOff x="4940280" y="3870000"/>
                  <a:chExt cx="457920" cy="437760"/>
                </a:xfrm>
              </p:grpSpPr>
              <p:sp>
                <p:nvSpPr>
                  <p:cNvPr id="163" name="Oval 1183"/>
                  <p:cNvSpPr/>
                  <p:nvPr/>
                </p:nvSpPr>
                <p:spPr>
                  <a:xfrm rot="4560600">
                    <a:off x="5278320" y="402516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Oval 1184"/>
                  <p:cNvSpPr/>
                  <p:nvPr/>
                </p:nvSpPr>
                <p:spPr>
                  <a:xfrm rot="4560600">
                    <a:off x="5105520" y="3872880"/>
                    <a:ext cx="993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Oval 1185"/>
                  <p:cNvSpPr/>
                  <p:nvPr/>
                </p:nvSpPr>
                <p:spPr>
                  <a:xfrm rot="4560600">
                    <a:off x="4960080" y="418500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1186"/>
                  <p:cNvSpPr/>
                  <p:nvPr/>
                </p:nvSpPr>
                <p:spPr>
                  <a:xfrm>
                    <a:off x="5149080" y="397584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1187"/>
                  <p:cNvSpPr/>
                  <p:nvPr/>
                </p:nvSpPr>
                <p:spPr>
                  <a:xfrm>
                    <a:off x="5153400" y="4105800"/>
                    <a:ext cx="114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1188"/>
                  <p:cNvSpPr/>
                  <p:nvPr/>
                </p:nvSpPr>
                <p:spPr>
                  <a:xfrm flipH="1">
                    <a:off x="5051160" y="410688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Group 1189"/>
                <p:cNvGrpSpPr/>
                <p:nvPr/>
              </p:nvGrpSpPr>
              <p:grpSpPr>
                <a:xfrm>
                  <a:off x="5829480" y="4823280"/>
                  <a:ext cx="389160" cy="414000"/>
                  <a:chOff x="5829480" y="4823280"/>
                  <a:chExt cx="389160" cy="414000"/>
                </a:xfrm>
              </p:grpSpPr>
              <p:sp>
                <p:nvSpPr>
                  <p:cNvPr id="170" name="Oval 1190"/>
                  <p:cNvSpPr/>
                  <p:nvPr/>
                </p:nvSpPr>
                <p:spPr>
                  <a:xfrm rot="21479400">
                    <a:off x="6054480" y="482544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Oval 1191"/>
                  <p:cNvSpPr/>
                  <p:nvPr/>
                </p:nvSpPr>
                <p:spPr>
                  <a:xfrm rot="21479400">
                    <a:off x="5830920" y="498492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Oval 1192"/>
                  <p:cNvSpPr/>
                  <p:nvPr/>
                </p:nvSpPr>
                <p:spPr>
                  <a:xfrm rot="21479400">
                    <a:off x="6097320" y="513540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1193"/>
                  <p:cNvSpPr/>
                  <p:nvPr/>
                </p:nvSpPr>
                <p:spPr>
                  <a:xfrm>
                    <a:off x="5946840" y="5033160"/>
                    <a:ext cx="111600" cy="23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1194"/>
                  <p:cNvSpPr/>
                  <p:nvPr/>
                </p:nvSpPr>
                <p:spPr>
                  <a:xfrm flipV="1">
                    <a:off x="6076080" y="4921560"/>
                    <a:ext cx="28440" cy="133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1195"/>
                  <p:cNvSpPr/>
                  <p:nvPr/>
                </p:nvSpPr>
                <p:spPr>
                  <a:xfrm>
                    <a:off x="6067080" y="5048640"/>
                    <a:ext cx="62280" cy="95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1196"/>
                <p:cNvGrpSpPr/>
                <p:nvPr/>
              </p:nvGrpSpPr>
              <p:grpSpPr>
                <a:xfrm>
                  <a:off x="4835880" y="4655880"/>
                  <a:ext cx="428040" cy="441720"/>
                  <a:chOff x="4835880" y="4655880"/>
                  <a:chExt cx="428040" cy="441720"/>
                </a:xfrm>
              </p:grpSpPr>
              <p:sp>
                <p:nvSpPr>
                  <p:cNvPr id="177" name="Oval 1197"/>
                  <p:cNvSpPr/>
                  <p:nvPr/>
                </p:nvSpPr>
                <p:spPr>
                  <a:xfrm flipV="1" rot="19246200">
                    <a:off x="5126760" y="494352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Oval 1198"/>
                  <p:cNvSpPr/>
                  <p:nvPr/>
                </p:nvSpPr>
                <p:spPr>
                  <a:xfrm flipV="1" rot="19246200">
                    <a:off x="4853520" y="4971240"/>
                    <a:ext cx="118800" cy="993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Oval 1199"/>
                  <p:cNvSpPr/>
                  <p:nvPr/>
                </p:nvSpPr>
                <p:spPr>
                  <a:xfrm flipV="1" rot="19246200">
                    <a:off x="4954320" y="468216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1200"/>
                  <p:cNvSpPr/>
                  <p:nvPr/>
                </p:nvSpPr>
                <p:spPr>
                  <a:xfrm flipV="1">
                    <a:off x="4956480" y="4893840"/>
                    <a:ext cx="68040" cy="91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1201"/>
                  <p:cNvSpPr/>
                  <p:nvPr/>
                </p:nvSpPr>
                <p:spPr>
                  <a:xfrm>
                    <a:off x="5039280" y="4883760"/>
                    <a:ext cx="109080" cy="81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1202"/>
                  <p:cNvSpPr/>
                  <p:nvPr/>
                </p:nvSpPr>
                <p:spPr>
                  <a:xfrm flipH="1" flipV="1">
                    <a:off x="5020200" y="4781520"/>
                    <a:ext cx="16560" cy="1130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203"/>
                <p:cNvGrpSpPr/>
                <p:nvPr/>
              </p:nvGrpSpPr>
              <p:grpSpPr>
                <a:xfrm>
                  <a:off x="4786560" y="4021200"/>
                  <a:ext cx="461880" cy="935640"/>
                  <a:chOff x="4786560" y="4021200"/>
                  <a:chExt cx="461880" cy="935640"/>
                </a:xfrm>
              </p:grpSpPr>
              <p:sp>
                <p:nvSpPr>
                  <p:cNvPr id="184" name="AutoShape 1204"/>
                  <p:cNvSpPr/>
                  <p:nvPr/>
                </p:nvSpPr>
                <p:spPr>
                  <a:xfrm>
                    <a:off x="4794480" y="4575960"/>
                    <a:ext cx="453960" cy="38088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380880"/>
                      <a:gd name="textAreaBottom" fmla="*/ 13644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1205"/>
                  <p:cNvSpPr/>
                  <p:nvPr/>
                </p:nvSpPr>
                <p:spPr>
                  <a:xfrm>
                    <a:off x="5020200" y="4388400"/>
                    <a:ext cx="0" cy="189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1206"/>
                  <p:cNvSpPr/>
                  <p:nvPr/>
                </p:nvSpPr>
                <p:spPr>
                  <a:xfrm flipV="1">
                    <a:off x="4786560" y="4021200"/>
                    <a:ext cx="425520" cy="356400"/>
                  </a:xfrm>
                  <a:custGeom>
                    <a:avLst/>
                    <a:gdLst>
                      <a:gd name="textAreaLeft" fmla="*/ 0 w 425520"/>
                      <a:gd name="textAreaRight" fmla="*/ 425880 w 425520"/>
                      <a:gd name="textAreaTop" fmla="*/ 0 h 356400"/>
                      <a:gd name="textAreaBottom" fmla="*/ 127440 h 356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Group 1207"/>
                <p:cNvGrpSpPr/>
                <p:nvPr/>
              </p:nvGrpSpPr>
              <p:grpSpPr>
                <a:xfrm>
                  <a:off x="4984560" y="4821120"/>
                  <a:ext cx="1115280" cy="387000"/>
                  <a:chOff x="4984560" y="4821120"/>
                  <a:chExt cx="1115280" cy="387000"/>
                </a:xfrm>
              </p:grpSpPr>
              <p:sp>
                <p:nvSpPr>
                  <p:cNvPr id="188" name="AutoShape 1208"/>
                  <p:cNvSpPr/>
                  <p:nvPr/>
                </p:nvSpPr>
                <p:spPr>
                  <a:xfrm rot="16200000">
                    <a:off x="5682600" y="4784400"/>
                    <a:ext cx="380520" cy="453960"/>
                  </a:xfrm>
                  <a:custGeom>
                    <a:avLst/>
                    <a:gdLst>
                      <a:gd name="textAreaLeft" fmla="*/ 0 w 380520"/>
                      <a:gd name="textAreaRight" fmla="*/ 380880 w 380520"/>
                      <a:gd name="textAreaTop" fmla="*/ 0 h 453960"/>
                      <a:gd name="textAreaBottom" fmla="*/ 162720 h 45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209"/>
                  <p:cNvSpPr/>
                  <p:nvPr/>
                </p:nvSpPr>
                <p:spPr>
                  <a:xfrm>
                    <a:off x="5422680" y="5012280"/>
                    <a:ext cx="225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AutoShape 1210"/>
                  <p:cNvSpPr/>
                  <p:nvPr/>
                </p:nvSpPr>
                <p:spPr>
                  <a:xfrm flipV="1" rot="16200000">
                    <a:off x="5020920" y="4790520"/>
                    <a:ext cx="380520" cy="453600"/>
                  </a:xfrm>
                  <a:custGeom>
                    <a:avLst/>
                    <a:gdLst>
                      <a:gd name="textAreaLeft" fmla="*/ 0 w 380520"/>
                      <a:gd name="textAreaRight" fmla="*/ 380880 w 380520"/>
                      <a:gd name="textAreaTop" fmla="*/ 360 h 453600"/>
                      <a:gd name="textAreaBottom" fmla="*/ 162720 h 453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1211"/>
                <p:cNvGrpSpPr/>
                <p:nvPr/>
              </p:nvGrpSpPr>
              <p:grpSpPr>
                <a:xfrm>
                  <a:off x="6903360" y="3656880"/>
                  <a:ext cx="992880" cy="974880"/>
                  <a:chOff x="6903360" y="3656880"/>
                  <a:chExt cx="992880" cy="974880"/>
                </a:xfrm>
              </p:grpSpPr>
              <p:sp>
                <p:nvSpPr>
                  <p:cNvPr id="192" name="AutoShape 1212"/>
                  <p:cNvSpPr/>
                  <p:nvPr/>
                </p:nvSpPr>
                <p:spPr>
                  <a:xfrm rot="18900000">
                    <a:off x="7373520" y="4146120"/>
                    <a:ext cx="454680" cy="380520"/>
                  </a:xfrm>
                  <a:custGeom>
                    <a:avLst/>
                    <a:gdLst>
                      <a:gd name="textAreaLeft" fmla="*/ 0 w 454680"/>
                      <a:gd name="textAreaRight" fmla="*/ 455040 w 454680"/>
                      <a:gd name="textAreaTop" fmla="*/ 0 h 380520"/>
                      <a:gd name="textAreaBottom" fmla="*/ 136440 h 38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1213"/>
                  <p:cNvSpPr/>
                  <p:nvPr/>
                </p:nvSpPr>
                <p:spPr>
                  <a:xfrm>
                    <a:off x="7328160" y="4073040"/>
                    <a:ext cx="133920" cy="133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AutoShape 1214"/>
                  <p:cNvSpPr/>
                  <p:nvPr/>
                </p:nvSpPr>
                <p:spPr>
                  <a:xfrm flipV="1" rot="18900000">
                    <a:off x="6971040" y="3761640"/>
                    <a:ext cx="454680" cy="380160"/>
                  </a:xfrm>
                  <a:custGeom>
                    <a:avLst/>
                    <a:gdLst>
                      <a:gd name="textAreaLeft" fmla="*/ 0 w 454680"/>
                      <a:gd name="textAreaRight" fmla="*/ 455040 w 454680"/>
                      <a:gd name="textAreaTop" fmla="*/ 0 h 380160"/>
                      <a:gd name="textAreaBottom" fmla="*/ 136080 h 3801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1215"/>
                <p:cNvGrpSpPr/>
                <p:nvPr/>
              </p:nvGrpSpPr>
              <p:grpSpPr>
                <a:xfrm>
                  <a:off x="7546680" y="4227120"/>
                  <a:ext cx="428760" cy="426960"/>
                  <a:chOff x="7546680" y="4227120"/>
                  <a:chExt cx="428760" cy="426960"/>
                </a:xfrm>
              </p:grpSpPr>
              <p:sp>
                <p:nvSpPr>
                  <p:cNvPr id="196" name="Oval 1216"/>
                  <p:cNvSpPr/>
                  <p:nvPr/>
                </p:nvSpPr>
                <p:spPr>
                  <a:xfrm rot="1987800">
                    <a:off x="7838640" y="425124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Oval 1217"/>
                  <p:cNvSpPr/>
                  <p:nvPr/>
                </p:nvSpPr>
                <p:spPr>
                  <a:xfrm rot="1987800">
                    <a:off x="7563960" y="425304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Oval 1218"/>
                  <p:cNvSpPr/>
                  <p:nvPr/>
                </p:nvSpPr>
                <p:spPr>
                  <a:xfrm rot="1987800">
                    <a:off x="7695000" y="452952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1219"/>
                  <p:cNvSpPr/>
                  <p:nvPr/>
                </p:nvSpPr>
                <p:spPr>
                  <a:xfrm>
                    <a:off x="7670520" y="4334040"/>
                    <a:ext cx="77400" cy="83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1220"/>
                  <p:cNvSpPr/>
                  <p:nvPr/>
                </p:nvSpPr>
                <p:spPr>
                  <a:xfrm flipV="1">
                    <a:off x="7763760" y="4333320"/>
                    <a:ext cx="99720" cy="9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1221"/>
                  <p:cNvSpPr/>
                  <p:nvPr/>
                </p:nvSpPr>
                <p:spPr>
                  <a:xfrm flipH="1">
                    <a:off x="7755840" y="4415760"/>
                    <a:ext cx="3960" cy="114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1226"/>
                <p:cNvGrpSpPr/>
                <p:nvPr/>
              </p:nvGrpSpPr>
              <p:grpSpPr>
                <a:xfrm>
                  <a:off x="7146360" y="4282560"/>
                  <a:ext cx="874800" cy="1032480"/>
                  <a:chOff x="7146360" y="4282560"/>
                  <a:chExt cx="874800" cy="1032480"/>
                </a:xfrm>
              </p:grpSpPr>
              <p:sp>
                <p:nvSpPr>
                  <p:cNvPr id="203" name="AutoShape 1227"/>
                  <p:cNvSpPr/>
                  <p:nvPr/>
                </p:nvSpPr>
                <p:spPr>
                  <a:xfrm flipV="1" rot="12643200">
                    <a:off x="7211520" y="4844520"/>
                    <a:ext cx="453600" cy="38124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381240"/>
                      <a:gd name="textAreaBottom" fmla="*/ 136440 h 3812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1228"/>
                  <p:cNvSpPr/>
                  <p:nvPr/>
                </p:nvSpPr>
                <p:spPr>
                  <a:xfrm flipH="1">
                    <a:off x="7535880" y="4710960"/>
                    <a:ext cx="96480" cy="16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AutoShape 1229"/>
                  <p:cNvSpPr/>
                  <p:nvPr/>
                </p:nvSpPr>
                <p:spPr>
                  <a:xfrm rot="12643200">
                    <a:off x="7502040" y="4371840"/>
                    <a:ext cx="453600" cy="38052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380520"/>
                      <a:gd name="textAreaBottom" fmla="*/ 136440 h 38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1230"/>
                <p:cNvGrpSpPr/>
                <p:nvPr/>
              </p:nvGrpSpPr>
              <p:grpSpPr>
                <a:xfrm>
                  <a:off x="6482520" y="5485680"/>
                  <a:ext cx="493200" cy="382680"/>
                  <a:chOff x="6482520" y="5485680"/>
                  <a:chExt cx="493200" cy="382680"/>
                </a:xfrm>
              </p:grpSpPr>
              <p:sp>
                <p:nvSpPr>
                  <p:cNvPr id="207" name="Oval 1231"/>
                  <p:cNvSpPr/>
                  <p:nvPr/>
                </p:nvSpPr>
                <p:spPr>
                  <a:xfrm rot="18586200">
                    <a:off x="6531120" y="550224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1232"/>
                  <p:cNvSpPr/>
                  <p:nvPr/>
                </p:nvSpPr>
                <p:spPr>
                  <a:xfrm rot="18586200">
                    <a:off x="6510240" y="5732280"/>
                    <a:ext cx="993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Oval 1233"/>
                  <p:cNvSpPr/>
                  <p:nvPr/>
                </p:nvSpPr>
                <p:spPr>
                  <a:xfrm rot="18586200">
                    <a:off x="6847920" y="5664600"/>
                    <a:ext cx="9972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234"/>
                  <p:cNvSpPr/>
                  <p:nvPr/>
                </p:nvSpPr>
                <p:spPr>
                  <a:xfrm flipV="1">
                    <a:off x="6598800" y="5690880"/>
                    <a:ext cx="109800" cy="806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840" bIns="338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235"/>
                  <p:cNvSpPr/>
                  <p:nvPr/>
                </p:nvSpPr>
                <p:spPr>
                  <a:xfrm flipH="1" flipV="1">
                    <a:off x="6633360" y="5598720"/>
                    <a:ext cx="67680" cy="92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1236"/>
                  <p:cNvSpPr/>
                  <p:nvPr/>
                </p:nvSpPr>
                <p:spPr>
                  <a:xfrm>
                    <a:off x="6705360" y="5695200"/>
                    <a:ext cx="134640" cy="20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Group 1237"/>
                <p:cNvGrpSpPr/>
                <p:nvPr/>
              </p:nvGrpSpPr>
              <p:grpSpPr>
                <a:xfrm>
                  <a:off x="7070760" y="4924800"/>
                  <a:ext cx="428040" cy="444240"/>
                  <a:chOff x="7070760" y="4924800"/>
                  <a:chExt cx="428040" cy="444240"/>
                </a:xfrm>
              </p:grpSpPr>
              <p:sp>
                <p:nvSpPr>
                  <p:cNvPr id="214" name="Oval 1238"/>
                  <p:cNvSpPr/>
                  <p:nvPr/>
                </p:nvSpPr>
                <p:spPr>
                  <a:xfrm rot="2428800">
                    <a:off x="7361280" y="498456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Oval 1239"/>
                  <p:cNvSpPr/>
                  <p:nvPr/>
                </p:nvSpPr>
                <p:spPr>
                  <a:xfrm rot="2428800">
                    <a:off x="7088760" y="4951080"/>
                    <a:ext cx="11880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Oval 1240"/>
                  <p:cNvSpPr/>
                  <p:nvPr/>
                </p:nvSpPr>
                <p:spPr>
                  <a:xfrm rot="2428800">
                    <a:off x="7183440" y="5242320"/>
                    <a:ext cx="119160" cy="997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120" bIns="2412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1241"/>
                  <p:cNvSpPr/>
                  <p:nvPr/>
                </p:nvSpPr>
                <p:spPr>
                  <a:xfrm>
                    <a:off x="7190640" y="5037840"/>
                    <a:ext cx="66600" cy="92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242"/>
                  <p:cNvSpPr/>
                  <p:nvPr/>
                </p:nvSpPr>
                <p:spPr>
                  <a:xfrm flipV="1">
                    <a:off x="7271280" y="5061960"/>
                    <a:ext cx="111240" cy="79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243"/>
                  <p:cNvSpPr/>
                  <p:nvPr/>
                </p:nvSpPr>
                <p:spPr>
                  <a:xfrm flipH="1">
                    <a:off x="7250400" y="5130360"/>
                    <a:ext cx="18720" cy="1126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1244"/>
                <p:cNvGrpSpPr/>
                <p:nvPr/>
              </p:nvGrpSpPr>
              <p:grpSpPr>
                <a:xfrm>
                  <a:off x="5904720" y="4878720"/>
                  <a:ext cx="961200" cy="999360"/>
                  <a:chOff x="5904720" y="4878720"/>
                  <a:chExt cx="961200" cy="999360"/>
                </a:xfrm>
              </p:grpSpPr>
              <p:sp>
                <p:nvSpPr>
                  <p:cNvPr id="221" name="AutoShape 1245"/>
                  <p:cNvSpPr/>
                  <p:nvPr/>
                </p:nvSpPr>
                <p:spPr>
                  <a:xfrm rot="19146600">
                    <a:off x="6342840" y="5394960"/>
                    <a:ext cx="453600" cy="38088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380880"/>
                      <a:gd name="textAreaBottom" fmla="*/ 13644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246"/>
                  <p:cNvSpPr/>
                  <p:nvPr/>
                </p:nvSpPr>
                <p:spPr>
                  <a:xfrm>
                    <a:off x="6321600" y="5300280"/>
                    <a:ext cx="123840" cy="142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1247"/>
                  <p:cNvSpPr/>
                  <p:nvPr/>
                </p:nvSpPr>
                <p:spPr>
                  <a:xfrm flipV="1" rot="19146000">
                    <a:off x="5973840" y="4980600"/>
                    <a:ext cx="453600" cy="38052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380520"/>
                      <a:gd name="textAreaBottom" fmla="*/ 136440 h 38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248"/>
                <p:cNvGrpSpPr/>
                <p:nvPr/>
              </p:nvGrpSpPr>
              <p:grpSpPr>
                <a:xfrm>
                  <a:off x="6636600" y="4995360"/>
                  <a:ext cx="885600" cy="1035720"/>
                  <a:chOff x="6636600" y="4995360"/>
                  <a:chExt cx="885600" cy="1035720"/>
                </a:xfrm>
              </p:grpSpPr>
              <p:sp>
                <p:nvSpPr>
                  <p:cNvPr id="225" name="AutoShape 1249"/>
                  <p:cNvSpPr/>
                  <p:nvPr/>
                </p:nvSpPr>
                <p:spPr>
                  <a:xfrm rot="1989000">
                    <a:off x="6703920" y="5556960"/>
                    <a:ext cx="453600" cy="38088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380880"/>
                      <a:gd name="textAreaBottom" fmla="*/ 13644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250"/>
                  <p:cNvSpPr/>
                  <p:nvPr/>
                </p:nvSpPr>
                <p:spPr>
                  <a:xfrm flipH="1">
                    <a:off x="7033680" y="5430600"/>
                    <a:ext cx="103320" cy="158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AutoShape 1251"/>
                  <p:cNvSpPr/>
                  <p:nvPr/>
                </p:nvSpPr>
                <p:spPr>
                  <a:xfrm flipV="1" rot="1989000">
                    <a:off x="7001280" y="5088240"/>
                    <a:ext cx="453600" cy="38052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380520"/>
                      <a:gd name="textAreaBottom" fmla="*/ 136440 h 3805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8" name="Text Box 1258"/>
              <p:cNvSpPr/>
              <p:nvPr/>
            </p:nvSpPr>
            <p:spPr>
              <a:xfrm>
                <a:off x="4351680" y="5860800"/>
                <a:ext cx="408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Equivalence – Lattice form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Group 1268"/>
          <p:cNvGrpSpPr/>
          <p:nvPr/>
        </p:nvGrpSpPr>
        <p:grpSpPr>
          <a:xfrm>
            <a:off x="6357960" y="1643040"/>
            <a:ext cx="2193840" cy="2011320"/>
            <a:chOff x="6357960" y="1643040"/>
            <a:chExt cx="2193840" cy="2011320"/>
          </a:xfrm>
        </p:grpSpPr>
        <p:sp>
          <p:nvSpPr>
            <p:cNvPr id="230" name="Rectangle 1265"/>
            <p:cNvSpPr/>
            <p:nvPr/>
          </p:nvSpPr>
          <p:spPr>
            <a:xfrm>
              <a:off x="6357960" y="1643040"/>
              <a:ext cx="2193840" cy="2011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1260"/>
            <p:cNvGrpSpPr/>
            <p:nvPr/>
          </p:nvGrpSpPr>
          <p:grpSpPr>
            <a:xfrm>
              <a:off x="6735960" y="1891080"/>
              <a:ext cx="1379160" cy="1712160"/>
              <a:chOff x="6735960" y="1891080"/>
              <a:chExt cx="1379160" cy="1712160"/>
            </a:xfrm>
          </p:grpSpPr>
          <p:grpSp>
            <p:nvGrpSpPr>
              <p:cNvPr id="232" name="Group 1180"/>
              <p:cNvGrpSpPr/>
              <p:nvPr/>
            </p:nvGrpSpPr>
            <p:grpSpPr>
              <a:xfrm>
                <a:off x="6762600" y="1891080"/>
                <a:ext cx="1352520" cy="655200"/>
                <a:chOff x="6762600" y="1891080"/>
                <a:chExt cx="1352520" cy="655200"/>
              </a:xfrm>
            </p:grpSpPr>
            <p:grpSp>
              <p:nvGrpSpPr>
                <p:cNvPr id="233" name="Group 1135"/>
                <p:cNvGrpSpPr/>
                <p:nvPr/>
              </p:nvGrpSpPr>
              <p:grpSpPr>
                <a:xfrm>
                  <a:off x="7677000" y="2021040"/>
                  <a:ext cx="438120" cy="501480"/>
                  <a:chOff x="7677000" y="2021040"/>
                  <a:chExt cx="438120" cy="501480"/>
                </a:xfrm>
              </p:grpSpPr>
              <p:sp>
                <p:nvSpPr>
                  <p:cNvPr id="234" name="Oval 1136"/>
                  <p:cNvSpPr/>
                  <p:nvPr/>
                </p:nvSpPr>
                <p:spPr>
                  <a:xfrm rot="1860600">
                    <a:off x="7973640" y="204300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Oval 1137"/>
                  <p:cNvSpPr/>
                  <p:nvPr/>
                </p:nvSpPr>
                <p:spPr>
                  <a:xfrm rot="1860600">
                    <a:off x="7699320" y="2057400"/>
                    <a:ext cx="11880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Oval 1138"/>
                  <p:cNvSpPr/>
                  <p:nvPr/>
                </p:nvSpPr>
                <p:spPr>
                  <a:xfrm rot="1860600">
                    <a:off x="7840440" y="238104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139"/>
                  <p:cNvSpPr/>
                  <p:nvPr/>
                </p:nvSpPr>
                <p:spPr>
                  <a:xfrm>
                    <a:off x="7798680" y="215172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1140"/>
                  <p:cNvSpPr/>
                  <p:nvPr/>
                </p:nvSpPr>
                <p:spPr>
                  <a:xfrm flipV="1">
                    <a:off x="7903080" y="215208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1141"/>
                  <p:cNvSpPr/>
                  <p:nvPr/>
                </p:nvSpPr>
                <p:spPr>
                  <a:xfrm>
                    <a:off x="7899120" y="224568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1156"/>
                <p:cNvGrpSpPr/>
                <p:nvPr/>
              </p:nvGrpSpPr>
              <p:grpSpPr>
                <a:xfrm>
                  <a:off x="6762600" y="2044800"/>
                  <a:ext cx="438120" cy="501480"/>
                  <a:chOff x="6762600" y="2044800"/>
                  <a:chExt cx="438120" cy="501480"/>
                </a:xfrm>
              </p:grpSpPr>
              <p:sp>
                <p:nvSpPr>
                  <p:cNvPr id="241" name="Oval 1157"/>
                  <p:cNvSpPr/>
                  <p:nvPr/>
                </p:nvSpPr>
                <p:spPr>
                  <a:xfrm rot="1860600">
                    <a:off x="7059240" y="206676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Oval 1158"/>
                  <p:cNvSpPr/>
                  <p:nvPr/>
                </p:nvSpPr>
                <p:spPr>
                  <a:xfrm rot="1860600">
                    <a:off x="6784920" y="2081160"/>
                    <a:ext cx="11880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Oval 1159"/>
                  <p:cNvSpPr/>
                  <p:nvPr/>
                </p:nvSpPr>
                <p:spPr>
                  <a:xfrm rot="1860600">
                    <a:off x="6926040" y="2404800"/>
                    <a:ext cx="119160" cy="11916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 algn="r" rtl="1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160"/>
                  <p:cNvSpPr/>
                  <p:nvPr/>
                </p:nvSpPr>
                <p:spPr>
                  <a:xfrm>
                    <a:off x="6884280" y="217548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1161"/>
                  <p:cNvSpPr/>
                  <p:nvPr/>
                </p:nvSpPr>
                <p:spPr>
                  <a:xfrm flipV="1">
                    <a:off x="6988680" y="2175840"/>
                    <a:ext cx="96480" cy="96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1162"/>
                  <p:cNvSpPr/>
                  <p:nvPr/>
                </p:nvSpPr>
                <p:spPr>
                  <a:xfrm>
                    <a:off x="6984720" y="2269440"/>
                    <a:ext cx="0" cy="136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163"/>
                <p:cNvGrpSpPr/>
                <p:nvPr/>
              </p:nvGrpSpPr>
              <p:grpSpPr>
                <a:xfrm>
                  <a:off x="6877440" y="1891080"/>
                  <a:ext cx="1115280" cy="461160"/>
                  <a:chOff x="6877440" y="1891080"/>
                  <a:chExt cx="1115280" cy="461160"/>
                </a:xfrm>
              </p:grpSpPr>
              <p:sp>
                <p:nvSpPr>
                  <p:cNvPr id="248" name="AutoShape 1164"/>
                  <p:cNvSpPr/>
                  <p:nvPr/>
                </p:nvSpPr>
                <p:spPr>
                  <a:xfrm rot="5400000">
                    <a:off x="6877440" y="1898280"/>
                    <a:ext cx="453600" cy="45396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0 h 453960"/>
                      <a:gd name="textAreaBottom" fmla="*/ 162720 h 453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165"/>
                  <p:cNvSpPr/>
                  <p:nvPr/>
                </p:nvSpPr>
                <p:spPr>
                  <a:xfrm flipH="1">
                    <a:off x="7329240" y="2126880"/>
                    <a:ext cx="225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AutoShape 1166"/>
                  <p:cNvSpPr/>
                  <p:nvPr/>
                </p:nvSpPr>
                <p:spPr>
                  <a:xfrm flipV="1" rot="5400000">
                    <a:off x="7539120" y="1891080"/>
                    <a:ext cx="453600" cy="453600"/>
                  </a:xfrm>
                  <a:custGeom>
                    <a:avLst/>
                    <a:gdLst>
                      <a:gd name="textAreaLeft" fmla="*/ 0 w 453600"/>
                      <a:gd name="textAreaRight" fmla="*/ 453960 w 453600"/>
                      <a:gd name="textAreaTop" fmla="*/ 360 h 453600"/>
                      <a:gd name="textAreaBottom" fmla="*/ 162720 h 453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5400" y="10800"/>
                        </a:moveTo>
                        <a:cubicBezTo>
                          <a:pt x="5400" y="7817"/>
                          <a:pt x="7817" y="5400"/>
                          <a:pt x="10800" y="5400"/>
                        </a:cubicBezTo>
                        <a:cubicBezTo>
                          <a:pt x="13782" y="5399"/>
                          <a:pt x="16199" y="7817"/>
                          <a:pt x="16200" y="10799"/>
                        </a:cubicBezTo>
                        <a:lnTo>
                          <a:pt x="21600" y="10800"/>
                        </a:lnTo>
                        <a:cubicBezTo>
                          <a:pt x="21600" y="4835"/>
                          <a:pt x="16764" y="0"/>
                          <a:pt x="10800" y="0"/>
                        </a:cubicBezTo>
                        <a:cubicBezTo>
                          <a:pt x="4835" y="0"/>
                          <a:pt x="0" y="4835"/>
                          <a:pt x="0" y="10800"/>
                        </a:cubicBez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1" name="Text Box 1256"/>
              <p:cNvSpPr/>
              <p:nvPr/>
            </p:nvSpPr>
            <p:spPr>
              <a:xfrm>
                <a:off x="6735960" y="3143520"/>
                <a:ext cx="137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g exces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notes in ser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um must not be hemolyzed or contamin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ts must be left 30min at room temperature before using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s (+ve,-ve) must be used regular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 expiration date of kits, diluents and reag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its even though are tested against HIV ,HBV must be considered biological haz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fore using any kit, read the instructions provided carefu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76212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gglut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8600" y="1184400"/>
            <a:ext cx="86104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finition : Ag Ab interaction where Ag is a particulate material ( cell, bacteria, carri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7"/>
          <p:cNvGrpSpPr/>
          <p:nvPr/>
        </p:nvGrpSpPr>
        <p:grpSpPr>
          <a:xfrm>
            <a:off x="223920" y="2143080"/>
            <a:ext cx="8610480" cy="4000680"/>
            <a:chOff x="223920" y="2143080"/>
            <a:chExt cx="8610480" cy="4000680"/>
          </a:xfrm>
        </p:grpSpPr>
        <p:grpSp>
          <p:nvGrpSpPr>
            <p:cNvPr id="46" name="Group 25"/>
            <p:cNvGrpSpPr/>
            <p:nvPr/>
          </p:nvGrpSpPr>
          <p:grpSpPr>
            <a:xfrm>
              <a:off x="2143080" y="3786120"/>
              <a:ext cx="5888160" cy="2357640"/>
              <a:chOff x="2143080" y="3786120"/>
              <a:chExt cx="5888160" cy="2357640"/>
            </a:xfrm>
          </p:grpSpPr>
          <p:sp>
            <p:nvSpPr>
              <p:cNvPr id="47" name="Rectangle 24"/>
              <p:cNvSpPr/>
              <p:nvPr/>
            </p:nvSpPr>
            <p:spPr>
              <a:xfrm>
                <a:off x="2143080" y="3786120"/>
                <a:ext cx="5888160" cy="2357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" name="Group 23"/>
              <p:cNvGrpSpPr/>
              <p:nvPr/>
            </p:nvGrpSpPr>
            <p:grpSpPr>
              <a:xfrm>
                <a:off x="2357280" y="4357800"/>
                <a:ext cx="4721760" cy="1533240"/>
                <a:chOff x="2357280" y="4357800"/>
                <a:chExt cx="4721760" cy="1533240"/>
              </a:xfrm>
            </p:grpSpPr>
            <p:sp>
              <p:nvSpPr>
                <p:cNvPr id="49" name="WordArt 4"/>
                <p:cNvSpPr txBox="1"/>
                <p:nvPr/>
              </p:nvSpPr>
              <p:spPr>
                <a:xfrm>
                  <a:off x="5572080" y="5319720"/>
                  <a:ext cx="730440" cy="5713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56"/>
                    </a:avLst>
                  </a:prstTxWarp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cc99"/>
                      </a:solidFill>
                      <a:latin typeface="Arial Black"/>
                    </a:rPr>
                    <a:t>Y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99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50" name="WordArt 9"/>
                <p:cNvSpPr txBox="1"/>
                <p:nvPr/>
              </p:nvSpPr>
              <p:spPr>
                <a:xfrm rot="16984200">
                  <a:off x="6187680" y="4362480"/>
                  <a:ext cx="730080" cy="5713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56"/>
                    </a:avLst>
                  </a:prstTxWarp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cc99"/>
                      </a:solidFill>
                      <a:latin typeface="Arial Black"/>
                    </a:rPr>
                    <a:t>Y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99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51" name="Oval 5"/>
                <p:cNvSpPr/>
                <p:nvPr/>
              </p:nvSpPr>
              <p:spPr>
                <a:xfrm>
                  <a:off x="5403960" y="4968720"/>
                  <a:ext cx="426960" cy="4269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Oval 8"/>
                <p:cNvSpPr/>
                <p:nvPr/>
              </p:nvSpPr>
              <p:spPr>
                <a:xfrm>
                  <a:off x="6059520" y="4965480"/>
                  <a:ext cx="428760" cy="4269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Oval 10"/>
                <p:cNvSpPr/>
                <p:nvPr/>
              </p:nvSpPr>
              <p:spPr>
                <a:xfrm>
                  <a:off x="6000840" y="4429080"/>
                  <a:ext cx="426960" cy="4269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WordArt 12"/>
                <p:cNvSpPr txBox="1"/>
                <p:nvPr/>
              </p:nvSpPr>
              <p:spPr>
                <a:xfrm>
                  <a:off x="2357280" y="5143320"/>
                  <a:ext cx="730440" cy="571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56"/>
                    </a:avLst>
                  </a:prstTxWarp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ffcc99"/>
                      </a:solidFill>
                      <a:latin typeface="Arial Black"/>
                    </a:rPr>
                    <a:t>Y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c99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55" name="Oval 13"/>
                <p:cNvSpPr/>
                <p:nvPr/>
              </p:nvSpPr>
              <p:spPr>
                <a:xfrm>
                  <a:off x="3726000" y="5200560"/>
                  <a:ext cx="426960" cy="426960"/>
                </a:xfrm>
                <a:prstGeom prst="ellips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Text Box 14"/>
                <p:cNvSpPr/>
                <p:nvPr/>
              </p:nvSpPr>
              <p:spPr>
                <a:xfrm>
                  <a:off x="2980800" y="510516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ext Box 15"/>
                <p:cNvSpPr/>
                <p:nvPr/>
              </p:nvSpPr>
              <p:spPr>
                <a:xfrm>
                  <a:off x="4649040" y="5119560"/>
                  <a:ext cx="409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↔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" name="Rectangle 26"/>
            <p:cNvSpPr/>
            <p:nvPr/>
          </p:nvSpPr>
          <p:spPr>
            <a:xfrm>
              <a:off x="223920" y="2143080"/>
              <a:ext cx="86104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Agglutination test: Qualitative/ Quantitative(Ab titer)  agglutination te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It is used to determine either Ag or Ab in patient samp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17"/>
          <p:cNvSpPr/>
          <p:nvPr/>
        </p:nvSpPr>
        <p:spPr>
          <a:xfrm>
            <a:off x="2428920" y="3857760"/>
            <a:ext cx="10713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 Ag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3500280" y="5715000"/>
            <a:ext cx="914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lf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5357880" y="4429080"/>
            <a:ext cx="426960" cy="426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9"/>
          <p:cNvSpPr txBox="1"/>
          <p:nvPr/>
        </p:nvSpPr>
        <p:spPr>
          <a:xfrm rot="5613600">
            <a:off x="4768920" y="4699440"/>
            <a:ext cx="730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Arial Black"/>
              </a:rPr>
              <a:t>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Arial Black"/>
              <a:ea typeface="Arial Black"/>
            </a:endParaRPr>
          </a:p>
        </p:txBody>
      </p:sp>
      <p:sp>
        <p:nvSpPr>
          <p:cNvPr id="63" name="WordArt 9"/>
          <p:cNvSpPr txBox="1"/>
          <p:nvPr/>
        </p:nvSpPr>
        <p:spPr>
          <a:xfrm rot="204000">
            <a:off x="4715640" y="3306600"/>
            <a:ext cx="730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latin typeface="Arial Black"/>
              </a:rPr>
              <a:t>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99"/>
              </a:solidFill>
              <a:latin typeface="Arial Black"/>
              <a:ea typeface="Arial Black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6643800" y="5357880"/>
            <a:ext cx="92844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oss l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eece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user\My Documents\My Pictures\agg reaction.jpg"/>
          <p:cNvPicPr/>
          <p:nvPr/>
        </p:nvPicPr>
        <p:blipFill>
          <a:blip r:embed="rId1"/>
          <a:stretch/>
        </p:blipFill>
        <p:spPr>
          <a:xfrm>
            <a:off x="2143080" y="2486160"/>
            <a:ext cx="4857840" cy="3771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luti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cross linkin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 Ti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: No of Ab units per unit volume of se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ion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serial doubling di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ighest dilution(last tube or well) that gives agglutination is end 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 titer is the reciprocal of end poi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ucella Agglut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ease called Brucellosis ,Malta fe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ative agents: Brucella abortus, Br. melitensis ,and other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is test need to determine the amount of Ab to Brucella Ag  in patient samp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g : Brucella abortus 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luent : 0.5% phenol sa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le of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 content of patient’s serum is measured by adding a constant amount of Brucella abortus colored Ag to serially diluted seru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Ab titers above 80 units are considered clinically signific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d be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Quantitati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Qualita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rocedure(Quantitativ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 100 ul of  diluent in wells 1-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 60ul of diluent in well 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 40 ul of serum in well 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nge the tip , mix and transfer 100ul from well 1 to well 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peat the previous step till well 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card 100ulfrom well 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liver 25ul of Br. Abortus Ag to all we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ver and incubate the plate at 37 c O.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dure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41440" y="2357280"/>
          <a:ext cx="7959600" cy="3292560"/>
        </p:xfrm>
        <a:graphic>
          <a:graphicData uri="http://schemas.openxmlformats.org/drawingml/2006/table">
            <a:tbl>
              <a:tblPr/>
              <a:tblGrid>
                <a:gridCol w="1006200"/>
                <a:gridCol w="871560"/>
                <a:gridCol w="600120"/>
                <a:gridCol w="509760"/>
                <a:gridCol w="627120"/>
                <a:gridCol w="511200"/>
                <a:gridCol w="603000"/>
                <a:gridCol w="604800"/>
                <a:gridCol w="676440"/>
                <a:gridCol w="612720"/>
                <a:gridCol w="520560"/>
                <a:gridCol w="816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lu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lu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um 40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ucella 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77" name="Straight Arrow Connector 9"/>
          <p:cNvCxnSpPr/>
          <p:nvPr/>
        </p:nvCxnSpPr>
        <p:spPr>
          <a:xfrm>
            <a:off x="2214360" y="2642760"/>
            <a:ext cx="5072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Curved Connector 14"/>
          <p:cNvCxnSpPr/>
          <p:nvPr/>
        </p:nvCxnSpPr>
        <p:spPr>
          <a:xfrm flipV="1">
            <a:off x="2286000" y="3428280"/>
            <a:ext cx="357840" cy="143640"/>
          </a:xfrm>
          <a:prstGeom prst="curvedConnector5">
            <a:avLst>
              <a:gd name="adj1" fmla="val 49949"/>
              <a:gd name="adj2" fmla="val 50000"/>
              <a:gd name="adj3" fmla="val 49949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Curved Connector 17"/>
          <p:cNvCxnSpPr/>
          <p:nvPr/>
        </p:nvCxnSpPr>
        <p:spPr>
          <a:xfrm flipV="1">
            <a:off x="2999880" y="3428280"/>
            <a:ext cx="42948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25"/>
          <p:cNvCxnSpPr/>
          <p:nvPr/>
        </p:nvCxnSpPr>
        <p:spPr>
          <a:xfrm flipV="1">
            <a:off x="6286680" y="3214080"/>
            <a:ext cx="42912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Curved Connector 28"/>
          <p:cNvCxnSpPr/>
          <p:nvPr/>
        </p:nvCxnSpPr>
        <p:spPr>
          <a:xfrm flipV="1">
            <a:off x="1500120" y="3428280"/>
            <a:ext cx="357840" cy="143640"/>
          </a:xfrm>
          <a:prstGeom prst="curvedConnector5">
            <a:avLst>
              <a:gd name="adj1" fmla="val 49949"/>
              <a:gd name="adj2" fmla="val 50000"/>
              <a:gd name="adj3" fmla="val 49949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Curved Connector 30"/>
          <p:cNvCxnSpPr/>
          <p:nvPr/>
        </p:nvCxnSpPr>
        <p:spPr>
          <a:xfrm flipV="1">
            <a:off x="3499920" y="3428280"/>
            <a:ext cx="42948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Straight Arrow Connector 34"/>
          <p:cNvCxnSpPr/>
          <p:nvPr/>
        </p:nvCxnSpPr>
        <p:spPr>
          <a:xfrm>
            <a:off x="1285560" y="4071960"/>
            <a:ext cx="5715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Rectangle 40"/>
          <p:cNvSpPr/>
          <p:nvPr/>
        </p:nvSpPr>
        <p:spPr>
          <a:xfrm>
            <a:off x="500040" y="1643040"/>
            <a:ext cx="800100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Curved Connector 20"/>
          <p:cNvCxnSpPr/>
          <p:nvPr/>
        </p:nvCxnSpPr>
        <p:spPr>
          <a:xfrm flipV="1">
            <a:off x="4071600" y="3428280"/>
            <a:ext cx="42948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Curved Connector 22"/>
          <p:cNvCxnSpPr/>
          <p:nvPr/>
        </p:nvCxnSpPr>
        <p:spPr>
          <a:xfrm flipV="1">
            <a:off x="4571640" y="3428280"/>
            <a:ext cx="42948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Curved Connector 23"/>
          <p:cNvCxnSpPr/>
          <p:nvPr/>
        </p:nvCxnSpPr>
        <p:spPr>
          <a:xfrm flipV="1">
            <a:off x="5285880" y="3428280"/>
            <a:ext cx="429480" cy="1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ding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ve result= Agglutination( membrane or film or Sheath appearanc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ve result=no Agglutination( button form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an 3"/>
          <p:cNvSpPr/>
          <p:nvPr/>
        </p:nvSpPr>
        <p:spPr>
          <a:xfrm>
            <a:off x="2428920" y="3929040"/>
            <a:ext cx="642960" cy="1571760"/>
          </a:xfrm>
          <a:prstGeom prst="can">
            <a:avLst>
              <a:gd name="adj" fmla="val 1022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n 4"/>
          <p:cNvSpPr/>
          <p:nvPr/>
        </p:nvSpPr>
        <p:spPr>
          <a:xfrm>
            <a:off x="5143680" y="4000680"/>
            <a:ext cx="642600" cy="1571400"/>
          </a:xfrm>
          <a:prstGeom prst="can">
            <a:avLst>
              <a:gd name="adj" fmla="val 10226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lowchart: Connector 5"/>
          <p:cNvSpPr/>
          <p:nvPr/>
        </p:nvSpPr>
        <p:spPr>
          <a:xfrm flipV="1">
            <a:off x="2428920" y="5286240"/>
            <a:ext cx="642960" cy="21456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c 6"/>
          <p:cNvSpPr/>
          <p:nvPr/>
        </p:nvSpPr>
        <p:spPr>
          <a:xfrm rot="9425400">
            <a:off x="2394000" y="4463640"/>
            <a:ext cx="1141200" cy="417600"/>
          </a:xfrm>
          <a:custGeom>
            <a:avLst/>
            <a:gdLst>
              <a:gd name="textAreaLeft" fmla="*/ 570600 w 1141200"/>
              <a:gd name="textAreaRight" fmla="*/ 1141560 w 1141200"/>
              <a:gd name="textAreaTop" fmla="*/ 0 h 417600"/>
              <a:gd name="textAreaBottom" fmla="*/ 208800 h 417600"/>
            </a:gdLst>
            <a:ahLst/>
            <a:rect l="textAreaLeft" t="textAreaTop" r="textAreaRight" b="textAreaBottom"/>
            <a:pathLst>
              <a:path stroke="0" w="1141413" h="417513">
                <a:moveTo>
                  <a:pt x="570707" y="0"/>
                </a:moveTo>
                <a:lnTo>
                  <a:pt x="570707" y="0"/>
                </a:lnTo>
                <a:arcTo wR="570707" hR="208757" stAng="-5400000" swAng="5400006"/>
                <a:lnTo>
                  <a:pt x="570707" y="208757"/>
                </a:lnTo>
                <a:close/>
              </a:path>
              <a:path fill="none" w="1141413" h="417513">
                <a:moveTo>
                  <a:pt x="570707" y="0"/>
                </a:moveTo>
                <a:lnTo>
                  <a:pt x="570707" y="0"/>
                </a:lnTo>
                <a:arcTo wR="570707" hR="208757" stAng="-5400000" swAng="540000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rc 7"/>
          <p:cNvSpPr/>
          <p:nvPr/>
        </p:nvSpPr>
        <p:spPr>
          <a:xfrm rot="9425400">
            <a:off x="5118840" y="4478040"/>
            <a:ext cx="1119240" cy="473040"/>
          </a:xfrm>
          <a:custGeom>
            <a:avLst/>
            <a:gdLst>
              <a:gd name="textAreaLeft" fmla="*/ 559800 w 1119240"/>
              <a:gd name="textAreaRight" fmla="*/ 1119600 w 1119240"/>
              <a:gd name="textAreaTop" fmla="*/ 0 h 473040"/>
              <a:gd name="textAreaBottom" fmla="*/ 236520 h 473040"/>
            </a:gdLst>
            <a:ahLst/>
            <a:rect l="textAreaLeft" t="textAreaTop" r="textAreaRight" b="textAreaBottom"/>
            <a:pathLst>
              <a:path stroke="0" w="1119187" h="473075">
                <a:moveTo>
                  <a:pt x="559594" y="0"/>
                </a:moveTo>
                <a:lnTo>
                  <a:pt x="559594" y="0"/>
                </a:lnTo>
                <a:arcTo wR="559594" hR="236538" stAng="-5400000" swAng="5400006"/>
                <a:lnTo>
                  <a:pt x="559594" y="236538"/>
                </a:lnTo>
                <a:close/>
              </a:path>
              <a:path fill="none" w="1119187" h="473075">
                <a:moveTo>
                  <a:pt x="559594" y="0"/>
                </a:moveTo>
                <a:lnTo>
                  <a:pt x="559594" y="0"/>
                </a:lnTo>
                <a:arcTo wR="559594" hR="236538" stAng="-5400000" swAng="5400006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owchart: Connector 8"/>
          <p:cNvSpPr/>
          <p:nvPr/>
        </p:nvSpPr>
        <p:spPr>
          <a:xfrm>
            <a:off x="5429160" y="5500800"/>
            <a:ext cx="71640" cy="4608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785880" y="4643280"/>
            <a:ext cx="107136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 A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0"/>
          <p:cNvSpPr/>
          <p:nvPr/>
        </p:nvSpPr>
        <p:spPr>
          <a:xfrm>
            <a:off x="6357960" y="4714920"/>
            <a:ext cx="1500120" cy="78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 A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5:14:01Z</dcterms:created>
  <dc:creator>ksu</dc:creator>
  <dc:description/>
  <dc:language>en-US</dc:language>
  <cp:lastModifiedBy>Esraa</cp:lastModifiedBy>
  <dcterms:modified xsi:type="dcterms:W3CDTF">2012-03-20T08:31:39Z</dcterms:modified>
  <cp:revision>29</cp:revision>
  <dc:subject/>
  <dc:title>Agglutination</dc:title>
</cp:coreProperties>
</file>