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9E0-488C-454F-9E70-C2AD6024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9EE-6E79-4EE4-8134-094E3EE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85F-999A-4012-BB0A-4481AFA7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588-165E-4824-A73C-EB0020D2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12F-0F23-48C4-8B60-5D34528A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2547-5D41-430E-9AA3-D1238C9D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C8C2-5897-48DE-A1FD-E96F7809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FF4-99FA-4E71-BF2E-BF30B20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7FE-F5E9-4902-A5C0-8D304A18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4CB4-C0FF-4B21-8D39-964F7833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093-C95A-4C15-BB47-DF54086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78A-8CE0-48D0-9790-26D15E59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4DC3-961E-40F7-8920-38E5C6C7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21FB-C042-4B1D-B865-B2A7AFA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FFED-1BBD-4D2E-AC67-CE915B24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1733-34B4-4859-B755-7A1B47FF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9347-F2BF-49F2-9723-BED7E767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6D7-5B93-41A1-964D-CDE03536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312-A924-49C2-9090-DA96C78D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E45-F3BC-4EB3-8287-3CD7209F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22E-26A6-4A4B-AD06-B4BA0C9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F08-60D2-4152-8F95-D6E274A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17B-DDA8-442E-B168-52DFFB19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745-290C-45AF-9031-FF33AACD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B5DA-D9D7-40C4-9902-6E5C13BF1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273-5DC8-4250-BD57-65F0628F0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nalysis of fruit juices_2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etermination of saccharin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bjective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termine the amount of saccharine which may be added to fruit ju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troduction &amp; princ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charin (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o-benzoic acid sulpham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MW=183.1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s weakly acidic &amp; is artificial sweating agent and can be used a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revativ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It has the following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68360" y="1765440"/>
            <a:ext cx="43196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_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used as a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sucrose substitu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  of its sweetness &amp; may be present in fruit juices as an adultera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_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neutral PH, saccharin is neutral &amp; quite soluble in diethyl ether. The method used here for its determination involves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to diethyl ether, followed by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itr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0.05M NaO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using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Bromothymol bl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indic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ter is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cid solution &amp;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lkaline sol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Method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50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sample three times with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12.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l diethyl ether in a separatory fu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the lower layer &amp; label it as (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ashing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separatory funnel wash the diethyl ether extract with thre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.5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rtions of distille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the lower layer &amp; label it as (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ashing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, &amp; transfer the upper layer to a beaker &amp; will be your main extr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ke the combined washing with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5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ethyl ether &amp; the upper layer to your main extr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porate the ether on warm water bath, dissolve the residue i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5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cetone &amp; evaporate to dryness, ad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4m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 H2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trate with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0.05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aOH using Bromothymol blue indic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 the saccharine pres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l of NaOH 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0.00916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ccharine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t of saccharine (g)= ml * 0.009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saccharine= wt of saccharine/ wt of sample *1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Normal range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etermination of ethanol in soft drin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termine the presence of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Introduction &amp; princ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ft drink are commonly available in markets, these drinks must be completely free from any amount of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ethanol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presence of ethanol </a:t>
            </a:r>
            <a:r>
              <a:rPr b="1" lang="en-US" sz="2400" spc="-1" strike="noStrike">
                <a:solidFill>
                  <a:srgbClr val="00ccff"/>
                </a:solidFill>
                <a:latin typeface="Tahoma"/>
              </a:rPr>
              <a:t>low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pecific grav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water is added to the sample, mixed &amp; distilled, water evaporates together with the volatile materials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thanol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 the determination of specific gravity of the distillate can detect the presence of ethanol especially if it i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n 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Meth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t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100m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sample &amp; add to it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 distille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il &amp; collect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100m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 the specific gravity of the solution using S.G bot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cohol  is present if the S.G was lower than 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9:08:05Z</dcterms:created>
  <dc:creator>USER 1</dc:creator>
  <dc:description/>
  <dc:language>en-US</dc:language>
  <cp:lastModifiedBy>USER 1</cp:lastModifiedBy>
  <dcterms:modified xsi:type="dcterms:W3CDTF">2009-04-04T09:29:37Z</dcterms:modified>
  <cp:revision>4</cp:revision>
  <dc:subject/>
  <dc:title>Analysis of fruit juices_2 </dc:title>
</cp:coreProperties>
</file>