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90F-8A24-46C8-BBBD-67B0B0BD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ADE-7989-4C8A-BCBE-EEF8C58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D84-84C7-4F9B-BF1E-6BB38B95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B39-ABF9-4E06-BC80-B2C6F72A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D3E2-5A0C-45B0-A285-F35357B2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2051-7CBF-44ED-BFC6-CEECFFF8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A788-9F6B-4394-90FC-16A72847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FF58-D1CE-4435-A9AC-3E2D980E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150E-31D2-43AC-B464-E8E08A46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36DA-C39E-4B28-851A-E7F3856E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8813-A740-4CD1-911C-B0CD57EB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F71-39D9-41AA-B039-8C7D73F4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15CC-9810-4E1D-8F2B-9A9C7138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80CF-B1B5-4DF0-A853-ECB180FF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1801-FF23-48CE-938B-9FC4AA36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5043-5F49-40AA-9626-D7846B61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D630-7743-4937-BEC8-58A51F48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570-BFB0-4B2B-B13A-EDB97404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7CB-E0F6-4AE8-B2DC-710C3D29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773-D945-4FD5-9D45-B2092902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954-9CC2-4A18-A7E1-BF9B7DC2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8CA-A342-4D67-8B89-4A6757F7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4A9-9AC0-4245-975E-4D4877F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7F9-3008-4BA4-8A8A-2189DA9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70D9-340F-46B1-9E14-BB26B66D2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490A-AF52-433E-8B62-B7CB274DF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nalysis of fruit juices_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etermination of saccharin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bjective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etermine the amount of saccharine which may be added to fruit ju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troduction &amp; princ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charin (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o-benzoic acid sulpham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MW=183.1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s weakly acidic &amp; is artificial sweating agent and can be used a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erevativ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It has the following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68360" y="1765440"/>
            <a:ext cx="43196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_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used as a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sucrose substitu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  of its sweetness &amp; may be present in fruit juices as an adultera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_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neutral PH, saccharin is neutral &amp; quite soluble in diethyl ether. The method used here for its determination involves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t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to diethyl ether, followed by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itr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0.05M NaO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using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Bromothymol bl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indic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tter is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yel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acid solution &amp;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alkaline sol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Method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ct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50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sample three times with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12.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l diethyl ether in a separatory fu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the lower layer &amp; label it as (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ashing 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separatory funnel wash the diethyl ether extract with three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.5m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ortions of distille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the lower layer &amp; label it as (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ashing 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, &amp; transfer the upper layer to a beaker &amp; will be your main extr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ke the combined washing with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5m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ethyl ether &amp; the upper layer to your main extr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porate the ether on warm water bath, dissolve the residue i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5m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cetone &amp; evaporate to dryness, ad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4m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 H2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trate with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0.05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aOH using Bromothymol blue indic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 the saccharine pres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l of NaOH 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=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0.00916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accharin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t of saccharine (g)= ml * 0.009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%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saccharine= wt of saccharine/ wt of sample *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Normal range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etermination of ethanol in soft drin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determine the presence of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Introduction &amp; princ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ft drink are commonly available in markets, these drinks must be completely free from any amount of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ethanol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presence of ethanol </a:t>
            </a: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low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pecific grav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water is added to the sample, mixed &amp; distilled, water evaporates together with the volatile materials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thanol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 the determination of specific gravity of the distillate can detect the presence of ethanol especially if it i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an 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Metho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t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100m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sample &amp; add to it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 distille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il &amp; collect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100m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 the specific gravity of the solution using S.G bo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cohol  is present if the S.G was lower than 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9:08:05Z</dcterms:created>
  <dc:creator>USER 1</dc:creator>
  <dc:description/>
  <dc:language>en-US</dc:language>
  <cp:lastModifiedBy>USER 1</cp:lastModifiedBy>
  <dcterms:modified xsi:type="dcterms:W3CDTF">2009-04-04T09:29:37Z</dcterms:modified>
  <cp:revision>4</cp:revision>
  <dc:subject/>
  <dc:title>Analysis of fruit juices_2 </dc:title>
</cp:coreProperties>
</file>