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141A-1234-456A-A9F7-BF9F0E6A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0853-ACA8-4EBE-9CDA-8FD09FE6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2891-1B3C-4588-A78B-F68AE49D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18B-D552-4338-8A4B-0C63436B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63ED-05D3-4F97-93B1-0BD7130D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A6BB-B851-4B34-889E-BAD3FD39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9F88-A684-421E-8668-11276033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8CB8-227B-429E-982F-B22E10D9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B5D4-896A-41A4-B7F8-70F77F1A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FE3C-54B4-4067-8D9E-970F3F9E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D1DF-C224-4970-B784-AF2B789D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71A5-3EAF-4B4C-95AD-36716C8A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EFB7-5E06-42B3-94CD-808A977E4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breastfeeding.com/art_gallery/art_images/album_georgina1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An Introduction to the Human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nat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cience of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lationships revealed by dissection (cutting apa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maging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hys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cience of body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rmal adult physiology is studied in this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ome genetic variations occ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001000" y="304920"/>
            <a:ext cx="835200" cy="119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asic Life Proc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5333760" cy="48765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Increase in number of cells, size of cells, tissues, organs, and the body.  Single cell to multicellular complex org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Differ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Process a cell undergoes to develop from a unspecialized to a specialized 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Re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ormation of new cells for growth, repair, or replacement, or the production of a new individu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817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14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asic Life Proc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724640" cy="44960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Homeost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quilibrium of the body’s internal environment produced by the interaction of organ systems and regulatory processes (feedback system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Homeostasis is a dynamic condition in response to changing condi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The two body systems that largely control the body’s homeostatic st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1.  Nervous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2.  Endocrine 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327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Control of Homeost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Homeostasis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is continually being disrup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xternal stimu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ntense heat, cold , and lack of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nternal stimu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sychological st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isruptions are usually mild &amp; tempo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f homeostasis is not maintained, death may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CONTROL OF HOMEOST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Homeostatic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imbalances occur because of disruptions from the external or internal environ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Homeostasis is regulated by the nervous system and endocrine system, acting together or independ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nervous system detects changes and sends nerve impulses to counteract the disru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endocrine system regulates homeostasis by secreting horm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hereas nerve impulses cause rapid changes, hormones usually work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xamples:  CO2, O2, temperature, pH, blood pressure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Example of Homeostasis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Fluid balance in the Bo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3124440" cy="4114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ompartments for Body Flu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Intracell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Extracell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a. Intersti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b. 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5105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Components of Feedback 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05320" y="1447920"/>
            <a:ext cx="548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Receptor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onitors a controlled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ntrol center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etermines next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ff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ceives directions from the control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roduces a response that changes the controlled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85720" y="1066680"/>
            <a:ext cx="2919600" cy="545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4572000" cy="21333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asic Components of a Negative Feedback Syste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562720" y="0"/>
            <a:ext cx="3581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3429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8600" y="274320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4572000" cy="17524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Basic Components of a Positive Feedback System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562720" y="228600"/>
            <a:ext cx="3276360" cy="6400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505320"/>
            <a:ext cx="2211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Homeostatic Imbal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isruption of homeostasis can lead to disease and d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Disorder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is a general term for any change or abnormality of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Disease</a:t>
            </a: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s a more specific term for an illness characterized by a recognizable set of signs and sympto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 local disease is one that affects one part or a limited region of the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 systemic disease affects either the entire body or several pa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Homeostatic Imbal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Disease</a:t>
            </a: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s a more specific term for an illness characterized by a recognizable set of signs and sympto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igns are objective changes that a clinician can observe and measure; e.g., fever or ra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ymptoms are subjective changes in body functions that are not apparent to an observer; e.g., headache or naus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Diagnosis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is the art of distinguishing one disease from another or determining the nature of a disease; a diagnosis is generally arrived at after the taking of a medical history and the administration of a physical examin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ANATOMY AND PHYSIOLOGY DEF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Anatomy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study of structure and the relationships among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ubdivis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urface anatomy, gross anatomy, systemic anatomy, regional anatomy, radiographic anatomy, developmental anatomy, embryology, cytology, and pathological anatom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Anatomical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95120" y="1523880"/>
            <a:ext cx="599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anatomical position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is a standardized method of observing or imaging the body that allows precise and consistent anatomical refer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hen in the anatomical position, the subject stands (Figure 1.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tanding up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facing the observer, head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yes facing 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feet  flat on the fl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arms at the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palms turned forward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vent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7792" t="0" r="56464" b="18921"/>
          <a:stretch/>
        </p:blipFill>
        <p:spPr>
          <a:xfrm>
            <a:off x="0" y="0"/>
            <a:ext cx="22780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3276360" cy="30481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asic Anatomical Termin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49910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3276360" cy="30481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asic Anatomical Termin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19720" y="228600"/>
            <a:ext cx="44193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Reclining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f the body is lying face down, it is in the </a:t>
            </a: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prone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f the body is lying face up, it is in the </a:t>
            </a: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supine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3124080" cy="25146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asic body planes or s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76840" y="228600"/>
            <a:ext cx="4962240" cy="6400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920" y="3657600"/>
            <a:ext cx="3276360" cy="15570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hese terms are used for planes or sections that cut the body, organs, tissues, or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077320" cy="13716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Example of how planes 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would cut the b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12772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3048120" cy="38098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Two Principal Body Cavities and their Subdivi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1295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Directional Terms Used to Describe the Position of one Structure to 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3962160" cy="48006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uperior/Inf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(Cephalic/Caud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Anterior/Post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(Ventral/Dors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Medial/Lat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Intermediate: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Betw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Ipsilateral/Contralat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Proximal/Dis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uperficial/D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19720" y="1828800"/>
            <a:ext cx="4495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295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Methods of dividing the Abdominopelvic ca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29200" y="1790640"/>
            <a:ext cx="3753000" cy="5067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4143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ANATOMY AND PHYSIOLOGY DEF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Phys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study of how body structures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ubdivisions of physiology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ell physiology, systems physiology, pathophysiology, exercise physiology, neurophysiology, endocrinology, cardiovascular physiology, immunophysiology,  respiratory physiology, renal physiology, and reproductive physi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685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Structural Organization of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3962520" cy="5257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hemic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a. 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(Proton, Neutron, electr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b.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(Two or more atoms joined together by either covalent or ionic bo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Four biologically important organic molecules in the human 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a.   Proteins which are made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from 20 different Amino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267080" y="1143000"/>
            <a:ext cx="4876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685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Structural Organization of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3962520" cy="51055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Four Biologically-Important Organic molecu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b.   Complex Carbohyd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made from simple sug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c.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Nucleic Acids made for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nucleot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d.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Lipids made from fatty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acids and glycer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2. 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(Smallest  structural and functional units of the human 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67080" y="1143000"/>
            <a:ext cx="4876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685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Structural Organization of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3962520" cy="4724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(group of  cells and the materials surrounding them that work together to perform a particular fun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(composed of two or more tissues work together to provide specific functions and they usually have specific shap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267080" y="1143000"/>
            <a:ext cx="4876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685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Structural Organization of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3962520" cy="4724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Orga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(consist of one or more organs that provide a common function)  Examples covered in Anatomy &amp; Physiology 24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a.  Integumentary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b.  Skeleta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c.  Muscular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d.  Nervous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67080" y="1143000"/>
            <a:ext cx="4876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685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Structural Organization of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3962520" cy="4724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Anatomy &amp; Physiology 243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e.  Endocrin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f.  Cardiovascular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g.  Lymphatic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h.  Respiratory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I.  Digestiv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j.  Urinary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k. Reproductiv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267080" y="1143000"/>
            <a:ext cx="4876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asic Life Proc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4190760" cy="44193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Metabo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Sum of all biochemical processes of cells, tissues, organs, and orga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Responsiv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Ability to detect and respond to changes in the internal and external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M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Occurs at the intracellular, cellular, organ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80988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1T22:41:41Z</dcterms:created>
  <dc:creator>Gary Blevins</dc:creator>
  <dc:description/>
  <dc:language>en-US</dc:language>
  <cp:lastModifiedBy>Gary H Blevins</cp:lastModifiedBy>
  <dcterms:modified xsi:type="dcterms:W3CDTF">2006-01-06T22:23:10Z</dcterms:modified>
  <cp:revision>12</cp:revision>
  <dc:subject/>
  <dc:title>PowerPoint Presentation</dc:title>
</cp:coreProperties>
</file>