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003-3179-4224-ACAC-177FEB47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C45-9619-4D48-9CC1-037519ED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8A2-7677-4FD0-B19B-58102C84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711-6E39-43C9-AE25-706BD4BC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E400-7FEA-4475-AA3D-9961452C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D162-34A0-4B35-B2BB-2D2DF6ED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F259-0DA2-4ADB-858B-E15B7FF7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DBAC-AEAB-42B0-B1D3-4FFEE8B0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BD6B-C0FB-417F-A643-3A482143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F6DB-2CDA-44E9-A32E-324F43BE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94EC-2570-443D-ADC6-07E438C9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F15-88A1-49B2-AE24-A6367025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87ED-FA35-46FA-8D0F-D51FE976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A6AB-E58C-48E2-BE00-AB3DA91C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4FE0-985F-4188-9CA6-43B1BB5D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41D5-B534-4214-B6DB-3754CF6B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718A-7F87-433E-AE8A-BAB02D5C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4F962-F7CD-4C84-810C-13FCB2C9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A3C12-FE34-4F25-88F1-BB91761F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DFDDC-4021-4148-8A58-85D29913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21F71-3B41-42D9-9146-91DAA4F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377B5-3183-4D02-AF79-0E830EF4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40F-8178-436C-AEA5-FB820E3C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155CF-2759-4141-B6A6-ADF5F77F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181F0-1CCA-42F4-8A4F-248DFAFC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6D196-D34D-4CFB-AE89-DE885BC6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47E50-20CC-40A0-A996-15C9E506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70CC9-AACF-408F-8E3F-71AD7854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14A69-8D5D-41A2-88CE-B2D9C600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DA0A4-1446-40B2-A1E9-9842B605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B1E4D-B9E5-4B1F-AB5F-039CA4A4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FAA2-E968-46A1-8498-90B9D5F7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8EA6A-B1B2-497E-9A73-BCB77267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E8C-47CF-446E-8F65-4B9584D5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0737-108C-4703-9EDA-E27622BD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9423-7235-41CD-8DC0-B726E54E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B3183-EFA1-4404-BD4E-2D7FDD69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F84E-946A-4AB5-A3C5-A095A958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EF98-2548-4EDC-96E9-D4EDEF4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CECB-ACB5-4209-BAEE-6F46A44F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AAFF-96E2-4DEB-8FFE-BBDDFF74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B50D0-7A7F-4E88-A029-80A89A16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BAABD-802C-4D79-AA6C-AAAE4CBB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9D0-62D2-43CD-94C6-A9F03572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12D-96D7-4DCD-AFF7-080B7AB4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CF8-CEBC-4296-8E9C-A57C27B3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A5E-AFA2-46A4-B233-6E694F6B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365-1E27-4A0E-93FB-DD87F930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B30D-3F05-4041-81C3-7954EDA2107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200A-4E27-4D39-BBDD-0FA2ACC0293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9D69-CB26-40A9-8A4D-4462766C0A8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86CC-FDE8-45D7-A29D-14E10F445EF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corbic Acid Saturation Tes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&amp;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Determination of Ascorbic Acid Content of Some Fruit Juices.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456"/>
                </a:solidFill>
                <a:latin typeface="Georgia"/>
              </a:rPr>
              <a:t>376 BC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456"/>
                </a:solidFill>
                <a:latin typeface="Georgia"/>
              </a:rPr>
              <a:t>Miss Tahani Al-shehri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3" descr="Lemon.jpg"/>
          <p:cNvPicPr/>
          <p:nvPr/>
        </p:nvPicPr>
        <p:blipFill>
          <a:blip r:embed="rId1"/>
          <a:stretch/>
        </p:blipFill>
        <p:spPr>
          <a:xfrm>
            <a:off x="6400800" y="480060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te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stimation of urinary ascorbic acid when the specimen arrives in the laboratory must carried out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mmediately  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corbic acid is unstable in urine and a special bottle containing 20 ml of glacial acetic acid 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must be used for the urine collection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Glacial acetic acid is corrosive and any spilt on the skin should immediately be washed off with a large volume of water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THOD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sure the volume of the urin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pette 5 ml of urine into a 100 ml volumetric flask and make up to the mark with 5% acetic aci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pette 5 ml of DCPIP dye solution into a conical flas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trate with standard ascorbic acid solution (0.02 mg</a:t>
            </a:r>
            <a:r>
              <a:rPr b="0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ml) until the solution just becomes colourle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THOD 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t.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98680" indent="-4935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how many milligrams of ascorbic acid are equivalent to 5 ml of the dye solu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98680" indent="-4935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pette 5 ml of dye into a conical flas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98680" indent="-4935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trate with the dilute urine sample. The titration must be done very rapidly, otherwise slow-reacting reducing substances present in the urine will contribute to the reduction of the dy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98680" indent="-4935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peat the titrate and take the averag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THOD 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t.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how much ascorbic acid present in sample urine dilute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 milligrams of ascorbic acid in total urine collected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sult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olume of urine =……………………………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g of ascorbic acid equivalent to 5 ml of the dye solution =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onc. Of ascorbic acid present in sample  urine diluted =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g of ascorbic acid in total urine collected =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OBJECTIVES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measure the concentration of ascorbic acid urine sample  after administration of a dose of ascorbic acid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troduction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tamin C is a water-soluble vitamin that is necessary for normal growth and develop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er-soluble vitamins dissolve in water. The body cannot store them. Leftover amounts of the vitamin leave the body through the urine. That means you need a continuous supply of such vitamins in your die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troduction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Content Placeholder 7" descr="ascorbic.jpg"/>
          <p:cNvPicPr/>
          <p:nvPr/>
        </p:nvPicPr>
        <p:blipFill>
          <a:blip r:embed="rId1"/>
          <a:stretch/>
        </p:blipFill>
        <p:spPr>
          <a:xfrm>
            <a:off x="1447920" y="2666880"/>
            <a:ext cx="2647800" cy="23162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8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scorbic ac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dehydroascorbic.jpg"/>
          <p:cNvPicPr/>
          <p:nvPr/>
        </p:nvPicPr>
        <p:blipFill>
          <a:blip r:embed="rId2"/>
          <a:stretch/>
        </p:blipFill>
        <p:spPr>
          <a:xfrm>
            <a:off x="5181480" y="2666880"/>
            <a:ext cx="2819520" cy="20574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1"/>
          <p:cNvSpPr/>
          <p:nvPr/>
        </p:nvSpPr>
        <p:spPr>
          <a:xfrm>
            <a:off x="5791320" y="5334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ehydroscorbic ac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unctions of Vitamin C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tamin C is required for the growth and repair of tissues in all parts of your bod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necessary to form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collag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tamin C is one of many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antioxidant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the bod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body does not manufacture vitamin C on its own ( Why ?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ciency of Ascorbic acid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urvy 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3" descr="850-0550x0475.jpg"/>
          <p:cNvPicPr/>
          <p:nvPr/>
        </p:nvPicPr>
        <p:blipFill>
          <a:blip r:embed="rId1"/>
          <a:stretch/>
        </p:blipFill>
        <p:spPr>
          <a:xfrm>
            <a:off x="1828800" y="2743200"/>
            <a:ext cx="70866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corbic acid saturation tes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ministered ascorbic acid is taken up by the tissues until they are saturated, after which there is a sharp rise in the urinary ascorbic acid excretio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inciple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a protein-free filtrate of plasma or urine, ascorbic acid has the property of decolorizing a blue dye, dichloro-phenolindophenol DCPIP and the amount that is decolorized is a measure of the amount of the vitamin C present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inci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Picture 2" descr="20081108092114007"/>
          <p:cNvPicPr/>
          <p:nvPr/>
        </p:nvPicPr>
        <p:blipFill>
          <a:blip r:embed="rId1"/>
          <a:stretch/>
        </p:blipFill>
        <p:spPr>
          <a:xfrm>
            <a:off x="914400" y="228600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5:50:54Z</dcterms:created>
  <dc:creator>Tahani Al-Shehri</dc:creator>
  <dc:description/>
  <dc:language>en-US</dc:language>
  <cp:lastModifiedBy>The Peace Dove</cp:lastModifiedBy>
  <dcterms:modified xsi:type="dcterms:W3CDTF">2010-03-21T05:09:32Z</dcterms:modified>
  <cp:revision>4</cp:revision>
  <dc:subject/>
  <dc:title>Ascorbic Acid Saturation Test  &amp;  Determination of Ascorbic Acid Content of Some Fruit Juices.</dc:title>
</cp:coreProperties>
</file>