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EFD9-E0B9-4978-9107-1B5B5B60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2E0B-E4F1-41D9-B1A4-974B8C73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4E3F-FAF9-44DD-93B6-10897881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6CDA-C725-4C53-BEB7-FC0DC170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74C3-BDCD-40A7-8D0C-C35D5EEE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4F11-CCA9-48FB-A27B-F8BDBFB7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7298-ABCB-44D9-ADC9-AC4AA7D2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1E08-5F32-4AC2-B199-6C6C9FB4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F609-6E5C-466C-AA1F-5663DFBA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8296-899A-4256-91A1-4703695C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157A-D921-4BCB-B929-2BFC7DE5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DDDD-5417-4944-B72B-E0BDA770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A291-FBDA-497E-9162-8CFD845A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9642-F4C3-4169-BA58-C96ADB86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3916-D23F-44A9-AF54-5C736454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F77E-E77C-4AFE-BD58-84901E59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0390-A738-424B-BD12-FC9B6A20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48BCC-EDF9-4F27-8912-FCBF1886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B2BD7-656A-44E5-860B-6EB8F3C1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60A44-0470-45CB-8F6E-FCE08BE5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0E561-27CB-4948-8A43-7A6B4634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D7903A-F777-4DAD-A638-625D87C7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201D-80ED-46C0-B671-3E4C562B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50727-30E7-4D13-ABE5-BCADC16E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85BC31-DC22-4D63-903B-BE5C17AC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2D1AB7-CE3F-4958-976C-A9A8484F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9D722F-27AA-48B8-AC71-16827EBB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BBE25D-A8CB-4B3A-B74A-5BCDABC4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1E349-5F85-4E5F-9065-119B7EDF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D1F206-A801-46B4-B4FD-984CCF30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4F49F-5625-4AE1-8040-46CD9B29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72E53-9750-4D79-BDE1-3B56DAF1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D2208-69C6-4614-B400-7D4D61A4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4BF0-3D99-46F1-B059-65A61891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486A3-8F23-47F6-9832-E6A2FCA7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71F5A-8751-4335-AC0E-39038BE7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D1227-7744-4CFE-A8E1-F311A347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C0FD7-570D-41A7-A092-3FEF1636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3049A-E306-4272-A008-E53D5EA2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A33DF-581B-4950-9F09-D97E96D5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BA0EB-0279-4AAB-AD12-D18C1E55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7995C-BD24-4365-AB7B-6A6ECF6D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1339F-1DED-40F7-A9F0-21E402A3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209D-7080-4EAC-B97E-08DF4540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5311-FB32-4DBD-AA41-C3AFF145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BEAE-6ED7-47B3-8E5D-9B104BEE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3E39-D3AE-44F6-B9EA-4C305AD2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2101-D4B6-4B4C-9930-D66CE5E5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68CF-DB3E-4308-AB34-27AEA67689BE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FFFF-D5A7-4CF3-A193-1EC92B1CB1B1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2C55-35B9-42C7-87CC-2631442A5D0D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D3E3-CBA7-4D53-9163-A4A8D0BB4893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853452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scorbic Acid Saturation Tes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 &amp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 Determination of Ascorbic Acid Content of Some Fruit Juices.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4479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456"/>
                </a:solidFill>
                <a:latin typeface="Georgia"/>
              </a:rPr>
              <a:t>376 BCH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456"/>
                </a:solidFill>
                <a:latin typeface="Georgia"/>
              </a:rPr>
              <a:t>Miss Tahani Al-shehri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3" descr="Lemon.jpg"/>
          <p:cNvPicPr/>
          <p:nvPr/>
        </p:nvPicPr>
        <p:blipFill>
          <a:blip r:embed="rId1"/>
          <a:stretch/>
        </p:blipFill>
        <p:spPr>
          <a:xfrm>
            <a:off x="6400800" y="4800600"/>
            <a:ext cx="2743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tes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stimation of urinary ascorbic acid when the specimen arrives in the laboratory must carried out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mmediately  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scorbic acid is unstable in urine and a special bottle containing 20 ml of glacial acetic acid </a:t>
            </a: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must be used for the urine collection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Glacial acetic acid is corrosive and any spilt on the skin should immediately be washed off with a large volume of water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ETHOD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asure the volume of the urin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ipette 5 ml of urine into a 100 ml volumetric flask and make up to the mark with 5% acetic aci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ipette 5 ml of DCPIP dye solution into a conical flask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itrate with standard ascorbic acid solution (0.02 mg</a:t>
            </a:r>
            <a:r>
              <a:rPr b="0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ml) until the solution just becomes colourles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ETHOD </a:t>
            </a:r>
            <a:r>
              <a:rPr b="0" lang="ar-SA" sz="4000" spc="-1" strike="noStrike">
                <a:solidFill>
                  <a:srgbClr val="424456"/>
                </a:solidFill>
                <a:latin typeface="Trebuchet MS"/>
                <a:ea typeface="Tahoma"/>
              </a:rPr>
              <a:t>    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nt..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98680" indent="-49356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lculate how many milligrams of ascorbic acid are equivalent to 5 ml of the dye solutio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98680" indent="-49356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ipette 5 ml of dye into a conical flask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98680" indent="-49356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itrate with the dilute urine sample. The titration must be done very rapidly, otherwise slow-reacting reducing substances present in the urine will contribute to the reduction of the dy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98680" indent="-49356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peat the titrate and take the averag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ETHOD </a:t>
            </a:r>
            <a:r>
              <a:rPr b="0" lang="ar-SA" sz="4000" spc="-1" strike="noStrike">
                <a:solidFill>
                  <a:srgbClr val="424456"/>
                </a:solidFill>
                <a:latin typeface="Trebuchet MS"/>
                <a:ea typeface="Tahoma"/>
              </a:rPr>
              <a:t>    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nt..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lculate how much ascorbic acid present in sample urine diluted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lculate  milligrams of ascorbic acid in total urine collected 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Results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olume of urine =……………………………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g of ascorbic acid equivalent to 5 ml of the dye solution =…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onc. Of ascorbic acid present in sample  urine diluted =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g of ascorbic acid in total urine collected =…………………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OBJECTIVES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measure the concentration of ascorbic acid urine sample  after administration of a dose of ascorbic acid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ntroduction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tamin C is a water-soluble vitamin that is necessary for normal growth and developmen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ter-soluble vitamins dissolve in water. The body cannot store them. Leftover amounts of the vitamin leave the body through the urine. That means you need a continuous supply of such vitamins in your die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ntroduction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Content Placeholder 2"/>
          <p:cNvSpPr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Content Placeholder 7" descr="ascorbic.jpg"/>
          <p:cNvPicPr/>
          <p:nvPr/>
        </p:nvPicPr>
        <p:blipFill>
          <a:blip r:embed="rId1"/>
          <a:stretch/>
        </p:blipFill>
        <p:spPr>
          <a:xfrm>
            <a:off x="1447920" y="2666880"/>
            <a:ext cx="2647800" cy="23162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8"/>
          <p:cNvSpPr/>
          <p:nvPr/>
        </p:nvSpPr>
        <p:spPr>
          <a:xfrm>
            <a:off x="1676520" y="54100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scorbic ac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9" descr="dehydroascorbic.jpg"/>
          <p:cNvPicPr/>
          <p:nvPr/>
        </p:nvPicPr>
        <p:blipFill>
          <a:blip r:embed="rId2"/>
          <a:stretch/>
        </p:blipFill>
        <p:spPr>
          <a:xfrm>
            <a:off x="5181480" y="2666880"/>
            <a:ext cx="2819520" cy="20574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11"/>
          <p:cNvSpPr/>
          <p:nvPr/>
        </p:nvSpPr>
        <p:spPr>
          <a:xfrm>
            <a:off x="5791320" y="5334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Dehydroscorbic ac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Functions of Vitamin C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tamin C is required for the growth and repair of tissues in all parts of your body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is necessary to form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collag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tamin C is one of many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antioxidant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the body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body does not manufacture vitamin C on its own ( Why ? 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eficiency of Ascorbic acid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curvy 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1" name="Picture 3" descr="850-0550x0475.jpg"/>
          <p:cNvPicPr/>
          <p:nvPr/>
        </p:nvPicPr>
        <p:blipFill>
          <a:blip r:embed="rId1"/>
          <a:stretch/>
        </p:blipFill>
        <p:spPr>
          <a:xfrm>
            <a:off x="1828800" y="2743200"/>
            <a:ext cx="70866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scorbic acid saturation tes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ministered ascorbic acid is taken up by the tissues until they are saturated, after which there is a sharp rise in the urinary ascorbic acid excretion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inciple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a protein-free filtrate of plasma or urine, ascorbic acid has the property of decolorizing a blue dye, dichloro-phenolindophenol DCPIP and the amount that is decolorized is a measure of the amount of the vitamin C present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incipl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7" name="Picture 2" descr="20081108092114007"/>
          <p:cNvPicPr/>
          <p:nvPr/>
        </p:nvPicPr>
        <p:blipFill>
          <a:blip r:embed="rId1"/>
          <a:stretch/>
        </p:blipFill>
        <p:spPr>
          <a:xfrm>
            <a:off x="914400" y="2286000"/>
            <a:ext cx="7543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5:50:54Z</dcterms:created>
  <dc:creator>Tahani Al-Shehri</dc:creator>
  <dc:description/>
  <dc:language>en-US</dc:language>
  <cp:lastModifiedBy>The Peace Dove</cp:lastModifiedBy>
  <dcterms:modified xsi:type="dcterms:W3CDTF">2010-03-21T05:09:32Z</dcterms:modified>
  <cp:revision>4</cp:revision>
  <dc:subject/>
  <dc:title>Ascorbic Acid Saturation Test  &amp;  Determination of Ascorbic Acid Content of Some Fruit Juices.</dc:title>
</cp:coreProperties>
</file>