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E93E-0EA1-47D9-B38A-9984A38C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D4BF-3755-4DFC-AE5C-D115EFF4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0B7-3E50-4AD7-BE96-C2D333AD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714E-B1BC-4ABD-91F7-7F865439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EFE5-7208-49F6-BAD1-383C90AF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D09-8B7B-46AC-9C91-DEEE5F82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79D2-BCE7-45ED-AE4E-B142A455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9889-18F8-4CBF-9016-883BA926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2388-4216-4896-A7EE-470CE6E0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D479-F453-444B-814A-F38FC576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A9D-AC49-4B26-9AC4-F44E1E44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1E48-E2A8-402C-AC1E-9BAD958B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0870-24CC-466F-BFB1-64CEEFA1A358}" type="slidenum">
              <a:rPr b="0" lang="ar-SA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utistic Dis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Fatima AlHaid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rofessor, Child &amp; Adolescent Psychiatr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KS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Definitio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28760" y="1676160"/>
            <a:ext cx="8215200" cy="44226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ildhood autism is one of the PDDs that is characterized by early onset (before 3 years of age) of delay and deviation in three critical areas of development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 the ability to form social relationships and to share interest and emo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 the use of language and communication ( both verbal and non-verbal)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 the presence of severely incapacitating ritualistic tendencies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linica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icture </a:t>
            </a:r>
            <a:r>
              <a:rPr b="1" i="1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Behavioral Feature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social relationship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speech and language develop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manneris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 resistance to chan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 attachment to particular obje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- acute emotional reac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- other behavioral sympto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linical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Pictur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Intellectual develop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general intellig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specific defic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special abilit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Physical conditions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Backgroun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Factor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- Overvie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- Genetic fa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- Underlying physical condi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- Parents and family fa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- Link with schizophren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ASSESSM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 Overview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 Differential  diagnoses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- MR and learning disabilit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- Asperger’s disor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- Childhood disintegrative disor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- Rett’s disord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- Language developmental disor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- Childhood schizophren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- ADH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- Attachment disord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Explain to the parents the nature of the diagnosis and its probable cause and the way the child can be helped and the likely outco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Neither medications nor interpretive form of psychotherapy directed to the patient have a significant place in manag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Behavioral and educational methods have been shown to  be helpfu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Manageme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# Goals for treat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 fostering of normal developmen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arental couns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behavioral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pecial school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 reduction of rigidity and stereotyp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 removal of maladaptive behavi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- alleviation of family distre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Outco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24000" y="1557000"/>
            <a:ext cx="8540640" cy="44226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A life-long condition;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66% ---- total depend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50% ---- linguistic impair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10% ---- slight improveme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&lt;10% ----workin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16% ----epileps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50%---- deterioration during adolesc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10% ---- psychiatric disturba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Important factors relevant to outcom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I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quality of parental care and educ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slow progres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01:25:47Z</dcterms:created>
  <dc:creator> </dc:creator>
  <dc:description/>
  <dc:language>en-US</dc:language>
  <cp:lastModifiedBy>Mac</cp:lastModifiedBy>
  <dcterms:modified xsi:type="dcterms:W3CDTF">2013-11-09T10:04:17Z</dcterms:modified>
  <cp:revision>9</cp:revision>
  <dc:subject/>
  <dc:title>CHILDHOOD AUTISM</dc:title>
</cp:coreProperties>
</file>