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9773-7A93-41E3-A08A-5C2917E82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4A8F-E568-4C5B-86DD-366FB7364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981E-8F34-4917-93E4-2ED171E2D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52B7-4F76-4930-B3FA-050B760ED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878B-B060-4BEA-A0A8-77FE3BB5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3383-9D54-4031-B2F5-565DDEB66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9D0C-4785-41AA-871D-0A9B7ED11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6F62-289B-4B0C-A5BD-F546B9E0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372B-E97D-4114-A06A-3D4C539A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3BD9-0D41-4F66-A93E-E66153B3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1ECB-D972-4748-9FBD-CE165987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A007-B772-4E7D-9D0D-72DB59E6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08155-484F-4B37-B8EB-16144E6775B3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utistic Disor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Fatima AlHaid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Professor, Child &amp; Adolescent Psychiatr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KS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Definitio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28760" y="1676160"/>
            <a:ext cx="8215200" cy="44226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ildhood autism is one of the PDDs that is characterized by early onset (before 3 years of age) of delay and deviation in three critical areas of development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- the ability to form social relationships and to share interest and emo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- the use of language and communication ( both verbal and non-verbal)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- the presence of severely incapacitating ritualistic tendencies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Clinical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Picture 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Behavioral Features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- social relationship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- speech and language develop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- manneris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- resistance to chan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- attachment to particular objec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- acute emotional reac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- other behavioral sympto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Clinical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Pictur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o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Intellectual developmen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- general intellig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- specific defic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- special abilit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Physical conditions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Backgroun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Factor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- Overvie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- Genetic fact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- Underlying physical condi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- Parents and family fact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- Link with schizophren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ASSESSME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- Overvie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- Differential  diagnoses 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- MR and learning disabiliti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- Asperger’s disord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- Childhood disintegrative disord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- Rett’s disord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- Language developmental disord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- Childhood schizophren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- ADH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- Attachment disord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Manageme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# Explain to the parents the nature of the diagnosis and its probable cause and the way the child can be helped and the likely outco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# Neither medications nor interpretive form of psychotherapy directed to the patient have a significant place in manage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# Behavioral and educational methods have been shown to  be helpfu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Manageme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# Goals for treatm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 fostering of normal developmen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parental couns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behavioral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special school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 reduction of rigidity and stereotyp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 removal of maladaptive behavi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- alleviation of family distres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Outcom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24000" y="1557000"/>
            <a:ext cx="8540640" cy="44226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A life-long condition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66% ---- total dependen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50% ---- linguistic impairmen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10% ---- slight improvemen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&lt;10% ----work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16% ----epileps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50%---- deterioration during adolescen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10% ---- psychiatric disturban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Important factors relevant to outcom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IQ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quality of parental care and educa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slow progres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0T01:25:47Z</dcterms:created>
  <dc:creator> </dc:creator>
  <dc:description/>
  <dc:language>en-US</dc:language>
  <cp:lastModifiedBy>Mac</cp:lastModifiedBy>
  <dcterms:modified xsi:type="dcterms:W3CDTF">2013-11-09T10:04:17Z</dcterms:modified>
  <cp:revision>9</cp:revision>
  <dc:subject/>
  <dc:title>CHILDHOOD AUTISM</dc:title>
</cp:coreProperties>
</file>