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7549-CB64-49AF-BF0F-4B4C65CCF62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C203-374A-4D4B-8796-872D091BF9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5AE9-29BB-4244-B74B-E8D4620267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177-40C2-4C16-9037-BFFAE6D0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812-2FB3-4EE9-BF73-B50A82C2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158-9898-4843-93F5-2CB9C083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E331-ADBF-47AE-B8F0-E612CBD0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72A8-32B9-496E-9264-BB581668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E9F8-1B18-425B-9502-1BE1B705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ED2B-7559-4648-9D54-4019044D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6132-BF9E-479B-86BE-E0EADD02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14ED-FCCA-4B34-B0CC-2DA0791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F1DC-CA20-4C0A-9794-D5AE31A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54D5-A871-4DE3-AEDE-29285D3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7D05-6537-4D61-AB19-D2D046C2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60D1-9E6C-4F01-81C8-FF2095DD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0060-84BC-47B1-B954-C080E40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C6F8-467A-4623-B939-17EB167B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7E14-C058-4B73-BD80-5FBA97BD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1C6F-0030-4482-B451-C28864B9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9E1F7-B0F4-4486-A36A-6B6241CE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9CB8-86A3-44A6-88C9-99C05CE7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DACF3-93D3-4620-B014-C9300367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9FA4-B069-43E9-8724-F18310E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0033-249F-4D72-B9E9-3E7B6A38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570-ABA2-4014-86F6-D3C2766A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7DC9-DC5D-4DD8-9713-EBF8B2F0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65A1-5B22-4AE9-B360-71D69D06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8A53-BA54-4E4A-8D68-3A4B5DC1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E79A5-1A13-4F7C-9D85-361D5A4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919F6-3E22-42C3-B839-695D8A68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18D51-87FF-4FB4-A54F-A0DEC60E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CF93-8B1E-4EB6-BCBF-8E299D84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6DB40-F234-471D-A7C7-6034E3BD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9070C-7F61-4EFE-BB3B-CE686841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29E7-415F-40BA-93D0-0FB6EB61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A61-86A2-4273-BE06-9504CBA1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7BB37-31BA-4C53-B3E8-676C88E2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1C94D-EF81-48FE-AC02-AE7238B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168B-AAA6-4C5F-B63A-1CF7166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73A3-6243-41CD-AB13-78E1B4D3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B4EE9-A265-4653-A7FA-E8D7C9D2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1F34-AEDB-4AA7-AE6B-4291B22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C11F-0579-430F-93C6-B1773D3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AF78-9F9E-4592-A28F-40147513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43BE-26B9-4AC0-BFFC-36353043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73F9-A7C8-460B-8DAD-6077CFDE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1A6-CB92-4A6A-A16A-DF96DD6D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F54-0FE8-46E0-8DB1-A6FFAC09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325-B791-491E-BC87-706BD05C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B47-1D92-42C3-88A2-AB98236D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9397-31DA-44EC-A7BC-E31B2129339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A62-477B-419A-A3BC-D705378FF2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2EB4-8859-45C4-995B-61B084D3BF9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3FF-E249-4106-9104-7805DD157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7D5B-6EBC-4F40-9CD8-3517BC8EC0B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3355-0199-4B21-A1B8-BDAC22870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D337-EA9B-42D6-A455-E5DFDCBC2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Cell+Theory&amp;source=images&amp;cd=&amp;cad=rja&amp;docid=NR3xQGbDBQ-mkM&amp;tbnid=GuMW8M4gI2bgVM:&amp;ved=0CAUQjRw&amp;url=http%3A%2F%2Fwww.biology.arizona.edu%2Fcell_bio%2Ftutorials%2Fcells%2Fcells3.html&amp;ei=CT8VUbbUNc3AtAaUq4GACA&amp;psig=AFQjCNGxAGdNkQgz_otXjiu7a2U5H9cmwA&amp;ust=1360433195697754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An Introductory Overview of </a:t>
            </a:r>
            <a:br>
              <a:rPr sz="4000"/>
            </a:br>
            <a:r>
              <a:rPr b="1" lang="en-GB" sz="4000" spc="-1" strike="noStrike">
                <a:solidFill>
                  <a:srgbClr val="0000ff"/>
                </a:solidFill>
                <a:latin typeface="Cambria"/>
              </a:rPr>
              <a:t>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324000" y="189000"/>
            <a:ext cx="1638000" cy="11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Date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F25-9D9F-4F55-BFB7-3E370300B33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4E9D-77F8-4F10-95EE-AD9B951C936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3314880" y="2781360"/>
            <a:ext cx="1660320" cy="2671560"/>
          </a:xfrm>
          <a:prstGeom prst="rect">
            <a:avLst/>
          </a:prstGeom>
          <a:ln w="0">
            <a:noFill/>
          </a:ln>
        </p:spPr>
      </p:pic>
      <p:sp>
        <p:nvSpPr>
          <p:cNvPr id="233" name="Cloud Callout 5"/>
          <p:cNvSpPr/>
          <p:nvPr/>
        </p:nvSpPr>
        <p:spPr>
          <a:xfrm>
            <a:off x="4716360" y="836640"/>
            <a:ext cx="3456000" cy="2087640"/>
          </a:xfrm>
          <a:prstGeom prst="cloudCallout">
            <a:avLst>
              <a:gd name="adj1" fmla="val -57217"/>
              <a:gd name="adj2" fmla="val 52212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Bradley Hand ITC"/>
              </a:rPr>
              <a:t>Is there any excep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imagesCA6HQI7B.jpg"/>
          <p:cNvPicPr/>
          <p:nvPr/>
        </p:nvPicPr>
        <p:blipFill>
          <a:blip r:embed="rId2"/>
          <a:stretch/>
        </p:blipFill>
        <p:spPr>
          <a:xfrm>
            <a:off x="5867280" y="4437000"/>
            <a:ext cx="2619360" cy="1743120"/>
          </a:xfrm>
          <a:prstGeom prst="rect">
            <a:avLst/>
          </a:prstGeom>
          <a:ln w="0">
            <a:noFill/>
          </a:ln>
        </p:spPr>
      </p:pic>
      <p:sp>
        <p:nvSpPr>
          <p:cNvPr id="236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341-D54E-4B3B-B01E-5F139D4A7EA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7303-22DC-47E7-A147-0E67A814B4F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Exception: Viru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Latin for “poiso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oes not meet all the criteria of “Lif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iruses are not cells; they are supra-macromolecules made of two types of macromolecules i.e. proteins and nucle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uter coat is made of proteins and inner core is nucleic acid, which may be either DNA or RNA, but not usually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Require a host to replic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virus.jpg"/>
          <p:cNvPicPr/>
          <p:nvPr/>
        </p:nvPicPr>
        <p:blipFill>
          <a:blip r:embed="rId1"/>
          <a:stretch/>
        </p:blipFill>
        <p:spPr>
          <a:xfrm>
            <a:off x="6918480" y="2365200"/>
            <a:ext cx="2261880" cy="4273560"/>
          </a:xfrm>
          <a:prstGeom prst="rect">
            <a:avLst/>
          </a:prstGeom>
          <a:ln w="0">
            <a:noFill/>
          </a:ln>
        </p:spPr>
      </p:pic>
      <p:sp>
        <p:nvSpPr>
          <p:cNvPr id="242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8A49-CBF6-47E7-ADB7-053BC735D69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8B78-B4EA-443A-B6DD-A68269E666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Cambria"/>
              </a:rPr>
              <a:t>Cell Par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f7f7f"/>
                </a:solidFill>
                <a:latin typeface="Cambria"/>
              </a:rPr>
              <a:t>Organel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CF69-254B-4978-81F0-D7276F7B0B0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C6DB-67FC-4BDD-8763-7EFDBEA0E6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7308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- Surrounding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CEC-80C6-4D4F-9CF1-A8E1A659429D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9E20-A7F2-4319-B6E1-E1622E3B4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250920" y="4238640"/>
            <a:ext cx="4464000" cy="2405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Outer membrane of cell that controls movement in and out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phospholipid bilayer with embedded proteins (enzymes, receptors, channels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lace of communication with the environment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nd other cell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Gate of the Cel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250920" y="1719360"/>
            <a:ext cx="4390920" cy="24397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5" name="Rounded Rectangle 12"/>
          <p:cNvSpPr/>
          <p:nvPr/>
        </p:nvSpPr>
        <p:spPr>
          <a:xfrm>
            <a:off x="250920" y="1143000"/>
            <a:ext cx="260496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409840" cy="23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7" name="Rounded Rectangle 14"/>
          <p:cNvSpPr/>
          <p:nvPr/>
        </p:nvSpPr>
        <p:spPr>
          <a:xfrm>
            <a:off x="5940360" y="170028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5364000" y="4724280"/>
            <a:ext cx="3637080" cy="1633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ost commonly found in plant  cells &amp;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ade of mucopolysaccharides (yeast, procaryotes) or cellulose (pl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upports &amp; protects cell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745164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I- Inside the C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8956-47D5-463A-8B2F-87A999FD53F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C11C-2446-4780-B34C-C37108F8DA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132000" y="1268280"/>
            <a:ext cx="277344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4" name="Rectangle 5"/>
          <p:cNvSpPr/>
          <p:nvPr/>
        </p:nvSpPr>
        <p:spPr>
          <a:xfrm>
            <a:off x="250920" y="4292640"/>
            <a:ext cx="4249800" cy="208908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rst described by Robert Brown in 18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Largest organell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parated from cytoplasm by nuclear membrane in euc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enetic material –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Control Center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6"/>
          <p:cNvSpPr/>
          <p:nvPr/>
        </p:nvSpPr>
        <p:spPr>
          <a:xfrm>
            <a:off x="250920" y="3860640"/>
            <a:ext cx="172872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4643280" y="4292640"/>
            <a:ext cx="4176720" cy="201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ouble membrane envelop that surrounds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Contains nuclear por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which i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of selective transport between cytoplasm and inside of nucleus (proteins, mRNA)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ate of the Nucle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8"/>
          <p:cNvSpPr/>
          <p:nvPr/>
        </p:nvSpPr>
        <p:spPr>
          <a:xfrm>
            <a:off x="4643280" y="3860640"/>
            <a:ext cx="244800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Nuclear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89A2-882B-4E8B-8D92-BF11A8CE674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E39-B3B1-41CF-BA42-1F6373DEC0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buzzle.com/images/diagrams/cell-nucleus-diagram.jpg"/>
          <p:cNvPicPr/>
          <p:nvPr/>
        </p:nvPicPr>
        <p:blipFill>
          <a:blip r:embed="rId1"/>
          <a:stretch/>
        </p:blipFill>
        <p:spPr>
          <a:xfrm>
            <a:off x="3059280" y="1268280"/>
            <a:ext cx="2773080" cy="2355840"/>
          </a:xfrm>
          <a:prstGeom prst="rect">
            <a:avLst/>
          </a:prstGeom>
          <a:ln w="9360">
            <a:solidFill>
              <a:srgbClr val="0066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3" name="Rectangle 5"/>
          <p:cNvSpPr/>
          <p:nvPr/>
        </p:nvSpPr>
        <p:spPr>
          <a:xfrm>
            <a:off x="250920" y="4292640"/>
            <a:ext cx="3960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esent in the form of strings of DNA and his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instructions for traits &amp; characteristic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Director of the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6"/>
          <p:cNvSpPr/>
          <p:nvPr/>
        </p:nvSpPr>
        <p:spPr>
          <a:xfrm>
            <a:off x="250920" y="3933720"/>
            <a:ext cx="208908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4859280" y="4365720"/>
            <a:ext cx="4105440" cy="165564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nside nucle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olus plays an indirect role in protein synthesis by producing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Nucleolus is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not a structur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!!! Just a visible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8"/>
          <p:cNvSpPr/>
          <p:nvPr/>
        </p:nvSpPr>
        <p:spPr>
          <a:xfrm>
            <a:off x="4859280" y="3933720"/>
            <a:ext cx="2016360" cy="43200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Nucleo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765000"/>
            <a:ext cx="8820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Perpetua"/>
              </a:rPr>
              <a:t>Chromosomes in eukaryotes &amp; prokaryotes are differ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826920" y="1773360"/>
          <a:ext cx="7704360" cy="4076640"/>
        </p:xfrm>
        <a:graphic>
          <a:graphicData uri="http://schemas.openxmlformats.org/drawingml/2006/table">
            <a:tbl>
              <a:tblPr/>
              <a:tblGrid>
                <a:gridCol w="3868920"/>
                <a:gridCol w="383544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PRO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EUKARYO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ngle chromosome plus plasm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rcular chromo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near chromos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nly of 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e of chromatin, a nucleoprotein (DNA coiled around histone protei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cytopla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und in a 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27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its chromosome and divides immediately after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pies chromosomes, then the cell grows, then goes through mitosis to organise chromosomes in two equal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 Box 83"/>
          <p:cNvSpPr/>
          <p:nvPr/>
        </p:nvSpPr>
        <p:spPr>
          <a:xfrm>
            <a:off x="488880" y="646740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l Billi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5" descr="1940_fs"/>
          <p:cNvPicPr/>
          <p:nvPr/>
        </p:nvPicPr>
        <p:blipFill>
          <a:blip r:embed="rId1"/>
          <a:stretch/>
        </p:blipFill>
        <p:spPr>
          <a:xfrm>
            <a:off x="7143840" y="0"/>
            <a:ext cx="1770120" cy="1224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71280" y="2000160"/>
            <a:ext cx="90014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each cell in the body (except sex cells which only have half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throughout the life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hrosomes are of two types: autosomes (same in males and females) and sex (X and Y) chrom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onstant for all members of a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597528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Numbers of chromos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karyotypeX"/>
          <p:cNvPicPr/>
          <p:nvPr/>
        </p:nvPicPr>
        <p:blipFill>
          <a:blip r:embed="rId2"/>
          <a:stretch/>
        </p:blipFill>
        <p:spPr>
          <a:xfrm>
            <a:off x="6754680" y="4133880"/>
            <a:ext cx="1962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mbria"/>
              </a:rPr>
              <a:t>Human Genome Bas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human somatic cells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di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having 2 copies of each chromosome, one from each par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gamet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sperm &amp; egg, are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</a:rPr>
              <a:t>haploid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ith 1 copy of each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Humans have a haploid number </a:t>
            </a:r>
            <a:r>
              <a:rPr b="1" lang="en-US" sz="2400" spc="-1" strike="noStrike">
                <a:solidFill>
                  <a:srgbClr val="0066ff"/>
                </a:solidFill>
                <a:latin typeface="Cambri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23, meaning that there are 23 chromosomes in a complete haploid set.  Thus, gametes have 23 chromosomes and diploid cells have 46. The pairs of chromosome in a diploid cell are called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homologu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X and Y chromosomes are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sex chromosom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and the other 22 chromosomes are called </a:t>
            </a:r>
            <a:r>
              <a:rPr b="0" lang="en-US" sz="2400" spc="-1" strike="noStrike">
                <a:solidFill>
                  <a:srgbClr val="0066ff"/>
                </a:solidFill>
                <a:latin typeface="Cambria"/>
              </a:rPr>
              <a:t>autoso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ormal 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and normal females are 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  Thus, sperm cells either contain an X or a Y.  Eggs always contain an X chromoso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541520" y="2133720"/>
            <a:ext cx="895320" cy="863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31720" cy="826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4360" y="1844280"/>
            <a:ext cx="8686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somatic cells: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iploid (2n) cell: 23 x2= 46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 of autosomes + </a:t>
            </a:r>
            <a:r>
              <a:rPr b="0" lang="en-US" sz="2400" spc="-1" strike="noStrike">
                <a:solidFill>
                  <a:srgbClr val="7030a0"/>
                </a:solidFill>
                <a:latin typeface="Cambria"/>
              </a:rPr>
              <a:t>X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 22 pairs of autosomes + </a:t>
            </a:r>
            <a:r>
              <a:rPr b="0" lang="en-US" sz="2400" spc="-1" strike="noStrike">
                <a:solidFill>
                  <a:srgbClr val="ff0066"/>
                </a:solidFill>
                <a:latin typeface="Cambria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chromos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mbria"/>
              </a:rPr>
              <a:t>In germ ce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perms are of two typ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Y chromos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2 autosomes + X chromoso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va has: 22 autosomes + X chromos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E2B9-5AC0-4C2E-B8B4-401A8A2DE02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9D91-E40B-4C5F-B458-635D578596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What We Will Be Covering-I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1988640"/>
            <a:ext cx="8496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What is a Cel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Two Types of Cell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Excep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he Organelles and Their Fun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D9C6-5FAE-452A-AA69-F766AF5DA23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2B1A-8DC6-4787-95B4-B90EE7E74F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7380360" y="33336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B8FD-71BE-4BED-90CA-761C2D7AE8E3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EF90-B8F2-4585-97B0-310642D7D64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mbria"/>
              </a:rPr>
              <a:t>Chromosomes and re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35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580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CE08-5D84-490E-A928-60A7D1BF3B2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2D3-0E93-4697-A43D-BCF30DD895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179280" y="4581360"/>
            <a:ext cx="439272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Gel-lik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portion of the cell enclosed by the cell membrane but not part of any orga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It stores the organelles, water, and the chemicals in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Area of Movement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6"/>
          <p:cNvSpPr/>
          <p:nvPr/>
        </p:nvSpPr>
        <p:spPr>
          <a:xfrm>
            <a:off x="179280" y="414972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4788000" y="4581360"/>
            <a:ext cx="4032000" cy="180036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ransportation center for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mooth and rough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R Site of fatty acid and phospholipid synthesis, While RER place of extracellular proteins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8"/>
          <p:cNvSpPr/>
          <p:nvPr/>
        </p:nvSpPr>
        <p:spPr>
          <a:xfrm>
            <a:off x="4788000" y="414972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Endoplasmic Ret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http://library.thinkquest.org/06aug/01942/plcells/thinkquest/cytoplasm.jpg"/>
          <p:cNvPicPr/>
          <p:nvPr/>
        </p:nvPicPr>
        <p:blipFill>
          <a:blip r:embed="rId1"/>
          <a:stretch/>
        </p:blipFill>
        <p:spPr>
          <a:xfrm>
            <a:off x="798480" y="1974960"/>
            <a:ext cx="2590920" cy="34448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http://library.thinkquest.org/06aug/01942/plcells/thinkquest/ER.jpg"/>
          <p:cNvPicPr/>
          <p:nvPr/>
        </p:nvPicPr>
        <p:blipFill>
          <a:blip r:embed="rId2"/>
          <a:stretch/>
        </p:blipFill>
        <p:spPr>
          <a:xfrm>
            <a:off x="5334120" y="2048040"/>
            <a:ext cx="2743200" cy="31035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698E-A68F-4669-8EB7-8F458FF57D2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513-2F01-487C-AD80-B4B58AABBC2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0920" y="4581360"/>
            <a:ext cx="410508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nd in the cytoplasm and on the 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ir job is to make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cleus makes the ribosom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6"/>
          <p:cNvSpPr/>
          <p:nvPr/>
        </p:nvSpPr>
        <p:spPr>
          <a:xfrm>
            <a:off x="250920" y="4149720"/>
            <a:ext cx="1873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4788000" y="4581360"/>
            <a:ext cx="4032000" cy="1656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lace of oxidative metabolism and ATP production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its own DNA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ribosome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Powerhouse of the Cell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8"/>
          <p:cNvSpPr/>
          <p:nvPr/>
        </p:nvSpPr>
        <p:spPr>
          <a:xfrm>
            <a:off x="4788000" y="414972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http://library.thinkquest.org/06aug/01942/plcells/thinkquest/ribosomes.jpg"/>
          <p:cNvPicPr/>
          <p:nvPr/>
        </p:nvPicPr>
        <p:blipFill>
          <a:blip r:embed="rId1"/>
          <a:stretch/>
        </p:blipFill>
        <p:spPr>
          <a:xfrm>
            <a:off x="652320" y="2266920"/>
            <a:ext cx="2767320" cy="30909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ttp://library.thinkquest.org/06aug/01942/plcells/thinkquest/mitochrondria.jpg"/>
          <p:cNvPicPr/>
          <p:nvPr/>
        </p:nvPicPr>
        <p:blipFill>
          <a:blip r:embed="rId2"/>
          <a:stretch/>
        </p:blipFill>
        <p:spPr>
          <a:xfrm>
            <a:off x="5334120" y="2193840"/>
            <a:ext cx="2517480" cy="32925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2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F65D-4E93-4382-AD50-C4BAFC80C70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4874-88E4-408C-A248-7257CD14AFA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250920" y="4581360"/>
            <a:ext cx="3889440" cy="13687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ackage and to move protein to the out side of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y also process proteins from ribosomes that are located on the 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Golgi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643280" y="4581360"/>
            <a:ext cx="4321440" cy="1872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 the wastes and unwanted organel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Acidic organelles - low pH due to proton pump (pH=5) in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 many degradative enzymes such as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acid hydrol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GB" sz="2000" spc="-1" strike="noStrike">
                <a:solidFill>
                  <a:srgbClr val="ff0000"/>
                </a:solidFill>
                <a:latin typeface="Cambria"/>
              </a:rPr>
              <a:t>Lys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2" descr="http://library.thinkquest.org/06aug/01942/plcells/thinkquest/GB.jpg"/>
          <p:cNvPicPr/>
          <p:nvPr/>
        </p:nvPicPr>
        <p:blipFill>
          <a:blip r:embed="rId1"/>
          <a:stretch/>
        </p:blipFill>
        <p:spPr>
          <a:xfrm>
            <a:off x="798480" y="2120760"/>
            <a:ext cx="2200320" cy="2927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library.thinkquest.org/06aug/01942/plcells/thinkquest/lysosomes.jpg"/>
          <p:cNvPicPr/>
          <p:nvPr/>
        </p:nvPicPr>
        <p:blipFill>
          <a:blip r:embed="rId2"/>
          <a:stretch/>
        </p:blipFill>
        <p:spPr>
          <a:xfrm>
            <a:off x="5546880" y="2120760"/>
            <a:ext cx="2238120" cy="2944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3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DAF-30A4-4996-A5AF-2B6E98630DB8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5149-ABCA-4C05-B15E-8FFF0D51442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loud Callout 5"/>
          <p:cNvSpPr/>
          <p:nvPr/>
        </p:nvSpPr>
        <p:spPr>
          <a:xfrm>
            <a:off x="3492360" y="333360"/>
            <a:ext cx="4608720" cy="3240000"/>
          </a:xfrm>
          <a:prstGeom prst="cloudCallout">
            <a:avLst>
              <a:gd name="adj1" fmla="val -48037"/>
              <a:gd name="adj2" fmla="val 6864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6"/>
          <p:cNvSpPr/>
          <p:nvPr/>
        </p:nvSpPr>
        <p:spPr>
          <a:xfrm>
            <a:off x="3708360" y="981000"/>
            <a:ext cx="39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Tay-Sachs disease</a:t>
            </a: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Bradley Hand ITC"/>
              </a:rPr>
              <a:t>is a genetic defect in one of specific  lysosomal hydro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4405320" y="4221000"/>
            <a:ext cx="3171960" cy="19162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36" name="Picture 8" descr="stick-man-thinking-clip-art.jpg"/>
          <p:cNvPicPr/>
          <p:nvPr/>
        </p:nvPicPr>
        <p:blipFill>
          <a:blip r:embed="rId2"/>
          <a:stretch/>
        </p:blipFill>
        <p:spPr>
          <a:xfrm>
            <a:off x="2556000" y="4149720"/>
            <a:ext cx="1212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21C3-3E0C-4A2A-921B-4366EA772EF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D090-178F-4736-8F01-98A0EF5613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50920" y="4581360"/>
            <a:ext cx="3960720" cy="1440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vacuole in the plant cell is larger than the vacuole in the animal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Membrane-bound sacs for storage, digestion, and waste rem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 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Storage Tank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6"/>
          <p:cNvSpPr/>
          <p:nvPr/>
        </p:nvSpPr>
        <p:spPr>
          <a:xfrm>
            <a:off x="250920" y="4149720"/>
            <a:ext cx="208908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716360" y="4581360"/>
            <a:ext cx="3959280" cy="12240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ontains green chlorophy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Where photosynthesis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Cambria"/>
              </a:rPr>
              <a:t>Food Producers”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8"/>
          <p:cNvSpPr/>
          <p:nvPr/>
        </p:nvSpPr>
        <p:spPr>
          <a:xfrm>
            <a:off x="4932360" y="4149720"/>
            <a:ext cx="1800360" cy="431640"/>
          </a:xfrm>
          <a:prstGeom prst="roundRect">
            <a:avLst>
              <a:gd name="adj" fmla="val 1666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Chlorop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3240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1" i="1" lang="en-US" sz="3600" spc="-1" strike="noStrike">
                <a:solidFill>
                  <a:srgbClr val="0000ff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http://library.thinkquest.org/06aug/01942/plcells/thinkquest/cell232.jpg"/>
          <p:cNvPicPr/>
          <p:nvPr/>
        </p:nvPicPr>
        <p:blipFill>
          <a:blip r:embed="rId1"/>
          <a:stretch/>
        </p:blipFill>
        <p:spPr>
          <a:xfrm>
            <a:off x="1158840" y="2109960"/>
            <a:ext cx="2005200" cy="2931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" descr="chloroplast"/>
          <p:cNvPicPr/>
          <p:nvPr/>
        </p:nvPicPr>
        <p:blipFill>
          <a:blip r:embed="rId2"/>
          <a:stretch/>
        </p:blipFill>
        <p:spPr>
          <a:xfrm>
            <a:off x="5840280" y="1974960"/>
            <a:ext cx="1785960" cy="35352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4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ambri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FCD-45F3-44A3-A96D-42A53FF0178C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D8D-12B4-479F-A7FB-A7679E538D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"/>
          <p:cNvPicPr/>
          <p:nvPr/>
        </p:nvPicPr>
        <p:blipFill>
          <a:blip r:embed="rId1"/>
          <a:stretch/>
        </p:blipFill>
        <p:spPr>
          <a:xfrm>
            <a:off x="2286000" y="855720"/>
            <a:ext cx="5114880" cy="6002280"/>
          </a:xfrm>
          <a:prstGeom prst="rect">
            <a:avLst/>
          </a:prstGeom>
          <a:ln w="936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1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stick-man-thinking-clip-art.jpg"/>
          <p:cNvPicPr/>
          <p:nvPr/>
        </p:nvPicPr>
        <p:blipFill>
          <a:blip r:embed="rId1"/>
          <a:stretch/>
        </p:blipFill>
        <p:spPr>
          <a:xfrm>
            <a:off x="2771640" y="2997360"/>
            <a:ext cx="1660680" cy="2671560"/>
          </a:xfrm>
          <a:prstGeom prst="rect">
            <a:avLst/>
          </a:prstGeom>
          <a:ln w="0">
            <a:noFill/>
          </a:ln>
        </p:spPr>
      </p:pic>
      <p:sp>
        <p:nvSpPr>
          <p:cNvPr id="353" name="Cloud Callout 5"/>
          <p:cNvSpPr/>
          <p:nvPr/>
        </p:nvSpPr>
        <p:spPr>
          <a:xfrm>
            <a:off x="4716360" y="836640"/>
            <a:ext cx="3959280" cy="2663640"/>
          </a:xfrm>
          <a:prstGeom prst="cloudCallout">
            <a:avLst>
              <a:gd name="adj1" fmla="val -70712"/>
              <a:gd name="adj2" fmla="val 34828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6"/>
          <p:cNvSpPr/>
          <p:nvPr/>
        </p:nvSpPr>
        <p:spPr>
          <a:xfrm>
            <a:off x="5292720" y="119700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Bradley Hand ITC"/>
              </a:rPr>
              <a:t>See you later to continue with the </a:t>
            </a:r>
            <a:r>
              <a:rPr b="1" lang="en-US" sz="2400" spc="-1" strike="noStrike">
                <a:solidFill>
                  <a:srgbClr val="0033cc"/>
                </a:solidFill>
                <a:latin typeface="Bradley Hand ITC"/>
              </a:rPr>
              <a:t>The structure and properties of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Date Placeholder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2BCE-4F0F-4D45-9143-5BE1E1EA91A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1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CDF5-C184-4FC4-8359-AF01AA1080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752472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Life begins with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came from Latin word mean small ro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 cell is the functional and structural unit of all living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Cell Theory --1839 by the German botanist Matthias Jakob Schleiden and German physiologist Theodore Schwan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BE26-517E-4851-BFE7-0934376AB44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4E7A-1168-4486-B027-C2F6B98DF4F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7524720" y="33336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Cell The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living things are made up of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s are the smallest working units of all living thing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ll cells come from preexisting cells through cell divi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F9FD-BC92-474F-A773-16D0647F23FB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B2B-73E6-48DD-997D-667121ADE50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www.biology.arizona.edu/cell_bio/tutorials/cells/graphics/timelin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2000" y="3359160"/>
            <a:ext cx="54565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23640" y="270792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Exampl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9" descr="amoebaproteus"/>
          <p:cNvPicPr/>
          <p:nvPr/>
        </p:nvPicPr>
        <p:blipFill>
          <a:blip r:embed="rId1"/>
          <a:stretch/>
        </p:blipFill>
        <p:spPr>
          <a:xfrm>
            <a:off x="324000" y="981000"/>
            <a:ext cx="1214280" cy="19432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Picture 10" descr="poplarleaf"/>
          <p:cNvPicPr/>
          <p:nvPr/>
        </p:nvPicPr>
        <p:blipFill>
          <a:blip r:embed="rId2"/>
          <a:stretch/>
        </p:blipFill>
        <p:spPr>
          <a:xfrm>
            <a:off x="7169040" y="1004760"/>
            <a:ext cx="1506600" cy="148752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5" name="Picture 11" descr="redbloodcells"/>
          <p:cNvPicPr/>
          <p:nvPr/>
        </p:nvPicPr>
        <p:blipFill>
          <a:blip r:embed="rId3"/>
          <a:stretch/>
        </p:blipFill>
        <p:spPr>
          <a:xfrm>
            <a:off x="7164360" y="4941720"/>
            <a:ext cx="1548000" cy="1440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Picture 15" descr="nrn956-i1"/>
          <p:cNvPicPr/>
          <p:nvPr/>
        </p:nvPicPr>
        <p:blipFill>
          <a:blip r:embed="rId4"/>
          <a:stretch/>
        </p:blipFill>
        <p:spPr>
          <a:xfrm>
            <a:off x="324000" y="4005360"/>
            <a:ext cx="1255680" cy="1792080"/>
          </a:xfrm>
          <a:prstGeom prst="rect">
            <a:avLst/>
          </a:prstGeom>
          <a:ln w="1908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7" name="Picture 17" descr="bacteria"/>
          <p:cNvPicPr/>
          <p:nvPr/>
        </p:nvPicPr>
        <p:blipFill>
          <a:blip r:embed="rId5"/>
          <a:stretch/>
        </p:blipFill>
        <p:spPr>
          <a:xfrm>
            <a:off x="7164360" y="3197160"/>
            <a:ext cx="1511280" cy="123984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8" name="Rectangle 12"/>
          <p:cNvSpPr/>
          <p:nvPr/>
        </p:nvSpPr>
        <p:spPr>
          <a:xfrm>
            <a:off x="7164360" y="443700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7164360" y="2492280"/>
            <a:ext cx="1511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Plant 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7164360" y="6381720"/>
            <a:ext cx="158436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Cambria"/>
              </a:rPr>
              <a:t>Red Blood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24000" y="5805360"/>
            <a:ext cx="1295280" cy="36036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324000" y="2924280"/>
            <a:ext cx="1223640" cy="504720"/>
          </a:xfrm>
          <a:prstGeom prst="rect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ambria"/>
              </a:rPr>
              <a:t>Amoeba Prot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e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D249-C047-4150-A354-4EFAD97E1D1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4C46-5908-4ED3-AEF2-0985C273E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rcha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mbria"/>
              </a:rPr>
              <a:t>2.     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Uni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rot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lti-cell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Fun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3344760" y="1844640"/>
            <a:ext cx="5537160" cy="3745080"/>
          </a:xfrm>
          <a:prstGeom prst="rect">
            <a:avLst/>
          </a:prstGeom>
          <a:ln w="28440">
            <a:solidFill>
              <a:srgbClr val="0033cc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9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C172-3CB9-4341-9395-20A7958A461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219-340F-485A-AB27-04C3560CF5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ro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9280" y="1557360"/>
            <a:ext cx="48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some multi-cellula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Lacks a 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acks membrane bound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as a cell membrane  and cell wa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Has ribosomes (protein production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ircul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5059440" y="2349360"/>
            <a:ext cx="3902040" cy="302436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5" name="Date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2879-302E-411D-923E-794608B619EE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83B1-454E-4EB9-9357-68E49DBC21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Eukaryo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360" y="1341360"/>
            <a:ext cx="562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mbria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Unicellular (Protist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Multicellular (fungi, plants, animal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mbria"/>
              </a:rPr>
              <a:t>Membrane bound Nucle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Contains Organel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Linear D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8" descr="1plant3"/>
          <p:cNvPicPr/>
          <p:nvPr/>
        </p:nvPicPr>
        <p:blipFill>
          <a:blip r:embed="rId1"/>
          <a:stretch/>
        </p:blipFill>
        <p:spPr>
          <a:xfrm>
            <a:off x="5757840" y="1484280"/>
            <a:ext cx="3056040" cy="2449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21" name="Rectangle 8"/>
          <p:cNvSpPr/>
          <p:nvPr/>
        </p:nvSpPr>
        <p:spPr>
          <a:xfrm>
            <a:off x="6732720" y="4005360"/>
            <a:ext cx="212400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Bradley Hand ITC"/>
              </a:rPr>
              <a:t>Typical plan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3419640" y="4221000"/>
            <a:ext cx="2124000" cy="3603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3152"/>
                </a:solidFill>
                <a:latin typeface="Bradley Hand ITC"/>
              </a:rPr>
              <a:t>Typical animal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9997-2E09-43E2-AC17-65BC07A2947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BA51-5BC6-42FE-8D16-865FF054CF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419640" y="4581360"/>
            <a:ext cx="2682720" cy="2092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6" name="TextBox 10"/>
          <p:cNvSpPr/>
          <p:nvPr/>
        </p:nvSpPr>
        <p:spPr>
          <a:xfrm>
            <a:off x="7086600" y="533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ypes of Eukaryotic Cells</a:t>
            </a: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640" y="1285920"/>
            <a:ext cx="84614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1. Soma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reek for “body’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cells in the body except 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und in the bones, skin, organs, tissues, bl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Reproduce by Mit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l somatic cells in a human body have the same genetic information (except RB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2. G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Sex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perm and Ov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eproduce by Meios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re haploid e.g. in humans: 23 chromos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2D9C-929F-46E4-AA18-B1E09DE75BD5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264-B497-4EA0-AD9A-A43E202CD46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7451640" y="260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Lucida Calligraphy"/>
                <a:ea typeface="Andalus"/>
              </a:rPr>
              <a:t>Lecture no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2T14:34:35Z</dcterms:created>
  <dc:creator>Sooad</dc:creator>
  <dc:description/>
  <dc:language>en-US</dc:language>
  <cp:lastModifiedBy>Administrator</cp:lastModifiedBy>
  <dcterms:modified xsi:type="dcterms:W3CDTF">2013-02-09T06:05:36Z</dcterms:modified>
  <cp:revision>21</cp:revision>
  <dc:subject/>
  <dc:title>An Introductory Overview of  Cells, Chemical Bonds &amp; Energy</dc:title>
</cp:coreProperties>
</file>