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E5DD-6D47-4FB1-8EEF-7E050C756C8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F19-31D7-4F00-9A99-3B910FD80D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4E68-285B-4E44-A132-1A6B2E36CA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39C-8274-43AC-91E6-271813D4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7FC-908A-484E-9CAA-7D644798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A63-A713-4DD9-B49A-C3AB176E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6B6-C22D-4361-9211-0038F7F9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6F7C-D7AC-4B6D-9F9A-59969577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A33-0AD0-4475-859F-D202FB84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3182-AF4A-460F-9D24-A2A0A15A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F341-FADA-4574-932A-6CD40BD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D590-5C5B-44F4-93B6-6C7BA0D1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CE3C-F57A-42C6-979C-7E185BC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1402-AE02-41AA-AA12-DED021D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35D-67D3-49C2-B12F-D18EA1DB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F84-BBDC-4281-BE25-83715E09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16FF-34F0-4C20-977F-41B2BA9E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1B5C-0AC6-43A5-896A-3CD24AD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A481-DF1D-47D1-A0F1-8BCDA380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322B-3199-40B3-B04B-55C6077C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5E93-0DB0-428A-8A0D-4B90865C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DA79-FC94-46A6-9FF1-062BF7E0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15A3-E3A0-44BF-AEFF-EFE121C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21AA-11C3-4437-8EAF-10D84BE5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551E-2124-4F03-AB80-8778B247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BBC-833A-401B-853B-D324F0E5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F55E-023F-4A14-A7F7-99042AB0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760B-7673-42AB-8B2D-2C52CA3E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A800-4A5C-4140-8C7C-184BAD67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9805-6D16-4513-811E-07456B1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3C6E-6531-4702-88F2-2F2B13E3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04AA-3D67-4AF4-A213-E746159B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1A49-E712-494D-96B4-AA337AFB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D6B6-BA4A-47EE-BF8B-729C6C5B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C553-32C6-4FA3-89B0-408260EC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B7D8-63C8-40E2-891E-5192C0F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3E2-6C40-4C02-98C7-628511C5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FC73-B710-4FB6-909C-F8907E1D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DA71-68FA-423A-BDCD-4E6E6DC6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D92C-5ED9-4279-978A-399F1F7B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795D-DC1B-499A-86BF-4E85110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7FBE-3608-4204-92DA-95748B3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08AE-0175-4BC5-9D6A-6107941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F885-6C9B-4683-B4C9-93D7673A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3620-BF06-4D1A-AF0B-AFB62849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A497-F42D-43F1-9B93-9704333F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EF6-2173-4E04-9BD8-3F34AADD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CD8-248B-4E66-9A9A-6B41F38F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10C-46CE-436E-8EA9-1D3BE591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34F-BB56-4384-B987-37AA83B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76E-1F74-4319-8311-6CECBE7F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D1E-63EE-4FEF-94E3-E24EE5F74E3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0699-3CA8-4AA3-B6FB-898FDED07E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51EF-7A7E-49B3-8E3C-2AB1CBEE594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FD87-914C-4D61-953C-B1811B7A4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975A-35D1-43FD-9129-F38CA59E064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83C8-6ACD-4D68-8455-8205BD54C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549-96C5-4046-81EF-77F31523F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Cell+Theory&amp;source=images&amp;cd=&amp;cad=rja&amp;docid=NR3xQGbDBQ-mkM&amp;tbnid=GuMW8M4gI2bgVM:&amp;ved=0CAUQjRw&amp;url=http%3A%2F%2Fwww.biology.arizona.edu%2Fcell_bio%2Ftutorials%2Fcells%2Fcells3.html&amp;ei=CT8VUbbUNc3AtAaUq4GACA&amp;psig=AFQjCNGxAGdNkQgz_otXjiu7a2U5H9cmwA&amp;ust=136043319569775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324000" y="189000"/>
            <a:ext cx="163800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204F-5101-4756-BA47-997849FFBE9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4FEA-A56E-4B38-9652-5DD1A667FC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233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Bradley Hand ITC"/>
              </a:rPr>
              <a:t>Is there any excep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imagesCA6HQI7B.jpg"/>
          <p:cNvPicPr/>
          <p:nvPr/>
        </p:nvPicPr>
        <p:blipFill>
          <a:blip r:embed="rId2"/>
          <a:stretch/>
        </p:blipFill>
        <p:spPr>
          <a:xfrm>
            <a:off x="5867280" y="4437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36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5E9D-B7A9-49A6-A186-156F6B6F866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38E-D285-412C-B824-04C1E629BD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Exception: Vir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tin for “poiso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es not meet all the criteria of “Lif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ruses are not cells; they are supra-macromolecules made of two types of macromolecules i.e. proteins and nucle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ter coat is made of proteins and inner core is nucleic acid, which may be either DNA or RNA, but not usually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Require a host to replic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virus.jpg"/>
          <p:cNvPicPr/>
          <p:nvPr/>
        </p:nvPicPr>
        <p:blipFill>
          <a:blip r:embed="rId1"/>
          <a:stretch/>
        </p:blipFill>
        <p:spPr>
          <a:xfrm>
            <a:off x="6918480" y="2365200"/>
            <a:ext cx="2261880" cy="427356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EA3-E0F2-4F21-BEEC-D718BEC075F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CB8-0D7F-4412-99ED-771736A178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ambria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7f7f"/>
                </a:solidFill>
                <a:latin typeface="Cambria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93D-1D5F-456D-8A98-E2C25E1A606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4BA1-F3E5-4165-927A-29CAF1E10F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- Surrounding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076C-04A1-41D4-A53B-1AE0D9DF754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3CF-ADF9-423D-AAD5-56CAEA13A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250920" y="4238640"/>
            <a:ext cx="4464000" cy="2405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uter membrane of cell that controls movement in and out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phospholipid bilayer with embedded proteins (enzymes, receptors, channels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ce of communication with the environment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nd other cell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Gate of the Cel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50920" y="1719360"/>
            <a:ext cx="4390920" cy="24397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5" name="Rounded Rectangle 12"/>
          <p:cNvSpPr/>
          <p:nvPr/>
        </p:nvSpPr>
        <p:spPr>
          <a:xfrm>
            <a:off x="250920" y="1143000"/>
            <a:ext cx="260496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4098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Rounded Rectangle 14"/>
          <p:cNvSpPr/>
          <p:nvPr/>
        </p:nvSpPr>
        <p:spPr>
          <a:xfrm>
            <a:off x="5940360" y="170028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5364000" y="4724280"/>
            <a:ext cx="3637080" cy="1633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st commonly found in plant  cells &amp;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mucopolysaccharides (yeast, procaryotes) or cellulose (pl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upports &amp; protects cell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745164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I- Inside the C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5E80-48FD-4E22-931B-869E06AAF44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BFBD-1C30-43D3-9A38-407E8591B7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132000" y="1268280"/>
            <a:ext cx="277344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Rectangle 5"/>
          <p:cNvSpPr/>
          <p:nvPr/>
        </p:nvSpPr>
        <p:spPr>
          <a:xfrm>
            <a:off x="250920" y="4292640"/>
            <a:ext cx="42498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rst described by Robert Brown in 18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Largest organell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parated from cytoplasm by nuclear membrane in euc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enetic material –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Control Cente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6"/>
          <p:cNvSpPr/>
          <p:nvPr/>
        </p:nvSpPr>
        <p:spPr>
          <a:xfrm>
            <a:off x="250920" y="3860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643280" y="4292640"/>
            <a:ext cx="4176720" cy="201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uble membrane envelop that surrounds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Contains nuclear por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hich i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of selective transport between cytoplasm and inside of nucleus (proteins, mRNA)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ate of the Nucle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8"/>
          <p:cNvSpPr/>
          <p:nvPr/>
        </p:nvSpPr>
        <p:spPr>
          <a:xfrm>
            <a:off x="4643280" y="386064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D029-EB53-444D-965E-061AD135E71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58B1-C6B7-4CBC-A160-6B9520DD342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059280" y="1268280"/>
            <a:ext cx="277308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3" name="Rectangle 5"/>
          <p:cNvSpPr/>
          <p:nvPr/>
        </p:nvSpPr>
        <p:spPr>
          <a:xfrm>
            <a:off x="250920" y="4292640"/>
            <a:ext cx="3960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esent in the form of strings of DNA and his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instructions for traits &amp; characterist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Director of the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6"/>
          <p:cNvSpPr/>
          <p:nvPr/>
        </p:nvSpPr>
        <p:spPr>
          <a:xfrm>
            <a:off x="250920" y="3933720"/>
            <a:ext cx="208908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859280" y="4365720"/>
            <a:ext cx="4105440" cy="165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ide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olus plays an indirect role in protein synthesis by producing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ucleolus is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ot a structur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!!! Just a visible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8"/>
          <p:cNvSpPr/>
          <p:nvPr/>
        </p:nvSpPr>
        <p:spPr>
          <a:xfrm>
            <a:off x="4859280" y="393372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8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Perpetua"/>
              </a:rPr>
              <a:t>Chromosomes in eukaryotes &amp; prokaryotes are diffe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6920" y="1773360"/>
          <a:ext cx="7704360" cy="4076640"/>
        </p:xfrm>
        <a:graphic>
          <a:graphicData uri="http://schemas.openxmlformats.org/drawingml/2006/table">
            <a:tbl>
              <a:tblPr/>
              <a:tblGrid>
                <a:gridCol w="3868920"/>
                <a:gridCol w="383544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PRO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EU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gle chromosome plus plasm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lar chromo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ear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nly of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f chromatin, a nucleoprotein (DNA coiled around histone protei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cytopla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a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its chromosome and divides immediately after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chromosomes, then the cell grows, then goes through mitosis to organise chromosomes in two equal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83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Billi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1940_fs"/>
          <p:cNvPicPr/>
          <p:nvPr/>
        </p:nvPicPr>
        <p:blipFill>
          <a:blip r:embed="rId1"/>
          <a:stretch/>
        </p:blipFill>
        <p:spPr>
          <a:xfrm>
            <a:off x="7143840" y="0"/>
            <a:ext cx="1770120" cy="1224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71280" y="2000160"/>
            <a:ext cx="90014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each cell in the body (except sex cells which only have half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throughout the life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hrosomes are of two types: autosomes (same in males and females) and sex (X and Y)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all members of a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597528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Numbers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karyotypeX"/>
          <p:cNvPicPr/>
          <p:nvPr/>
        </p:nvPicPr>
        <p:blipFill>
          <a:blip r:embed="rId2"/>
          <a:stretch/>
        </p:blipFill>
        <p:spPr>
          <a:xfrm>
            <a:off x="6754680" y="4133880"/>
            <a:ext cx="1962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mbria"/>
              </a:rPr>
              <a:t>Human Genome Ba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human somatic cells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having 2 copies of each chromosome, one from each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gamet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sperm &amp; egg,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ith 1 copy of each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umans have a haploid number </a:t>
            </a:r>
            <a:r>
              <a:rPr b="1" lang="en-US" sz="2400" spc="-1" strike="noStrike">
                <a:solidFill>
                  <a:srgbClr val="0066ff"/>
                </a:solidFill>
                <a:latin typeface="Cambr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23, meaning that there are 23 chromosomes in a complete haploid set.  Thus, gametes have 23 chromosomes and diploid cells have 46. The pairs of chromosome in a diploid cell are called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homolog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X and Y chromosomes ar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sex chromosom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and the other 22 chromosomes are called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autos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rmal 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nd normal fe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 Thus, sperm cells either contain an X or a Y.  Eggs always contain an X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541520" y="2133720"/>
            <a:ext cx="895320" cy="863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31720" cy="826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360" y="1844280"/>
            <a:ext cx="8686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somatic cells: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ploid (2n) cell: 23 x2= 46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 of autosomes +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s of autosomes +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germ ce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rms are of two typ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Y chromos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X chromoso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va has: 22 autosomes + X chrom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8C8B-CB80-4630-8EBF-AF20D0FAE5D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4010-0993-46AE-BA55-986A5E119D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988640"/>
            <a:ext cx="849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hat is a Cel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Two Types of Cell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Ex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Organelles and Their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5F3-A8CA-4339-9219-3DD983C4127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FE6-5C13-4175-9697-E97FE46399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105E-264C-4655-9512-927473025DF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70E-9231-4694-8E0F-7DD27C90B2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Chromosomes and re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35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580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3607-85F0-47E1-A3B4-A06F04F2FBB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3869-1FB4-4D02-B56B-88FBBA5ECC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581360"/>
            <a:ext cx="4392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el-lik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portion of the cell enclosed by the cell membrane but not part of any 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t stores the organelles, water, and the chemic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Area of Moveme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6"/>
          <p:cNvSpPr/>
          <p:nvPr/>
        </p:nvSpPr>
        <p:spPr>
          <a:xfrm>
            <a:off x="179280" y="414972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788000" y="4581360"/>
            <a:ext cx="40320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ransportation center for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mooth and rough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R Site of fatty acid and phospholipid synthesis, While RER place of extracellular proteins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8"/>
          <p:cNvSpPr/>
          <p:nvPr/>
        </p:nvSpPr>
        <p:spPr>
          <a:xfrm>
            <a:off x="4788000" y="414972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http://library.thinkquest.org/06aug/01942/plcells/thinkquest/cytoplasm.jpg"/>
          <p:cNvPicPr/>
          <p:nvPr/>
        </p:nvPicPr>
        <p:blipFill>
          <a:blip r:embed="rId1"/>
          <a:stretch/>
        </p:blipFill>
        <p:spPr>
          <a:xfrm>
            <a:off x="798480" y="1974960"/>
            <a:ext cx="2590920" cy="3444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http://library.thinkquest.org/06aug/01942/plcells/thinkquest/ER.jpg"/>
          <p:cNvPicPr/>
          <p:nvPr/>
        </p:nvPicPr>
        <p:blipFill>
          <a:blip r:embed="rId2"/>
          <a:stretch/>
        </p:blipFill>
        <p:spPr>
          <a:xfrm>
            <a:off x="5334120" y="2048040"/>
            <a:ext cx="2743200" cy="3103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E28A-DCB0-4C3F-BE74-7BE15C5F963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54EC-0753-4204-849E-7D1A773E23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0920" y="4581360"/>
            <a:ext cx="410508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nd in the cytoplasm and on the 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ir job is to mak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us makes the ribosom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6"/>
          <p:cNvSpPr/>
          <p:nvPr/>
        </p:nvSpPr>
        <p:spPr>
          <a:xfrm>
            <a:off x="250920" y="4149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4788000" y="4581360"/>
            <a:ext cx="403200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 of oxidative metabolism and ATP produc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its own DN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ibosom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Powerhouse of the C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8"/>
          <p:cNvSpPr/>
          <p:nvPr/>
        </p:nvSpPr>
        <p:spPr>
          <a:xfrm>
            <a:off x="4788000" y="414972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library.thinkquest.org/06aug/01942/plcells/thinkquest/ribosomes.jpg"/>
          <p:cNvPicPr/>
          <p:nvPr/>
        </p:nvPicPr>
        <p:blipFill>
          <a:blip r:embed="rId1"/>
          <a:stretch/>
        </p:blipFill>
        <p:spPr>
          <a:xfrm>
            <a:off x="652320" y="2266920"/>
            <a:ext cx="2767320" cy="3090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library.thinkquest.org/06aug/01942/plcells/thinkquest/mitochrondria.jpg"/>
          <p:cNvPicPr/>
          <p:nvPr/>
        </p:nvPicPr>
        <p:blipFill>
          <a:blip r:embed="rId2"/>
          <a:stretch/>
        </p:blipFill>
        <p:spPr>
          <a:xfrm>
            <a:off x="5334120" y="2193840"/>
            <a:ext cx="2517480" cy="32925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51EC-ADAA-4D4F-A778-2CF3E16EC48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8D9-4EC2-430B-8805-7DD0FC6E0D2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250920" y="4581360"/>
            <a:ext cx="3889440" cy="1368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ckage and to move protein to the out side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y also process proteins from ribosomes that are located on the 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Golgi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643280" y="4581360"/>
            <a:ext cx="4321440" cy="187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 the wastes and unwanted organel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cidic organelles - low pH due to proton pump (pH=5) in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many degradative enzymes such a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cid hydro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library.thinkquest.org/06aug/01942/plcells/thinkquest/GB.jpg"/>
          <p:cNvPicPr/>
          <p:nvPr/>
        </p:nvPicPr>
        <p:blipFill>
          <a:blip r:embed="rId1"/>
          <a:stretch/>
        </p:blipFill>
        <p:spPr>
          <a:xfrm>
            <a:off x="798480" y="2120760"/>
            <a:ext cx="2200320" cy="2927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library.thinkquest.org/06aug/01942/plcells/thinkquest/lysosomes.jpg"/>
          <p:cNvPicPr/>
          <p:nvPr/>
        </p:nvPicPr>
        <p:blipFill>
          <a:blip r:embed="rId2"/>
          <a:stretch/>
        </p:blipFill>
        <p:spPr>
          <a:xfrm>
            <a:off x="5546880" y="2120760"/>
            <a:ext cx="2238120" cy="2944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6535-9701-46EF-8AE4-275901CA808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E230-229D-45A6-887C-89D70A5E81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loud Callout 5"/>
          <p:cNvSpPr/>
          <p:nvPr/>
        </p:nvSpPr>
        <p:spPr>
          <a:xfrm>
            <a:off x="3492360" y="333360"/>
            <a:ext cx="4608720" cy="3240000"/>
          </a:xfrm>
          <a:prstGeom prst="cloudCallout">
            <a:avLst>
              <a:gd name="adj1" fmla="val -48037"/>
              <a:gd name="adj2" fmla="val 6864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3708360" y="9810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Tay-Sachs disease</a:t>
            </a: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is a genetic defect in one of specific  lysosomal hydro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405320" y="4221000"/>
            <a:ext cx="3171960" cy="1916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8" descr="stick-man-thinking-clip-art.jpg"/>
          <p:cNvPicPr/>
          <p:nvPr/>
        </p:nvPicPr>
        <p:blipFill>
          <a:blip r:embed="rId2"/>
          <a:stretch/>
        </p:blipFill>
        <p:spPr>
          <a:xfrm>
            <a:off x="2556000" y="4149720"/>
            <a:ext cx="1212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1C70-B60A-491E-9897-5A1177ABA65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CC31-BF8C-4E23-8FE7-2B9DC9B546E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50920" y="4581360"/>
            <a:ext cx="396072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acuole in the plant cell is larger than the vacuole in the animal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mbrane-bound sacs for storage, digestion, and waste rem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 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torage Tank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716360" y="4581360"/>
            <a:ext cx="395928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reen chlorophy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here photosynthesis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Food Producer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http://library.thinkquest.org/06aug/01942/plcells/thinkquest/cell232.jpg"/>
          <p:cNvPicPr/>
          <p:nvPr/>
        </p:nvPicPr>
        <p:blipFill>
          <a:blip r:embed="rId1"/>
          <a:stretch/>
        </p:blipFill>
        <p:spPr>
          <a:xfrm>
            <a:off x="1158840" y="2109960"/>
            <a:ext cx="2005200" cy="293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hloroplast"/>
          <p:cNvPicPr/>
          <p:nvPr/>
        </p:nvPicPr>
        <p:blipFill>
          <a:blip r:embed="rId2"/>
          <a:stretch/>
        </p:blipFill>
        <p:spPr>
          <a:xfrm>
            <a:off x="5840280" y="1974960"/>
            <a:ext cx="1785960" cy="35352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3BF-CB68-4B4A-9239-6214F1B4CA2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D90-ED98-4FB0-9BA8-43EBCCB7F4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2286000" y="855720"/>
            <a:ext cx="5114880" cy="6002280"/>
          </a:xfrm>
          <a:prstGeom prst="rect">
            <a:avLst/>
          </a:prstGeom>
          <a:ln w="936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1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2771640" y="2997360"/>
            <a:ext cx="1660680" cy="2671560"/>
          </a:xfrm>
          <a:prstGeom prst="rect">
            <a:avLst/>
          </a:prstGeom>
          <a:ln w="0">
            <a:noFill/>
          </a:ln>
        </p:spPr>
      </p:pic>
      <p:sp>
        <p:nvSpPr>
          <p:cNvPr id="353" name="Cloud Callout 5"/>
          <p:cNvSpPr/>
          <p:nvPr/>
        </p:nvSpPr>
        <p:spPr>
          <a:xfrm>
            <a:off x="4716360" y="836640"/>
            <a:ext cx="3959280" cy="2663640"/>
          </a:xfrm>
          <a:prstGeom prst="cloudCallout">
            <a:avLst>
              <a:gd name="adj1" fmla="val -70712"/>
              <a:gd name="adj2" fmla="val 3482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Bradley Hand ITC"/>
              </a:rPr>
              <a:t>See you later to continue with the </a:t>
            </a:r>
            <a:r>
              <a:rPr b="1" lang="en-US" sz="2400" spc="-1" strike="noStrike">
                <a:solidFill>
                  <a:srgbClr val="0033cc"/>
                </a:solidFill>
                <a:latin typeface="Bradley Hand ITC"/>
              </a:rPr>
              <a:t>The structure and properties of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A644-E409-4251-AF28-C5466D12680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BC88-A026-43BA-94B7-9B8A155D4C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Life begins with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came from Latin word mean small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ell is the functional and structural unit of all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Cell Theory --1839 by the German botanist Matthias Jakob Schleiden and German physiologist Theodore Schwan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E4DD-3388-4C45-9BCE-3F32B4629A6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C1E-389A-44C8-8AAF-169C7D6145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7524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Cel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living things are made up of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the smallest working units of all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cells come from preexisting cells through cell divi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8AD7-11E9-4051-8281-0BE653F68A8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6AFC-3EB6-42BE-A0B6-16D202E92B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www.biology.arizona.edu/cell_bio/tutorials/cells/graphics/tim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2000" y="3359160"/>
            <a:ext cx="54565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23640" y="2707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Exampl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9" descr="amoebaproteus"/>
          <p:cNvPicPr/>
          <p:nvPr/>
        </p:nvPicPr>
        <p:blipFill>
          <a:blip r:embed="rId1"/>
          <a:stretch/>
        </p:blipFill>
        <p:spPr>
          <a:xfrm>
            <a:off x="324000" y="981000"/>
            <a:ext cx="1214280" cy="19432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Picture 10" descr="poplarleaf"/>
          <p:cNvPicPr/>
          <p:nvPr/>
        </p:nvPicPr>
        <p:blipFill>
          <a:blip r:embed="rId2"/>
          <a:stretch/>
        </p:blipFill>
        <p:spPr>
          <a:xfrm>
            <a:off x="7169040" y="1004760"/>
            <a:ext cx="1506600" cy="148752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Picture 11" descr="redbloodcells"/>
          <p:cNvPicPr/>
          <p:nvPr/>
        </p:nvPicPr>
        <p:blipFill>
          <a:blip r:embed="rId3"/>
          <a:stretch/>
        </p:blipFill>
        <p:spPr>
          <a:xfrm>
            <a:off x="7164360" y="4941720"/>
            <a:ext cx="1548000" cy="1440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15" descr="nrn956-i1"/>
          <p:cNvPicPr/>
          <p:nvPr/>
        </p:nvPicPr>
        <p:blipFill>
          <a:blip r:embed="rId4"/>
          <a:stretch/>
        </p:blipFill>
        <p:spPr>
          <a:xfrm>
            <a:off x="324000" y="4005360"/>
            <a:ext cx="1255680" cy="17920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7" name="Picture 17" descr="bacteria"/>
          <p:cNvPicPr/>
          <p:nvPr/>
        </p:nvPicPr>
        <p:blipFill>
          <a:blip r:embed="rId5"/>
          <a:stretch/>
        </p:blipFill>
        <p:spPr>
          <a:xfrm>
            <a:off x="7164360" y="3197160"/>
            <a:ext cx="1511280" cy="123984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Rectangle 12"/>
          <p:cNvSpPr/>
          <p:nvPr/>
        </p:nvSpPr>
        <p:spPr>
          <a:xfrm>
            <a:off x="7164360" y="443700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7164360" y="249228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7164360" y="6381720"/>
            <a:ext cx="158436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ambria"/>
              </a:rPr>
              <a:t>Red Blood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24000" y="5805360"/>
            <a:ext cx="1295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324000" y="2924280"/>
            <a:ext cx="1223640" cy="5047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47E-C572-46E6-92AA-6F1D5E70CDC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F0FB-F874-43D1-9870-558730859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rcha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mbria"/>
              </a:rPr>
              <a:t>2.     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rot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lti-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Fun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344760" y="1844640"/>
            <a:ext cx="5537160" cy="3745080"/>
          </a:xfrm>
          <a:prstGeom prst="rect">
            <a:avLst/>
          </a:prstGeom>
          <a:ln w="2844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B868-76E7-4CBF-B4A6-9E131C35EB3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E1C9-9F09-487E-8181-52BB9487EE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ro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155736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some multi-cellula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cks a 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acks membrane bound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ell membrane  and cell wa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Has ribosomes (protein produc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ircul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5059440" y="2349360"/>
            <a:ext cx="3902040" cy="3024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5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386B-D256-4723-871F-909CC2C2DE9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DD0E-30D6-49C9-9E70-A42191209E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341360"/>
            <a:ext cx="56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Protis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Multicellular (fungi, plants, animal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mbria"/>
              </a:rPr>
              <a:t>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ontains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ine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8" descr="1plant3"/>
          <p:cNvPicPr/>
          <p:nvPr/>
        </p:nvPicPr>
        <p:blipFill>
          <a:blip r:embed="rId1"/>
          <a:stretch/>
        </p:blipFill>
        <p:spPr>
          <a:xfrm>
            <a:off x="5757840" y="1484280"/>
            <a:ext cx="3056040" cy="2449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21" name="Rectangle 8"/>
          <p:cNvSpPr/>
          <p:nvPr/>
        </p:nvSpPr>
        <p:spPr>
          <a:xfrm>
            <a:off x="6732720" y="4005360"/>
            <a:ext cx="2124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Bradley Hand ITC"/>
              </a:rPr>
              <a:t>Typical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19640" y="4221000"/>
            <a:ext cx="2124000" cy="360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Bradley Hand ITC"/>
              </a:rPr>
              <a:t>Typical 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53A0-9EEA-414C-B872-412A2AC2517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0790-D79F-4412-8985-AE354ACA64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268272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6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Eu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285920"/>
            <a:ext cx="8461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1. Som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reek for “body’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cells in the body except 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nd in the bones, skin, organs, tissues, bl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Reproduce by Mit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somatic cells in a human body have the same genetic information (except RB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2. G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perm and Ov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produce by Mei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haploid e.g. in humans: 23 chromos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09C7-DB9B-4EC3-90BB-AA2CB421C6D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A252-0964-490F-AA27-648EE2CA1AE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745164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Administrator</cp:lastModifiedBy>
  <dcterms:modified xsi:type="dcterms:W3CDTF">2013-02-09T06:05:36Z</dcterms:modified>
  <cp:revision>21</cp:revision>
  <dc:subject/>
  <dc:title>An Introductory Overview of  Cells, Chemical Bonds &amp; Energy</dc:title>
</cp:coreProperties>
</file>