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8D87-1F7D-4A8F-8E7D-201C70D731F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18BC-47FB-4285-B2DB-EAC11FB3ACD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82D1-1235-4CC4-9AFC-F722B83D664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26C3-E798-4536-A245-C0B163825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B4C8-350A-4FA0-B2EC-FE44D86E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DF9F-AD07-4555-99E9-A3C0E15D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4EF1-08F9-4FA1-BA03-839FA0368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2685-4386-4ABB-A587-6CB520640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5488-629E-489C-81B2-3922A7C5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220E-FC13-4445-AC90-8BE1B412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5739-9DAB-4C75-86C7-63364EDC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3AD4-FF72-4260-A4B1-EB9BB52F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089C-CC81-4AE6-B368-2F3FEF59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50AE-0136-4B80-9902-1F219863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02CA-55B6-4ED9-9B64-1410DAF9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3E5B-BE49-4B50-9E9B-F66ECCB7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5D55-28B8-461C-BF31-4CA35169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EECD-46BA-4224-8ADC-FBAA9657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DDF5-825A-4697-81C8-E4976BE60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47F8-DE62-49CB-948E-C9A341BA3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2EE20-A42D-4A39-A2A6-5D8E5E30A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08C4C-1EFA-4E3C-A217-79C85DBB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9034C-33DB-43DB-9EB1-5ED67315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88104-CD78-4479-BA1E-3000C04A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2D61C-76B6-476E-9D12-FF8C58F0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29D9-AF69-426C-8595-C606EB6D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4428E-52BA-43F9-BA5A-E2130905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A21EA-1A27-4A0A-955C-ED83E321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8CD8D-7A9A-4DC1-9CD5-04FBCEBA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E67BE-D582-4F6D-95C5-6CF3A4C1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EC89D-00E1-46B4-AD2F-032C3E2D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969FD-2F7C-43FA-9556-CF1F09CF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09F7F-FD85-4C6C-A355-F8A541BF6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A6E5E-770E-4276-B09E-DA41223E6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F60DC-5EBE-4480-8831-C7151958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008E8-D415-40E8-986B-58C1067F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E81A-211A-4D1A-977D-BBAFDC19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2FF3C-2E39-48B5-B899-B77D9939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B8011-76C7-4143-B9AD-FB796E22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E8F41-29F4-4A4A-B2E5-663DBE83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B66E2-5E94-434B-819A-9204542D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9310E-EF72-4EE7-B71A-1495E448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902DE-4ADC-4B57-A285-1BA49CA4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C4F30-EB4D-4838-B622-D5A230EB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7BABE-877C-4BBA-898C-21A3E10EB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809E9-3F4F-452A-808F-9A0D41F30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7881-27DE-41F4-99F0-73BB70B0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94F7-4364-4ABE-A704-50C2010A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1996-EFCB-4024-8075-7C924350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6046-1335-435C-974F-8D078C3B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F248-E117-4B23-BB57-EE91120A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846D-4087-4A61-9F4C-3469F997E4D1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E340-9528-4E49-87B1-01472A0CB4F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D90F-58F4-4D98-90D8-7B78D8C2501D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3835-E5B8-4263-9A94-DEF7BFDD97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02AF-FDB6-445D-ADC6-6D99327A00E0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8265-8314-4E56-9176-1188D0846A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12D0-139E-4433-A5A8-5F245E7E83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Cell+Theory&amp;source=images&amp;cd=&amp;cad=rja&amp;docid=NR3xQGbDBQ-mkM&amp;tbnid=GuMW8M4gI2bgVM:&amp;ved=0CAUQjRw&amp;url=http%3A%2F%2Fwww.biology.arizona.edu%2Fcell_bio%2Ftutorials%2Fcells%2Fcells3.html&amp;ei=CT8VUbbUNc3AtAaUq4GACA&amp;psig=AFQjCNGxAGdNkQgz_otXjiu7a2U5H9cmwA&amp;ust=1360433195697754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Cambria"/>
              </a:rPr>
              <a:t>An Introductory Overview of </a:t>
            </a:r>
            <a:br>
              <a:rPr sz="4000"/>
            </a:br>
            <a:r>
              <a:rPr b="1" lang="en-GB" sz="4000" spc="-1" strike="noStrike">
                <a:solidFill>
                  <a:srgbClr val="0000ff"/>
                </a:solidFill>
                <a:latin typeface="Cambria"/>
              </a:rPr>
              <a:t>Cel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3"/>
          <p:cNvSpPr/>
          <p:nvPr/>
        </p:nvSpPr>
        <p:spPr>
          <a:xfrm>
            <a:off x="7086600" y="5335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molecular%20biology%20major.jpg"/>
          <p:cNvPicPr/>
          <p:nvPr/>
        </p:nvPicPr>
        <p:blipFill>
          <a:blip r:embed="rId1"/>
          <a:stretch/>
        </p:blipFill>
        <p:spPr>
          <a:xfrm>
            <a:off x="324000" y="189000"/>
            <a:ext cx="1638000" cy="115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4" name="Date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9DBA-A42C-4613-8AA5-FF4703C8568A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B1B2-F097-4757-9270-881A3C9DC03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stick-man-thinking-clip-art.jpg"/>
          <p:cNvPicPr/>
          <p:nvPr/>
        </p:nvPicPr>
        <p:blipFill>
          <a:blip r:embed="rId1"/>
          <a:stretch/>
        </p:blipFill>
        <p:spPr>
          <a:xfrm>
            <a:off x="3314880" y="2781360"/>
            <a:ext cx="1660320" cy="2671560"/>
          </a:xfrm>
          <a:prstGeom prst="rect">
            <a:avLst/>
          </a:prstGeom>
          <a:ln w="0">
            <a:noFill/>
          </a:ln>
        </p:spPr>
      </p:pic>
      <p:sp>
        <p:nvSpPr>
          <p:cNvPr id="233" name="Cloud Callout 5"/>
          <p:cNvSpPr/>
          <p:nvPr/>
        </p:nvSpPr>
        <p:spPr>
          <a:xfrm>
            <a:off x="4716360" y="836640"/>
            <a:ext cx="3456000" cy="2087640"/>
          </a:xfrm>
          <a:prstGeom prst="cloudCallout">
            <a:avLst>
              <a:gd name="adj1" fmla="val -57217"/>
              <a:gd name="adj2" fmla="val 52212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6"/>
          <p:cNvSpPr/>
          <p:nvPr/>
        </p:nvSpPr>
        <p:spPr>
          <a:xfrm>
            <a:off x="5292720" y="1197000"/>
            <a:ext cx="26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Bradley Hand ITC"/>
              </a:rPr>
              <a:t>Is there any exception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7" descr="imagesCA6HQI7B.jpg"/>
          <p:cNvPicPr/>
          <p:nvPr/>
        </p:nvPicPr>
        <p:blipFill>
          <a:blip r:embed="rId2"/>
          <a:stretch/>
        </p:blipFill>
        <p:spPr>
          <a:xfrm>
            <a:off x="5867280" y="443700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236" name="Date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FA0D-C0CA-4686-83FB-6BBC3463C6FE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1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1895-BA0D-4EAA-8AF3-1F220A68004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8"/>
          <p:cNvSpPr/>
          <p:nvPr/>
        </p:nvSpPr>
        <p:spPr>
          <a:xfrm>
            <a:off x="7308720" y="33336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The Exception: Viru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mbria"/>
              </a:rPr>
              <a:t>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Latin for “poison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oes not meet all the criteria of “Lif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Viruses are not cells; they are supra-macromolecules made of two types of macromolecules i.e. proteins and nucleic ac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uter coat is made of proteins and inner core is nucleic acid, which may be either DNA or RNA, but not usually bot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Require a host to replica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4" descr="virus.jpg"/>
          <p:cNvPicPr/>
          <p:nvPr/>
        </p:nvPicPr>
        <p:blipFill>
          <a:blip r:embed="rId1"/>
          <a:stretch/>
        </p:blipFill>
        <p:spPr>
          <a:xfrm>
            <a:off x="6918480" y="2365200"/>
            <a:ext cx="2261880" cy="4273560"/>
          </a:xfrm>
          <a:prstGeom prst="rect">
            <a:avLst/>
          </a:prstGeom>
          <a:ln w="0">
            <a:noFill/>
          </a:ln>
        </p:spPr>
      </p:pic>
      <p:sp>
        <p:nvSpPr>
          <p:cNvPr id="242" name="Date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F916-8670-4FA0-9D1F-6F90EBFFA933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5C90-DC8C-49ED-8C19-2842D8D1573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7"/>
          <p:cNvSpPr/>
          <p:nvPr/>
        </p:nvSpPr>
        <p:spPr>
          <a:xfrm>
            <a:off x="7380360" y="33336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Cambria"/>
              </a:rPr>
              <a:t>Cell Part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f7f7f"/>
                </a:solidFill>
                <a:latin typeface="Cambria"/>
              </a:rPr>
              <a:t>Organell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7444-8A5D-4B80-8948-6FBF375B0EF8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8204-59B5-4CD4-A4D9-E87F5C05680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6"/>
          <p:cNvSpPr/>
          <p:nvPr/>
        </p:nvSpPr>
        <p:spPr>
          <a:xfrm>
            <a:off x="7308720" y="33336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I- Surrounding the Ce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Date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2EB1-DBF1-4524-9511-4FF074F20AD7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9DC7-5A29-4CA6-B427-6358EF714D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250920" y="4238640"/>
            <a:ext cx="4464000" cy="2405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Outer membrane of cell that controls movement in and out of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Made of phospholipid bilayer with embedded proteins (enzymes, receptors, channels et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Place of communication with the environment </a:t>
            </a: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and other cells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Gate of the Cell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"/>
          <p:cNvPicPr/>
          <p:nvPr/>
        </p:nvPicPr>
        <p:blipFill>
          <a:blip r:embed="rId1"/>
          <a:stretch/>
        </p:blipFill>
        <p:spPr>
          <a:xfrm>
            <a:off x="250920" y="1719360"/>
            <a:ext cx="4390920" cy="243972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55" name="Rounded Rectangle 12"/>
          <p:cNvSpPr/>
          <p:nvPr/>
        </p:nvSpPr>
        <p:spPr>
          <a:xfrm>
            <a:off x="250920" y="1143000"/>
            <a:ext cx="2604960" cy="57636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Cel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409840" cy="23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57" name="Rounded Rectangle 14"/>
          <p:cNvSpPr/>
          <p:nvPr/>
        </p:nvSpPr>
        <p:spPr>
          <a:xfrm>
            <a:off x="5940360" y="1700280"/>
            <a:ext cx="1944720" cy="57636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Cell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5"/>
          <p:cNvSpPr/>
          <p:nvPr/>
        </p:nvSpPr>
        <p:spPr>
          <a:xfrm>
            <a:off x="5364000" y="4724280"/>
            <a:ext cx="3637080" cy="16336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Most commonly found in plant  cells &amp; bac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Made of mucopolysaccharides (yeast, procaryotes) or cellulose (pla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Supports &amp; protects cell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1"/>
          <p:cNvSpPr/>
          <p:nvPr/>
        </p:nvSpPr>
        <p:spPr>
          <a:xfrm>
            <a:off x="7451640" y="33336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II- Inside the Cel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Date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41D7-056D-41CD-9109-EDD98CF52389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2E3A-8E5A-4F49-AD3B-CD2BD44DBD0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http://www.buzzle.com/images/diagrams/cell-nucleus-diagram.jpg"/>
          <p:cNvPicPr/>
          <p:nvPr/>
        </p:nvPicPr>
        <p:blipFill>
          <a:blip r:embed="rId1"/>
          <a:stretch/>
        </p:blipFill>
        <p:spPr>
          <a:xfrm>
            <a:off x="3132000" y="1268280"/>
            <a:ext cx="2773440" cy="2355840"/>
          </a:xfrm>
          <a:prstGeom prst="rect">
            <a:avLst/>
          </a:prstGeom>
          <a:ln w="9360">
            <a:solidFill>
              <a:srgbClr val="0066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64" name="Rectangle 5"/>
          <p:cNvSpPr/>
          <p:nvPr/>
        </p:nvSpPr>
        <p:spPr>
          <a:xfrm>
            <a:off x="250920" y="4292640"/>
            <a:ext cx="4249800" cy="20890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rst described by Robert Brown in 183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Largest organelle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parated from cytoplasm by nuclear membrane in eucaryo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ontains genetic material –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Control Center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ounded Rectangle 6"/>
          <p:cNvSpPr/>
          <p:nvPr/>
        </p:nvSpPr>
        <p:spPr>
          <a:xfrm>
            <a:off x="250920" y="3860640"/>
            <a:ext cx="1728720" cy="43200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4643280" y="4292640"/>
            <a:ext cx="4176720" cy="2016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Double membrane envelop that surrounds nucle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Contains nuclear pores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which is </a:t>
            </a: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of selective transport between cytoplasm and inside of nucleus (proteins, mRNA)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Gate of the Nucleus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ounded Rectangle 8"/>
          <p:cNvSpPr/>
          <p:nvPr/>
        </p:nvSpPr>
        <p:spPr>
          <a:xfrm>
            <a:off x="4643280" y="3860640"/>
            <a:ext cx="2448000" cy="43200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Nuclear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0"/>
          <p:cNvSpPr/>
          <p:nvPr/>
        </p:nvSpPr>
        <p:spPr>
          <a:xfrm>
            <a:off x="752472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Continue</a:t>
            </a: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Date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52A9-E25E-4310-92C7-750DCAEFA219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A72E-C61B-49CA-BF19-5F854577FFD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http://www.buzzle.com/images/diagrams/cell-nucleus-diagram.jpg"/>
          <p:cNvPicPr/>
          <p:nvPr/>
        </p:nvPicPr>
        <p:blipFill>
          <a:blip r:embed="rId1"/>
          <a:stretch/>
        </p:blipFill>
        <p:spPr>
          <a:xfrm>
            <a:off x="3059280" y="1268280"/>
            <a:ext cx="2773080" cy="2355840"/>
          </a:xfrm>
          <a:prstGeom prst="rect">
            <a:avLst/>
          </a:prstGeom>
          <a:ln w="9360">
            <a:solidFill>
              <a:srgbClr val="0066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3" name="Rectangle 5"/>
          <p:cNvSpPr/>
          <p:nvPr/>
        </p:nvSpPr>
        <p:spPr>
          <a:xfrm>
            <a:off x="250920" y="4292640"/>
            <a:ext cx="3960720" cy="1800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In nucle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Present in the form of strings of DNA and hist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ontain instructions for traits &amp; characteristic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Director of the Cel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ounded Rectangle 6"/>
          <p:cNvSpPr/>
          <p:nvPr/>
        </p:nvSpPr>
        <p:spPr>
          <a:xfrm>
            <a:off x="250920" y="3933720"/>
            <a:ext cx="2089080" cy="43200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Chromos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4859280" y="4365720"/>
            <a:ext cx="4105440" cy="16556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Inside nucle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 nucleolus plays an indirect role in protein synthesis by producing ribos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Nucleolus is 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not a structure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!!! Just a visible </a:t>
            </a: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reg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ounded Rectangle 8"/>
          <p:cNvSpPr/>
          <p:nvPr/>
        </p:nvSpPr>
        <p:spPr>
          <a:xfrm>
            <a:off x="4859280" y="3933720"/>
            <a:ext cx="2016360" cy="43200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Nucleo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0"/>
          <p:cNvSpPr/>
          <p:nvPr/>
        </p:nvSpPr>
        <p:spPr>
          <a:xfrm>
            <a:off x="752472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8200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Perpetua"/>
              </a:rPr>
              <a:t>Chromosomes in eukaryotes &amp; prokaryotes are differ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826920" y="1773360"/>
          <a:ext cx="7704360" cy="4076640"/>
        </p:xfrm>
        <a:graphic>
          <a:graphicData uri="http://schemas.openxmlformats.org/drawingml/2006/table">
            <a:tbl>
              <a:tblPr/>
              <a:tblGrid>
                <a:gridCol w="3868920"/>
                <a:gridCol w="3835440"/>
              </a:tblGrid>
              <a:tr h="414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PROKARYO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EUKARYO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ngle chromosome plus plasm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ny chromos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rcular chromos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near chromos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de only of D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de of chromatin, a nucleoprotein (DNA coiled around histone protei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und in cytopla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und in a nucle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27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pies its chromosome and divides immediately afterw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pies chromosomes, then the cell grows, then goes through mitosis to organise chromosomes in two equal gro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Text Box 83"/>
          <p:cNvSpPr/>
          <p:nvPr/>
        </p:nvSpPr>
        <p:spPr>
          <a:xfrm>
            <a:off x="488880" y="646740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l Billi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4"/>
          <p:cNvSpPr/>
          <p:nvPr/>
        </p:nvSpPr>
        <p:spPr>
          <a:xfrm>
            <a:off x="752472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5" descr="1940_fs"/>
          <p:cNvPicPr/>
          <p:nvPr/>
        </p:nvPicPr>
        <p:blipFill>
          <a:blip r:embed="rId1"/>
          <a:stretch/>
        </p:blipFill>
        <p:spPr>
          <a:xfrm>
            <a:off x="7143840" y="0"/>
            <a:ext cx="1770120" cy="122400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3"/>
          <p:cNvSpPr/>
          <p:nvPr/>
        </p:nvSpPr>
        <p:spPr>
          <a:xfrm>
            <a:off x="71280" y="2000160"/>
            <a:ext cx="900144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onstant for each cell in the body (except sex cells which only have half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onstant throughout the life of an individ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hrosomes are of two types: autosomes (same in males and females) and sex (X and Y) chromos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onstant for all members of a spe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00080" y="285840"/>
            <a:ext cx="597528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mbria"/>
              </a:rPr>
              <a:t>Numbers of chromos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8"/>
          <p:cNvSpPr/>
          <p:nvPr/>
        </p:nvSpPr>
        <p:spPr>
          <a:xfrm>
            <a:off x="752472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karyotypeX"/>
          <p:cNvPicPr/>
          <p:nvPr/>
        </p:nvPicPr>
        <p:blipFill>
          <a:blip r:embed="rId2"/>
          <a:stretch/>
        </p:blipFill>
        <p:spPr>
          <a:xfrm>
            <a:off x="6754680" y="4133880"/>
            <a:ext cx="19623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ambria"/>
              </a:rPr>
              <a:t>Human Genome Ba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ost human somatic cells are </a:t>
            </a:r>
            <a:r>
              <a:rPr b="0" lang="en-US" sz="2400" spc="-1" strike="noStrike">
                <a:solidFill>
                  <a:srgbClr val="c00000"/>
                </a:solidFill>
                <a:latin typeface="Cambria"/>
              </a:rPr>
              <a:t>diploid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, having 2 copies of each chromosome, one from each par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</a:t>
            </a:r>
            <a:r>
              <a:rPr b="0" lang="en-US" sz="2400" spc="-1" strike="noStrike">
                <a:solidFill>
                  <a:srgbClr val="0066ff"/>
                </a:solidFill>
                <a:latin typeface="Cambria"/>
              </a:rPr>
              <a:t>gamete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, sperm &amp; egg, are </a:t>
            </a:r>
            <a:r>
              <a:rPr b="0" lang="en-US" sz="2400" spc="-1" strike="noStrike">
                <a:solidFill>
                  <a:srgbClr val="c00000"/>
                </a:solidFill>
                <a:latin typeface="Cambria"/>
              </a:rPr>
              <a:t>haploid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, with 1 copy of each chromoso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umans have a haploid number </a:t>
            </a:r>
            <a:r>
              <a:rPr b="1" lang="en-US" sz="2400" spc="-1" strike="noStrike">
                <a:solidFill>
                  <a:srgbClr val="0066ff"/>
                </a:solidFill>
                <a:latin typeface="Cambri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of 23, meaning that there are 23 chromosomes in a complete haploid set.  Thus, gametes have 23 chromosomes and diploid cells have 46. The pairs of chromosome in a diploid cell are called </a:t>
            </a:r>
            <a:r>
              <a:rPr b="0" lang="en-US" sz="2400" spc="-1" strike="noStrike">
                <a:solidFill>
                  <a:srgbClr val="7030a0"/>
                </a:solidFill>
                <a:latin typeface="Cambria"/>
              </a:rPr>
              <a:t>homologu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X and Y chromosomes are </a:t>
            </a:r>
            <a:r>
              <a:rPr b="0" lang="en-US" sz="2400" spc="-1" strike="noStrike">
                <a:solidFill>
                  <a:srgbClr val="0066ff"/>
                </a:solidFill>
                <a:latin typeface="Cambria"/>
              </a:rPr>
              <a:t>sex chromosome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, and the other 22 chromosomes are called </a:t>
            </a:r>
            <a:r>
              <a:rPr b="0" lang="en-US" sz="2400" spc="-1" strike="noStrike">
                <a:solidFill>
                  <a:srgbClr val="0066ff"/>
                </a:solidFill>
                <a:latin typeface="Cambria"/>
              </a:rPr>
              <a:t>autosom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ormal males are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XY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and normal females are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  Thus, sperm cells either contain an X or a Y.  Eggs always contain an X chromoso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Box 3"/>
          <p:cNvSpPr/>
          <p:nvPr/>
        </p:nvSpPr>
        <p:spPr>
          <a:xfrm>
            <a:off x="752472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1541520" y="2133720"/>
            <a:ext cx="895320" cy="8636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2"/>
          <a:stretch/>
        </p:blipFill>
        <p:spPr>
          <a:xfrm>
            <a:off x="1619280" y="2924280"/>
            <a:ext cx="531720" cy="82692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i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4360" y="1844280"/>
            <a:ext cx="86868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mbria"/>
              </a:rPr>
              <a:t>In somatic cells: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iploid (2n) cell: 23 x2= 46 chromos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: 22 pair of autosomes + </a:t>
            </a:r>
            <a:r>
              <a:rPr b="0" lang="en-US" sz="2400" spc="-1" strike="noStrike">
                <a:solidFill>
                  <a:srgbClr val="7030a0"/>
                </a:solidFill>
                <a:latin typeface="Cambria"/>
              </a:rPr>
              <a:t>XY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chromos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: 22 pairs of autosomes + </a:t>
            </a:r>
            <a:r>
              <a:rPr b="0" lang="en-US" sz="2400" spc="-1" strike="noStrike">
                <a:solidFill>
                  <a:srgbClr val="ff0066"/>
                </a:solidFill>
                <a:latin typeface="Cambria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chromos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mbria"/>
              </a:rPr>
              <a:t>In germ ce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perms are of two type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22 autosomes + Y chromoso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22 autosomes + X chromosom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va has: 22 autosomes + X chromos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E0D3-8B02-479B-997C-471F8C89BCAE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6EC1-4E9D-4958-8AB0-3E2CB2E30B3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mbria"/>
              </a:rPr>
              <a:t>What We Will Be Covering-I</a:t>
            </a:r>
            <a:r>
              <a:rPr b="1" lang="en-US" sz="4000" spc="-1" strike="noStrike">
                <a:solidFill>
                  <a:srgbClr val="0000ff"/>
                </a:solidFill>
                <a:latin typeface="Cambri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24000" y="1988640"/>
            <a:ext cx="8496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What is a Cell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e Two Types of Cells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e Excep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e Organelles and Their Fun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Date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DD7B-4128-4963-A960-D8DE6012DBB9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2BB7-4F24-4D3A-8D3E-2C7CB32963C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7380360" y="33336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B8A1-DC68-442C-9E2B-B8BB14311424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2685-6696-4310-8D01-F1315BF366E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mbria"/>
              </a:rPr>
              <a:t>Chromosomes and rep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Box 35"/>
          <p:cNvSpPr/>
          <p:nvPr/>
        </p:nvSpPr>
        <p:spPr>
          <a:xfrm>
            <a:off x="752472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7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85800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8C93-4B0D-4534-AF5B-869ED555142E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E936-A54C-4252-B909-B598E447557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179280" y="4581360"/>
            <a:ext cx="4392720" cy="1800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Gel-like mate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 portion of the cell enclosed by the cell membrane but not part of any organ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It stores the organelles, water, and the chemicals in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Area of Movement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ounded Rectangle 6"/>
          <p:cNvSpPr/>
          <p:nvPr/>
        </p:nvSpPr>
        <p:spPr>
          <a:xfrm>
            <a:off x="179280" y="4149720"/>
            <a:ext cx="151308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4788000" y="4581360"/>
            <a:ext cx="4032000" cy="1800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 transportation center for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mooth and rough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R Site of fatty acid and phospholipid synthesis, While RER place of extracellular proteins 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ounded Rectangle 8"/>
          <p:cNvSpPr/>
          <p:nvPr/>
        </p:nvSpPr>
        <p:spPr>
          <a:xfrm>
            <a:off x="4788000" y="414972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Endoplasmic Ret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" descr="http://library.thinkquest.org/06aug/01942/plcells/thinkquest/cytoplasm.jpg"/>
          <p:cNvPicPr/>
          <p:nvPr/>
        </p:nvPicPr>
        <p:blipFill>
          <a:blip r:embed="rId1"/>
          <a:stretch/>
        </p:blipFill>
        <p:spPr>
          <a:xfrm>
            <a:off x="798480" y="1974960"/>
            <a:ext cx="2590920" cy="344484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2"/>
          <p:cNvSpPr/>
          <p:nvPr/>
        </p:nvSpPr>
        <p:spPr>
          <a:xfrm>
            <a:off x="3240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Continue</a:t>
            </a: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http://library.thinkquest.org/06aug/01942/plcells/thinkquest/ER.jpg"/>
          <p:cNvPicPr/>
          <p:nvPr/>
        </p:nvPicPr>
        <p:blipFill>
          <a:blip r:embed="rId2"/>
          <a:stretch/>
        </p:blipFill>
        <p:spPr>
          <a:xfrm>
            <a:off x="5334120" y="2048040"/>
            <a:ext cx="2743200" cy="3103560"/>
          </a:xfrm>
          <a:prstGeom prst="rect">
            <a:avLst/>
          </a:prstGeom>
          <a:ln w="0">
            <a:noFill/>
          </a:ln>
        </p:spPr>
      </p:pic>
      <p:sp>
        <p:nvSpPr>
          <p:cNvPr id="310" name="TextBox 12"/>
          <p:cNvSpPr/>
          <p:nvPr/>
        </p:nvSpPr>
        <p:spPr>
          <a:xfrm>
            <a:off x="752472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EC3E-6DF4-4ED0-BC2A-16DC0B88EE80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ED5C-D21D-4BEA-AF45-7EB859A7A74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250920" y="4581360"/>
            <a:ext cx="4105080" cy="1656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nd in the cytoplasm and on the 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ir job is to make prote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 nucleus makes the ribosomes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ounded Rectangle 6"/>
          <p:cNvSpPr/>
          <p:nvPr/>
        </p:nvSpPr>
        <p:spPr>
          <a:xfrm>
            <a:off x="250920" y="4149720"/>
            <a:ext cx="187308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Ribos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4788000" y="4581360"/>
            <a:ext cx="4032000" cy="1656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Place of oxidative metabolism and ATP production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ontains its own DNA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ribosomes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Powerhouse of the Cell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ounded Rectangle 8"/>
          <p:cNvSpPr/>
          <p:nvPr/>
        </p:nvSpPr>
        <p:spPr>
          <a:xfrm>
            <a:off x="4788000" y="4149720"/>
            <a:ext cx="201600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GB" sz="2000" spc="-1" strike="noStrike">
                <a:solidFill>
                  <a:srgbClr val="ff0000"/>
                </a:solidFill>
                <a:latin typeface="Cambria"/>
              </a:rPr>
              <a:t>Mitochond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3240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Continue</a:t>
            </a: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" descr="http://library.thinkquest.org/06aug/01942/plcells/thinkquest/ribosomes.jpg"/>
          <p:cNvPicPr/>
          <p:nvPr/>
        </p:nvPicPr>
        <p:blipFill>
          <a:blip r:embed="rId1"/>
          <a:stretch/>
        </p:blipFill>
        <p:spPr>
          <a:xfrm>
            <a:off x="652320" y="2266920"/>
            <a:ext cx="2767320" cy="30909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http://library.thinkquest.org/06aug/01942/plcells/thinkquest/mitochrondria.jpg"/>
          <p:cNvPicPr/>
          <p:nvPr/>
        </p:nvPicPr>
        <p:blipFill>
          <a:blip r:embed="rId2"/>
          <a:stretch/>
        </p:blipFill>
        <p:spPr>
          <a:xfrm>
            <a:off x="5334120" y="2193840"/>
            <a:ext cx="2517480" cy="3292560"/>
          </a:xfrm>
          <a:prstGeom prst="rect">
            <a:avLst/>
          </a:prstGeom>
          <a:ln w="0">
            <a:noFill/>
          </a:ln>
        </p:spPr>
      </p:pic>
      <p:sp>
        <p:nvSpPr>
          <p:cNvPr id="320" name="TextBox 12"/>
          <p:cNvSpPr/>
          <p:nvPr/>
        </p:nvSpPr>
        <p:spPr>
          <a:xfrm>
            <a:off x="752472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6708-BE52-48C6-8C70-904EF51E0C0E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539A-06D5-4392-AA58-D328C52A386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250920" y="4581360"/>
            <a:ext cx="3889440" cy="1368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Package and to move protein to the out side of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y also process proteins from ribosomes that are located on the ER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ounded Rectangle 6"/>
          <p:cNvSpPr/>
          <p:nvPr/>
        </p:nvSpPr>
        <p:spPr>
          <a:xfrm>
            <a:off x="250920" y="4149720"/>
            <a:ext cx="208908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Golgi 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4643280" y="4581360"/>
            <a:ext cx="4321440" cy="1872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Digest the wastes and unwanted organel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Acidic organelles - low pH due to proton pump (pH=5) in the membr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ontain many degradative enzymes such as </a:t>
            </a: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acid hydrol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ounded Rectangle 8"/>
          <p:cNvSpPr/>
          <p:nvPr/>
        </p:nvSpPr>
        <p:spPr>
          <a:xfrm>
            <a:off x="4932360" y="4149720"/>
            <a:ext cx="180036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GB" sz="2000" spc="-1" strike="noStrike">
                <a:solidFill>
                  <a:srgbClr val="ff0000"/>
                </a:solidFill>
                <a:latin typeface="Cambria"/>
              </a:rPr>
              <a:t>Lyso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240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Continue</a:t>
            </a: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2" descr="http://library.thinkquest.org/06aug/01942/plcells/thinkquest/GB.jpg"/>
          <p:cNvPicPr/>
          <p:nvPr/>
        </p:nvPicPr>
        <p:blipFill>
          <a:blip r:embed="rId1"/>
          <a:stretch/>
        </p:blipFill>
        <p:spPr>
          <a:xfrm>
            <a:off x="798480" y="2120760"/>
            <a:ext cx="2200320" cy="29275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" descr="http://library.thinkquest.org/06aug/01942/plcells/thinkquest/lysosomes.jpg"/>
          <p:cNvPicPr/>
          <p:nvPr/>
        </p:nvPicPr>
        <p:blipFill>
          <a:blip r:embed="rId2"/>
          <a:stretch/>
        </p:blipFill>
        <p:spPr>
          <a:xfrm>
            <a:off x="5546880" y="2120760"/>
            <a:ext cx="2238120" cy="2944800"/>
          </a:xfrm>
          <a:prstGeom prst="rect">
            <a:avLst/>
          </a:prstGeom>
          <a:ln w="0">
            <a:noFill/>
          </a:ln>
        </p:spPr>
      </p:pic>
      <p:sp>
        <p:nvSpPr>
          <p:cNvPr id="330" name="TextBox 13"/>
          <p:cNvSpPr/>
          <p:nvPr/>
        </p:nvSpPr>
        <p:spPr>
          <a:xfrm>
            <a:off x="752472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85B4-5CE4-420D-96C9-C736EDFD0CC2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1625-031F-406B-B0DB-580B1959B17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Cloud Callout 5"/>
          <p:cNvSpPr/>
          <p:nvPr/>
        </p:nvSpPr>
        <p:spPr>
          <a:xfrm>
            <a:off x="3492360" y="333360"/>
            <a:ext cx="4608720" cy="3240000"/>
          </a:xfrm>
          <a:prstGeom prst="cloudCallout">
            <a:avLst>
              <a:gd name="adj1" fmla="val -48037"/>
              <a:gd name="adj2" fmla="val 68648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6"/>
          <p:cNvSpPr/>
          <p:nvPr/>
        </p:nvSpPr>
        <p:spPr>
          <a:xfrm>
            <a:off x="3708360" y="981000"/>
            <a:ext cx="3959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radley Hand ITC"/>
              </a:rPr>
              <a:t>Tay-Sachs disease</a:t>
            </a:r>
            <a:r>
              <a:rPr b="1" lang="en-US" sz="2800" spc="-1" strike="noStrike">
                <a:solidFill>
                  <a:srgbClr val="0033cc"/>
                </a:solidFill>
                <a:latin typeface="Bradley Hand ITC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radley Hand ITC"/>
              </a:rPr>
              <a:t>is a genetic defect in one of specific  lysosomal hydro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4405320" y="4221000"/>
            <a:ext cx="3171960" cy="191628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36" name="Picture 8" descr="stick-man-thinking-clip-art.jpg"/>
          <p:cNvPicPr/>
          <p:nvPr/>
        </p:nvPicPr>
        <p:blipFill>
          <a:blip r:embed="rId2"/>
          <a:stretch/>
        </p:blipFill>
        <p:spPr>
          <a:xfrm>
            <a:off x="2556000" y="4149720"/>
            <a:ext cx="121284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A437-EBEB-4DE6-8124-07CD677DE071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851A-0C7A-4DA3-8612-11ED5DF100B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250920" y="4581360"/>
            <a:ext cx="3960720" cy="1440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 vacuole in the plant cell is larger than the vacuole in the animal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Membrane-bound sacs for storage, digestion, and waste remov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 “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Storage Tanks”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ounded Rectangle 6"/>
          <p:cNvSpPr/>
          <p:nvPr/>
        </p:nvSpPr>
        <p:spPr>
          <a:xfrm>
            <a:off x="250920" y="4149720"/>
            <a:ext cx="208908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Vacu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4716360" y="4581360"/>
            <a:ext cx="3959280" cy="1224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ontains green chlorophy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here photosynthesis takes pl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Food Producers”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ounded Rectangle 8"/>
          <p:cNvSpPr/>
          <p:nvPr/>
        </p:nvSpPr>
        <p:spPr>
          <a:xfrm>
            <a:off x="4932360" y="4149720"/>
            <a:ext cx="180036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Chlorop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"/>
          <p:cNvSpPr/>
          <p:nvPr/>
        </p:nvSpPr>
        <p:spPr>
          <a:xfrm>
            <a:off x="3240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Continue</a:t>
            </a: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http://library.thinkquest.org/06aug/01942/plcells/thinkquest/cell232.jpg"/>
          <p:cNvPicPr/>
          <p:nvPr/>
        </p:nvPicPr>
        <p:blipFill>
          <a:blip r:embed="rId1"/>
          <a:stretch/>
        </p:blipFill>
        <p:spPr>
          <a:xfrm>
            <a:off x="1158840" y="2109960"/>
            <a:ext cx="2005200" cy="29318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7" descr="chloroplast"/>
          <p:cNvPicPr/>
          <p:nvPr/>
        </p:nvPicPr>
        <p:blipFill>
          <a:blip r:embed="rId2"/>
          <a:stretch/>
        </p:blipFill>
        <p:spPr>
          <a:xfrm>
            <a:off x="5840280" y="1974960"/>
            <a:ext cx="1785960" cy="3535200"/>
          </a:xfrm>
          <a:prstGeom prst="rect">
            <a:avLst/>
          </a:prstGeom>
          <a:ln w="0">
            <a:noFill/>
          </a:ln>
        </p:spPr>
      </p:pic>
      <p:sp>
        <p:nvSpPr>
          <p:cNvPr id="346" name="TextBox 14"/>
          <p:cNvSpPr/>
          <p:nvPr/>
        </p:nvSpPr>
        <p:spPr>
          <a:xfrm>
            <a:off x="752472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ambria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2555-94ED-45F3-BC2F-89CF67A02154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72EB-B5C5-4532-8052-86BEA6DFD91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5" descr=""/>
          <p:cNvPicPr/>
          <p:nvPr/>
        </p:nvPicPr>
        <p:blipFill>
          <a:blip r:embed="rId1"/>
          <a:stretch/>
        </p:blipFill>
        <p:spPr>
          <a:xfrm>
            <a:off x="2286000" y="855720"/>
            <a:ext cx="5114880" cy="6002280"/>
          </a:xfrm>
          <a:prstGeom prst="rect">
            <a:avLst/>
          </a:prstGeom>
          <a:ln w="9360">
            <a:solidFill>
              <a:srgbClr val="0033cc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51" name="TextBox 7"/>
          <p:cNvSpPr/>
          <p:nvPr/>
        </p:nvSpPr>
        <p:spPr>
          <a:xfrm>
            <a:off x="752472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4" descr="stick-man-thinking-clip-art.jpg"/>
          <p:cNvPicPr/>
          <p:nvPr/>
        </p:nvPicPr>
        <p:blipFill>
          <a:blip r:embed="rId1"/>
          <a:stretch/>
        </p:blipFill>
        <p:spPr>
          <a:xfrm>
            <a:off x="2771640" y="2997360"/>
            <a:ext cx="1660680" cy="2671560"/>
          </a:xfrm>
          <a:prstGeom prst="rect">
            <a:avLst/>
          </a:prstGeom>
          <a:ln w="0">
            <a:noFill/>
          </a:ln>
        </p:spPr>
      </p:pic>
      <p:sp>
        <p:nvSpPr>
          <p:cNvPr id="353" name="Cloud Callout 5"/>
          <p:cNvSpPr/>
          <p:nvPr/>
        </p:nvSpPr>
        <p:spPr>
          <a:xfrm>
            <a:off x="4716360" y="836640"/>
            <a:ext cx="3959280" cy="2663640"/>
          </a:xfrm>
          <a:prstGeom prst="cloudCallout">
            <a:avLst>
              <a:gd name="adj1" fmla="val -70712"/>
              <a:gd name="adj2" fmla="val 34828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6"/>
          <p:cNvSpPr/>
          <p:nvPr/>
        </p:nvSpPr>
        <p:spPr>
          <a:xfrm>
            <a:off x="5292720" y="1197000"/>
            <a:ext cx="26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Bradley Hand ITC"/>
              </a:rPr>
              <a:t>See you later to continue with the </a:t>
            </a:r>
            <a:r>
              <a:rPr b="1" lang="en-US" sz="2400" spc="-1" strike="noStrike">
                <a:solidFill>
                  <a:srgbClr val="0033cc"/>
                </a:solidFill>
                <a:latin typeface="Bradley Hand ITC"/>
              </a:rPr>
              <a:t>The structure and properties of Nucleot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Date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A2FB-3FF8-4AB3-9108-F96AB50A2A7D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1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9B67-20E8-499C-B119-6D947910BE3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7"/>
          <p:cNvSpPr/>
          <p:nvPr/>
        </p:nvSpPr>
        <p:spPr>
          <a:xfrm>
            <a:off x="752472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Life begins with cel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ell came from Latin word mean small ro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cell is the functional and structural unit of all living organis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The Cell Theory --1839 by the German botanist Matthias Jakob Schleiden and German physiologist Theodore Schwan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Date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FE9B-CE78-42A8-BF7D-A43A93A3FB84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D2E8-1EC6-485A-9F27-465D0A9C567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9"/>
          <p:cNvSpPr/>
          <p:nvPr/>
        </p:nvSpPr>
        <p:spPr>
          <a:xfrm>
            <a:off x="7524720" y="33336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Cell The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ll living things are made up of cell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ells are the smallest working units of all living thing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ll cells come from preexisting cells through cell divis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Date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C113-8518-4EAE-9A8C-6E7ACB8590D7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9747-1A83-4A69-86DE-A1EF89D6ED6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9"/>
          <p:cNvSpPr/>
          <p:nvPr/>
        </p:nvSpPr>
        <p:spPr>
          <a:xfrm>
            <a:off x="7086600" y="5335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http://www.biology.arizona.edu/cell_bio/tutorials/cells/graphics/timeline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62000" y="3359160"/>
            <a:ext cx="545652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23640" y="2707920"/>
            <a:ext cx="48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mbria"/>
              </a:rPr>
              <a:t>Examples of Cel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9" descr="amoebaproteus"/>
          <p:cNvPicPr/>
          <p:nvPr/>
        </p:nvPicPr>
        <p:blipFill>
          <a:blip r:embed="rId1"/>
          <a:stretch/>
        </p:blipFill>
        <p:spPr>
          <a:xfrm>
            <a:off x="324000" y="981000"/>
            <a:ext cx="1214280" cy="1943280"/>
          </a:xfrm>
          <a:prstGeom prst="rect">
            <a:avLst/>
          </a:prstGeom>
          <a:ln w="19080">
            <a:solidFill>
              <a:srgbClr val="66006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4" name="Picture 10" descr="poplarleaf"/>
          <p:cNvPicPr/>
          <p:nvPr/>
        </p:nvPicPr>
        <p:blipFill>
          <a:blip r:embed="rId2"/>
          <a:stretch/>
        </p:blipFill>
        <p:spPr>
          <a:xfrm>
            <a:off x="7169040" y="1004760"/>
            <a:ext cx="1506600" cy="1487520"/>
          </a:xfrm>
          <a:prstGeom prst="rect">
            <a:avLst/>
          </a:prstGeom>
          <a:ln w="19080">
            <a:solidFill>
              <a:srgbClr val="66006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5" name="Picture 11" descr="redbloodcells"/>
          <p:cNvPicPr/>
          <p:nvPr/>
        </p:nvPicPr>
        <p:blipFill>
          <a:blip r:embed="rId3"/>
          <a:stretch/>
        </p:blipFill>
        <p:spPr>
          <a:xfrm>
            <a:off x="7164360" y="4941720"/>
            <a:ext cx="1548000" cy="1440000"/>
          </a:xfrm>
          <a:prstGeom prst="rect">
            <a:avLst/>
          </a:prstGeom>
          <a:ln w="9360">
            <a:solidFill>
              <a:srgbClr val="66006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6" name="Picture 15" descr="nrn956-i1"/>
          <p:cNvPicPr/>
          <p:nvPr/>
        </p:nvPicPr>
        <p:blipFill>
          <a:blip r:embed="rId4"/>
          <a:stretch/>
        </p:blipFill>
        <p:spPr>
          <a:xfrm>
            <a:off x="324000" y="4005360"/>
            <a:ext cx="1255680" cy="1792080"/>
          </a:xfrm>
          <a:prstGeom prst="rect">
            <a:avLst/>
          </a:prstGeom>
          <a:ln w="19080">
            <a:solidFill>
              <a:srgbClr val="66006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7" name="Picture 17" descr="bacteria"/>
          <p:cNvPicPr/>
          <p:nvPr/>
        </p:nvPicPr>
        <p:blipFill>
          <a:blip r:embed="rId5"/>
          <a:stretch/>
        </p:blipFill>
        <p:spPr>
          <a:xfrm>
            <a:off x="7164360" y="3197160"/>
            <a:ext cx="1511280" cy="1239840"/>
          </a:xfrm>
          <a:prstGeom prst="rect">
            <a:avLst/>
          </a:prstGeom>
          <a:ln w="9360">
            <a:solidFill>
              <a:srgbClr val="66006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98" name="Rectangle 12"/>
          <p:cNvSpPr/>
          <p:nvPr/>
        </p:nvSpPr>
        <p:spPr>
          <a:xfrm>
            <a:off x="7164360" y="4437000"/>
            <a:ext cx="1511280" cy="36036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ambria"/>
              </a:rPr>
              <a:t>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3"/>
          <p:cNvSpPr/>
          <p:nvPr/>
        </p:nvSpPr>
        <p:spPr>
          <a:xfrm>
            <a:off x="7164360" y="2492280"/>
            <a:ext cx="1511280" cy="36036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ambria"/>
              </a:rPr>
              <a:t>Plant 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4"/>
          <p:cNvSpPr/>
          <p:nvPr/>
        </p:nvSpPr>
        <p:spPr>
          <a:xfrm>
            <a:off x="7164360" y="6381720"/>
            <a:ext cx="1584360" cy="36036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Cambria"/>
              </a:rPr>
              <a:t>Red Blood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324000" y="5805360"/>
            <a:ext cx="1295280" cy="36036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ambria"/>
              </a:rPr>
              <a:t>Nerv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6"/>
          <p:cNvSpPr/>
          <p:nvPr/>
        </p:nvSpPr>
        <p:spPr>
          <a:xfrm>
            <a:off x="324000" y="2924280"/>
            <a:ext cx="1223640" cy="50472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ambria"/>
              </a:rPr>
              <a:t>Amoeba Prot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ate Placeholder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430C-38AC-4489-BF63-715DDD37F692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2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4205-F133-4DE4-817D-FC6BD5C098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7"/>
          <p:cNvSpPr/>
          <p:nvPr/>
        </p:nvSpPr>
        <p:spPr>
          <a:xfrm>
            <a:off x="7086600" y="5335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Types of Cel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267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Prokaryo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Bacter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Archa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mbria"/>
              </a:rPr>
              <a:t>2.      </a:t>
            </a: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Eukaryo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ambria"/>
              </a:rPr>
              <a:t>Unicell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Prot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ambria"/>
              </a:rPr>
              <a:t>Multi-cell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Fung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Pla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Anim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3344760" y="1844640"/>
            <a:ext cx="5537160" cy="3745080"/>
          </a:xfrm>
          <a:prstGeom prst="rect">
            <a:avLst/>
          </a:prstGeom>
          <a:ln w="28440">
            <a:solidFill>
              <a:srgbClr val="0033cc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09" name="Date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D613-B3F1-4003-AC25-49F70BE30856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457D-2DC0-48F2-AE73-1F9BBCB207A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0"/>
          <p:cNvSpPr/>
          <p:nvPr/>
        </p:nvSpPr>
        <p:spPr>
          <a:xfrm>
            <a:off x="7086600" y="5335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Prokaryotic Cells</a:t>
            </a: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79280" y="1557360"/>
            <a:ext cx="489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mbria"/>
              </a:rPr>
              <a:t>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Unicellular (some multi-cellular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Lacks a membrane bound nucleu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Lacks membrane bound organel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Has a cell membrane  and cell wal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Has ribosomes (protein production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Circular D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5059440" y="2349360"/>
            <a:ext cx="3902040" cy="302436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5" name="Date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2339-1B31-4E60-9CC5-E407343F171B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C357-17E8-4C1D-9874-4246E648E37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7086600" y="5335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Eukaryo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8360" y="1341360"/>
            <a:ext cx="562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mbria"/>
              </a:rPr>
              <a:t>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Unicellular (Protist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Multicellular (fungi, plants, animal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mbria"/>
              </a:rPr>
              <a:t>Membrane bound Nucleu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Contains Organel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Linear D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18" descr="1plant3"/>
          <p:cNvPicPr/>
          <p:nvPr/>
        </p:nvPicPr>
        <p:blipFill>
          <a:blip r:embed="rId1"/>
          <a:stretch/>
        </p:blipFill>
        <p:spPr>
          <a:xfrm>
            <a:off x="5757840" y="1484280"/>
            <a:ext cx="3056040" cy="244944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221" name="Rectangle 8"/>
          <p:cNvSpPr/>
          <p:nvPr/>
        </p:nvSpPr>
        <p:spPr>
          <a:xfrm>
            <a:off x="6732720" y="4005360"/>
            <a:ext cx="2124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Bradley Hand ITC"/>
              </a:rPr>
              <a:t>Typical plant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3419640" y="4221000"/>
            <a:ext cx="2124000" cy="3603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3152"/>
                </a:solidFill>
                <a:latin typeface="Bradley Hand ITC"/>
              </a:rPr>
              <a:t>Typical animal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ate Placeholder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6920-7012-480E-940C-FF99D26B0FE5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1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BE7C-C4A0-4A51-AABC-232EECD8642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2"/>
          <a:stretch/>
        </p:blipFill>
        <p:spPr>
          <a:xfrm>
            <a:off x="3419640" y="4581360"/>
            <a:ext cx="2682720" cy="2092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26" name="TextBox 10"/>
          <p:cNvSpPr/>
          <p:nvPr/>
        </p:nvSpPr>
        <p:spPr>
          <a:xfrm>
            <a:off x="7086600" y="5335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Types of Eukaryotic Cells</a:t>
            </a: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1285920"/>
            <a:ext cx="84614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mbria"/>
              </a:rPr>
              <a:t>1. Somat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Greek for “body’’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ll cells in the body except the sex cell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nd in the bones, skin, organs, tissues, blood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Reproduce by Mitosi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ll somatic cells in a human body have the same genetic information (except RB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mbria"/>
              </a:rPr>
              <a:t>2. Ge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 Sex Cell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perm and Ov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Reproduce by Meiosi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re haploid e.g. in humans: 23 chromoso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Date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D7AE-9FAE-45E9-9A9A-ACC462DF45F7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FB97-0574-4489-8401-6758ECAF695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9"/>
          <p:cNvSpPr/>
          <p:nvPr/>
        </p:nvSpPr>
        <p:spPr>
          <a:xfrm>
            <a:off x="745164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2T14:34:35Z</dcterms:created>
  <dc:creator>Sooad</dc:creator>
  <dc:description/>
  <dc:language>en-US</dc:language>
  <cp:lastModifiedBy>Administrator</cp:lastModifiedBy>
  <dcterms:modified xsi:type="dcterms:W3CDTF">2013-02-09T06:05:36Z</dcterms:modified>
  <cp:revision>21</cp:revision>
  <dc:subject/>
  <dc:title>An Introductory Overview of  Cells, Chemical Bonds &amp; Energy</dc:title>
</cp:coreProperties>
</file>