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2AB2-A758-44FD-BD89-89A4A913D7A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D8A8-643E-4A8F-8B8D-3664E9DBD6F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FB5C-AB48-4612-9466-870AF74EFAB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A739-3E72-42D0-8F49-404AAB9F4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8E66-13AB-43B8-961F-885843E5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18F0-B7D5-44DE-8D20-40FC38DED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7792-F554-4011-8DDC-727BB96B2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8E47-1DE8-4D83-BB0B-2D2CBD633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6F52-3883-4B6B-9874-90A508B5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2A6E-6D30-4F9D-9F6F-C48780E9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046B-0F17-4085-B1D0-022B56AC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6873-ADAF-4AE1-B891-66F34687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112B-B4C9-442B-90E7-314F3A04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3226-4CB5-4865-9677-74246FE0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D302-3327-47C9-9E28-963025AE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D32C-E3EB-412C-B31C-8DBE3AC6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B4B2-6CC9-456A-96C4-4A4372BF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2204-33A1-4FE3-9029-9DE2E396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33E9-0482-4C17-9CBD-E886851EC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D66E-4875-4716-9869-EC1E5AFD1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8183E-7ABD-44F3-B35A-3DC791C85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F4D38-DD4C-49A7-B4FD-9B765D4D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8557E-0251-4121-BA09-3597C56D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1BAD3-D8E0-46B3-80D7-96B75721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4E98D-3F12-4B73-902C-11B69243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1453-A0E2-42CE-BC7D-228439ED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BC036-A0F5-430C-99BA-3B5FD0E1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4B6F8-0BF7-4690-82B6-DD23F112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34BC3-D5D6-42F1-A047-0EA035FF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708D6-B31A-4474-82D2-242EE16E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32646-31B7-412C-A273-A450DEE8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C485C-8497-4587-8963-A03B5A736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B0877-6A95-46B6-958B-3B4BA70F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4D5BD-7813-49B8-B1B2-1A6706072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F66BD-C1F3-4455-8948-AA50828D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FFE98-4F62-467A-A74E-FA7DF21E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0DF1-AF01-4F83-8079-DE2B7861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D310C-7F07-41B1-89E6-123FA838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6CE63-D52D-42E1-BFB6-A3F5C7FD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6FA1C-1073-4006-BD9B-EC1BB9E0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2C224-E9BA-4761-9858-B3D00860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38745-38B5-424B-9E28-80317541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D6C1D-8A2E-413D-AEA4-6646CB93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70A42-E60D-451B-BC1B-7BFFE99E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B470D-849E-422E-8A4E-F29BBADE4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3E25B-4FD5-4155-B2D9-DC7B86D84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53A8-F036-42E3-880D-77369AEA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C5FF-659F-4E9C-BB1A-FF10BE45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5579-9594-4CF6-A8B9-B52CB7A0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897D-779E-40F8-9789-52BCEE36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6F11-7033-4F45-9E06-04340330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E8D3-0C6D-4FB3-92E7-9D2EAF8EE29D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254C-AA3F-401D-88C4-C504DCD0001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8A64-9DCA-438F-B300-B47C4C29C8AC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30E7-24C2-412F-961F-89BCF6EBB9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EEF9-FBFA-4EE6-A13A-8D797938A32F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C7AD-E4F4-4FFB-A7DE-7C2D372D32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00F3-B201-41B0-9AFA-52EAE0F82B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Cell+Theory&amp;source=images&amp;cd=&amp;cad=rja&amp;docid=NR3xQGbDBQ-mkM&amp;tbnid=GuMW8M4gI2bgVM:&amp;ved=0CAUQjRw&amp;url=http%3A%2F%2Fwww.biology.arizona.edu%2Fcell_bio%2Ftutorials%2Fcells%2Fcells3.html&amp;ei=CT8VUbbUNc3AtAaUq4GACA&amp;psig=AFQjCNGxAGdNkQgz_otXjiu7a2U5H9cmwA&amp;ust=1360433195697754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Cambria"/>
              </a:rPr>
              <a:t>An Introductory Overview of </a:t>
            </a:r>
            <a:br>
              <a:rPr sz="4000"/>
            </a:br>
            <a:r>
              <a:rPr b="1" lang="en-GB" sz="4000" spc="-1" strike="noStrike">
                <a:solidFill>
                  <a:srgbClr val="0000ff"/>
                </a:solidFill>
                <a:latin typeface="Cambria"/>
              </a:rPr>
              <a:t>Cel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3"/>
          <p:cNvSpPr/>
          <p:nvPr/>
        </p:nvSpPr>
        <p:spPr>
          <a:xfrm>
            <a:off x="7086600" y="5335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molecular%20biology%20major.jpg"/>
          <p:cNvPicPr/>
          <p:nvPr/>
        </p:nvPicPr>
        <p:blipFill>
          <a:blip r:embed="rId1"/>
          <a:stretch/>
        </p:blipFill>
        <p:spPr>
          <a:xfrm>
            <a:off x="324000" y="189000"/>
            <a:ext cx="1638000" cy="115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4" name="Date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6479-B061-44A3-905B-8D217AFF5096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9464-A007-4AA3-AB09-15986FA0F09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stick-man-thinking-clip-art.jpg"/>
          <p:cNvPicPr/>
          <p:nvPr/>
        </p:nvPicPr>
        <p:blipFill>
          <a:blip r:embed="rId1"/>
          <a:stretch/>
        </p:blipFill>
        <p:spPr>
          <a:xfrm>
            <a:off x="3314880" y="2781360"/>
            <a:ext cx="1660320" cy="2671560"/>
          </a:xfrm>
          <a:prstGeom prst="rect">
            <a:avLst/>
          </a:prstGeom>
          <a:ln w="0">
            <a:noFill/>
          </a:ln>
        </p:spPr>
      </p:pic>
      <p:sp>
        <p:nvSpPr>
          <p:cNvPr id="233" name="Cloud Callout 5"/>
          <p:cNvSpPr/>
          <p:nvPr/>
        </p:nvSpPr>
        <p:spPr>
          <a:xfrm>
            <a:off x="4716360" y="836640"/>
            <a:ext cx="3456000" cy="2087640"/>
          </a:xfrm>
          <a:prstGeom prst="cloudCallout">
            <a:avLst>
              <a:gd name="adj1" fmla="val -57217"/>
              <a:gd name="adj2" fmla="val 52212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6"/>
          <p:cNvSpPr/>
          <p:nvPr/>
        </p:nvSpPr>
        <p:spPr>
          <a:xfrm>
            <a:off x="5292720" y="1197000"/>
            <a:ext cx="26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Bradley Hand ITC"/>
              </a:rPr>
              <a:t>Is there any exception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7" descr="imagesCA6HQI7B.jpg"/>
          <p:cNvPicPr/>
          <p:nvPr/>
        </p:nvPicPr>
        <p:blipFill>
          <a:blip r:embed="rId2"/>
          <a:stretch/>
        </p:blipFill>
        <p:spPr>
          <a:xfrm>
            <a:off x="5867280" y="443700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236" name="Date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DEAA-FD29-482E-BF4A-60AA0CA21015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1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8477-FDAF-41AB-BF6E-44CE5F219B2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8"/>
          <p:cNvSpPr/>
          <p:nvPr/>
        </p:nvSpPr>
        <p:spPr>
          <a:xfrm>
            <a:off x="7308720" y="33336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The Exception: Viru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mbria"/>
              </a:rPr>
              <a:t>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Latin for “poison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oes not meet all the criteria of “Lif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Viruses are not cells; they are supra-macromolecules made of two types of macromolecules i.e. proteins and nucleic ac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uter coat is made of proteins and inner core is nucleic acid, which may be either DNA or RNA, but not usually bot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Require a host to replica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4" descr="virus.jpg"/>
          <p:cNvPicPr/>
          <p:nvPr/>
        </p:nvPicPr>
        <p:blipFill>
          <a:blip r:embed="rId1"/>
          <a:stretch/>
        </p:blipFill>
        <p:spPr>
          <a:xfrm>
            <a:off x="6918480" y="2365200"/>
            <a:ext cx="2261880" cy="4273560"/>
          </a:xfrm>
          <a:prstGeom prst="rect">
            <a:avLst/>
          </a:prstGeom>
          <a:ln w="0">
            <a:noFill/>
          </a:ln>
        </p:spPr>
      </p:pic>
      <p:sp>
        <p:nvSpPr>
          <p:cNvPr id="242" name="Date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12DA-57E2-4A7D-BF67-781F50056C5E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6AA9-6C20-440A-8D34-DD2F043BB32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7"/>
          <p:cNvSpPr/>
          <p:nvPr/>
        </p:nvSpPr>
        <p:spPr>
          <a:xfrm>
            <a:off x="7380360" y="33336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Cambria"/>
              </a:rPr>
              <a:t>Cell Part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f7f7f"/>
                </a:solidFill>
                <a:latin typeface="Cambria"/>
              </a:rPr>
              <a:t>Organell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5B30-75D1-4B44-ACAE-6441AFE19CE8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DF47-1946-4E9F-B028-165088F5AD3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6"/>
          <p:cNvSpPr/>
          <p:nvPr/>
        </p:nvSpPr>
        <p:spPr>
          <a:xfrm>
            <a:off x="7308720" y="33336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I- Surrounding the Ce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Date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A03D-CEE8-461B-B990-ABC0D0A5814D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5A5D-3C83-4272-B8E5-786432457D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250920" y="4238640"/>
            <a:ext cx="4464000" cy="2405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Outer membrane of cell that controls movement in and out of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Made of phospholipid bilayer with embedded proteins (enzymes, receptors, channels et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Place of communication with the environment </a:t>
            </a: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and other cells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Gate of the Cell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"/>
          <p:cNvPicPr/>
          <p:nvPr/>
        </p:nvPicPr>
        <p:blipFill>
          <a:blip r:embed="rId1"/>
          <a:stretch/>
        </p:blipFill>
        <p:spPr>
          <a:xfrm>
            <a:off x="250920" y="1719360"/>
            <a:ext cx="4390920" cy="243972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55" name="Rounded Rectangle 12"/>
          <p:cNvSpPr/>
          <p:nvPr/>
        </p:nvSpPr>
        <p:spPr>
          <a:xfrm>
            <a:off x="250920" y="1143000"/>
            <a:ext cx="2604960" cy="57636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Cel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409840" cy="23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57" name="Rounded Rectangle 14"/>
          <p:cNvSpPr/>
          <p:nvPr/>
        </p:nvSpPr>
        <p:spPr>
          <a:xfrm>
            <a:off x="5940360" y="1700280"/>
            <a:ext cx="1944720" cy="57636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Cell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5"/>
          <p:cNvSpPr/>
          <p:nvPr/>
        </p:nvSpPr>
        <p:spPr>
          <a:xfrm>
            <a:off x="5364000" y="4724280"/>
            <a:ext cx="3637080" cy="16336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Most commonly found in plant  cells &amp; bac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Made of mucopolysaccharides (yeast, procaryotes) or cellulose (pla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Supports &amp; protects cell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1"/>
          <p:cNvSpPr/>
          <p:nvPr/>
        </p:nvSpPr>
        <p:spPr>
          <a:xfrm>
            <a:off x="7451640" y="33336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II- Inside the Cel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Date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57AE-09E8-4B57-A85D-43F07BD41BD1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B49F-1D61-49C0-8144-37D130247A4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http://www.buzzle.com/images/diagrams/cell-nucleus-diagram.jpg"/>
          <p:cNvPicPr/>
          <p:nvPr/>
        </p:nvPicPr>
        <p:blipFill>
          <a:blip r:embed="rId1"/>
          <a:stretch/>
        </p:blipFill>
        <p:spPr>
          <a:xfrm>
            <a:off x="3132000" y="1268280"/>
            <a:ext cx="2773440" cy="2355840"/>
          </a:xfrm>
          <a:prstGeom prst="rect">
            <a:avLst/>
          </a:prstGeom>
          <a:ln w="9360">
            <a:solidFill>
              <a:srgbClr val="0066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64" name="Rectangle 5"/>
          <p:cNvSpPr/>
          <p:nvPr/>
        </p:nvSpPr>
        <p:spPr>
          <a:xfrm>
            <a:off x="250920" y="4292640"/>
            <a:ext cx="4249800" cy="20890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rst described by Robert Brown in 183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Largest organelle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parated from cytoplasm by nuclear membrane in eucaryo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ontains genetic material –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Control Center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ounded Rectangle 6"/>
          <p:cNvSpPr/>
          <p:nvPr/>
        </p:nvSpPr>
        <p:spPr>
          <a:xfrm>
            <a:off x="250920" y="3860640"/>
            <a:ext cx="1728720" cy="43200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4643280" y="4292640"/>
            <a:ext cx="4176720" cy="2016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Double membrane envelop that surrounds nucle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Contains nuclear pores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which is </a:t>
            </a: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of selective transport between cytoplasm and inside of nucleus (proteins, mRNA)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Gate of the Nucleus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ounded Rectangle 8"/>
          <p:cNvSpPr/>
          <p:nvPr/>
        </p:nvSpPr>
        <p:spPr>
          <a:xfrm>
            <a:off x="4643280" y="3860640"/>
            <a:ext cx="2448000" cy="43200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Nuclear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0"/>
          <p:cNvSpPr/>
          <p:nvPr/>
        </p:nvSpPr>
        <p:spPr>
          <a:xfrm>
            <a:off x="752472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Continue</a:t>
            </a: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Date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F42B-DBC9-4952-B844-3EAA22B345F6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DF1E-AC2C-446E-831D-410179A9395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http://www.buzzle.com/images/diagrams/cell-nucleus-diagram.jpg"/>
          <p:cNvPicPr/>
          <p:nvPr/>
        </p:nvPicPr>
        <p:blipFill>
          <a:blip r:embed="rId1"/>
          <a:stretch/>
        </p:blipFill>
        <p:spPr>
          <a:xfrm>
            <a:off x="3059280" y="1268280"/>
            <a:ext cx="2773080" cy="2355840"/>
          </a:xfrm>
          <a:prstGeom prst="rect">
            <a:avLst/>
          </a:prstGeom>
          <a:ln w="9360">
            <a:solidFill>
              <a:srgbClr val="0066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3" name="Rectangle 5"/>
          <p:cNvSpPr/>
          <p:nvPr/>
        </p:nvSpPr>
        <p:spPr>
          <a:xfrm>
            <a:off x="250920" y="4292640"/>
            <a:ext cx="3960720" cy="1800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In nucle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Present in the form of strings of DNA and hist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ontain instructions for traits &amp; characteristic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Director of the Cel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ounded Rectangle 6"/>
          <p:cNvSpPr/>
          <p:nvPr/>
        </p:nvSpPr>
        <p:spPr>
          <a:xfrm>
            <a:off x="250920" y="3933720"/>
            <a:ext cx="2089080" cy="43200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Chromos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4859280" y="4365720"/>
            <a:ext cx="4105440" cy="16556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Inside nucle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 nucleolus plays an indirect role in protein synthesis by producing ribos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Nucleolus is 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not a structure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!!! Just a visible </a:t>
            </a: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reg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ounded Rectangle 8"/>
          <p:cNvSpPr/>
          <p:nvPr/>
        </p:nvSpPr>
        <p:spPr>
          <a:xfrm>
            <a:off x="4859280" y="3933720"/>
            <a:ext cx="2016360" cy="43200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Nucleo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0"/>
          <p:cNvSpPr/>
          <p:nvPr/>
        </p:nvSpPr>
        <p:spPr>
          <a:xfrm>
            <a:off x="752472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8200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Perpetua"/>
              </a:rPr>
              <a:t>Chromosomes in eukaryotes &amp; prokaryotes are differ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826920" y="1773360"/>
          <a:ext cx="7704360" cy="4076640"/>
        </p:xfrm>
        <a:graphic>
          <a:graphicData uri="http://schemas.openxmlformats.org/drawingml/2006/table">
            <a:tbl>
              <a:tblPr/>
              <a:tblGrid>
                <a:gridCol w="3868920"/>
                <a:gridCol w="3835440"/>
              </a:tblGrid>
              <a:tr h="414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PROKARYO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EUKARYO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ngle chromosome plus plasm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ny chromos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rcular chromos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near chromos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de only of D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de of chromatin, a nucleoprotein (DNA coiled around histone protei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und in cytopla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und in a nucle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27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pies its chromosome and divides immediately afterw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pies chromosomes, then the cell grows, then goes through mitosis to organise chromosomes in two equal gro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Text Box 83"/>
          <p:cNvSpPr/>
          <p:nvPr/>
        </p:nvSpPr>
        <p:spPr>
          <a:xfrm>
            <a:off x="488880" y="646740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l Billi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4"/>
          <p:cNvSpPr/>
          <p:nvPr/>
        </p:nvSpPr>
        <p:spPr>
          <a:xfrm>
            <a:off x="752472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5" descr="1940_fs"/>
          <p:cNvPicPr/>
          <p:nvPr/>
        </p:nvPicPr>
        <p:blipFill>
          <a:blip r:embed="rId1"/>
          <a:stretch/>
        </p:blipFill>
        <p:spPr>
          <a:xfrm>
            <a:off x="7143840" y="0"/>
            <a:ext cx="1770120" cy="122400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3"/>
          <p:cNvSpPr/>
          <p:nvPr/>
        </p:nvSpPr>
        <p:spPr>
          <a:xfrm>
            <a:off x="71280" y="2000160"/>
            <a:ext cx="900144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onstant for each cell in the body (except sex cells which only have half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onstant throughout the life of an individ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hrosomes are of two types: autosomes (same in males and females) and sex (X and Y) chromos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onstant for all members of a spe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00080" y="285840"/>
            <a:ext cx="597528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mbria"/>
              </a:rPr>
              <a:t>Numbers of chromos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8"/>
          <p:cNvSpPr/>
          <p:nvPr/>
        </p:nvSpPr>
        <p:spPr>
          <a:xfrm>
            <a:off x="752472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karyotypeX"/>
          <p:cNvPicPr/>
          <p:nvPr/>
        </p:nvPicPr>
        <p:blipFill>
          <a:blip r:embed="rId2"/>
          <a:stretch/>
        </p:blipFill>
        <p:spPr>
          <a:xfrm>
            <a:off x="6754680" y="4133880"/>
            <a:ext cx="19623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ambria"/>
              </a:rPr>
              <a:t>Human Genome Ba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ost human somatic cells are </a:t>
            </a:r>
            <a:r>
              <a:rPr b="0" lang="en-US" sz="2400" spc="-1" strike="noStrike">
                <a:solidFill>
                  <a:srgbClr val="c00000"/>
                </a:solidFill>
                <a:latin typeface="Cambria"/>
              </a:rPr>
              <a:t>diploid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, having 2 copies of each chromosome, one from each par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</a:t>
            </a:r>
            <a:r>
              <a:rPr b="0" lang="en-US" sz="2400" spc="-1" strike="noStrike">
                <a:solidFill>
                  <a:srgbClr val="0066ff"/>
                </a:solidFill>
                <a:latin typeface="Cambria"/>
              </a:rPr>
              <a:t>gamete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, sperm &amp; egg, are </a:t>
            </a:r>
            <a:r>
              <a:rPr b="0" lang="en-US" sz="2400" spc="-1" strike="noStrike">
                <a:solidFill>
                  <a:srgbClr val="c00000"/>
                </a:solidFill>
                <a:latin typeface="Cambria"/>
              </a:rPr>
              <a:t>haploid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, with 1 copy of each chromoso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umans have a haploid number </a:t>
            </a:r>
            <a:r>
              <a:rPr b="1" lang="en-US" sz="2400" spc="-1" strike="noStrike">
                <a:solidFill>
                  <a:srgbClr val="0066ff"/>
                </a:solidFill>
                <a:latin typeface="Cambri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of 23, meaning that there are 23 chromosomes in a complete haploid set.  Thus, gametes have 23 chromosomes and diploid cells have 46. The pairs of chromosome in a diploid cell are called </a:t>
            </a:r>
            <a:r>
              <a:rPr b="0" lang="en-US" sz="2400" spc="-1" strike="noStrike">
                <a:solidFill>
                  <a:srgbClr val="7030a0"/>
                </a:solidFill>
                <a:latin typeface="Cambria"/>
              </a:rPr>
              <a:t>homologu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X and Y chromosomes are </a:t>
            </a:r>
            <a:r>
              <a:rPr b="0" lang="en-US" sz="2400" spc="-1" strike="noStrike">
                <a:solidFill>
                  <a:srgbClr val="0066ff"/>
                </a:solidFill>
                <a:latin typeface="Cambria"/>
              </a:rPr>
              <a:t>sex chromosome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, and the other 22 chromosomes are called </a:t>
            </a:r>
            <a:r>
              <a:rPr b="0" lang="en-US" sz="2400" spc="-1" strike="noStrike">
                <a:solidFill>
                  <a:srgbClr val="0066ff"/>
                </a:solidFill>
                <a:latin typeface="Cambria"/>
              </a:rPr>
              <a:t>autosom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ormal males are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XY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and normal females are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  Thus, sperm cells either contain an X or a Y.  Eggs always contain an X chromoso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Box 3"/>
          <p:cNvSpPr/>
          <p:nvPr/>
        </p:nvSpPr>
        <p:spPr>
          <a:xfrm>
            <a:off x="752472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1541520" y="2133720"/>
            <a:ext cx="895320" cy="8636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2"/>
          <a:stretch/>
        </p:blipFill>
        <p:spPr>
          <a:xfrm>
            <a:off x="1619280" y="2924280"/>
            <a:ext cx="531720" cy="82692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i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4360" y="1844280"/>
            <a:ext cx="86868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mbria"/>
              </a:rPr>
              <a:t>In somatic cells: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iploid (2n) cell: 23 x2= 46 chromos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: 22 pair of autosomes + </a:t>
            </a:r>
            <a:r>
              <a:rPr b="0" lang="en-US" sz="2400" spc="-1" strike="noStrike">
                <a:solidFill>
                  <a:srgbClr val="7030a0"/>
                </a:solidFill>
                <a:latin typeface="Cambria"/>
              </a:rPr>
              <a:t>XY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chromos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: 22 pairs of autosomes + </a:t>
            </a:r>
            <a:r>
              <a:rPr b="0" lang="en-US" sz="2400" spc="-1" strike="noStrike">
                <a:solidFill>
                  <a:srgbClr val="ff0066"/>
                </a:solidFill>
                <a:latin typeface="Cambria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chromos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mbria"/>
              </a:rPr>
              <a:t>In germ ce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perms are of two type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22 autosomes + Y chromoso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22 autosomes + X chromosom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va has: 22 autosomes + X chromos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9B41-2B5E-4CB6-960F-C864C0BC0B41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5E70-9FE4-45F5-9AEE-5EF4B77E338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mbria"/>
              </a:rPr>
              <a:t>What We Will Be Covering-I</a:t>
            </a:r>
            <a:r>
              <a:rPr b="1" lang="en-US" sz="4000" spc="-1" strike="noStrike">
                <a:solidFill>
                  <a:srgbClr val="0000ff"/>
                </a:solidFill>
                <a:latin typeface="Cambri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24000" y="1988640"/>
            <a:ext cx="8496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What is a Cell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e Two Types of Cells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e Excep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e Organelles and Their Fun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Date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76E6-F5F3-4C94-A188-75F9392B636D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1422-3499-420C-81D2-7FBB7A35100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7380360" y="33336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82E7-C8A6-4508-B572-4FF51AF7BB17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90A8-2B80-4439-81C9-E4F78EA2789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mbria"/>
              </a:rPr>
              <a:t>Chromosomes and rep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Box 35"/>
          <p:cNvSpPr/>
          <p:nvPr/>
        </p:nvSpPr>
        <p:spPr>
          <a:xfrm>
            <a:off x="752472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7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85800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F0D5-0AF5-46BE-A63D-B12427CEA91A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968C-BF3A-4450-832A-F53C17734E8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179280" y="4581360"/>
            <a:ext cx="4392720" cy="1800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Gel-like mate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 portion of the cell enclosed by the cell membrane but not part of any organ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It stores the organelles, water, and the chemicals in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Area of Movement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ounded Rectangle 6"/>
          <p:cNvSpPr/>
          <p:nvPr/>
        </p:nvSpPr>
        <p:spPr>
          <a:xfrm>
            <a:off x="179280" y="4149720"/>
            <a:ext cx="151308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4788000" y="4581360"/>
            <a:ext cx="4032000" cy="1800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 transportation center for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mooth and rough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R Site of fatty acid and phospholipid synthesis, While RER place of extracellular proteins 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ounded Rectangle 8"/>
          <p:cNvSpPr/>
          <p:nvPr/>
        </p:nvSpPr>
        <p:spPr>
          <a:xfrm>
            <a:off x="4788000" y="414972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Endoplasmic Ret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" descr="http://library.thinkquest.org/06aug/01942/plcells/thinkquest/cytoplasm.jpg"/>
          <p:cNvPicPr/>
          <p:nvPr/>
        </p:nvPicPr>
        <p:blipFill>
          <a:blip r:embed="rId1"/>
          <a:stretch/>
        </p:blipFill>
        <p:spPr>
          <a:xfrm>
            <a:off x="798480" y="1974960"/>
            <a:ext cx="2590920" cy="344484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2"/>
          <p:cNvSpPr/>
          <p:nvPr/>
        </p:nvSpPr>
        <p:spPr>
          <a:xfrm>
            <a:off x="3240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Continue</a:t>
            </a: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http://library.thinkquest.org/06aug/01942/plcells/thinkquest/ER.jpg"/>
          <p:cNvPicPr/>
          <p:nvPr/>
        </p:nvPicPr>
        <p:blipFill>
          <a:blip r:embed="rId2"/>
          <a:stretch/>
        </p:blipFill>
        <p:spPr>
          <a:xfrm>
            <a:off x="5334120" y="2048040"/>
            <a:ext cx="2743200" cy="3103560"/>
          </a:xfrm>
          <a:prstGeom prst="rect">
            <a:avLst/>
          </a:prstGeom>
          <a:ln w="0">
            <a:noFill/>
          </a:ln>
        </p:spPr>
      </p:pic>
      <p:sp>
        <p:nvSpPr>
          <p:cNvPr id="310" name="TextBox 12"/>
          <p:cNvSpPr/>
          <p:nvPr/>
        </p:nvSpPr>
        <p:spPr>
          <a:xfrm>
            <a:off x="752472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52CD-A44F-46EF-901C-23C7C58E2C17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37FC-A489-4C65-A577-1B175374AA8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250920" y="4581360"/>
            <a:ext cx="4105080" cy="1656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nd in the cytoplasm and on the 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ir job is to make prote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 nucleus makes the ribosomes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ounded Rectangle 6"/>
          <p:cNvSpPr/>
          <p:nvPr/>
        </p:nvSpPr>
        <p:spPr>
          <a:xfrm>
            <a:off x="250920" y="4149720"/>
            <a:ext cx="187308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Ribos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4788000" y="4581360"/>
            <a:ext cx="4032000" cy="1656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Place of oxidative metabolism and ATP production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ontains its own DNA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ribosomes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Powerhouse of the Cell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ounded Rectangle 8"/>
          <p:cNvSpPr/>
          <p:nvPr/>
        </p:nvSpPr>
        <p:spPr>
          <a:xfrm>
            <a:off x="4788000" y="4149720"/>
            <a:ext cx="201600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GB" sz="2000" spc="-1" strike="noStrike">
                <a:solidFill>
                  <a:srgbClr val="ff0000"/>
                </a:solidFill>
                <a:latin typeface="Cambria"/>
              </a:rPr>
              <a:t>Mitochond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3240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Continue</a:t>
            </a: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" descr="http://library.thinkquest.org/06aug/01942/plcells/thinkquest/ribosomes.jpg"/>
          <p:cNvPicPr/>
          <p:nvPr/>
        </p:nvPicPr>
        <p:blipFill>
          <a:blip r:embed="rId1"/>
          <a:stretch/>
        </p:blipFill>
        <p:spPr>
          <a:xfrm>
            <a:off x="652320" y="2266920"/>
            <a:ext cx="2767320" cy="30909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http://library.thinkquest.org/06aug/01942/plcells/thinkquest/mitochrondria.jpg"/>
          <p:cNvPicPr/>
          <p:nvPr/>
        </p:nvPicPr>
        <p:blipFill>
          <a:blip r:embed="rId2"/>
          <a:stretch/>
        </p:blipFill>
        <p:spPr>
          <a:xfrm>
            <a:off x="5334120" y="2193840"/>
            <a:ext cx="2517480" cy="3292560"/>
          </a:xfrm>
          <a:prstGeom prst="rect">
            <a:avLst/>
          </a:prstGeom>
          <a:ln w="0">
            <a:noFill/>
          </a:ln>
        </p:spPr>
      </p:pic>
      <p:sp>
        <p:nvSpPr>
          <p:cNvPr id="320" name="TextBox 12"/>
          <p:cNvSpPr/>
          <p:nvPr/>
        </p:nvSpPr>
        <p:spPr>
          <a:xfrm>
            <a:off x="752472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FBDE-54D3-43EF-A2E4-74239410BEB2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46CA-4C24-4A71-8631-DE392090601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250920" y="4581360"/>
            <a:ext cx="3889440" cy="1368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Package and to move protein to the out side of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y also process proteins from ribosomes that are located on the ER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ounded Rectangle 6"/>
          <p:cNvSpPr/>
          <p:nvPr/>
        </p:nvSpPr>
        <p:spPr>
          <a:xfrm>
            <a:off x="250920" y="4149720"/>
            <a:ext cx="208908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Golgi 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4643280" y="4581360"/>
            <a:ext cx="4321440" cy="1872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Digest the wastes and unwanted organel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Acidic organelles - low pH due to proton pump (pH=5) in the membr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ontain many degradative enzymes such as </a:t>
            </a: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acid hydrol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ounded Rectangle 8"/>
          <p:cNvSpPr/>
          <p:nvPr/>
        </p:nvSpPr>
        <p:spPr>
          <a:xfrm>
            <a:off x="4932360" y="4149720"/>
            <a:ext cx="180036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GB" sz="2000" spc="-1" strike="noStrike">
                <a:solidFill>
                  <a:srgbClr val="ff0000"/>
                </a:solidFill>
                <a:latin typeface="Cambria"/>
              </a:rPr>
              <a:t>Lyso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240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Continue</a:t>
            </a: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2" descr="http://library.thinkquest.org/06aug/01942/plcells/thinkquest/GB.jpg"/>
          <p:cNvPicPr/>
          <p:nvPr/>
        </p:nvPicPr>
        <p:blipFill>
          <a:blip r:embed="rId1"/>
          <a:stretch/>
        </p:blipFill>
        <p:spPr>
          <a:xfrm>
            <a:off x="798480" y="2120760"/>
            <a:ext cx="2200320" cy="29275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" descr="http://library.thinkquest.org/06aug/01942/plcells/thinkquest/lysosomes.jpg"/>
          <p:cNvPicPr/>
          <p:nvPr/>
        </p:nvPicPr>
        <p:blipFill>
          <a:blip r:embed="rId2"/>
          <a:stretch/>
        </p:blipFill>
        <p:spPr>
          <a:xfrm>
            <a:off x="5546880" y="2120760"/>
            <a:ext cx="2238120" cy="2944800"/>
          </a:xfrm>
          <a:prstGeom prst="rect">
            <a:avLst/>
          </a:prstGeom>
          <a:ln w="0">
            <a:noFill/>
          </a:ln>
        </p:spPr>
      </p:pic>
      <p:sp>
        <p:nvSpPr>
          <p:cNvPr id="330" name="TextBox 13"/>
          <p:cNvSpPr/>
          <p:nvPr/>
        </p:nvSpPr>
        <p:spPr>
          <a:xfrm>
            <a:off x="752472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2BB2-BC92-43BF-B81E-B6E5897B5F6F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A763-1338-4721-8A79-9E2EB7A4CCF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Cloud Callout 5"/>
          <p:cNvSpPr/>
          <p:nvPr/>
        </p:nvSpPr>
        <p:spPr>
          <a:xfrm>
            <a:off x="3492360" y="333360"/>
            <a:ext cx="4608720" cy="3240000"/>
          </a:xfrm>
          <a:prstGeom prst="cloudCallout">
            <a:avLst>
              <a:gd name="adj1" fmla="val -48037"/>
              <a:gd name="adj2" fmla="val 68648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6"/>
          <p:cNvSpPr/>
          <p:nvPr/>
        </p:nvSpPr>
        <p:spPr>
          <a:xfrm>
            <a:off x="3708360" y="981000"/>
            <a:ext cx="3959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radley Hand ITC"/>
              </a:rPr>
              <a:t>Tay-Sachs disease</a:t>
            </a:r>
            <a:r>
              <a:rPr b="1" lang="en-US" sz="2800" spc="-1" strike="noStrike">
                <a:solidFill>
                  <a:srgbClr val="0033cc"/>
                </a:solidFill>
                <a:latin typeface="Bradley Hand ITC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radley Hand ITC"/>
              </a:rPr>
              <a:t>is a genetic defect in one of specific  lysosomal hydro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4405320" y="4221000"/>
            <a:ext cx="3171960" cy="191628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36" name="Picture 8" descr="stick-man-thinking-clip-art.jpg"/>
          <p:cNvPicPr/>
          <p:nvPr/>
        </p:nvPicPr>
        <p:blipFill>
          <a:blip r:embed="rId2"/>
          <a:stretch/>
        </p:blipFill>
        <p:spPr>
          <a:xfrm>
            <a:off x="2556000" y="4149720"/>
            <a:ext cx="121284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3381-DA44-494E-87A1-0299698F57EE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38FC-EA8B-40EA-85D8-3894ACE80CF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250920" y="4581360"/>
            <a:ext cx="3960720" cy="1440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 vacuole in the plant cell is larger than the vacuole in the animal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Membrane-bound sacs for storage, digestion, and waste remov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 “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Storage Tanks”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ounded Rectangle 6"/>
          <p:cNvSpPr/>
          <p:nvPr/>
        </p:nvSpPr>
        <p:spPr>
          <a:xfrm>
            <a:off x="250920" y="4149720"/>
            <a:ext cx="208908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Vacu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4716360" y="4581360"/>
            <a:ext cx="3959280" cy="1224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ontains green chlorophy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here photosynthesis takes pl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Food Producers”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ounded Rectangle 8"/>
          <p:cNvSpPr/>
          <p:nvPr/>
        </p:nvSpPr>
        <p:spPr>
          <a:xfrm>
            <a:off x="4932360" y="4149720"/>
            <a:ext cx="180036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Chlorop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"/>
          <p:cNvSpPr/>
          <p:nvPr/>
        </p:nvSpPr>
        <p:spPr>
          <a:xfrm>
            <a:off x="3240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Continue</a:t>
            </a: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http://library.thinkquest.org/06aug/01942/plcells/thinkquest/cell232.jpg"/>
          <p:cNvPicPr/>
          <p:nvPr/>
        </p:nvPicPr>
        <p:blipFill>
          <a:blip r:embed="rId1"/>
          <a:stretch/>
        </p:blipFill>
        <p:spPr>
          <a:xfrm>
            <a:off x="1158840" y="2109960"/>
            <a:ext cx="2005200" cy="29318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7" descr="chloroplast"/>
          <p:cNvPicPr/>
          <p:nvPr/>
        </p:nvPicPr>
        <p:blipFill>
          <a:blip r:embed="rId2"/>
          <a:stretch/>
        </p:blipFill>
        <p:spPr>
          <a:xfrm>
            <a:off x="5840280" y="1974960"/>
            <a:ext cx="1785960" cy="3535200"/>
          </a:xfrm>
          <a:prstGeom prst="rect">
            <a:avLst/>
          </a:prstGeom>
          <a:ln w="0">
            <a:noFill/>
          </a:ln>
        </p:spPr>
      </p:pic>
      <p:sp>
        <p:nvSpPr>
          <p:cNvPr id="346" name="TextBox 14"/>
          <p:cNvSpPr/>
          <p:nvPr/>
        </p:nvSpPr>
        <p:spPr>
          <a:xfrm>
            <a:off x="752472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ambria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CE7B-2934-410C-AC38-C621B84C704C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EBD9-4F21-4ADF-B32C-A2A05126F28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5" descr=""/>
          <p:cNvPicPr/>
          <p:nvPr/>
        </p:nvPicPr>
        <p:blipFill>
          <a:blip r:embed="rId1"/>
          <a:stretch/>
        </p:blipFill>
        <p:spPr>
          <a:xfrm>
            <a:off x="2286000" y="855720"/>
            <a:ext cx="5114880" cy="6002280"/>
          </a:xfrm>
          <a:prstGeom prst="rect">
            <a:avLst/>
          </a:prstGeom>
          <a:ln w="9360">
            <a:solidFill>
              <a:srgbClr val="0033cc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51" name="TextBox 7"/>
          <p:cNvSpPr/>
          <p:nvPr/>
        </p:nvSpPr>
        <p:spPr>
          <a:xfrm>
            <a:off x="752472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4" descr="stick-man-thinking-clip-art.jpg"/>
          <p:cNvPicPr/>
          <p:nvPr/>
        </p:nvPicPr>
        <p:blipFill>
          <a:blip r:embed="rId1"/>
          <a:stretch/>
        </p:blipFill>
        <p:spPr>
          <a:xfrm>
            <a:off x="2771640" y="2997360"/>
            <a:ext cx="1660680" cy="2671560"/>
          </a:xfrm>
          <a:prstGeom prst="rect">
            <a:avLst/>
          </a:prstGeom>
          <a:ln w="0">
            <a:noFill/>
          </a:ln>
        </p:spPr>
      </p:pic>
      <p:sp>
        <p:nvSpPr>
          <p:cNvPr id="353" name="Cloud Callout 5"/>
          <p:cNvSpPr/>
          <p:nvPr/>
        </p:nvSpPr>
        <p:spPr>
          <a:xfrm>
            <a:off x="4716360" y="836640"/>
            <a:ext cx="3959280" cy="2663640"/>
          </a:xfrm>
          <a:prstGeom prst="cloudCallout">
            <a:avLst>
              <a:gd name="adj1" fmla="val -70712"/>
              <a:gd name="adj2" fmla="val 34828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6"/>
          <p:cNvSpPr/>
          <p:nvPr/>
        </p:nvSpPr>
        <p:spPr>
          <a:xfrm>
            <a:off x="5292720" y="1197000"/>
            <a:ext cx="26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Bradley Hand ITC"/>
              </a:rPr>
              <a:t>See you later to continue with the </a:t>
            </a:r>
            <a:r>
              <a:rPr b="1" lang="en-US" sz="2400" spc="-1" strike="noStrike">
                <a:solidFill>
                  <a:srgbClr val="0033cc"/>
                </a:solidFill>
                <a:latin typeface="Bradley Hand ITC"/>
              </a:rPr>
              <a:t>The structure and properties of Nucleot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Date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25EA-CC47-4440-BCBB-97619B68C086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1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99E4-0B31-4CF5-8021-B5922B26DC8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7"/>
          <p:cNvSpPr/>
          <p:nvPr/>
        </p:nvSpPr>
        <p:spPr>
          <a:xfrm>
            <a:off x="752472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Life begins with cel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ell came from Latin word mean small ro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cell is the functional and structural unit of all living organis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The Cell Theory --1839 by the German botanist Matthias Jakob Schleiden and German physiologist Theodore Schwan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Date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FE15-7ED5-4166-9200-CA83AC830B85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419D-DD4E-4FE1-8866-44332B18DA9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9"/>
          <p:cNvSpPr/>
          <p:nvPr/>
        </p:nvSpPr>
        <p:spPr>
          <a:xfrm>
            <a:off x="7524720" y="33336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Cell The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ll living things are made up of cell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ells are the smallest working units of all living thing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ll cells come from preexisting cells through cell divis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Date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48C0-E678-4C54-AF4D-2BA2EED3E814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3C20-E19C-472F-BA84-BF6C9DB9049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9"/>
          <p:cNvSpPr/>
          <p:nvPr/>
        </p:nvSpPr>
        <p:spPr>
          <a:xfrm>
            <a:off x="7086600" y="5335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http://www.biology.arizona.edu/cell_bio/tutorials/cells/graphics/timeline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62000" y="3359160"/>
            <a:ext cx="545652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23640" y="2707920"/>
            <a:ext cx="48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mbria"/>
              </a:rPr>
              <a:t>Examples of Cel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9" descr="amoebaproteus"/>
          <p:cNvPicPr/>
          <p:nvPr/>
        </p:nvPicPr>
        <p:blipFill>
          <a:blip r:embed="rId1"/>
          <a:stretch/>
        </p:blipFill>
        <p:spPr>
          <a:xfrm>
            <a:off x="324000" y="981000"/>
            <a:ext cx="1214280" cy="1943280"/>
          </a:xfrm>
          <a:prstGeom prst="rect">
            <a:avLst/>
          </a:prstGeom>
          <a:ln w="19080">
            <a:solidFill>
              <a:srgbClr val="66006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4" name="Picture 10" descr="poplarleaf"/>
          <p:cNvPicPr/>
          <p:nvPr/>
        </p:nvPicPr>
        <p:blipFill>
          <a:blip r:embed="rId2"/>
          <a:stretch/>
        </p:blipFill>
        <p:spPr>
          <a:xfrm>
            <a:off x="7169040" y="1004760"/>
            <a:ext cx="1506600" cy="1487520"/>
          </a:xfrm>
          <a:prstGeom prst="rect">
            <a:avLst/>
          </a:prstGeom>
          <a:ln w="19080">
            <a:solidFill>
              <a:srgbClr val="66006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5" name="Picture 11" descr="redbloodcells"/>
          <p:cNvPicPr/>
          <p:nvPr/>
        </p:nvPicPr>
        <p:blipFill>
          <a:blip r:embed="rId3"/>
          <a:stretch/>
        </p:blipFill>
        <p:spPr>
          <a:xfrm>
            <a:off x="7164360" y="4941720"/>
            <a:ext cx="1548000" cy="1440000"/>
          </a:xfrm>
          <a:prstGeom prst="rect">
            <a:avLst/>
          </a:prstGeom>
          <a:ln w="9360">
            <a:solidFill>
              <a:srgbClr val="66006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6" name="Picture 15" descr="nrn956-i1"/>
          <p:cNvPicPr/>
          <p:nvPr/>
        </p:nvPicPr>
        <p:blipFill>
          <a:blip r:embed="rId4"/>
          <a:stretch/>
        </p:blipFill>
        <p:spPr>
          <a:xfrm>
            <a:off x="324000" y="4005360"/>
            <a:ext cx="1255680" cy="1792080"/>
          </a:xfrm>
          <a:prstGeom prst="rect">
            <a:avLst/>
          </a:prstGeom>
          <a:ln w="19080">
            <a:solidFill>
              <a:srgbClr val="66006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7" name="Picture 17" descr="bacteria"/>
          <p:cNvPicPr/>
          <p:nvPr/>
        </p:nvPicPr>
        <p:blipFill>
          <a:blip r:embed="rId5"/>
          <a:stretch/>
        </p:blipFill>
        <p:spPr>
          <a:xfrm>
            <a:off x="7164360" y="3197160"/>
            <a:ext cx="1511280" cy="1239840"/>
          </a:xfrm>
          <a:prstGeom prst="rect">
            <a:avLst/>
          </a:prstGeom>
          <a:ln w="9360">
            <a:solidFill>
              <a:srgbClr val="66006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98" name="Rectangle 12"/>
          <p:cNvSpPr/>
          <p:nvPr/>
        </p:nvSpPr>
        <p:spPr>
          <a:xfrm>
            <a:off x="7164360" y="4437000"/>
            <a:ext cx="1511280" cy="36036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ambria"/>
              </a:rPr>
              <a:t>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3"/>
          <p:cNvSpPr/>
          <p:nvPr/>
        </p:nvSpPr>
        <p:spPr>
          <a:xfrm>
            <a:off x="7164360" y="2492280"/>
            <a:ext cx="1511280" cy="36036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ambria"/>
              </a:rPr>
              <a:t>Plant 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4"/>
          <p:cNvSpPr/>
          <p:nvPr/>
        </p:nvSpPr>
        <p:spPr>
          <a:xfrm>
            <a:off x="7164360" y="6381720"/>
            <a:ext cx="1584360" cy="36036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Cambria"/>
              </a:rPr>
              <a:t>Red Blood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324000" y="5805360"/>
            <a:ext cx="1295280" cy="36036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ambria"/>
              </a:rPr>
              <a:t>Nerv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6"/>
          <p:cNvSpPr/>
          <p:nvPr/>
        </p:nvSpPr>
        <p:spPr>
          <a:xfrm>
            <a:off x="324000" y="2924280"/>
            <a:ext cx="1223640" cy="50472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ambria"/>
              </a:rPr>
              <a:t>Amoeba Prot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ate Placeholder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4ADE-77A7-487A-9468-9E96F95CC574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2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6647-90B5-4BF4-B14B-DD305318E1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7"/>
          <p:cNvSpPr/>
          <p:nvPr/>
        </p:nvSpPr>
        <p:spPr>
          <a:xfrm>
            <a:off x="7086600" y="5335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Types of Cel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267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Prokaryo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Bacter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Archa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mbria"/>
              </a:rPr>
              <a:t>2.      </a:t>
            </a: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Eukaryo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ambria"/>
              </a:rPr>
              <a:t>Unicell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Prot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ambria"/>
              </a:rPr>
              <a:t>Multi-cell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Fung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Pla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Anim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3344760" y="1844640"/>
            <a:ext cx="5537160" cy="3745080"/>
          </a:xfrm>
          <a:prstGeom prst="rect">
            <a:avLst/>
          </a:prstGeom>
          <a:ln w="28440">
            <a:solidFill>
              <a:srgbClr val="0033cc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09" name="Date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3C84-CCAA-4166-81CE-FC8A3B48A949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04B7-E3D9-4BFC-9894-C17319B380E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0"/>
          <p:cNvSpPr/>
          <p:nvPr/>
        </p:nvSpPr>
        <p:spPr>
          <a:xfrm>
            <a:off x="7086600" y="5335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Prokaryotic Cells</a:t>
            </a: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79280" y="1557360"/>
            <a:ext cx="489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mbria"/>
              </a:rPr>
              <a:t>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Unicellular (some multi-cellular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Lacks a membrane bound nucleu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Lacks membrane bound organel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Has a cell membrane  and cell wal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Has ribosomes (protein production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Circular D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5059440" y="2349360"/>
            <a:ext cx="3902040" cy="302436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5" name="Date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042C-83F7-42EC-81F3-D430732A30C3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B8CD-42D6-401C-9922-924983C7DF8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7086600" y="5335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Eukaryo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8360" y="1341360"/>
            <a:ext cx="562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mbria"/>
              </a:rPr>
              <a:t>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Unicellular (Protist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Multicellular (fungi, plants, animal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mbria"/>
              </a:rPr>
              <a:t>Membrane bound Nucleu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Contains Organel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Linear D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18" descr="1plant3"/>
          <p:cNvPicPr/>
          <p:nvPr/>
        </p:nvPicPr>
        <p:blipFill>
          <a:blip r:embed="rId1"/>
          <a:stretch/>
        </p:blipFill>
        <p:spPr>
          <a:xfrm>
            <a:off x="5757840" y="1484280"/>
            <a:ext cx="3056040" cy="244944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221" name="Rectangle 8"/>
          <p:cNvSpPr/>
          <p:nvPr/>
        </p:nvSpPr>
        <p:spPr>
          <a:xfrm>
            <a:off x="6732720" y="4005360"/>
            <a:ext cx="2124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Bradley Hand ITC"/>
              </a:rPr>
              <a:t>Typical plant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3419640" y="4221000"/>
            <a:ext cx="2124000" cy="3603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3152"/>
                </a:solidFill>
                <a:latin typeface="Bradley Hand ITC"/>
              </a:rPr>
              <a:t>Typical animal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ate Placeholder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E5B3-51A6-4D4A-992B-CD91663988B1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1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DE6B-A108-468B-AD07-15DA79EAC88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2"/>
          <a:stretch/>
        </p:blipFill>
        <p:spPr>
          <a:xfrm>
            <a:off x="3419640" y="4581360"/>
            <a:ext cx="2682720" cy="2092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26" name="TextBox 10"/>
          <p:cNvSpPr/>
          <p:nvPr/>
        </p:nvSpPr>
        <p:spPr>
          <a:xfrm>
            <a:off x="7086600" y="5335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Types of Eukaryotic Cells</a:t>
            </a: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1285920"/>
            <a:ext cx="84614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mbria"/>
              </a:rPr>
              <a:t>1. Somat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Greek for “body’’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ll cells in the body except the sex cell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nd in the bones, skin, organs, tissues, blood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Reproduce by Mitosi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ll somatic cells in a human body have the same genetic information (except RB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mbria"/>
              </a:rPr>
              <a:t>2. Ge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 Sex Cell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perm and Ov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Reproduce by Meiosi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re haploid e.g. in humans: 23 chromoso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Date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BB8A-3EC8-4687-BA50-4389969E9992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E1FE-8521-4463-8CC2-FBCB8615DA0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9"/>
          <p:cNvSpPr/>
          <p:nvPr/>
        </p:nvSpPr>
        <p:spPr>
          <a:xfrm>
            <a:off x="745164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2T14:34:35Z</dcterms:created>
  <dc:creator>Sooad</dc:creator>
  <dc:description/>
  <dc:language>en-US</dc:language>
  <cp:lastModifiedBy>Administrator</cp:lastModifiedBy>
  <dcterms:modified xsi:type="dcterms:W3CDTF">2013-02-09T06:05:36Z</dcterms:modified>
  <cp:revision>21</cp:revision>
  <dc:subject/>
  <dc:title>An Introductory Overview of  Cells, Chemical Bonds &amp; Energy</dc:title>
</cp:coreProperties>
</file>