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7D4EA47-D2D9-4E72-8B27-965CC6130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CBBBD46-8A60-4C35-8664-C4E9CEE32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73C7BF-642E-4CBB-AF7E-C179F485F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099C4D6-0EAC-4677-8DE2-116330463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855A8C-3773-4E56-B46E-F451F8B23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FAD554-787A-423B-B521-D4B18139C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E6C8BC-3664-45A5-B3CF-F8E90FBF6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2D643C-597C-4F70-8F88-79933FC82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69BD9C-0806-4749-9C46-E645657EB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C37B03-39D4-4A2F-84A0-E5BD1F368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3DD934-A2E9-49A6-9743-53CB9688E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A85598-700F-4F45-AF28-C1FCF09AA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3B8D1F-CA5A-424F-977F-2B29BA2BC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E607E4-50BE-4527-B629-D0570FAC8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71B45F-9087-4E75-B230-CD1A72933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5B5B1A-39C1-403E-9481-2E49AEB75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ECAA1B-F70B-4799-8B7D-D30C69B89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7B6839-36E5-4111-AD5A-ABDCB5D23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8FD77C-C600-4F9E-84E4-C4D2FE920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65354D-20B8-40A2-A147-DDCBD0156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89C012-A400-4516-A735-7B5D2B50E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1503870-DA6E-42A8-9C98-6416C694A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0E11B5-0F54-401E-8AC7-7C94D3AD8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068D24-A66A-4182-833B-DD5D3C5B4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81092D-8ABB-4EC6-ADF7-65DCC4569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452EA8C-EFE3-4060-9FCD-B3A0CE46C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45BF3C-E62D-432C-BBEF-75605BFA0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F37388-2864-4E59-8138-D866F144D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7FF44F-1586-49BB-8E2C-49C00205A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433773-B7E2-47AF-9A5C-64A903396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133E31-ADD7-4A8C-A630-4A4D67515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DB211A-B595-46FA-81B1-D9F9D1600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63754D-6317-42B3-AEA0-17339ED48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: Puncture wounds most often occur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ing of nee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ering in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pping nee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ing trash or dirty lin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F56966-35B3-4A99-8FB5-CE214BF5C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3F0476-4E95-44F8-973F-5F02C6343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5687F9-F213-4668-A3CB-708300727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058ECB-BBF8-42C3-B6E1-3A8C91E7A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65A84F-F348-4726-A90C-A625D05F5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28F-7BA9-42EE-BFBA-3AD26EE2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4B7-D147-4AD6-89C6-8F6E8D7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E11-BB62-46C3-93E0-01BEB6E5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937-16D4-42C3-8CF5-51453301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C71-52E0-4EF3-9105-1DD6B5A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052-2E59-449C-BB09-735D77F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7CE-1517-4EF2-BB0C-F0F5AD6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862-BD37-4AA5-A5C9-15A3447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908-7FDB-4E94-A220-4EE7AB7C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047-5033-4A3C-BD45-A60D836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937-35D1-4FBB-85B2-7FB72E6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5DF-7CE9-4817-A63F-30F5FF56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Submarin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D606-2CE1-48F2-AC7E-B50F4215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ubmarine"/>
              </a:rPr>
              <a:t>BLOODBORNE PATHOG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Outcome of infection with the virus v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Some have no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Some have less severe symptoms than those with 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IDS results from destruction of the immune system which allows diseases to threaten life or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ow Widespread Is HIV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DC estimates that 33.6 million people worldwide are living with HIV /  AIDS.       (32.4 million adults)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pprox. 5.6 million new HIV infections were reported in 2006.   More than 15,000 infections each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ne in every 100 adults aged 15 to 49 is HIV-in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909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Submarine"/>
              </a:rPr>
              <a:t>Worldwide</a:t>
            </a:r>
            <a:endParaRPr b="0" lang="en-US" sz="28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How Widespread Is HIV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DC estimates that 650,000 to 900,000 US residents are currently living with HIV infection, of whom more than 200,000 are unaware of their inf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pprox. 43,000 new HIV infections were reported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711,344 cases of AIDS have been officially reported to the CDC as of June 30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909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Submarine"/>
              </a:rPr>
              <a:t>United States</a:t>
            </a:r>
            <a:endParaRPr b="0" lang="en-US" sz="2800" spc="-1" strike="noStrike">
              <a:solidFill>
                <a:srgbClr val="ffff00"/>
              </a:solidFill>
              <a:latin typeface="Submar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You Cannot </a:t>
            </a: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“Catch”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 HIV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casual, everyday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sharing bathrooms, kitche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nonsexual social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insects or mosquit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rough urine, feces, nasal secretions, sputum, vomitus, saliva, sweat or tears from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Personal Behaviors/Practices Put You at Risk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exual contact with an infected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haring infected need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ected woman to her child at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lood transfusion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imes New Roman"/>
              </a:rPr>
              <a:t>*The blood supply is thoroughly screened so that the risk of infection from transfusion is extremely sm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How Can You Prevent HIV Transmission in Your Personal Lif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Refrain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ginal or oral sex with someone who uses IV dru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 someone you don’t know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 someone who has multiple sex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x without a condom - with an infected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ing IV drug nee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What Is Hepatitis 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used by the Hepatitis B Virus (HB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amages the liver, causing symptoms that range from mild or unapparent to severe or fa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5% of infected individuals develop acute hepatit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6% to 10% become HBV carriers.  Carriers can develop liver disease and are infectious to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epatitis B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12,000 health care workers become infected through occupational exposure each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500-600 infected health-care workers are hospitalized each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00-300 infected health-care workers die each year with associated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Personal Behaviors Put You at Risk for HBV Infec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exual contact with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haring drug needles and syringes with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Since blood supply is screened for HBV, the chance of being infected through transfusion is extremely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hat Occupational Exposures Put a Worker at Risk for HBV Infecti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Contact with blood or potentially infectious body fluid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le st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roken or non-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ucous membranes of eyes, nose and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aliva injected through a human bite can also transmit HB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loodborne Pathogens”</a:t>
            </a:r>
            <a:br>
              <a:rPr sz="5400"/>
            </a:b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Defined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Pathogenic microorganisms that are present in human blood and can cause disease in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Body Substance Isolation</a:t>
            </a:r>
            <a:br>
              <a:rPr sz="4000"/>
            </a:b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(BS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The same BSI equipment &amp; procedures that will protect against exposure to HIV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will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protect the worker against HB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Blood tests 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are available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to detect antibodies for HBV in an infected per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accines provide protection against HBV infection (90% protection for 7 or more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accines are 70% to 80% effective when given within 1 week of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Disposables protect against blood and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Normally provide no protection against sha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ust be changed if soiled or t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ust be changed between handling of differen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sks, Eyewear &amp; G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Not necessary unless blood or other potentially infectious fluids are or </a:t>
            </a:r>
            <a:r>
              <a:rPr b="1" i="1" lang="en-US" sz="2800" spc="-1" strike="noStrike">
                <a:solidFill>
                  <a:srgbClr val="ccff99"/>
                </a:solidFill>
                <a:latin typeface="Times New Roman"/>
              </a:rPr>
              <a:t>could be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Masks &amp; eyewear should be worn together if splashes are anticip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Gowns or aprons are worn to avoid soaking of clot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everything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ag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ersonal Protective Equipment  (P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ST be provid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ree of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PE is carried on all EMS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Fire fighting gear offer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little or n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ontaminated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f possible, use as much disposable equipment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usable equipment should be decontaminated with a germicidal solution as soon as possible / prac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 patient’s clothing / belongings as contaminated if soil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Needles &amp; Sharps Dis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eedles should not be recapped or manipulated by h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isposable blades and other sharps should be placed in a puncture-resistant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uncture-resistant containers should be readily available at all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cissors, glass, lancets should b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Hand Wa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Wash hands upon arrival at hospital or returning to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se utility or designated sink  -- not the food prepara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Wash thoroughly with soap &amp; water or germicidal clean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ntiseptic hand cleaners should be available for special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leaning &amp; Decontaminating Spills of Bl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gloves and clean with disposable towels.  Place soiled linens in a red plastic b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eye &amp; face protection if splashing is a pos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ar shoe covers if amount of blood is gr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ubmarine"/>
              </a:rPr>
              <a:t>BLOODBORNE PATHOGENS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380880" y="3382920"/>
            <a:ext cx="2210040" cy="2077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556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Disease-causing microorganisms that may be present in human blood or OPIM (other potentially infectious mater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imes New Roman"/>
              </a:rPr>
              <a:t>Cleaning &amp; Decontaminating Spills of Bl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contaminate with tuberculocidal solution or 10:1 solution of bleach.  Wipe area with clean towels and let air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aste/unused cleaning solution should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nl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be poured down sanitary drains.  Sinks shall be disinfected after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move contaminated items, shoe coverings, etc. and place in a  red plastic bag for proper disposal.  Remove gloves last.  Wash hands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fter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removing g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Laund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Handle soiled items as little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f possible, remove soiled linens at place of use and place in red plastic bags that prevent lea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74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ecord Kee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Records MUST BE kept for the duration of employment         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plus 30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Pre-hospital providers </a:t>
            </a: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should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have on record their past medical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et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patitis B Vacc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Each ambulance </a:t>
            </a: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have  a hand washing product and surface cleaner available at all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st EPA approved germicidals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0% bleach may be substituted but some equipment could be bleach sensit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and Washing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done before &amp; after contact with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Glove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worn when there is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risk with bodily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asks, gowns and protective eyewear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be worn when there is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risk of splattering or spraying of infectious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iled clothing – linen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placed into leak proof bag, sealed and transported to ER. Rescuer clothing laundered AS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harp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handled with </a:t>
            </a:r>
            <a:r>
              <a:rPr b="0" i="1" lang="en-US" sz="3200" spc="-1" strike="noStrike">
                <a:solidFill>
                  <a:srgbClr val="e80000"/>
                </a:solidFill>
                <a:latin typeface="Times New Roman"/>
              </a:rPr>
              <a:t>extreme cau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. DO NOT RECAP, BEND or CUT USED NEEDLES. Use appropriate puncture resistant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ere possible, disposable equipment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be used on all patients. Where not possible equipment should be cleaned immediately with a commercial disinfectant or bleach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PR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use appropriate protection, avoid mouth-to-mouth, clean &amp; disinfect if not dispos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blood or body substance,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ill out “Exposure for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erb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valuation by ED within one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low-up determined by ED in accordance with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vider reports incident to Emplo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ubmarine"/>
              </a:rPr>
              <a:t>MODES OF </a:t>
            </a:r>
            <a:r>
              <a:rPr b="1" lang="en-US" sz="4000" spc="-1" strike="noStrike">
                <a:solidFill>
                  <a:srgbClr val="ffff00"/>
                </a:solidFill>
                <a:latin typeface="Submarine"/>
              </a:rPr>
              <a:t>TRANS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Puncture wounds or 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ubmarin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ubmarine"/>
              </a:rPr>
              <a:t>Contact (touch, splash, or spray) with blood or OPIM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mucous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non-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cuts, abrasions, b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acne, 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ubmarin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ubmarine"/>
              </a:rPr>
              <a:t>papercuts, hang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ubmarin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ubmarine"/>
              </a:rPr>
              <a:t>contaminated sha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6019920" y="4243320"/>
            <a:ext cx="25905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lines &amp;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eyes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necessitate immediate irrigation &amp; evaluation by Fermilab Office or ED if off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Times New Roman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osure to skin </a:t>
            </a: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should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necessitate washing with warm soap &amp; water or commercial agent, &amp; seek evaluation by Fermilab Medical Office or ED if off hou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sons who may be exposed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fighter / E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fighter / Paramed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Lieut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Ch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ay Care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cal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sks involving potential exposure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scue / Ext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ire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LS / ALS procedures  (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Handling of deceased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sinfecting / Decontaminat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RMILAB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xposure Control Pl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ineering &amp; work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epatitis B Vacc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st-exposure evaluation &amp;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io-hazard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formation &amp;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quired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muno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iciency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aused by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uman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munodeficiency </a:t>
            </a: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4:05:45Z</dcterms:created>
  <dc:creator>user</dc:creator>
  <dc:description/>
  <dc:language>en-US</dc:language>
  <cp:lastModifiedBy>user</cp:lastModifiedBy>
  <cp:lastPrinted>2003-05-12T22:01:41Z</cp:lastPrinted>
  <dcterms:modified xsi:type="dcterms:W3CDTF">2011-11-12T11:49:45Z</dcterms:modified>
  <cp:revision>92</cp:revision>
  <dc:subject/>
  <dc:title>BLOODBORNE PATHOGENS</dc:title>
</cp:coreProperties>
</file>