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5D0C9E4-F37D-4A3F-8C3F-106AEA41D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CA6A14-7601-48FF-A51B-C509CBBD7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48CF59-07E1-444B-9C22-F79642111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AA489B-B265-4279-ADE4-0F5CBB4E7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2BDE8C-3844-41FC-A2F1-783F345B4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7C29D1-13CB-483E-9413-97CAA42ED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735E8D-E42B-4D20-9F65-2CD2EC581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1763B0-ED12-4CE0-9070-59E9DA685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5403C3-A944-440C-849A-7FF863AD7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203B92-3987-4E4E-A8EF-B9BAE5A7E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BBBD5A-CE6A-4CDC-972F-68B935E3A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53592E-60EB-4861-9ED7-A95349101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00814C-0F97-4C67-A84F-ECF11A0FE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BF9E3B-9D79-4F92-9F98-DC97EBDA3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891BB9-27AD-4413-BC17-05EA679AD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49B1749-7AFC-4AD9-B4E6-3ED0D076B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F27AD7-30EC-4CEC-911F-B7791EDB5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CC0770-2793-4E34-9D01-9BE051CF4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D2293F-12E6-440A-AF77-3F58E30CD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BEED41-7F79-48A2-A75F-28781E653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D38367-DCBF-4584-8BE2-007E5F493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366685-D361-436F-B244-9D59C040E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3AB8D8-EA15-48E3-BF95-6092124D0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54D50C-C24B-4C39-9FC4-8F610979B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3EC37B-F5B0-488E-B908-34D47A681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D38495-5614-4DC2-BC04-4ED49FB81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B1D0D6-F149-4401-A5B5-A366D06AD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8A3F99-3877-424A-8616-7055B78BB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9CCD81-07D4-49EF-ADDB-F5FA87A45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E3F253-2E43-42C7-ACCE-34A14E925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7400D5-18AB-4155-9110-18107759E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1EB22F-1152-4873-9C78-6EA8F5D7F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33D5F19-55C1-4B6C-9BEE-C7434689E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P: Puncture wounds most often occur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ing of nee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ering in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pping nee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ing trash or dirty lin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7CD706-2BD0-48BA-8C4F-08224DEAF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6A2BC97-38E4-4556-ACBB-2B02D1AF9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D0A519-13A3-4B77-8B81-86AADBE08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565A6C-61A7-4C14-B8DC-627AA94E9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034EF5-2A7B-40FD-95BB-E87C5EC23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822-BCC8-4383-B488-54548725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238-3D19-4BF6-B8F8-AA05200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CB9-CBDB-4C0B-88A6-BE985586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786-FD29-4043-95A7-5C886783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DB5-01F4-4563-9BFC-C7379F2B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73E-BC54-4BD7-AF43-D2C4B160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D5D-AF67-4D91-A62C-B594E9A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A67-0067-4E7B-8578-E8E40A7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AD2-A8E5-4431-97E1-729A40AB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595-6414-4949-AA71-3393423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022-E0EC-4D68-88E0-79C3903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859-EB44-4E68-814A-049EBEC1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1B54-087F-4764-A854-67A96FC5E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ubmarine"/>
              </a:rPr>
              <a:t>BLOODBORNE PATHOG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Outcome of infection with the virus v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Some have no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Some have less severe symptoms than those with 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IDS results from destruction of the immune system which allows diseases to threaten life or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ow Widespread Is HIV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DC estimates that 33.6 million people worldwide are living with HIV /  AIDS.       (32.4 million adults)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pprox. 5.6 million new HIV infections were reported in 2006.   More than 15,000 infections each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ne in every 100 adults aged 15 to 49 is HIV-in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909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Submarine"/>
              </a:rPr>
              <a:t>Worldwide</a:t>
            </a:r>
            <a:endParaRPr b="0" lang="en-US" sz="28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ow Widespread Is HIV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DC estimates that 650,000 to 900,000 US residents are currently living with HIV infection, of whom more than 200,000 are unaware of their inf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pprox. 43,000 new HIV infections were reported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711,344 cases of AIDS have been officially reported to the CDC as of June 30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909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Submarine"/>
              </a:rPr>
              <a:t>United States</a:t>
            </a:r>
            <a:endParaRPr b="0" lang="en-US" sz="28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You Cannot </a:t>
            </a: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“Catch”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 HIV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casual, everyday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sharing bathrooms, kitche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nonsexual social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insects or mosquit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urine, feces, nasal secretions, sputum, vomitus, saliva, sweat or tears from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Personal Behaviors/Practices Put You at Risk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exual contact with an infected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haring infected nee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fected woman to her child at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lood transfusion</a:t>
            </a: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imes New Roman"/>
              </a:rPr>
              <a:t>*The blood supply is thoroughly screened so that the risk of infection from transfusion is extremely sm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How Can You Prevent HIV Transmission in Your Personal Lif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Refrain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ginal or oral sex with someone who uses IV dru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x with someone you don’t know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x with someone who has multiple sex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x without a condom - with an infected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ing IV drug nee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What Is Hepatitis 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used by the Hepatitis B Virus (HB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amages the liver, causing symptoms that range from mild or unapparent to severe or fa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25% of infected individuals develop acute hepatit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6% to 10% become HBV carriers.  Carriers can develop liver disease and are infectious to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epatitis B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12,000 health care workers become infected through occupational exposure each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500-600 infected health-care workers are hospitalized each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200-300 infected health-care workers die each year with associated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Personal Behaviors Put You at Risk for HBV Infec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Sexual contact with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Sharing drug needles and syringes with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Since blood supply is screened for HBV, the chance of being infected through transfusion is extremely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Occupational Exposures Put a Worker at Risk for HBV Infec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Contact with blood or potentially infectious body fluid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eedle st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roken or non-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ucous membranes of eyes, nose and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aliva injected through a human bite can also transmit HB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loodborne Pathogens”</a:t>
            </a:r>
            <a:br>
              <a:rPr sz="54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Defined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Pathogenic microorganisms that are present in human blood and can cause disease in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Body Substance Isolation</a:t>
            </a:r>
            <a:br>
              <a:rPr sz="4000"/>
            </a:b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(BS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same BSI equipment &amp; procedures that will protect against exposure to HIV 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will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protect the worker against HB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Blood tests 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are available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to detect antibodies for HBV in an infected per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accines provide protection against HBV infection (90% protection for 7 or more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accines are 70% to 80% effective when given within 1 week of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Disposables protect against blood and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Normally provide no protection against sha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Must be changed if soiled or t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Must be changed between handling of differen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sks, Eyewear &amp; G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Not necessary unless blood or other potentially infectious fluids are or </a:t>
            </a:r>
            <a:r>
              <a:rPr b="1" i="1" lang="en-US" sz="2800" spc="-1" strike="noStrike">
                <a:solidFill>
                  <a:srgbClr val="ccff99"/>
                </a:solidFill>
                <a:latin typeface="Times New Roman"/>
              </a:rPr>
              <a:t>could be</a:t>
            </a: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Masks &amp; eyewear should be worn together if splashes are anticip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Gowns or aprons are worn to avoid soaking of clot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everything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ag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ersonal Protective Equipment  (P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ST be provid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re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PE is carried on all EMS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Fire fighting gear offers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little or n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Contaminated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f possible, use as much disposable equipment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usable equipment should be decontaminated with a germicidal solution as soon as possible / prac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 patient’s clothing / belongings as contaminated if soil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Needles &amp; Sharps Dis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eedles should not be recapped or manipulated by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isposable blades and other sharps should be placed in a puncture-resistant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uncture-resistant containers should be readily available at all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cissors, glass, lancets should be consi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Hand Wa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Wash hands upon arrival at hospital or returning to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se utility or designated sink  -- not the food prepara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Wash thoroughly with soap &amp; water or germicidal clean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ntiseptic hand cleaners should be available for special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Cleaning &amp; Decontaminating Spills of Bl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ar gloves and clean with disposable towels.  Place soiled linens in a red plastic b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ar eye &amp; face protection if splashing is a pos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ar shoe covers if amount of blood is gr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ubmarine"/>
              </a:rPr>
              <a:t>BLOODBORNE PATHOGENS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380880" y="3382920"/>
            <a:ext cx="2210040" cy="2077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7760" y="1981080"/>
            <a:ext cx="556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ubmari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ubmarine"/>
              </a:rPr>
              <a:t>Disease-causing microorganisms that may be present in human blood or OPIM (other potentially infectious mater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Para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Cleaning &amp; Decontaminating Spills of Bl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contaminate with tuberculocidal solution or 10:1 solution of bleach.  Wipe area with clean towels and let air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aste/unused cleaning solution should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only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be poured down sanitary drains.  Sinks shall be disinfected after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move contaminated items, shoe coverings, etc. and place in a  red plastic bag for proper disposal.  Remove gloves last.  Wash hands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fter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removing g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Laund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Handle soiled items as littl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f possible, remove soiled linens at place of use and place in red plastic bags that prevent lea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74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ecord Kee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Records MUST BE kept for the duration of employment         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plus 30 yea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Pre-hospital providers </a:t>
            </a:r>
            <a:r>
              <a:rPr b="0" lang="en-US" sz="3600" spc="-1" strike="noStrike">
                <a:solidFill>
                  <a:srgbClr val="ccff99"/>
                </a:solidFill>
                <a:latin typeface="Times New Roman"/>
              </a:rPr>
              <a:t>should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have on record their past medical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et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epatitis B Vacc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Each ambulance </a:t>
            </a:r>
            <a:r>
              <a:rPr b="0" lang="en-US" sz="36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have  a hand washing product and surface cleaner available at all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st EPA approved germicidals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0% bleach may be substituted but some equipment could be bleach sensit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and Washing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done before &amp; after contact with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Glove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worn when there is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risk with bodily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asks, gowns and protective eyewear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be worn when there is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risk of splattering or spraying of infectious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iled clothing – linen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placed into leak proof bag, sealed and transported to ER. Rescuer clothing laundered AS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harp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handled with </a:t>
            </a:r>
            <a:r>
              <a:rPr b="0" i="1" lang="en-US" sz="3200" spc="-1" strike="noStrike">
                <a:solidFill>
                  <a:srgbClr val="e80000"/>
                </a:solidFill>
                <a:latin typeface="Times New Roman"/>
              </a:rPr>
              <a:t>extreme cau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. DO NOT RECAP, BEND or CUT USED NEEDLES. Use appropriate puncture resistant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ere possible, disposable equipment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used on all patients. Where not possible equipment should be cleaned immediately with a commercial disinfectant or bleach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PR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use appropriate protection, avoid mouth-to-mouth, clean &amp; disinfect if not dispos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osure to blood or body substance,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ill out “Exposure for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erb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valuation by ED within one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low-up determined by ED in accordance with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vider reports incident to Emplo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ubmarine"/>
              </a:rPr>
              <a:t>MODES OF </a:t>
            </a:r>
            <a:r>
              <a:rPr b="1" lang="en-US" sz="4000" spc="-1" strike="noStrike">
                <a:solidFill>
                  <a:srgbClr val="ffff00"/>
                </a:solidFill>
                <a:latin typeface="Submarine"/>
              </a:rPr>
              <a:t>TRANS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ubmari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ubmarine"/>
              </a:rPr>
              <a:t>Puncture wounds or 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ubmari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ubmarine"/>
              </a:rPr>
              <a:t>Contact (touch, splash, or spray) with blood or OPIM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mucous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non-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ubmarin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ubmarine"/>
              </a:rPr>
              <a:t>cuts, abrasions, b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ubmarin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ubmarine"/>
              </a:rPr>
              <a:t>acne, 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ubmarin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ubmarine"/>
              </a:rPr>
              <a:t>papercuts, hang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contaminated sha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6019920" y="4243320"/>
            <a:ext cx="25905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osure to eye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necessitate immediate irrigation &amp; evaluation by Fermilab Office or ED if off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osure to skin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necessitate washing with warm soap &amp; water or commercial agent, &amp; seek evaluation by Fermilab Medical Office or ED if off hou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sons who may be exposed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fighter / E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fighter / Paramed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 Lieut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 Ch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ay Care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cal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sks involving potential exposure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scue / Extr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LS / ALS procedures  (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Handling of deceased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sinfecting / Decontaminating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RMILAB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xposure Control Pl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ineering &amp; work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epatitis B Vacc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st-exposure evaluation &amp;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io-hazard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Record 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formation &amp;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quired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muno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iciency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aused by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uman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munodeficiency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4:05:45Z</dcterms:created>
  <dc:creator>user</dc:creator>
  <dc:description/>
  <dc:language>en-US</dc:language>
  <cp:lastModifiedBy>user</cp:lastModifiedBy>
  <cp:lastPrinted>2003-05-12T22:01:41Z</cp:lastPrinted>
  <dcterms:modified xsi:type="dcterms:W3CDTF">2011-11-12T11:49:45Z</dcterms:modified>
  <cp:revision>92</cp:revision>
  <dc:subject/>
  <dc:title>BLOODBORNE PATHOGENS</dc:title>
</cp:coreProperties>
</file>