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79C0-C2DB-48C5-8D2A-77A66380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E5E-EB7D-4421-9891-87864DD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3BF-EC8A-4D39-8B9B-4D35FD9B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00C-66F3-45E0-9B0E-37BC9070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ABD3-4B2E-4B50-B5EB-1FE7DD32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4788-C4D9-453C-94F5-1172202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45C-D4FD-4C76-89AA-522EACBB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5180-6E1C-407B-8F61-5E1EAD1F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4E4B-B543-4B08-9E45-DC4D4FBE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9E5-D654-4F37-A825-3867B804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5429-8B8A-4538-89AF-8D79697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AA8-6ADE-4D89-98BE-4A6F6CB1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C73-0E7F-4486-A579-7A588F8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6874-F616-408C-BBAD-5BD256F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165D-5F44-4A23-88C5-A80B357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DB2D-BCBF-4289-A4B7-74C4D1A6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981A-8205-4B9D-86B4-9DADC92B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00D-053D-4F0D-B11F-F5A6D0F3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61D-F2A8-4627-B565-5DBE4A4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C98-0005-4E4C-AC01-81289AE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181-AB10-41E0-AB30-A99CA12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632-6D3B-48EE-83CE-3A0B194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0EB-7296-4B8E-A65D-9D3C433F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FFA-FDD3-4848-B0B6-BF94FBBE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a00"/>
            </a:gs>
            <a:gs pos="100000">
              <a:srgbClr val="7878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b2a00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77A-3329-4727-A66D-37976695AE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0dfb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2a00"/>
            </a:gs>
            <a:gs pos="100000">
              <a:srgbClr val="7878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b2a00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535342"/>
                </a:gs>
                <a:gs pos="100000">
                  <a:srgbClr val="5b5b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ddddd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0dfb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ddddd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1781-8C32-481A-A1F9-BF5B0225BD7D}" type="slidenum">
              <a:rPr b="0" lang="ar-SA" sz="12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0dfbe"/>
                </a:solidFill>
                <a:latin typeface="Edwardian Script ITC"/>
              </a:rPr>
              <a:t>بسم الله الرحمن الرحيم</a:t>
            </a:r>
            <a:endParaRPr b="0" lang="en-US" sz="18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71640" y="1484280"/>
            <a:ext cx="7199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dddddd"/>
                </a:solidFill>
                <a:latin typeface="Tahoma"/>
                <a:ea typeface="Tahoma"/>
              </a:rPr>
              <a:t>Bowel Fistula</a:t>
            </a:r>
            <a:endParaRPr b="0" lang="en-US" sz="88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ddddd"/>
                </a:solidFill>
                <a:latin typeface="Tahoma"/>
                <a:cs typeface="Tahoma"/>
              </a:rPr>
              <a:t>ــــــــــــــــــــــــــــــــــ</a:t>
            </a:r>
            <a:endParaRPr b="0" lang="en-US" sz="44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  <a:ea typeface="Tahoma"/>
              </a:rPr>
              <a:t>Dr.Saad Al-Qahtani</a:t>
            </a: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ahoma"/>
                <a:ea typeface="Tahoma"/>
              </a:rPr>
              <a:t>Department of surgery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ahoma"/>
                <a:ea typeface="Tahoma"/>
              </a:rPr>
              <a:t>College of medicine , King Saud University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Assessmen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1-Contrast radiography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most commonly used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fistulogram for mature  fistula(7-10dys)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oral contrast show the extravastion &amp; is good for internal fistula &amp; distal obstruction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contrast enema for rectal &amp;colonic fistula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-pyelography &amp; cystography in case of urinary tract involved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2. Endoscopy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Help to know the coexistent dis e.g :Peptic ulcer, IBD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Verdana"/>
              </a:rPr>
              <a:t>3-CT abdominopelvic</a:t>
            </a:r>
            <a:endParaRPr b="0" lang="en-US" sz="36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To evalute presence of abscess.</a:t>
            </a: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fbe"/>
                </a:solidFill>
                <a:latin typeface="Arial"/>
              </a:rPr>
              <a:t>Factors preventing spontaneous closure of small intestine fistulas</a:t>
            </a:r>
            <a:br>
              <a:rPr sz="2800"/>
            </a:br>
            <a:endParaRPr b="0" lang="en-US" sz="28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FRIEND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oreign body within the fistula tract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adiation enteritis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nfection/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nflammation at the fistula origin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pithelialization of the fistula tract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eoplasm at the fistula origin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istal obstruction of the intestine.</a:t>
            </a:r>
            <a:endParaRPr b="0" lang="en-US" sz="2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cc9900"/>
                </a:solidFill>
                <a:uFillTx/>
                <a:latin typeface="Verdana"/>
              </a:rPr>
              <a:t>Management</a:t>
            </a: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First</a:t>
            </a:r>
            <a:r>
              <a:rPr b="1" lang="ar-SA" sz="20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Restore blood volume and begin correction of fluids and electrolyte imbalance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rain accessible abscess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Control fistula and measure loss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Begin nutritional support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400" spc="-1" strike="noStrike" u="sng">
                <a:solidFill>
                  <a:srgbClr val="e0dfbe"/>
                </a:solidFill>
                <a:uFillTx/>
                <a:latin typeface="Arial"/>
              </a:rPr>
              <a:t>Second</a:t>
            </a:r>
            <a:r>
              <a:rPr b="1" lang="ar-SA" sz="24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4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elineate anatomy of fistulas by radiographic studies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Third</a:t>
            </a:r>
            <a:r>
              <a:rPr b="1" lang="ar-SA" sz="2800" spc="-1" strike="noStrike">
                <a:solidFill>
                  <a:srgbClr val="e0dfbe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e0dfbe"/>
                </a:solidFill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Maintain caloric intake of 2000–3000 kcal or more per day, depending on status of nutrition and energy expenditure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Drain abscesses as they appear</a:t>
            </a:r>
            <a:r>
              <a:rPr b="0" lang="ar-SA" sz="2000" spc="-1" strike="noStrike">
                <a:solidFill>
                  <a:srgbClr val="e0dfbe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800" spc="-1" strike="noStrike" u="sng">
                <a:solidFill>
                  <a:srgbClr val="e0dfbe"/>
                </a:solidFill>
                <a:uFillTx/>
                <a:latin typeface="Arial"/>
              </a:rPr>
              <a:t>Fourth</a:t>
            </a:r>
            <a:r>
              <a:rPr b="1" lang="ar-SA" sz="2800" spc="-1" strike="noStrike" u="sng">
                <a:solidFill>
                  <a:srgbClr val="e0dfbe"/>
                </a:solidFill>
                <a:uFillTx/>
                <a:latin typeface="Arial"/>
              </a:rPr>
              <a:t>:</a:t>
            </a:r>
            <a:r>
              <a:rPr b="0" lang="ar-SA" sz="2800" spc="-1" strike="noStrike" u="sng">
                <a:solidFill>
                  <a:srgbClr val="e0dfbe"/>
                </a:solidFill>
                <a:uFillTx/>
                <a:latin typeface="Arial"/>
              </a:rPr>
              <a:t>   </a:t>
            </a:r>
            <a:r>
              <a:rPr b="0" lang="en-US" sz="2000" spc="-1" strike="noStrike">
                <a:solidFill>
                  <a:srgbClr val="e0dfbe"/>
                </a:solidFill>
                <a:latin typeface="Arial"/>
              </a:rPr>
              <a:t>Operate if fistula fails to close</a:t>
            </a:r>
            <a:r>
              <a:rPr b="0" lang="en-US" sz="2400" spc="-1" strike="noStrike">
                <a:solidFill>
                  <a:srgbClr val="e0dfbe"/>
                </a:solidFill>
                <a:latin typeface="Arial"/>
              </a:rPr>
              <a:t> after 2-3 mths.</a:t>
            </a:r>
            <a:endParaRPr b="0" lang="en-US" sz="2400" spc="-1" strike="noStrike">
              <a:solidFill>
                <a:srgbClr val="e0dfb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stula is a communication between two epithelized surface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categorized according to: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anatomy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outpot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cc9900"/>
                </a:solidFill>
                <a:latin typeface="Verdana"/>
              </a:rPr>
              <a:t>character of the tract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External (enterocutenous or rectovaginal fistula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Internal (colovesical or enterocolonic fistula  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Proximal( upper GI , ass with high output and sever symptoms &amp; sequalae, &amp;poor prognosis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Distal ( ileum , colon &amp;rectum. Less complication , often close non-operatively)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High outpu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more than 500 ml/ day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w output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ess than 200 ml/day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Character of the tract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imple ( single tract )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Complicated 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Most small intestinal fistulas (75-80%) occur as a complication following surgery for abdominal malignancy, inflammatory bowel disease, tuberculosis or adhesiolysis.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The most common surgical causes of fistula formation include anastomotic dehiscence after bowel resection and injury to the bowel. 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The rest of the small intestinal fistulas (20-25%) include the spontaneous type seen in inflammatory bowel disease, radiation, diverticular disease, ischaemia and malignancy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ddddd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Essentials of Diagnosis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Fever and sepsi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Abdominal pain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calized abdominal tendernes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External drainage of small bowel contents. 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Dehydration and malnutrition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fbe"/>
                </a:solidFill>
                <a:latin typeface="Arial"/>
              </a:rPr>
              <a:t>Pathophysiology</a:t>
            </a:r>
            <a:endParaRPr b="0" lang="en-US" sz="4400" spc="-1" strike="noStrike">
              <a:solidFill>
                <a:srgbClr val="e0dfb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Loss of GI content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-hypovolemia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-acid-base &amp; electrolytes disturbance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Malnutrition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Verdana"/>
              </a:rPr>
              <a:t>Sepsis.</a:t>
            </a:r>
            <a:endParaRPr b="0" lang="en-US" sz="3200" spc="-1" strike="noStrike">
              <a:solidFill>
                <a:srgbClr val="ddddd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2:06:52Z</dcterms:created>
  <dc:creator>USER</dc:creator>
  <dc:description/>
  <dc:language>en-US</dc:language>
  <cp:lastModifiedBy>Pc</cp:lastModifiedBy>
  <dcterms:modified xsi:type="dcterms:W3CDTF">2012-06-07T06:40:14Z</dcterms:modified>
  <cp:revision>13</cp:revision>
  <dc:subject/>
  <dc:title>بسم الله الرحمن الرحيم</dc:title>
</cp:coreProperties>
</file>