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62C-3202-4738-A709-B5BDE021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74C-C2E6-40BF-A9EC-69787A04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09A-4DD4-4C8D-9651-63C72FAC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D2E-C5EE-426F-871C-69FB4988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677-93B6-4031-BCC4-37D2B5E1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8D22-ECB3-4338-923E-EF08DA71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237C-49E6-40F9-941E-07C920E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4161-3922-4E96-A2B7-36783F60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C47C-4D1A-4778-9DBE-9CE2B70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907D-466D-4955-8750-0B71CCE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DA1A-34D4-481C-92B1-A603473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46A-E6FE-4D9B-A768-A286D18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969D-60CB-4AE4-9CDE-89A1497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436F-3B8D-41AF-86CE-A5E1EFE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AC85-2C83-46B9-8D62-4CC8B4FE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2B7-6657-4F26-9199-DB4CDBB0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930-F151-4492-BB75-D36621B9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BB3-C73A-4774-8560-8CA13A5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96B-7D12-4B12-8223-BAA8FE69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E83-1CB0-4C9D-922A-56EAFCA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256-5D8B-4089-9F0F-711F87E9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0A7-9F9F-4E3B-8A0B-AA300B8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9E4-AC79-4F91-B07A-1399D7D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852-380B-4BF5-A978-300D902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a00"/>
            </a:gs>
            <a:gs pos="100000">
              <a:srgbClr val="7878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b2a00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4D6-7E40-424D-B5BB-9B59473688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0dfb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a00"/>
            </a:gs>
            <a:gs pos="100000">
              <a:srgbClr val="7878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b2a00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0dfb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1CAF-5439-42D5-8CC0-CECA533A8793}" type="slidenum">
              <a:rPr b="0" lang="ar-SA" sz="12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0dfbe"/>
                </a:solidFill>
                <a:latin typeface="Edwardian Script ITC"/>
              </a:rPr>
              <a:t>بسم الله الرحمن الرحيم</a:t>
            </a:r>
            <a:endParaRPr b="0" lang="en-US" sz="18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ddddd"/>
                </a:solidFill>
                <a:latin typeface="Tahoma"/>
                <a:ea typeface="Tahoma"/>
              </a:rPr>
              <a:t>Bowel Fistula</a:t>
            </a:r>
            <a:endParaRPr b="0" lang="en-US" sz="88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ddddd"/>
                </a:solidFill>
                <a:latin typeface="Tahoma"/>
                <a:cs typeface="Tahoma"/>
              </a:rPr>
              <a:t>ــــــــــــــــــــــــــــــــــ</a:t>
            </a: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  <a:ea typeface="Tahoma"/>
              </a:rPr>
              <a:t>Dr.Saad Al-Qahtani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ahoma"/>
                <a:ea typeface="Tahoma"/>
              </a:rPr>
              <a:t>Department of surgery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ahoma"/>
                <a:ea typeface="Tahoma"/>
              </a:rPr>
              <a:t>College of medicine , King Saud University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1-Contrast radiography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most commonly used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fistulogram for mature  fistula(7-10dys)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oral contrast show the extravastion &amp; is good for internal fistula &amp; distal obstruction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contrast enema for rectal &amp;colonic fistula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pyelography &amp; cystography in case of urinary tract involved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2. Endoscopy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elp to know the coexistent dis e.g :Peptic ulcer, IBD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3-CT abdominopelvic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o evalute presence of abscess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fbe"/>
                </a:solidFill>
                <a:latin typeface="Arial"/>
              </a:rPr>
              <a:t>Factors preventing spontaneous closure of small intestine fistulas</a:t>
            </a:r>
            <a:br>
              <a:rPr sz="2800"/>
            </a:br>
            <a:endParaRPr b="0" lang="en-US" sz="28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RIEND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oreign body within the fistula tract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adiation enteritis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nfection/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nflammation at the fistula origin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pithelialization of the fistula tract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eoplasm at the fistula origin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istal obstruction of the intestine.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cc9900"/>
                </a:solidFill>
                <a:uFillTx/>
                <a:latin typeface="Verdana"/>
              </a:rPr>
              <a:t>Management</a:t>
            </a: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First</a:t>
            </a:r>
            <a:r>
              <a:rPr b="1" lang="ar-SA" sz="20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Restore blood volume and begin correction of fluids and electrolyte imbalance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rain accessible abscess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Control fistula and measure loss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Begin nutritional support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400" spc="-1" strike="noStrike" u="sng">
                <a:solidFill>
                  <a:srgbClr val="e0dfbe"/>
                </a:solidFill>
                <a:uFillTx/>
                <a:latin typeface="Arial"/>
              </a:rPr>
              <a:t>Second</a:t>
            </a:r>
            <a:r>
              <a:rPr b="1" lang="ar-SA" sz="24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4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elineate anatomy of fistulas by radiographic studi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Third</a:t>
            </a:r>
            <a:r>
              <a:rPr b="1" lang="ar-SA" sz="28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Maintain caloric intake of 2000–3000 kcal or more per day, depending on status of nutrition and energy expenditure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rain abscesses as they appear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Fourth</a:t>
            </a:r>
            <a:r>
              <a:rPr b="1" lang="ar-SA" sz="2800" spc="-1" strike="noStrike" u="sng">
                <a:solidFill>
                  <a:srgbClr val="e0dfbe"/>
                </a:solidFill>
                <a:uFillTx/>
                <a:latin typeface="Arial"/>
              </a:rPr>
              <a:t>:</a:t>
            </a:r>
            <a:r>
              <a:rPr b="0" lang="ar-SA" sz="2800" spc="-1" strike="noStrike" u="sng">
                <a:solidFill>
                  <a:srgbClr val="e0dfbe"/>
                </a:solidFill>
                <a:uFillTx/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Operate if fistula fails to close</a:t>
            </a:r>
            <a:r>
              <a:rPr b="0" lang="en-US" sz="2400" spc="-1" strike="noStrike">
                <a:solidFill>
                  <a:srgbClr val="e0dfbe"/>
                </a:solidFill>
                <a:latin typeface="Arial"/>
              </a:rPr>
              <a:t> after 2-3 mths.</a:t>
            </a:r>
            <a:endParaRPr b="0" lang="en-US" sz="2400" spc="-1" strike="noStrike">
              <a:solidFill>
                <a:srgbClr val="e0dfb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stula is a communication between two epithelized surface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categorized according to: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anatomy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outpot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haracter of the tract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External (enterocutenous or rectovaginal fistula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Internal (colovesical or enterocolonic fistula  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Proximal( upper GI , ass with high output and sever symptoms &amp; sequalae, &amp;poor prognosis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Distal ( ileum , colon &amp;rectum. Less complication , often close non-operatively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High outpu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more than 500 ml/ day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w outpu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ess than 200 ml/day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haracter of the tract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mple ( single tract )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omplicated 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Most small intestinal fistulas (75-80%) occur as a complication following surgery for abdominal malignancy, inflammatory bowel disease, tuberculosis or adhesiolysis.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The most common surgical causes of fistula formation include anastomotic dehiscence after bowel resection and injury to the bowel. 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The rest of the small intestinal fistulas (20-25%) include the spontaneous type seen in inflammatory bowel disease, radiation, diverticular disease, ischaemia and malignancy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Essentials of Diagnosis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ever and sepsi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Abdominal pain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calized abdominal tendernes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External drainage of small bowel content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Dehydration and malnutrition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Pathophysiology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ss of GI content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-hypovolemia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-acid-base &amp; electrolytes disturbance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Malnutrition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psi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2:06:52Z</dcterms:created>
  <dc:creator>USER</dc:creator>
  <dc:description/>
  <dc:language>en-US</dc:language>
  <cp:lastModifiedBy>Pc</cp:lastModifiedBy>
  <dcterms:modified xsi:type="dcterms:W3CDTF">2012-06-07T06:40:14Z</dcterms:modified>
  <cp:revision>13</cp:revision>
  <dc:subject/>
  <dc:title>بسم الله الرحمن الرحيم</dc:title>
</cp:coreProperties>
</file>