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68360" y="292428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50760"/>
            <a:ext cx="856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ample 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Convert Decimal to b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9228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1943280"/>
            <a:ext cx="0" cy="4725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4175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34545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1734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34527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2781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2060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22100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50028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614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4894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614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4894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5661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940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765000"/>
            <a:ext cx="259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1101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633564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8000" y="50760"/>
            <a:ext cx="856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ample 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Convert Decimal to b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1628640"/>
            <a:ext cx="0" cy="4726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241920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169848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386064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13992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241920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169848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85920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313848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24670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1746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39067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186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5300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579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530064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0" y="457992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53467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626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765000"/>
            <a:ext cx="259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10111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602136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50760"/>
            <a:ext cx="8567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xample 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vert Decimal to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413000"/>
            <a:ext cx="0" cy="544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2035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1482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3645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2924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20356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48284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364320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92248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22510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1530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36910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2970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508464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4363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08464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436392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51307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4410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692280"/>
            <a:ext cx="259236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01000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6480000"/>
            <a:ext cx="865080" cy="3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80536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58784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580536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000" y="50760"/>
            <a:ext cx="8567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xample 5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vert Decimal to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9228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413000"/>
            <a:ext cx="0" cy="544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22035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482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645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2924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20356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0" y="148284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364320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92248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2510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1530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36910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2970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508464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4363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508464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4363920"/>
            <a:ext cx="1152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1307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4410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692280"/>
            <a:ext cx="259236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10101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6480000"/>
            <a:ext cx="865080" cy="3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5805360"/>
            <a:ext cx="115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58784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80536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000" y="50760"/>
            <a:ext cx="8496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6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convert binary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692280"/>
            <a:ext cx="51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1001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1197000"/>
            <a:ext cx="453528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995560"/>
            <a:ext cx="8136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221000"/>
            <a:ext cx="15112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411280" y="1197000"/>
            <a:ext cx="13701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1125360"/>
            <a:ext cx="14472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1197000"/>
            <a:ext cx="1728720" cy="1725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403280" y="1197000"/>
            <a:ext cx="266544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1197000"/>
            <a:ext cx="338436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8000" y="50760"/>
            <a:ext cx="8424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ample 7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convert binary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692280"/>
            <a:ext cx="51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1111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1197000"/>
            <a:ext cx="453528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2995560"/>
            <a:ext cx="8136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4221000"/>
            <a:ext cx="15112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411280" y="1197000"/>
            <a:ext cx="13701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1125360"/>
            <a:ext cx="14472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197000"/>
            <a:ext cx="1728720" cy="1725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403280" y="1197000"/>
            <a:ext cx="266544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197000"/>
            <a:ext cx="338436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8000" y="50760"/>
            <a:ext cx="8496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8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convert binary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692280"/>
            <a:ext cx="51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11111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1197000"/>
            <a:ext cx="453528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2995560"/>
            <a:ext cx="8136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221000"/>
            <a:ext cx="15112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11280" y="1197000"/>
            <a:ext cx="13701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1125360"/>
            <a:ext cx="14472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1197000"/>
            <a:ext cx="1728720" cy="1725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403280" y="1197000"/>
            <a:ext cx="266544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1197000"/>
            <a:ext cx="3384360" cy="1727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8000" y="50760"/>
            <a:ext cx="8496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9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convert binary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700200"/>
            <a:ext cx="57610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1100000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3280" y="1052640"/>
            <a:ext cx="4608360" cy="20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6560" y="3139920"/>
            <a:ext cx="8569440" cy="64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4221000"/>
            <a:ext cx="15112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11280" y="1197000"/>
            <a:ext cx="13701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419640" y="1125360"/>
            <a:ext cx="142560" cy="1943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1197000"/>
            <a:ext cx="1439640" cy="194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332000" y="1197000"/>
            <a:ext cx="2736720" cy="1944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1125360"/>
            <a:ext cx="3241800" cy="2014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27280" y="1125360"/>
            <a:ext cx="5905440" cy="194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000" y="50760"/>
            <a:ext cx="8496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10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convert binary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700200"/>
            <a:ext cx="57610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11010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052640"/>
            <a:ext cx="4608360" cy="20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6560" y="3139920"/>
            <a:ext cx="8569440" cy="649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4221000"/>
            <a:ext cx="15112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411280" y="1197000"/>
            <a:ext cx="13701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19640" y="1125360"/>
            <a:ext cx="142560" cy="1943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1197000"/>
            <a:ext cx="1439640" cy="194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332000" y="1197000"/>
            <a:ext cx="2736720" cy="1944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1125360"/>
            <a:ext cx="3241800" cy="2014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27280" y="1125360"/>
            <a:ext cx="5905440" cy="1943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fraction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9228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0.1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285264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2013120"/>
            <a:ext cx="1801800" cy="76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357336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3856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3856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38560" y="34527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85264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2060640"/>
            <a:ext cx="1440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278136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3500280"/>
            <a:ext cx="1439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96360" y="206064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1989000"/>
            <a:ext cx="503280" cy="69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854440"/>
            <a:ext cx="503280" cy="64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3573360"/>
            <a:ext cx="503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1197000"/>
            <a:ext cx="143964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24360" y="3645000"/>
            <a:ext cx="1440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692280"/>
            <a:ext cx="151128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Bits, Byt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erms might describe file size or memory siz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mallest unit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grouping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t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kilobyte)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2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s equals 1K of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fraction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9228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0.06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19280" y="285264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2013120"/>
            <a:ext cx="1801800" cy="76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06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357336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3856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3856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38560" y="34527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285264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2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060640"/>
            <a:ext cx="1440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96360" y="278136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96360" y="3500280"/>
            <a:ext cx="1439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96360" y="206064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92360" y="1989000"/>
            <a:ext cx="503280" cy="69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2854440"/>
            <a:ext cx="503280" cy="64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360" y="3573360"/>
            <a:ext cx="503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360" y="1197000"/>
            <a:ext cx="143964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24360" y="3645000"/>
            <a:ext cx="1440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65440" y="692280"/>
            <a:ext cx="194328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19280" y="4365720"/>
            <a:ext cx="1657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92360" y="4437000"/>
            <a:ext cx="503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11640" y="4437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4437000"/>
            <a:ext cx="151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96360" y="4365720"/>
            <a:ext cx="12967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fraction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6500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0.031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285264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2013120"/>
            <a:ext cx="1801800" cy="76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3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3573360"/>
            <a:ext cx="18018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3856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3856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38560" y="34527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2852640"/>
            <a:ext cx="1657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24360" y="2060640"/>
            <a:ext cx="1584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6360" y="278136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96360" y="3500280"/>
            <a:ext cx="1439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96360" y="2060640"/>
            <a:ext cx="1439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1989000"/>
            <a:ext cx="503280" cy="69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92360" y="2854440"/>
            <a:ext cx="503280" cy="64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2360" y="3573360"/>
            <a:ext cx="503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1197000"/>
            <a:ext cx="143964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3645000"/>
            <a:ext cx="1584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32000" y="765000"/>
            <a:ext cx="2303640" cy="7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0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365720"/>
            <a:ext cx="1657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4437000"/>
            <a:ext cx="503280" cy="64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437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4360" y="4437000"/>
            <a:ext cx="151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96360" y="4437000"/>
            <a:ext cx="12967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19280" y="5229360"/>
            <a:ext cx="1657440" cy="57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19640" y="5229360"/>
            <a:ext cx="502920" cy="64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67280" y="522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5229360"/>
            <a:ext cx="151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24720" y="5229360"/>
            <a:ext cx="136836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4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fraction binary to dec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692280"/>
            <a:ext cx="51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.00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2995560"/>
            <a:ext cx="8136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4221000"/>
            <a:ext cx="4895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/16 =0.06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00360" y="1125360"/>
            <a:ext cx="504720" cy="179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19640" y="1197000"/>
            <a:ext cx="79200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08360" y="1125360"/>
            <a:ext cx="1800360" cy="179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402920" y="1197000"/>
            <a:ext cx="158436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765000"/>
            <a:ext cx="1800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06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5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fraction binary to dec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692280"/>
            <a:ext cx="51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.001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2995560"/>
            <a:ext cx="8136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0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1*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700360" y="1125360"/>
            <a:ext cx="504720" cy="179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19640" y="1197000"/>
            <a:ext cx="79200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1125360"/>
            <a:ext cx="1800360" cy="179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02920" y="1197000"/>
            <a:ext cx="1584360" cy="1655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765000"/>
            <a:ext cx="1800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06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042920" y="4011480"/>
                <a:ext cx="432108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9228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5.1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1557360"/>
            <a:ext cx="0" cy="4726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2347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1627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378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306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7640" y="234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47640" y="162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47640" y="378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06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03640" y="227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3640" y="155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3640" y="371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99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522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450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522936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47640" y="450864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3640" y="515772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03640" y="443700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595008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59280" y="283680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59280" y="2060640"/>
            <a:ext cx="17287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25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59280" y="355752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278136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206064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604360" y="3500280"/>
            <a:ext cx="431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45440" y="1197000"/>
            <a:ext cx="9349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93080" y="350208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04360" y="206064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04360" y="278136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360" y="692280"/>
            <a:ext cx="2737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00011.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56360" y="5229360"/>
            <a:ext cx="180036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95640" y="6093000"/>
            <a:ext cx="180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9228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2.1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1557360"/>
            <a:ext cx="0" cy="4726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2347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1627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378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06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47640" y="234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47640" y="162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7640" y="378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47640" y="306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03640" y="227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3640" y="155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03640" y="371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3640" y="299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522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450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522936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47640" y="450864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515772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443700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95008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9280" y="283680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2060640"/>
            <a:ext cx="17287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25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355752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93080" y="278136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93080" y="206064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04360" y="3500280"/>
            <a:ext cx="431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45440" y="1197000"/>
            <a:ext cx="9349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93080" y="350208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604360" y="206064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04360" y="278136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92360" y="692280"/>
            <a:ext cx="2737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01010.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56360" y="5229360"/>
            <a:ext cx="180036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6093000"/>
            <a:ext cx="180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08000" y="50760"/>
            <a:ext cx="903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nvert decimal in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692280"/>
            <a:ext cx="601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9.125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1557360"/>
            <a:ext cx="0" cy="4726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2347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627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" y="378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306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47640" y="234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47640" y="162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47640" y="378792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47640" y="306720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227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3640" y="155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71808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03640" y="299736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5229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4508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522936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4508640"/>
            <a:ext cx="8654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515772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4437000"/>
            <a:ext cx="865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595008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59280" y="283680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9280" y="2060640"/>
            <a:ext cx="172872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25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3557520"/>
            <a:ext cx="1657440" cy="44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93080" y="278136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93080" y="206064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3500280"/>
            <a:ext cx="43164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45440" y="1197000"/>
            <a:ext cx="9349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3080" y="3502080"/>
            <a:ext cx="11509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604360" y="206064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04360" y="2781360"/>
            <a:ext cx="431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92360" y="692280"/>
            <a:ext cx="2737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00111.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5229360"/>
            <a:ext cx="180036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95640" y="6093000"/>
            <a:ext cx="180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539640" y="2205000"/>
            <a:ext cx="7812360" cy="249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0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1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1 = 0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rry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404640"/>
            <a:ext cx="227016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27280" y="2924280"/>
            <a:ext cx="468000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16360" y="4221000"/>
            <a:ext cx="4176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03640" y="2349360"/>
            <a:ext cx="43200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2924280"/>
            <a:ext cx="468000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6360" y="4221000"/>
            <a:ext cx="4176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03640" y="2349360"/>
            <a:ext cx="43200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Bits, Byt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megabyte); abou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mill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te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gigabyte); abou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bill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te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terabyte); abou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mill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gabyte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2924280"/>
            <a:ext cx="468000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      11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1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16360" y="4653000"/>
            <a:ext cx="4176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08720" y="2349360"/>
            <a:ext cx="43164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88000" y="2347920"/>
            <a:ext cx="43164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67280" y="2349360"/>
            <a:ext cx="43164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     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03640" y="4869000"/>
            <a:ext cx="4824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19640" y="2997360"/>
            <a:ext cx="432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88000" y="2997360"/>
            <a:ext cx="4316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56000" y="2995560"/>
            <a:ext cx="432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      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3640" y="4869000"/>
            <a:ext cx="4824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19640" y="2997360"/>
            <a:ext cx="432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788000" y="2997360"/>
            <a:ext cx="4316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6000" y="2995560"/>
            <a:ext cx="4320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55640" y="2205000"/>
            <a:ext cx="777708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- 1 = 0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- 0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0 - 0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0 - 1 = 1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rrow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635280" y="692280"/>
            <a:ext cx="2521080" cy="122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4000" y="692280"/>
            <a:ext cx="187308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      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51280" y="5229360"/>
            <a:ext cx="4033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651640" y="1916280"/>
            <a:ext cx="431640" cy="1873080"/>
          </a:xfrm>
          <a:custGeom>
            <a:avLst/>
            <a:gdLst>
              <a:gd name="textAreaLeft" fmla="*/ 96480 w 431640"/>
              <a:gd name="textAreaRight" fmla="*/ 291960 w 43164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4798379"/>
                <a:lnTo>
                  <a:pt x="21570" y="19898"/>
                </a:lnTo>
                <a:lnTo>
                  <a:pt x="19376" y="21600"/>
                </a:lnTo>
                <a:lnTo>
                  <a:pt x="17122" y="19898"/>
                </a:lnTo>
                <a:lnTo>
                  <a:pt x="19282" y="19898"/>
                </a:lnTo>
                <a:arcTo wR="9656" hR="21600" stAng="-601621" swAng="-4788193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cc99"/>
          </a:soli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4160" y="1628640"/>
            <a:ext cx="21099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48360" y="1989000"/>
            <a:ext cx="431640" cy="1873440"/>
          </a:xfrm>
          <a:custGeom>
            <a:avLst/>
            <a:gdLst>
              <a:gd name="textAreaLeft" fmla="*/ 96480 w 431640"/>
              <a:gd name="textAreaRight" fmla="*/ 291960 w 431640"/>
              <a:gd name="textAreaTop" fmla="*/ 250920 h 1873440"/>
              <a:gd name="textAreaBottom" fmla="*/ 162252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4798379"/>
                <a:lnTo>
                  <a:pt x="21570" y="19898"/>
                </a:lnTo>
                <a:lnTo>
                  <a:pt x="19376" y="21600"/>
                </a:lnTo>
                <a:lnTo>
                  <a:pt x="17122" y="19898"/>
                </a:lnTo>
                <a:lnTo>
                  <a:pt x="19282" y="19898"/>
                </a:lnTo>
                <a:arcTo wR="9656" hR="21600" stAng="-601621" swAng="-4788193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24000" y="692280"/>
            <a:ext cx="187308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 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1101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      100100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.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6000" y="5157720"/>
            <a:ext cx="50418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72360" y="1916280"/>
            <a:ext cx="1008000" cy="1873080"/>
          </a:xfrm>
          <a:custGeom>
            <a:avLst/>
            <a:gdLst>
              <a:gd name="textAreaLeft" fmla="*/ 225360 w 1008000"/>
              <a:gd name="textAreaRight" fmla="*/ 681840 w 1008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3099610"/>
                <a:lnTo>
                  <a:pt x="21048" y="14400"/>
                </a:lnTo>
                <a:lnTo>
                  <a:pt x="19376" y="21600"/>
                </a:lnTo>
                <a:lnTo>
                  <a:pt x="16600" y="14400"/>
                </a:lnTo>
                <a:lnTo>
                  <a:pt x="18760" y="14400"/>
                </a:lnTo>
                <a:arcTo wR="9656" hR="21600" stAng="-2300390" swAng="-3089424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13800" y="2205000"/>
            <a:ext cx="21099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24000" y="692280"/>
            <a:ext cx="187308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 2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      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5229360"/>
            <a:ext cx="4033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27640" y="2565360"/>
            <a:ext cx="432000" cy="1368360"/>
          </a:xfrm>
          <a:custGeom>
            <a:avLst/>
            <a:gdLst>
              <a:gd name="textAreaLeft" fmla="*/ 96480 w 432000"/>
              <a:gd name="textAreaRight" fmla="*/ 292320 w 432000"/>
              <a:gd name="textAreaTop" fmla="*/ 183240 h 1368360"/>
              <a:gd name="textAreaBottom" fmla="*/ 11851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4798379"/>
                <a:lnTo>
                  <a:pt x="21570" y="19898"/>
                </a:lnTo>
                <a:lnTo>
                  <a:pt x="19376" y="21600"/>
                </a:lnTo>
                <a:lnTo>
                  <a:pt x="17122" y="19898"/>
                </a:lnTo>
                <a:lnTo>
                  <a:pt x="19282" y="19898"/>
                </a:lnTo>
                <a:arcTo wR="9656" hR="21600" stAng="-601621" swAng="-4788193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cc99"/>
          </a:soli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4160" y="1628640"/>
            <a:ext cx="21099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00" y="692280"/>
            <a:ext cx="187308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3213000"/>
            <a:ext cx="6265800" cy="27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11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        110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0.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6000" y="5157720"/>
            <a:ext cx="50418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1916280"/>
            <a:ext cx="1008000" cy="1873080"/>
          </a:xfrm>
          <a:custGeom>
            <a:avLst/>
            <a:gdLst>
              <a:gd name="textAreaLeft" fmla="*/ 225360 w 1008000"/>
              <a:gd name="textAreaRight" fmla="*/ 681840 w 1008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3099610"/>
                <a:lnTo>
                  <a:pt x="21048" y="14400"/>
                </a:lnTo>
                <a:lnTo>
                  <a:pt x="19376" y="21600"/>
                </a:lnTo>
                <a:lnTo>
                  <a:pt x="16600" y="14400"/>
                </a:lnTo>
                <a:lnTo>
                  <a:pt x="18760" y="14400"/>
                </a:lnTo>
                <a:arcTo wR="9656" hR="21600" stAng="-2300390" swAng="-3089424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solidFill>
            <a:srgbClr val="00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13800" y="2205000"/>
            <a:ext cx="210996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187280" y="2997360"/>
            <a:ext cx="52214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* 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* 1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* 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* 1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59280" y="836640"/>
            <a:ext cx="2628720" cy="9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0920" y="1773360"/>
            <a:ext cx="5545440" cy="47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000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01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3640" y="3573360"/>
            <a:ext cx="4176720" cy="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59280" y="5373720"/>
            <a:ext cx="4176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0, 1, 2, 3, 4, 5, 6, 7, 8, 9, 10, 11, 12, 13, 14, 15,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10 digits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, 1, 2, 3, 4, 5, 6, 7, 8,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04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ase 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907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Decim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95280" y="765000"/>
            <a:ext cx="4321080" cy="10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0920" y="1916280"/>
            <a:ext cx="5545440" cy="4537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3860640"/>
            <a:ext cx="4176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5084640"/>
            <a:ext cx="4176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195640" y="765000"/>
            <a:ext cx="6553080" cy="568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0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0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10000.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32000" y="2349360"/>
            <a:ext cx="4176720" cy="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1280" y="765000"/>
            <a:ext cx="2916000" cy="10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95640" y="765000"/>
            <a:ext cx="6553080" cy="568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110000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92360" y="2133720"/>
            <a:ext cx="4176720" cy="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765000"/>
            <a:ext cx="2916000" cy="10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95640" y="765000"/>
            <a:ext cx="6553080" cy="5688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1.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2924280"/>
            <a:ext cx="4176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87640" y="4797360"/>
            <a:ext cx="518472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765000"/>
            <a:ext cx="2916000" cy="10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260280"/>
            <a:ext cx="856764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1-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vert Decimal to b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234936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8360" y="299736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0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3716280"/>
            <a:ext cx="53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9.1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4437000"/>
            <a:ext cx="52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1.06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3280" y="522612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260280"/>
            <a:ext cx="856764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2-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vert binary  to Dec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8360" y="2924280"/>
            <a:ext cx="583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….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0.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3787920"/>
            <a:ext cx="590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….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0.0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4579920"/>
            <a:ext cx="597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….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0.000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522756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….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0.1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260280"/>
            <a:ext cx="856764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3-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vert Decimal to b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2852640"/>
            <a:ext cx="554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.1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4000" y="3571920"/>
            <a:ext cx="619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.06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20" y="4508640"/>
            <a:ext cx="52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.0312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5280" y="530064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.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260280"/>
            <a:ext cx="856764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4- binary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2421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11 +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50920" y="3141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11001  +  1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6000" y="3860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1 + 10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79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01 + 0.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589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10001+ 0.0101 + 0.010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260280"/>
            <a:ext cx="856764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5- binary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5280" y="2565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11 *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3357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01  *  11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4000" y="414972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1 * 1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5280" y="479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01 * 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5589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111 * 0.0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NARY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1, 10, 11, 100, 101, 110, 111, 1000, 1001, 1010, 1011, 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with only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s: "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and "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ame way as for decimal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inary) = 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1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decima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s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from binary to decimal is simple, just as for 1011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360" y="90792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Bina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8134200" cy="26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know if 1011 is in binary or in decimal? Subscripts are used to show the base: 1011</a:t>
            </a:r>
            <a:r>
              <a:rPr b="1" lang="en-US" sz="3200" spc="-1" strike="noStrike" baseline="-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inary number), 1011</a:t>
            </a:r>
            <a:r>
              <a:rPr b="1" lang="en-US" sz="3200" spc="-1" strike="noStrike" baseline="-30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ecimal numb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Bina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1332000"/>
            <a:ext cx="70916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mal      Binary     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               0000      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1               0001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2               0010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3               0011                   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4               0100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5               0101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6               0110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7               0111 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8              1000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 9              1001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10             1010                    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11             1011                   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4111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ositive Binary Inte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0" y="1341000"/>
            <a:ext cx="266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Decimal  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4581360"/>
            <a:ext cx="252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inar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557360"/>
            <a:ext cx="2449440" cy="4319640"/>
          </a:xfrm>
          <a:custGeom>
            <a:avLst/>
            <a:gdLst>
              <a:gd name="textAreaLeft" fmla="*/ 327960 w 2449440"/>
              <a:gd name="textAreaRight" fmla="*/ 2121480 w 2449440"/>
              <a:gd name="textAreaTop" fmla="*/ 790200 h 4319640"/>
              <a:gd name="textAreaBottom" fmla="*/ 309744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4" stAng="-5400000" swAng="-5400000"/>
                <a:lnTo>
                  <a:pt x="0" y="11536"/>
                </a:lnTo>
                <a:arcTo wR="21600" hR="7904" stAng="10800000" swAng="-3068589"/>
                <a:lnTo>
                  <a:pt x="15492" y="21277"/>
                </a:lnTo>
                <a:lnTo>
                  <a:pt x="21600" y="17624"/>
                </a:lnTo>
                <a:lnTo>
                  <a:pt x="15492" y="13325"/>
                </a:lnTo>
                <a:lnTo>
                  <a:pt x="15492" y="15485"/>
                </a:lnTo>
                <a:arcTo wR="21600" hR="7904" stAng="7731411" swAng="2772354"/>
                <a:lnTo>
                  <a:pt x="578" y="9720"/>
                </a:lnTo>
                <a:arcTo wR="21600" hR="7904" stAng="-10503765" swAng="5103765"/>
                <a:close/>
              </a:path>
              <a:path fill="darkenLess" w="21600" h="21600">
                <a:moveTo>
                  <a:pt x="21600" y="0"/>
                </a:moveTo>
                <a:arcTo wR="21600" hR="7904" stAng="-5400000" swAng="-5400000"/>
                <a:lnTo>
                  <a:pt x="0" y="7904"/>
                </a:lnTo>
                <a:arcTo wR="21600" hR="7904" stAng="10800000" swAng="-296235"/>
                <a:lnTo>
                  <a:pt x="578" y="9720"/>
                </a:lnTo>
                <a:arcTo wR="21600" hR="7904" stAng="-10503765" swAng="51037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1136600">
            <a:off x="5219280" y="1412640"/>
            <a:ext cx="2449440" cy="4319640"/>
          </a:xfrm>
          <a:custGeom>
            <a:avLst/>
            <a:gdLst>
              <a:gd name="textAreaLeft" fmla="*/ 327960 w 2449440"/>
              <a:gd name="textAreaRight" fmla="*/ 2121480 w 2449440"/>
              <a:gd name="textAreaTop" fmla="*/ 790200 h 4319640"/>
              <a:gd name="textAreaBottom" fmla="*/ 309744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4" stAng="-5400000" swAng="-5400000"/>
                <a:lnTo>
                  <a:pt x="0" y="11536"/>
                </a:lnTo>
                <a:arcTo wR="21600" hR="7904" stAng="10800000" swAng="-3068589"/>
                <a:lnTo>
                  <a:pt x="15492" y="21277"/>
                </a:lnTo>
                <a:lnTo>
                  <a:pt x="21600" y="17624"/>
                </a:lnTo>
                <a:lnTo>
                  <a:pt x="15492" y="13325"/>
                </a:lnTo>
                <a:lnTo>
                  <a:pt x="15492" y="15485"/>
                </a:lnTo>
                <a:arcTo wR="21600" hR="7904" stAng="7731411" swAng="2772354"/>
                <a:lnTo>
                  <a:pt x="578" y="9720"/>
                </a:lnTo>
                <a:arcTo wR="21600" hR="7904" stAng="-10503765" swAng="5103765"/>
                <a:close/>
              </a:path>
              <a:path fill="darkenLess" w="21600" h="21600">
                <a:moveTo>
                  <a:pt x="21600" y="0"/>
                </a:moveTo>
                <a:arcTo wR="21600" hR="7904" stAng="-5400000" swAng="-5400000"/>
                <a:lnTo>
                  <a:pt x="0" y="7904"/>
                </a:lnTo>
                <a:arcTo wR="21600" hR="7904" stAng="10800000" swAng="-296235"/>
                <a:lnTo>
                  <a:pt x="578" y="9720"/>
                </a:lnTo>
                <a:arcTo wR="21600" hR="7904" stAng="-10503765" swAng="51037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2852640"/>
            <a:ext cx="151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÷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3141720"/>
            <a:ext cx="151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*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92280"/>
            <a:ext cx="37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5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=  ( …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1943280"/>
            <a:ext cx="0" cy="4725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4175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545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27338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0131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41734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34527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78136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06064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422100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500280"/>
            <a:ext cx="86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5614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4894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561492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8942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66100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940280"/>
            <a:ext cx="865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765000"/>
            <a:ext cx="259236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10001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6335640"/>
            <a:ext cx="86508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856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Example 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Convert Decimal to b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19:29:12Z</dcterms:created>
  <dc:creator>Andrei Gurtov</dc:creator>
  <dc:description/>
  <dc:language>en-US</dc:language>
  <cp:lastModifiedBy>Magdy M. Doss</cp:lastModifiedBy>
  <cp:lastPrinted>1998-06-18T02:52:44Z</cp:lastPrinted>
  <dcterms:modified xsi:type="dcterms:W3CDTF">2008-12-14T12:19:43Z</dcterms:modified>
  <cp:revision>85</cp:revision>
  <dc:subject/>
  <dc:title>Lecture 6</dc:title>
</cp:coreProperties>
</file>