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6D1-2A51-4218-8C04-A570199A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AFB-9D64-499D-BCE8-48B028B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397-38F8-40F0-9F29-AC0F9A35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AD2-240E-461B-AF86-7F2ACD17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431-6EB9-4F30-A953-C4FF99F8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BC3-B69A-4AE5-92CB-FABF32C9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D1AF-C007-4BAF-952B-5A9DA55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C2EC-F729-4C5B-BA59-A47A025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3C49-7D84-44C0-9DE8-5E5C759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688-9702-48B4-9A59-D2A98DA0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660-4D66-4EAC-B0D4-C9C22B7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7EF-945B-4734-8242-6F06B461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FAE-7D1B-4502-9130-3A2D9C6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62E-2686-4251-88BD-443CAFE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E3B0-F78F-43D1-B059-E25F602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F0DC-8F4A-448D-9E09-CDA086D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434-1589-48A0-B221-9DEC841B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A97-9194-4757-B6CE-FB30C7E9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681-6352-4B78-B51B-2BBB9F8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EF2-A16C-482D-815E-D69B5CFF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A93-99DD-4B80-8A92-1C1A9DE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AB8-52C6-452A-91E5-658586C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804-F9EE-403D-A601-1AD7500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313-B791-4B82-A584-8734F63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1B1A-46EB-4B5D-A645-95722B785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9006-4153-4B0B-9B03-6963D5AE762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stellar"/>
              </a:rPr>
              <a:t>Biopsy of musculoskeletal tum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Monotype Corsiva"/>
              </a:rPr>
              <a:t>Waleed Awwad, MD, FRCS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ore needle biops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Needle gau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Tissue sample and archit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cisional biops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Gold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espite this f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5" descr="scan0004"/>
          <p:cNvPicPr/>
          <p:nvPr/>
        </p:nvPicPr>
        <p:blipFill>
          <a:blip r:embed="rId1"/>
          <a:stretch/>
        </p:blipFill>
        <p:spPr>
          <a:xfrm>
            <a:off x="870120" y="1828800"/>
            <a:ext cx="377820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can0005"/>
          <p:cNvPicPr/>
          <p:nvPr/>
        </p:nvPicPr>
        <p:blipFill>
          <a:blip r:embed="rId2"/>
          <a:stretch/>
        </p:blipFill>
        <p:spPr>
          <a:xfrm>
            <a:off x="4800600" y="1828800"/>
            <a:ext cx="316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Excisional biops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Summ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has a big imp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osed biopsy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Radiologist and patholog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hysician performing the definitiv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astellar"/>
              </a:rPr>
              <a:t>Thank you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Introduc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ritical proced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fluence on the outco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ethod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hysician performing the biop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alignant soft tissue and bone tum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Treatment of pati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is perform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Imag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ost commonly used ima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formation from imag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Anatomic loc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Vital stru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Area most appropriate for biops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Choice of tech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erform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inimize contam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Deep le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Approach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Healthy sk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Biopsy trac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Meticulous hemostasis: closed biopsy, open soft tissue and b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cision ori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5" descr="scan0001"/>
          <p:cNvPicPr/>
          <p:nvPr/>
        </p:nvPicPr>
        <p:blipFill>
          <a:blip r:embed="rId1"/>
          <a:stretch/>
        </p:blipFill>
        <p:spPr>
          <a:xfrm>
            <a:off x="0" y="182880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scan0002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6" descr="scan0003"/>
          <p:cNvPicPr/>
          <p:nvPr/>
        </p:nvPicPr>
        <p:blipFill>
          <a:blip r:embed="rId1"/>
          <a:stretch/>
        </p:blipFill>
        <p:spPr>
          <a:xfrm>
            <a:off x="1219320" y="1836720"/>
            <a:ext cx="2971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&gt;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&gt; Op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maging is needed or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Type and size of biopsy need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5" descr="biopsy thigh"/>
          <p:cNvPicPr/>
          <p:nvPr/>
        </p:nvPicPr>
        <p:blipFill>
          <a:blip r:embed="rId1"/>
          <a:stretch/>
        </p:blipFill>
        <p:spPr>
          <a:xfrm>
            <a:off x="914400" y="19051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pring loaded core needle biopsy"/>
          <p:cNvPicPr/>
          <p:nvPr/>
        </p:nvPicPr>
        <p:blipFill>
          <a:blip r:embed="rId2"/>
          <a:stretch/>
        </p:blipFill>
        <p:spPr>
          <a:xfrm rot="19338600">
            <a:off x="5029200" y="3809520"/>
            <a:ext cx="3086280" cy="149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ore needle"/>
          <p:cNvPicPr/>
          <p:nvPr/>
        </p:nvPicPr>
        <p:blipFill>
          <a:blip r:embed="rId3"/>
          <a:stretch/>
        </p:blipFill>
        <p:spPr>
          <a:xfrm rot="19346400">
            <a:off x="5257800" y="3580920"/>
            <a:ext cx="3500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Fine needle aspiration (FN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Most appropri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Material aspi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21:57Z</dcterms:created>
  <dc:creator>scorpion</dc:creator>
  <dc:description/>
  <dc:language>en-US</dc:language>
  <cp:lastModifiedBy>Waleed Awwad</cp:lastModifiedBy>
  <dcterms:modified xsi:type="dcterms:W3CDTF">2012-07-24T15:43:58Z</dcterms:modified>
  <cp:revision>19</cp:revision>
  <dc:subject/>
  <dc:title>Biopsy of musculoskeletal tumors</dc:title>
</cp:coreProperties>
</file>