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BDC-C857-4567-9AC8-17F14869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5D1-9CF2-4748-9B3D-500ABAD8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554-0586-4BD7-B004-74737395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9C8-2810-4436-85BB-EC025FB2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18FD-AD69-4D69-AFCD-165395AC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04FF-E7D8-480F-BB7B-2F079470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D4A4-2C2C-4961-9799-FF764A88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FF53-9929-4095-9A2C-A9973B94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416F-1D93-4E04-851B-6601AFD2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6ADE-60F0-4F69-906E-3A2795A2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2EBA-2A81-4F06-9AD6-8FF4390D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E1E-7E58-4E5E-947E-B1AE783C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311B-C6EE-48F7-9171-C4913D1F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7373-60C8-4913-A417-A1FA4027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1D4F-A775-4B71-8492-E2102CBF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DF18-C332-49CD-BA63-3C25F3B9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84C4-CBF0-4797-AC3E-C829520F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D3B-6E4D-463E-B2FB-D0E12D6B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966-4119-4204-8BD2-80A120C9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A75-1C6C-4D7A-ADFB-71AF12E2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CC6-18FD-46D6-ADDD-9F59E9F5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B05-4A99-4104-91FE-0316F36B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A07-A95E-45A5-88BC-F58CD1CA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FB5-A860-4915-B524-21836F03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79DA-33B4-4CAD-924F-9C492ABB3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25DD-AB33-4998-83E1-8F4C4290C3A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1676160"/>
            <a:ext cx="85345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astellar"/>
              </a:rPr>
              <a:t>Biopsy of musculoskeletal tum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Monotype Corsiva"/>
              </a:rPr>
              <a:t>Waleed Awwad, MD, FRCS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stellar"/>
              </a:rPr>
              <a:t>Percutaneous techniqu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Core needle biops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Needle gau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Tissue sample and archite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Advant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Disadvant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Open techniqu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Incisional biops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Gold standa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Despite this fa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Advant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Disadvant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Open techniqu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5" descr="scan0004"/>
          <p:cNvPicPr/>
          <p:nvPr/>
        </p:nvPicPr>
        <p:blipFill>
          <a:blip r:embed="rId1"/>
          <a:stretch/>
        </p:blipFill>
        <p:spPr>
          <a:xfrm>
            <a:off x="870120" y="1828800"/>
            <a:ext cx="3778200" cy="472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scan0005"/>
          <p:cNvPicPr/>
          <p:nvPr/>
        </p:nvPicPr>
        <p:blipFill>
          <a:blip r:embed="rId2"/>
          <a:stretch/>
        </p:blipFill>
        <p:spPr>
          <a:xfrm>
            <a:off x="4800600" y="1828800"/>
            <a:ext cx="3165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Open techniqu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Excisional biops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U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Advant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Disadvant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Summar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Biopsy has a big impa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Biopsy pl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Closed biopsy techniq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Radiologist and pathologi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Physician performing the definitive treat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Castellar"/>
              </a:rPr>
              <a:t>Thank you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Introduct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Critical proced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Influence on the outco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Methodolog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Physician performing the biops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Malignant soft tissue and bone tum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Treatment of pati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Biopsy is perform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Imag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Most commonly used imag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Information from imag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- Anatomic localiz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- Vital struct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- Area most appropriate for biops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- Choice of techniq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Principles of biops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Perform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Minimize contamin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- Deep le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- Approach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- Healthy sk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- Biopsy trac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- Meticulous hemostasis: closed biopsy, open soft tissue and bon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Incision orien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Principles of biops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Picture 5" descr="scan0001"/>
          <p:cNvPicPr/>
          <p:nvPr/>
        </p:nvPicPr>
        <p:blipFill>
          <a:blip r:embed="rId1"/>
          <a:stretch/>
        </p:blipFill>
        <p:spPr>
          <a:xfrm>
            <a:off x="0" y="1828800"/>
            <a:ext cx="4572000" cy="472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scan0002"/>
          <p:cNvPicPr/>
          <p:nvPr/>
        </p:nvPicPr>
        <p:blipFill>
          <a:blip r:embed="rId2"/>
          <a:stretch/>
        </p:blipFill>
        <p:spPr>
          <a:xfrm>
            <a:off x="4572000" y="1828800"/>
            <a:ext cx="457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Principles of biops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6" descr="scan0003"/>
          <p:cNvPicPr/>
          <p:nvPr/>
        </p:nvPicPr>
        <p:blipFill>
          <a:blip r:embed="rId1"/>
          <a:stretch/>
        </p:blipFill>
        <p:spPr>
          <a:xfrm>
            <a:off x="1219320" y="1836720"/>
            <a:ext cx="29718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astellar"/>
              </a:rPr>
              <a:t>Principles of biops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Biopsy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&gt;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&gt; Op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stellar"/>
              </a:rPr>
              <a:t>Percutaneou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Imaging is needed or No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Type and size of biopsy need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stellar"/>
              </a:rPr>
              <a:t>Percutaneous techniqu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5" descr="biopsy thigh"/>
          <p:cNvPicPr/>
          <p:nvPr/>
        </p:nvPicPr>
        <p:blipFill>
          <a:blip r:embed="rId1"/>
          <a:stretch/>
        </p:blipFill>
        <p:spPr>
          <a:xfrm>
            <a:off x="914400" y="1905120"/>
            <a:ext cx="5867280" cy="440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spring loaded core needle biopsy"/>
          <p:cNvPicPr/>
          <p:nvPr/>
        </p:nvPicPr>
        <p:blipFill>
          <a:blip r:embed="rId2"/>
          <a:stretch/>
        </p:blipFill>
        <p:spPr>
          <a:xfrm rot="19338600">
            <a:off x="5029200" y="3809520"/>
            <a:ext cx="3086280" cy="1494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ore needle"/>
          <p:cNvPicPr/>
          <p:nvPr/>
        </p:nvPicPr>
        <p:blipFill>
          <a:blip r:embed="rId3"/>
          <a:stretch/>
        </p:blipFill>
        <p:spPr>
          <a:xfrm rot="19346400">
            <a:off x="5257800" y="3580920"/>
            <a:ext cx="35002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astellar"/>
              </a:rPr>
              <a:t>Percutaneous techniqu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Fine needle aspiration (FN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Most appropri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Material aspir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Advant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Disadvant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-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21:21:57Z</dcterms:created>
  <dc:creator>scorpion</dc:creator>
  <dc:description/>
  <dc:language>en-US</dc:language>
  <cp:lastModifiedBy>Waleed Awwad</cp:lastModifiedBy>
  <dcterms:modified xsi:type="dcterms:W3CDTF">2012-07-24T15:43:58Z</dcterms:modified>
  <cp:revision>19</cp:revision>
  <dc:subject/>
  <dc:title>Biopsy of musculoskeletal tumors</dc:title>
</cp:coreProperties>
</file>