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BCA1-A11A-4074-B27B-DA7CF0AC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E59-2276-417A-BCAC-4B1A2F4587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BCB7-FB7F-4FCA-BE4F-4E006A52EA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7D2B-AD25-4F12-A182-167DA94D6B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83E6-8BE9-4646-8D6E-EF32C104F3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3B18-12B7-4E24-826D-396BA1E6A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32E4-20F0-4CF6-BA3C-71B7EFFB25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A411-EB27-4F34-A760-114FD846D1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2E06-5E64-4D9E-8658-AD37F8B2F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333D-D9B5-457D-A9D2-AD3D643534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4C9F-B39F-4E06-AA4D-8515BC392C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A1D8-B69B-4357-AA28-4BBAB5162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C191-A2C8-4283-A05F-5B6ADBF4AC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162-B11D-4506-B74F-4F87316165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927E-C435-4422-B028-DC45EA1066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18CF-0A44-4ACD-AC6B-282BF89307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028-6E83-4FEA-8604-DD945B43DF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F8A-FE46-4948-A6EB-C4DDAB2DDA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13E1-993B-433D-9D88-FE1601E30B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4844-F7BB-46AF-BE0F-8F7061EE52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548C-E831-42F9-873B-30FE57A6E9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648-E4FA-4327-84AE-16E4EB0324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4D0D-706C-401A-9C54-9E0BAC9751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430-E11A-44D9-A447-AD9C2130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5CB-E498-4137-9A6F-F3F4B0C6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7EE-FF87-4881-9D94-BBFEEF60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F3F-A20B-4435-AAE2-0DFA58AF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3BDA-B1A1-42A6-A450-CF0FBF7A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D280-2FFB-4EBC-936D-109925D4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40C9-7DEB-486A-8E81-C8E8EE95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F87E-B046-4B76-8983-DB77B9FF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1B91-7104-4664-8C1D-CC18662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87F6-4CE5-4EFA-ADEB-F69A8C10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1D41-EE91-471B-83F5-CEFC5392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A25-B70F-4F5F-99A7-A7758E3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0CC6-3167-448A-96ED-C60061E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9AED-B6E1-489A-8981-9B17527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3C31-60FB-480A-8292-F902A5FD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936F-AE1E-48FB-8207-1E283865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713B-DED9-419B-853E-5D75398B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D90-9EE5-40B4-BAF5-6C5972A6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606-4D22-4731-BADC-F6C0FDD5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A17-24ED-412B-ABF9-411FFF08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BBF-F0A1-451E-9012-A5E6075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CD7-5328-46A2-9C0A-B0B5038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0FF-4AF2-4404-853C-2C9017C6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67C-8DA2-4B36-96B3-84749E3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4033-CED3-474D-96DF-E94FF282A4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321-0A4F-4F52-ADB2-2FFBB95DD6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inerals Birefringence and Interferen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nterfer7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nterfer8"/>
          <p:cNvPicPr/>
          <p:nvPr/>
        </p:nvPicPr>
        <p:blipFill>
          <a:blip r:embed="rId1"/>
          <a:stretch/>
        </p:blipFill>
        <p:spPr>
          <a:xfrm>
            <a:off x="175248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interfer9"/>
          <p:cNvPicPr/>
          <p:nvPr/>
        </p:nvPicPr>
        <p:blipFill>
          <a:blip r:embed="rId1"/>
          <a:stretch/>
        </p:blipFill>
        <p:spPr>
          <a:xfrm>
            <a:off x="1600200" y="3808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nterfer10"/>
          <p:cNvPicPr/>
          <p:nvPr/>
        </p:nvPicPr>
        <p:blipFill>
          <a:blip r:embed="rId1"/>
          <a:stretch/>
        </p:blipFill>
        <p:spPr>
          <a:xfrm>
            <a:off x="167652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and Col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olor has a different wavel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ll light is retarded by the same distance, then each color of light will be affected different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lors may increase in intensity and some may decr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that the light that results when the rays recombine will have a distinct color due to the interference from a given retar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Color Cha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6" descr="michellevy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Optic Ax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ptic axis is a straight line through a mineral along which light does not diverge into two separate ray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s to an axis of symmetry such that the speed light would be the same no matter what direction the ray vibrat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ng the optic axis the mineral behaves as if it were isotropic (no retard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axial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nisotropic minerals (such as calcite and quartz) have only one optic axis, and so are call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calcite_gitter_2"/>
          <p:cNvPicPr/>
          <p:nvPr/>
        </p:nvPicPr>
        <p:blipFill>
          <a:blip r:embed="rId1"/>
          <a:stretch/>
        </p:blipFill>
        <p:spPr>
          <a:xfrm>
            <a:off x="4800600" y="1600200"/>
            <a:ext cx="3857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axial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isotropic minerals (such as muscovite) have only two optic axes, and so are call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muscovita2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1143000" y="1905120"/>
            <a:ext cx="7315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rthoscopic vs Conoscopic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Picture 7" descr="XPL Light Path"/>
          <p:cNvPicPr/>
          <p:nvPr/>
        </p:nvPicPr>
        <p:blipFill>
          <a:blip r:embed="rId1"/>
          <a:stretch/>
        </p:blipFill>
        <p:spPr>
          <a:xfrm>
            <a:off x="1295280" y="2057400"/>
            <a:ext cx="3057480" cy="396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onoscopic Light Path"/>
          <p:cNvPicPr/>
          <p:nvPr/>
        </p:nvPicPr>
        <p:blipFill>
          <a:blip r:embed="rId2"/>
          <a:stretch/>
        </p:blipFill>
        <p:spPr>
          <a:xfrm>
            <a:off x="5184720" y="2057400"/>
            <a:ext cx="305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efring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ble refr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s the decomposition of a ray of light into two rays when it passes through anisotropic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calcite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1523880" y="1676520"/>
            <a:ext cx="6096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oscopic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onoscopic Explanation"/>
          <p:cNvPicPr/>
          <p:nvPr/>
        </p:nvPicPr>
        <p:blipFill>
          <a:blip r:embed="rId1"/>
          <a:stretch/>
        </p:blipFill>
        <p:spPr>
          <a:xfrm>
            <a:off x="1676520" y="1828800"/>
            <a:ext cx="57909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1752480"/>
            <a:ext cx="80010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axial 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6" descr="Unixial Optic Axis Figure"/>
          <p:cNvPicPr/>
          <p:nvPr/>
        </p:nvPicPr>
        <p:blipFill>
          <a:blip r:embed="rId1"/>
          <a:stretch/>
        </p:blipFill>
        <p:spPr>
          <a:xfrm>
            <a:off x="1066680" y="2133720"/>
            <a:ext cx="73915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efring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inary 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ordinary 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c 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erence Fig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ch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gy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t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419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rays travel at different speeds, and vibrate in perpendicular direc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ray travels straight through the crystal and is cal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inary ra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ray is refracted through the crystal and is cal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aordinary ra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traordinary ray vibrates in a direction that would connect it with the ordinary 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f2"/>
          <p:cNvPicPr/>
          <p:nvPr/>
        </p:nvPicPr>
        <p:blipFill>
          <a:blip r:embed="rId1"/>
          <a:stretch/>
        </p:blipFill>
        <p:spPr>
          <a:xfrm>
            <a:off x="5418000" y="1523880"/>
            <a:ext cx="3357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n of 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ordinary ray is faster than the extraordinary ray, then the mineral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sit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ordinary ray is slower than the extraordinary ray, then the mineral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 and the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retardation1"/>
          <p:cNvPicPr/>
          <p:nvPr/>
        </p:nvPicPr>
        <p:blipFill>
          <a:blip r:embed="rId1"/>
          <a:stretch/>
        </p:blipFill>
        <p:spPr>
          <a:xfrm>
            <a:off x="838080" y="2259000"/>
            <a:ext cx="75438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 and the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retardation2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2949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757520" y="533412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rdation = Birefringence x Thic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interfer1"/>
          <p:cNvPicPr/>
          <p:nvPr/>
        </p:nvPicPr>
        <p:blipFill>
          <a:blip r:embed="rId1"/>
          <a:stretch/>
        </p:blipFill>
        <p:spPr>
          <a:xfrm>
            <a:off x="167652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nterfer5"/>
          <p:cNvPicPr/>
          <p:nvPr/>
        </p:nvPicPr>
        <p:blipFill>
          <a:blip r:embed="rId1"/>
          <a:stretch/>
        </p:blipFill>
        <p:spPr>
          <a:xfrm>
            <a:off x="1676520" y="533520"/>
            <a:ext cx="58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interfer6"/>
          <p:cNvPicPr/>
          <p:nvPr/>
        </p:nvPicPr>
        <p:blipFill>
          <a:blip r:embed="rId1"/>
          <a:stretch/>
        </p:blipFill>
        <p:spPr>
          <a:xfrm>
            <a:off x="175248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31T22:41:45Z</dcterms:modified>
  <cp:revision>21</cp:revision>
  <dc:subject/>
  <dc:title>Minerals and Their  Physical Properties</dc:title>
</cp:coreProperties>
</file>