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F88-A85B-495E-B716-E63435B9D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847F-B1BD-4585-9CFB-B41359473C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6105-7992-4196-9907-9BBE59938C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E1D-4F33-4C8C-9351-81201606A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A4B-28BF-4FC8-9112-EA37CDC22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5033-0C9E-4EF5-8841-8E0A20338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D0E-23FC-4BEA-89E1-11701F5B85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2262-A52A-4C4B-B8B5-5BF51B522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996F-912E-40B5-9B34-A4081CC0A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CA1F-24EB-4488-8199-A08DE1B75B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DA7B-9D2C-4FEC-8D8D-09BE71742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BA7-97E3-44F3-B2DE-C97A804D1B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795-9614-42EA-93E0-E9CE49EA40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1209-3F26-45D0-8B04-780CBB053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DC78-F2BD-480A-931D-9B89A3AADE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0E56-CAFE-4535-B256-2995FB8DE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8B3E-6CDF-4DC6-A3FD-792AF7E8C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604-A7C7-4340-8E19-B5B0DC192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FDE4-982B-4A20-BE74-761E865E8F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E1F0-4D50-4060-80A9-8B46A4BF0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9501-FBE4-4D22-832A-F1DB6139C0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A3F1-6D59-430D-9441-BE50FE7C3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2F00-6C8C-47AF-B856-210BF307A9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124-CE18-4A3B-B89C-9B228853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888-1894-4EC0-B40D-B6ADD5AE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93C-6AA3-4BB0-A206-4198CE09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C66-7217-4169-8652-AC20831E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7234-38E2-4697-8275-9F2B08A7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3E3D-3CEA-44F9-9564-EBE6E0F5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5764-5848-485A-8599-2914EF27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6E7C-9F81-42DD-8580-DE97406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E18D-E3DD-4644-836C-BF3767A2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1B9-C5EF-4892-B3D4-0FEF02D8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2C8-90D7-49B3-AAD1-820385B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3D1-8C51-45D2-9D14-C030AF54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945A-26A9-49C7-A9B9-E685904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C3EC-6DCF-49D9-B269-379377FC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FB74-84CF-4239-AF63-00455659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671A-CF7A-466A-9D1B-AC0C2542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73DC-B09A-4532-BFF6-7DF01AA5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249-ACD3-4848-BE63-9E24AC99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F87-5702-458B-A2B4-7046EDA1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3E4-35D1-4F5D-A7DF-216EB65C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D9E-D032-49B3-B078-8D1EB0A5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E7E-896C-4BD5-BA2E-FC801B6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95B-D7C7-4352-918A-36600E4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754-5B65-4CEB-A332-4155C84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B40F-1E2F-42D3-9BA8-5A6F2CF25E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CB09-1E1B-4756-BC30-2834E284F9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inerals Birefringence and Interferen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nterfer7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nterfer8"/>
          <p:cNvPicPr/>
          <p:nvPr/>
        </p:nvPicPr>
        <p:blipFill>
          <a:blip r:embed="rId1"/>
          <a:stretch/>
        </p:blipFill>
        <p:spPr>
          <a:xfrm>
            <a:off x="175248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nterfer9"/>
          <p:cNvPicPr/>
          <p:nvPr/>
        </p:nvPicPr>
        <p:blipFill>
          <a:blip r:embed="rId1"/>
          <a:stretch/>
        </p:blipFill>
        <p:spPr>
          <a:xfrm>
            <a:off x="160020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nterfer10"/>
          <p:cNvPicPr/>
          <p:nvPr/>
        </p:nvPicPr>
        <p:blipFill>
          <a:blip r:embed="rId1"/>
          <a:stretch/>
        </p:blipFill>
        <p:spPr>
          <a:xfrm>
            <a:off x="167652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and C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lor has a different wavel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ll light is retarded by the same distance, then each color of light will be affected different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lors may increase in intensity and some may decr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that the light that results when the rays recombine will have a distinct color due to the interference from a given retar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Color Cha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6" descr="michellevy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Optic Ax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tic axis is a straight line through a mineral along which light does not diverge into two separate ra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an axis of symmetry such that the speed light would be the same no matter what direction the ray vibra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ng the optic axis the mineral behaves as if it were isotropic (no retard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nisotropic minerals (such as calcite and quartz) have only one optic axi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calcite_gitter_2"/>
          <p:cNvPicPr/>
          <p:nvPr/>
        </p:nvPicPr>
        <p:blipFill>
          <a:blip r:embed="rId1"/>
          <a:stretch/>
        </p:blipFill>
        <p:spPr>
          <a:xfrm>
            <a:off x="4800600" y="1600200"/>
            <a:ext cx="3857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isotropic minerals (such as muscovite) have only two optic axe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muscovita2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1143000" y="1905120"/>
            <a:ext cx="7315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rthoscopic vs Conoscopic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7" descr="XPL Light Path"/>
          <p:cNvPicPr/>
          <p:nvPr/>
        </p:nvPicPr>
        <p:blipFill>
          <a:blip r:embed="rId1"/>
          <a:stretch/>
        </p:blipFill>
        <p:spPr>
          <a:xfrm>
            <a:off x="1295280" y="2057400"/>
            <a:ext cx="305748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onoscopic Light Path"/>
          <p:cNvPicPr/>
          <p:nvPr/>
        </p:nvPicPr>
        <p:blipFill>
          <a:blip r:embed="rId2"/>
          <a:stretch/>
        </p:blipFill>
        <p:spPr>
          <a:xfrm>
            <a:off x="5184720" y="2057400"/>
            <a:ext cx="305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refr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s the decomposition of a ray of light into two rays when it passes through anisotropic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calcite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1523880" y="1676520"/>
            <a:ext cx="6096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oscopic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onoscopic Explan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1752480"/>
            <a:ext cx="8001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6" descr="Unixial Optic Axis Figure"/>
          <p:cNvPicPr/>
          <p:nvPr/>
        </p:nvPicPr>
        <p:blipFill>
          <a:blip r:embed="rId1"/>
          <a:stretch/>
        </p:blipFill>
        <p:spPr>
          <a:xfrm>
            <a:off x="1066680" y="2133720"/>
            <a:ext cx="73915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c 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 Fig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g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t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rays travel at different speeds, and vibrate in perpendicular direc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ray travels straight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ray is refracted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a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traordinary ray vibrates in a direction that would connect it with the ordinary 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f2"/>
          <p:cNvPicPr/>
          <p:nvPr/>
        </p:nvPicPr>
        <p:blipFill>
          <a:blip r:embed="rId1"/>
          <a:stretch/>
        </p:blipFill>
        <p:spPr>
          <a:xfrm>
            <a:off x="5418000" y="1523880"/>
            <a:ext cx="3357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n of 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fast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sit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slow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retardation1"/>
          <p:cNvPicPr/>
          <p:nvPr/>
        </p:nvPicPr>
        <p:blipFill>
          <a:blip r:embed="rId1"/>
          <a:stretch/>
        </p:blipFill>
        <p:spPr>
          <a:xfrm>
            <a:off x="838080" y="2259000"/>
            <a:ext cx="7543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retardation2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2949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757520" y="533412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rdation = Birefringence x Th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interfer1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nterfer5"/>
          <p:cNvPicPr/>
          <p:nvPr/>
        </p:nvPicPr>
        <p:blipFill>
          <a:blip r:embed="rId1"/>
          <a:stretch/>
        </p:blipFill>
        <p:spPr>
          <a:xfrm>
            <a:off x="1676520" y="5335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interfer6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2:41:45Z</dcterms:modified>
  <cp:revision>21</cp:revision>
  <dc:subject/>
  <dc:title>Minerals and Their  Physical Properties</dc:title>
</cp:coreProperties>
</file>