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DD3-0D42-4EF2-B789-DF9C02E1D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1A3C-F2F5-4AAE-B7F9-9D8A2C992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AB4-5F13-49D6-9F6E-A2A390747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46C1-F918-4030-9115-F1DF1B305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47DC-A71E-41C5-B5B9-D367BCDF8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1A6B-36EB-4ABC-A532-DC0E65EB8C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5BF-73FE-4C83-AE99-AA0294DAF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0A1-E979-4B70-8648-45DC33541D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796-4CB0-457D-ACDA-971F24922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0E2-811F-4F14-859D-CB2BD81B6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5D1-0662-45F5-B9A6-1A518D7D5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89AF-74BF-4C3B-9BAA-4D0A563D0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EB0F-2D24-420E-A6E2-D5A7269B6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3F5-A5F8-4252-B71F-C53BB8886C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2A05-1E44-42EF-BFB6-13F12C41EA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C977-96D7-4786-A337-0D9BC98EA7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5A9-1AB9-4B69-97AB-BA413E2446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14B8-E8A6-4664-9883-693D763872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3B4-C07C-4E55-BA7D-9378FD159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68E-479D-4D62-A0B1-5806BA3D3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B58-F813-44F7-ADF4-C14E5E993A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D536-2C01-47C4-B51A-941A8FC11E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0B64-2399-46C7-8AC3-821C862C2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1F1-49DA-4A3F-9A04-0F0A8C95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EAE-87C0-44AA-B44E-873E3C38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773-BF79-43BB-BB2A-9825EC19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F10-4B76-4240-9B22-0A9B1B8B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A38F-CF10-4A46-A1E5-FE195481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C370-0BB1-44E1-A411-7BB7859F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F855-6988-431C-BBC9-A3F5F4C2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058D-75FE-4063-A116-99E23B3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AAC3-F893-479F-A315-A919177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A154-6CE3-4514-8FDB-606E92DB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7177-A405-4C55-9620-A797AFE1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3FA-9394-4B56-988D-093D4CC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BD1-3A60-42F4-BCBE-00C4E07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7242-2EB9-4FCB-9223-8E28B598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1F29-9F82-4A57-9334-EB69AF23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D3B-6DEA-42A0-9290-8EBE19D7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4E6C-BBB1-4054-AA78-0D63A83A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8D0-3DEE-4A08-8D52-B0321ABF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7FF-B7FC-493C-8812-F754BB7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EEC-D33E-436C-A281-DF9D1A6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D26-C748-4272-92EA-9CD95CEC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393-9AC2-4DBD-ADF0-293320A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74A-5DBD-409B-B2C0-A63CD37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3F4-45C4-489B-B7BE-A7A735C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917D-9FA6-4FDC-8143-F136FF002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68A-AF6F-4C6D-A466-10DFEB1C2D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inerals Birefringence and Interferen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interfer7"/>
          <p:cNvPicPr/>
          <p:nvPr/>
        </p:nvPicPr>
        <p:blipFill>
          <a:blip r:embed="rId1"/>
          <a:stretch/>
        </p:blipFill>
        <p:spPr>
          <a:xfrm>
            <a:off x="144792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interfer8"/>
          <p:cNvPicPr/>
          <p:nvPr/>
        </p:nvPicPr>
        <p:blipFill>
          <a:blip r:embed="rId1"/>
          <a:stretch/>
        </p:blipFill>
        <p:spPr>
          <a:xfrm>
            <a:off x="175248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interfer9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nterfer10"/>
          <p:cNvPicPr/>
          <p:nvPr/>
        </p:nvPicPr>
        <p:blipFill>
          <a:blip r:embed="rId1"/>
          <a:stretch/>
        </p:blipFill>
        <p:spPr>
          <a:xfrm>
            <a:off x="1676520" y="45720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and Col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lor has a different wavel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ll light is retarded by the same distance, then each color of light will be affected different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lors may increase in intensity and some may decr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that the light that results when the rays recombine will have a distinct color due to the interference from a given retard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Color Ch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6" descr="michellevy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Optic Ax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ptic axis is a straight line through a mineral along which light does not diverge into two separate ray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sponds to an axis of symmetry such that the speed light would be the same no matter what direction the ray vibra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ng the optic axis the mineral behaves as if it were isotropic (no retard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nisotropic minerals (such as calcite and quartz) have only one optic axi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calcite_gitter_2"/>
          <p:cNvPicPr/>
          <p:nvPr/>
        </p:nvPicPr>
        <p:blipFill>
          <a:blip r:embed="rId1"/>
          <a:stretch/>
        </p:blipFill>
        <p:spPr>
          <a:xfrm>
            <a:off x="4800600" y="1600200"/>
            <a:ext cx="3857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axial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nisotropic minerals (such as muscovite) have only two optic axes, and so are calle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muscovita2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1143000" y="1905120"/>
            <a:ext cx="73152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Orthoscopic vs Conoscopic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7" descr="XPL Light Path"/>
          <p:cNvPicPr/>
          <p:nvPr/>
        </p:nvPicPr>
        <p:blipFill>
          <a:blip r:embed="rId1"/>
          <a:stretch/>
        </p:blipFill>
        <p:spPr>
          <a:xfrm>
            <a:off x="1295280" y="2057400"/>
            <a:ext cx="3057480" cy="396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onoscopic Light Path"/>
          <p:cNvPicPr/>
          <p:nvPr/>
        </p:nvPicPr>
        <p:blipFill>
          <a:blip r:embed="rId2"/>
          <a:stretch/>
        </p:blipFill>
        <p:spPr>
          <a:xfrm>
            <a:off x="5184720" y="2057400"/>
            <a:ext cx="305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refra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s the decomposition of a ray of light into two rays when it passes through anisotropic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alcite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1523880" y="1676520"/>
            <a:ext cx="6096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oscopic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onoscopic Explanation"/>
          <p:cNvPicPr/>
          <p:nvPr/>
        </p:nvPicPr>
        <p:blipFill>
          <a:blip r:embed="rId1"/>
          <a:stretch/>
        </p:blipFill>
        <p:spPr>
          <a:xfrm>
            <a:off x="1676520" y="1828800"/>
            <a:ext cx="57909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1752480"/>
            <a:ext cx="8001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niaxial 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6" descr="Unixial Optic Axis Figure"/>
          <p:cNvPicPr/>
          <p:nvPr/>
        </p:nvPicPr>
        <p:blipFill>
          <a:blip r:embed="rId1"/>
          <a:stretch/>
        </p:blipFill>
        <p:spPr>
          <a:xfrm>
            <a:off x="1066680" y="2133720"/>
            <a:ext cx="7391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efrin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ordinary 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r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c 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ax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112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erence Fig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ch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gy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t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419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rays travel at different speeds, and vibrate in perpendicular dir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ray travels straight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ray is refracted through the crystal and is called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raordinary ray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traordinary ray vibrates in a direction that would connect it with the ordinary 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f2"/>
          <p:cNvPicPr/>
          <p:nvPr/>
        </p:nvPicPr>
        <p:blipFill>
          <a:blip r:embed="rId1"/>
          <a:stretch/>
        </p:blipFill>
        <p:spPr>
          <a:xfrm>
            <a:off x="5418000" y="1523880"/>
            <a:ext cx="3357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ign of 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fast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sitiv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ordinary ray is slower than the extraordinary ray, then the mineral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retardation1"/>
          <p:cNvPicPr/>
          <p:nvPr/>
        </p:nvPicPr>
        <p:blipFill>
          <a:blip r:embed="rId1"/>
          <a:stretch/>
        </p:blipFill>
        <p:spPr>
          <a:xfrm>
            <a:off x="838080" y="2259000"/>
            <a:ext cx="7543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 and the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retardation2"/>
          <p:cNvPicPr/>
          <p:nvPr/>
        </p:nvPicPr>
        <p:blipFill>
          <a:blip r:embed="rId1"/>
          <a:stretch/>
        </p:blipFill>
        <p:spPr>
          <a:xfrm>
            <a:off x="533520" y="1828800"/>
            <a:ext cx="8076960" cy="2949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757520" y="5334120"/>
            <a:ext cx="55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rdation = Birefringence x Thick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nterfer1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interfer5"/>
          <p:cNvPicPr/>
          <p:nvPr/>
        </p:nvPicPr>
        <p:blipFill>
          <a:blip r:embed="rId1"/>
          <a:stretch/>
        </p:blipFill>
        <p:spPr>
          <a:xfrm>
            <a:off x="167652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interfer6"/>
          <p:cNvPicPr/>
          <p:nvPr/>
        </p:nvPicPr>
        <p:blipFill>
          <a:blip r:embed="rId1"/>
          <a:stretch/>
        </p:blipFill>
        <p:spPr>
          <a:xfrm>
            <a:off x="175248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2:41:45Z</dcterms:modified>
  <cp:revision>21</cp:revision>
  <dc:subject/>
  <dc:title>Minerals and Their  Physical Properties</dc:title>
</cp:coreProperties>
</file>