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0911-A25A-44EB-A700-F8846B3E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DB3-7708-4962-8DD1-7D8E9C2B01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A61-57F3-4D2E-ABCA-27DFF9E0B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977E-786B-421B-99F3-D70D1737E4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7AB-4777-4CB8-8057-42065B3763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104-3B96-485E-84BE-9AD6D97DFA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148A-2166-4053-A914-8B623399C3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9E04-30A1-4CDF-A9CC-A671FC2D5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2C0E-781E-42EB-B388-0C91D6695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5ED-1AD2-42C8-8401-E7970A18F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109-F6E8-4B98-8189-DC93E9822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0701-7404-4BD4-A0E7-B30328BF8B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88BC-447C-4CC3-8781-74F0C457F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850E-7411-4C99-A6B8-83816F72D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29A1-DFC1-4115-9774-50B73C9CD2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AA4-8C75-45FB-AE8F-CC90FF60B1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12A-A736-43D2-A7B1-A3F57B9D62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D7D4-B6A1-4914-A263-A0B1ACD87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FC03-3A4A-4AD7-8A29-7C3D2BD78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176E-140A-4665-A8EF-96E9234DF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64F-34D8-420A-BF98-57101E30F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9064-2965-4513-B816-B38BCD18E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95C-3B20-499E-BB98-61565F0429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845-6DF1-4676-91E3-C2C60E85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27F-06BC-4F73-A1EF-15C09F16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0B3-DA11-4A83-8D54-C10452D4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37C-772D-4968-9BB0-7D6CF90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813-92BD-4AB9-B55C-ADA28693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5A74-45B4-4A78-8A0B-8082A94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7316-A1FF-49A3-B20B-34C94A9C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05D-012F-4234-90EB-3D48428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31A-60BC-453B-AA2B-C7D987D5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B3B9-C834-4E3D-88AA-4811309C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EC47-F9A0-4326-8388-8B11329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CF7-C67B-4435-9E3B-36028BE4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F62A-825F-462C-9A65-0618B939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C408-344C-4C9A-BCC6-E7E1F61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761-1191-4F54-9A8D-1E297E1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2EDB-457D-4886-B6CD-18F5DDFD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D2FD-3D13-4977-9726-88B48D61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EF3-58DD-43C3-A74F-22672720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F01-5525-4F66-A45D-DA73D6F1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F99-D4E5-425E-8C91-1162F23C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E14-518D-44C4-8A81-6FB7692E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0E0-8F8C-4C97-B51E-07FF0805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497-AA8E-4F29-B45A-54945F2D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B1B-C4B3-40FA-BE42-DBF6710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F62-F964-49BB-9581-CC5EF58249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123-E6D5-4026-8000-03EFAC0FE3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inerals Birefringence and Interferen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nterfer7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nterfer8"/>
          <p:cNvPicPr/>
          <p:nvPr/>
        </p:nvPicPr>
        <p:blipFill>
          <a:blip r:embed="rId1"/>
          <a:stretch/>
        </p:blipFill>
        <p:spPr>
          <a:xfrm>
            <a:off x="175248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nterfer9"/>
          <p:cNvPicPr/>
          <p:nvPr/>
        </p:nvPicPr>
        <p:blipFill>
          <a:blip r:embed="rId1"/>
          <a:stretch/>
        </p:blipFill>
        <p:spPr>
          <a:xfrm>
            <a:off x="160020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nterfer10"/>
          <p:cNvPicPr/>
          <p:nvPr/>
        </p:nvPicPr>
        <p:blipFill>
          <a:blip r:embed="rId1"/>
          <a:stretch/>
        </p:blipFill>
        <p:spPr>
          <a:xfrm>
            <a:off x="167652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and C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lor has a different wavel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ll light is retarded by the same distance, then each color of light will be affected different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lors may increase in intensity and some may decr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that the light that results when the rays recombine will have a distinct color due to the interference from a given retar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Color Cha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6" descr="michellevy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Optic Ax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tic axis is a straight line through a mineral along which light does not diverge into two separate ra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an axis of symmetry such that the speed light would be the same no matter what direction the ray vibra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ng the optic axis the mineral behaves as if it were isotropic (no retard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nisotropic minerals (such as calcite and quartz) have only one optic axi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calcite_gitter_2"/>
          <p:cNvPicPr/>
          <p:nvPr/>
        </p:nvPicPr>
        <p:blipFill>
          <a:blip r:embed="rId1"/>
          <a:stretch/>
        </p:blipFill>
        <p:spPr>
          <a:xfrm>
            <a:off x="4800600" y="1600200"/>
            <a:ext cx="3857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isotropic minerals (such as muscovite) have only two optic axe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muscovita2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1143000" y="1905120"/>
            <a:ext cx="7315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rthoscopic vs Conoscopic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7" descr="XPL Light Path"/>
          <p:cNvPicPr/>
          <p:nvPr/>
        </p:nvPicPr>
        <p:blipFill>
          <a:blip r:embed="rId1"/>
          <a:stretch/>
        </p:blipFill>
        <p:spPr>
          <a:xfrm>
            <a:off x="1295280" y="2057400"/>
            <a:ext cx="305748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onoscopic Light Path"/>
          <p:cNvPicPr/>
          <p:nvPr/>
        </p:nvPicPr>
        <p:blipFill>
          <a:blip r:embed="rId2"/>
          <a:stretch/>
        </p:blipFill>
        <p:spPr>
          <a:xfrm>
            <a:off x="5184720" y="2057400"/>
            <a:ext cx="305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refr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s the decomposition of a ray of light into two rays when it passes through anisotropic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calcite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1523880" y="1676520"/>
            <a:ext cx="6096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oscopic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onoscopic Explan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1752480"/>
            <a:ext cx="8001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6" descr="Unixial Optic Axis Figure"/>
          <p:cNvPicPr/>
          <p:nvPr/>
        </p:nvPicPr>
        <p:blipFill>
          <a:blip r:embed="rId1"/>
          <a:stretch/>
        </p:blipFill>
        <p:spPr>
          <a:xfrm>
            <a:off x="1066680" y="2133720"/>
            <a:ext cx="73915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c 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 Fig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g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t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rays travel at different speeds, and vibrate in perpendicular direc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ray travels straight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ray is refracted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a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traordinary ray vibrates in a direction that would connect it with the ordinary 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f2"/>
          <p:cNvPicPr/>
          <p:nvPr/>
        </p:nvPicPr>
        <p:blipFill>
          <a:blip r:embed="rId1"/>
          <a:stretch/>
        </p:blipFill>
        <p:spPr>
          <a:xfrm>
            <a:off x="5418000" y="1523880"/>
            <a:ext cx="3357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n of 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fast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sit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slow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retardation1"/>
          <p:cNvPicPr/>
          <p:nvPr/>
        </p:nvPicPr>
        <p:blipFill>
          <a:blip r:embed="rId1"/>
          <a:stretch/>
        </p:blipFill>
        <p:spPr>
          <a:xfrm>
            <a:off x="838080" y="2259000"/>
            <a:ext cx="7543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retardation2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2949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757520" y="533412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rdation = Birefringence x Th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interfer1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nterfer5"/>
          <p:cNvPicPr/>
          <p:nvPr/>
        </p:nvPicPr>
        <p:blipFill>
          <a:blip r:embed="rId1"/>
          <a:stretch/>
        </p:blipFill>
        <p:spPr>
          <a:xfrm>
            <a:off x="1676520" y="5335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interfer6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2:41:45Z</dcterms:modified>
  <cp:revision>21</cp:revision>
  <dc:subject/>
  <dc:title>Minerals and Their  Physical Properties</dc:title>
</cp:coreProperties>
</file>