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30.gif" ContentType="image/gif"/>
  <Override PartName="/ppt/media/image22.png" ContentType="image/png"/>
  <Override PartName="/ppt/media/image17.png" ContentType="image/png"/>
  <Override PartName="/ppt/media/image24.gif" ContentType="image/gif"/>
  <Override PartName="/ppt/media/image21.png" ContentType="image/png"/>
  <Override PartName="/ppt/media/image19.png" ContentType="image/png"/>
  <Override PartName="/ppt/media/image9.png" ContentType="image/png"/>
  <Override PartName="/ppt/media/image29.gif" ContentType="image/gif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2.gif" ContentType="image/gif"/>
  <Override PartName="/ppt/media/image13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.jpeg" ContentType="image/jpeg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F26-74A5-489B-8D2F-2E7A8503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E1D-CF96-4F1A-8E6C-97C43CA5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CB85-CE73-4229-A6D7-8D9DB193A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1DE-A85A-4941-9B51-1175EF477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F517-3FD9-47B9-BDBC-9F8E4ABC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69A-F167-48C2-8ADD-C29616D5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383-DFEA-48DC-83A9-4D055B6C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E89-C731-48E3-BC1A-C35EE8393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28B-46C6-4639-86AD-2F8CEB374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9D0-B6A6-4D1C-8E43-0AED80879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C3C-9E28-4313-A1D7-C9AE9447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607D-16ED-432D-9D92-0348D0853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2BBB-9112-422B-9DC7-6EC5FEE5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9FA-C114-4306-847E-D8246B68F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793-7AE4-46AD-9660-EB2D0E381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65A4-62F9-43A7-9BF3-6D850CC9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863-4278-4787-AE10-C55075E7A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A1CE-424F-4297-B9EA-2EF099C8F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0DBA-7C28-4AE6-8DDC-ADFD06AFA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D63F-A7E1-4919-899F-1110147ED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F70E-3DB0-4496-8DE9-6DDCC2FA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16E8-8DF2-43C8-A2E5-A3A83F6B7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2E75-2484-4631-8576-4DC3306F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61B3-05DD-4D50-9B66-D76CEF929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59D2-5E7F-4FF7-991A-FF085FDB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A633-632E-40B1-80F2-215D02751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CEF2-695C-4742-8B38-9420A03F8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28CF-117C-4796-B992-56CB75E4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8492-97B2-4DFC-9393-6C594C72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1BA1-1EFF-460E-84B8-FDB26006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9081-EA77-45F5-9E3E-AB2F6936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34C8-6D75-4B1C-933E-E2462490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459-19AB-47B4-8E36-2A4957F27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0E8D-B46C-4FCF-9269-A9AD8F76F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435-4B3A-465F-A19D-2E50B248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17D-F348-4CCC-8370-1F3CA61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9CC-6E1A-473B-91BA-A9A814E1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E96-25D9-43AF-A9B3-31AF5DA8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74F-A22B-4A32-B241-9964DDB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B16-B0AD-4679-82D5-F4F17A0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428-2C6F-451F-8601-83DAE59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D36-B48E-446A-8AF2-5634F06F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D91E-575B-4FDD-9B43-34CD2C7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643-7921-4D91-89CF-5C3E30A0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E0B-DB74-428E-99AB-92F860D2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520-F07B-40C9-A854-FCCE52A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0AE-419C-489E-A6AC-686BE293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7A6-1C91-4510-986C-D6B294EFA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49" name="Picture 4" descr="200TPF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76520" y="15238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04a"/>
                </a:solidFill>
                <a:latin typeface="Arial Unicode MS"/>
              </a:rPr>
              <a:t>Boolean Algebra &amp; Logic Gates</a:t>
            </a:r>
            <a:endParaRPr b="1" lang="en-US" sz="4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AE09-749A-4E09-8C4C-6C459C326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83" name="Picture 7" descr="7B"/>
          <p:cNvPicPr/>
          <p:nvPr/>
        </p:nvPicPr>
        <p:blipFill>
          <a:blip r:embed="rId2"/>
          <a:stretch/>
        </p:blipFill>
        <p:spPr>
          <a:xfrm>
            <a:off x="990720" y="3505320"/>
            <a:ext cx="7011720" cy="2450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last group of Boolean identities are perhaps the most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studied set theory or formal logic, these laws are also familiar to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EBA-D124-44D1-A9E8-08DAFC47F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it is more economical to build a circuit using the complement of a function (and complementing its result) than it is to implement the function direc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rgan’s law provides an easy way of finding the complement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DeMorgan’s law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0A"/>
          <p:cNvPicPr/>
          <p:nvPr/>
        </p:nvPicPr>
        <p:blipFill>
          <a:blip r:embed="rId2"/>
          <a:stretch/>
        </p:blipFill>
        <p:spPr>
          <a:xfrm>
            <a:off x="1587600" y="4800600"/>
            <a:ext cx="62611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A610-00EC-4B78-920A-78D3CE954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looked at Boolean functions in abstract ter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is section, we see that Boolean functions are implemented in digital computer circuits called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gate is an electronic device that produces a result based on two or more input valu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gates consist of one to six transistors, but digital designers think of them as a single un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s contain collections of gates suited to a particular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3F9-F7B7-46CC-9149-83FFAA50B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simplest gates are the AND, OR, and NOT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orrespond directly to their respective Boolean operations, as you can see by their truth t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17"/>
          <p:cNvPicPr/>
          <p:nvPr/>
        </p:nvPicPr>
        <p:blipFill>
          <a:blip r:embed="rId2"/>
          <a:stretch/>
        </p:blipFill>
        <p:spPr>
          <a:xfrm>
            <a:off x="1981080" y="2286000"/>
            <a:ext cx="5905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50"/>
                            </p:stCondLst>
                            <p:childTnLst>
                              <p:par>
                                <p:cTn id="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75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435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9265-79FC-4731-861C-F1F2627BD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and.gif (2500 bytes)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259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or.gif (2500 bytes)"/>
          <p:cNvPicPr/>
          <p:nvPr/>
        </p:nvPicPr>
        <p:blipFill>
          <a:blip r:embed="rId2"/>
          <a:stretch/>
        </p:blipFill>
        <p:spPr>
          <a:xfrm>
            <a:off x="4648320" y="1600200"/>
            <a:ext cx="4228920" cy="2590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1"/>
          <p:cNvSpPr/>
          <p:nvPr/>
        </p:nvSpPr>
        <p:spPr>
          <a:xfrm>
            <a:off x="53352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ND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AND 0 = 0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495288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OR 0 = 1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ACAA-AE35-45DC-9229-E9FE7943D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very useful gate is the exclusive OR (XOR) ga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of the XOR operation is true only when the values of the input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18"/>
          <p:cNvPicPr/>
          <p:nvPr/>
        </p:nvPicPr>
        <p:blipFill>
          <a:blip r:embed="rId2"/>
          <a:stretch/>
        </p:blipFill>
        <p:spPr>
          <a:xfrm>
            <a:off x="1905120" y="3429000"/>
            <a:ext cx="4287600" cy="208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105520" y="5180400"/>
            <a:ext cx="3429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 the special symbol </a:t>
            </a:r>
            <a:r>
              <a:rPr b="1" lang="en-US" sz="2200" spc="-1" strike="noStrike">
                <a:solidFill>
                  <a:srgbClr val="cc33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for the XOR operation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BE9-7142-4C3F-BC84-A5C5FB4E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xxor.gif (2500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590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xxor.gif (2500 bytes)"/>
          <p:cNvPicPr/>
          <p:nvPr/>
        </p:nvPicPr>
        <p:blipFill>
          <a:blip r:embed="rId2"/>
          <a:stretch/>
        </p:blipFill>
        <p:spPr>
          <a:xfrm>
            <a:off x="4648320" y="1676520"/>
            <a:ext cx="419076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53352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X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XOR 0 = 1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952880" y="4495680"/>
            <a:ext cx="3429000" cy="2311560"/>
          </a:xfrm>
          <a:prstGeom prst="rect">
            <a:avLst/>
          </a:prstGeom>
          <a:solidFill>
            <a:srgbClr val="b6eb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XOR GATE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1 XOR 1 = 0</a:t>
            </a:r>
            <a:endParaRPr b="1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5B7-42CE-4C6D-9DBC-54BDF7179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two very important gates.  Their symbols and truth tables are shown at the righ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31" descr="19V"/>
          <p:cNvPicPr/>
          <p:nvPr/>
        </p:nvPicPr>
        <p:blipFill>
          <a:blip r:embed="rId2"/>
          <a:stretch/>
        </p:blipFill>
        <p:spPr>
          <a:xfrm>
            <a:off x="3832200" y="1600200"/>
            <a:ext cx="5083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009-B977-47E0-8548-763E77C67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iversal ga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they are inexpensive to manufacture and any Boolean function can be constructed using only NAND or only NOR gat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21A"/>
          <p:cNvPicPr/>
          <p:nvPr/>
        </p:nvPicPr>
        <p:blipFill>
          <a:blip r:embed="rId2"/>
          <a:stretch/>
        </p:blipFill>
        <p:spPr>
          <a:xfrm>
            <a:off x="4199040" y="1608120"/>
            <a:ext cx="44877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BE2F-72FC-47CD-AB3B-95A8D5C1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 can have multiple inputs and more than one out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ond output can be provided for the complement of th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see more of thi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22"/>
          <p:cNvPicPr/>
          <p:nvPr/>
        </p:nvPicPr>
        <p:blipFill>
          <a:blip r:embed="rId2"/>
          <a:stretch/>
        </p:blipFill>
        <p:spPr>
          <a:xfrm>
            <a:off x="947880" y="3962520"/>
            <a:ext cx="73580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59A6-FEFC-4C64-A762-09C087665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relationship between Boolean logic and digital computer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how to design simple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digital circuits work together to form complex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064-9C71-4C86-AD4B-9F626E2A7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igital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thing to remember is that combinations of gates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ircuit below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20"/>
          <p:cNvPicPr/>
          <p:nvPr/>
        </p:nvPicPr>
        <p:blipFill>
          <a:blip r:embed="rId2"/>
          <a:stretch/>
        </p:blipFill>
        <p:spPr>
          <a:xfrm>
            <a:off x="1270080" y="3654360"/>
            <a:ext cx="6197400" cy="152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20A"/>
          <p:cNvPicPr/>
          <p:nvPr/>
        </p:nvPicPr>
        <p:blipFill>
          <a:blip r:embed="rId3"/>
          <a:stretch/>
        </p:blipFill>
        <p:spPr>
          <a:xfrm>
            <a:off x="2421000" y="3013200"/>
            <a:ext cx="3217680" cy="568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429000" y="5333040"/>
            <a:ext cx="49528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implify our Boolean expressions so that we can create simpler circuits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AC3F-A52B-431D-8AB1-AF6B51FD5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designed a circuit that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ircuit is an example of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produce a specified output (almost) at the instant when input values are appl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later section, we will explore circuits where this is not th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20A"/>
          <p:cNvPicPr/>
          <p:nvPr/>
        </p:nvPicPr>
        <p:blipFill>
          <a:blip r:embed="rId2"/>
          <a:stretch/>
        </p:blipFill>
        <p:spPr>
          <a:xfrm>
            <a:off x="2362320" y="2479680"/>
            <a:ext cx="321768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8EB0-692D-407B-B43E-839F337B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al logic circuits give us many useful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of the simplest is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finds the sum of two bi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gain some insight as to the construction of a half adder by looking at its truth table,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23"/>
          <p:cNvPicPr/>
          <p:nvPr/>
        </p:nvPicPr>
        <p:blipFill>
          <a:blip r:embed="rId2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3CF3-8E43-4E6A-B97A-AF91F1F8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e see, the sum can be found using the XOR operation and the carry using the AND ope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23"/>
          <p:cNvPicPr/>
          <p:nvPr/>
        </p:nvPicPr>
        <p:blipFill>
          <a:blip r:embed="rId2"/>
          <a:stretch/>
        </p:blipFill>
        <p:spPr>
          <a:xfrm>
            <a:off x="5029200" y="3581280"/>
            <a:ext cx="3483000" cy="248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24"/>
          <p:cNvPicPr/>
          <p:nvPr/>
        </p:nvPicPr>
        <p:blipFill>
          <a:blip r:embed="rId3"/>
          <a:stretch/>
        </p:blipFill>
        <p:spPr>
          <a:xfrm>
            <a:off x="1066680" y="350532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1921 L 0.00122 -0.31412 E">
                                      <p:cBhvr>
                                        <p:cTn id="14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A524-F4E1-452D-A3F8-175CEB182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hadder10"/>
          <p:cNvPicPr/>
          <p:nvPr/>
        </p:nvPicPr>
        <p:blipFill>
          <a:blip r:embed="rId1"/>
          <a:stretch/>
        </p:blipFill>
        <p:spPr>
          <a:xfrm>
            <a:off x="1828800" y="1600200"/>
            <a:ext cx="5514840" cy="2901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683960" y="228600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737040" y="3581280"/>
            <a:ext cx="38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Unicode MS"/>
              </a:rPr>
              <a:t>C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200400" y="4724280"/>
            <a:ext cx="281952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Half  Adder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45E-569D-4DF8-889C-29713C99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tain their state values, sequential circuits rely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in digital circuits occurs when an output is looped back to th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example of this concept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Q is 0 it will always be 0, if it is 1, it will always be 1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33"/>
          <p:cNvPicPr/>
          <p:nvPr/>
        </p:nvPicPr>
        <p:blipFill>
          <a:blip r:embed="rId2"/>
          <a:stretch/>
        </p:blipFill>
        <p:spPr>
          <a:xfrm>
            <a:off x="2438280" y="4765680"/>
            <a:ext cx="4232520" cy="1254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DB6C-3F23-4942-A02E-4DD4BBED1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see how feedback works by examining the most basic sequential logic components, the SR flip-flo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R” stands for set/re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ls of an SR flip-flop are shown below, along with its block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35"/>
          <p:cNvPicPr/>
          <p:nvPr/>
        </p:nvPicPr>
        <p:blipFill>
          <a:blip r:embed="rId2"/>
          <a:stretch/>
        </p:blipFill>
        <p:spPr>
          <a:xfrm>
            <a:off x="1143000" y="42670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34"/>
          <p:cNvPicPr/>
          <p:nvPr/>
        </p:nvPicPr>
        <p:blipFill>
          <a:blip r:embed="rId3"/>
          <a:stretch/>
        </p:blipFill>
        <p:spPr>
          <a:xfrm>
            <a:off x="4795920" y="4314960"/>
            <a:ext cx="32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87A-E812-4872-AD98-A7B4AC21E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n SR flip-flop is described by a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(t) means the value of the output at time t.  Q(t+1) is the value of Q after the next clock pu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35"/>
          <p:cNvPicPr/>
          <p:nvPr/>
        </p:nvPicPr>
        <p:blipFill>
          <a:blip r:embed="rId2"/>
          <a:stretch/>
        </p:blipFill>
        <p:spPr>
          <a:xfrm>
            <a:off x="685800" y="39844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36"/>
          <p:cNvPicPr/>
          <p:nvPr/>
        </p:nvPicPr>
        <p:blipFill>
          <a:blip r:embed="rId3"/>
          <a:stretch/>
        </p:blipFill>
        <p:spPr>
          <a:xfrm>
            <a:off x="4267080" y="3733920"/>
            <a:ext cx="4405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3399-8097-4E9D-A103-8089CCE4E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srflip.gif (2500 bytes)"/>
          <p:cNvPicPr/>
          <p:nvPr/>
        </p:nvPicPr>
        <p:blipFill>
          <a:blip r:embed="rId1"/>
          <a:stretch/>
        </p:blipFill>
        <p:spPr>
          <a:xfrm>
            <a:off x="380880" y="1676520"/>
            <a:ext cx="3962520" cy="2657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srflip.gif (2500 bytes)"/>
          <p:cNvPicPr/>
          <p:nvPr/>
        </p:nvPicPr>
        <p:blipFill>
          <a:blip r:embed="rId2"/>
          <a:stretch/>
        </p:blipFill>
        <p:spPr>
          <a:xfrm>
            <a:off x="4648320" y="1676520"/>
            <a:ext cx="3933720" cy="263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914400" y="4648320"/>
            <a:ext cx="312408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R flip-flop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ET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105520" y="4648320"/>
            <a:ext cx="3124080" cy="2803320"/>
          </a:xfrm>
          <a:prstGeom prst="rect">
            <a:avLst/>
          </a:prstGeom>
          <a:solidFill>
            <a:srgbClr val="ace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SR flip-flop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RESET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 spd="med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89BB-74FA-4F08-9B6A-EAAEEB0A8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R flip-flop actually has three inputs: S, R, and its current output, Q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can construct a truth table for this circuit, a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ice the two undefined values.  When both S and R are 1, the SR flip-flop is uns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6" descr="37"/>
          <p:cNvPicPr/>
          <p:nvPr/>
        </p:nvPicPr>
        <p:blipFill>
          <a:blip r:embed="rId2"/>
          <a:stretch/>
        </p:blipFill>
        <p:spPr>
          <a:xfrm>
            <a:off x="4572000" y="1676520"/>
            <a:ext cx="4003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E957-F1C0-406E-A8F0-C7CE9D907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algebra is a mathematical system for the manipulation of variables that can have one of two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rmal logic, these values are “true” and “fal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gital systems, these values are “on” and “off,” 1 and 0, or “high” and “low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expressions are created by performing operations on Boolean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oolean operators include AND, OR, an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06A-2311-46CF-A9FB-838C42A4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can be sure that the inputs to an SR flip-flop will never both be 1, we will never have an unstable circuit. This may not always be the c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R flip-flop can be modified to provide a stable state when both inputs are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38"/>
          <p:cNvPicPr/>
          <p:nvPr/>
        </p:nvPicPr>
        <p:blipFill>
          <a:blip r:embed="rId2"/>
          <a:stretch/>
        </p:blipFill>
        <p:spPr>
          <a:xfrm>
            <a:off x="4724280" y="3886200"/>
            <a:ext cx="3648240" cy="1811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533520" y="3701880"/>
            <a:ext cx="4267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odified flip-flop is called a JK flip-flop, shown at the right.</a:t>
            </a:r>
            <a:endParaRPr b="1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JK” is in honor of 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Kilby.</a:t>
            </a:r>
            <a:endParaRPr b="1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929-2BE4-4FBE-B10D-33377E404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right, we see how an SR flip-flop can be modified to create a JK flip-fl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indicates that the flip-flop is stable for all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40"/>
          <p:cNvPicPr/>
          <p:nvPr/>
        </p:nvPicPr>
        <p:blipFill>
          <a:blip r:embed="rId2"/>
          <a:stretch/>
        </p:blipFill>
        <p:spPr>
          <a:xfrm>
            <a:off x="4267080" y="1523880"/>
            <a:ext cx="3838680" cy="1892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39"/>
          <p:cNvPicPr/>
          <p:nvPr/>
        </p:nvPicPr>
        <p:blipFill>
          <a:blip r:embed="rId3"/>
          <a:stretch/>
        </p:blipFill>
        <p:spPr>
          <a:xfrm>
            <a:off x="4311720" y="3656160"/>
            <a:ext cx="42228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C228-10E3-4603-A63B-82197967D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odification of the SR flip-flop is the D flip-flop, shown below with its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otice that the output of the flip-flop remains the same during subsequent clock pulses. The output changes only when the value of D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42"/>
          <p:cNvPicPr/>
          <p:nvPr/>
        </p:nvPicPr>
        <p:blipFill>
          <a:blip r:embed="rId2"/>
          <a:stretch/>
        </p:blipFill>
        <p:spPr>
          <a:xfrm>
            <a:off x="914400" y="4327560"/>
            <a:ext cx="4076640" cy="1463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43"/>
          <p:cNvPicPr/>
          <p:nvPr/>
        </p:nvPicPr>
        <p:blipFill>
          <a:blip r:embed="rId3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42D-533E-4934-AA7D-2CA958AD3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 flip-flop is the fundamental circuit of computer memor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flip-flops are usually illustrated using the block diagram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slide shows how these circuits are combined to create a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6" descr="41"/>
          <p:cNvPicPr/>
          <p:nvPr/>
        </p:nvPicPr>
        <p:blipFill>
          <a:blip r:embed="rId2"/>
          <a:stretch/>
        </p:blipFill>
        <p:spPr>
          <a:xfrm>
            <a:off x="1371600" y="4267080"/>
            <a:ext cx="2668680" cy="1629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43"/>
          <p:cNvPicPr/>
          <p:nvPr/>
        </p:nvPicPr>
        <p:blipFill>
          <a:blip r:embed="rId3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848-8448-4511-94C5-82B397D1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are implementations of Boolea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functions are completely described by truth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 gates are small circuits that implement Boolean operato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gates are AND, OR, and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OR gate is very useful in parity checkers and ad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universal gates” are NOR, and N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7F39-F7ED-4B78-84E2-FC65C616A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circuits consist of combinational logic circuits and sequential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circuits produce outputs (almost) immediately when their inputs chan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require clocks to control their changes of st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sequential circuit unit is the flip-flop: The behaviors of the SR, JK, and D flip-flops are the most important to kn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D22D-75AA-41B7-944C-028149BFD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C3A5-216E-4283-A962-953A6BA50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58" name="Picture 7" descr="1"/>
          <p:cNvPicPr/>
          <p:nvPr/>
        </p:nvPicPr>
        <p:blipFill>
          <a:blip r:embed="rId2"/>
          <a:srcRect l="0" t="0" r="0" b="2260"/>
          <a:stretch/>
        </p:blipFill>
        <p:spPr>
          <a:xfrm>
            <a:off x="6323040" y="1371600"/>
            <a:ext cx="2211480" cy="4876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operator can be completely described using a truth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operators AND and OR are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D operator is also known as a Boolean product.  The OR operator is the Boolean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A4A2-FC43-4708-AEAC-5EE653D8E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2" name="Picture 7" descr="2A"/>
          <p:cNvPicPr/>
          <p:nvPr/>
        </p:nvPicPr>
        <p:blipFill>
          <a:blip r:embed="rId2"/>
          <a:stretch/>
        </p:blipFill>
        <p:spPr>
          <a:xfrm>
            <a:off x="6095880" y="2133720"/>
            <a:ext cx="1809720" cy="2073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NOT operato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T operation is most often designated by an overbar. It is sometimes indicated by a prime mark ( ‘ ) or an “elbow” (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A8B-6481-4BAA-A1D3-DADA582B4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function h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vari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operator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input from the set {0,1}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produces an output that is also a member of the set {0,1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438280" y="4723200"/>
            <a:ext cx="55627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w you know why the binary numbering system is so handy in digital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260-81A0-4795-A713-84858AB93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0" name="Picture 4103" descr="3B"/>
          <p:cNvPicPr/>
          <p:nvPr/>
        </p:nvPicPr>
        <p:blipFill>
          <a:blip r:embed="rId2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ruth table for the Boolean fun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ake evaluation of the Boolean function easier, the truth table contains extra (shaded) columns to hold evaluations of subparts of the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102" descr="3A"/>
          <p:cNvPicPr/>
          <p:nvPr/>
        </p:nvPicPr>
        <p:blipFill>
          <a:blip r:embed="rId3"/>
          <a:stretch/>
        </p:blipFill>
        <p:spPr>
          <a:xfrm>
            <a:off x="1143000" y="2554200"/>
            <a:ext cx="32274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EE0-49EC-4084-AFE3-EB843C68C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Boolean identities have an AND (product) form as well as an OR (sum) form.  We give our identities using both forms. Our first group is rather intuiti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9" descr="4B"/>
          <p:cNvPicPr/>
          <p:nvPr/>
        </p:nvPicPr>
        <p:blipFill>
          <a:blip r:embed="rId2"/>
          <a:stretch/>
        </p:blipFill>
        <p:spPr>
          <a:xfrm>
            <a:off x="1752480" y="3451320"/>
            <a:ext cx="55389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D93A-95DC-4E6A-9402-F5E4B9419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9" name="Picture 6" descr="6B"/>
          <p:cNvPicPr/>
          <p:nvPr/>
        </p:nvPicPr>
        <p:blipFill>
          <a:blip r:embed="rId2"/>
          <a:stretch/>
        </p:blipFill>
        <p:spPr>
          <a:xfrm>
            <a:off x="380880" y="3276720"/>
            <a:ext cx="8318520" cy="1920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econd group of Boolean identities should be familiar to you from your study of algebr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Dr Nawaz Brohi</cp:lastModifiedBy>
  <dcterms:modified xsi:type="dcterms:W3CDTF">2009-09-13T06:18:30Z</dcterms:modified>
  <cp:revision>254</cp:revision>
  <dc:subject/>
  <dc:title>Chapter 2</dc:title>
</cp:coreProperties>
</file>