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30.gif" ContentType="image/gif"/>
  <Override PartName="/ppt/media/image22.png" ContentType="image/png"/>
  <Override PartName="/ppt/media/image17.png" ContentType="image/png"/>
  <Override PartName="/ppt/media/image24.gif" ContentType="image/gif"/>
  <Override PartName="/ppt/media/image21.png" ContentType="image/png"/>
  <Override PartName="/ppt/media/image19.png" ContentType="image/png"/>
  <Override PartName="/ppt/media/image9.png" ContentType="image/png"/>
  <Override PartName="/ppt/media/image29.gif" ContentType="image/gif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2.gif" ContentType="image/gif"/>
  <Override PartName="/ppt/media/image13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.jpeg" ContentType="image/jpeg"/>
  <Override PartName="/ppt/media/image1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F1A9-F845-484B-97FB-05293D7AC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FCC2-50E3-4A72-8755-8D7E2F504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16B3-EC08-43A6-ADFF-D1F55F726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CD90-81EC-496E-9954-B2CBA6B82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869E-FF17-4F95-883F-11449FAF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128D-6261-43E8-822E-B0583DB3F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1D53-0EF3-4119-B871-4FC62BD6B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9920-C708-4D3D-AB00-C44650260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B225-2CE2-4453-9145-CB9E10851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3E0B-C9CA-4048-ADE6-9A9948F84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CD6C-16D5-4105-9F48-A938FAFCF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732E-9647-4A9C-B39F-962D49087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E736-3CBC-4D60-A88A-A29970DDE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2411-6BB3-4AC9-96B2-CED5955AF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0785-9CD5-4C01-8400-95BA9BA77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369A-B86C-451B-95D6-E8FD43227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5956-E268-497A-A714-FD5000CE7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EFCE-4364-4990-B631-41D3C9774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758D-E333-4340-A81B-C27E861ED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F6A5-99E6-4ED6-A9AD-6903BFD4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C741-D227-4235-9ABC-46C9A2DBF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CA06-1849-4826-9CF0-8A4429F90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28D1-2F08-4000-973A-1BF10DD75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BF0D-493D-4838-9E21-782DDCD23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AFB3-DF11-4D08-9F98-28775CEE5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CC42-5C51-4F92-8E71-62C5CBBA5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4AC8-1456-4982-8D21-C1A17586F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215E-A060-45C7-9E8E-A7D24C209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36A9-F5DE-4BE0-A349-64177B6DF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4A56-D848-4644-BB71-E53A1FC1F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4AE0-FDD2-4915-AE58-5EFA95153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6543-E943-43A4-8E88-1AD103F81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7FDF-7977-4075-94A5-C22954D6C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23AD-56EB-4002-8318-C195469C4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3B5-66DA-46E5-98F4-BFD4DCED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D7B-94D4-4863-B010-915FD5AA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A0D-BAEA-43A4-A469-BE4861DF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D2B-54F6-4CB2-9938-00AEEDD5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604-D630-4583-B898-F1331934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35E-190D-4B43-8457-B96B52AC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CE4-26A1-46DF-8072-AB4BFDAB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163-5876-4B5C-8C42-F1CAF7DA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1D5-0D56-4887-B48B-F905B18D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30B-4D7E-49F3-AEFB-243BC6AA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9F8-6228-4F03-9018-A191C522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EF2-E809-4B54-B571-935BA50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5C32-5A7C-4D83-8C4B-73A1C03A9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2419-6CE9-4233-8A3C-88B344600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49" name="Picture 4" descr="200TPF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76520" y="15238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04a"/>
                </a:solidFill>
                <a:latin typeface="Arial Unicode MS"/>
              </a:rPr>
              <a:t>Boolean Algebra &amp; Logic Gates</a:t>
            </a:r>
            <a:endParaRPr b="1" lang="en-US" sz="4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AAE2-C7D1-4384-9013-C05127186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3" name="Picture 7" descr="7B"/>
          <p:cNvPicPr/>
          <p:nvPr/>
        </p:nvPicPr>
        <p:blipFill>
          <a:blip r:embed="rId2"/>
          <a:stretch/>
        </p:blipFill>
        <p:spPr>
          <a:xfrm>
            <a:off x="990720" y="3505320"/>
            <a:ext cx="7011720" cy="2450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last group of Boolean identities are perhaps the most usefu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studied set theory or formal logic, these laws are also familiar to yo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7FEE-BF45-42C7-8FF9-39D8364D0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it is more economical to build a circuit using the complement of a function (and complementing its result) than it is to implement the function direct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rgan’s law provides an easy way of finding the complement of a Boolean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ll DeMorgan’s law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0A"/>
          <p:cNvPicPr/>
          <p:nvPr/>
        </p:nvPicPr>
        <p:blipFill>
          <a:blip r:embed="rId2"/>
          <a:stretch/>
        </p:blipFill>
        <p:spPr>
          <a:xfrm>
            <a:off x="1587600" y="4800600"/>
            <a:ext cx="62611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CEF1-8E29-4A9A-83F2-89CF4568D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have looked at Boolean functions in abstract term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this section, we see that Boolean functions are implemented in digital computer circuits called ga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gate is an electronic device that produces a result based on two or more input valu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gates consist of one to six transistors, but digital designers think of them as a single un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circuits contain collections of gates suited to a particular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C29F-BCCF-49A1-A87D-D8E3FA883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three simplest gates are the AND, OR, and NOT ga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correspond directly to their respective Boolean operations, as you can see by their truth tab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17"/>
          <p:cNvPicPr/>
          <p:nvPr/>
        </p:nvPicPr>
        <p:blipFill>
          <a:blip r:embed="rId2"/>
          <a:stretch/>
        </p:blipFill>
        <p:spPr>
          <a:xfrm>
            <a:off x="1981080" y="2286000"/>
            <a:ext cx="59058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50"/>
                            </p:stCondLst>
                            <p:childTnLst>
                              <p:par>
                                <p:cTn id="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75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35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3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03E1-6928-4D34-9A44-E7F98B0F9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and.gif (2500 bytes)"/>
          <p:cNvPicPr/>
          <p:nvPr/>
        </p:nvPicPr>
        <p:blipFill>
          <a:blip r:embed="rId1"/>
          <a:stretch/>
        </p:blipFill>
        <p:spPr>
          <a:xfrm>
            <a:off x="304920" y="1600200"/>
            <a:ext cx="3962160" cy="259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or.gif (2500 bytes)"/>
          <p:cNvPicPr/>
          <p:nvPr/>
        </p:nvPicPr>
        <p:blipFill>
          <a:blip r:embed="rId2"/>
          <a:stretch/>
        </p:blipFill>
        <p:spPr>
          <a:xfrm>
            <a:off x="4648320" y="1600200"/>
            <a:ext cx="4228920" cy="2590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1"/>
          <p:cNvSpPr/>
          <p:nvPr/>
        </p:nvSpPr>
        <p:spPr>
          <a:xfrm>
            <a:off x="533520" y="4495680"/>
            <a:ext cx="3429000" cy="2311560"/>
          </a:xfrm>
          <a:prstGeom prst="rect">
            <a:avLst/>
          </a:prstGeom>
          <a:solidFill>
            <a:srgbClr val="b6eb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ND GAT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 AND 0 = 0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4952880" y="4495680"/>
            <a:ext cx="3429000" cy="2311560"/>
          </a:xfrm>
          <a:prstGeom prst="rect">
            <a:avLst/>
          </a:prstGeom>
          <a:solidFill>
            <a:srgbClr val="b6eb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OR GAT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 OR 0 = 1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83E8-3920-4A53-BAA9-5732B01B8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very useful gate is the exclusive OR (XOR) gat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utput of the XOR operation is true only when the values of the inputs dif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18"/>
          <p:cNvPicPr/>
          <p:nvPr/>
        </p:nvPicPr>
        <p:blipFill>
          <a:blip r:embed="rId2"/>
          <a:stretch/>
        </p:blipFill>
        <p:spPr>
          <a:xfrm>
            <a:off x="1905120" y="3429000"/>
            <a:ext cx="4287600" cy="2085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105520" y="5180400"/>
            <a:ext cx="342900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te the special symbol </a:t>
            </a:r>
            <a:r>
              <a:rPr b="1" lang="en-US" sz="2200" spc="-1" strike="noStrike">
                <a:solidFill>
                  <a:srgbClr val="cc3300"/>
                </a:solidFill>
                <a:latin typeface="Symbol"/>
                <a:ea typeface="Symbol"/>
              </a:rPr>
              <a:t>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for the XOR operation.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CC59-8E53-455D-831C-8CC25329F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xxor.gif (2500 bytes)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2590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xxor.gif (2500 bytes)"/>
          <p:cNvPicPr/>
          <p:nvPr/>
        </p:nvPicPr>
        <p:blipFill>
          <a:blip r:embed="rId2"/>
          <a:stretch/>
        </p:blipFill>
        <p:spPr>
          <a:xfrm>
            <a:off x="4648320" y="1676520"/>
            <a:ext cx="4190760" cy="2590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533520" y="4495680"/>
            <a:ext cx="3429000" cy="2311560"/>
          </a:xfrm>
          <a:prstGeom prst="rect">
            <a:avLst/>
          </a:prstGeom>
          <a:solidFill>
            <a:srgbClr val="b6eb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XOR GAT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 XOR 0 = 1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952880" y="4495680"/>
            <a:ext cx="3429000" cy="2311560"/>
          </a:xfrm>
          <a:prstGeom prst="rect">
            <a:avLst/>
          </a:prstGeom>
          <a:solidFill>
            <a:srgbClr val="b6eb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XOR GAT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 XOR 1 = 0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med">
    <p:push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3B73-F077-456B-A8AA-534956F3E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3276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ND and NOR are two very important gates.  Their symbols and truth tables are shown at the righ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031" descr="19V"/>
          <p:cNvPicPr/>
          <p:nvPr/>
        </p:nvPicPr>
        <p:blipFill>
          <a:blip r:embed="rId2"/>
          <a:stretch/>
        </p:blipFill>
        <p:spPr>
          <a:xfrm>
            <a:off x="3832200" y="1600200"/>
            <a:ext cx="50832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39CF-EA12-499F-B1B2-61AE386AE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ND and NOR are known a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universal gat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cause they are inexpensive to manufacture and any Boolean function can be constructed using only NAND or only NOR gat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21A"/>
          <p:cNvPicPr/>
          <p:nvPr/>
        </p:nvPicPr>
        <p:blipFill>
          <a:blip r:embed="rId2"/>
          <a:stretch/>
        </p:blipFill>
        <p:spPr>
          <a:xfrm>
            <a:off x="4199040" y="1608120"/>
            <a:ext cx="448776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F790-D4E4-4F7E-AC70-213788052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es can have multiple inputs and more than one out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ond output can be provided for the complement of the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see more of this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22"/>
          <p:cNvPicPr/>
          <p:nvPr/>
        </p:nvPicPr>
        <p:blipFill>
          <a:blip r:embed="rId2"/>
          <a:stretch/>
        </p:blipFill>
        <p:spPr>
          <a:xfrm>
            <a:off x="947880" y="3962520"/>
            <a:ext cx="73580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957D-B2AD-4E23-A3B9-AFA701AC6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relationship between Boolean logic and digital computer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 how to design simple logic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how digital circuits work together to form complex comput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1D74-2A37-455E-A38D-82ADA06FF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igital Compon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in thing to remember is that combinations of gates implement Boolean fun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ircuit below implements the Boolean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20"/>
          <p:cNvPicPr/>
          <p:nvPr/>
        </p:nvPicPr>
        <p:blipFill>
          <a:blip r:embed="rId2"/>
          <a:stretch/>
        </p:blipFill>
        <p:spPr>
          <a:xfrm>
            <a:off x="1270080" y="3654360"/>
            <a:ext cx="6197400" cy="152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20A"/>
          <p:cNvPicPr/>
          <p:nvPr/>
        </p:nvPicPr>
        <p:blipFill>
          <a:blip r:embed="rId3"/>
          <a:stretch/>
        </p:blipFill>
        <p:spPr>
          <a:xfrm>
            <a:off x="2421000" y="3013200"/>
            <a:ext cx="3217680" cy="568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3429000" y="5333040"/>
            <a:ext cx="495288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e simplify our Boolean expressions so that we can create simpler circuits.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4C90-D07B-4E96-A685-81E302EE6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designed a circuit that implements the Boolean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ircuit is an example of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ircu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al logic circuits produce a specified output (almost) at the instant when input values are appli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later section, we will explore circuits where this is not the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20A"/>
          <p:cNvPicPr/>
          <p:nvPr/>
        </p:nvPicPr>
        <p:blipFill>
          <a:blip r:embed="rId2"/>
          <a:stretch/>
        </p:blipFill>
        <p:spPr>
          <a:xfrm>
            <a:off x="2362320" y="2479680"/>
            <a:ext cx="3217680" cy="5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96C8-F231-42FE-9B10-AC24BCA9C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ational logic circuits give us many useful devic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of the simplest is th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hich finds the sum of two bi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can gain some insight as to the construction of a half adder by looking at its truth table,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23"/>
          <p:cNvPicPr/>
          <p:nvPr/>
        </p:nvPicPr>
        <p:blipFill>
          <a:blip r:embed="rId2"/>
          <a:stretch/>
        </p:blipFill>
        <p:spPr>
          <a:xfrm>
            <a:off x="5127480" y="2286000"/>
            <a:ext cx="3483000" cy="2481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EE73-F84A-4191-BF67-01591EF6A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we see, the sum can be found using the XOR operation and the carry using the AND oper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23"/>
          <p:cNvPicPr/>
          <p:nvPr/>
        </p:nvPicPr>
        <p:blipFill>
          <a:blip r:embed="rId2"/>
          <a:stretch/>
        </p:blipFill>
        <p:spPr>
          <a:xfrm>
            <a:off x="5029200" y="3581280"/>
            <a:ext cx="3483000" cy="2481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24"/>
          <p:cNvPicPr/>
          <p:nvPr/>
        </p:nvPicPr>
        <p:blipFill>
          <a:blip r:embed="rId3"/>
          <a:stretch/>
        </p:blipFill>
        <p:spPr>
          <a:xfrm>
            <a:off x="1066680" y="3505320"/>
            <a:ext cx="3483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01921 L 0.00122 -0.31412 E">
                                      <p:cBhvr>
                                        <p:cTn id="146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BD56-B354-4050-8A1F-43DF82EC2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hadder10"/>
          <p:cNvPicPr/>
          <p:nvPr/>
        </p:nvPicPr>
        <p:blipFill>
          <a:blip r:embed="rId1"/>
          <a:stretch/>
        </p:blipFill>
        <p:spPr>
          <a:xfrm>
            <a:off x="1828800" y="1600200"/>
            <a:ext cx="5514840" cy="2901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4683960" y="228600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737040" y="3581280"/>
            <a:ext cx="3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C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200400" y="4724280"/>
            <a:ext cx="2819520" cy="2803320"/>
          </a:xfrm>
          <a:prstGeom prst="rect">
            <a:avLst/>
          </a:prstGeom>
          <a:solidFill>
            <a:srgbClr val="ace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Half  Adder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med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2156-D58B-4705-AA52-DB20AE0AD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tain their state values, sequential circuits rely 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eed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dback in digital circuits occurs when an output is looped back to the in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example of this concept is show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Q is 0 it will always be 0, if it is 1, it will always be 1.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33"/>
          <p:cNvPicPr/>
          <p:nvPr/>
        </p:nvPicPr>
        <p:blipFill>
          <a:blip r:embed="rId2"/>
          <a:stretch/>
        </p:blipFill>
        <p:spPr>
          <a:xfrm>
            <a:off x="2438280" y="4765680"/>
            <a:ext cx="4232520" cy="1254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F134-AB86-4771-9034-84F057E8E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see how feedback works by examining the most basic sequential logic components, the SR flip-flop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R” stands for set/re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rnals of an SR flip-flop are shown below, along with its block dia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35"/>
          <p:cNvPicPr/>
          <p:nvPr/>
        </p:nvPicPr>
        <p:blipFill>
          <a:blip r:embed="rId2"/>
          <a:stretch/>
        </p:blipFill>
        <p:spPr>
          <a:xfrm>
            <a:off x="1143000" y="4267080"/>
            <a:ext cx="3427560" cy="181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34"/>
          <p:cNvPicPr/>
          <p:nvPr/>
        </p:nvPicPr>
        <p:blipFill>
          <a:blip r:embed="rId3"/>
          <a:stretch/>
        </p:blipFill>
        <p:spPr>
          <a:xfrm>
            <a:off x="4795920" y="4314960"/>
            <a:ext cx="3281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CBE3-881E-4A21-B160-51DDAABA1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an SR flip-flop is described by a characteristic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(t) means the value of the output at time t.  Q(t+1) is the value of Q after the next clock pul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35"/>
          <p:cNvPicPr/>
          <p:nvPr/>
        </p:nvPicPr>
        <p:blipFill>
          <a:blip r:embed="rId2"/>
          <a:stretch/>
        </p:blipFill>
        <p:spPr>
          <a:xfrm>
            <a:off x="685800" y="3984480"/>
            <a:ext cx="3427560" cy="1814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36"/>
          <p:cNvPicPr/>
          <p:nvPr/>
        </p:nvPicPr>
        <p:blipFill>
          <a:blip r:embed="rId3"/>
          <a:stretch/>
        </p:blipFill>
        <p:spPr>
          <a:xfrm>
            <a:off x="4267080" y="3733920"/>
            <a:ext cx="44053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BC4C-66FD-4E69-8D51-64BFC3AE2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8" descr="srflip.gif (2500 bytes)"/>
          <p:cNvPicPr/>
          <p:nvPr/>
        </p:nvPicPr>
        <p:blipFill>
          <a:blip r:embed="rId1"/>
          <a:stretch/>
        </p:blipFill>
        <p:spPr>
          <a:xfrm>
            <a:off x="380880" y="1676520"/>
            <a:ext cx="3962520" cy="2657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srflip.gif (2500 bytes)"/>
          <p:cNvPicPr/>
          <p:nvPr/>
        </p:nvPicPr>
        <p:blipFill>
          <a:blip r:embed="rId2"/>
          <a:stretch/>
        </p:blipFill>
        <p:spPr>
          <a:xfrm>
            <a:off x="4648320" y="1676520"/>
            <a:ext cx="3933720" cy="263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914400" y="4648320"/>
            <a:ext cx="3124080" cy="2803320"/>
          </a:xfrm>
          <a:prstGeom prst="rect">
            <a:avLst/>
          </a:prstGeom>
          <a:solidFill>
            <a:srgbClr val="ace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SR flip-flop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SET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105520" y="4648320"/>
            <a:ext cx="3124080" cy="2803320"/>
          </a:xfrm>
          <a:prstGeom prst="rect">
            <a:avLst/>
          </a:prstGeom>
          <a:solidFill>
            <a:srgbClr val="ace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SR flip-flop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RESET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med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ADE3-9221-499B-A8DC-5219880A6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R flip-flop actually has three inputs: S, R, and its current output, Q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us, we can construct a truth table for this circuit, as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tice the two undefined values.  When both S and R are 1, the SR flip-flop is unsta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6" descr="37"/>
          <p:cNvPicPr/>
          <p:nvPr/>
        </p:nvPicPr>
        <p:blipFill>
          <a:blip r:embed="rId2"/>
          <a:stretch/>
        </p:blipFill>
        <p:spPr>
          <a:xfrm>
            <a:off x="4572000" y="1676520"/>
            <a:ext cx="40035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1E73-8D89-4A10-BB3B-4A4BD4B3B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algebra is a mathematical system for the manipulation of variables that can have one of two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ormal logic, these values are “true” and “fals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gital systems, these values are “on” and “off,” 1 and 0, or “high” and “low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expressions are created by performing operations on Boolean vari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Boolean operators include AND, OR, and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7454-AF72-4E9C-9D45-1872544AB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can be sure that the inputs to an SR flip-flop will never both be 1, we will never have an unstable circuit. This may not always be the c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R flip-flop can be modified to provide a stable state when both inputs are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38"/>
          <p:cNvPicPr/>
          <p:nvPr/>
        </p:nvPicPr>
        <p:blipFill>
          <a:blip r:embed="rId2"/>
          <a:stretch/>
        </p:blipFill>
        <p:spPr>
          <a:xfrm>
            <a:off x="4724280" y="3886200"/>
            <a:ext cx="3648240" cy="1811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533520" y="3701880"/>
            <a:ext cx="42670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odified flip-flop is called a JK flip-flop, shown at the right.</a:t>
            </a:r>
            <a:endParaRPr b="1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JK” is in honor of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 Kilby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32AE-F78C-4CD4-8251-CCA7E0AEE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657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right, we see how an SR flip-flop can be modified to create a JK flip-flo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aracteristic table indicates that the flip-flop is stable for all inpu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" descr="40"/>
          <p:cNvPicPr/>
          <p:nvPr/>
        </p:nvPicPr>
        <p:blipFill>
          <a:blip r:embed="rId2"/>
          <a:stretch/>
        </p:blipFill>
        <p:spPr>
          <a:xfrm>
            <a:off x="4267080" y="1523880"/>
            <a:ext cx="3838680" cy="1892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39"/>
          <p:cNvPicPr/>
          <p:nvPr/>
        </p:nvPicPr>
        <p:blipFill>
          <a:blip r:embed="rId3"/>
          <a:stretch/>
        </p:blipFill>
        <p:spPr>
          <a:xfrm>
            <a:off x="4311720" y="3656160"/>
            <a:ext cx="42228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18A2-10C5-4B20-9DA2-FE182F3BF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modification of the SR flip-flop is the D flip-flop, shown below with its characteristic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ill notice that the output of the flip-flop remains the same during subsequent clock pulses. The output changes only when the value of D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42"/>
          <p:cNvPicPr/>
          <p:nvPr/>
        </p:nvPicPr>
        <p:blipFill>
          <a:blip r:embed="rId2"/>
          <a:stretch/>
        </p:blipFill>
        <p:spPr>
          <a:xfrm>
            <a:off x="914400" y="4327560"/>
            <a:ext cx="4076640" cy="1463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43"/>
          <p:cNvPicPr/>
          <p:nvPr/>
        </p:nvPicPr>
        <p:blipFill>
          <a:blip r:embed="rId3"/>
          <a:stretch/>
        </p:blipFill>
        <p:spPr>
          <a:xfrm>
            <a:off x="5334120" y="4251240"/>
            <a:ext cx="20476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D9A3-7B5B-4EEF-BE51-41F13F5D6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 flip-flop is the fundamental circuit of computer memor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flip-flops are usually illustrated using the block diagram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xt slide shows how these circuits are combined to create a regis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6" descr="41"/>
          <p:cNvPicPr/>
          <p:nvPr/>
        </p:nvPicPr>
        <p:blipFill>
          <a:blip r:embed="rId2"/>
          <a:stretch/>
        </p:blipFill>
        <p:spPr>
          <a:xfrm>
            <a:off x="1371600" y="4267080"/>
            <a:ext cx="2668680" cy="1629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43"/>
          <p:cNvPicPr/>
          <p:nvPr/>
        </p:nvPicPr>
        <p:blipFill>
          <a:blip r:embed="rId3"/>
          <a:stretch/>
        </p:blipFill>
        <p:spPr>
          <a:xfrm>
            <a:off x="5334120" y="4251240"/>
            <a:ext cx="20476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558-3A25-4837-B0EF-BE39AF075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2670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are implementations of Boolean log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functions are completely described by truth t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 gates are small circuits that implement Boolean operator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asic gates are AND, OR, and NO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OR gate is very useful in parity checkers and ad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“universal gates” are NOR, and N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24E4-6CA3-43CA-AAC4-CBF7E2F97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circuits consist of combinational logic circuits and sequential logic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al circuits produce outputs (almost) immediately when their inputs chan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quential circuits require clocks to control their changes of sta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asic sequential circuit unit is the flip-flop: The behaviors of the SR, JK, and D flip-flops are the most important to kn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25B1-887B-43A6-B46E-CEC89B192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848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FE7B-B9E9-443B-A645-102D5105D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58" name="Picture 7" descr="1"/>
          <p:cNvPicPr/>
          <p:nvPr/>
        </p:nvPicPr>
        <p:blipFill>
          <a:blip r:embed="rId2"/>
          <a:srcRect l="0" t="0" r="0" b="2260"/>
          <a:stretch/>
        </p:blipFill>
        <p:spPr>
          <a:xfrm>
            <a:off x="6323040" y="1371600"/>
            <a:ext cx="2211480" cy="4876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oolean operator can be completely described using a truth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the Boolean operators AND and OR are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ND operator is also known as a Boolean product.  The OR operator is the Boolean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348D-CB76-4021-98CD-2AD7BC82B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2" name="Picture 7" descr="2A"/>
          <p:cNvPicPr/>
          <p:nvPr/>
        </p:nvPicPr>
        <p:blipFill>
          <a:blip r:embed="rId2"/>
          <a:stretch/>
        </p:blipFill>
        <p:spPr>
          <a:xfrm>
            <a:off x="6095880" y="2133720"/>
            <a:ext cx="1809720" cy="2073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the Boolean NOT operator is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OT operation is most often designated by an overbar. It is sometimes indicated by a prime mark ( ‘ ) or an “elbow” (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B92D-AB00-4A08-BE9D-80402534F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oolean function h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Boolean variab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Boolean operator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input from the set {0,1}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produces an output that is also a member of the set {0,1}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438280" y="4723200"/>
            <a:ext cx="556272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w you know why the binary numbering system is so handy in digital syste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691A-132C-446D-929E-972A40142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0" name="Picture 4103" descr="3B"/>
          <p:cNvPicPr/>
          <p:nvPr/>
        </p:nvPicPr>
        <p:blipFill>
          <a:blip r:embed="rId2"/>
          <a:stretch/>
        </p:blipFill>
        <p:spPr>
          <a:xfrm>
            <a:off x="4826160" y="1676520"/>
            <a:ext cx="4012920" cy="359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truth table for the Boolean func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make evaluation of the Boolean function easier, the truth table contains extra (shaded) columns to hold evaluations of subparts of the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102" descr="3A"/>
          <p:cNvPicPr/>
          <p:nvPr/>
        </p:nvPicPr>
        <p:blipFill>
          <a:blip r:embed="rId3"/>
          <a:stretch/>
        </p:blipFill>
        <p:spPr>
          <a:xfrm>
            <a:off x="1143000" y="2554200"/>
            <a:ext cx="322740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4A62-1B1E-458B-97D2-91BAB79F1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Boolean identities have an AND (product) form as well as an OR (sum) form.  We give our identities using both forms. Our first group is rather intuitiv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9" descr="4B"/>
          <p:cNvPicPr/>
          <p:nvPr/>
        </p:nvPicPr>
        <p:blipFill>
          <a:blip r:embed="rId2"/>
          <a:stretch/>
        </p:blipFill>
        <p:spPr>
          <a:xfrm>
            <a:off x="1752480" y="3451320"/>
            <a:ext cx="55389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C58B-92AD-4C6D-918A-E0C49F3EF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9" name="Picture 6" descr="6B"/>
          <p:cNvPicPr/>
          <p:nvPr/>
        </p:nvPicPr>
        <p:blipFill>
          <a:blip r:embed="rId2"/>
          <a:stretch/>
        </p:blipFill>
        <p:spPr>
          <a:xfrm>
            <a:off x="380880" y="3276720"/>
            <a:ext cx="8318520" cy="1920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econd group of Boolean identities should be familiar to you from your study of algebr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Dr Nawaz Brohi</cp:lastModifiedBy>
  <dcterms:modified xsi:type="dcterms:W3CDTF">2009-09-13T06:18:30Z</dcterms:modified>
  <cp:revision>254</cp:revision>
  <dc:subject/>
  <dc:title>Chapter 2</dc:title>
</cp:coreProperties>
</file>