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DB67-A72C-4645-969C-45710772032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B133-0D23-473A-9451-396D15BBC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1344-38B8-4736-9873-91739D684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18DF-AD69-4DB1-AB7D-FDC753D85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0F99-6839-4520-9A82-5324BFC09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1017-71E4-4702-A020-A85CA04C3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0E19-A516-4A76-9599-41DDB2E36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05BA-A75C-44C4-8B5E-CB56B3943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1F5A-BBEC-4BEB-85F5-ABCCE788B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6EEA-E3A2-4176-9ACD-CF2F4E99D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480E-D068-425B-96AB-E9798EC37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FC3A-7128-4401-B2B0-7C1DDD8EE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B661-B757-4C93-85D4-D45A634A2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B1F3-566C-4558-AD14-1E0A43C57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96DF-72C3-417B-AEC8-F501FCE11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EE9A-7152-4CC3-9FC6-1BC63A833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A49E-9705-4528-89C2-75C7EF002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93EC-0DE9-44F9-B5A7-C851F26BA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D4EC-0CC1-43B4-A29F-26B44E66A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F76B-60B9-4FF7-A8B6-C7C34FA8B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7BC5-D6E2-4790-8FC8-10714C09A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6761-7C09-4375-8F34-E58D9D93D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6B15-688C-47F6-ADC5-B2118BDF4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4F90-AF15-42A7-99A2-C8FA765C8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7991-D3E7-4A56-98F4-D35C8FA5C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EA1F8-B00B-4CB6-A929-8E7674795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44489-6EF5-4A1A-A94F-F713390FD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5CB3C9-BB4C-4459-9DA5-6B11B980EF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2EE88B-AE90-4403-9B90-99831A14F1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E109F8-F6BB-4AD1-B20E-64CD3B31A2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B3A285-0E3D-4932-B7DD-0E96C2DF98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304C54-7F62-4D36-B40D-7487F0389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A8620-9AC4-4785-8D76-AF4BB8818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C3EFF6-A026-48A5-A493-BEF39027DA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C87F39-F47E-4E6A-93F6-3E6B576C1F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63BE71-E1FC-4656-9CCA-9B0B9226CC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26AA2C-E4A7-44EF-AEB9-B2D6C51F53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56252-A57B-4804-A571-A04C37FBC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0F1CE5-2018-405D-BBBC-D11315D549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EEA425-549A-4248-8273-FB31C7A4B2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DDB6D1-63F0-41FF-9B80-3786D81A02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4C7C0B-827D-47C6-B1D8-0C2E919865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E27089-DB44-42C9-9A00-3F0DAD9701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7E5ABF-59C2-4F39-B0E0-35B064AF6A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A39D5C-2C40-45C6-B8DD-3053751371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F0F38C-2C8B-4E4C-9748-3C3FB46B8C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F8913F-2C06-4631-8376-C49F09E966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DCB738-A621-4945-BCCB-3ED2FB409D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0A24A-B8DF-438B-B01A-B266D65AB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362B86-66D0-41D7-AA9D-931303106A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4EA40D-30CD-48E9-831B-C5736A544D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1EA75A-A5F7-4835-8B94-B078240EBB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5D7D53-5A5A-4229-B0AE-05687D5363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00D8ED-97B9-43A7-A26B-B615E7A91B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2A5555-E85F-4144-9474-B51F908F17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919A89-D435-494D-839E-4A49347E74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440469-7EA2-4591-B556-715A47C52B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8039B8-2A30-4C95-A104-F1687E86A5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6E5BBD-EB73-4478-A5E9-F7205C3F6D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6F24B-A15A-4E3E-9B41-AEAC62562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8392E4-2088-4C0F-8553-25E4E9268C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4B129B-9C23-413C-A959-FF073857DE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A80BC6-9480-4BC6-89D3-8DC4B386B3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D461EC-B4C7-4DA0-854E-BBDD00469A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AF0A33-1E12-43D1-B17D-80BE2CAA9F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767648-3175-4C57-9653-26E9D442BB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24CB38-A70D-4913-8AC5-4B421A448B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164077-0220-455D-9328-2469018B49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2F7AA9-B997-4534-8C02-A43CD486A8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7D118E-C5C3-438C-8C2E-FE1F04B02B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2DC1B-DC06-4366-91B2-A36775C98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AF8F89-45F1-499A-89EE-68C8AB4CCD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FB8564-04BF-4BAE-96A5-79B824E95D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F88685-1336-46EE-9EC4-39BCBA5352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67DB220-8C8D-439A-9994-A427211A58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D8DDB0-B9E7-47C9-A9A5-5852C758331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3B6BA-1FAA-4891-A388-B99AE577D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349B1-7D7E-4B3E-904A-8A88DE3B2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BFA2F-739D-473E-BC1F-AE758FAA7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5856E-DE41-4910-8E35-CF1290BB6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8F1D1-F447-494C-953D-B8F0BDC71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FC7D0-0442-468A-85C6-46B01E986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183E1-94B1-46B0-8332-AD744D6EF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68BEA-76A8-4A1C-ACE8-3706D04CC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46CAD-0F4E-4D21-8C2C-CB4AA3929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1995F-DE7A-498E-8B33-C332B85AA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A978A-8EE3-4736-A520-9A82AAC2C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F2C688-98A0-4F7F-9C2F-C0B3705E7F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D2818-582B-45AA-B5CA-B2BAB1C27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31560-C2D5-47F0-BA1A-4DD5B1A71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08792-2A3D-446C-9EDA-15C530035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43EDC-E9FC-4264-A870-C6D2DBED7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9C3A6-AD81-42A2-902B-B97045D0E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CA702-C5C4-4663-92CA-459A39C39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9AFA9-4F0D-42BA-8AE4-9B3BCF81B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BE2C9-5C5B-42A6-BF81-92AADC822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BDB1D-0ECF-42D3-84DD-581106A49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B5382E-1A8E-4B5A-BCDB-5F493DAD2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BD8FB7-6C0D-4070-90F8-8251FB6921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1386C-9365-4A5C-848A-F57F8A4042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88693F-169F-4708-ACF0-77D0FF13BE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6A58D-9B1E-447F-ABC8-312324B3A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78F2EA-68BC-4318-8773-BFA1FB345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3E6B1-82F9-4B6D-AC42-BC7EBFA11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A013B-BEF8-4440-90EF-E8D9B5678F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2AC240-C3F6-4D57-B07D-BB7427363D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A52002-2E1C-403B-A1AF-31517BE2E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F5268-2C85-4DBA-8698-2C2F2A62F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3BACD-FE79-487F-96B7-BCF9FD7D67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A9CD1-D5EA-46D0-98DB-11A463FEB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A52A6-28DD-4D36-B06D-1BE1F480BC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F55DDA-CE83-4189-97D4-1503F71D7B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63CDD6-F205-42DF-B997-EE3D2AF4E8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0D80DB-87C1-4F18-B288-BE69632EBC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BA1AF-BD7C-4DB6-B00F-8D562AA56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FEC5E1-025E-412A-BCE1-31327F8EAD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19EFB-9635-4D4C-8CE7-8A646183B0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A1136C-4C05-401D-94E5-AD72B3435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4B365-2050-4348-9A1B-CAD794D23C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64610-AC31-49F5-AE5A-8C3A8B3A9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F9451-A2DE-4D07-ABED-4416F341C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0114C-DFED-4A99-905B-A0212B4FB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B3BA3-5664-466B-A868-36BB09730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5F6096-41DF-48E9-A507-D46EBCE48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97B14E-8422-4E25-860B-95CE686F5F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A0201-2893-486E-AACF-44218F525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964940-6ED3-44EF-B57B-963CF5CA55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1AF6F4-9011-4A2E-9B32-8ACADDE50B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2070EE-804B-4815-BAB5-6985A189B9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2E5B28-9C2D-4469-85FB-693120DD1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D8A3D-C607-43DF-873F-715D6FA08E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FE8FE-BADD-4277-8772-820EE79E53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5D9F00-5F24-4D5B-9141-8B9D27BEA3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BFB12-0084-4AD6-9DF5-B1E30F245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4B805-1D5E-4ED7-90B9-34BB4695C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32E32-712E-4BE3-8A2D-0ED790D1F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9B63-6E43-41CD-9319-785D68B53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26A925-9A4A-4BB8-9A78-B1323C0A25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BF07A3-278B-4569-AE8B-102402B57C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159B19-2F3F-40BF-ABCA-C01A61DE87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A9B74F-4106-4C44-8BAD-A885E4CDCE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A59A70-AB44-4E02-ACD2-C6F35112E8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0E1372-BE26-431F-BB09-F0D49F425D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D4F87-735B-493A-B37C-34CF7B8CD8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E6889C-3E9C-4F49-9C62-3824DC9FC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11730B-4F04-476B-BA13-CEF1DB70B6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298A5-4033-470A-AE8F-9C07B7718E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B2CE-B9BF-4BAA-BC24-42C0D58D6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0FDC9-B933-41FB-874B-16693462E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416CC-CBF0-4DE8-890E-A75C01C3F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9B1CE7-7112-47C0-B29B-4BCF71CF59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37767F-9253-4E71-9082-2CD934FAC1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59A03E-9F42-4036-9F72-A9B68E6943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724195-0918-4378-B204-2808438449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73584A-982F-44D9-A371-626465D7B3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7EF2A5-8AB9-4F2F-AE6A-C8E4D643B2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CFB1B3-6C95-402B-84B2-CE5A8E3CCA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339C9-A8BC-4ECA-BDAC-31A972A30A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21E5E-4580-4332-866B-83CB5E778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7DB725-7EB7-41CA-9AA8-7B95D0866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6BF78-9AE1-4E0C-9D0B-E970A62CE0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5AF712-4B73-44C2-918D-C7A4BDA4D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B6B2FD-7572-41BD-9575-13FAB577A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74A361-1046-4D01-8D92-19D1E68EA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9A88CA-7874-40D4-A494-2C3C2DA38F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8A816E-8C24-400F-8CB1-1C46BF29AD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782744-1D7D-460E-B121-C2A59F39E9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9E1533-6D0F-417E-86F2-878BE3A2FA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BAB2F0-8C1B-4903-BC2B-B6AA80FE19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2A51-D60F-4611-8740-97C6CDFF411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195C7682-2E82-4E86-AD9B-CDEAF77792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33CB-23AC-4911-B0FE-BDD11C1298D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7C0F1186-BF92-4CE3-8BD3-C2AC1595EA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DF85-3D53-4DFE-A63C-C416DF308802}"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828AB1A0-6073-4769-ADBF-80C74D9DE0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943C-A8D7-44F3-87FC-87F31FDF060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39376FFA-BAD7-46FF-8992-F84E82499C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483B-B6E3-442E-9E60-77A3DDA2153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B023C026-45BF-40FB-9B65-16BC6DB025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8534520" y="0"/>
            <a:ext cx="609480" cy="6858000"/>
          </a:xfrm>
          <a:prstGeom prst="rect">
            <a:avLst/>
          </a:prstGeom>
          <a:ln w="0">
            <a:noFill/>
          </a:ln>
        </p:spPr>
      </p:pic>
      <p:pic>
        <p:nvPicPr>
          <p:cNvPr id="83" name="Picture 2" descr=""/>
          <p:cNvPicPr/>
          <p:nvPr/>
        </p:nvPicPr>
        <p:blipFill>
          <a:blip r:embed="rId3"/>
          <a:stretch/>
        </p:blipFill>
        <p:spPr>
          <a:xfrm>
            <a:off x="0" y="0"/>
            <a:ext cx="178128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9411-3F36-4A86-A5B7-EB8EAEACA36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Times New Roman"/>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400E988E-8342-4A8F-9B13-6A61F30E69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8E58-C589-46B3-BCDE-22CE4C91C5F1}"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47220991-456C-4736-906F-91572241FA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885F-4D03-4CCD-99CA-5B4535F2500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E0166297-CFD5-4FAC-AEFD-5821475B43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E701-8F4B-4A70-87E0-40F76AC176B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997E7ABD-DA60-4384-8932-10A42A3567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7091-5957-469E-A88C-238245516BE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5A277208-097B-40B3-A483-A2906F1545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9824-402A-4AED-8E9A-E383373A2E0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ED58CCB0-F8D3-446D-B6A1-9726E2C666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FB80-F94F-435E-81E7-7FA08E44D71A}"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10 Pearson Education, Inc.</a:t>
            </a:r>
            <a:endParaRPr b="0" lang="en-US" sz="1200" spc="-1" strike="noStrike">
              <a:solidFill>
                <a:srgbClr val="000000"/>
              </a:solidFill>
              <a:latin typeface="Times New Roman"/>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82C25FF-11EF-4FF1-935F-F16D118538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Picture 18" descr=""/>
          <p:cNvPicPr/>
          <p:nvPr/>
        </p:nvPicPr>
        <p:blipFill>
          <a:blip r:embed="rId1"/>
          <a:stretch/>
        </p:blipFill>
        <p:spPr>
          <a:xfrm>
            <a:off x="0" y="0"/>
            <a:ext cx="9144000" cy="3333600"/>
          </a:xfrm>
          <a:prstGeom prst="rect">
            <a:avLst/>
          </a:prstGeom>
          <a:ln w="0">
            <a:noFill/>
          </a:ln>
        </p:spPr>
      </p:pic>
      <p:pic>
        <p:nvPicPr>
          <p:cNvPr id="502" name="Picture 14" descr=""/>
          <p:cNvPicPr/>
          <p:nvPr/>
        </p:nvPicPr>
        <p:blipFill>
          <a:blip r:embed="rId2"/>
          <a:stretch/>
        </p:blipFill>
        <p:spPr>
          <a:xfrm>
            <a:off x="0" y="0"/>
            <a:ext cx="657360" cy="933480"/>
          </a:xfrm>
          <a:prstGeom prst="rect">
            <a:avLst/>
          </a:prstGeom>
          <a:ln w="0">
            <a:noFill/>
          </a:ln>
        </p:spPr>
      </p:pic>
      <p:pic>
        <p:nvPicPr>
          <p:cNvPr id="503" name="Picture 19" descr=""/>
          <p:cNvPicPr/>
          <p:nvPr/>
        </p:nvPicPr>
        <p:blipFill>
          <a:blip r:embed="rId3"/>
          <a:stretch/>
        </p:blipFill>
        <p:spPr>
          <a:xfrm>
            <a:off x="4924440" y="2971800"/>
            <a:ext cx="4219560" cy="3324240"/>
          </a:xfrm>
          <a:prstGeom prst="rect">
            <a:avLst/>
          </a:prstGeom>
          <a:ln w="0">
            <a:noFill/>
          </a:ln>
        </p:spPr>
      </p:pic>
      <p:sp>
        <p:nvSpPr>
          <p:cNvPr id="5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0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1BF4A830-8A04-407F-B4AC-2E854753CB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3: Establish Objectives</a:t>
            </a:r>
            <a:endParaRPr b="0" lang="en-US" sz="4000" spc="-1" strike="noStrike">
              <a:solidFill>
                <a:srgbClr val="000000"/>
              </a:solidFill>
              <a:latin typeface="Calibri"/>
            </a:endParaRPr>
          </a:p>
        </p:txBody>
      </p:sp>
      <p:sp>
        <p:nvSpPr>
          <p:cNvPr id="549"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objectives, when achieved, provide the information necessary to solve the problem identified in step 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objectives state what the researchers must do.</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31D8025E-EB25-4EC4-A39C-AF8712CE8D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Four: Determine </a:t>
            </a:r>
            <a:br>
              <a:rPr sz="3600"/>
            </a:br>
            <a:r>
              <a:rPr b="0" lang="en-US" sz="3600" spc="-1" strike="noStrike">
                <a:solidFill>
                  <a:srgbClr val="000000"/>
                </a:solidFill>
                <a:latin typeface="Trebuchet MS"/>
              </a:rPr>
              <a:t>Research Design</a:t>
            </a:r>
            <a:endParaRPr b="0" lang="en-US" sz="3600" spc="-1" strike="noStrike">
              <a:solidFill>
                <a:srgbClr val="000000"/>
              </a:solidFill>
              <a:latin typeface="Calibri"/>
            </a:endParaRPr>
          </a:p>
        </p:txBody>
      </p:sp>
      <p:sp>
        <p:nvSpPr>
          <p:cNvPr id="55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ploratory Research: collecting information in an unstructured and informal mann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scriptive Research refers to a set of methods and procedures describing marketing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407E3DE9-DBAA-4C9B-9603-E6D1BEFD47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Four: Determine </a:t>
            </a:r>
            <a:br>
              <a:rPr sz="3600"/>
            </a:br>
            <a:r>
              <a:rPr b="0" lang="en-US" sz="3600" spc="-1" strike="noStrike">
                <a:solidFill>
                  <a:srgbClr val="000000"/>
                </a:solidFill>
                <a:latin typeface="Trebuchet MS"/>
              </a:rPr>
              <a:t>Research Design</a:t>
            </a:r>
            <a:endParaRPr b="0" lang="en-US" sz="3600" spc="-1" strike="noStrike">
              <a:solidFill>
                <a:srgbClr val="000000"/>
              </a:solidFill>
              <a:latin typeface="Calibri"/>
            </a:endParaRPr>
          </a:p>
        </p:txBody>
      </p:sp>
      <p:sp>
        <p:nvSpPr>
          <p:cNvPr id="557"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usal Research (experiments): allows isolation of causes and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6253839-D7F2-4A12-B2CA-42F5D3D642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5: Identify Information </a:t>
            </a:r>
            <a:br>
              <a:rPr sz="3600"/>
            </a:br>
            <a:r>
              <a:rPr b="0" lang="en-US" sz="3600" spc="-1" strike="noStrike">
                <a:solidFill>
                  <a:srgbClr val="000000"/>
                </a:solidFill>
                <a:latin typeface="Trebuchet MS"/>
              </a:rPr>
              <a:t>Types and Sources</a:t>
            </a:r>
            <a:endParaRPr b="0" lang="en-US" sz="3600" spc="-1" strike="noStrike">
              <a:solidFill>
                <a:srgbClr val="000000"/>
              </a:solidFill>
              <a:latin typeface="Calibri"/>
            </a:endParaRPr>
          </a:p>
        </p:txBody>
      </p:sp>
      <p:sp>
        <p:nvSpPr>
          <p:cNvPr id="561"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imary information: information collected specifically for the problem at h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ary information: information already collec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CEA0F0D-ED8B-441A-81D3-CA45F77E7A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6: Determine Methods of Accessing Data</a:t>
            </a:r>
            <a:endParaRPr b="0" lang="en-US" sz="3600" spc="-1" strike="noStrike">
              <a:solidFill>
                <a:srgbClr val="000000"/>
              </a:solidFill>
              <a:latin typeface="Calibri"/>
            </a:endParaRPr>
          </a:p>
        </p:txBody>
      </p:sp>
      <p:sp>
        <p:nvSpPr>
          <p:cNvPr id="565"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ary data is relatively easy to access; primary data is more complex.</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6" name="Picture 2" descr=""/>
          <p:cNvPicPr/>
          <p:nvPr/>
        </p:nvPicPr>
        <p:blipFill>
          <a:blip r:embed="rId1"/>
          <a:stretch/>
        </p:blipFill>
        <p:spPr>
          <a:xfrm>
            <a:off x="5943600" y="3124080"/>
            <a:ext cx="2781360" cy="3353040"/>
          </a:xfrm>
          <a:prstGeom prst="rect">
            <a:avLst/>
          </a:prstGeom>
          <a:ln w="0">
            <a:noFill/>
          </a:ln>
        </p:spPr>
      </p:pic>
      <p:sp>
        <p:nvSpPr>
          <p:cNvPr id="567" name="TextBox 5"/>
          <p:cNvSpPr/>
          <p:nvPr/>
        </p:nvSpPr>
        <p:spPr>
          <a:xfrm>
            <a:off x="2133720" y="3429000"/>
            <a:ext cx="3429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thods of accessing data vary around the globe </a:t>
            </a:r>
            <a:endParaRPr b="0" lang="en-US" sz="2800" spc="-1" strike="noStrike">
              <a:solidFill>
                <a:srgbClr val="000000"/>
              </a:solidFill>
              <a:latin typeface="Arial"/>
            </a:endParaRPr>
          </a:p>
        </p:txBody>
      </p:sp>
      <p:sp>
        <p:nvSpPr>
          <p:cNvPr id="568"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6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9BDBDC8D-05C1-4A56-80A1-C3403280D3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0" name="TextBox 8"/>
          <p:cNvSpPr/>
          <p:nvPr/>
        </p:nvSpPr>
        <p:spPr>
          <a:xfrm>
            <a:off x="4658400" y="586728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Figur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6: Determine Methods of Accessing Data</a:t>
            </a:r>
            <a:endParaRPr b="0" lang="en-US" sz="3600" spc="-1" strike="noStrike">
              <a:solidFill>
                <a:srgbClr val="000000"/>
              </a:solidFill>
              <a:latin typeface="Calibri"/>
            </a:endParaRPr>
          </a:p>
        </p:txBody>
      </p:sp>
      <p:sp>
        <p:nvSpPr>
          <p:cNvPr id="572"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ree main choices for primary data:</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ave a person ask question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 computer-assisted or direct questioning</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llow respondents to answer questions themselves without computer assist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5BAF7B7D-0F03-49BD-93F9-F0964C7FE1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7: Design Data </a:t>
            </a:r>
            <a:br>
              <a:rPr sz="3600"/>
            </a:br>
            <a:r>
              <a:rPr b="0" lang="en-US" sz="3600" spc="-1" strike="noStrike">
                <a:solidFill>
                  <a:srgbClr val="000000"/>
                </a:solidFill>
                <a:latin typeface="Trebuchet MS"/>
              </a:rPr>
              <a:t>Collection Forms</a:t>
            </a:r>
            <a:endParaRPr b="0" lang="en-US" sz="3600" spc="-1" strike="noStrike">
              <a:solidFill>
                <a:srgbClr val="000000"/>
              </a:solidFill>
              <a:latin typeface="Calibri"/>
            </a:endParaRPr>
          </a:p>
        </p:txBody>
      </p:sp>
      <p:sp>
        <p:nvSpPr>
          <p:cNvPr id="57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Questionnaire must be worded objectively, clearly, and without bias in order to communicate with respond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8916D10C-10FF-44A9-9293-4A31C8C715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7: Design Data </a:t>
            </a:r>
            <a:br>
              <a:rPr sz="3600"/>
            </a:br>
            <a:r>
              <a:rPr b="0" lang="en-US" sz="3600" spc="-1" strike="noStrike">
                <a:solidFill>
                  <a:srgbClr val="000000"/>
                </a:solidFill>
                <a:latin typeface="Trebuchet MS"/>
              </a:rPr>
              <a:t>Collection Forms</a:t>
            </a:r>
            <a:endParaRPr b="0" lang="en-US" sz="3600" spc="-1" strike="noStrike">
              <a:solidFill>
                <a:srgbClr val="000000"/>
              </a:solidFill>
              <a:latin typeface="Calibri"/>
            </a:endParaRPr>
          </a:p>
        </p:txBody>
      </p:sp>
      <p:sp>
        <p:nvSpPr>
          <p:cNvPr id="58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ftware programs are available to assist marketing researchers in preparing form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1" name="Picture 2" descr=""/>
          <p:cNvPicPr/>
          <p:nvPr/>
        </p:nvPicPr>
        <p:blipFill>
          <a:blip r:embed="rId1"/>
          <a:stretch/>
        </p:blipFill>
        <p:spPr>
          <a:xfrm>
            <a:off x="4800600" y="3200400"/>
            <a:ext cx="2809800" cy="3171960"/>
          </a:xfrm>
          <a:prstGeom prst="rect">
            <a:avLst/>
          </a:prstGeom>
          <a:ln w="0">
            <a:noFill/>
          </a:ln>
        </p:spPr>
      </p:pic>
      <p:sp>
        <p:nvSpPr>
          <p:cNvPr id="58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8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FDFEB469-B8B5-4BF0-A53F-AF38DA3A4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8: Determine Sample </a:t>
            </a:r>
            <a:br>
              <a:rPr sz="3600"/>
            </a:br>
            <a:r>
              <a:rPr b="0" lang="en-US" sz="3600" spc="-1" strike="noStrike">
                <a:solidFill>
                  <a:srgbClr val="000000"/>
                </a:solidFill>
                <a:latin typeface="Trebuchet MS"/>
              </a:rPr>
              <a:t>Plan and Size</a:t>
            </a:r>
            <a:endParaRPr b="0" lang="en-US" sz="3600" spc="-1" strike="noStrike">
              <a:solidFill>
                <a:srgbClr val="000000"/>
              </a:solidFill>
              <a:latin typeface="Calibri"/>
            </a:endParaRPr>
          </a:p>
        </p:txBody>
      </p:sp>
      <p:sp>
        <p:nvSpPr>
          <p:cNvPr id="585"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ample plan refers to the process used to select units from the population to be included in the sample.  Gives you representativen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B4C9DA20-81EF-43DD-A064-C9E8A409A9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8: Determine Sample </a:t>
            </a:r>
            <a:br>
              <a:rPr sz="3600"/>
            </a:br>
            <a:r>
              <a:rPr b="0" lang="en-US" sz="3600" spc="-1" strike="noStrike">
                <a:solidFill>
                  <a:srgbClr val="000000"/>
                </a:solidFill>
                <a:latin typeface="Trebuchet MS"/>
              </a:rPr>
              <a:t>Plan and Size</a:t>
            </a:r>
            <a:endParaRPr b="0" lang="en-US" sz="3600" spc="-1" strike="noStrike">
              <a:solidFill>
                <a:srgbClr val="000000"/>
              </a:solidFill>
              <a:latin typeface="Calibri"/>
            </a:endParaRPr>
          </a:p>
        </p:txBody>
      </p:sp>
      <p:sp>
        <p:nvSpPr>
          <p:cNvPr id="589"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ample size refers to determining how many elements of the population should be included in the sample.  Gives you accurac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71373DA-308B-431B-9065-27E8B9DBC4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Marketing Research Process</a:t>
            </a:r>
            <a:endParaRPr b="0" lang="en-US" sz="4000" spc="-1" strike="noStrike">
              <a:solidFill>
                <a:srgbClr val="000000"/>
              </a:solidFill>
              <a:latin typeface="Calibri"/>
            </a:endParaRPr>
          </a:p>
        </p:txBody>
      </p:sp>
      <p:pic>
        <p:nvPicPr>
          <p:cNvPr id="507" name="Picture 2" descr=""/>
          <p:cNvPicPr/>
          <p:nvPr/>
        </p:nvPicPr>
        <p:blipFill>
          <a:blip r:embed="rId1"/>
          <a:stretch/>
        </p:blipFill>
        <p:spPr>
          <a:xfrm>
            <a:off x="1600200" y="1119240"/>
            <a:ext cx="6602400" cy="5205240"/>
          </a:xfrm>
          <a:prstGeom prst="rect">
            <a:avLst/>
          </a:prstGeom>
          <a:ln w="0">
            <a:noFill/>
          </a:ln>
        </p:spPr>
      </p:pic>
      <p:sp>
        <p:nvSpPr>
          <p:cNvPr id="5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56909BB9-416E-495B-87CC-8D4A64A150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9: Collect Data</a:t>
            </a:r>
            <a:endParaRPr b="0" lang="en-US" sz="4000" spc="-1" strike="noStrike">
              <a:solidFill>
                <a:srgbClr val="000000"/>
              </a:solidFill>
              <a:latin typeface="Calibri"/>
            </a:endParaRPr>
          </a:p>
        </p:txBody>
      </p:sp>
      <p:sp>
        <p:nvSpPr>
          <p:cNvPr id="593"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ata collection is very important because, regardless of the data analysis methods used, data analysis cannot fix bad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nsampling errors may occur during data collec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29A427FC-250C-4CCE-9797-5C736F556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9: Collect Data</a:t>
            </a:r>
            <a:endParaRPr b="0" lang="en-US" sz="4000" spc="-1" strike="noStrike">
              <a:solidFill>
                <a:srgbClr val="000000"/>
              </a:solidFill>
              <a:latin typeface="Calibri"/>
            </a:endParaRPr>
          </a:p>
        </p:txBody>
      </p:sp>
      <p:sp>
        <p:nvSpPr>
          <p:cNvPr id="597" name=""/>
          <p:cNvSpPr txBox="1"/>
          <p:nvPr/>
        </p:nvSpPr>
        <p:spPr>
          <a:xfrm>
            <a:off x="914400" y="1676520"/>
            <a:ext cx="77724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ata collection errors may be attributed to field workers or respond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ers must know the sources of these errors and the controls to minimize the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081CB2EC-A645-4410-ACDC-27C6626F3D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10: Analyze Data</a:t>
            </a:r>
            <a:endParaRPr b="0" lang="en-US" sz="4000" spc="-1" strike="noStrike">
              <a:solidFill>
                <a:srgbClr val="000000"/>
              </a:solidFill>
              <a:latin typeface="Calibri"/>
            </a:endParaRPr>
          </a:p>
        </p:txBody>
      </p:sp>
      <p:sp>
        <p:nvSpPr>
          <p:cNvPr id="601"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ata analysis involves entering data into computer files, inspecting data for errors, and running tabulations and various statistical tests.</a:t>
            </a:r>
            <a:endParaRPr b="0" lang="en-US" sz="3200" spc="-1" strike="noStrike">
              <a:solidFill>
                <a:srgbClr val="000000"/>
              </a:solidFill>
              <a:latin typeface="Calibri"/>
            </a:endParaRPr>
          </a:p>
        </p:txBody>
      </p:sp>
      <p:pic>
        <p:nvPicPr>
          <p:cNvPr id="602" name="Picture 2" descr=""/>
          <p:cNvPicPr/>
          <p:nvPr/>
        </p:nvPicPr>
        <p:blipFill>
          <a:blip r:embed="rId1"/>
          <a:stretch/>
        </p:blipFill>
        <p:spPr>
          <a:xfrm>
            <a:off x="3200400" y="4419720"/>
            <a:ext cx="3048120" cy="1619280"/>
          </a:xfrm>
          <a:prstGeom prst="rect">
            <a:avLst/>
          </a:prstGeom>
          <a:ln w="0">
            <a:noFill/>
          </a:ln>
        </p:spPr>
      </p:pic>
      <p:sp>
        <p:nvSpPr>
          <p:cNvPr id="60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0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A228E0C5-3217-4810-A2A4-49FA49AFBF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10: Analyze Data</a:t>
            </a:r>
            <a:endParaRPr b="0" lang="en-US" sz="4000" spc="-1" strike="noStrike">
              <a:solidFill>
                <a:srgbClr val="000000"/>
              </a:solidFill>
              <a:latin typeface="Calibri"/>
            </a:endParaRPr>
          </a:p>
        </p:txBody>
      </p:sp>
      <p:sp>
        <p:nvSpPr>
          <p:cNvPr id="60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ata cleaning is a process by which raw data are checked to verify that the data have been correctly inputted from the data collection form to the computer software program.</a:t>
            </a:r>
            <a:endParaRPr b="0" lang="en-US" sz="3200" spc="-1" strike="noStrike">
              <a:solidFill>
                <a:srgbClr val="000000"/>
              </a:solidFill>
              <a:latin typeface="Calibri"/>
            </a:endParaRPr>
          </a:p>
        </p:txBody>
      </p:sp>
      <p:sp>
        <p:nvSpPr>
          <p:cNvPr id="6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86A9EC4C-71D4-4FC9-BF92-237EFC46A5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1: Prepare and Present the Final Research Report</a:t>
            </a:r>
            <a:endParaRPr b="0" lang="en-US" sz="3600" spc="-1" strike="noStrike">
              <a:solidFill>
                <a:srgbClr val="000000"/>
              </a:solidFill>
              <a:latin typeface="Calibri"/>
            </a:endParaRPr>
          </a:p>
        </p:txBody>
      </p:sp>
      <p:sp>
        <p:nvSpPr>
          <p:cNvPr id="61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last step is one of the most important phases of marketing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s importance cannot be overstated because it is the report, or its presentation, that properly communicates the results to the cli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6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D550485D-57B9-43C7-9724-A167ED9472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4"/>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5" descr="cid:3287383400_2177562"/>
          <p:cNvPicPr/>
          <p:nvPr/>
        </p:nvPicPr>
        <p:blipFill>
          <a:blip r:embed="rId1"/>
          <a:stretch/>
        </p:blipFill>
        <p:spPr>
          <a:xfrm>
            <a:off x="343080" y="985680"/>
            <a:ext cx="8422920" cy="2748240"/>
          </a:xfrm>
          <a:prstGeom prst="rect">
            <a:avLst/>
          </a:prstGeom>
          <a:ln w="9360">
            <a:solidFill>
              <a:srgbClr val="ffffff"/>
            </a:solidFill>
            <a:miter/>
          </a:ln>
        </p:spPr>
      </p:pic>
      <p:sp>
        <p:nvSpPr>
          <p:cNvPr id="615"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16" name="Rectangle 5"/>
          <p:cNvSpPr/>
          <p:nvPr/>
        </p:nvSpPr>
        <p:spPr>
          <a:xfrm>
            <a:off x="685800" y="533412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pyright © 2010 Pearson Education, Inc. </a:t>
            </a:r>
            <a:endParaRPr b="0" lang="en-US" sz="1800" spc="-1" strike="noStrike">
              <a:solidFill>
                <a:srgbClr val="000000"/>
              </a:solidFill>
              <a:latin typeface="Arial"/>
            </a:endParaRPr>
          </a:p>
        </p:txBody>
      </p:sp>
      <p:sp>
        <p:nvSpPr>
          <p:cNvPr id="617"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84243525-15CA-416C-A5F2-9C4B65CAD5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s in the </a:t>
            </a:r>
            <a:br>
              <a:rPr sz="3600"/>
            </a:br>
            <a:r>
              <a:rPr b="0" lang="en-US" sz="3600" spc="-1" strike="noStrike">
                <a:solidFill>
                  <a:srgbClr val="000000"/>
                </a:solidFill>
                <a:latin typeface="Trebuchet MS"/>
              </a:rPr>
              <a:t>Marketing Research Process</a:t>
            </a:r>
            <a:endParaRPr b="0" lang="en-US" sz="3600" spc="-1" strike="noStrike">
              <a:solidFill>
                <a:srgbClr val="000000"/>
              </a:solidFill>
              <a:latin typeface="Calibri"/>
            </a:endParaRPr>
          </a:p>
        </p:txBody>
      </p:sp>
      <p:sp>
        <p:nvSpPr>
          <p:cNvPr id="511" name=""/>
          <p:cNvSpPr txBox="1"/>
          <p:nvPr/>
        </p:nvSpPr>
        <p:spPr>
          <a:xfrm>
            <a:off x="1600200" y="1676520"/>
            <a:ext cx="4191120" cy="50292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p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 Establish Nee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 Define Proble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3 Research Objective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 Determine Desig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 Identify Information Sourc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6 Decide Data Collection Method</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7 Design Questionnai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8 Determine Sample Plan &amp; Siz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9 Collect Dat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0 Analyze Dat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1 Write and Present Repo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2" name="AutoShape 8"/>
          <p:cNvSpPr/>
          <p:nvPr/>
        </p:nvSpPr>
        <p:spPr>
          <a:xfrm>
            <a:off x="4343400" y="1981080"/>
            <a:ext cx="457200" cy="914400"/>
          </a:xfrm>
          <a:custGeom>
            <a:avLst/>
            <a:gdLst>
              <a:gd name="textAreaLeft" fmla="*/ 0 w 457200"/>
              <a:gd name="textAreaRight" fmla="*/ 164880 w 4572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9"/>
          <p:cNvSpPr/>
          <p:nvPr/>
        </p:nvSpPr>
        <p:spPr>
          <a:xfrm>
            <a:off x="5486400" y="3276720"/>
            <a:ext cx="457200" cy="1447560"/>
          </a:xfrm>
          <a:custGeom>
            <a:avLst/>
            <a:gdLst>
              <a:gd name="textAreaLeft" fmla="*/ 0 w 457200"/>
              <a:gd name="textAreaRight" fmla="*/ 164880 w 457200"/>
              <a:gd name="textAreaTop" fmla="*/ 35640 h 1447560"/>
              <a:gd name="textAreaBottom" fmla="*/ 1411920 h 1447560"/>
            </a:gdLst>
            <a:ahLst/>
            <a:rect l="textAreaLeft" t="textAreaTop" r="textAreaRight" b="textAreaBottom"/>
            <a:pathLst>
              <a:path w="21600" h="21600">
                <a:moveTo>
                  <a:pt x="0" y="0"/>
                </a:moveTo>
                <a:cubicBezTo>
                  <a:pt x="5400" y="0"/>
                  <a:pt x="10800" y="853"/>
                  <a:pt x="10800" y="1705"/>
                </a:cubicBezTo>
                <a:lnTo>
                  <a:pt x="10800" y="9095"/>
                </a:lnTo>
                <a:cubicBezTo>
                  <a:pt x="10800" y="9948"/>
                  <a:pt x="16200" y="10800"/>
                  <a:pt x="21600" y="10800"/>
                </a:cubicBezTo>
                <a:cubicBezTo>
                  <a:pt x="16200" y="10800"/>
                  <a:pt x="10800" y="11653"/>
                  <a:pt x="10800" y="12505"/>
                </a:cubicBezTo>
                <a:lnTo>
                  <a:pt x="10800" y="19895"/>
                </a:lnTo>
                <a:cubicBezTo>
                  <a:pt x="10800" y="20748"/>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0"/>
          <p:cNvSpPr/>
          <p:nvPr/>
        </p:nvSpPr>
        <p:spPr>
          <a:xfrm>
            <a:off x="3809880" y="4876920"/>
            <a:ext cx="457200" cy="609480"/>
          </a:xfrm>
          <a:custGeom>
            <a:avLst/>
            <a:gdLst>
              <a:gd name="textAreaLeft" fmla="*/ 0 w 457200"/>
              <a:gd name="textAreaRight" fmla="*/ 164880 w 4572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1"/>
          <p:cNvSpPr/>
          <p:nvPr/>
        </p:nvSpPr>
        <p:spPr>
          <a:xfrm>
            <a:off x="4952880" y="563868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
          <p:cNvSpPr/>
          <p:nvPr/>
        </p:nvSpPr>
        <p:spPr>
          <a:xfrm>
            <a:off x="5029200" y="1905120"/>
            <a:ext cx="2514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gure out what to research (Chapters 2 &amp; 4)</a:t>
            </a:r>
            <a:endParaRPr b="0" lang="en-US" sz="2000" spc="-1" strike="noStrike">
              <a:solidFill>
                <a:srgbClr val="000000"/>
              </a:solidFill>
              <a:latin typeface="Arial"/>
            </a:endParaRPr>
          </a:p>
        </p:txBody>
      </p:sp>
      <p:sp>
        <p:nvSpPr>
          <p:cNvPr id="517" name="Text Box 5"/>
          <p:cNvSpPr/>
          <p:nvPr/>
        </p:nvSpPr>
        <p:spPr>
          <a:xfrm>
            <a:off x="6172200" y="35053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the way to do the research (Chapters 5-13)</a:t>
            </a:r>
            <a:endParaRPr b="0" lang="en-US" sz="2000" spc="-1" strike="noStrike">
              <a:solidFill>
                <a:srgbClr val="000000"/>
              </a:solidFill>
              <a:latin typeface="Arial"/>
            </a:endParaRPr>
          </a:p>
        </p:txBody>
      </p:sp>
      <p:sp>
        <p:nvSpPr>
          <p:cNvPr id="518" name="Text Box 6"/>
          <p:cNvSpPr/>
          <p:nvPr/>
        </p:nvSpPr>
        <p:spPr>
          <a:xfrm>
            <a:off x="4495680" y="48006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ather data from respondents  (Chapter 14)</a:t>
            </a:r>
            <a:endParaRPr b="0" lang="en-US" sz="2000" spc="-1" strike="noStrike">
              <a:solidFill>
                <a:srgbClr val="000000"/>
              </a:solidFill>
              <a:latin typeface="Arial"/>
            </a:endParaRPr>
          </a:p>
        </p:txBody>
      </p:sp>
      <p:sp>
        <p:nvSpPr>
          <p:cNvPr id="519" name="Text Box 7"/>
          <p:cNvSpPr/>
          <p:nvPr/>
        </p:nvSpPr>
        <p:spPr>
          <a:xfrm>
            <a:off x="5791320" y="5486400"/>
            <a:ext cx="2895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erate findings and interpret them (Chapters 15-20)</a:t>
            </a:r>
            <a:endParaRPr b="0" lang="en-US" sz="2000" spc="-1" strike="noStrike">
              <a:solidFill>
                <a:srgbClr val="000000"/>
              </a:solidFill>
              <a:latin typeface="Arial"/>
            </a:endParaRPr>
          </a:p>
        </p:txBody>
      </p:sp>
      <p:sp>
        <p:nvSpPr>
          <p:cNvPr id="520" name="Footer Placeholder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21"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61C6AD62-E594-4854-AA6F-B61036BFCE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0"/>
                                          </p:stCondLst>
                                        </p:cTn>
                                        <p:tgtEl>
                                          <p:spTgt spid="512"/>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
                                  <p:stCondLst>
                                    <p:cond delay="0"/>
                                  </p:stCondLst>
                                  <p:childTnLst>
                                    <p:set>
                                      <p:cBhvr>
                                        <p:cTn id="9" dur="1" fill="hold">
                                          <p:stCondLst>
                                            <p:cond delay="0"/>
                                          </p:stCondLst>
                                        </p:cTn>
                                        <p:tgtEl>
                                          <p:spTgt spid="513"/>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0"/>
                                          </p:stCondLst>
                                        </p:cTn>
                                        <p:tgtEl>
                                          <p:spTgt spid="514"/>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0"/>
                                  </p:stCondLst>
                                  <p:childTnLst>
                                    <p:set>
                                      <p:cBhvr>
                                        <p:cTn id="15" dur="1" fill="hold">
                                          <p:stCondLst>
                                            <p:cond delay="0"/>
                                          </p:stCondLst>
                                        </p:cTn>
                                        <p:tgtEl>
                                          <p:spTgt spid="515"/>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16"/>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517"/>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18"/>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aveats: </a:t>
            </a:r>
            <a:br>
              <a:rPr sz="3600"/>
            </a:br>
            <a:r>
              <a:rPr b="0" lang="en-US" sz="3600" spc="-1" strike="noStrike">
                <a:solidFill>
                  <a:srgbClr val="000000"/>
                </a:solidFill>
                <a:latin typeface="Trebuchet MS"/>
              </a:rPr>
              <a:t>The Marketing Research Process</a:t>
            </a:r>
            <a:endParaRPr b="0" lang="en-US" sz="3600" spc="-1" strike="noStrike">
              <a:solidFill>
                <a:srgbClr val="000000"/>
              </a:solidFill>
              <a:latin typeface="Calibri"/>
            </a:endParaRPr>
          </a:p>
        </p:txBody>
      </p:sp>
      <p:sp>
        <p:nvSpPr>
          <p:cNvPr id="523"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t always presented as an 11-step process </a:t>
            </a:r>
            <a:r>
              <a:rPr b="0" lang="en-US" sz="3200" spc="-1" strike="noStrike">
                <a:solidFill>
                  <a:srgbClr val="000000"/>
                </a:solidFill>
                <a:latin typeface="Trebuchet MS"/>
              </a:rPr>
              <a: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t all studies use all 11 step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You may be able to solve the </a:t>
            </a:r>
            <a:r>
              <a:rPr b="0" lang="en-US" sz="3200" spc="-1" strike="noStrike">
                <a:solidFill>
                  <a:srgbClr val="000000"/>
                </a:solidFill>
                <a:latin typeface="Trebuchet MS"/>
              </a:rPr>
              <a:t>	</a:t>
            </a:r>
            <a:r>
              <a:rPr b="0" lang="en-US" sz="3200" spc="-1" strike="noStrike">
                <a:solidFill>
                  <a:srgbClr val="000000"/>
                </a:solidFill>
                <a:latin typeface="Trebuchet MS"/>
              </a:rPr>
              <a:t>problem with secondary data, i.e. a </a:t>
            </a:r>
            <a:r>
              <a:rPr b="0" lang="en-US" sz="3200" spc="-1" strike="noStrike">
                <a:solidFill>
                  <a:srgbClr val="000000"/>
                </a:solidFill>
                <a:latin typeface="Trebuchet MS"/>
              </a:rPr>
              <a:t>	</a:t>
            </a:r>
            <a:r>
              <a:rPr b="0" lang="en-US" sz="3200" spc="-1" strike="noStrike">
                <a:solidFill>
                  <a:srgbClr val="000000"/>
                </a:solidFill>
                <a:latin typeface="Trebuchet MS"/>
              </a:rPr>
              <a:t>visit to the library or Goog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ew studies follow the steps in ord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10B6DB7B-6324-435B-A9B4-55C0373B26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 Establish the Need for Marketing Research</a:t>
            </a:r>
            <a:endParaRPr b="0" lang="en-US" sz="3600" spc="-1" strike="noStrike">
              <a:solidFill>
                <a:srgbClr val="000000"/>
              </a:solidFill>
              <a:latin typeface="Calibri"/>
            </a:endParaRPr>
          </a:p>
        </p:txBody>
      </p:sp>
      <p:sp>
        <p:nvSpPr>
          <p:cNvPr id="527" name=""/>
          <p:cNvSpPr txBox="1"/>
          <p:nvPr/>
        </p:nvSpPr>
        <p:spPr>
          <a:xfrm>
            <a:off x="914400" y="1676520"/>
            <a:ext cx="7772400" cy="444960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s there a real need for marketing research? </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search takes time and costs money.  </a:t>
            </a:r>
            <a:endParaRPr b="0" lang="en-US" sz="3200" spc="-1" strike="noStrike">
              <a:solidFill>
                <a:srgbClr val="000000"/>
              </a:solidFill>
              <a:latin typeface="Calibri"/>
            </a:endParaRPr>
          </a:p>
          <a:p>
            <a:pPr marL="341280" indent="-34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i="1" lang="en-US" sz="3200" spc="-1" strike="noStrike">
                <a:solidFill>
                  <a:srgbClr val="000000"/>
                </a:solidFill>
                <a:latin typeface="Trebuchet MS"/>
              </a:rPr>
              <a:t>Value of information v. Cost of information?</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9D3D3606-82AE-4918-B349-D32B4AA44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 Establish the Need for Marketing Research</a:t>
            </a:r>
            <a:endParaRPr b="0" lang="en-US" sz="3600" spc="-1" strike="noStrike">
              <a:solidFill>
                <a:srgbClr val="000000"/>
              </a:solidFill>
              <a:latin typeface="Calibri"/>
            </a:endParaRPr>
          </a:p>
        </p:txBody>
      </p:sp>
      <p:sp>
        <p:nvSpPr>
          <p:cNvPr id="531" name=""/>
          <p:cNvSpPr txBox="1"/>
          <p:nvPr/>
        </p:nvSpPr>
        <p:spPr>
          <a:xfrm>
            <a:off x="914400" y="1676520"/>
            <a:ext cx="7772400" cy="444960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s there a real need for marketing research? </a:t>
            </a:r>
            <a:endParaRPr b="0" lang="en-US" sz="32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rketing research is not always needed.</a:t>
            </a:r>
            <a:endParaRPr b="0" lang="en-US" sz="3200" spc="-1" strike="noStrike">
              <a:solidFill>
                <a:srgbClr val="000000"/>
              </a:solidFill>
              <a:latin typeface="Calibri"/>
            </a:endParaRPr>
          </a:p>
          <a:p>
            <a:pPr marL="341280" indent="-34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	</a:t>
            </a:r>
            <a:r>
              <a:rPr b="0" i="1" lang="en-US" sz="3200" spc="-1" strike="noStrike">
                <a:solidFill>
                  <a:srgbClr val="000000"/>
                </a:solidFill>
                <a:latin typeface="Trebuchet MS"/>
              </a:rPr>
              <a:t>We often have the information</a:t>
            </a:r>
            <a:endParaRPr b="0" lang="en-US" sz="3200" spc="-1" strike="noStrike">
              <a:solidFill>
                <a:srgbClr val="000000"/>
              </a:solidFill>
              <a:latin typeface="Calibri"/>
            </a:endParaRPr>
          </a:p>
        </p:txBody>
      </p:sp>
      <p:pic>
        <p:nvPicPr>
          <p:cNvPr id="532" name="Picture 2" descr=""/>
          <p:cNvPicPr/>
          <p:nvPr/>
        </p:nvPicPr>
        <p:blipFill>
          <a:blip r:embed="rId1"/>
          <a:stretch/>
        </p:blipFill>
        <p:spPr>
          <a:xfrm>
            <a:off x="7162920" y="3581280"/>
            <a:ext cx="1752480" cy="2691000"/>
          </a:xfrm>
          <a:prstGeom prst="rect">
            <a:avLst/>
          </a:prstGeom>
          <a:ln w="0">
            <a:noFill/>
          </a:ln>
        </p:spPr>
      </p:pic>
      <p:sp>
        <p:nvSpPr>
          <p:cNvPr id="53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3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9D61BD41-044D-4426-9767-4B7F550DFC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 Establish the Need for Marketing Research</a:t>
            </a:r>
            <a:endParaRPr b="0" lang="en-US" sz="3600" spc="-1" strike="noStrike">
              <a:solidFill>
                <a:srgbClr val="000000"/>
              </a:solidFill>
              <a:latin typeface="Calibri"/>
            </a:endParaRPr>
          </a:p>
        </p:txBody>
      </p:sp>
      <p:sp>
        <p:nvSpPr>
          <p:cNvPr id="536"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en is marketing research NOT needed?</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information is already availabl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cisions must be made now.</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e can’t afford research.</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sts outweigh the value of marketing research.</a:t>
            </a:r>
            <a:endParaRPr b="0" lang="en-US" sz="3200" spc="-1" strike="noStrike">
              <a:solidFill>
                <a:srgbClr val="000000"/>
              </a:solidFill>
              <a:latin typeface="Calibri"/>
            </a:endParaRPr>
          </a:p>
        </p:txBody>
      </p:sp>
      <p:sp>
        <p:nvSpPr>
          <p:cNvPr id="5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14C1B671-EB1F-4B35-A196-AA2F08EA0E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2: Define the Problem</a:t>
            </a:r>
            <a:endParaRPr b="0" lang="en-US" sz="4000" spc="-1" strike="noStrike">
              <a:solidFill>
                <a:srgbClr val="000000"/>
              </a:solidFill>
              <a:latin typeface="Calibri"/>
            </a:endParaRPr>
          </a:p>
        </p:txBody>
      </p:sp>
      <p:sp>
        <p:nvSpPr>
          <p:cNvPr id="540"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is the most important of the 11 steps (assuming we’ve decided to do marketing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f the problem is incorrectly defined, all else is wasted effo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blems may be either specific or gener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3B3F905E-D9B9-4BE1-8E1F-3A2EE15D6C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2: Define the Problem</a:t>
            </a:r>
            <a:endParaRPr b="0" lang="en-US" sz="4000" spc="-1" strike="noStrike">
              <a:solidFill>
                <a:srgbClr val="000000"/>
              </a:solidFill>
              <a:latin typeface="Calibri"/>
            </a:endParaRPr>
          </a:p>
        </p:txBody>
      </p:sp>
      <p:sp>
        <p:nvSpPr>
          <p:cNvPr id="544" name=""/>
          <p:cNvSpPr txBox="1"/>
          <p:nvPr/>
        </p:nvSpPr>
        <p:spPr>
          <a:xfrm>
            <a:off x="914400" y="1676520"/>
            <a:ext cx="7772400" cy="4449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Problems stem from gaps between what is </a:t>
            </a:r>
            <a:r>
              <a:rPr b="0" lang="en-US" sz="3200" spc="-1" strike="noStrike" u="sng">
                <a:solidFill>
                  <a:srgbClr val="000000"/>
                </a:solidFill>
                <a:uFillTx/>
                <a:latin typeface="Trebuchet MS"/>
              </a:rPr>
              <a:t>supposed</a:t>
            </a:r>
            <a:r>
              <a:rPr b="0" lang="en-US" sz="3200" spc="-1" strike="noStrike">
                <a:solidFill>
                  <a:srgbClr val="000000"/>
                </a:solidFill>
                <a:latin typeface="Trebuchet MS"/>
              </a:rPr>
              <a:t> to happen and what </a:t>
            </a:r>
            <a:r>
              <a:rPr b="0" lang="en-US" sz="3200" spc="-1" strike="noStrike" u="sng">
                <a:solidFill>
                  <a:srgbClr val="000000"/>
                </a:solidFill>
                <a:uFillTx/>
                <a:latin typeface="Trebuchet MS"/>
              </a:rPr>
              <a:t>did</a:t>
            </a:r>
            <a:r>
              <a:rPr b="0" lang="en-US" sz="3200" spc="-1" strike="noStrike">
                <a:solidFill>
                  <a:srgbClr val="000000"/>
                </a:solidFill>
                <a:latin typeface="Trebuchet MS"/>
              </a:rPr>
              <a:t> happen and gaps between what </a:t>
            </a:r>
            <a:r>
              <a:rPr b="0" lang="en-US" sz="3200" spc="-1" strike="noStrike" u="sng">
                <a:solidFill>
                  <a:srgbClr val="000000"/>
                </a:solidFill>
                <a:uFillTx/>
                <a:latin typeface="Trebuchet MS"/>
              </a:rPr>
              <a:t>did</a:t>
            </a:r>
            <a:r>
              <a:rPr b="0" lang="en-US" sz="3200" spc="-1" strike="noStrike">
                <a:solidFill>
                  <a:srgbClr val="000000"/>
                </a:solidFill>
                <a:latin typeface="Trebuchet MS"/>
              </a:rPr>
              <a:t> happen and what </a:t>
            </a:r>
            <a:r>
              <a:rPr b="0" lang="en-US" sz="3200" spc="-1" strike="noStrike" u="sng">
                <a:solidFill>
                  <a:srgbClr val="000000"/>
                </a:solidFill>
                <a:uFillTx/>
                <a:latin typeface="Trebuchet MS"/>
              </a:rPr>
              <a:t>could</a:t>
            </a:r>
            <a:r>
              <a:rPr b="0" lang="en-US" sz="3200" spc="-1" strike="noStrike">
                <a:solidFill>
                  <a:srgbClr val="000000"/>
                </a:solidFill>
                <a:latin typeface="Trebuchet MS"/>
              </a:rPr>
              <a:t> be happe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5" name="Picture 3" descr=""/>
          <p:cNvPicPr/>
          <p:nvPr/>
        </p:nvPicPr>
        <p:blipFill>
          <a:blip r:embed="rId1"/>
          <a:stretch/>
        </p:blipFill>
        <p:spPr>
          <a:xfrm>
            <a:off x="6019920" y="3886200"/>
            <a:ext cx="2306520" cy="2673360"/>
          </a:xfrm>
          <a:prstGeom prst="rect">
            <a:avLst/>
          </a:prstGeom>
          <a:ln w="0">
            <a:noFill/>
          </a:ln>
        </p:spPr>
      </p:pic>
      <p:sp>
        <p:nvSpPr>
          <p:cNvPr id="54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0 Pearson Education, Inc.</a:t>
            </a:r>
            <a:endParaRPr b="0" lang="en-US" sz="1200" spc="-1" strike="noStrike">
              <a:solidFill>
                <a:srgbClr val="000000"/>
              </a:solidFill>
              <a:latin typeface="Arial"/>
            </a:endParaRPr>
          </a:p>
        </p:txBody>
      </p:sp>
      <p:sp>
        <p:nvSpPr>
          <p:cNvPr id="5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a:t>
            </a:r>
            <a:fld id="{9A49F97C-ADE4-4416-8B07-BD96F852ED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5:32:56Z</dcterms:created>
  <dc:creator>Heather</dc:creator>
  <dc:description/>
  <dc:language>en-US</dc:language>
  <cp:lastModifiedBy>elizwaln</cp:lastModifiedBy>
  <dcterms:modified xsi:type="dcterms:W3CDTF">2009-11-13T16:46:17Z</dcterms:modified>
  <cp:revision>47</cp:revision>
  <dc:subject/>
  <dc:title>Slide 1</dc:title>
</cp:coreProperties>
</file>