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5589-5485-4387-B380-6FB6B635A7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167F-0513-42A5-ADCC-BC08EB498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6213-B4FD-41F2-BA2D-CAB6AB979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683D-653C-435D-807A-FD032F4FC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A8C2-0498-4F91-8C3F-90EEBCE92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88A8-DAEE-479A-8F9E-0B2160239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B290-655D-4755-B28A-85ACFE112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6E0C-D110-41D4-9531-E52F3DF00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5415-60D0-4376-99CF-1DAD7BD9D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8475-1579-48F7-9165-8A3727C6B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CAFF-7C17-4443-A3EB-7186C760E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A8AA-58E7-4844-9910-5121F08DD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8CB9-B455-45B5-B6CC-A9EFADFEC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687A-2EFD-468D-8D7A-D2AFD687A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B291-C037-451D-9715-A5150BC26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A8D4-5F1A-4DCA-AA82-B6D6EE9B8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BF25-D68C-4BEE-BEF5-05D37B259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DF1-BE53-4334-8FF6-F022D5142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FECA-3493-42A1-9A75-CEF0DDC3E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E9E-EC3F-485A-9633-27552AEAB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98B4-EB2C-46F2-8F2C-C8680DEA3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9B2E-758C-4480-8BA7-1981F36E2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6518-A604-4DE4-9E8A-898DA3A13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0426-2FE1-4C88-A302-AA08538AA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2D7C-0A01-4617-ADAC-B608365DF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7916-6FC0-4D7A-8668-0C67F575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2368-0DA5-41DD-8A9E-E87050DC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4E6D9-D615-4B2A-ADE7-627FF88F6A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C62AEA-F26A-4C81-B9C7-931FE8D37F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4876A4-BD80-48BE-93E2-9D9F55B85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60000-2E52-48F0-AFFE-8AAFD2FB0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80BDB-F727-472D-BD18-A14AF508E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3F7FE-A2D7-4570-A38A-25F498379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F1870-7FD3-42C5-8AF1-64C2C5D9F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067481-1FEF-4F0E-83B3-632A94DF36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15FFB2-2700-41E2-ADCC-C68BEEBEBB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12C16E-3523-4980-A568-EACC0A51C7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7275C-8815-4334-B940-6B5566F88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C45316-1C3A-4F09-96D4-67165782BD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73C293-7311-429F-AFDC-C3A30090AE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81ED6F-869A-4861-B2A3-0468FB90B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9BF676-6620-4665-97AD-6CEF5C0824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9EEA54-CEA3-4366-8ADA-80385BDD9C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8B87C8-12F2-4E07-85AC-978D87827D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8C6C57-22CF-4914-A859-74A1ED7540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3BC67A-92BE-465E-842E-EA335423A3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2AA86D-42E6-4EA7-9AAB-1F164C4D14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717AB5-260A-46AA-AD01-38785223E6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2461A-E547-4BF7-9683-D9DD5FB7F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D63BA9-026F-45A1-BBB3-5C6A0B45C3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9A633B-6018-43A4-B1FE-BE0D655AED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CFA8DE-3C30-439C-AF2C-52D3A9F055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613790-A263-463B-8F49-9FDBBB13B2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08A110-A6D5-4EEC-A466-100F92893F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9B2212-0CE3-4D7F-86FE-8CC056C97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116E62-52E9-4C7D-A2F3-85B03D6AF9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1759AB-7846-439F-95F2-3F63F4BED1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B2420F-D3C1-4B5C-9BFE-B3F9987F88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F74206-8162-4CB8-85DB-A36ED4C334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BDD0B-6075-4F02-A5A6-2689E93EB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F351C2-6B4B-46B8-9EEA-39BE83570B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C3CA41-6271-4F8B-B0B2-B6D78A5C95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3149E6-692A-4984-9556-64270A56EE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5E0489-309B-48B1-81F4-01B75DB70A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28F88E-05B5-427F-9DB9-249C6AF1EE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D8FA8C-600D-4F74-BA73-A5EA19CCA9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81C0B7-411A-4004-9BFC-726424FD0A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819902-7F13-419D-ACC8-00E9ABED07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05EF56-F9B0-4E04-91CA-75B94B1391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1E325D-D66B-44E7-BC96-643FF23DA0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A81B2-A70E-410C-A978-C41D2FB5D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240652-66F2-46F5-AD43-BFE08808BC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450B7C-9D70-41EF-A7DF-21BC83FA20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87EC59-2C34-475F-A5AD-9B88473046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5E6F3D-6E91-431C-94B4-895015DAA7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785BD3-ACBB-415D-B19D-454F659A4D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24A5F-1BBA-41FE-83BF-F735DE8F0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A1087-07C3-498D-944D-0868AC5C9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9D17D-F9FF-4D5E-80C8-BBFFD7149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F1CEB-B48A-47A8-B101-ED4A644F6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BA953-2C38-4AC8-8A3D-8FF3B0D03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F954E-8185-46F5-9D84-0603645D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564D-ED16-4C20-B238-77AC258B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F163-0FCF-4D9B-BA94-8E68473D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00C87-EA0C-4EEA-85CA-4D271C173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83DAA-3B36-48BD-96C9-25E816924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9E0B7-634F-4636-BF0A-09DD23FB5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D763E-8778-4FD3-AE35-AC029E7FB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8D91B-809B-4B22-9DAA-4C077E805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C26FA-6FF6-451E-A047-646D74E21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EC9FB-77F9-444C-AFD6-BA747916D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6CD7C-77EA-4AE3-BC11-2522D5144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23A5-0869-4ED1-8262-D252C07A0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23158-F61B-419B-A78C-F44934386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69482-FBCB-48C2-871C-68CDA0E86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0BFD0-0390-465D-A468-3512D286F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A6A99-4AC2-4CF2-9CEA-B5473E6E2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7519C-3823-4444-8D91-BE256CE4F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981B0-A611-4078-B182-D500B367E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30B07D-5D26-437E-B3B6-603FD9D293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C1DF95-11C1-4A56-8809-66AFEAB079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38FF9-8411-45EF-B0FB-183CAE112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C42AA-F86A-434F-BF4A-7074BA21C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7647-B405-45EA-B300-6FDB3690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684609-6EE1-41FB-BEB1-0993E0555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5C20D-0DF9-4684-BCE0-10C7AFE1B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0A261-BEEB-44F0-A346-EE860AD6A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DAD56-73D0-44F0-A30C-5DDFBDD93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95B9F-5575-48FA-9588-30B5CF6BC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E6720-716E-485F-BCFD-EB8323A64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EDC97-4A9B-42E6-860F-9453A2D6B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9A2A4D-6D4B-4E4D-A150-7E34A77EA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9719B-822D-418C-9739-73DB8CB1E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05F11-A7AA-4B39-8752-92D9FC1791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72FE-4B19-4745-ACEE-D754F6C2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C8BCB-B53E-4F7F-B7E7-B8A672D2A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6A2B7-1538-4ACD-B16D-8A19B697E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B2D90-748B-445A-A21C-E4249A1AD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E8A2B-0181-4039-95E6-A0CE0947F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B3854-F9D6-4FAB-8DD0-9309EC5C1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6D29D-3A34-4044-A3E7-CAF471DAA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6EA21-FC13-4FCB-8AAE-DF17021DF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66269-543A-46B8-90BF-E171B7BAE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5873A-BD78-4763-9106-5E4752210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355F7-8E3C-4A4F-93C2-526FE8BC3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A089-512C-4F17-B727-5DCF4F6A7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3CB94-EC7A-481F-8636-7AE28E0EC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A8F63-EC62-4EAB-9A70-AE727D57F5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1742E-7A03-42D0-9430-F4F7380558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EAF82-7D6F-4CDA-BDF0-47CBD21E7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57A843-DC5D-45F1-8573-E4CF27B48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A63C5-7D5C-41F4-B2E9-C7216A600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83A06-AFCB-4901-87FB-B8F916372A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62F33-52B0-4B3A-AB2B-160D21D87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0E28E-9D16-42FD-926D-BBE9B25CC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04990-2F41-41D4-9D56-4E7CDC0C2E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0A5C-1398-4A1C-9816-56AFB28F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B0CC4-710E-46EC-9FE0-9E93D9D02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262669-320B-4624-8C00-4E0410E332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C569F6-624C-4077-8A3D-DFE9A1CA0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9D8B9-060C-46CA-88FC-B7DDE0F04C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A8016-D28B-4846-B3F6-2702860B0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7BDF98-4C9E-4929-BFBA-19C1BE9B7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C2425-3125-45D4-A931-9102175EBE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A4C75-E5ED-4B92-88A0-E63214E2D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14E2A-E212-48EE-9E04-37FD150DD7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FA109-59F4-4339-8B83-823ABABA1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5ED8-79B4-4275-B0B3-C88908DC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E618B-8396-472E-9E9E-7D93A7F55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7DDF1-0BBB-45B5-8485-9A107F356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DDB872-B539-4AAB-A2A1-26C4939EB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9CA391-B932-47F8-BF0D-56BB5C107E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9C6335-FBB2-4753-B3E2-9A92970734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0CA74E-AD3E-4AAE-AD29-B742C75706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BD3B1-7E94-483A-9CF6-AC8D736A9E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15C82-0E90-4816-8608-77D4A71650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0B1EA-89AF-4939-BD84-52C1D4ED9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B4F44-D419-4360-BFBC-F988E17B83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769B-4E58-4FAF-9EC0-7125D958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DF4F8D-0CBB-4712-BBA7-CD6236CC8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4D421-676F-46B3-9CC0-A9C6FD65B0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BF05B-052C-4E75-8A84-7C387141A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4AD00-1116-4FEE-8D9D-F725F4D14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0486D-F6A0-4D4A-B73B-8674F68F6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FB4E82-D8F2-4BB1-93EB-9CF3CAE5BD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2AE0CF-8F59-4CA3-8CC6-4837E176B9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91DEBB-CC19-482C-AE4B-20F1E48A79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5716AF-18C7-4EB2-AEE3-0CDD4CD94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B8EBA-6033-456F-BC9E-0E904B8D8F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5396-1A02-47AF-B7DD-C44BDDCE97B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C670614-AB2C-44E8-B3CA-A509499C09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C6CB-88A1-4252-8444-C054BF8DD3E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E75B791-3A6C-4CE9-8A93-84F4AEA6BA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D4E3-DEF8-4F52-AE66-97BD80C2929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0FEBFB7F-BA88-4E4D-BEB5-8AC86DDD35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58A-3DFA-4D2A-87DF-9D85CC43759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1C9E5788-D05B-4A36-9BE4-D08B1C2EA9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99C3-F414-42A1-9923-F1EBCB92657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E49BDAC-A61F-41F8-AAAA-0DD543EC34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53B3-C452-4A1F-9D21-65D84A58455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6EEC75A4-6817-4915-B2DA-BD7C5124F1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BB1D-FC68-41C5-ADE9-3C1E641E116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DBFBBC5-86FA-49B8-BA9C-93F47C78A6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A909-DC8D-42A3-AE76-DB562614846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E09D013-E410-4005-AFE8-26D5FC8197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495F-4D1C-4D81-8B55-48FC987A0D6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E433D1CD-6AD4-4E0F-8C5C-E96AC9629B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93CF-D839-4E9D-AFE7-F447C9472CB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EF3DAA5A-E56F-4EAF-812A-67390AAD80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EEE7-776D-4745-AE1F-519485D0560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2EAD950A-6661-4C71-8BBC-ACBD23A08E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C926-A1DD-4B1D-804E-D09866C78B7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23E3F365-055F-4AEC-A483-D7F186834A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18" descr=""/>
          <p:cNvPicPr/>
          <p:nvPr/>
        </p:nvPicPr>
        <p:blipFill>
          <a:blip r:embed="rId1"/>
          <a:stretch/>
        </p:blipFill>
        <p:spPr>
          <a:xfrm>
            <a:off x="0" y="0"/>
            <a:ext cx="9144000" cy="3333600"/>
          </a:xfrm>
          <a:prstGeom prst="rect">
            <a:avLst/>
          </a:prstGeom>
          <a:ln w="0">
            <a:noFill/>
          </a:ln>
        </p:spPr>
      </p:pic>
      <p:pic>
        <p:nvPicPr>
          <p:cNvPr id="502" name="Picture 14" descr=""/>
          <p:cNvPicPr/>
          <p:nvPr/>
        </p:nvPicPr>
        <p:blipFill>
          <a:blip r:embed="rId2"/>
          <a:stretch/>
        </p:blipFill>
        <p:spPr>
          <a:xfrm>
            <a:off x="0" y="0"/>
            <a:ext cx="657360" cy="933480"/>
          </a:xfrm>
          <a:prstGeom prst="rect">
            <a:avLst/>
          </a:prstGeom>
          <a:ln w="0">
            <a:noFill/>
          </a:ln>
        </p:spPr>
      </p:pic>
      <p:pic>
        <p:nvPicPr>
          <p:cNvPr id="503" name="Picture 19" descr=""/>
          <p:cNvPicPr/>
          <p:nvPr/>
        </p:nvPicPr>
        <p:blipFill>
          <a:blip r:embed="rId3"/>
          <a:stretch/>
        </p:blipFill>
        <p:spPr>
          <a:xfrm>
            <a:off x="4924440" y="2971800"/>
            <a:ext cx="4219560" cy="3324240"/>
          </a:xfrm>
          <a:prstGeom prst="rect">
            <a:avLst/>
          </a:prstGeom>
          <a:ln w="0">
            <a:noFill/>
          </a:ln>
        </p:spPr>
      </p:pic>
      <p:sp>
        <p:nvSpPr>
          <p:cNvPr id="5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E94FD15-7D79-4B13-B613-933D3CFF5B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3: Establish Objectives</a:t>
            </a:r>
            <a:endParaRPr b="0" lang="en-US" sz="4000" spc="-1" strike="noStrike">
              <a:solidFill>
                <a:srgbClr val="000000"/>
              </a:solidFill>
              <a:latin typeface="Calibri"/>
            </a:endParaRPr>
          </a:p>
        </p:txBody>
      </p:sp>
      <p:sp>
        <p:nvSpPr>
          <p:cNvPr id="549"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when achieved, provide the information necessary to solve the problem identified in step 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state what the researchers must d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D040D53A-440C-4C06-BB22-2464E7CCE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Four: Determine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 Research: collecting information in an unstructured and informal mann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refers to a set of methods and procedures describing marketing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87C4536-194E-4566-A2B9-1D957F636E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Four: Determine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 Research (experiments): allows isolation of causes and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EE784F6-CAFC-4B30-8B31-15D1AD358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5: Identify Information </a:t>
            </a:r>
            <a:br>
              <a:rPr sz="3600"/>
            </a:br>
            <a:r>
              <a:rPr b="0" lang="en-US" sz="3600" spc="-1" strike="noStrike">
                <a:solidFill>
                  <a:srgbClr val="000000"/>
                </a:solidFill>
                <a:latin typeface="Trebuchet MS"/>
              </a:rPr>
              <a:t>Types and Sources</a:t>
            </a:r>
            <a:endParaRPr b="0" lang="en-US" sz="3600" spc="-1" strike="noStrike">
              <a:solidFill>
                <a:srgbClr val="000000"/>
              </a:solidFill>
              <a:latin typeface="Calibri"/>
            </a:endParaRPr>
          </a:p>
        </p:txBody>
      </p:sp>
      <p:sp>
        <p:nvSpPr>
          <p:cNvPr id="56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imary information: information collected specifically for the problem at h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ary information: information already coll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CDF5624-FFC5-48ED-92BC-E4419B89F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6: Determine Methods of Accessing Data</a:t>
            </a:r>
            <a:endParaRPr b="0" lang="en-US" sz="3600" spc="-1" strike="noStrike">
              <a:solidFill>
                <a:srgbClr val="000000"/>
              </a:solidFill>
              <a:latin typeface="Calibri"/>
            </a:endParaRPr>
          </a:p>
        </p:txBody>
      </p:sp>
      <p:sp>
        <p:nvSpPr>
          <p:cNvPr id="56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ary data is relatively easy to access; primary data is more complex.</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6" name="Picture 2" descr=""/>
          <p:cNvPicPr/>
          <p:nvPr/>
        </p:nvPicPr>
        <p:blipFill>
          <a:blip r:embed="rId1"/>
          <a:stretch/>
        </p:blipFill>
        <p:spPr>
          <a:xfrm>
            <a:off x="5943600" y="3124080"/>
            <a:ext cx="2781360" cy="3353040"/>
          </a:xfrm>
          <a:prstGeom prst="rect">
            <a:avLst/>
          </a:prstGeom>
          <a:ln w="0">
            <a:noFill/>
          </a:ln>
        </p:spPr>
      </p:pic>
      <p:sp>
        <p:nvSpPr>
          <p:cNvPr id="567" name="TextBox 5"/>
          <p:cNvSpPr/>
          <p:nvPr/>
        </p:nvSpPr>
        <p:spPr>
          <a:xfrm>
            <a:off x="2133720" y="3429000"/>
            <a:ext cx="3429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thods of accessing data vary around the globe </a:t>
            </a:r>
            <a:endParaRPr b="0" lang="en-US" sz="2800" spc="-1" strike="noStrike">
              <a:solidFill>
                <a:srgbClr val="000000"/>
              </a:solidFill>
              <a:latin typeface="Arial"/>
            </a:endParaRPr>
          </a:p>
        </p:txBody>
      </p:sp>
      <p:sp>
        <p:nvSpPr>
          <p:cNvPr id="56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3B39EA21-37FD-4227-A67E-3EFF22433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TextBox 8"/>
          <p:cNvSpPr/>
          <p:nvPr/>
        </p:nvSpPr>
        <p:spPr>
          <a:xfrm>
            <a:off x="4658400" y="58672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Figur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6: Determine Methods of Accessing Data</a:t>
            </a:r>
            <a:endParaRPr b="0" lang="en-US" sz="3600" spc="-1" strike="noStrike">
              <a:solidFill>
                <a:srgbClr val="000000"/>
              </a:solidFill>
              <a:latin typeface="Calibri"/>
            </a:endParaRPr>
          </a:p>
        </p:txBody>
      </p:sp>
      <p:sp>
        <p:nvSpPr>
          <p:cNvPr id="5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ree main choices for primary dat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ave a person ask question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 computer-assisted or direct questioning</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llow respondents to answer questions themselves without computer assist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CD11A418-5039-4662-A8F5-70FABEDF1F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7: Design Data </a:t>
            </a:r>
            <a:br>
              <a:rPr sz="3600"/>
            </a:br>
            <a:r>
              <a:rPr b="0" lang="en-US" sz="3600" spc="-1" strike="noStrike">
                <a:solidFill>
                  <a:srgbClr val="000000"/>
                </a:solidFill>
                <a:latin typeface="Trebuchet MS"/>
              </a:rPr>
              <a:t>Collection Forms</a:t>
            </a:r>
            <a:endParaRPr b="0" lang="en-US" sz="3600" spc="-1" strike="noStrike">
              <a:solidFill>
                <a:srgbClr val="000000"/>
              </a:solidFill>
              <a:latin typeface="Calibri"/>
            </a:endParaRPr>
          </a:p>
        </p:txBody>
      </p:sp>
      <p:sp>
        <p:nvSpPr>
          <p:cNvPr id="5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Questionnaire must be worded objectively, clearly, and without bias in order to communicate with respond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6A29E2D4-6B45-43E5-BD77-BC0BD29FF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7: Design Data </a:t>
            </a:r>
            <a:br>
              <a:rPr sz="3600"/>
            </a:br>
            <a:r>
              <a:rPr b="0" lang="en-US" sz="3600" spc="-1" strike="noStrike">
                <a:solidFill>
                  <a:srgbClr val="000000"/>
                </a:solidFill>
                <a:latin typeface="Trebuchet MS"/>
              </a:rPr>
              <a:t>Collection Forms</a:t>
            </a:r>
            <a:endParaRPr b="0" lang="en-US" sz="3600" spc="-1" strike="noStrike">
              <a:solidFill>
                <a:srgbClr val="000000"/>
              </a:solidFill>
              <a:latin typeface="Calibri"/>
            </a:endParaRPr>
          </a:p>
        </p:txBody>
      </p:sp>
      <p:sp>
        <p:nvSpPr>
          <p:cNvPr id="5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ftware programs are available to assist marketing researchers in preparing for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1" name="Picture 2" descr=""/>
          <p:cNvPicPr/>
          <p:nvPr/>
        </p:nvPicPr>
        <p:blipFill>
          <a:blip r:embed="rId1"/>
          <a:stretch/>
        </p:blipFill>
        <p:spPr>
          <a:xfrm>
            <a:off x="4800600" y="3200400"/>
            <a:ext cx="2809800" cy="3171960"/>
          </a:xfrm>
          <a:prstGeom prst="rect">
            <a:avLst/>
          </a:prstGeom>
          <a:ln w="0">
            <a:noFill/>
          </a:ln>
        </p:spPr>
      </p:pic>
      <p:sp>
        <p:nvSpPr>
          <p:cNvPr id="5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90BFE95-00E1-48A1-B8EE-C5F1C6CA3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8: Determine Sample </a:t>
            </a:r>
            <a:br>
              <a:rPr sz="3600"/>
            </a:br>
            <a:r>
              <a:rPr b="0" lang="en-US" sz="3600" spc="-1" strike="noStrike">
                <a:solidFill>
                  <a:srgbClr val="000000"/>
                </a:solidFill>
                <a:latin typeface="Trebuchet MS"/>
              </a:rPr>
              <a:t>Plan and Size</a:t>
            </a:r>
            <a:endParaRPr b="0" lang="en-US" sz="3600" spc="-1" strike="noStrike">
              <a:solidFill>
                <a:srgbClr val="000000"/>
              </a:solidFill>
              <a:latin typeface="Calibri"/>
            </a:endParaRPr>
          </a:p>
        </p:txBody>
      </p:sp>
      <p:sp>
        <p:nvSpPr>
          <p:cNvPr id="58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ample plan refers to the process used to select units from the population to be included in the sample.  Gives you representative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D19643BD-06A6-4F3D-9F4E-B3318D4C44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8: Determine Sample </a:t>
            </a:r>
            <a:br>
              <a:rPr sz="3600"/>
            </a:br>
            <a:r>
              <a:rPr b="0" lang="en-US" sz="3600" spc="-1" strike="noStrike">
                <a:solidFill>
                  <a:srgbClr val="000000"/>
                </a:solidFill>
                <a:latin typeface="Trebuchet MS"/>
              </a:rPr>
              <a:t>Plan and Size</a:t>
            </a:r>
            <a:endParaRPr b="0" lang="en-US" sz="3600" spc="-1" strike="noStrike">
              <a:solidFill>
                <a:srgbClr val="000000"/>
              </a:solidFill>
              <a:latin typeface="Calibri"/>
            </a:endParaRPr>
          </a:p>
        </p:txBody>
      </p:sp>
      <p:sp>
        <p:nvSpPr>
          <p:cNvPr id="58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ample size refers to determining how many elements of the population should be included in the sample.  Gives you accu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626AF7C0-8B41-4B68-B4C8-86D678089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cess</a:t>
            </a:r>
            <a:endParaRPr b="0" lang="en-US" sz="4000" spc="-1" strike="noStrike">
              <a:solidFill>
                <a:srgbClr val="000000"/>
              </a:solidFill>
              <a:latin typeface="Calibri"/>
            </a:endParaRPr>
          </a:p>
        </p:txBody>
      </p:sp>
      <p:pic>
        <p:nvPicPr>
          <p:cNvPr id="507" name="Picture 2" descr=""/>
          <p:cNvPicPr/>
          <p:nvPr/>
        </p:nvPicPr>
        <p:blipFill>
          <a:blip r:embed="rId1"/>
          <a:stretch/>
        </p:blipFill>
        <p:spPr>
          <a:xfrm>
            <a:off x="1600200" y="1119240"/>
            <a:ext cx="6602400" cy="5205240"/>
          </a:xfrm>
          <a:prstGeom prst="rect">
            <a:avLst/>
          </a:prstGeom>
          <a:ln w="0">
            <a:noFill/>
          </a:ln>
        </p:spPr>
      </p:pic>
      <p:sp>
        <p:nvSpPr>
          <p:cNvPr id="5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D3712C32-1AAC-4E2F-ABB6-0194238C2E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9: Collect Data</a:t>
            </a:r>
            <a:endParaRPr b="0" lang="en-US" sz="4000" spc="-1" strike="noStrike">
              <a:solidFill>
                <a:srgbClr val="000000"/>
              </a:solidFill>
              <a:latin typeface="Calibri"/>
            </a:endParaRPr>
          </a:p>
        </p:txBody>
      </p:sp>
      <p:sp>
        <p:nvSpPr>
          <p:cNvPr id="593"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ollection is very important because, regardless of the data analysis methods used, data analysis cannot fix bad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nsampling errors may occur during data coll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C4F38F5A-1165-44B4-876F-A05D5C45FD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9: Collect Data</a:t>
            </a:r>
            <a:endParaRPr b="0" lang="en-US" sz="4000" spc="-1" strike="noStrike">
              <a:solidFill>
                <a:srgbClr val="000000"/>
              </a:solidFill>
              <a:latin typeface="Calibri"/>
            </a:endParaRPr>
          </a:p>
        </p:txBody>
      </p:sp>
      <p:sp>
        <p:nvSpPr>
          <p:cNvPr id="59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ollection errors may be attributed to field workers or respon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must know the sources of these errors and the controls to minimize th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0FABDF17-6A0F-4E65-93D5-7537129342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10: Analyze Data</a:t>
            </a:r>
            <a:endParaRPr b="0" lang="en-US" sz="4000" spc="-1" strike="noStrike">
              <a:solidFill>
                <a:srgbClr val="000000"/>
              </a:solidFill>
              <a:latin typeface="Calibri"/>
            </a:endParaRPr>
          </a:p>
        </p:txBody>
      </p:sp>
      <p:sp>
        <p:nvSpPr>
          <p:cNvPr id="60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analysis involves entering data into computer files, inspecting data for errors, and running tabulations and various statistical tests.</a:t>
            </a:r>
            <a:endParaRPr b="0" lang="en-US" sz="3200" spc="-1" strike="noStrike">
              <a:solidFill>
                <a:srgbClr val="000000"/>
              </a:solidFill>
              <a:latin typeface="Calibri"/>
            </a:endParaRPr>
          </a:p>
        </p:txBody>
      </p:sp>
      <p:pic>
        <p:nvPicPr>
          <p:cNvPr id="602" name="Picture 2" descr=""/>
          <p:cNvPicPr/>
          <p:nvPr/>
        </p:nvPicPr>
        <p:blipFill>
          <a:blip r:embed="rId1"/>
          <a:stretch/>
        </p:blipFill>
        <p:spPr>
          <a:xfrm>
            <a:off x="3200400" y="4419720"/>
            <a:ext cx="3048120" cy="1619280"/>
          </a:xfrm>
          <a:prstGeom prst="rect">
            <a:avLst/>
          </a:prstGeom>
          <a:ln w="0">
            <a:noFill/>
          </a:ln>
        </p:spPr>
      </p:pic>
      <p:sp>
        <p:nvSpPr>
          <p:cNvPr id="6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5FD271A9-16AE-4EBC-BF68-1D1DA78B49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10: Analyze Data</a:t>
            </a:r>
            <a:endParaRPr b="0" lang="en-US" sz="4000" spc="-1" strike="noStrike">
              <a:solidFill>
                <a:srgbClr val="000000"/>
              </a:solidFill>
              <a:latin typeface="Calibri"/>
            </a:endParaRPr>
          </a:p>
        </p:txBody>
      </p:sp>
      <p:sp>
        <p:nvSpPr>
          <p:cNvPr id="60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leaning is a process by which raw data are checked to verify that the data have been correctly inputted from the data collection form to the computer software program.</a:t>
            </a:r>
            <a:endParaRPr b="0" lang="en-US" sz="3200" spc="-1" strike="noStrike">
              <a:solidFill>
                <a:srgbClr val="000000"/>
              </a:solidFill>
              <a:latin typeface="Calibri"/>
            </a:endParaRPr>
          </a:p>
        </p:txBody>
      </p:sp>
      <p:sp>
        <p:nvSpPr>
          <p:cNvPr id="6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7ACA7682-36DD-4F2E-806A-807D6ABE2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1: Prepare and Present the Final Research Report</a:t>
            </a:r>
            <a:endParaRPr b="0" lang="en-US" sz="3600" spc="-1" strike="noStrike">
              <a:solidFill>
                <a:srgbClr val="000000"/>
              </a:solidFill>
              <a:latin typeface="Calibri"/>
            </a:endParaRPr>
          </a:p>
        </p:txBody>
      </p:sp>
      <p:sp>
        <p:nvSpPr>
          <p:cNvPr id="61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ast step is one of the most important phases of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s importance cannot be overstated because it is the report, or its presentation, that properly communicates the results to the cli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E89CD66B-FB0C-4F6E-8805-5E4BA85EB0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id:3287383400_2177562"/>
          <p:cNvPicPr/>
          <p:nvPr/>
        </p:nvPicPr>
        <p:blipFill>
          <a:blip r:embed="rId1"/>
          <a:stretch/>
        </p:blipFill>
        <p:spPr>
          <a:xfrm>
            <a:off x="343080" y="985680"/>
            <a:ext cx="8422920" cy="2748240"/>
          </a:xfrm>
          <a:prstGeom prst="rect">
            <a:avLst/>
          </a:prstGeom>
          <a:ln w="9360">
            <a:solidFill>
              <a:srgbClr val="ffffff"/>
            </a:solidFill>
            <a:miter/>
          </a:ln>
        </p:spPr>
      </p:pic>
      <p:sp>
        <p:nvSpPr>
          <p:cNvPr id="615"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16" name="Rectangle 5"/>
          <p:cNvSpPr/>
          <p:nvPr/>
        </p:nvSpPr>
        <p:spPr>
          <a:xfrm>
            <a:off x="685800" y="533412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61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BCE9867-BF48-4922-B229-1E0C0A5DB7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s in the </a:t>
            </a:r>
            <a:br>
              <a:rPr sz="3600"/>
            </a:br>
            <a:r>
              <a:rPr b="0" lang="en-US" sz="3600" spc="-1" strike="noStrike">
                <a:solidFill>
                  <a:srgbClr val="000000"/>
                </a:solidFill>
                <a:latin typeface="Trebuchet MS"/>
              </a:rPr>
              <a:t>Marketing Research Process</a:t>
            </a:r>
            <a:endParaRPr b="0" lang="en-US" sz="3600" spc="-1" strike="noStrike">
              <a:solidFill>
                <a:srgbClr val="000000"/>
              </a:solidFill>
              <a:latin typeface="Calibri"/>
            </a:endParaRPr>
          </a:p>
        </p:txBody>
      </p:sp>
      <p:sp>
        <p:nvSpPr>
          <p:cNvPr id="511" name=""/>
          <p:cNvSpPr txBox="1"/>
          <p:nvPr/>
        </p:nvSpPr>
        <p:spPr>
          <a:xfrm>
            <a:off x="1600200" y="1676520"/>
            <a:ext cx="4191120" cy="50292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p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 Establish Ne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 Define Proble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Research Objective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Determine Desig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 Identify Information Sourc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 Decide Data Collection Metho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 Design Questionnai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8 Determine Sample Plan &amp; Siz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9 Collect Da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0 Analyze Da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1 Write and Present Re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2" name="AutoShape 8"/>
          <p:cNvSpPr/>
          <p:nvPr/>
        </p:nvSpPr>
        <p:spPr>
          <a:xfrm>
            <a:off x="4343400" y="19810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9"/>
          <p:cNvSpPr/>
          <p:nvPr/>
        </p:nvSpPr>
        <p:spPr>
          <a:xfrm>
            <a:off x="5486400" y="3276720"/>
            <a:ext cx="457200" cy="1447560"/>
          </a:xfrm>
          <a:custGeom>
            <a:avLst/>
            <a:gdLst>
              <a:gd name="textAreaLeft" fmla="*/ 0 w 457200"/>
              <a:gd name="textAreaRight" fmla="*/ 164880 w 457200"/>
              <a:gd name="textAreaTop" fmla="*/ 35640 h 1447560"/>
              <a:gd name="textAreaBottom" fmla="*/ 1411920 h 1447560"/>
            </a:gdLst>
            <a:ahLst/>
            <a:rect l="textAreaLeft" t="textAreaTop" r="textAreaRight" b="textAreaBottom"/>
            <a:pathLst>
              <a:path w="21600" h="21600">
                <a:moveTo>
                  <a:pt x="0" y="0"/>
                </a:moveTo>
                <a:cubicBezTo>
                  <a:pt x="5400" y="0"/>
                  <a:pt x="10800" y="853"/>
                  <a:pt x="10800" y="1705"/>
                </a:cubicBezTo>
                <a:lnTo>
                  <a:pt x="10800" y="9095"/>
                </a:lnTo>
                <a:cubicBezTo>
                  <a:pt x="10800" y="9948"/>
                  <a:pt x="16200" y="10800"/>
                  <a:pt x="21600" y="10800"/>
                </a:cubicBezTo>
                <a:cubicBezTo>
                  <a:pt x="16200" y="10800"/>
                  <a:pt x="10800" y="11653"/>
                  <a:pt x="10800" y="12505"/>
                </a:cubicBezTo>
                <a:lnTo>
                  <a:pt x="10800" y="19895"/>
                </a:lnTo>
                <a:cubicBezTo>
                  <a:pt x="10800" y="20748"/>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0"/>
          <p:cNvSpPr/>
          <p:nvPr/>
        </p:nvSpPr>
        <p:spPr>
          <a:xfrm>
            <a:off x="3809880" y="4876920"/>
            <a:ext cx="457200" cy="609480"/>
          </a:xfrm>
          <a:custGeom>
            <a:avLst/>
            <a:gdLst>
              <a:gd name="textAreaLeft" fmla="*/ 0 w 457200"/>
              <a:gd name="textAreaRight" fmla="*/ 164880 w 4572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
          <p:cNvSpPr/>
          <p:nvPr/>
        </p:nvSpPr>
        <p:spPr>
          <a:xfrm>
            <a:off x="4952880" y="563868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
          <p:cNvSpPr/>
          <p:nvPr/>
        </p:nvSpPr>
        <p:spPr>
          <a:xfrm>
            <a:off x="5029200" y="1905120"/>
            <a:ext cx="2514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gure out what to research (Chapters 2 &amp; 4)</a:t>
            </a:r>
            <a:endParaRPr b="0" lang="en-US" sz="2000" spc="-1" strike="noStrike">
              <a:solidFill>
                <a:srgbClr val="000000"/>
              </a:solidFill>
              <a:latin typeface="Arial"/>
            </a:endParaRPr>
          </a:p>
        </p:txBody>
      </p:sp>
      <p:sp>
        <p:nvSpPr>
          <p:cNvPr id="517" name="Text Box 5"/>
          <p:cNvSpPr/>
          <p:nvPr/>
        </p:nvSpPr>
        <p:spPr>
          <a:xfrm>
            <a:off x="6172200" y="35053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the way to do the research (Chapters 5-13)</a:t>
            </a:r>
            <a:endParaRPr b="0" lang="en-US" sz="2000" spc="-1" strike="noStrike">
              <a:solidFill>
                <a:srgbClr val="000000"/>
              </a:solidFill>
              <a:latin typeface="Arial"/>
            </a:endParaRPr>
          </a:p>
        </p:txBody>
      </p:sp>
      <p:sp>
        <p:nvSpPr>
          <p:cNvPr id="518" name="Text Box 6"/>
          <p:cNvSpPr/>
          <p:nvPr/>
        </p:nvSpPr>
        <p:spPr>
          <a:xfrm>
            <a:off x="4495680" y="4800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ther data from respondents  (Chapter 14)</a:t>
            </a:r>
            <a:endParaRPr b="0" lang="en-US" sz="2000" spc="-1" strike="noStrike">
              <a:solidFill>
                <a:srgbClr val="000000"/>
              </a:solidFill>
              <a:latin typeface="Arial"/>
            </a:endParaRPr>
          </a:p>
        </p:txBody>
      </p:sp>
      <p:sp>
        <p:nvSpPr>
          <p:cNvPr id="519" name="Text Box 7"/>
          <p:cNvSpPr/>
          <p:nvPr/>
        </p:nvSpPr>
        <p:spPr>
          <a:xfrm>
            <a:off x="5791320" y="5486400"/>
            <a:ext cx="2895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findings and interpret them (Chapters 15-20)</a:t>
            </a:r>
            <a:endParaRPr b="0" lang="en-US" sz="2000" spc="-1" strike="noStrike">
              <a:solidFill>
                <a:srgbClr val="000000"/>
              </a:solidFill>
              <a:latin typeface="Arial"/>
            </a:endParaRPr>
          </a:p>
        </p:txBody>
      </p:sp>
      <p:sp>
        <p:nvSpPr>
          <p:cNvPr id="52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1"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72CB14C1-8092-4C4C-B3EC-4B38D604DC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512"/>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0"/>
                                  </p:stCondLst>
                                  <p:childTnLst>
                                    <p:set>
                                      <p:cBhvr>
                                        <p:cTn id="9" dur="1" fill="hold">
                                          <p:stCondLst>
                                            <p:cond delay="0"/>
                                          </p:stCondLst>
                                        </p:cTn>
                                        <p:tgtEl>
                                          <p:spTgt spid="513"/>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514"/>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0"/>
                                  </p:stCondLst>
                                  <p:childTnLst>
                                    <p:set>
                                      <p:cBhvr>
                                        <p:cTn id="15" dur="1" fill="hold">
                                          <p:stCondLst>
                                            <p:cond delay="0"/>
                                          </p:stCondLst>
                                        </p:cTn>
                                        <p:tgtEl>
                                          <p:spTgt spid="515"/>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1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17"/>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18"/>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aveats: </a:t>
            </a:r>
            <a:br>
              <a:rPr sz="3600"/>
            </a:br>
            <a:r>
              <a:rPr b="0" lang="en-US" sz="3600" spc="-1" strike="noStrike">
                <a:solidFill>
                  <a:srgbClr val="000000"/>
                </a:solidFill>
                <a:latin typeface="Trebuchet MS"/>
              </a:rPr>
              <a:t>The Marketing Research Process</a:t>
            </a:r>
            <a:endParaRPr b="0" lang="en-US" sz="3600" spc="-1" strike="noStrike">
              <a:solidFill>
                <a:srgbClr val="000000"/>
              </a:solidFill>
              <a:latin typeface="Calibri"/>
            </a:endParaRPr>
          </a:p>
        </p:txBody>
      </p:sp>
      <p:sp>
        <p:nvSpPr>
          <p:cNvPr id="52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always presented as an 11-step process </a:t>
            </a:r>
            <a:r>
              <a:rPr b="0" lang="en-US" sz="3200" spc="-1" strike="noStrike">
                <a:solidFill>
                  <a:srgbClr val="000000"/>
                </a:solidFill>
                <a:latin typeface="Trebuchet MS"/>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all studies use all 11 step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You may be able to solve the </a:t>
            </a:r>
            <a:r>
              <a:rPr b="0" lang="en-US" sz="3200" spc="-1" strike="noStrike">
                <a:solidFill>
                  <a:srgbClr val="000000"/>
                </a:solidFill>
                <a:latin typeface="Trebuchet MS"/>
              </a:rPr>
              <a:t>	</a:t>
            </a:r>
            <a:r>
              <a:rPr b="0" lang="en-US" sz="3200" spc="-1" strike="noStrike">
                <a:solidFill>
                  <a:srgbClr val="000000"/>
                </a:solidFill>
                <a:latin typeface="Trebuchet MS"/>
              </a:rPr>
              <a:t>problem with secondary data, i.e. a </a:t>
            </a:r>
            <a:r>
              <a:rPr b="0" lang="en-US" sz="3200" spc="-1" strike="noStrike">
                <a:solidFill>
                  <a:srgbClr val="000000"/>
                </a:solidFill>
                <a:latin typeface="Trebuchet MS"/>
              </a:rPr>
              <a:t>	</a:t>
            </a:r>
            <a:r>
              <a:rPr b="0" lang="en-US" sz="3200" spc="-1" strike="noStrike">
                <a:solidFill>
                  <a:srgbClr val="000000"/>
                </a:solidFill>
                <a:latin typeface="Trebuchet MS"/>
              </a:rPr>
              <a:t>visit to the library or Goog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w studies follow the steps in ord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6FF2B1D5-6E64-4A1D-92BE-DBF08A815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27" name=""/>
          <p:cNvSpPr txBox="1"/>
          <p:nvPr/>
        </p:nvSpPr>
        <p:spPr>
          <a:xfrm>
            <a:off x="914400" y="1676520"/>
            <a:ext cx="7772400" cy="444960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there a real need for marketing research? </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takes time and costs money.  </a:t>
            </a:r>
            <a:endParaRPr b="0" lang="en-US" sz="3200" spc="-1" strike="noStrike">
              <a:solidFill>
                <a:srgbClr val="000000"/>
              </a:solidFill>
              <a:latin typeface="Calibri"/>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i="1" lang="en-US" sz="3200" spc="-1" strike="noStrike">
                <a:solidFill>
                  <a:srgbClr val="000000"/>
                </a:solidFill>
                <a:latin typeface="Trebuchet MS"/>
              </a:rPr>
              <a:t>Value of information v. Cost of information?</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7B5207F-C0F9-4768-97FE-55A23F3F8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31" name=""/>
          <p:cNvSpPr txBox="1"/>
          <p:nvPr/>
        </p:nvSpPr>
        <p:spPr>
          <a:xfrm>
            <a:off x="914400" y="1676520"/>
            <a:ext cx="7772400" cy="444960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there a real need for marketing research? </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is not always needed.</a:t>
            </a:r>
            <a:endParaRPr b="0" lang="en-US" sz="3200" spc="-1" strike="noStrike">
              <a:solidFill>
                <a:srgbClr val="000000"/>
              </a:solidFill>
              <a:latin typeface="Calibri"/>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	</a:t>
            </a:r>
            <a:r>
              <a:rPr b="0" i="1" lang="en-US" sz="3200" spc="-1" strike="noStrike">
                <a:solidFill>
                  <a:srgbClr val="000000"/>
                </a:solidFill>
                <a:latin typeface="Trebuchet MS"/>
              </a:rPr>
              <a:t>We often have the information</a:t>
            </a:r>
            <a:endParaRPr b="0" lang="en-US" sz="3200" spc="-1" strike="noStrike">
              <a:solidFill>
                <a:srgbClr val="000000"/>
              </a:solidFill>
              <a:latin typeface="Calibri"/>
            </a:endParaRPr>
          </a:p>
        </p:txBody>
      </p:sp>
      <p:pic>
        <p:nvPicPr>
          <p:cNvPr id="532" name="Picture 2" descr=""/>
          <p:cNvPicPr/>
          <p:nvPr/>
        </p:nvPicPr>
        <p:blipFill>
          <a:blip r:embed="rId1"/>
          <a:stretch/>
        </p:blipFill>
        <p:spPr>
          <a:xfrm>
            <a:off x="7162920" y="3581280"/>
            <a:ext cx="1752480" cy="2691000"/>
          </a:xfrm>
          <a:prstGeom prst="rect">
            <a:avLst/>
          </a:prstGeom>
          <a:ln w="0">
            <a:noFill/>
          </a:ln>
        </p:spPr>
      </p:pic>
      <p:sp>
        <p:nvSpPr>
          <p:cNvPr id="53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A4ED4F7-A7FE-464D-BDD9-BDF43517B2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3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is marketing research NOT needed?</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information is already availabl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cisions must be made now.</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can’t afford research.</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sts outweigh the value of marketing research.</a:t>
            </a:r>
            <a:endParaRPr b="0" lang="en-US" sz="3200" spc="-1" strike="noStrike">
              <a:solidFill>
                <a:srgbClr val="000000"/>
              </a:solidFill>
              <a:latin typeface="Calibri"/>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CD4F5856-9F50-4643-8465-00ED14727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2: Define the Problem</a:t>
            </a:r>
            <a:endParaRPr b="0" lang="en-US" sz="4000" spc="-1" strike="noStrike">
              <a:solidFill>
                <a:srgbClr val="000000"/>
              </a:solidFill>
              <a:latin typeface="Calibri"/>
            </a:endParaRPr>
          </a:p>
        </p:txBody>
      </p:sp>
      <p:sp>
        <p:nvSpPr>
          <p:cNvPr id="5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the most important of the 11 steps (assuming we’ve decided to do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the problem is incorrectly defined, all else is wasted effo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blems may be either specific or gener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BDD2E883-C07B-428E-B4C2-A807C0673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2: Define the Problem</a:t>
            </a:r>
            <a:endParaRPr b="0" lang="en-US" sz="4000" spc="-1" strike="noStrike">
              <a:solidFill>
                <a:srgbClr val="000000"/>
              </a:solidFill>
              <a:latin typeface="Calibri"/>
            </a:endParaRPr>
          </a:p>
        </p:txBody>
      </p:sp>
      <p:sp>
        <p:nvSpPr>
          <p:cNvPr id="54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oblems stem from gaps between what is </a:t>
            </a:r>
            <a:r>
              <a:rPr b="0" lang="en-US" sz="3200" spc="-1" strike="noStrike" u="sng">
                <a:solidFill>
                  <a:srgbClr val="000000"/>
                </a:solidFill>
                <a:uFillTx/>
                <a:latin typeface="Trebuchet MS"/>
              </a:rPr>
              <a:t>supposed</a:t>
            </a:r>
            <a:r>
              <a:rPr b="0" lang="en-US" sz="3200" spc="-1" strike="noStrike">
                <a:solidFill>
                  <a:srgbClr val="000000"/>
                </a:solidFill>
                <a:latin typeface="Trebuchet MS"/>
              </a:rPr>
              <a:t> to happen and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gaps between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what </a:t>
            </a:r>
            <a:r>
              <a:rPr b="0" lang="en-US" sz="3200" spc="-1" strike="noStrike" u="sng">
                <a:solidFill>
                  <a:srgbClr val="000000"/>
                </a:solidFill>
                <a:uFillTx/>
                <a:latin typeface="Trebuchet MS"/>
              </a:rPr>
              <a:t>could</a:t>
            </a:r>
            <a:r>
              <a:rPr b="0" lang="en-US" sz="3200" spc="-1" strike="noStrike">
                <a:solidFill>
                  <a:srgbClr val="000000"/>
                </a:solidFill>
                <a:latin typeface="Trebuchet MS"/>
              </a:rPr>
              <a:t> be happe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5" name="Picture 3" descr=""/>
          <p:cNvPicPr/>
          <p:nvPr/>
        </p:nvPicPr>
        <p:blipFill>
          <a:blip r:embed="rId1"/>
          <a:stretch/>
        </p:blipFill>
        <p:spPr>
          <a:xfrm>
            <a:off x="6019920" y="3886200"/>
            <a:ext cx="2306520" cy="2673360"/>
          </a:xfrm>
          <a:prstGeom prst="rect">
            <a:avLst/>
          </a:prstGeom>
          <a:ln w="0">
            <a:noFill/>
          </a:ln>
        </p:spPr>
      </p:pic>
      <p:sp>
        <p:nvSpPr>
          <p:cNvPr id="54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33227028-C6B4-42C0-B51B-078C554A9B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6:17Z</dcterms:modified>
  <cp:revision>47</cp:revision>
  <dc:subject/>
  <dc:title>Slide 1</dc:title>
</cp:coreProperties>
</file>