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D03-A34C-4D95-BCD9-D63C036B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4DA-2CBD-4CD2-BC4B-1EEF62C1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896-8C43-4744-BEAB-626945EA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B3B-70CF-42CA-B89F-7B08526C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BF09-020D-4DEE-9578-E4097860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D938-97F1-42C4-B415-68176A42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8F22-1C87-48F6-96CC-D6CCFB02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98DD-A5F2-4663-B175-44FC9D7C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0225-4917-4998-9B81-C885C627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289D-2ECC-43E5-920C-87A6076F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76DB-5C03-4F29-8256-268B5344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D23D-36AF-4153-A6AB-82DAD0F6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E662-17CB-4AC1-9BEF-5F37AEA7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73FE-6480-4311-810E-5C8F9CFF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EF0E-CEA0-4411-ACB6-87E5B68A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7512-1F10-4882-946E-7C9E6526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6745-0104-4418-9445-C54C3B59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D03B5-0318-4C2A-B71B-AA1119B9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3DE9B-8DB6-4E84-986B-BBF16536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8D178-C7CE-4631-A7F2-E40C9D8F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822B1-7A8A-46AB-BF68-D2CB7DA4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AABC1-5B2F-4A91-B638-1FEF2F1E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11A4-2DF6-4E63-81D7-D36CA21E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7CBC8-5847-48F0-B7E5-01473B65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983D8-8775-4D34-8937-DCD6C44D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19B5B-4A3B-4F8D-9470-DA7AB5F6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37496-14E5-4B98-B0E5-35DBC2BD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ADE26-DE7F-4238-9C46-83855289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AEE61-19F1-4AD7-8A4B-055BB7D5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AC8CA-D3D4-4919-B6D8-87AAD85E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815-9FD9-4B35-8504-811A5B0A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E972-14F1-41F4-8750-4372967D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0D0-EC23-4090-96A1-B24502BF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83BF-83F2-418D-82D5-9C403C31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270C-68A6-4F0D-A9B1-9F8FA4AF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7AAF-EA79-4261-AF10-6AF32DC9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ntice Hall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CAD9-92F9-429B-8AEB-E2F783632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EC8E-3256-4F43-AAD8-2DE0102D26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F217-02A7-47E4-986D-EECE44A63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-Marketplaces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tructures, Mechanisms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conomics, and Impac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-Marketplac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torefronts to Port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lectronic Storefro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orefro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single company’s Web site where products or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rvices are so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ost common mechanisms are a(n)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lectronic catalo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arch engin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lectronic car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-auction facilit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yment gatew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A782-E80E-49E2-B23D-2B290421753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-Marketplac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torefronts to Port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-mall (online m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online shopping center where many online store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loca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ypes of Stores and Mall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eneral stores/ma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cialized stores/ma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gional versus global sto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ure online organizations versus click-and-mortar sto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667B-EB24-4D7D-A1C1-61C31FFC66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-Marketplac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torefronts to Port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ypes of E-Marketpla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-marketpla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online market, usually B2B, in which buyers and sellers exchange goods or services; the three types of e-marketplaces are private, public, and consort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vate e-marketpla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line markets owned by a single company; may be either sell-side or buy-sid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-marketplac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53A8-CC77-4664-9182-CE4F6DB494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-Marketplac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torefronts to Port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ypes of E-Marketpla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ll-side e-marketpla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private e-marketplace in which a company sells either standard or customized products to qualified compan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uy-side e-marketpla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private e-marketplace in which a company makes purchases from invited suppli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71B9-2F28-44E5-B8E8-275D572FFA2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-Marketplac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torefronts to Port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ublic e-marketpla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2B marketplaces, usually owned and/or managed by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independent third party, that include many seller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d many buyers; also known as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exchan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information port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single point of access through a Web browser to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siness information inside and/or outside an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DC71-35D8-42D3-98A1-3D24E82907C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-Marketplac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torefronts to Port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 major types of portal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mercial (public) por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rporate por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ublishing por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rsonal por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bile por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oice por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1E29-4472-43B0-A212-D3EF7621F2F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-Marketplac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torefronts to Port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obile port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portal accessible via a mobile dev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oice port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portal accessed by telephone or cell ph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CD9B-9F34-411F-869A-6747E235C32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mediation in E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fomediar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ectronic intermediaries that control information flow in cyberspace, often aggregating information and selling it to oth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ve limitations of direct interac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arch cos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ck of privac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complete in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ract ris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cing inefficienc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E010-ABB7-4F13-BF23-FC68EB6467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ibit 2.3 Infomediaries and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nformation Flow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362320" y="1066680"/>
            <a:ext cx="4808520" cy="480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4529-EBFC-4C67-9A1A-AF1651E58DB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mediation in E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-distributo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e-commerce intermediary that connects manufacturers (suppliers) with business buyers by aggregating the catalogs of many suppliers in one place—the intermediary’s Web s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0EC6-230C-4A8A-9AC1-6A208551985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fine e-marketplaces and list their componen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ist the major types of e-marketplaces and describe their featur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scribe the various types of EC intermediaries and their rol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scribe electronic catalogs, shopping carts, and search engin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scribe the various types of auctions and list their characteristic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cuss the benefits, limitations, and impacts of aucti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932B-A65F-426F-8F7F-8818880F98D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mediation in E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isintermedi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limination of intermediaries between sellers an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y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intermedi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stablishment of new intermediary roles for traditional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mediaries that have been disintermedia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F96A-004A-4BB2-842A-7F3F301FE5F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atalog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Market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lectronic catalo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resentation of product information in an electronic form; the backbone of most e-selling si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assification of electronic catalo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dynamics of the information present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degree of custom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gration with business proces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A0AD-90DC-4ACD-A2A2-2BC7C543887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atalog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Market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line catalo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se of upda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bility to be integrated with the purchasing proc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verage of a wide spectrum of produ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activ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ong search capabilit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D277-7251-4948-9AD6-09C122F50D6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atalog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Market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wo approaches to creating customized catalo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 the customers identify the parts of interest to them from the total catalo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 the system automatically identify customer characteristics based on the customer’s transaction recor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4C76-0157-406C-92CB-05092476D11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atalog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Market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earch engin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computer program that can access a database of Internet resources, search for specific information or keywords, and report the resul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oftware (intelligent) ag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ftware that can perform routine tasks that require intellig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99C2-26CD-4CCA-B971-B87571675AF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onic Catalogs an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ctions as EC Market Mechanis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lectronic shopping car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order-processing technology that allows customers to accumulate items they wish to buy while they continue to sh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uc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competitive process in which a seller solicits consecutive bids from buyers (forward auctions) or a buyer solicits bids from sellers (backward auctions). Prices are determined dynamically by the bi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6FB5-BC28-4D50-8BF2-C7CCE30F5BA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ctions As E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imitations of Traditional Off-line Au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rapid process may give potential buyers little time to make a deci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idders do not have much time to examine the goo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idders must usually be physically present at au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fficult for sellers to move goods to an auction s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missions are fairly hig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CAA0-B2E0-425D-BDA0-EE6F842FAB9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ctions As E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lectronic auction (e-auction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ctions conducted onl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ynamic pric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ices that change based on supply and demand relationships at any given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85A5-EA75-436E-8E88-DC6DEE54669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ctions As E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ypes of au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Buyer, One Sell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Seller, Many Potential Buy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ward au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auction in which a seller entertains bids from buy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2A1E-748C-448F-9574-B0F117B75E2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ctions As E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ypes of au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ne Buyer, Many Potential Sell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verse auction (bidding or tendering system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ction in which the buyer places an item for bid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tende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 on a request for quote (RFQ) system, potential suppliers bid on the job, with the price reducing sequentially, and the lowest bid wins; primarily a B2B or G2B mechani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34EC-C279-4AA3-A54B-720396A682F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bartering and negotiating onlin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fine m-commerce and explain its role as a market mechanis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iscuss liquidity, quality, and success factors in e-marketplac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economic impact of EC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iscuss competition in the digital econom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impact of e-marketplaces on organization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0971-4CE7-4644-9D1B-72FA0E2135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ibit 2.5 The Reverse Auc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111320" y="1754280"/>
            <a:ext cx="7267680" cy="442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AD20-8F2E-4DDA-828C-9260C9CD77F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ctions As E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ypes of au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ne Buyer, Many Potential Sell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ame-your-own-price” mod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ction model in which a would-be buyer specifies the price (and other terms) he or she is willing to pay to any willing and able seller. It is a C2B model that was pioneered by Priceline.c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C5DA-1D72-424C-BF95-3B2FDAD9B67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ctions As E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ypes of au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ny Sellers, Many Buy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ouble au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ctions in which multiple buyers and their bidding prices are matched with multiple sellers and their asking prices, considering the quantities on both sid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7FD5-9072-4E7B-A231-F7A9A823D31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ctions As E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imitations of E-Au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inimal secur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sibility of frau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mited particip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mpacts of E-Au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uctions as a coordination mechanis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uctions as a social mechanism to determine a pr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uctions as a highly visible distribution mechanis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uctions as an EC compon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F0FC-644D-4897-93D6-6ED8825D173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tering and Negotiating On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arter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exchange of goods or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-bartering (electronic bartering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artering conducted online, usually by a bartering exchan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artering exchan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marketplace in which an intermediary arranges barter transa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8B8F-6151-47FD-8465-CF1B4C20FF7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tering and Negotiating On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Online negotiating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—Three factors may facilitate online negotiation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roducts and services that are bundled and customiz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computer technology that facilitates the negotiation proc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software (intelligent) agents that perform searches and comparisons, thereby providing quality customer service and a base from which prices can be negotia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40AF-9650-4745-B698-61F5D41AC45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 in the Wireless Environmen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-Commer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obile comput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rmits real-time access to information, applications, and tools that, until recently, were accessible only from a desktop compu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obile commerce (m-commerc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-commerce conducted via wireless de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-busines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broadest definition of m-commerce, in which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-business is conducted in a wireless environ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8592-9C94-44D3-8BEA-50A4329AABF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 in the Digital Econom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Internet ecosys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business model of the Internet econom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ifferenti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viding a product or service that is un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ability to tailor a product, service, or Web content to specific user preferen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BE6E-D347-4C0C-8770-95BAB33150F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 in the Digital Econom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etitive Factors in the Internet Econom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wer pr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arriers to entry are reduc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rtual partnerships multip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rket niches abo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40EC-2B9E-4462-AC49-8EE0872AC50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 in the Digital Econom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orter’s Competitive Analysis in an Industr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ompetitive forces mod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del, devised by Porter, that says that five major forces of competition determine industry structure and how economic value is divided among the industry players in an industry; analysis of these forces helps companies develop their competitive strate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ED87-06DB-4275-8DB8-E6DD01CB94B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-Marketpla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rkets (electronic or otherwise) have three main functions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tching buyers and sellers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cilitating the exchange of information, goods, services, and payments associated with market transactions;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viding an institutional infrastructure, such as a legal and regulatory framework, which enables the efficient functioning of the marke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046E-8A94-4E70-B561-C8372D4BF3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ibit 2.6 Porter’s Competi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orces 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981080" y="1079640"/>
            <a:ext cx="5548320" cy="506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16F1-9C8E-4FC4-8DD2-79EE2D11590D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s of EC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Processes and Organiz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3117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mproving Direct Marke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promo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ales chan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sav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d cycle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d customer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 or corporate im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0840" y="1652400"/>
            <a:ext cx="43117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ther Impacts on Direct Marke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dering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op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5C9C-3BEC-4BA4-AEF3-25852E0E68EE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ibit 2.7 The Analysis-of-Impac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208160" y="1120680"/>
            <a:ext cx="6151320" cy="489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6FB4-1CA5-42BF-9C2E-EE6F5EF6A660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s of EC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Processes and Organiz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ransforming Organiz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chnology and organizational learning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porate change must be planned and manag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tions may have to struggle with different experiments and learn from their mista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changing nature of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ms are reducing the number of employees down to a core of essential staff and outsourcing whatever work they can to countries where wages are significantly l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FDB2-ADE5-4593-9AA0-B7A13830998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s of EC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Processes and Organiz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defining Organiz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w and improved product capabili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w business mode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proving the supply cha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pacts on Manufactu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uild-to-order (pull system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manufacturing process that starts with an order (usually customized). Once the order is paid for, the vendor starts to fulfill 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l-time demand-driven manufactu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irtual manufactu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ssembly lin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37C8-5196-4C4D-A0A7-EC67D926FAE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ibit 2.10 Changes in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Supply Ch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17440" y="2514600"/>
            <a:ext cx="4132440" cy="2038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545000" y="1770120"/>
            <a:ext cx="4441680" cy="425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147A-FEFE-4F40-BB00-9D3F45B9039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ibit 2.11 Real-Time Demand-Driv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Manufactu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838080" y="1752480"/>
            <a:ext cx="7221600" cy="400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4426-4AB0-4A8B-AC43-92E2ABF8F59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s of EC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Processes and Organiz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defining Organiz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acts on Finance and Accoun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-markets require special finance and accounting systems. Most notable of these are electronic payment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acts on Human Resource Management and Train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 is changing how people are recruited, evaluated, promoted, and develop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 also is changing the way training and education are offered to employ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nies are cutting training costs by 50% or more, and virtual courses and programs are mushroo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5102-4584-4B5A-8445-D03DD6BF0BC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agerial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at about intermediarie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hould we auction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hould we barter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at m-commerce opportunities are available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ow do we compete in the digital economy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at organizational changes will be needed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5DE2-B78D-445D-8D36-6F3D7E13B5A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-marketplaces and their componen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role of intermediari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major types of e-marketplac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lectronic catalogs, search engines, and shopping car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ypes of auctions and their characteristic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CC83-51C9-431F-B901-AC765DF8123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-Marketpla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Electronic marketplace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e-marketplace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marketspace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, changed several of the processes used in trading and supply chai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eater information richnes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er information search costs for buy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minished information asymmetry between sellers and buy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eater temporal separation between time of purchase and time of possess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eater temporal proximity between time of purchase and time of possess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bility of buyers and sellers to be in different loc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2397-5D72-4604-97C9-0809DE195F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benefits and limitations of auction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rtering and negotiating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role of m-commerc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etition in the digital econom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impact of e-markets on organization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7584-7DE4-4D32-98FB-37B5EEBBA77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-Marketpla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arketspa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marketplace in which sellers and buyers exchange goods and services for money (or for other goods and services), but do so electronical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A67C-7A72-4711-B752-749EF80A90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-Marketpla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rketspace compon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ll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gital produ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oods that can be transformed into digital format and delivered over the Inter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E487-6955-45C0-8833-525DF9ADA7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-Marketpla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rketspace compon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nt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rtion of an e-seller’s business processes through which customers interact, including the seller’s portal, electronic catalogs, a shopping cart, a search engine, and a payment gate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ivities that support online order-taking. It includes fulfillment, inventory management, purchasing from suppliers, payment processing, packaging,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128A-B290-4EE5-8BBE-4F39600C30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-Marketpla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rketspace compon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rmedi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third party that operates between sellers and buye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ther business partn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pport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1320-B29F-4B3A-BDB9-EC9860423EE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4:41:15Z</dcterms:created>
  <dc:creator>JL</dc:creator>
  <dc:description/>
  <dc:language>en-US</dc:language>
  <cp:lastModifiedBy>Pearson Education</cp:lastModifiedBy>
  <dcterms:modified xsi:type="dcterms:W3CDTF">2005-06-28T17:00:19Z</dcterms:modified>
  <cp:revision>58</cp:revision>
  <dc:subject/>
  <dc:title>Chapter </dc:title>
</cp:coreProperties>
</file>