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B70-D32C-4CDF-A4E0-779053D0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C08-D1CA-46A4-96FC-50DFACF2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40D-0080-47AD-9C35-CCA93548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6017-03FB-4387-AD72-D92A6CE7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A19A-4974-41C7-8AE1-2D06A41B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45F6-9882-411F-8D1F-0007C5A5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1C63-6CEB-4E90-923C-E4E1D0FC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2A96-0070-45EA-BE23-C1D84D9B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6891-5C5F-452D-835A-4D1C6223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1281-3164-43A6-A65C-E2445564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C6AE-4915-4E9B-A37C-44BEF1AA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5EC-B0A1-471F-9800-5C56CACB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9509-D172-43B1-8D5F-91CA7121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9818-7C3F-46FE-BB73-B96DACC9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B3AF-8860-46F9-B434-206C74D4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A444-CE0A-4A47-9415-AB95D915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872D-839E-4C3F-B4F8-85ECB1D0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EA16E-3BFA-43BE-BC94-DB2CBE42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70792-E8CF-4122-A647-3D444EB6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329D9-9A7A-4347-B5E4-0C7F5FAA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D3352-77C7-458C-84A4-DF08180D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189C1-9A84-48D3-9D48-644D02EB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7DB-50CD-44A1-9569-B8C0310B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F485E-314D-474B-8B61-0414A9F4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D86F5-C97B-411B-B498-83DEBE1D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74D02-819A-4510-96E0-396222B8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D3EDD-189B-4B19-A5CF-E01337BC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90694-E253-414F-95D9-F2029DB4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9E4D-7D95-4B94-85A4-7B29B611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883CA-A588-4E7A-9D98-0CAD5D40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9A9-DAF9-4F48-841D-CBC1F1B0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F0D-2209-421C-A451-4478E5F5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05B-F38C-43E6-A350-C6228078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F02-62C8-4A29-93E4-BDD1BC63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F79-E76E-4A3F-9B33-3752A32E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35E-90EE-408C-BF93-B665BD97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ntice Hall ©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48AA-13E5-4D39-A29B-3D629C51B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3104-B222-4D44-A205-F497AF2C0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A0F4-BE63-4DFC-971C-266661BDD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-Marketplaces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tructures, Mechanisms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conomics, and Impac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-Marketplac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torefronts to Port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lectronic Storefro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orefro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single company’s Web site where products or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rvices are so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ost common mechanisms are a(n)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ectronic catalo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arch engin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ectronic car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auction facil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yment gatew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765C-53F3-4581-8566-08DB2C523B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-Marketplac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torefronts to Port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-mall (online m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online shopping center where many online store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loca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ypes of Stores and Mal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neral stores/ma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cialized stores/ma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gional versus global sto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ure online organizations versus click-and-mortar stor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EEB2-2EFD-4D0A-91A9-61DEC286A2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-Marketplac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torefronts to Port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ypes of E-Marketpla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-marketpla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online market, usually B2B, in which buyers and sellers exchange goods or services; the three types of e-marketplaces are private, public, and consort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vate e-marketpla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line markets owned by a single company; may be either sell-side or buy-sid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marketplac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7E67-F9DF-4142-B6CF-F882F62A86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-Marketplac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torefronts to Port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ypes of E-Marketpla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ll-side e-marketpl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rivate e-marketplace in which a company sells either standard or customized products to qualified compan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uy-side e-marketpl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rivate e-marketplace in which a company makes purchases from invited suppli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C949-2BF6-495C-BC96-66B980AE1D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-Marketplac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torefronts to Port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ublic e-marketpla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2B marketplaces, usually owned and/or managed by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independent third party, that include many seller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d many buyers; also known as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xcha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nformation port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single point of access through a Web browser to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siness information inside and/or outside an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8CEE-D05D-4061-A4E8-E7A07AFB03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-Marketplac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torefronts to Port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 major types of porta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mercial (public)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rporate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ublishing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sonal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bile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oice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330B-AE23-48EA-AF67-C074AA27DA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-Marketplace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torefronts to Port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obile port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ortal accessible via a mobile de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oice port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ortal accessed by telephone or cell ph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C56C-9E7F-4DD5-8026-B34BD579130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mediation in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fomediar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nic intermediaries that control information flow in cyberspace, often aggregating information and selling it to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ve limitations of direct intera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arch cos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ck of priva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complete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ract ris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cing inefficien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06B8-C9EB-45B4-B4C6-156EE8D3B8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2.3 Infomediaries and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nformation Flow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362320" y="1066680"/>
            <a:ext cx="4808520" cy="48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78E7-BB62-4EFA-A6C4-4354BE906A9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mediation in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-distribut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-commerce intermediary that connects manufacturers (suppliers) with business buyers by aggregating the catalogs of many suppliers in one place—the intermediary’s Web 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F4CB-EFD9-4BD5-A434-8C7B285B756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ine e-marketplaces and list their componen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ist the major types of e-marketplaces and describe their featur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scribe the various types of EC intermediaries and their rol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scribe electronic catalogs, shopping carts, and search engin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scribe the various types of auctions and list their characteristic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scuss the benefits, limitations, and impacts of auct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0971-AEDD-4340-B2B5-5E91327E57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mediation in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isintermedi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imination of intermediaries between sellers an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y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intermedi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tablishment of new intermediary roles for traditional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mediaries that have been disintermedia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9705-00B7-44F8-AEF9-C037EC1A9B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atalog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lectronic catalo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resentation of product information in an electronic form; the backbone of most e-selling si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assification of electronic catalo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dynamics of the information present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degree of custom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gration with business proc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CBE7-87C0-474A-A9BE-ACE220F78D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atalog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line catalo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se of upda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bility to be integrated with the purchasing pro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verage of a wide spectrum of produ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ong search capabil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7C7A-1B67-4344-A746-AD8292FBE28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atalog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wo approaches to creating customized catalo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the customers identify the parts of interest to them from the total catalo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 the system automatically identify customer characteristics based on the customer’s transaction reco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2F20-3CAD-4EAD-914D-FD98349213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atalog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earch engi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computer program that can access a database of Internet resources, search for specific information or keywords, and report the resul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oftware (intelligent) ag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ftware that can perform routine tasks that require intellig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C4F0-D862-410A-BADB-A193986B5FF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onic Catalogs 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ctions as EC Market Mechanis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lectronic shopping car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order-processing technology that allows customers to accumulate items they wish to buy while they continue to sh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u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competitive process in which a seller solicits consecutive bids from buyers (forward auctions) or a buyer solicits bids from sellers (backward auctions). Prices are determined dynamically by the b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1B0F-8D6D-4A80-9B7B-2BF000BE06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tions As E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mitations of Traditional Off-line Au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rapid process may give potential buyers little time to make a deci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idders do not have much time to examine the goo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idders must usually be physically present at au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fficult for sellers to move goods to an auction 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missions are fairly hi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9CB7-9594-4F0F-9179-C5B8B02BDB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tions As E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lectronic auction (e-auction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ctions conducted onl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ynamic pric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ices that change based on supply and demand relationships at any given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9726-E4A0-4BD2-8546-CDFF59D2F6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tions As E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ypes of au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Buyer, One Sell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Seller, Many Potential Buy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ward au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auction in which a seller entertains bids from buy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E5C5-6238-4386-8D44-5A8F469F05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tions As E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ypes of au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e Buyer, Many Potential Sell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verse auction (bidding or tendering syste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ction in which the buyer places an item for bid 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tende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 on a request for quote (RFQ) system, potential suppliers bid on the job, with the price reducing sequentially, and the lowest bid wins; primarily a B2B or G2B mechani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2673-23C9-42F4-AAAC-CF518D3AE08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bartering and negotiating onlin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fine m-commerce and explain its role as a market mechanis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iscuss liquidity, quality, and success factors in e-marketplac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economic impact of EC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iscuss competition in the digital econom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impact of e-marketplaces on organization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5889-BE84-4AF9-8ED9-170C2F5218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2.5 The Reverse Auc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111320" y="1754280"/>
            <a:ext cx="7267680" cy="442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B93F-8124-4F4C-90DB-E33883A5AE3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tions As E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ypes of au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e Buyer, Many Potential Sell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ame-your-own-price”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ction model in which a would-be buyer specifies the price (and other terms) he or she is willing to pay to any willing and able seller. It is a C2B model that was pioneered by Priceline.c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14F6-94D7-4C10-A7C1-52DF6E05003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tions As E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ypes of au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ny Sellers, Many Buy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uble au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ctions in which multiple buyers and their bidding prices are matched with multiple sellers and their asking prices, considering the quantities on both si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48E4-6DAF-4E79-B011-B71E2A5F807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ctions As E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mitations of E-Au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nimal secu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sibility of frau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mited particip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mpacts of E-Au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uctions as a coordination mechanis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uctions as a social mechanism to determine a pr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uctions as a highly visible distribution mechanis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uctions as an EC compon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4D8F-E8AB-4320-B30B-9592EC7A429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tering and Negotiating On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arter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exchange of goods or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-bartering (electronic bartering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rtering conducted online, usually by a bartering exchan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artering exchan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marketplace in which an intermediary arranges barter trans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2A78-3761-4D14-BDBA-FA525572ECC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tering and Negotiating On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nline negotiating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—Three factors may facilitate online negotiation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roducts and services that are bundled and customiz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computer technology that facilitates the negotiation pro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software (intelligent) agents that perform searches and comparisons, thereby providing quality customer service and a base from which prices can be negotia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3778-F8B3-480B-97C0-5CF5E54B68D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 in the Wireless Environmen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-Comme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obile comput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mits real-time access to information, applications, and tools that, until recently, were accessible only from a desktop compu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obile commerce (m-commerc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commerce conducted via wireless de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-busine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broadest definition of m-commerce, in which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business is conducted in a wireless environ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3306-8350-4272-BDDF-AA713C0A6A1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in the Digital Econom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nternet ecosys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business model of the Internet econom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ifferenti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viding a product or service that is un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bility to tailor a product, service, or Web content to specific user preferen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385F-0D89-4715-909A-FAD8A6D753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in the Digital Econom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etitive Factors in the Internet Econom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wer pr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arriers to entry are reduc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irtual partnerships multip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rket niches abo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95BA-2B67-432C-B776-960062932CC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 in the Digital Econom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orter’s Competitive Analysis in an Indust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mpetitive forces mod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del, devised by Porter, that says that five major forces of competition determine industry structure and how economic value is divided among the industry players in an industry; analysis of these forces helps companies develop their competitive strate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25F2-3C93-4E3B-BEA9-8F0B0C742E8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Marketpl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rkets (electronic or otherwise) have three main functions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tching buyers and seller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cilitating the exchange of information, goods, services, and payments associated with market transactions;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viding an institutional infrastructure, such as a legal and regulatory framework, which enables the efficient functioning of the mark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EE9C-D754-4729-9486-F1B168AEAD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2.6 Porter’s Competi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orces Mod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981080" y="1079640"/>
            <a:ext cx="5548320" cy="506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1C16-D77E-4C35-BF48-E59AE5A49A8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 of EC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es and Organiz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3117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mproving Direct Marke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pro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ales cha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sav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d cycl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d customer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 or corporate im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0840" y="1652400"/>
            <a:ext cx="43117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ther Impacts on Direct Marke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dering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D0CD-B07B-4013-9327-0F4D7B915F3B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2.7 The Analysis-of-Impac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208160" y="1120680"/>
            <a:ext cx="6151320" cy="489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C886-C56C-450A-A888-40F921B4853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 of EC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es and Organiz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ransforming Organiz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chnology and organizational learning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porate change must be planned and mana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s may have to struggle with different experiments and learn from their mista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changing nature of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ms are reducing the number of employees down to a core of essential staff and outsourcing whatever work they can to countries where wages are significantly l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E40F-32BC-4F19-A865-B65E4D97CFC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 of EC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es and Organiz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defining Organiz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w and improved product capabil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w business mode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roving the supply cha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acts on Manufactu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uild-to-order (pull syste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manufacturing process that starts with an order (usually customized). Once the order is paid for, the vendor starts to fulfill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l-time demand-driven manufactu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rtual manufactu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sembly li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3B84-AF10-465B-A624-4E54E570C7F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2.10 Changes in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upply Ch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17440" y="2514600"/>
            <a:ext cx="4132440" cy="2038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545000" y="1770120"/>
            <a:ext cx="4441680" cy="42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E9A0-3DD6-4B14-92F2-629A05848C5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2.11 Real-Time Demand-Driv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Manufactu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7221600" cy="400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40B0-F81C-406E-982B-CAEB08F626E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 of EC 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Processes and Organiz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defining Organiz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acts on Finance and Accoun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-markets require special finance and accounting systems. Most notable of these are electronic payment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acts on Human Resource Management and Trai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 is changing how people are recruited, evaluated, promoted, and develo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 also is changing the way training and education are offered to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nies are cutting training costs by 50% or more, and virtual courses and programs are mushroo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47B8-AA15-46EF-82AC-3419F24226D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agerial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about intermediarie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hould we auction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hould we barter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m-commerce opportunities are available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do we compete in the digital economy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organizational changes will be needed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F504-09A4-48C9-A483-54BB40D31CA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-marketplaces and their componen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role of intermediari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major types of e-marketplac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lectronic catalogs, search engines, and shopping cart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ypes of auctions and their characteristic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49BF-712A-43FA-BB7B-071896FB56F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Marketpl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lectronic marketplace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-marketplace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marketspace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, changed several of the processes used in trading and supply chai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eater information richnes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er information search costs for buy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minished information asymmetry between sellers and buy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eater temporal separation between time of purchase and time of possess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eater temporal proximity between time of purchase and time of possess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bility of buyers and sellers to be in different loc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0C64-73B7-4B76-806B-3BE2085409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benefits and limitations of auction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rtering and negotiating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role of m-commerc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etition in the digital econom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impact of e-markets on organization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A5E8-FDC2-4E95-AFB5-301A8C7063E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Marketpl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marketspa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marketplace in which sellers and buyers exchange goods and services for money (or for other goods and services), but do so electronical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32B2-C291-46F2-B532-C615D7AC7E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Marketpl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rketspace com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ll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gital produ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oods that can be transformed into digital format and delivered over the Inter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6C4C-54BE-47B0-98E8-4B18FA0165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Marketpl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rketspace com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ion of an e-seller’s business processes through which customers interact, including the seller’s portal, electronic catalogs, a shopping cart, a search engine, and a payment 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vities that support online order-taking. It includes fulfillment, inventory management, purchasing from suppliers, payment processing, packaging,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22E9-72E8-4C92-BC7E-23499A24A5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Marketpla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rketspace com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medi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third party that operates between sellers and buye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ther business partn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pport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BB11-80BC-49F4-AFFC-671E1425DB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4:41:15Z</dcterms:created>
  <dc:creator>JL</dc:creator>
  <dc:description/>
  <dc:language>en-US</dc:language>
  <cp:lastModifiedBy>Pearson Education</cp:lastModifiedBy>
  <dcterms:modified xsi:type="dcterms:W3CDTF">2005-06-28T17:00:19Z</dcterms:modified>
  <cp:revision>58</cp:revision>
  <dc:subject/>
  <dc:title>Chapter </dc:title>
</cp:coreProperties>
</file>