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354AB-97EA-42A7-B879-5F99273B3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08E0-94A8-4086-AB56-4DA63768B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AAFBE-4233-47BE-BB60-06B7C1E09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3B9D1-BF53-4879-BE40-EF2B3EABD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199EA-0C1E-4142-9E60-37EB45D26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A18AF-473D-4783-A5F0-F70294B67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561D4-4D30-405B-8515-C001F46D6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48B30-5F43-4B9B-B384-73F90976F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598CD-7971-4245-82AA-EC6849E6E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F2B8B-96AF-4C3C-9225-089FBB0D5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DE674-A9B3-4F8E-A7BF-702223716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B94D9-DDE4-465E-A674-6FC4D257E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B24B5-FF3A-4740-9434-8F53BD94A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F610E-3504-4B6C-83FB-3921A5EEE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22679-F850-424D-A444-CF8F36558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AB92D-FC00-4213-BA06-B0E8D9037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A8370-3BDD-45A1-AE90-A1BAF9CE4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53DD5A-7EBF-42DA-BF38-CEFECD921D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78A879-550A-4052-B600-4818D5CEA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A89D3-47EB-434D-A4E9-015038C0D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3"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66A9A-E52B-40EE-BB6B-582B8591D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E8493-6F0F-441B-9AE5-668F573FE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F4BA5-C30F-4992-873B-CD30EE5C5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D5CC21-D7D0-4CF1-A134-A0811BD8E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8"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9"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7A0E9-F7E3-4EFF-A1ED-77BE6EDEFE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3"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9B021-7A76-4E12-8A35-B9746FFCA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6"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7"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DDFD7-E51A-46C4-8DE9-326B8E0BF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D133DB-5CB7-4865-AE29-353D1080F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3"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5"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ED207F-8B36-4376-96B2-C804BF003C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8"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9"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0"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1"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47B08A-BC01-4F17-B327-B06997666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CD18-B093-40D6-A65F-3DE7B08A6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A3822-9614-4606-BA58-B943C6FE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4E06E-C5AA-42F9-BFAD-643622BD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EC79-6514-4C10-887C-1597973D9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786FB-2A0B-4BD6-936B-911F5E4C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D984-0A3E-43C3-937C-BF9B65AC6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Prentice Hall © 2006</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FAC9-FB78-4447-A755-7C4A328B0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3" name="PlaceHolder 3"/>
          <p:cNvSpPr>
            <a:spLocks noGrp="1"/>
          </p:cNvSpPr>
          <p:nvPr>
            <p:ph type="dt" idx="4"/>
          </p:nvPr>
        </p:nvSpPr>
        <p:spPr>
          <a:xfrm>
            <a:off x="153720" y="6248520"/>
            <a:ext cx="190476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4"/>
          <p:cNvSpPr>
            <a:spLocks noGrp="1"/>
          </p:cNvSpPr>
          <p:nvPr>
            <p:ph type="ftr" idx="5"/>
          </p:nvPr>
        </p:nvSpPr>
        <p:spPr>
          <a:xfrm>
            <a:off x="3157200" y="6248520"/>
            <a:ext cx="28940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 name="PlaceHolder 5"/>
          <p:cNvSpPr>
            <a:spLocks noGrp="1"/>
          </p:cNvSpPr>
          <p:nvPr>
            <p:ph type="sldNum" idx="6"/>
          </p:nvPr>
        </p:nvSpPr>
        <p:spPr>
          <a:xfrm>
            <a:off x="7070760" y="6221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0AC0-9B5F-4B5E-BEB4-89775A3D9A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83" name="PlaceHolder 2"/>
          <p:cNvSpPr>
            <a:spLocks noGrp="1"/>
          </p:cNvSpPr>
          <p:nvPr>
            <p:ph type="dt" idx="7"/>
          </p:nvPr>
        </p:nvSpPr>
        <p:spPr>
          <a:xfrm>
            <a:off x="291960" y="6195600"/>
            <a:ext cx="1905120" cy="4590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ftr" idx="8"/>
          </p:nvPr>
        </p:nvSpPr>
        <p:spPr>
          <a:xfrm>
            <a:off x="2746080" y="6195600"/>
            <a:ext cx="3981240" cy="4590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4"/>
          <p:cNvSpPr>
            <a:spLocks noGrp="1"/>
          </p:cNvSpPr>
          <p:nvPr>
            <p:ph type="sldNum" idx="9"/>
          </p:nvPr>
        </p:nvSpPr>
        <p:spPr>
          <a:xfrm>
            <a:off x="7246440" y="6195600"/>
            <a:ext cx="1676520" cy="4590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D539-7287-4360-A596-FEF71509B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3</a:t>
            </a:r>
            <a:endParaRPr b="1" lang="en-US" sz="4000" spc="-1" strike="noStrike">
              <a:solidFill>
                <a:srgbClr val="000000"/>
              </a:solidFill>
              <a:latin typeface="Arial"/>
            </a:endParaRPr>
          </a:p>
        </p:txBody>
      </p:sp>
      <p:sp>
        <p:nvSpPr>
          <p:cNvPr id="124" name="PlaceHolder 2"/>
          <p:cNvSpPr>
            <a:spLocks noGrp="1"/>
          </p:cNvSpPr>
          <p:nvPr>
            <p:ph type="subTitle"/>
          </p:nvPr>
        </p:nvSpPr>
        <p:spPr>
          <a:xfrm>
            <a:off x="392040" y="1644120"/>
            <a:ext cx="6161040" cy="132732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ing in Electronic Commerce:</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ducts and Service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4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direct marketing</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Broadly, marketing that takes place without intermediaries between manufacturers and buyers; in the context of this book, marketing done online between any seller and buyer</a:t>
            </a:r>
            <a:endParaRPr b="0" lang="en-US" sz="2500" spc="-1" strike="noStrike">
              <a:solidFill>
                <a:srgbClr val="000000"/>
              </a:solidFill>
              <a:latin typeface="Arial"/>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A4F6CBE3-A765-455F-9EC9-7CFBE50AD71D}" type="slidenum">
              <a:t>1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46"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rect Sales by Manufacturer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lers can understand their markets better because of the direct connection to consumer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umers gain greater information about the products through their direct connection to the manufacturers</a:t>
            </a:r>
            <a:endParaRPr b="0" lang="en-US" sz="25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A8713AF-A5B0-4D33-8A51-604667D53A71}" type="slidenum">
              <a:t>11</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4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virtual (pure-play) e-tailers</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Firms that sell directly to consumers over the Internet without maintaining a physical sales channel</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click-and-mortar retailers</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Brick-and-mortar retailers that offer a transactional Web site from which to conduct busines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F1CF1F9B-7013-4297-BFC7-05F00839744C}" type="slidenum">
              <a:t>12</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50"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brick-and-mortar retailers</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Retailers who do business in the non-Internet, physical world in traditional brick-and-mortar stores</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multichannel business model</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 business model where a company sells in multiple marketing channels simultaneously (e.g., both physical and online stor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2D656981-1164-44B8-ABC2-244245739830}" type="slidenum">
              <a:t>1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5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ing in Online Mall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ferring Directorie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lls with Shared Services</a:t>
            </a:r>
            <a:endParaRPr b="0" lang="en-US" sz="25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presentative B2C Service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stal Service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s and Products for Adult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dding Channel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ft Registri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A0ED7849-DC91-4A49-85A2-BFFCAC444694}" type="slidenum">
              <a:t>1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5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travel is probably the most successful </a:t>
            </a:r>
            <a:endParaRPr b="0" lang="en-US" sz="2900" spc="-1" strike="noStrike">
              <a:solidFill>
                <a:srgbClr val="000000"/>
              </a:solidFill>
              <a:latin typeface="Arial"/>
            </a:endParaRPr>
          </a:p>
          <a:p>
            <a:pPr marL="60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commerce implementation</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rvices provided include:</a:t>
            </a:r>
            <a:endParaRPr b="0" lang="en-US" sz="29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neral information </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erving and purchasing tickets, accommodations, and entertainment</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vel tips </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travel magazines</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are compariso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7FBA62BD-8221-47EF-89F5-EBD57C4A6EFA}" type="slidenum">
              <a:t>15</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56"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nefits of Online Travel Service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nefits to consumers</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amount of free information available 24/7</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tantial discounts can be found</a:t>
            </a:r>
            <a:endParaRPr b="0" lang="en-US" sz="22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nefits to providers</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rlines, hotels, and cruise lines are selling otherwise-empty space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selling saves the provider’s commission and its processing</a:t>
            </a: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14992B41-743C-4254-B95B-6A1DC4189E10}" type="slidenum">
              <a:t>1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5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imitations of Online Travel Service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y people do not use the Internet</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mount of time and the difficulty of using virtual travel agencies may be significant</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lex trips or those that require stopovers may not be available online because they require specialized knowledge and arrangement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8B02E7CE-93F2-4550-A761-95FBD6392FAE}" type="slidenum">
              <a:t>17</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60"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rporate Travel</a:t>
            </a:r>
            <a:endParaRPr b="0" lang="en-US" sz="29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corporate travel costs, companies can make arrangements that enable employees to plan and book their own trips using online optimization tools provided by travel companies, such as those offered by Rosenbluth International</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authorization software that checks availability of funds and compliance with corporate guidelines is usually provided by travel companies</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7181444C-9D5F-4A7A-8AFD-2D71787122D2}" type="slidenum">
              <a:t>1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6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lligent Agents in Travel Service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ftware agents emulate the work and behavior of human agents in executing organizational processes like travel authorization, planning or decision making</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agent is capable of acting autonomously, cooperatively, or collectively to achieve the stated goal</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9AC439E2-41A4-4738-B0B5-1883A0140C4C}" type="slidenum">
              <a:t>1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26" name="PlaceHolder 2"/>
          <p:cNvSpPr>
            <a:spLocks noGrp="1"/>
          </p:cNvSpPr>
          <p:nvPr>
            <p:ph/>
          </p:nvPr>
        </p:nvSpPr>
        <p:spPr>
          <a:xfrm>
            <a:off x="177480" y="1652400"/>
            <a:ext cx="8785080" cy="4406760"/>
          </a:xfrm>
          <a:prstGeom prst="rect">
            <a:avLst/>
          </a:prstGeom>
          <a:noFill/>
          <a:ln w="0">
            <a:noFill/>
          </a:ln>
        </p:spPr>
        <p:txBody>
          <a:bodyPr anchor="t">
            <a:normAutofit/>
          </a:bodyPr>
          <a:p>
            <a:pPr marL="533520" indent="-53352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electronic retailing (e-tailing) and its characteristics.</a:t>
            </a:r>
            <a:endParaRPr b="0" lang="en-US" sz="2900" spc="-1" strike="noStrike">
              <a:solidFill>
                <a:srgbClr val="000000"/>
              </a:solidFill>
              <a:latin typeface="Arial"/>
            </a:endParaRPr>
          </a:p>
          <a:p>
            <a:pPr marL="533520" indent="-53352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fine and describe the primary e-tailing business models.</a:t>
            </a:r>
            <a:endParaRPr b="0" lang="en-US" sz="2900" spc="-1" strike="noStrike">
              <a:solidFill>
                <a:srgbClr val="000000"/>
              </a:solidFill>
              <a:latin typeface="Arial"/>
            </a:endParaRPr>
          </a:p>
          <a:p>
            <a:pPr marL="533520" indent="-53352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how online travel and tourism services operate and their impact on the industry.</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6D59D1F1-B0B3-406E-B34D-F3AC3AE2EA57}" type="slidenum">
              <a:t>2</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Placement </a:t>
            </a:r>
            <a:br>
              <a:rPr sz="3200"/>
            </a:br>
            <a:r>
              <a:rPr b="0" lang="en-US" sz="3200" spc="-1" strike="noStrike">
                <a:solidFill>
                  <a:srgbClr val="000000"/>
                </a:solidFill>
                <a:latin typeface="Arial"/>
              </a:rPr>
              <a:t>and the Job Market Online</a:t>
            </a:r>
            <a:endParaRPr b="1" lang="en-US" sz="3200" spc="-1" strike="noStrike">
              <a:solidFill>
                <a:srgbClr val="000000"/>
              </a:solidFill>
              <a:latin typeface="Arial"/>
            </a:endParaRPr>
          </a:p>
        </p:txBody>
      </p:sp>
      <p:sp>
        <p:nvSpPr>
          <p:cNvPr id="16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Internet Job Marke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ob seeke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mployers seeking employe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ob agenci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vernment agencies and institu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Internet is a global online portal for job seeker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BD6CE453-B53D-4BC4-8A64-262917E525CB}" type="slidenum">
              <a:t>2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Placement </a:t>
            </a:r>
            <a:br>
              <a:rPr sz="3200"/>
            </a:br>
            <a:r>
              <a:rPr b="0" lang="en-US" sz="3200" spc="-1" strike="noStrike">
                <a:solidFill>
                  <a:srgbClr val="000000"/>
                </a:solidFill>
                <a:latin typeface="Arial"/>
              </a:rPr>
              <a:t>and the Job Market Online</a:t>
            </a:r>
            <a:endParaRPr b="1" lang="en-US" sz="3200" spc="-1" strike="noStrike">
              <a:solidFill>
                <a:srgbClr val="000000"/>
              </a:solidFill>
              <a:latin typeface="Arial"/>
            </a:endParaRPr>
          </a:p>
        </p:txBody>
      </p:sp>
      <p:sp>
        <p:nvSpPr>
          <p:cNvPr id="16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imitations of the Electronic Job Marke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y people do not use the Internet. This limitation is even more serious with non-technology-oriented job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ity and privacy:  resumes and other online communications are usually not encrypted, so one’s job-seeking activities may not be secur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445F2F7-49E9-4A2B-837C-14D37B393D54}" type="slidenum">
              <a:t>21</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0760" y="270000"/>
            <a:ext cx="76964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hibit 3.7 Intelligent Agents Match</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Resumes with Available Jobs</a:t>
            </a:r>
            <a:endParaRPr b="1" lang="en-US" sz="3000" spc="-1" strike="noStrike">
              <a:solidFill>
                <a:srgbClr val="000000"/>
              </a:solidFill>
              <a:latin typeface="Arial"/>
            </a:endParaRPr>
          </a:p>
        </p:txBody>
      </p:sp>
      <p:pic>
        <p:nvPicPr>
          <p:cNvPr id="168" name="" descr=""/>
          <p:cNvPicPr/>
          <p:nvPr/>
        </p:nvPicPr>
        <p:blipFill>
          <a:blip r:embed="rId2"/>
          <a:stretch/>
        </p:blipFill>
        <p:spPr>
          <a:xfrm>
            <a:off x="914400" y="1371600"/>
            <a:ext cx="7550280" cy="4768920"/>
          </a:xfrm>
          <a:prstGeom prst="rect">
            <a:avLst/>
          </a:prstGeom>
          <a:ln w="0">
            <a:noFill/>
          </a:ln>
        </p:spPr>
      </p:pic>
      <p:sp>
        <p:nvSpPr>
          <p:cNvPr id="3" name="PlaceHolder 2"/>
          <p:cNvSpPr>
            <a:spLocks noGrp="1"/>
          </p:cNvSpPr>
          <p:nvPr>
            <p:ph type="ftr" idx="5"/>
          </p:nvPr>
        </p:nvSpPr>
        <p:spPr/>
        <p:txBody>
          <a:bodyPr/>
          <a:p>
            <a:r>
              <a:t>Prentice Hall © 2006</a:t>
            </a:r>
          </a:p>
        </p:txBody>
      </p:sp>
      <p:sp>
        <p:nvSpPr>
          <p:cNvPr id="4" name="PlaceHolder 3"/>
          <p:cNvSpPr>
            <a:spLocks noGrp="1"/>
          </p:cNvSpPr>
          <p:nvPr>
            <p:ph type="sldNum" idx="6"/>
          </p:nvPr>
        </p:nvSpPr>
        <p:spPr/>
        <p:txBody>
          <a:bodyPr/>
          <a:p>
            <a:fld id="{1E5EF532-3C4A-4EE9-A3A7-E4E645517114}" type="slidenum">
              <a:t>22</a:t>
            </a:fld>
          </a:p>
        </p:txBody>
      </p:sp>
      <p:sp>
        <p:nvSpPr>
          <p:cNvPr id="5" name="PlaceHolder 4"/>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7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al Estate Applica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vice to consumers on buying or selling a hom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ercial real estate listing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stings of residential real estate in multiple databas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National Association of Realtors (</a:t>
            </a:r>
            <a:r>
              <a:rPr b="0" i="1" lang="en-US" sz="2500" spc="-1" strike="noStrike">
                <a:solidFill>
                  <a:srgbClr val="000000"/>
                </a:solidFill>
                <a:latin typeface="Arial"/>
              </a:rPr>
              <a:t>realtor.com</a:t>
            </a:r>
            <a:r>
              <a:rPr b="0" lang="en-US" sz="2500" spc="-1" strike="noStrike">
                <a:solidFill>
                  <a:srgbClr val="000000"/>
                </a:solidFill>
                <a:latin typeface="Arial"/>
              </a:rPr>
              <a:t>) has links to house listings in all major citi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4E164769-FB4E-43E0-98F5-CFD81809E4C0}" type="slidenum">
              <a:t>2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7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al Estate Applica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ps are availabl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on current mortgage ra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tgage brokers can pass loan applications over the Internet and receive bids from lenders who want to issue mortgag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ine lenders can tentatively approve loans onlin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tomated closing of real estate transactio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8B80FBED-2FF6-4D5C-9491-A6DABE225F4C}" type="slidenum">
              <a:t>2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7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al Estate Applica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erty management companies (residential, commercial, and industrial) are using the Internet for many applications ranging from security to communication with tenan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tes for persons who want to sell their homes privately, without using a real estate agen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ntal properties are listed</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446130A-0511-4820-BA02-12DD460178FC}" type="slidenum">
              <a:t>25</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7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surance Onlin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 increasing number of companies use the Internet to offer standard insurance policies (auto, home, life, or health) at a substantial discoun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party aggregators offer free comparisons of available polic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ral large insurance and risk-management companies offer comprehensive insurance contracts onlin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EB02CC3F-276F-4D10-B0EC-1DA6BCF3931B}" type="slidenum">
              <a:t>2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920" y="138240"/>
            <a:ext cx="80996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hibit 3.8 Online Electronic Stock Trading</a:t>
            </a:r>
            <a:endParaRPr b="1" lang="en-US" sz="3000" spc="-1" strike="noStrike">
              <a:solidFill>
                <a:srgbClr val="000000"/>
              </a:solidFill>
              <a:latin typeface="Arial"/>
            </a:endParaRPr>
          </a:p>
        </p:txBody>
      </p:sp>
      <p:sp>
        <p:nvSpPr>
          <p:cNvPr id="178"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79" name="" descr=""/>
          <p:cNvPicPr/>
          <p:nvPr/>
        </p:nvPicPr>
        <p:blipFill>
          <a:blip r:embed="rId2"/>
          <a:stretch/>
        </p:blipFill>
        <p:spPr>
          <a:xfrm>
            <a:off x="685800" y="1109520"/>
            <a:ext cx="6873840" cy="5035680"/>
          </a:xfrm>
          <a:prstGeom prst="rect">
            <a:avLst/>
          </a:prstGeom>
          <a:ln w="0">
            <a:noFill/>
          </a:ln>
        </p:spPr>
      </p:pic>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42B7F66E-11C0-4E1C-80C8-56651331DC0E}" type="slidenum">
              <a:t>27</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81"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vestment Information Onlin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rrent financial new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unicipal bond pri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y tools are available to help investors in the bond mark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ee “guru” (expert) advic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ock screening and evaluation tools</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DAAAB629-0652-4035-90D0-09FFFF14E349}" type="slidenum">
              <a:t>2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83"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vestment Information Onlin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rticles from the </a:t>
            </a:r>
            <a:r>
              <a:rPr b="0" i="1" lang="en-US" sz="2500" spc="-1" strike="noStrike">
                <a:solidFill>
                  <a:srgbClr val="000000"/>
                </a:solidFill>
                <a:latin typeface="Arial"/>
              </a:rPr>
              <a:t>Journal of the American Association of Individual Investo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chwab Trader encourages consumers to practice trading strategi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atest on funding and pricing of IPO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rnings estimate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major risk of online trading is security</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10DAE3ED-A885-4C10-A40A-A4F23067B4EF}" type="slidenum">
              <a:t>2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2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cuss the online employment market, including its participants, benefits, and limitations.</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online real estate services.</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cuss online stock-trading services.</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cuss cyberbanking and online personal finance.</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on-demand delivery by </a:t>
            </a:r>
            <a:endParaRPr b="0" lang="en-US" sz="2900" spc="-1" strike="noStrike">
              <a:solidFill>
                <a:srgbClr val="000000"/>
              </a:solidFill>
              <a:latin typeface="Arial"/>
            </a:endParaRPr>
          </a:p>
          <a:p>
            <a:pPr marL="60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grocer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E0E63893-E38C-40C3-B754-7DC3AB74EE0D}" type="slidenum">
              <a:t>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 and Personal Finance Online</a:t>
            </a:r>
            <a:endParaRPr b="1" lang="en-US" sz="3200" spc="-1" strike="noStrike">
              <a:solidFill>
                <a:srgbClr val="000000"/>
              </a:solidFill>
              <a:latin typeface="Arial"/>
            </a:endParaRPr>
          </a:p>
        </p:txBody>
      </p:sp>
      <p:sp>
        <p:nvSpPr>
          <p:cNvPr id="185"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electronic banking (e-banking)</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Various banking activities conducted from home or the road using an Internet connection; also known as cyberbanking, virtual banking, online banking, and home banking</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D15D7E71-5F6A-481A-94B6-0F29270E2677}" type="slidenum">
              <a:t>3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3.9 Online Banking Capabilities</a:t>
            </a:r>
            <a:endParaRPr b="1" lang="en-US" sz="3200" spc="-1" strike="noStrike">
              <a:solidFill>
                <a:srgbClr val="000000"/>
              </a:solidFill>
              <a:latin typeface="Arial"/>
            </a:endParaRPr>
          </a:p>
        </p:txBody>
      </p:sp>
      <p:pic>
        <p:nvPicPr>
          <p:cNvPr id="187" name="" descr=""/>
          <p:cNvPicPr/>
          <p:nvPr/>
        </p:nvPicPr>
        <p:blipFill>
          <a:blip r:embed="rId2"/>
          <a:srcRect l="1786" t="6892" r="1786" b="10338"/>
          <a:stretch/>
        </p:blipFill>
        <p:spPr>
          <a:xfrm>
            <a:off x="731880" y="1098720"/>
            <a:ext cx="6708600" cy="4976640"/>
          </a:xfrm>
          <a:prstGeom prst="rect">
            <a:avLst/>
          </a:prstGeom>
          <a:ln w="0">
            <a:noFill/>
          </a:ln>
        </p:spPr>
      </p:pic>
      <p:sp>
        <p:nvSpPr>
          <p:cNvPr id="3" name="PlaceHolder 2"/>
          <p:cNvSpPr>
            <a:spLocks noGrp="1"/>
          </p:cNvSpPr>
          <p:nvPr>
            <p:ph type="ftr" idx="5"/>
          </p:nvPr>
        </p:nvSpPr>
        <p:spPr/>
        <p:txBody>
          <a:bodyPr/>
          <a:p>
            <a:r>
              <a:t>Prentice Hall © 2006</a:t>
            </a:r>
          </a:p>
        </p:txBody>
      </p:sp>
      <p:sp>
        <p:nvSpPr>
          <p:cNvPr id="4" name="PlaceHolder 3"/>
          <p:cNvSpPr>
            <a:spLocks noGrp="1"/>
          </p:cNvSpPr>
          <p:nvPr>
            <p:ph type="sldNum" idx="6"/>
          </p:nvPr>
        </p:nvSpPr>
        <p:spPr/>
        <p:txBody>
          <a:bodyPr/>
          <a:p>
            <a:fld id="{D0C0CD30-D546-4FFA-8F57-063DBC47DF93}" type="slidenum">
              <a:t>31</a:t>
            </a:fld>
          </a:p>
        </p:txBody>
      </p:sp>
      <p:sp>
        <p:nvSpPr>
          <p:cNvPr id="5" name="PlaceHolder 4"/>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 and Personal Finance Online</a:t>
            </a:r>
            <a:endParaRPr b="1" lang="en-US" sz="3200" spc="-1" strike="noStrike">
              <a:solidFill>
                <a:srgbClr val="000000"/>
              </a:solidFill>
              <a:latin typeface="Arial"/>
            </a:endParaRPr>
          </a:p>
        </p:txBody>
      </p:sp>
      <p:sp>
        <p:nvSpPr>
          <p:cNvPr id="18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Virtual Banks</a:t>
            </a:r>
            <a:endParaRPr b="0" lang="en-US" sz="2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rtual banks </a:t>
            </a:r>
            <a:r>
              <a:rPr b="0" lang="en-US" sz="2400" spc="-1" strike="noStrike">
                <a:solidFill>
                  <a:srgbClr val="000000"/>
                </a:solidFill>
                <a:latin typeface="Arial"/>
              </a:rPr>
              <a:t>have no physical location, but only conduct online transactions</a:t>
            </a:r>
            <a:endParaRPr b="0" lang="en-US" sz="24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national and Multiple-Currency Banking</a:t>
            </a:r>
            <a:endParaRPr b="0" lang="en-US" sz="2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g Kong and Shanghai Banking Corporation (</a:t>
            </a:r>
            <a:r>
              <a:rPr b="0" i="1" lang="en-US" sz="2400" spc="-1" strike="noStrike">
                <a:solidFill>
                  <a:srgbClr val="000000"/>
                </a:solidFill>
                <a:latin typeface="Arial"/>
              </a:rPr>
              <a:t>hsbc.com.hk</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card and MasterCard for global transactions (see </a:t>
            </a:r>
            <a:r>
              <a:rPr b="0" i="1" lang="en-US" sz="2400" spc="-1" strike="noStrike">
                <a:solidFill>
                  <a:srgbClr val="000000"/>
                </a:solidFill>
                <a:latin typeface="Arial"/>
              </a:rPr>
              <a:t>tradecard.com</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of America and most other major ba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xall.com</a:t>
            </a:r>
            <a:r>
              <a:rPr b="0" lang="en-US" sz="2400" spc="-1" strike="noStrike">
                <a:solidFill>
                  <a:srgbClr val="000000"/>
                </a:solidFill>
                <a:latin typeface="Arial"/>
              </a:rPr>
              <a:t> is a multidealer foreign exchange service</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9313D73E-4C23-4B6A-8187-574CD5D84AE5}" type="slidenum">
              <a:t>32</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 and Personal Finance Online</a:t>
            </a:r>
            <a:endParaRPr b="1" lang="en-US" sz="3200" spc="-1" strike="noStrike">
              <a:solidFill>
                <a:srgbClr val="000000"/>
              </a:solidFill>
              <a:latin typeface="Arial"/>
            </a:endParaRPr>
          </a:p>
        </p:txBody>
      </p:sp>
      <p:sp>
        <p:nvSpPr>
          <p:cNvPr id="191"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mplementation Issues in Online Financial Transac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ing financial transaction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ccess to banks’ intranets by outside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ing imaging syst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icing online versus off-line servi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sk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67DA662B-326B-4948-9570-E9C5758ED0BF}" type="slidenum">
              <a:t>3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 and Personal Finance Online</a:t>
            </a:r>
            <a:endParaRPr b="1" lang="en-US" sz="3200" spc="-1" strike="noStrike">
              <a:solidFill>
                <a:srgbClr val="000000"/>
              </a:solidFill>
              <a:latin typeface="Arial"/>
            </a:endParaRPr>
          </a:p>
        </p:txBody>
      </p:sp>
      <p:sp>
        <p:nvSpPr>
          <p:cNvPr id="19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Billing and Bill Pay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tomatic transfer of mortgage payment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tomatic transfer of funds to pay monthly utility bill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ying bills from online banking account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rchant-to-customer direct billing</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ing an intermediary for bill consolidation</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son-to-person direct paymen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y bills at bank kios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x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91EC0DD-6B07-40B0-8CF3-9EAB7794B086}" type="slidenum">
              <a:t>3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mand </a:t>
            </a:r>
            <a:br>
              <a:rPr sz="3200"/>
            </a:br>
            <a:r>
              <a:rPr b="0" lang="en-US" sz="3200" spc="-1" strike="noStrike">
                <a:solidFill>
                  <a:srgbClr val="000000"/>
                </a:solidFill>
                <a:latin typeface="Arial"/>
              </a:rPr>
              <a:t>Delivery Services and E-grocers</a:t>
            </a:r>
            <a:endParaRPr b="1" lang="en-US" sz="3200" spc="-1" strike="noStrike">
              <a:solidFill>
                <a:srgbClr val="000000"/>
              </a:solidFill>
              <a:latin typeface="Arial"/>
            </a:endParaRPr>
          </a:p>
        </p:txBody>
      </p:sp>
      <p:sp>
        <p:nvSpPr>
          <p:cNvPr id="19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on-demand delivery service</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Express delivery made fairly quickly after an online order is received</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e-grocer</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A grocer that takes orders online and provides deliveries on a daily or other regular schedule or within a very short period of tim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4956EDFC-4F0F-45C4-9A7B-FB07A141E8BC}" type="slidenum">
              <a:t>35</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Delivery of Digital Products,</a:t>
            </a:r>
            <a:br>
              <a:rPr sz="3200"/>
            </a:br>
            <a:r>
              <a:rPr b="0" lang="en-US" sz="3200" spc="-1" strike="noStrike">
                <a:solidFill>
                  <a:srgbClr val="000000"/>
                </a:solidFill>
                <a:latin typeface="Arial"/>
              </a:rPr>
              <a:t>Entertainment, and Media</a:t>
            </a:r>
            <a:endParaRPr b="1" lang="en-US" sz="3200" spc="-1" strike="noStrike">
              <a:solidFill>
                <a:srgbClr val="000000"/>
              </a:solidFill>
              <a:latin typeface="Arial"/>
            </a:endParaRPr>
          </a:p>
        </p:txBody>
      </p:sp>
      <p:sp>
        <p:nvSpPr>
          <p:cNvPr id="19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ertain goods, (software, music, or news stories) may be distributed in a physical form or they may be digitized and delivered over the Interne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ellers, the costs associated with the manufacture, storage, and distribution of physical products can be enormou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ventory management also becomes a critical cost issue, and so does delivery and distribution</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20D19777-B735-40A6-B4B6-768F7686CAF9}" type="slidenum">
              <a:t>3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Delivery of Digital Products,</a:t>
            </a:r>
            <a:br>
              <a:rPr sz="3200"/>
            </a:br>
            <a:r>
              <a:rPr b="0" lang="en-US" sz="3200" spc="-1" strike="noStrike">
                <a:solidFill>
                  <a:srgbClr val="000000"/>
                </a:solidFill>
                <a:latin typeface="Arial"/>
              </a:rPr>
              <a:t>Entertainment, and Media</a:t>
            </a:r>
            <a:endParaRPr b="1" lang="en-US" sz="3200" spc="-1" strike="noStrike">
              <a:solidFill>
                <a:srgbClr val="000000"/>
              </a:solidFill>
              <a:latin typeface="Arial"/>
            </a:endParaRPr>
          </a:p>
        </p:txBody>
      </p:sp>
      <p:sp>
        <p:nvSpPr>
          <p:cNvPr id="19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active Entertainment</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b browsing</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et gaming</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antasy sport gam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ngle and multiplayer gam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ult entertainmen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d gam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rticipatory Web sit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ading</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93F0B601-58BA-48D1-AB8E-36E5809F5E8F}" type="slidenum">
              <a:t>37</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Delivery of Digital Products,</a:t>
            </a:r>
            <a:br>
              <a:rPr sz="3200"/>
            </a:br>
            <a:r>
              <a:rPr b="0" lang="en-US" sz="3200" spc="-1" strike="noStrike">
                <a:solidFill>
                  <a:srgbClr val="000000"/>
                </a:solidFill>
                <a:latin typeface="Arial"/>
              </a:rPr>
              <a:t>Entertainment, and Media</a:t>
            </a:r>
            <a:endParaRPr b="1" lang="en-US" sz="3200" spc="-1" strike="noStrike">
              <a:solidFill>
                <a:srgbClr val="000000"/>
              </a:solidFill>
              <a:latin typeface="Arial"/>
            </a:endParaRPr>
          </a:p>
        </p:txBody>
      </p:sp>
      <p:sp>
        <p:nvSpPr>
          <p:cNvPr id="201"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ninteractive Entertainmen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vent ticket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tauran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retrieval</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trieval of audio and video entertainmen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ve event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D77D04E2-EB62-4B0B-9EE1-72BDB7E18DA7}" type="slidenum">
              <a:t>3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 Purchase-Decision Aids</a:t>
            </a:r>
            <a:endParaRPr b="1" lang="en-US" sz="3600" spc="-1" strike="noStrike">
              <a:solidFill>
                <a:srgbClr val="000000"/>
              </a:solidFill>
              <a:latin typeface="Arial"/>
            </a:endParaRPr>
          </a:p>
        </p:txBody>
      </p:sp>
      <p:sp>
        <p:nvSpPr>
          <p:cNvPr id="203"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900" spc="-1" strike="noStrike">
                <a:solidFill>
                  <a:srgbClr val="000000"/>
                </a:solidFill>
                <a:latin typeface="Arial"/>
              </a:rPr>
              <a:t>shopping portals</a:t>
            </a:r>
            <a:endParaRPr b="0" lang="en-US" sz="29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Gateways to e-storefronts and e-malls; may be comprehensive or niche oriented</a:t>
            </a:r>
            <a:endParaRPr b="0" lang="en-US" sz="25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900" spc="-1" strike="noStrike">
                <a:solidFill>
                  <a:srgbClr val="000000"/>
                </a:solidFill>
                <a:latin typeface="Arial"/>
              </a:rPr>
              <a:t>shopping robots (shopping agents or shopbots)</a:t>
            </a:r>
            <a:endParaRPr b="0" lang="en-US" sz="29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ools that scout the Web on behalf of consumers who specify search criteri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reless Shopping Comparisons—Enable shoppers to compare prices any time from anywhere, including from any physical stor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178C509A-C66E-4A77-B44D-B3CC08F2C306}" type="slidenum">
              <a:t>3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30"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delivery of digital products and online entertainment.</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cuss various e-tail consumer aids, including comparison-shopping aids.</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ntify the critical success factors and failure avoidance tactics for direct online marketing and e-tailing.</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reintermediation, channel conflict, and personalization in e-tailing.</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91E717DC-8482-4D4E-8B94-6A17CE0333FB}" type="slidenum">
              <a:t>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 Purchase-Decision Aids</a:t>
            </a:r>
            <a:endParaRPr b="1" lang="en-US" sz="3600" spc="-1" strike="noStrike">
              <a:solidFill>
                <a:srgbClr val="000000"/>
              </a:solidFill>
              <a:latin typeface="Arial"/>
            </a:endParaRPr>
          </a:p>
        </p:txBody>
      </p:sp>
      <p:sp>
        <p:nvSpPr>
          <p:cNvPr id="205"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usiness Ratings Si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Verification Si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Shopper Too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crow servi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ties of consumers who offer advice and opinion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wallet (or e-purs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1F79C15-F423-4AA0-B230-B4CA2B43780F}" type="slidenum">
              <a:t>4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 Purchase-Decision Aids</a:t>
            </a:r>
            <a:endParaRPr b="1" lang="en-US" sz="3600" spc="-1" strike="noStrike">
              <a:solidFill>
                <a:srgbClr val="000000"/>
              </a:solidFill>
              <a:latin typeface="Arial"/>
            </a:endParaRPr>
          </a:p>
        </p:txBody>
      </p:sp>
      <p:sp>
        <p:nvSpPr>
          <p:cNvPr id="20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Shopper Too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mazon.com’s A9 Search Engine</a:t>
            </a:r>
            <a:endParaRPr b="0" lang="en-US" sz="25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mbers information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user can make notes about any Web page and search them</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ers a new way to store and organize bookmark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s new sites and favorite old sites specifically for the user to visit</a:t>
            </a: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F5DD03BE-D710-4E8E-9A12-3087BDBF4CE9}" type="slidenum">
              <a:t>41</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ful Click-and-Mortar Strategies</a:t>
            </a:r>
            <a:endParaRPr b="1" lang="en-US" sz="3200" spc="-1" strike="noStrike">
              <a:solidFill>
                <a:srgbClr val="000000"/>
              </a:solidFill>
              <a:latin typeface="Arial"/>
            </a:endParaRPr>
          </a:p>
        </p:txBody>
      </p:sp>
      <p:sp>
        <p:nvSpPr>
          <p:cNvPr id="20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traditional brick-and-mortar store with a mature Web site uses a click-and-mortar strategy to:</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ak with one voic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verage the multichannel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mpower the customer</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8BCF1922-A422-4A80-B557-E736C16FC1C4}" type="slidenum">
              <a:t>42</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E-tailing </a:t>
            </a:r>
            <a:br>
              <a:rPr sz="3200"/>
            </a:br>
            <a:r>
              <a:rPr b="0" lang="en-US" sz="3200" spc="-1" strike="noStrike">
                <a:solidFill>
                  <a:srgbClr val="000000"/>
                </a:solidFill>
                <a:latin typeface="Arial"/>
              </a:rPr>
              <a:t>and Lessons Learned</a:t>
            </a:r>
            <a:endParaRPr b="1" lang="en-US" sz="3200" spc="-1" strike="noStrike">
              <a:solidFill>
                <a:srgbClr val="000000"/>
              </a:solidFill>
              <a:latin typeface="Arial"/>
            </a:endParaRPr>
          </a:p>
        </p:txBody>
      </p:sp>
      <p:sp>
        <p:nvSpPr>
          <p:cNvPr id="211"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n’t ignore profitabilit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nage new risk expos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atch the cost of brand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 not start with insufficient fund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Web site must be effectiv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eep it interesting</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4F0ADE43-F0B0-4A81-B81D-F255160FB2CA}" type="slidenum">
              <a:t>4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 in E-Tailing</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213"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disintermediation</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The removal of organizations or business process layers responsible for certain intermediary steps in a given supply chain</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reintermediation</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The process whereby intermediaries (either new ones or those that had been disintermediated) take on new intermediary rol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F84E8CAE-565A-4000-A0A8-B023357B56C9}" type="slidenum">
              <a:t>4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6280" y="138240"/>
            <a:ext cx="78710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ibit 3.12</a:t>
            </a:r>
            <a:r>
              <a:rPr b="0" lang="en-US" sz="3000" spc="-1" strike="noStrike">
                <a:solidFill>
                  <a:srgbClr val="000000"/>
                </a:solidFill>
                <a:latin typeface="Arial"/>
              </a:rPr>
              <a:t> </a:t>
            </a:r>
            <a:r>
              <a:rPr b="0" lang="en-US" sz="2400" spc="-1" strike="noStrike">
                <a:solidFill>
                  <a:srgbClr val="000000"/>
                </a:solidFill>
                <a:latin typeface="Arial"/>
              </a:rPr>
              <a:t>Disintermediation and Reintermediation</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 the B2C Supply Chain</a:t>
            </a:r>
            <a:endParaRPr b="1" lang="en-US" sz="2400" spc="-1" strike="noStrike">
              <a:solidFill>
                <a:srgbClr val="000000"/>
              </a:solidFill>
              <a:latin typeface="Arial"/>
            </a:endParaRPr>
          </a:p>
        </p:txBody>
      </p:sp>
      <p:pic>
        <p:nvPicPr>
          <p:cNvPr id="215" name="" descr=""/>
          <p:cNvPicPr/>
          <p:nvPr/>
        </p:nvPicPr>
        <p:blipFill>
          <a:blip r:embed="rId2"/>
          <a:stretch/>
        </p:blipFill>
        <p:spPr>
          <a:xfrm>
            <a:off x="1295280" y="1143000"/>
            <a:ext cx="6042240" cy="5121360"/>
          </a:xfrm>
          <a:prstGeom prst="rect">
            <a:avLst/>
          </a:prstGeom>
          <a:ln w="0">
            <a:noFill/>
          </a:ln>
        </p:spPr>
      </p:pic>
      <p:sp>
        <p:nvSpPr>
          <p:cNvPr id="3" name="PlaceHolder 2"/>
          <p:cNvSpPr>
            <a:spLocks noGrp="1"/>
          </p:cNvSpPr>
          <p:nvPr>
            <p:ph type="ftr" idx="5"/>
          </p:nvPr>
        </p:nvSpPr>
        <p:spPr/>
        <p:txBody>
          <a:bodyPr/>
          <a:p>
            <a:r>
              <a:t>Prentice Hall © 2006</a:t>
            </a:r>
          </a:p>
        </p:txBody>
      </p:sp>
      <p:sp>
        <p:nvSpPr>
          <p:cNvPr id="4" name="PlaceHolder 3"/>
          <p:cNvSpPr>
            <a:spLocks noGrp="1"/>
          </p:cNvSpPr>
          <p:nvPr>
            <p:ph type="sldNum" idx="6"/>
          </p:nvPr>
        </p:nvSpPr>
        <p:spPr/>
        <p:txBody>
          <a:bodyPr/>
          <a:p>
            <a:fld id="{FDAC5AFB-BB26-4FF8-A501-2B55F003C54A}" type="slidenum">
              <a:t>45</a:t>
            </a:fld>
          </a:p>
        </p:txBody>
      </p:sp>
      <p:sp>
        <p:nvSpPr>
          <p:cNvPr id="5" name="PlaceHolder 4"/>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 in E-Tailing</a:t>
            </a:r>
            <a:endParaRPr b="1" lang="en-US" sz="3600" spc="-1" strike="noStrike">
              <a:solidFill>
                <a:srgbClr val="000000"/>
              </a:solidFill>
              <a:latin typeface="Arial"/>
            </a:endParaRPr>
          </a:p>
        </p:txBody>
      </p:sp>
      <p:sp>
        <p:nvSpPr>
          <p:cNvPr id="21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cybermediation (electronic intermediation)</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The use of software (intelligent) agents to facilitate intermediation</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hypermediation</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Extensive use of both human and electronic intermediation to provide assistance in all phases of an e-commerce ventur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2865D97F-DEF3-401A-A162-D4294AA7D9EB}" type="slidenum">
              <a:t>4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 in E-Tailing</a:t>
            </a:r>
            <a:endParaRPr b="1" lang="en-US" sz="3600" spc="-1" strike="noStrike">
              <a:solidFill>
                <a:srgbClr val="000000"/>
              </a:solidFill>
              <a:latin typeface="Arial"/>
            </a:endParaRPr>
          </a:p>
        </p:txBody>
      </p:sp>
      <p:sp>
        <p:nvSpPr>
          <p:cNvPr id="21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channel conflict</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Situation in which an online marketing channel upsets the traditional channels due to real or perceived damage from competitio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termining the right pric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sonaliz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raud and illegal a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to make customers happy</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DDA24033-E998-4949-A545-64FFBC38E2BB}" type="slidenum">
              <a:t>47</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Issues</a:t>
            </a:r>
            <a:endParaRPr b="1" lang="en-US" sz="3600" spc="-1" strike="noStrike">
              <a:solidFill>
                <a:srgbClr val="000000"/>
              </a:solidFill>
              <a:latin typeface="Arial"/>
            </a:endParaRPr>
          </a:p>
        </p:txBody>
      </p:sp>
      <p:sp>
        <p:nvSpPr>
          <p:cNvPr id="22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should our strategic position b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we financially viabl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ould we recruit out of town?</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international legal issues regarding online recruiting?</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 we have ethics and privacy guideline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will intermediaries act in cyberspac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ould we set up alliances?</a:t>
            </a:r>
            <a:endParaRPr b="0" lang="en-US" sz="29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12D97A43-0226-47B3-83A2-AABB9052DD3D}" type="slidenum">
              <a:t>4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2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cope of e-tailing.</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tailing business model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online travel/tourism services operat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online job market and its benefit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electronic real estate market.</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trading of stocks and bond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0975AD9B-33C8-48E7-8E7D-444AF93CA0E3}" type="slidenum">
              <a:t>4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arketing </a:t>
            </a:r>
            <a:br>
              <a:rPr sz="3200"/>
            </a:br>
            <a:r>
              <a:rPr b="0" lang="en-US" sz="3200" spc="-1" strike="noStrike">
                <a:solidFill>
                  <a:srgbClr val="000000"/>
                </a:solidFill>
                <a:latin typeface="Arial"/>
              </a:rPr>
              <a:t>and Electronic Retailing</a:t>
            </a:r>
            <a:endParaRPr b="1" lang="en-US" sz="3200" spc="-1" strike="noStrike">
              <a:solidFill>
                <a:srgbClr val="000000"/>
              </a:solidFill>
              <a:latin typeface="Arial"/>
            </a:endParaRPr>
          </a:p>
        </p:txBody>
      </p:sp>
      <p:sp>
        <p:nvSpPr>
          <p:cNvPr id="13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verview of Electronic Retailing</a:t>
            </a:r>
            <a:endParaRPr b="0" lang="en-US" sz="29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electronic retailing (e-tailing)</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Retailing conducted online, over the Internet</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900" spc="-1" strike="noStrike">
                <a:solidFill>
                  <a:srgbClr val="000000"/>
                </a:solidFill>
                <a:latin typeface="Arial"/>
              </a:rPr>
              <a:t>e-tailers</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Retailers who sell over the Internet</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B0FFF5A3-EB6A-4E7D-B50A-0504F4C2547D}" type="slidenum">
              <a:t>5</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2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yberbanking and personal financ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demand delivery servic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livery of digital product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iding consumer purchase decision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itical success factor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intermediation and reintermediation.</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07863F41-0207-4F11-A9B2-603A775AB20A}" type="slidenum">
              <a:t>5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arketing </a:t>
            </a:r>
            <a:br>
              <a:rPr sz="3200"/>
            </a:br>
            <a:r>
              <a:rPr b="0" lang="en-US" sz="3200" spc="-1" strike="noStrike">
                <a:solidFill>
                  <a:srgbClr val="000000"/>
                </a:solidFill>
                <a:latin typeface="Arial"/>
              </a:rPr>
              <a:t>and Electronic Retailing</a:t>
            </a:r>
            <a:endParaRPr b="1" lang="en-US" sz="3200" spc="-1" strike="noStrike">
              <a:solidFill>
                <a:srgbClr val="000000"/>
              </a:solidFill>
              <a:latin typeface="Arial"/>
            </a:endParaRPr>
          </a:p>
        </p:txBody>
      </p:sp>
      <p:sp>
        <p:nvSpPr>
          <p:cNvPr id="13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ze and Growth of the B2C Market</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ported amounts of online sales </a:t>
            </a:r>
            <a:r>
              <a:rPr b="0" i="1" lang="en-US" sz="2500" spc="-1" strike="noStrike">
                <a:solidFill>
                  <a:srgbClr val="000000"/>
                </a:solidFill>
                <a:latin typeface="Arial"/>
              </a:rPr>
              <a:t>deviate substantially </a:t>
            </a:r>
            <a:r>
              <a:rPr b="0" lang="en-US" sz="2500" spc="-1" strike="noStrike">
                <a:solidFill>
                  <a:srgbClr val="000000"/>
                </a:solidFill>
                <a:latin typeface="Arial"/>
              </a:rPr>
              <a:t>based on how the numbers are derived</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nual online 2004 sales were estimated to be over $70 billion </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online shopper spent over $350 per quarter</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rester Research estimates that e-tailing will reach $316 billion by 2010</a:t>
            </a: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9785DC3-E98B-4397-AD68-EAFB91E9F013}" type="slidenum">
              <a:t>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arketing </a:t>
            </a:r>
            <a:br>
              <a:rPr sz="3200"/>
            </a:br>
            <a:r>
              <a:rPr b="0" lang="en-US" sz="3200" spc="-1" strike="noStrike">
                <a:solidFill>
                  <a:srgbClr val="000000"/>
                </a:solidFill>
                <a:latin typeface="Arial"/>
              </a:rPr>
              <a:t>and Electronic Retailing</a:t>
            </a:r>
            <a:endParaRPr b="1" lang="en-US" sz="3200" spc="-1" strike="noStrike">
              <a:solidFill>
                <a:srgbClr val="000000"/>
              </a:solidFill>
              <a:latin typeface="Arial"/>
            </a:endParaRPr>
          </a:p>
        </p:txBody>
      </p:sp>
      <p:sp>
        <p:nvSpPr>
          <p:cNvPr id="136" name="PlaceHolder 2"/>
          <p:cNvSpPr>
            <a:spLocks noGrp="1"/>
          </p:cNvSpPr>
          <p:nvPr>
            <p:ph/>
          </p:nvPr>
        </p:nvSpPr>
        <p:spPr>
          <a:xfrm>
            <a:off x="457200" y="2297160"/>
            <a:ext cx="4038480" cy="4525920"/>
          </a:xfrm>
          <a:prstGeom prst="rect">
            <a:avLst/>
          </a:prstGeom>
          <a:noFill/>
          <a:ln w="0">
            <a:noFill/>
          </a:ln>
        </p:spPr>
        <p:txBody>
          <a:bodyPr anchor="t">
            <a:normAutofit/>
          </a:bodyPr>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 hardware and software</a:t>
            </a:r>
            <a:endParaRPr b="0" lang="en-US" sz="2500" spc="-1" strike="noStrike">
              <a:solidFill>
                <a:srgbClr val="000000"/>
              </a:solidFill>
              <a:latin typeface="Arial"/>
            </a:endParaRPr>
          </a:p>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umer electronics</a:t>
            </a:r>
            <a:endParaRPr b="0" lang="en-US" sz="2500" spc="-1" strike="noStrike">
              <a:solidFill>
                <a:srgbClr val="000000"/>
              </a:solidFill>
              <a:latin typeface="Arial"/>
            </a:endParaRPr>
          </a:p>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ffice supplies</a:t>
            </a:r>
            <a:endParaRPr b="0" lang="en-US" sz="2500" spc="-1" strike="noStrike">
              <a:solidFill>
                <a:srgbClr val="000000"/>
              </a:solidFill>
              <a:latin typeface="Arial"/>
            </a:endParaRPr>
          </a:p>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orting goods</a:t>
            </a:r>
            <a:endParaRPr b="0" lang="en-US" sz="2500" spc="-1" strike="noStrike">
              <a:solidFill>
                <a:srgbClr val="000000"/>
              </a:solidFill>
              <a:latin typeface="Arial"/>
            </a:endParaRPr>
          </a:p>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oks and music</a:t>
            </a:r>
            <a:endParaRPr b="0" lang="en-US" sz="2500" spc="-1" strike="noStrike">
              <a:solidFill>
                <a:srgbClr val="000000"/>
              </a:solidFill>
              <a:latin typeface="Arial"/>
            </a:endParaRPr>
          </a:p>
        </p:txBody>
      </p:sp>
      <p:sp>
        <p:nvSpPr>
          <p:cNvPr id="137" name="PlaceHolder 3"/>
          <p:cNvSpPr>
            <a:spLocks noGrp="1"/>
          </p:cNvSpPr>
          <p:nvPr>
            <p:ph/>
          </p:nvPr>
        </p:nvSpPr>
        <p:spPr>
          <a:xfrm>
            <a:off x="4648320" y="231948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lth and beau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pparel and clothing</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ewelr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8" name=""/>
          <p:cNvSpPr/>
          <p:nvPr/>
        </p:nvSpPr>
        <p:spPr>
          <a:xfrm>
            <a:off x="304920" y="1447920"/>
            <a:ext cx="6553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Sells Well on the Internet?</a:t>
            </a: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Prentice Hall © 2006</a:t>
            </a:r>
          </a:p>
        </p:txBody>
      </p:sp>
      <p:sp>
        <p:nvSpPr>
          <p:cNvPr id="6" name="PlaceHolder 5"/>
          <p:cNvSpPr>
            <a:spLocks noGrp="1"/>
          </p:cNvSpPr>
          <p:nvPr>
            <p:ph type="sldNum" idx="6"/>
          </p:nvPr>
        </p:nvSpPr>
        <p:spPr/>
        <p:txBody>
          <a:bodyPr/>
          <a:p>
            <a:fld id="{7491B9CF-3333-4A94-ACA3-716CFE24E932}" type="slidenum">
              <a:t>7</a:t>
            </a:fld>
          </a:p>
        </p:txBody>
      </p:sp>
      <p:sp>
        <p:nvSpPr>
          <p:cNvPr id="7" name="PlaceHolder 6"/>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arketing </a:t>
            </a:r>
            <a:br>
              <a:rPr sz="3200"/>
            </a:br>
            <a:r>
              <a:rPr b="0" lang="en-US" sz="3200" spc="-1" strike="noStrike">
                <a:solidFill>
                  <a:srgbClr val="000000"/>
                </a:solidFill>
                <a:latin typeface="Arial"/>
              </a:rPr>
              <a:t>and Electronic Retailing</a:t>
            </a:r>
            <a:endParaRPr b="1" lang="en-US" sz="3200" spc="-1" strike="noStrike">
              <a:solidFill>
                <a:srgbClr val="000000"/>
              </a:solidFill>
              <a:latin typeface="Arial"/>
            </a:endParaRPr>
          </a:p>
        </p:txBody>
      </p:sp>
      <p:sp>
        <p:nvSpPr>
          <p:cNvPr id="140"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aracteristics of Successful E-Tailing</a:t>
            </a:r>
            <a:endParaRPr b="0" lang="en-US" sz="29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gh brand recognition</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guarantee provided by highly reliable or well-known vendors</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gitized format</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latively inexpensive items</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equently purchased items </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odities with standard specifications</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ll-known packaged items that cannot be opened even in a traditional store</a:t>
            </a: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617208DA-4660-4A44-A1C4-6E26613F4F6D}" type="slidenum">
              <a:t>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4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ssification by Distribution Channel</a:t>
            </a:r>
            <a:endParaRPr b="0" lang="en-US" sz="29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l-order retailers that go online</a:t>
            </a:r>
            <a:endParaRPr b="0" lang="en-US" sz="25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rect marketing from manufacturers</a:t>
            </a:r>
            <a:endParaRPr b="0" lang="en-US" sz="25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re-play e-tailers</a:t>
            </a:r>
            <a:endParaRPr b="0" lang="en-US" sz="25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and-mortar retailers</a:t>
            </a:r>
            <a:endParaRPr b="0" lang="en-US" sz="25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et (online) mall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F43B45C-D310-4087-8CF3-DB7C6D948F26}" type="slidenum">
              <a:t>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14:41:15Z</dcterms:created>
  <dc:creator>JL</dc:creator>
  <dc:description/>
  <dc:language>en-US</dc:language>
  <cp:lastModifiedBy>Pearson Education</cp:lastModifiedBy>
  <dcterms:modified xsi:type="dcterms:W3CDTF">2005-07-07T12:50:54Z</dcterms:modified>
  <cp:revision>80</cp:revision>
  <dc:subject/>
  <dc:title>Chapter </dc:title>
</cp:coreProperties>
</file>