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8.png" ContentType="image/png"/>
  <Override PartName="/ppt/media/image9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13.jpeg" ContentType="image/jpeg"/>
  <Override PartName="/ppt/media/image4.png" ContentType="image/png"/>
  <Override PartName="/ppt/media/image27.jpeg" ContentType="image/jpeg"/>
  <Override PartName="/ppt/media/image17.png" ContentType="image/png"/>
  <Override PartName="/ppt/media/image24.png" ContentType="image/png"/>
  <Override PartName="/ppt/media/image23.jpeg" ContentType="image/jpeg"/>
  <Override PartName="/ppt/media/image22.png" ContentType="image/png"/>
  <Override PartName="/ppt/media/image1.jpeg" ContentType="image/jpeg"/>
  <Override PartName="/ppt/media/image21.png" ContentType="image/png"/>
  <Override PartName="/ppt/media/image16.png" ContentType="image/png"/>
  <Override PartName="/ppt/media/image15.png" ContentType="image/png"/>
  <Override PartName="/ppt/media/image1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D55A7-D518-49EE-B10D-CA743C96FE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77E3D-D729-47B3-A0B9-506B5DDC7661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56FF8-A0F8-4408-8C05-43E1535ABD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BC186-3033-4789-B3E0-036B57644F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3DA7D-E649-4870-8D6D-17DF337332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9E5E3-4D98-46E6-B4EB-9000E5D170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7A29A-E77E-42F1-B99C-B85F6C2CA2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73396-0232-4FC3-AE38-ED4873A674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EF34E-E3A2-48D2-BEB9-870BD5972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AE396-A8CA-49DF-A2B4-E232CEA954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FB0C3-F63B-4AF7-931C-9136EB5218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44A4A-1E38-4BCF-82BF-0040B43B5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F0260-13F2-45BC-ABAF-2349504D4F44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28060-ACC1-432A-8E2A-0ED14BB024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DDE19-1C22-4F38-ACA9-5127F7943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26155-4C90-43B6-9D2E-771CCFAFA0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08845-D9BD-4F3E-B96E-5335717394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6D8C8-CE79-4A2D-93A6-851195C089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5D217-51EB-4108-BED4-2B56830D1D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C3AD6-4732-4395-9DDB-F0DB9072EB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6851F-F918-431F-A84C-F034ED4FE4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18902-67C9-46E0-AEBE-CC8BCB0580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30A03-2333-4C2C-977E-71AAA03540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FD612-CA92-4A14-9032-5BAFE238D258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80C9C-3A89-480B-B97B-3D8D32F5E5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1FCA7-F7A7-4242-9D8D-1836397D8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B5C4B-F387-403C-855C-E43C485557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A94CF-795C-4E24-B5DE-434655EC77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4D84F-F0C7-4BF5-A845-D487D94A15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397AB-08A3-4146-BB25-907BB35FC0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87118-9CC4-4FF6-9F70-252E44C32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CD871-F4FF-445A-A10F-BCB3847AD3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7107D-8851-4A75-A0FF-C5C22A7D8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2232B-0650-4E09-B18B-6515373D6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88570-2A30-4698-8836-44F52EFE2CE8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E4613-C0D2-442C-8E30-9A78C77B4A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7753E-8E3F-43D2-BBCC-DE26F87C16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26988-59C9-43C1-8AAB-B0EC46E167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F58E2-06D8-4A51-AA2D-A845698A52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F125A-041A-4EB3-949D-6D9616A524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592D4-A6BD-47C3-9600-9C36D6AD7C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8F26A-354B-43EA-9922-A53CF712D4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1D1D0-BD16-4115-9EC7-C7031751CA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243D7-36BA-41B4-950C-F9B2B38BC1B3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D477B-80D5-45C0-B978-10E7ED636382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689ED-AA95-4E94-8A80-0AA6AAD5E511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33EA3-914F-4557-B269-53008573F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145E2-2A2A-4A4E-80C3-2A2943BC35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6C63-9524-497E-BEE0-2C659C0A5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DBBA-A973-4431-907A-2E8BEA0DC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5DA6-50E7-44EA-9C04-1A3E13534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2A0A-1540-4B99-853E-3FDE47862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9B338-A3E2-46FB-A1AD-CF01E6E8A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9242B-B5A6-4D91-8C4A-9A5DEC285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D195E-A11B-4A40-99F2-8F3B5ABB3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88905-31B4-4C75-83BE-F5953A8A3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784A8-32E2-4625-94D1-63362E492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2A4D8-F227-45E5-9E4F-8D9CB4987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54EF5-9714-4D8C-8212-4A62CA267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B1A0-1F77-4A03-AE55-2B4F5CB8F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E4A9F-5FB5-42C4-92B3-CEA0763CF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C4255-2842-4C9A-B18D-E1D003E4A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0CF4F-43F5-47B7-8B6D-591055188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3BE05-A1A0-4DF0-A76E-CC86F5D0C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0FFCD-ED9D-4541-B215-3B39C92E6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DA22A-5CB0-456D-8CFE-EB82D0B7C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CF7A7-0C18-4C57-A2B9-1805C76E8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A9EF1-CE7E-417B-9A9B-913B539FE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46100-678C-4719-A23D-AB8A9C777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9975B-0E9F-4441-8CA1-7A9256D23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7C07-CC1A-4CB2-A83D-AFD4748D4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ECF05-65FC-4070-AB52-D568D55F6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98747-E3DD-4048-B958-7DF4096CA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8489C-CF30-4926-8463-1329584B5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1BD0C-0BD3-4EA6-80A1-4DBBF7EBC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D4812-AFB3-460B-9ABC-560827C75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D4928-3E62-4814-B7EA-40808C2F5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C1775-A14B-4956-A0B7-7674DA3AE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59DF-BBF0-4BCA-806F-1FC1F762C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6510-A925-4E17-A535-214E3AA9D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166A-1968-4413-A67C-8B3E6A0BB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292C-530B-44FA-94C7-68872514A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D8D0-F4D7-49B0-9823-512777205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B36B-B590-4549-877F-E593866F4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onic Comme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ntice Hall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D1246-2CAA-4BDB-A643-ADB44BB80A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53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lectronic Commer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5720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ntice Hall © 200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D5440-BFE6-4E55-B807-AE672180FD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291960" y="619560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lectronic Commer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2746080" y="6195600"/>
            <a:ext cx="398124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ntice Hall © 200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46440" y="6195600"/>
            <a:ext cx="16765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866BB-9CB8-4FE5-B813-A0E42E0AF9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C:\Users\kholoud\Pictures\0131869604.jpg"/>
          <p:cNvPicPr/>
          <p:nvPr/>
        </p:nvPicPr>
        <p:blipFill>
          <a:blip r:embed="rId1"/>
          <a:stretch/>
        </p:blipFill>
        <p:spPr>
          <a:xfrm>
            <a:off x="-14400" y="68400"/>
            <a:ext cx="5004000" cy="68072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43280" y="333000"/>
            <a:ext cx="823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b0f0"/>
                </a:solidFill>
                <a:latin typeface="Arial"/>
              </a:rPr>
              <a:t>Chapter 4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"/>
          <p:cNvSpPr/>
          <p:nvPr/>
        </p:nvSpPr>
        <p:spPr>
          <a:xfrm>
            <a:off x="2124000" y="3182760"/>
            <a:ext cx="2160720" cy="5763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2124000" y="3035160"/>
            <a:ext cx="457200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Tahoma"/>
              </a:rPr>
              <a:t>Market Resear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Tahoma"/>
              </a:rPr>
              <a:t>       </a:t>
            </a:r>
            <a:r>
              <a:rPr b="1" lang="en-US" sz="3200" spc="-1" strike="noStrike">
                <a:solidFill>
                  <a:srgbClr val="009999"/>
                </a:solidFill>
                <a:latin typeface="Tahoma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Tahoma"/>
              </a:rPr>
              <a:t>Advertis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عنصر نائب للتاريخ 3"/>
          <p:cNvSpPr/>
          <p:nvPr/>
        </p:nvSpPr>
        <p:spPr>
          <a:xfrm>
            <a:off x="154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lectronic Commerce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عنصر نائب للتذييل 4"/>
          <p:cNvSpPr/>
          <p:nvPr/>
        </p:nvSpPr>
        <p:spPr>
          <a:xfrm>
            <a:off x="315756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ntice Hall © 2006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عنصر نائب لرقم الشريحة 5"/>
          <p:cNvSpPr/>
          <p:nvPr/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C2428-BFED-4773-8F42-D898A15AED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-to-One Marketing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yalty, and Trust in E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collaborative filtering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 personalization method that uses customer data to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redict, based on formulas derived from behavioral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ciences, what other products or services a customer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ay enjoy; predictions can be extended to other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ustomers with similar profil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Variations of collaborative filtering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ule-based filter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tent-based filter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ctivity-based filter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عنصر نائب للتاريخ 3"/>
          <p:cNvSpPr/>
          <p:nvPr/>
        </p:nvSpPr>
        <p:spPr>
          <a:xfrm>
            <a:off x="154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lectronic Commerce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عنصر نائب للتذييل 4"/>
          <p:cNvSpPr/>
          <p:nvPr/>
        </p:nvSpPr>
        <p:spPr>
          <a:xfrm>
            <a:off x="315756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ntice Hall © 2006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عنصر نائب لرقم الشريحة 5"/>
          <p:cNvSpPr/>
          <p:nvPr/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057C1-70C8-41C3-9ABD-A7EB89DE97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-to-One Marketing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yalty, and Trust in E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ustomer Loyalt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Customer loyalty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the degree to which a customer will stay with a specific vendor or brand for repeat purchas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ustomer loyalty is expected to produce more sales and increased profits over tim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e-loyalt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ustomer loyalty to an e-tail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صورة 6" descr="green-people.jpg"/>
          <p:cNvPicPr/>
          <p:nvPr/>
        </p:nvPicPr>
        <p:blipFill>
          <a:blip r:embed="rId1"/>
          <a:stretch/>
        </p:blipFill>
        <p:spPr>
          <a:xfrm>
            <a:off x="6095880" y="4114800"/>
            <a:ext cx="233676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عنصر نائب للتاريخ 3"/>
          <p:cNvSpPr/>
          <p:nvPr/>
        </p:nvSpPr>
        <p:spPr>
          <a:xfrm>
            <a:off x="154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lectronic Commerce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عنصر نائب للتذييل 4"/>
          <p:cNvSpPr/>
          <p:nvPr/>
        </p:nvSpPr>
        <p:spPr>
          <a:xfrm>
            <a:off x="315756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ntice Hall © 2006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عنصر نائب لرقم الشريحة 5"/>
          <p:cNvSpPr/>
          <p:nvPr/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F17AE-728F-486C-A561-8320212BBE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-to-One Marketing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yalty, and Trust in E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atisfaction in EC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tisfaction is one of the most important consumer reactions in the B2C online environme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صورة 6" descr="customer-satisfaction.jpg"/>
          <p:cNvPicPr/>
          <p:nvPr/>
        </p:nvPicPr>
        <p:blipFill>
          <a:blip r:embed="rId1"/>
          <a:stretch/>
        </p:blipFill>
        <p:spPr>
          <a:xfrm>
            <a:off x="4648320" y="457200"/>
            <a:ext cx="42670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عنصر نائب للتاريخ 3"/>
          <p:cNvSpPr/>
          <p:nvPr/>
        </p:nvSpPr>
        <p:spPr>
          <a:xfrm>
            <a:off x="154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lectronic Commerce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عنصر نائب للتذييل 4"/>
          <p:cNvSpPr/>
          <p:nvPr/>
        </p:nvSpPr>
        <p:spPr>
          <a:xfrm>
            <a:off x="315756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ntice Hall © 2006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عنصر نائب لرقم الشريحة 5"/>
          <p:cNvSpPr/>
          <p:nvPr/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6CB40-3B79-48F9-8983-80725C2882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-to-One Marketing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yalty, and Trust in E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trus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psychological status of involved parties who are willing to pursue further interaction to achieve a planned goa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How to Increase Trust in EC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rust between buyers and sell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rand recogni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C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urity mechanisms can help solidify trus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عنصر نائب للمحتوى 6" descr="trust.gif"/>
          <p:cNvPicPr/>
          <p:nvPr/>
        </p:nvPicPr>
        <p:blipFill>
          <a:blip r:embed="rId1"/>
          <a:stretch/>
        </p:blipFill>
        <p:spPr>
          <a:xfrm>
            <a:off x="1828800" y="838080"/>
            <a:ext cx="5334120" cy="5334120"/>
          </a:xfrm>
          <a:prstGeom prst="rect">
            <a:avLst/>
          </a:prstGeom>
          <a:ln w="0">
            <a:noFill/>
          </a:ln>
        </p:spPr>
      </p:pic>
      <p:sp>
        <p:nvSpPr>
          <p:cNvPr id="199" name="عنصر نائب للتاريخ 3"/>
          <p:cNvSpPr/>
          <p:nvPr/>
        </p:nvSpPr>
        <p:spPr>
          <a:xfrm>
            <a:off x="154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lectronic Commerce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عنصر نائب للتذييل 4"/>
          <p:cNvSpPr/>
          <p:nvPr/>
        </p:nvSpPr>
        <p:spPr>
          <a:xfrm>
            <a:off x="315756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ntice Hall © 2006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عنصر نائب لرقم الشريحة 5"/>
          <p:cNvSpPr/>
          <p:nvPr/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09AC4-7DEA-48E5-AA86-A6BCCA0E3D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عنصر نائب للتاريخ 3"/>
          <p:cNvSpPr/>
          <p:nvPr/>
        </p:nvSpPr>
        <p:spPr>
          <a:xfrm>
            <a:off x="154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lectronic Commerce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عنصر نائب للتذييل 4"/>
          <p:cNvSpPr/>
          <p:nvPr/>
        </p:nvSpPr>
        <p:spPr>
          <a:xfrm>
            <a:off x="315756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ntice Hall © 2006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عنصر نائب لرقم الشريحة 5"/>
          <p:cNvSpPr/>
          <p:nvPr/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32B8D-1514-418D-97EF-613699BA38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rket Research for EC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e Goal of Market Research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o find information and knowledge that describes the relationships among consumers, products, marketing methods, and marke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e Aim of Market Research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o discover marketing opportunities and issues, to establish marketing plans, to better understand the purchasing process, and to evaluate marketing performan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عنصر نائب للتاريخ 3"/>
          <p:cNvSpPr/>
          <p:nvPr/>
        </p:nvSpPr>
        <p:spPr>
          <a:xfrm>
            <a:off x="154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lectronic Commerce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عنصر نائب للتذييل 4"/>
          <p:cNvSpPr/>
          <p:nvPr/>
        </p:nvSpPr>
        <p:spPr>
          <a:xfrm>
            <a:off x="315756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ntice Hall © 2006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عنصر نائب لرقم الشريحة 5"/>
          <p:cNvSpPr/>
          <p:nvPr/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2A39B-6C2E-4F8C-A055-8569389287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rket Research for EC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market segmentat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process of dividing a consumer market into logical groups for conducting marketing research, advertising, and sal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gmentation is done with the aid of tools such as data modeling and data warehousing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عنصر نائب للتاريخ 3"/>
          <p:cNvSpPr/>
          <p:nvPr/>
        </p:nvSpPr>
        <p:spPr>
          <a:xfrm>
            <a:off x="154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lectronic Commerce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عنصر نائب للتذييل 4"/>
          <p:cNvSpPr/>
          <p:nvPr/>
        </p:nvSpPr>
        <p:spPr>
          <a:xfrm>
            <a:off x="315756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ntice Hall © 2006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عنصر نائب لرقم الشريحة 5"/>
          <p:cNvSpPr/>
          <p:nvPr/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73764-D5AC-47CB-9BB8-F1E69040E6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rket Research for EC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Online Market Research Method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mplementing Web-based survey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nline focus group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earing directly from custom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ustomer scenario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عنصر نائب للتاريخ 3"/>
          <p:cNvSpPr/>
          <p:nvPr/>
        </p:nvSpPr>
        <p:spPr>
          <a:xfrm>
            <a:off x="154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lectronic Commerce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عنصر نائب للتذييل 4"/>
          <p:cNvSpPr/>
          <p:nvPr/>
        </p:nvSpPr>
        <p:spPr>
          <a:xfrm>
            <a:off x="315756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ntice Hall © 2006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عنصر نائب لرقم الشريحة 5"/>
          <p:cNvSpPr/>
          <p:nvPr/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11731-E768-4AAD-836A-43B1FFDCE5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rket Research for EC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racking Customer Movemen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transaction lo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 record of user activities at a company’s Web sit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lickstream behavio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ustomer movements on the Interne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عنصر نائب للتاريخ 3"/>
          <p:cNvSpPr/>
          <p:nvPr/>
        </p:nvSpPr>
        <p:spPr>
          <a:xfrm>
            <a:off x="154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lectronic Commerce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عنصر نائب للتذييل 4"/>
          <p:cNvSpPr/>
          <p:nvPr/>
        </p:nvSpPr>
        <p:spPr>
          <a:xfrm>
            <a:off x="315756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ntice Hall © 2006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عنصر نائب لرقم الشريحة 5"/>
          <p:cNvSpPr/>
          <p:nvPr/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EE2E0-278A-4CA6-B639-986611C811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rket Research for EC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Web bug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iny graphics files embedded on e-mail messages and in Web sites that transmit information about the users and their movements to a Web serv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pywar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oftware that gathers user information over an Internet connection without the user’s knowledg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Diagram 1" descr=""/>
          <p:cNvPicPr/>
          <p:nvPr/>
        </p:nvPicPr>
        <p:blipFill>
          <a:blip r:embed="rId1"/>
          <a:stretch/>
        </p:blipFill>
        <p:spPr>
          <a:xfrm>
            <a:off x="212760" y="3322800"/>
            <a:ext cx="8016840" cy="4078080"/>
          </a:xfrm>
          <a:prstGeom prst="rect">
            <a:avLst/>
          </a:prstGeom>
          <a:ln w="0">
            <a:noFill/>
          </a:ln>
        </p:spPr>
      </p:pic>
      <p:sp>
        <p:nvSpPr>
          <p:cNvPr id="135" name="Slide Number Placeholder 5"/>
          <p:cNvSpPr/>
          <p:nvPr/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80107-6E06-454F-A9B2-671246A4F5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abou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umer Behavior Onli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9960" y="159984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 Model of Consumer Behavior Onlin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urpose of a consumer behavior model is to help vendors understand how a consumer makes a purchasing dec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nline consumers divided  into group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ganizational  consum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ividual consum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CTORS AFFEC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Straight Arrow Connector 6"/>
          <p:cNvCxnSpPr/>
          <p:nvPr/>
        </p:nvCxnSpPr>
        <p:spPr>
          <a:xfrm>
            <a:off x="4937040" y="4137120"/>
            <a:ext cx="991440" cy="434160"/>
          </a:xfrm>
          <a:prstGeom prst="straightConnector1">
            <a:avLst/>
          </a:prstGeom>
          <a:ln w="9360">
            <a:solidFill>
              <a:srgbClr val="2e2ecb"/>
            </a:solidFill>
            <a:miter/>
            <a:tailEnd len="med" type="arrow" w="med"/>
          </a:ln>
        </p:spPr>
      </p:cxnSp>
      <p:cxnSp>
        <p:nvCxnSpPr>
          <p:cNvPr id="139" name="Straight Arrow Connector 9"/>
          <p:cNvCxnSpPr/>
          <p:nvPr/>
        </p:nvCxnSpPr>
        <p:spPr>
          <a:xfrm flipH="1">
            <a:off x="3580920" y="4137120"/>
            <a:ext cx="1008720" cy="381600"/>
          </a:xfrm>
          <a:prstGeom prst="straightConnector1">
            <a:avLst/>
          </a:prstGeom>
          <a:ln w="9360">
            <a:solidFill>
              <a:srgbClr val="2e2ec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عنصر نائب للتاريخ 3"/>
          <p:cNvSpPr/>
          <p:nvPr/>
        </p:nvSpPr>
        <p:spPr>
          <a:xfrm>
            <a:off x="154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lectronic Commerce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عنصر نائب للتذييل 4"/>
          <p:cNvSpPr/>
          <p:nvPr/>
        </p:nvSpPr>
        <p:spPr>
          <a:xfrm>
            <a:off x="315756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ntice Hall © 2006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عنصر نائب لرقم الشريحة 5"/>
          <p:cNvSpPr/>
          <p:nvPr/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C34C9-CBA3-48C6-AAC8-8930E85682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rket Research for EC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nalysis of B2C Clickstream Data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clickstream data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ata that occur inside the Web environment; they provide a trail of the user’s activities (the user’s clickstream behavior) in the Web sit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عنصر نائب للتاريخ 3"/>
          <p:cNvSpPr/>
          <p:nvPr/>
        </p:nvSpPr>
        <p:spPr>
          <a:xfrm>
            <a:off x="154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lectronic Commerce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عنصر نائب للتذييل 4"/>
          <p:cNvSpPr/>
          <p:nvPr/>
        </p:nvSpPr>
        <p:spPr>
          <a:xfrm>
            <a:off x="315756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ntice Hall © 2006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عنصر نائب لرقم الشريحة 5"/>
          <p:cNvSpPr/>
          <p:nvPr/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07268-23F4-497A-A5D5-503D084FF7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rket Research for EC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eb Analytic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nable retailers to make site adjustments on the fly, manage online marketing campaigns and EC initiatives, and track customer satisfac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f a company redesigns its Web site, it can gain almost-instant feedback on how the new site is perform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eb analytics help marketers decide which products to promote and merchandisers achieve a better understanding of the nature of deman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عنصر نائب للتاريخ 3"/>
          <p:cNvSpPr/>
          <p:nvPr/>
        </p:nvSpPr>
        <p:spPr>
          <a:xfrm>
            <a:off x="154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lectronic Commerce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عنصر نائب للتذييل 4"/>
          <p:cNvSpPr/>
          <p:nvPr/>
        </p:nvSpPr>
        <p:spPr>
          <a:xfrm>
            <a:off x="315756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ntice Hall © 2006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عنصر نائب لرقم الشريحة 5"/>
          <p:cNvSpPr/>
          <p:nvPr/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D8A5F-7E6C-4BEA-A36B-0CA31474C4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rket Research for EC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imitations of Online Market Researc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oo much data may be availabl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o use data properly, it should be organized, edited, condensed, and summarize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solution to this problem is to automate the process by using data warehousing and data min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ome of the limitations of online research methods ar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curacy of respon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ss of respondents because of equipment probl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ethics and legality of Web track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ck of representativeness in samples of online us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eb Advertis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152280" y="144756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Overview of Web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dvertising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interactive marketing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nline marketing, enabled by the Internet, in which advertisers can interact directly with customers and consumers can interact with advertisers/vendo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 major business models for advertising onlin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ing the Web as a channel to advertise a firm’s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ow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products and serv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king a firm’s site a public portal site and using captive audiences to advertise products offered by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other fi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4" descr="C:\Users\asus\Desktop\YEWCAUP55RNCAO07TYXCA5SBW0QCAHWEGU2CACLBSFDCAHRTY4OCAF3Q2Q3CA8S178TCAS1G5RFCAST15FMCAFGF4JYCA95LVC4CA8CHPG6CAJPH9T9CAGICGGYCALQ3QJXCAL85Z8XCAPEHS39CADLXZX9.jpg"/>
          <p:cNvPicPr/>
          <p:nvPr/>
        </p:nvPicPr>
        <p:blipFill>
          <a:blip r:embed="rId1"/>
          <a:stretch/>
        </p:blipFill>
        <p:spPr>
          <a:xfrm>
            <a:off x="4764240" y="0"/>
            <a:ext cx="43797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eb Advertis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ome Internet Advertising Terminolog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d view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number of times users call up a page that has a banner on it during a specific time period; known as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impressions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age view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عنصر نائب لرقم الشريحة 5"/>
          <p:cNvSpPr/>
          <p:nvPr/>
        </p:nvSpPr>
        <p:spPr>
          <a:xfrm>
            <a:off x="7010280" y="61722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D47C8-8FF4-47AC-92E9-290DCBF2ED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8" name="Picture 4" descr="C:\Users\asus\Desktop\untitledddd.bmp"/>
          <p:cNvPicPr/>
          <p:nvPr/>
        </p:nvPicPr>
        <p:blipFill>
          <a:blip r:embed="rId1"/>
          <a:stretch/>
        </p:blipFill>
        <p:spPr>
          <a:xfrm>
            <a:off x="5105520" y="3352680"/>
            <a:ext cx="319068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-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eb Advertis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-380880" y="106632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lick (click-through or ad click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 count made each time a visitor clicks on an advertising banner to access the advertiser ’s Web sit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PM (cost per mille - thousand impressions-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fee an advertiser pays for each 1,000 times a page with a banner ad is show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عنصر نائب لرقم الشريحة 5"/>
          <p:cNvSpPr/>
          <p:nvPr/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047AF-29C4-40EF-836E-B092BA58B2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2" name="Picture 10" descr=""/>
          <p:cNvPicPr/>
          <p:nvPr/>
        </p:nvPicPr>
        <p:blipFill>
          <a:blip r:embed="rId1"/>
          <a:stretch/>
        </p:blipFill>
        <p:spPr>
          <a:xfrm>
            <a:off x="328680" y="3809880"/>
            <a:ext cx="8448480" cy="23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-1526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eb Advertis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990360"/>
            <a:ext cx="6095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lvl="1" marL="586800" indent="-225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-through rate (or rati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ercentage of visitors that are exposed to a banner ad and click on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lick-through rati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ratio between the number of clicks on a banner ad and the number of times it is seen by viewers; measures the success of a banner in attracting visitors to click on the a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onversion rat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percentage of visitors who actually make a purchas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عنصر نائب لرقم الشريحة 5"/>
          <p:cNvSpPr/>
          <p:nvPr/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86BBF-F83D-4620-94C1-913C5F28DC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6" name="Picture 4" descr="C:\Users\asus\Desktop\SP2CAHQNDODCA09TF4OCALW05NACAOXDCCXCAIATGM5CAU7A0BZCA9PIS91CADSR7VLCAIHQA1JCA4S3YK5CA1MT2TWCAE1KGNMCANVRMABCA3MFE8DCAXUBP4QCAFZ06IOCAWPRYB4CAX9CAJJCA2MPVR1.jpg"/>
          <p:cNvPicPr/>
          <p:nvPr/>
        </p:nvPicPr>
        <p:blipFill>
          <a:blip r:embed="rId1"/>
          <a:stretch/>
        </p:blipFill>
        <p:spPr>
          <a:xfrm>
            <a:off x="6005520" y="2617920"/>
            <a:ext cx="3105000" cy="15238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5" descr="C:\Users\asus\Desktop\NXGCA9P3AAVCAX7DY08CA041OE3CA4896KVCA5I9P8OCAMTA3UUCAM6DH24CAR1ICZ4CA0ML5XLCAVJ80OHCADKPV5RCAK748T7CA0CIV7DCAG98MXCCA043G9ECAHI0DHHCAS9YVEICAAFKQTUCAP973GL.jpg"/>
          <p:cNvPicPr/>
          <p:nvPr/>
        </p:nvPicPr>
        <p:blipFill>
          <a:blip r:embed="rId2"/>
          <a:stretch/>
        </p:blipFill>
        <p:spPr>
          <a:xfrm>
            <a:off x="5867280" y="4495680"/>
            <a:ext cx="3048120" cy="1371600"/>
          </a:xfrm>
          <a:prstGeom prst="rect">
            <a:avLst/>
          </a:prstGeom>
          <a:ln w="0">
            <a:noFill/>
          </a:ln>
        </p:spPr>
      </p:pic>
      <p:sp>
        <p:nvSpPr>
          <p:cNvPr id="258" name="مستطيل مستدير الزوايا 8"/>
          <p:cNvSpPr/>
          <p:nvPr/>
        </p:nvSpPr>
        <p:spPr>
          <a:xfrm>
            <a:off x="228600" y="838080"/>
            <a:ext cx="5867280" cy="15242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606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مستطيل مستدير الزوايا 9"/>
          <p:cNvSpPr/>
          <p:nvPr/>
        </p:nvSpPr>
        <p:spPr>
          <a:xfrm>
            <a:off x="366840" y="2617920"/>
            <a:ext cx="5486400" cy="2133360"/>
          </a:xfrm>
          <a:prstGeom prst="roundRect">
            <a:avLst>
              <a:gd name="adj" fmla="val 16667"/>
            </a:avLst>
          </a:prstGeom>
          <a:solidFill>
            <a:srgbClr val="cbb0ee">
              <a:alpha val="8000"/>
            </a:srgbClr>
          </a:solidFill>
          <a:ln w="9360">
            <a:solidFill>
              <a:srgbClr val="606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مستطيل مستدير الزوايا 10"/>
          <p:cNvSpPr/>
          <p:nvPr/>
        </p:nvSpPr>
        <p:spPr>
          <a:xfrm>
            <a:off x="228600" y="4876920"/>
            <a:ext cx="5410080" cy="1523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606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eb Advertis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088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equest for data from a Web page or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s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eries of requests during one navigation of a Web site; a pause of a certain length of time ends a vis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que vis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unt of the number of visitors to a site, regardless of how many pages are viewed per vis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ick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acteristic that influences the average length of time a visitor stays in a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عنصر نائب لرقم الشريحة 5"/>
          <p:cNvSpPr/>
          <p:nvPr/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61F34-419A-4576-ADED-8552764416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eb Advertis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80520" y="99036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Internet Adverti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evision viewers are migrating to the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ertisers are limited in the amount of information they can gather about the television and print 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reasons why Web advertising is growing rapid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chness of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l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ion-ba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bra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ertising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alized firms that offer customized Web advertising, such as brokering ads and targeting ads to select groups of consu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عنصر نائب لرقم الشريحة 5"/>
          <p:cNvSpPr/>
          <p:nvPr/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A809A-8BD3-4878-80F5-02FE273FF6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7" name="Picture 5" descr=""/>
          <p:cNvPicPr/>
          <p:nvPr/>
        </p:nvPicPr>
        <p:blipFill>
          <a:blip r:embed="rId1"/>
          <a:stretch/>
        </p:blipFill>
        <p:spPr>
          <a:xfrm>
            <a:off x="4419720" y="3200400"/>
            <a:ext cx="38098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Date Placeholder 3"/>
          <p:cNvSpPr/>
          <p:nvPr/>
        </p:nvSpPr>
        <p:spPr>
          <a:xfrm>
            <a:off x="154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lectronic Commerce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Footer Placeholder 4"/>
          <p:cNvSpPr/>
          <p:nvPr/>
        </p:nvSpPr>
        <p:spPr>
          <a:xfrm>
            <a:off x="315756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ntice Hall © 2006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Slide Number Placeholder 5"/>
          <p:cNvSpPr/>
          <p:nvPr/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F50D2-F27D-49F3-A21F-2302724078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vertising Method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Banner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bann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n a Web page, a graphic advertising display linked to the advertiser’s Web pag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keyword bann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anner ads that appear when a predetermined word is queried from a search engin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random bann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d0d0d"/>
                </a:solidFill>
                <a:latin typeface="Arial"/>
              </a:rPr>
              <a:t>Banner ads that appear at random, not as the result of the user’s ac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7" descr=""/>
          <p:cNvPicPr/>
          <p:nvPr/>
        </p:nvPicPr>
        <p:blipFill>
          <a:blip r:embed="rId1"/>
          <a:stretch/>
        </p:blipFill>
        <p:spPr>
          <a:xfrm>
            <a:off x="706320" y="1047600"/>
            <a:ext cx="7473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Date Placeholder 1"/>
          <p:cNvSpPr/>
          <p:nvPr/>
        </p:nvSpPr>
        <p:spPr>
          <a:xfrm>
            <a:off x="154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lectronic Commerce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Footer Placeholder 2"/>
          <p:cNvSpPr/>
          <p:nvPr/>
        </p:nvSpPr>
        <p:spPr>
          <a:xfrm>
            <a:off x="315756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ntice Hall © 2006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CB544-42A0-47D5-8A8D-4D56D7ECD3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-420840" y="0"/>
            <a:ext cx="956484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Date Placeholder 3"/>
          <p:cNvSpPr/>
          <p:nvPr/>
        </p:nvSpPr>
        <p:spPr>
          <a:xfrm>
            <a:off x="154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lectronic Commerce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Footer Placeholder 4"/>
          <p:cNvSpPr/>
          <p:nvPr/>
        </p:nvSpPr>
        <p:spPr>
          <a:xfrm>
            <a:off x="315756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ntice Hall © 2006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Slide Number Placeholder 5"/>
          <p:cNvSpPr/>
          <p:nvPr/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9A378-8114-4230-9632-12B282C904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vertising Method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Benefits of Banner Ad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y clicking on them users are transferred to an advertiser’s site, and frequently directly to the shopping page of that sit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ability to customize them for individual surfers or a market segment of surf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Viewing of banners is fairly high because “forced advertising” is us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anners may include attention-grabbing multimed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7" descr=""/>
          <p:cNvPicPr/>
          <p:nvPr/>
        </p:nvPicPr>
        <p:blipFill>
          <a:blip r:embed="rId1"/>
          <a:stretch/>
        </p:blipFill>
        <p:spPr>
          <a:xfrm>
            <a:off x="493560" y="927000"/>
            <a:ext cx="7321680" cy="10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Date Placeholder 3"/>
          <p:cNvSpPr/>
          <p:nvPr/>
        </p:nvSpPr>
        <p:spPr>
          <a:xfrm>
            <a:off x="154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lectronic Commerce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Footer Placeholder 4"/>
          <p:cNvSpPr/>
          <p:nvPr/>
        </p:nvSpPr>
        <p:spPr>
          <a:xfrm>
            <a:off x="315756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ntice Hall © 2006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Slide Number Placeholder 5"/>
          <p:cNvSpPr/>
          <p:nvPr/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46B77-DAB6-4E34-9D0C-ADC243BFD4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344000" cy="8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vertising Method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209680" y="1599840"/>
            <a:ext cx="65534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Limitations of Banner Ad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s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 limited amount of information can be placed on the bann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Viewers have become somewhat immune to banners and simply do not notice them as they once di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7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1676160" cy="2971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Date Placeholder 3"/>
          <p:cNvSpPr/>
          <p:nvPr/>
        </p:nvSpPr>
        <p:spPr>
          <a:xfrm>
            <a:off x="154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lectronic Commerce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Footer Placeholder 4"/>
          <p:cNvSpPr/>
          <p:nvPr/>
        </p:nvSpPr>
        <p:spPr>
          <a:xfrm>
            <a:off x="315756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ntice Hall © 2006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Slide Number Placeholder 5"/>
          <p:cNvSpPr/>
          <p:nvPr/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64BAB-C2DB-4CDB-9AD4-6CAAD40B8B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vertising Method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3795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banner swapping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n agreement between two companies to each display the other’s banner ad on its Web sit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banner exchang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arkets in which companies can trade or exchange placement of banner ads on each other’s Web sit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عنصر نائب للتاريخ 3"/>
          <p:cNvSpPr/>
          <p:nvPr/>
        </p:nvSpPr>
        <p:spPr>
          <a:xfrm>
            <a:off x="154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lectronic Commerce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عنصر نائب لرقم الشريحة 5"/>
          <p:cNvSpPr/>
          <p:nvPr/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5532A-668D-4D65-9E86-2DE632ACC8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vertising Method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71520" y="125208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p-up 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ad that appears in a separate window before, during, or after Internet surfing or when reading e-m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p-under 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ad that appears underneath the current browser window, so when the user closes the active window, he or she sees the 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sti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initial Web page or a portion of it that is used to capture the user’s attention for a short time while other content is lo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صورة 6" descr="pop up adds.jpg"/>
          <p:cNvPicPr/>
          <p:nvPr/>
        </p:nvPicPr>
        <p:blipFill>
          <a:blip r:embed="rId1"/>
          <a:stretch/>
        </p:blipFill>
        <p:spPr>
          <a:xfrm>
            <a:off x="4572000" y="4191120"/>
            <a:ext cx="43434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عنصر نائب للتاريخ 3"/>
          <p:cNvSpPr/>
          <p:nvPr/>
        </p:nvSpPr>
        <p:spPr>
          <a:xfrm>
            <a:off x="154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lectronic Commerce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عنصر نائب للتذييل 4"/>
          <p:cNvSpPr/>
          <p:nvPr/>
        </p:nvSpPr>
        <p:spPr>
          <a:xfrm>
            <a:off x="315756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ntice Hall © 2006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عنصر نائب لرقم الشريحة 5"/>
          <p:cNvSpPr/>
          <p:nvPr/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EA50B-97DC-4423-8856-85CDA5D36C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vertising Method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-Mail Adverti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Mail Advertising Management—Four guidelines that marketers should consider to leverage customer insights throughout the e-mail marketing campaign lifecyc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nking about customer experienc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ing privacy protection a part of their brand promis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suring their recipients know about their privacy protection;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uring impa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صورة 6" descr="@.jpg"/>
          <p:cNvPicPr/>
          <p:nvPr/>
        </p:nvPicPr>
        <p:blipFill>
          <a:blip r:embed="rId1"/>
          <a:stretch/>
        </p:blipFill>
        <p:spPr>
          <a:xfrm>
            <a:off x="5257800" y="4191120"/>
            <a:ext cx="285768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عنصر نائب للتاريخ 3"/>
          <p:cNvSpPr/>
          <p:nvPr/>
        </p:nvSpPr>
        <p:spPr>
          <a:xfrm>
            <a:off x="154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lectronic Commerce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عنصر نائب للتذييل 4"/>
          <p:cNvSpPr/>
          <p:nvPr/>
        </p:nvSpPr>
        <p:spPr>
          <a:xfrm>
            <a:off x="315756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ntice Hall © 2006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عنصر نائب لرقم الشريحة 5"/>
          <p:cNvSpPr/>
          <p:nvPr/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FD714-0BBA-4404-B115-2FA6648FE9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734364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vertising Method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rch Engine Advertisement—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jor advantage of using URLs as an advertising tool is that it i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ing a company’s search-engine ranking (optimiz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id search-engine incl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ertising in chat ro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ertising in newslet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صورة 6" descr="SEARCH.gif"/>
          <p:cNvPicPr/>
          <p:nvPr/>
        </p:nvPicPr>
        <p:blipFill>
          <a:blip r:embed="rId1"/>
          <a:stretch/>
        </p:blipFill>
        <p:spPr>
          <a:xfrm>
            <a:off x="5715000" y="3352680"/>
            <a:ext cx="285768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عنصر نائب للتاريخ 3"/>
          <p:cNvSpPr/>
          <p:nvPr/>
        </p:nvSpPr>
        <p:spPr>
          <a:xfrm>
            <a:off x="154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lectronic Commerce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عنصر نائب للتذييل 4"/>
          <p:cNvSpPr/>
          <p:nvPr/>
        </p:nvSpPr>
        <p:spPr>
          <a:xfrm>
            <a:off x="315756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ntice Hall © 2006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عنصر نائب لرقم الشريحة 5"/>
          <p:cNvSpPr/>
          <p:nvPr/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45CCF-699E-4186-A681-8D45E4B295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734364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vertising Method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dvertoria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n advertisement “disguised” to look like editorial content or general inform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ssociated ad display (text link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n advertising strategy that displays a banner ad related to a term entered in a search engin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عنصر نائب للتاريخ 3"/>
          <p:cNvSpPr/>
          <p:nvPr/>
        </p:nvSpPr>
        <p:spPr>
          <a:xfrm>
            <a:off x="154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lectronic Commerce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عنصر نائب للتذييل 4"/>
          <p:cNvSpPr/>
          <p:nvPr/>
        </p:nvSpPr>
        <p:spPr>
          <a:xfrm>
            <a:off x="315756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ntice Hall © 2006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عنصر نائب لرقم الشريحة 5"/>
          <p:cNvSpPr/>
          <p:nvPr/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E62E3-BFC1-4FBE-907C-AEC080135E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734364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ertising Strategi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Promotions Onli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ffiliate market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arketing arrangement by which an organization refers consumers to the selling company’s Web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viral market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d-of-mouth marketing by which customers promote a product or service by telling others about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Webcast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 free Internet news service that broadcasts personalized news and information, including seminars, in categories selected by the us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عنصر نائب للتاريخ 3"/>
          <p:cNvSpPr/>
          <p:nvPr/>
        </p:nvSpPr>
        <p:spPr>
          <a:xfrm>
            <a:off x="154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lectronic Commerce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عنصر نائب للتذييل 4"/>
          <p:cNvSpPr/>
          <p:nvPr/>
        </p:nvSpPr>
        <p:spPr>
          <a:xfrm>
            <a:off x="315756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ntice Hall © 2006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عنصر نائب لرقم الشريحة 5"/>
          <p:cNvSpPr/>
          <p:nvPr/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7D693-C211-4B32-99EB-77F367C0F3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734364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ertising Strategi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Promotions Onli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Online Events, Promotions, and Attrac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ajor considerations when implementing an online ad campaign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rget audience of online surfers clearly understo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ffic to the site should be estimated, and a powerful enough server used handle the expected traffic volu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essment of results is needed to evaluate the budget and promotion strate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ider co-bran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6" descr="facebook-request-permission-dialog.png"/>
          <p:cNvPicPr/>
          <p:nvPr/>
        </p:nvPicPr>
        <p:blipFill>
          <a:blip r:embed="rId1"/>
          <a:stretch/>
        </p:blipFill>
        <p:spPr>
          <a:xfrm>
            <a:off x="5638680" y="1523880"/>
            <a:ext cx="2971800" cy="3810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24" name="Date Placeholder 3"/>
          <p:cNvSpPr/>
          <p:nvPr/>
        </p:nvSpPr>
        <p:spPr>
          <a:xfrm>
            <a:off x="154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lectronic Commerce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Footer Placeholder 4"/>
          <p:cNvSpPr/>
          <p:nvPr/>
        </p:nvSpPr>
        <p:spPr>
          <a:xfrm>
            <a:off x="315756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ntice Hall © 2006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Slide Number Placeholder 5"/>
          <p:cNvSpPr/>
          <p:nvPr/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21AAD-3BD6-4851-9EE7-893A040FB2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28240" y="641520"/>
            <a:ext cx="734364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pecial Advertising Topic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5257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ission Adverti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am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e-mail to send unwanted ads (sometimes floods of a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mission advertising (permission marke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ertising (marketing) strategy in which customers agree to accept advertising and marketing materi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280" y="1569600"/>
            <a:ext cx="7344000" cy="8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C systems design  the factors into :</a:t>
            </a:r>
            <a:br>
              <a:rPr sz="24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tivational factor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functions available on the web site to provide direct support in the transactional process ex. payment methods.</a:t>
            </a:r>
            <a:br>
              <a:rPr sz="16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ygiene factors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functions available on the web site to  prevent trouble in the process ex. security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Date Placeholder 3"/>
          <p:cNvSpPr/>
          <p:nvPr/>
        </p:nvSpPr>
        <p:spPr>
          <a:xfrm>
            <a:off x="154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lectronic Commerce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Footer Placeholder 4"/>
          <p:cNvSpPr/>
          <p:nvPr/>
        </p:nvSpPr>
        <p:spPr>
          <a:xfrm>
            <a:off x="315756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ntice Hall © 2006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Slide Number Placeholder 5"/>
          <p:cNvSpPr/>
          <p:nvPr/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6F54E-4B7C-4114-99EC-5E219B6385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TextBox 7"/>
          <p:cNvSpPr/>
          <p:nvPr/>
        </p:nvSpPr>
        <p:spPr>
          <a:xfrm>
            <a:off x="395280" y="2571840"/>
            <a:ext cx="4897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HAVIOR  PROCESS  MODE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TextBox 9"/>
          <p:cNvSpPr/>
          <p:nvPr/>
        </p:nvSpPr>
        <p:spPr>
          <a:xfrm>
            <a:off x="380880" y="3068640"/>
            <a:ext cx="48006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vanced research Used to describe the process consumers employ when making decision based on advertising message includes 5 stages(AIDA)S 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1- Attention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tract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2-Interes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raise by advantages ,benefi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3-Desi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4-Action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5- Satisfactio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higher loyalty lead to repurchas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Date Placeholder 3"/>
          <p:cNvSpPr/>
          <p:nvPr/>
        </p:nvSpPr>
        <p:spPr>
          <a:xfrm>
            <a:off x="154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lectronic Commerce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Footer Placeholder 4"/>
          <p:cNvSpPr/>
          <p:nvPr/>
        </p:nvSpPr>
        <p:spPr>
          <a:xfrm>
            <a:off x="315756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ntice Hall © 2006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Slide Number Placeholder 5"/>
          <p:cNvSpPr/>
          <p:nvPr/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968CA-06A8-4189-A880-00863BA0A2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pecial Advertising Topic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676520" y="1371240"/>
            <a:ext cx="7129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ology and software that enable organizations to perform a variety of activities involved in Web advertising (e.g., tracking viewers, rotating a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c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cess of converting media products developed in one environment (e.g., country) to a form culturally and linguistically acceptable in countries outside the original target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et ra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Web site that provides music, talk, and other entertainment, both live and stored, from a variety of radio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6" descr="images.jpg"/>
          <p:cNvPicPr/>
          <p:nvPr/>
        </p:nvPicPr>
        <p:blipFill>
          <a:blip r:embed="rId1"/>
          <a:stretch/>
        </p:blipFill>
        <p:spPr>
          <a:xfrm>
            <a:off x="762120" y="1371600"/>
            <a:ext cx="1371600" cy="1066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35" name="Picture 7" descr="gps-needle-localization-icone-8664-96.png"/>
          <p:cNvPicPr/>
          <p:nvPr/>
        </p:nvPicPr>
        <p:blipFill>
          <a:blip r:embed="rId2"/>
          <a:stretch/>
        </p:blipFill>
        <p:spPr>
          <a:xfrm>
            <a:off x="725400" y="2798640"/>
            <a:ext cx="1451160" cy="114480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8" descr="world-music-icon.jpg"/>
          <p:cNvPicPr/>
          <p:nvPr/>
        </p:nvPicPr>
        <p:blipFill>
          <a:blip r:embed="rId3"/>
          <a:stretch/>
        </p:blipFill>
        <p:spPr>
          <a:xfrm>
            <a:off x="725400" y="4078440"/>
            <a:ext cx="1524240" cy="13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Date Placeholder 3"/>
          <p:cNvSpPr/>
          <p:nvPr/>
        </p:nvSpPr>
        <p:spPr>
          <a:xfrm>
            <a:off x="154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lectronic Commerce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Footer Placeholder 4"/>
          <p:cNvSpPr/>
          <p:nvPr/>
        </p:nvSpPr>
        <p:spPr>
          <a:xfrm>
            <a:off x="315756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ntice Hall © 2006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Slide Number Placeholder 5"/>
          <p:cNvSpPr/>
          <p:nvPr/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80D1F-0506-4B1F-924C-75311CBAA2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734364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pecial Advertising Topic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1961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ntent of ads is extremely important, and companies use ad agencies to help in content creation for the Web just as they do for other advertising 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is especially important to increas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ick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6" descr="advertisingsm.jpg"/>
          <p:cNvPicPr/>
          <p:nvPr/>
        </p:nvPicPr>
        <p:blipFill>
          <a:blip r:embed="rId1"/>
          <a:stretch/>
        </p:blipFill>
        <p:spPr>
          <a:xfrm>
            <a:off x="1652760" y="3651120"/>
            <a:ext cx="5381280" cy="38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Date Placeholder 3"/>
          <p:cNvSpPr/>
          <p:nvPr/>
        </p:nvSpPr>
        <p:spPr>
          <a:xfrm>
            <a:off x="154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lectronic Commerce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Footer Placeholder 4"/>
          <p:cNvSpPr/>
          <p:nvPr/>
        </p:nvSpPr>
        <p:spPr>
          <a:xfrm>
            <a:off x="315756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ntice Hall © 2006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Slide Number Placeholder 5"/>
          <p:cNvSpPr/>
          <p:nvPr/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0769D-BB27-45CC-81D5-CC6EBDD046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7343640" cy="8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Agents in Market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Advertising Applic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80520" y="1815840"/>
            <a:ext cx="53341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ramework for Classifying EC Agents: Agents that Suppor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iden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 brokering (what to bu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chant brokering and comparisons (from whom to bu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yer-seller negot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chase and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-sale service and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6" descr="images (1).jpg"/>
          <p:cNvPicPr/>
          <p:nvPr/>
        </p:nvPicPr>
        <p:blipFill>
          <a:blip r:embed="rId1"/>
          <a:stretch/>
        </p:blipFill>
        <p:spPr>
          <a:xfrm>
            <a:off x="6172200" y="1600200"/>
            <a:ext cx="2114640" cy="3124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734364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ndalus"/>
                <a:ea typeface="Andalus"/>
              </a:rPr>
              <a:t>The purchase Decision-Making process : Agent classification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Content Placeholder 6" descr=""/>
          <p:cNvPicPr/>
          <p:nvPr/>
        </p:nvPicPr>
        <p:blipFill>
          <a:blip r:embed="rId1"/>
          <a:stretch/>
        </p:blipFill>
        <p:spPr>
          <a:xfrm>
            <a:off x="171360" y="1646280"/>
            <a:ext cx="8796600" cy="4430520"/>
          </a:xfrm>
          <a:prstGeom prst="rect">
            <a:avLst/>
          </a:prstGeom>
          <a:ln w="0">
            <a:noFill/>
          </a:ln>
        </p:spPr>
      </p:pic>
      <p:sp>
        <p:nvSpPr>
          <p:cNvPr id="351" name="Date Placeholder 3"/>
          <p:cNvSpPr/>
          <p:nvPr/>
        </p:nvSpPr>
        <p:spPr>
          <a:xfrm>
            <a:off x="154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lectronic Commerce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Footer Placeholder 4"/>
          <p:cNvSpPr/>
          <p:nvPr/>
        </p:nvSpPr>
        <p:spPr>
          <a:xfrm>
            <a:off x="315756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ntice Hall © 2006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Slide Number Placeholder 5"/>
          <p:cNvSpPr/>
          <p:nvPr/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F0A51-A9D1-4579-96C0-CF21D9005D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عنصر نائب للتاريخ 3"/>
          <p:cNvSpPr/>
          <p:nvPr/>
        </p:nvSpPr>
        <p:spPr>
          <a:xfrm>
            <a:off x="154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lectronic Commerce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عنصر نائب للتذييل 4"/>
          <p:cNvSpPr/>
          <p:nvPr/>
        </p:nvSpPr>
        <p:spPr>
          <a:xfrm>
            <a:off x="315756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ntice Hall © 2006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عنصر نائب لرقم الشريحة 5"/>
          <p:cNvSpPr/>
          <p:nvPr/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3132B-E23A-4CDB-B87D-16777DDD5B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nagerial Issu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Do we understand our customers?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hould we use intelligent agents?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Who will conduct the market research?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re customers satisfied with our Web site?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an we use B2C marketing methods and research in B2B?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How do we decide where to advertise?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عنصر نائب للتاريخ 3"/>
          <p:cNvSpPr/>
          <p:nvPr/>
        </p:nvSpPr>
        <p:spPr>
          <a:xfrm>
            <a:off x="154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lectronic Commerce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عنصر نائب للتذييل 4"/>
          <p:cNvSpPr/>
          <p:nvPr/>
        </p:nvSpPr>
        <p:spPr>
          <a:xfrm>
            <a:off x="315756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ntice Hall © 2006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عنصر نائب لرقم الشريحة 5"/>
          <p:cNvSpPr/>
          <p:nvPr/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B5A47-2D09-40AB-A31B-C1488F745D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nagerial Issu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What is our commitment to Web advertising, and how will we coordinate Web and traditional advertising?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hould we integrate our Internet and non-Internet marketing campaigns?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What ethical issues should we consider?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re any metrics available to guide advertisers?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عنصر نائب للتاريخ 3"/>
          <p:cNvSpPr/>
          <p:nvPr/>
        </p:nvSpPr>
        <p:spPr>
          <a:xfrm>
            <a:off x="154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lectronic Commerce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عنصر نائب للتذييل 4"/>
          <p:cNvSpPr/>
          <p:nvPr/>
        </p:nvSpPr>
        <p:spPr>
          <a:xfrm>
            <a:off x="315756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ntice Hall © 2006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عنصر نائب لرقم الشريحة 5"/>
          <p:cNvSpPr/>
          <p:nvPr/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A4169-7365-4181-B146-D8C3A43CDE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Essentials of online consumer behavior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e online consumer decision-making proces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Building one-to-one relationships with customer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Online personalization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Increasing loyalty and trust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EC customer market research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B2B Internet marketing and organizational buyer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عنصر نائب للتاريخ 3"/>
          <p:cNvSpPr/>
          <p:nvPr/>
        </p:nvSpPr>
        <p:spPr>
          <a:xfrm>
            <a:off x="154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lectronic Commerce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عنصر نائب للتذييل 4"/>
          <p:cNvSpPr/>
          <p:nvPr/>
        </p:nvSpPr>
        <p:spPr>
          <a:xfrm>
            <a:off x="315756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ntice Hall © 2006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عنصر نائب لرقم الشريحة 5"/>
          <p:cNvSpPr/>
          <p:nvPr/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A0CF9-7847-41A3-8CD6-1C9353AB98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Objectives and characteristics of Web advertising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Major online advertising method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Various advertising strategies and types of promotion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Permission marketing, ad management, and localization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Intelligent agent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Date Placeholder 3"/>
          <p:cNvSpPr/>
          <p:nvPr/>
        </p:nvSpPr>
        <p:spPr>
          <a:xfrm>
            <a:off x="154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lectronic Commerce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Footer Placeholder 4"/>
          <p:cNvSpPr/>
          <p:nvPr/>
        </p:nvSpPr>
        <p:spPr>
          <a:xfrm>
            <a:off x="315756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ntice Hall © 2006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Slide Number Placeholder 5"/>
          <p:cNvSpPr/>
          <p:nvPr/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77A59-F51C-4D54-ACCC-1126D1C5A1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-360" y="76176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oles people play in the decision-making process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fluenc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ecid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uy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ser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Date Placeholder 3"/>
          <p:cNvSpPr/>
          <p:nvPr/>
        </p:nvSpPr>
        <p:spPr>
          <a:xfrm>
            <a:off x="154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lectronic Commerce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Footer Placeholder 4"/>
          <p:cNvSpPr/>
          <p:nvPr/>
        </p:nvSpPr>
        <p:spPr>
          <a:xfrm>
            <a:off x="315756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ntice Hall © 2006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Slide Number Placeholder 5"/>
          <p:cNvSpPr/>
          <p:nvPr/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8DF58-EB65-42B8-8D9A-D76C46409F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sum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sion-Making Proc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9280" y="1988640"/>
            <a:ext cx="8785440" cy="35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Generic Purchasing-Decision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ct brok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ding what product to bu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rchant brok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ding from whom (from what merchant) to buy a produ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77480" y="1652400"/>
            <a:ext cx="8785080" cy="4406760"/>
          </a:xfrm>
          <a:prstGeom prst="rect">
            <a:avLst/>
          </a:prstGeom>
          <a:ln w="0">
            <a:noFill/>
          </a:ln>
        </p:spPr>
      </p:pic>
      <p:sp>
        <p:nvSpPr>
          <p:cNvPr id="161" name="Date Placeholder 3"/>
          <p:cNvSpPr/>
          <p:nvPr/>
        </p:nvSpPr>
        <p:spPr>
          <a:xfrm>
            <a:off x="154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lectronic Commerce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Footer Placeholder 4"/>
          <p:cNvSpPr/>
          <p:nvPr/>
        </p:nvSpPr>
        <p:spPr>
          <a:xfrm>
            <a:off x="315756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ntice Hall © 2006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Slide Number Placeholder 5"/>
          <p:cNvSpPr/>
          <p:nvPr/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EEFC0-51CC-4FD8-9B4F-C5FD1657BD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عنصر نائب للتاريخ 3"/>
          <p:cNvSpPr/>
          <p:nvPr/>
        </p:nvSpPr>
        <p:spPr>
          <a:xfrm>
            <a:off x="154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lectronic Commerce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عنصر نائب للتذييل 4"/>
          <p:cNvSpPr/>
          <p:nvPr/>
        </p:nvSpPr>
        <p:spPr>
          <a:xfrm>
            <a:off x="315756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ntice Hall © 2006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عنصر نائب لرقم الشريحة 5"/>
          <p:cNvSpPr/>
          <p:nvPr/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8491E-6129-4400-8A36-14E77833BF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-to-One Marketing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yalty, and Trust in E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77480" y="1142640"/>
            <a:ext cx="878508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ome issue related to one-to-one marketing :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ersonaliz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matching of services, products, and advertising content with individual consumers and their preferences 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user profi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requirements, preferences, behaviors, and demographic traits of a particular custom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ooki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 data file that is placed on a user’s hard drive by a Web server, frequently without disclosure or the user’s consent, that collects information about the user’s activities at a si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عنصر نائب للمحتوى 6" descr="chrome-cookie-2.png"/>
          <p:cNvPicPr/>
          <p:nvPr/>
        </p:nvPicPr>
        <p:blipFill>
          <a:blip r:embed="rId1"/>
          <a:stretch/>
        </p:blipFill>
        <p:spPr>
          <a:xfrm>
            <a:off x="1828800" y="533520"/>
            <a:ext cx="5494320" cy="5649840"/>
          </a:xfrm>
          <a:prstGeom prst="rect">
            <a:avLst/>
          </a:prstGeom>
          <a:ln w="0">
            <a:noFill/>
          </a:ln>
        </p:spPr>
      </p:pic>
      <p:sp>
        <p:nvSpPr>
          <p:cNvPr id="172" name="عنصر نائب للتاريخ 3"/>
          <p:cNvSpPr/>
          <p:nvPr/>
        </p:nvSpPr>
        <p:spPr>
          <a:xfrm>
            <a:off x="1540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lectronic Commerce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عنصر نائب للتذييل 4"/>
          <p:cNvSpPr/>
          <p:nvPr/>
        </p:nvSpPr>
        <p:spPr>
          <a:xfrm>
            <a:off x="315756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ntice Hall © 2006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عنصر نائب لرقم الشريحة 5"/>
          <p:cNvSpPr/>
          <p:nvPr/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E7212-9308-44A7-A61E-9BBABA7794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4T14:41:15Z</dcterms:created>
  <dc:creator>JL</dc:creator>
  <dc:description/>
  <dc:language>en-US</dc:language>
  <cp:lastModifiedBy>asus</cp:lastModifiedBy>
  <dcterms:modified xsi:type="dcterms:W3CDTF">2011-10-26T22:34:27Z</dcterms:modified>
  <cp:revision>133</cp:revision>
  <dc:subject/>
  <dc:title>Chapter</dc:title>
</cp:coreProperties>
</file>