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FBBF-7270-4096-A414-220D4AA44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F468-5EA5-4721-803B-F0134C10C29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5608-89F0-49F7-BA0D-0F3564879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64FD-1C6B-4C7F-999A-0D170D637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E1DF-17F8-49EE-B4AC-46347279D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EDB6-BAFA-4DC4-A2BA-E7B5A0D40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70F0-5ADB-432F-A5E7-2F71B730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C830-416B-4ADB-915E-6E4229E05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5B4C-B414-4D37-8351-59D9146F2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882C-1E39-4FE0-9391-FF81E621E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6D0F-7C37-4C9E-9242-E0518CADC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1C83-243D-4F52-A0CE-E5657F860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2DEC-91EE-45D2-B142-171B42FF0C5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1C15-F953-47C4-9211-A36C83317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5E9A-314D-4034-B010-B515ABE2C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C47A-9DE8-418F-8FB7-5136E46C0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75C3-9792-44AA-BF7B-54263DFD4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6A96-7674-44A7-8881-D748CC67F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07A7-B2FE-426B-A526-DF401DA2D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7200-AF55-45A1-AADC-CE0095D7C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6941-C7EE-4C14-A428-B47F013FC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E3EC-49D1-4639-A0F6-5B2FE0371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6B92-707E-4DE8-9E13-AC3FD36B8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2E4A-3758-4AE8-8A7A-CA1F398FE92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6434-D1F8-4807-8655-4E92C3B4D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C9E1-A953-4FD9-ACA8-8B133F40E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477A-D49A-4016-B4B4-905228D0E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5E9B-D1F7-4DB9-B510-5C2AB5F0A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0B9C-AD4B-4831-B96D-EC4E7EADA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C514-1CB6-4557-80AC-189DD7FD9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586E-8047-4388-8D7A-6CB11199E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95DB-7BF6-457A-8D30-A76BFC3FE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4BB3-D37B-4F9C-8CE4-39344D5F5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C19B-8ED6-4E53-937F-DD780B784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A25D-EB1A-4318-8A23-4F7F95217BE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2860-C615-4339-B904-9228B4321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F475-0865-4147-A368-693C054F0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4B69-6DC1-480F-AEBA-CA889A05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E5F8-9FF7-4EE4-827C-F56D49312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B62E-900D-46E1-8A43-4F06B11AB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0EBB-6F03-4343-AF72-4EA0FE59D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0056-28EA-4882-93AA-8F9C7E72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CEE8-EF90-4E0C-A512-6D14447B6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42A1-D0A3-40EA-920C-16B9D2A217F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0A01-9E22-48EC-8AE5-151EA37EDD8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AEE2-5850-4F8B-BC19-AD13FC157B6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16A8-FDC1-46DD-B976-8266FDC37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55EA-E2D4-4772-8617-818B9C02D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452-CFEC-42B5-BE60-7A27F7A5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E6A-61B8-49A3-80C9-E1366B48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22D-FF4E-4EC5-8A0D-8E7591CB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5D0-73EF-4987-9476-F7BAB9DF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A3D5-D602-464C-B220-A46BE9FD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D989-9B8D-4265-9260-81B0D9CE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B448-C66C-400A-B4AD-19DA0A9F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C316-1C7C-4DE7-8EFD-82E2F269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E822-EFF4-4F22-A658-1623DCE3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2C29-442B-4BA0-BBCA-8B01318D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1231-CFDF-44AE-B699-613E8A52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BEA-B8D8-465B-A7AC-DF1306DB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66D6-CB25-4909-A2B5-C6B565DB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8189-DAE7-4506-889F-7F1E625A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9C01-7C03-464D-A02F-BC7F1728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7B79-9965-42C3-8CE5-58A9BA5B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0E5F-A641-41DF-91AB-C9C1279F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6F2EA-91E6-44A8-83EE-60C95572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32868-9AD5-4FEC-9472-8A1D2EC8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84D81-4196-4AAB-98FA-BE95A25D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95E8-56EB-4385-9E42-7C1CC997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74746-00C9-45DF-AB36-8BE749BC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C22-1B08-4B5D-A41F-1BA94045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F8A9B-6226-419B-B1CF-1E759CD9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FEE57-34FF-4876-9192-629A2DC4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14F3-84BA-4D67-B5C6-A7E84FC6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0B3D0-85EB-47FA-AD1A-3048AF24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A41B6-9890-47DE-AB50-8F686978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0B3CF-5A8D-432D-9E92-50310416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068C0-7ED4-431A-BCE8-D5437E26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DD7-809F-421F-B5A3-298F3D98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31D-1744-4926-97F4-AD45AB63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CFE-ECFF-4165-93DA-1156473D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6F3-5B1D-44E8-971E-95DBD6D8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E81-27B8-4ADB-9E6D-F6BD9223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589-45D3-4F91-8423-CAF66866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CD4E-2923-4B6F-8BBC-1E33CBC04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80D8-D86C-461F-A4AA-3D0237684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1DE8-3ED1-4FC6-A187-C71531A40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kholoud\Pictures\0131869604.jpg"/>
          <p:cNvPicPr/>
          <p:nvPr/>
        </p:nvPicPr>
        <p:blipFill>
          <a:blip r:embed="rId1"/>
          <a:stretch/>
        </p:blipFill>
        <p:spPr>
          <a:xfrm>
            <a:off x="-14400" y="68400"/>
            <a:ext cx="5004000" cy="6807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f0"/>
                </a:solidFill>
                <a:latin typeface="Arial"/>
              </a:rPr>
              <a:t>Chapter 4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2124000" y="3182760"/>
            <a:ext cx="2160720" cy="576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2124000" y="3035160"/>
            <a:ext cx="45720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Market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Advertis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5435-A888-490B-8376-42723B264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One Market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yalty, and Trust in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llaborative filter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ersonalization method that uses customer data t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edict, based on formulas derived from behavioral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iences, what other products or services a customer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y enjoy; predictions can be extended to other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ers with similar profi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riations of collaborative filter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ule-based filte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ent-based filte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tivity-based filte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0DB8-5745-49C5-998E-03DD885FE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One Market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yalty, and Trust in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ustomer Loyal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Customer loyalty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the degree to which a customer will stay with a specific vendor or brand for repeat purcha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er loyalty is expected to produce more sales and increased profits over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-loyal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er loyalty to an e-tail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صورة 6" descr="green-people.jpg"/>
          <p:cNvPicPr/>
          <p:nvPr/>
        </p:nvPicPr>
        <p:blipFill>
          <a:blip r:embed="rId1"/>
          <a:stretch/>
        </p:blipFill>
        <p:spPr>
          <a:xfrm>
            <a:off x="6095880" y="4114800"/>
            <a:ext cx="23367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7A5F-CD41-4AE1-8666-25A140DA6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One Market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yalty, and Trust in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atisfaction in EC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tisfaction is one of the most important consumer reactions in the B2C online environ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صورة 6" descr="customer-satisfaction.jpg"/>
          <p:cNvPicPr/>
          <p:nvPr/>
        </p:nvPicPr>
        <p:blipFill>
          <a:blip r:embed="rId1"/>
          <a:stretch/>
        </p:blipFill>
        <p:spPr>
          <a:xfrm>
            <a:off x="4648320" y="457200"/>
            <a:ext cx="4267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4893-F4D1-4B03-AE82-62047C486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One Market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yalty, and Trust in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sychological status of involved parties who are willing to pursue further interaction to achieve a planned go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to Increase Trust in EC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ust between buyers and sell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and recogni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C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urity mechanisms can help solidify tru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عنصر نائب للمحتوى 6" descr="trust.gif"/>
          <p:cNvPicPr/>
          <p:nvPr/>
        </p:nvPicPr>
        <p:blipFill>
          <a:blip r:embed="rId1"/>
          <a:stretch/>
        </p:blipFill>
        <p:spPr>
          <a:xfrm>
            <a:off x="1828800" y="83808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199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74D5-3F44-4121-9840-0ED226899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98D6-9E21-4043-9DCB-B7A41ED73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Research for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Goal of Market Researc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find information and knowledge that describes the relationships among consumers, products, marketing methods, and mark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Aim of Market Researc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discover marketing opportunities and issues, to establish marketing plans, to better understand the purchasing process, and to evaluate marketing perform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8D99-7504-41CD-ACB6-77773FC82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Research for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rket segment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rocess of dividing a consumer market into logical groups for conducting marketing research, advertising, and s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gmentation is done with the aid of tools such as data modeling and data warehous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22DC-BC60-43CD-A178-779B50065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Research for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line Market Research Metho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lementing Web-based surve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line focus grou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aring directly from custom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er scenari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ABC9-6F71-48AB-AA0D-4912A9AEF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Research for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racking Customer Movem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ransaction lo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record of user activities at a company’s Web 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stream behavi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er movements on the Inter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55D3-62EF-4D44-9A74-32E9DD111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Research for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eb bu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iny graphics files embedded on e-mail messages and in Web sites that transmit information about the users and their movements to a Web ser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pywa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ftware that gathers user information over an Internet connection without the user’s knowled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Diagram 1" descr=""/>
          <p:cNvPicPr/>
          <p:nvPr/>
        </p:nvPicPr>
        <p:blipFill>
          <a:blip r:embed="rId1"/>
          <a:stretch/>
        </p:blipFill>
        <p:spPr>
          <a:xfrm>
            <a:off x="212760" y="3322800"/>
            <a:ext cx="8016840" cy="407808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5EE9-1B5E-40C0-811D-79C4719D9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abou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Behavior On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960" y="159984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Model of Consumer Behavior Onl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a consumer behavior model is to help vendors understand how a consumer makes a purchasing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ine consumers divided  into group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al  consu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 consu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S AFFE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6"/>
          <p:cNvCxnSpPr/>
          <p:nvPr/>
        </p:nvCxnSpPr>
        <p:spPr>
          <a:xfrm>
            <a:off x="4937040" y="4137120"/>
            <a:ext cx="991440" cy="434160"/>
          </a:xfrm>
          <a:prstGeom prst="straightConnector1">
            <a:avLst/>
          </a:prstGeom>
          <a:ln w="9360">
            <a:solidFill>
              <a:srgbClr val="2e2ecb"/>
            </a:solidFill>
            <a:miter/>
            <a:tailEnd len="med" type="arrow" w="med"/>
          </a:ln>
        </p:spPr>
      </p:cxnSp>
      <p:cxnSp>
        <p:nvCxnSpPr>
          <p:cNvPr id="139" name="Straight Arrow Connector 9"/>
          <p:cNvCxnSpPr/>
          <p:nvPr/>
        </p:nvCxnSpPr>
        <p:spPr>
          <a:xfrm flipH="1">
            <a:off x="3580920" y="4137120"/>
            <a:ext cx="1008720" cy="381600"/>
          </a:xfrm>
          <a:prstGeom prst="straightConnector1">
            <a:avLst/>
          </a:prstGeom>
          <a:ln w="9360">
            <a:solidFill>
              <a:srgbClr val="2e2ec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4B50-FD2A-49DE-9094-13F6B7813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Research for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nalysis of B2C Clickstream Da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stream da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ta that occur inside the Web environment; they provide a trail of the user’s activities (the user’s clickstream behavior) in the Web 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1658-02E8-4BFE-B859-9216FD701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Research for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b Analy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able retailers to make site adjustments on the fly, manage online marketing campaigns and EC initiatives, and track customer satisf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a company redesigns its Web site, it can gain almost-instant feedback on how the new site is perform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b analytics help marketers decide which products to promote and merchandisers achieve a better understanding of the nature of dema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A318-8395-4A01-A19D-33909A6B0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Research for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imitations of Online Market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o much data may be avail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use data properly, it should be organized, edited, condensed, and summariz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olution to this problem is to automate the process by using data warehousing and data mi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 of the limitations of online research methods a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cy of respon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respondents because of equipment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thics and legality of Web tra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representativeness in samples of online u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dverti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2280" y="14475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verview of We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interactive marketing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line marketing, enabled by the Internet, in which advertisers can interact directly with customers and consumers can interact with advertisers/vend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major business models for advertising onli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Web as a channel to advertise a firm’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w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ducts an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ing a firm’s site a public portal site and using captive audiences to advertise products offered by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ther fi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Users\asus\Desktop\YEWCAUP55RNCAO07TYXCA5SBW0QCAHWEGU2CACLBSFDCAHRTY4OCAF3Q2Q3CA8S178TCAS1G5RFCAST15FMCAFGF4JYCA95LVC4CA8CHPG6CAJPH9T9CAGICGGYCALQ3QJXCAL85Z8XCAPEHS39CADLXZX9.jpg"/>
          <p:cNvPicPr/>
          <p:nvPr/>
        </p:nvPicPr>
        <p:blipFill>
          <a:blip r:embed="rId1"/>
          <a:stretch/>
        </p:blipFill>
        <p:spPr>
          <a:xfrm>
            <a:off x="4764240" y="0"/>
            <a:ext cx="4379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dverti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me Internet Advertising Terminolog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d view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number of times users call up a page that has a banner on it during a specific time period; known 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mpression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age vie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عنصر نائب لرقم الشريحة 5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5AE0-5300-4C90-A465-D534E917F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4" descr="C:\Users\asus\Desktop\untitledddd.bmp"/>
          <p:cNvPicPr/>
          <p:nvPr/>
        </p:nvPicPr>
        <p:blipFill>
          <a:blip r:embed="rId1"/>
          <a:stretch/>
        </p:blipFill>
        <p:spPr>
          <a:xfrm>
            <a:off x="5105520" y="3352680"/>
            <a:ext cx="31906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dverti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8088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 (click-through or ad cli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count made each time a visitor clicks on an advertising banner to access the advertiser ’s Web 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PM (cost per mille - thousand impressions-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ee an advertiser pays for each 1,000 times a page with a banner ad is sh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58D2-11AA-486A-9560-BBC43FF7E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10" descr=""/>
          <p:cNvPicPr/>
          <p:nvPr/>
        </p:nvPicPr>
        <p:blipFill>
          <a:blip r:embed="rId1"/>
          <a:stretch/>
        </p:blipFill>
        <p:spPr>
          <a:xfrm>
            <a:off x="328680" y="3809880"/>
            <a:ext cx="844848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dverti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99036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1" marL="586800" indent="-225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-through rate (or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centage of visitors that are exposed to a banner ad and click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-through rat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ratio between the number of clicks on a banner ad and the number of times it is seen by viewers; measures the success of a banner in attracting visitors to click on the 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nversion 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ercentage of visitors who actually make a purch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BB15-4EE1-4104-BE41-710A4277E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4" descr="C:\Users\asus\Desktop\SP2CAHQNDODCA09TF4OCALW05NACAOXDCCXCAIATGM5CAU7A0BZCA9PIS91CADSR7VLCAIHQA1JCA4S3YK5CA1MT2TWCAE1KGNMCANVRMABCA3MFE8DCAXUBP4QCAFZ06IOCAWPRYB4CAX9CAJJCA2MPVR1.jpg"/>
          <p:cNvPicPr/>
          <p:nvPr/>
        </p:nvPicPr>
        <p:blipFill>
          <a:blip r:embed="rId1"/>
          <a:stretch/>
        </p:blipFill>
        <p:spPr>
          <a:xfrm>
            <a:off x="6005520" y="2617920"/>
            <a:ext cx="3105000" cy="1523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Users\asus\Desktop\NXGCA9P3AAVCAX7DY08CA041OE3CA4896KVCA5I9P8OCAMTA3UUCAM6DH24CAR1ICZ4CA0ML5XLCAVJ80OHCADKPV5RCAK748T7CA0CIV7DCAG98MXCCA043G9ECAHI0DHHCAS9YVEICAAFKQTUCAP973GL.jpg"/>
          <p:cNvPicPr/>
          <p:nvPr/>
        </p:nvPicPr>
        <p:blipFill>
          <a:blip r:embed="rId2"/>
          <a:stretch/>
        </p:blipFill>
        <p:spPr>
          <a:xfrm>
            <a:off x="5867280" y="4495680"/>
            <a:ext cx="3048120" cy="1371600"/>
          </a:xfrm>
          <a:prstGeom prst="rect">
            <a:avLst/>
          </a:prstGeom>
          <a:ln w="0">
            <a:noFill/>
          </a:ln>
        </p:spPr>
      </p:pic>
      <p:sp>
        <p:nvSpPr>
          <p:cNvPr id="258" name="مستطيل مستدير الزوايا 8"/>
          <p:cNvSpPr/>
          <p:nvPr/>
        </p:nvSpPr>
        <p:spPr>
          <a:xfrm>
            <a:off x="228600" y="838080"/>
            <a:ext cx="5867280" cy="1524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مستطيل مستدير الزوايا 9"/>
          <p:cNvSpPr/>
          <p:nvPr/>
        </p:nvSpPr>
        <p:spPr>
          <a:xfrm>
            <a:off x="366840" y="2617920"/>
            <a:ext cx="5486400" cy="2133360"/>
          </a:xfrm>
          <a:prstGeom prst="roundRect">
            <a:avLst>
              <a:gd name="adj" fmla="val 16667"/>
            </a:avLst>
          </a:prstGeom>
          <a:solidFill>
            <a:srgbClr val="cbb0ee">
              <a:alpha val="8000"/>
            </a:srgbClr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مستطيل مستدير الزوايا 10"/>
          <p:cNvSpPr/>
          <p:nvPr/>
        </p:nvSpPr>
        <p:spPr>
          <a:xfrm>
            <a:off x="228600" y="4876920"/>
            <a:ext cx="541008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dverti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quest for data from a Web page or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requests during one navigation of a Web site; a pause of a certain length of time ends a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unt of the number of visitors to a site, regardless of how many pages are viewed per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ck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that influences the average length of time a visitor stays in a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203B-29FF-455D-81AB-E3C0CA8D2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dverti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520" y="9903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nternet Adverti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vision viewers are migrating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rs are limited in the amount of information they can gather about the television and print 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reasons why Web advertising is growing rapid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ness of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l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-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ing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firms that offer customized Web advertising, such as brokering ads and targeting ads to select groups of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1870-4A52-446C-B87A-4B0BF2EF8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4419720" y="320040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A923-FC92-44EF-8D67-F1A88C90B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tis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nn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ann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 a Web page, a graphic advertising display linked to the advertiser’s Web p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eyword bann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nner ads that appear when a predetermined word is queried from a search eng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andom bann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d0d0d"/>
                </a:solidFill>
                <a:latin typeface="Arial"/>
              </a:rPr>
              <a:t>Banner ads that appear at random, not as the result of the user’s a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7" descr=""/>
          <p:cNvPicPr/>
          <p:nvPr/>
        </p:nvPicPr>
        <p:blipFill>
          <a:blip r:embed="rId1"/>
          <a:stretch/>
        </p:blipFill>
        <p:spPr>
          <a:xfrm>
            <a:off x="706320" y="1047600"/>
            <a:ext cx="7473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1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ooter Placeholder 2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F738-5315-4177-BDCA-C47FDEE98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-420840" y="0"/>
            <a:ext cx="95648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9510-2418-4B06-B692-4B287F8F9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tis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enefits of Banner A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y clicking on them users are transferred to an advertiser’s site, and frequently directly to the shopping page of that 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bility to customize them for individual surfers or a market segment of surf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ing of banners is fairly high because “forced advertising” is u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nners may include attention-grabbing multimed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493560" y="927000"/>
            <a:ext cx="73216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ECA9-CC22-41F7-9549-7C21D3284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3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tis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5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mitations of Banner A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s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limited amount of information can be placed on the bann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ers have become somewhat immune to banners and simply do not notice them as they once d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167616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E55B-18CE-4EB9-BFBD-5B2974CA8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tis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9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anner swapp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agreement between two companies to each display the other’s banner ad on its Web 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anner exchang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rkets in which companies can trade or exchange placement of banner ads on each other’s Web si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1B48-EF09-447A-A2AF-B0CA14B20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tis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71520" y="12520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-up 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d that appears in a separate window before, during, or after Internet surfing or when reading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-under 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d that appears underneath the current browser window, so when the user closes the active window, he or she sees the 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sti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itial Web page or a portion of it that is used to capture the user’s attention for a short time while other content is 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صورة 6" descr="pop up adds.jpg"/>
          <p:cNvPicPr/>
          <p:nvPr/>
        </p:nvPicPr>
        <p:blipFill>
          <a:blip r:embed="rId1"/>
          <a:stretch/>
        </p:blipFill>
        <p:spPr>
          <a:xfrm>
            <a:off x="4572000" y="4191120"/>
            <a:ext cx="4343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8684-54F2-4F07-B7B6-CC9BE3E93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tis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Advertising Management—Four guidelines that marketers should consider to leverage customer insights throughout the e-mail marketing campaign lifecyc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ing about customer experien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privacy protection a part of their brand promi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ing their recipients know about their privacy protection;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ing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صورة 6" descr="@.jpg"/>
          <p:cNvPicPr/>
          <p:nvPr/>
        </p:nvPicPr>
        <p:blipFill>
          <a:blip r:embed="rId1"/>
          <a:stretch/>
        </p:blipFill>
        <p:spPr>
          <a:xfrm>
            <a:off x="5257800" y="4191120"/>
            <a:ext cx="28576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B961-75E8-40B6-9BF8-D914BD366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tis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Engine Advertisement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advantage of using URLs as an advertising tool is that i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ing a company’s search-engine ranking (optim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search-engine i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ing in chat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ing in news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صورة 6" descr="SEARCH.gif"/>
          <p:cNvPicPr/>
          <p:nvPr/>
        </p:nvPicPr>
        <p:blipFill>
          <a:blip r:embed="rId1"/>
          <a:stretch/>
        </p:blipFill>
        <p:spPr>
          <a:xfrm>
            <a:off x="5715000" y="3352680"/>
            <a:ext cx="28576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721D-C4DE-43A7-9D52-294E676FF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tis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dvertor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advertisement “disguised” to look like editorial content or general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ssociated ad display (text link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advertising strategy that displays a banner ad related to a term entered in a search eng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5DF8-7E90-41E4-B01F-E441DB900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ing Strateg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romotions On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ffiliate marke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rketing arrangement by which an organization refers consumers to the selling company’s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iral marke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-of-mouth marketing by which customers promote a product or service by telling others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ebcas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free Internet news service that broadcasts personalized news and information, including seminars, in categories selected by the us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38AE-A051-48AC-B709-DC6A08EDA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ing Strateg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romotions On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line Events, Promotions, and Attra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jor considerations when implementing an online ad campaig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get audience of online surfers clearly underst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ffic to the site should be estimated, and a powerful enough server used handle the expected traffic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ment of results is needed to evaluate the budget and promotion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co-bra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6" descr="facebook-request-permission-dialog.png"/>
          <p:cNvPicPr/>
          <p:nvPr/>
        </p:nvPicPr>
        <p:blipFill>
          <a:blip r:embed="rId1"/>
          <a:stretch/>
        </p:blipFill>
        <p:spPr>
          <a:xfrm>
            <a:off x="5638680" y="1523880"/>
            <a:ext cx="2971800" cy="381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4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DF8F-40BA-42BC-9546-A3C0F55F6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64152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Advertising Top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5257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ssion Advert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e-mail to send unwanted ads (sometimes floods of a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mission advertising (permission mark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ing (marketing) strategy in which customers agree to accept advertising and market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1569600"/>
            <a:ext cx="73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 systems design  the factors into :</a:t>
            </a:r>
            <a:br>
              <a:rPr sz="24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tional fac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unctions available on the web site to provide direct support in the transactional process ex. payment methods.</a:t>
            </a:r>
            <a:br>
              <a:rPr sz="1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giene factor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unctions available on the web site to  prevent trouble in the process ex. security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4F3A-88CE-4530-B114-A99725D04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395280" y="2571840"/>
            <a:ext cx="4897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HAVIOR  PROCESS  MODE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380880" y="3068640"/>
            <a:ext cx="4800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ced research Used to describe the process consumers employ when making decision based on advertising message includes 5 stages(AIDA)S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- Attention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trac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-Intere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aise by advantages ,benef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3-Des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4-Ac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5- Satisfa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igher loyalty lead to repurcha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D595-7306-4187-9F2F-1A599ED0B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Advertising Top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ology and software that enable organizations to perform a variety of activities involved in Web advertising (e.g., tracking viewers, rotating a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of converting media products developed in one environment (e.g., country) to a form culturally and linguistically acceptable in countries outside the original target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eb site that provides music, talk, and other entertainment, both live and stored, from a variety of radio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images.jpg"/>
          <p:cNvPicPr/>
          <p:nvPr/>
        </p:nvPicPr>
        <p:blipFill>
          <a:blip r:embed="rId1"/>
          <a:stretch/>
        </p:blipFill>
        <p:spPr>
          <a:xfrm>
            <a:off x="762120" y="1371600"/>
            <a:ext cx="1371600" cy="106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5" name="Picture 7" descr="gps-needle-localization-icone-8664-96.png"/>
          <p:cNvPicPr/>
          <p:nvPr/>
        </p:nvPicPr>
        <p:blipFill>
          <a:blip r:embed="rId2"/>
          <a:stretch/>
        </p:blipFill>
        <p:spPr>
          <a:xfrm>
            <a:off x="725400" y="2798640"/>
            <a:ext cx="1451160" cy="1144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world-music-icon.jpg"/>
          <p:cNvPicPr/>
          <p:nvPr/>
        </p:nvPicPr>
        <p:blipFill>
          <a:blip r:embed="rId3"/>
          <a:stretch/>
        </p:blipFill>
        <p:spPr>
          <a:xfrm>
            <a:off x="725400" y="4078440"/>
            <a:ext cx="15242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BB0D-ACF1-4E88-8877-E26B41235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Advertising Top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196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of ads is extremely important, and companies use ad agencies to help in content creation for the Web just as they do for other advertis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is especially important to increa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ick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" descr="advertisingsm.jpg"/>
          <p:cNvPicPr/>
          <p:nvPr/>
        </p:nvPicPr>
        <p:blipFill>
          <a:blip r:embed="rId1"/>
          <a:stretch/>
        </p:blipFill>
        <p:spPr>
          <a:xfrm>
            <a:off x="1652760" y="3651120"/>
            <a:ext cx="538128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896A-B1C7-4B9D-B768-E672D7A9E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734364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gents in Marke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dvertising Appl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0520" y="1815840"/>
            <a:ext cx="5334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ramework for Classifying EC Agents: Agents that Sup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brokering (what to bu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t brokering and comparisons (from whom to bu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er-seller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an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-sale service an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6" descr="images (1).jpg"/>
          <p:cNvPicPr/>
          <p:nvPr/>
        </p:nvPicPr>
        <p:blipFill>
          <a:blip r:embed="rId1"/>
          <a:stretch/>
        </p:blipFill>
        <p:spPr>
          <a:xfrm>
            <a:off x="6172200" y="1600200"/>
            <a:ext cx="2114640" cy="312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The purchase Decision-Making process : Agent classificatio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Content Placeholder 6" descr=""/>
          <p:cNvPicPr/>
          <p:nvPr/>
        </p:nvPicPr>
        <p:blipFill>
          <a:blip r:embed="rId1"/>
          <a:stretch/>
        </p:blipFill>
        <p:spPr>
          <a:xfrm>
            <a:off x="171360" y="1646280"/>
            <a:ext cx="8796600" cy="4430520"/>
          </a:xfrm>
          <a:prstGeom prst="rect">
            <a:avLst/>
          </a:prstGeom>
          <a:ln w="0">
            <a:noFill/>
          </a:ln>
        </p:spPr>
      </p:pic>
      <p:sp>
        <p:nvSpPr>
          <p:cNvPr id="351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6248-7E0E-4AAE-8A4C-FB62A1DD2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97A6-7135-44F0-B49B-6347D5A5C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erial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o we understand our customer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hould we use intelligent agent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o will conduct the market research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re customers satisfied with our Web site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n we use B2C marketing methods and research in B2B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do we decide where to advertise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4138-E327-4751-9A9B-CE39A488E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erial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is our commitment to Web advertising, and how will we coordinate Web and traditional advertising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hould we integrate our Internet and non-Internet marketing campaign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ethical issues should we consider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re any metrics available to guide advertiser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97BE-04E8-4E5E-85B9-7BD7AF26F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ssentials of online consumer behavio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online consumer decision-making proces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uilding one-to-one relationships with custome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line personaliza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creasing loyalty and trus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C customer market resear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2B Internet marketing and organizational buye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5B27-14DC-48DD-A074-587DF83E2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bjectives and characteristics of Web advertising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jor online advertising method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rious advertising strategies and types of promotion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ermission marketing, ad management, and localiza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elligent agen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CF10-AEF5-4CE8-A7B0-19D530152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76176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oles people play in the decision-making proces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luenc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ci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E618-BA1B-470E-8953-FFC9D5531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um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-Making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78544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eneric Purchasing-Deci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bro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ing what product to bu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chant bro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ing from whom (from what merchant) to buy a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7480" y="1652400"/>
            <a:ext cx="8785080" cy="4406760"/>
          </a:xfrm>
          <a:prstGeom prst="rect">
            <a:avLst/>
          </a:prstGeom>
          <a:ln w="0">
            <a:noFill/>
          </a:ln>
        </p:spPr>
      </p:pic>
      <p:sp>
        <p:nvSpPr>
          <p:cNvPr id="161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516E-352A-4388-AB24-9FA82F57D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FF84-948B-4FEB-8ED0-0D5691008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One Market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yalty, and Trust in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7480" y="1142640"/>
            <a:ext cx="8785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ome issue related to one-to-one marketing 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atching of services, products, and advertising content with individual consumers and their preferences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equirements, preferences, behaviors, and demographic traits of a particular custom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oki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data file that is placed on a user’s hard drive by a Web server, frequently without disclosure or the user’s consent, that collects information about the user’s activities at a si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عنصر نائب للمحتوى 6" descr="chrome-cookie-2.png"/>
          <p:cNvPicPr/>
          <p:nvPr/>
        </p:nvPicPr>
        <p:blipFill>
          <a:blip r:embed="rId1"/>
          <a:stretch/>
        </p:blipFill>
        <p:spPr>
          <a:xfrm>
            <a:off x="1828800" y="533520"/>
            <a:ext cx="5494320" cy="5649840"/>
          </a:xfrm>
          <a:prstGeom prst="rect">
            <a:avLst/>
          </a:prstGeom>
          <a:ln w="0">
            <a:noFill/>
          </a:ln>
        </p:spPr>
      </p:pic>
      <p:sp>
        <p:nvSpPr>
          <p:cNvPr id="172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33E2-F7C4-4903-8365-CBDD4D855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4:41:15Z</dcterms:created>
  <dc:creator>JL</dc:creator>
  <dc:description/>
  <dc:language>en-US</dc:language>
  <cp:lastModifiedBy>asus</cp:lastModifiedBy>
  <dcterms:modified xsi:type="dcterms:W3CDTF">2011-10-26T22:34:27Z</dcterms:modified>
  <cp:revision>133</cp:revision>
  <dc:subject/>
  <dc:title>Chapter</dc:title>
</cp:coreProperties>
</file>