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38E-772C-4969-A488-95437586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9BD-721E-414D-B955-C61C96A6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A14-C4A5-4843-B1FB-291DDFAE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293-F0D3-4321-A685-2D4E043F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9732-3782-461B-8070-3F1EC8A2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23F2-57FF-4E7F-95FB-30A1C8A7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4151-C4B8-4C0E-A5E5-E860B61F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B869-8BC9-43D3-93C1-94904A01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C66B-3E62-4BD3-BBB1-643202A8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9454-758B-4EAF-913E-7CB54E29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AD81-D981-4282-A206-6E00E79A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D23-A330-4784-91DC-080913F2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6E26-6FA6-425A-B4B5-D6DBC576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6588-0A73-4852-8607-8C0AEE66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59D0-10A5-4A9F-95D1-E74285B5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705A-45A9-4D49-961A-95A749AC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E6A6-F838-4B46-86CF-BB4881E4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90EB9-7BF2-484F-99C3-3FB13D08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4380-603F-4BB7-BB68-B6622AFD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D707-D049-442C-9E9E-5166987B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D370-9288-4AD6-AE5D-2528E4D4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A38A-A9B6-4A2C-BE70-40A661A9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9E3-8C75-4635-B4C5-D60532D6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F8C51-8E62-4E4A-A1E0-228F3A4E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B2BA2-D252-4F74-9C68-3104DD74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276C-1616-40A4-A6E2-D4A5C5E3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A6F8-4D28-4D9E-8160-B40264DD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EB84-0D0B-48AB-842E-CDFDAC43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F908E-6199-4478-A8BE-909C9233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967E-F6D9-4660-A6A8-85017062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040-0C69-4D37-BDB7-14B4F3C6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695-3CD5-4022-BA33-3DDE593D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A39-7D49-40B5-B23F-CCEEF91A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E29-BCA6-4D2A-9396-2A098DD4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8A1-A142-47E6-90D7-3FEF3C1C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886-B9E9-4F55-A2E5-88F4BD66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6050-C7C3-4180-8DB1-1DCED6565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40EC-7D5D-464E-AC58-6EFC7E08C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A4AF-BF92-4F8F-AA73-52041BDB6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569736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2B E-Commerc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ling and Buying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Private E-Marke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ypes of Trans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pot buy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purchase of goods and services as they are needed, usually at prevailing market pr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ategic systematic sour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rchases involving long-term contracts that usually are based on private negotiations between sellers and buy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F8E5-60B4-413E-82C3-030CD00F72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ypes of Materials Tra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rect materi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terials used in the production of a product (e.g., steel in a car or paper in a boo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direct materi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terials used to support production (e.g., office supplies or light bulb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RO (maintenance, repair, and operati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direct materials used in activities that support produ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44D0-8E54-4ED3-B68C-CE7689735D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ion of Tra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ertical marketpl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rkets that deal with one industry or industry segment (e.g., steel, chemical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rizontal marketpl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rkets that concentrate on a service, materials, or a product that is used in all types of industries (e.g., office supplies, PC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0553-2826-4EB5-A7AF-4DCF15450D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upply Chain Relationships in B2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2B private e-marketplace provides a company with high supply chain power and high capabilities for online intera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ublic e-marketplace provides a business with high buying and selling capabilities, but results in low supply chain 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ing an intermediary results in low supply chain power and buying/selling capabil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5565-B28B-4D2E-9E4E-FFED57FC7F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irtual Services Industries in B2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vel and entertainment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l est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line stock tr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line finan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ther online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AAA8-42AD-4E35-854A-CC7CC46FD7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nefits of B2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eates new sales (purchase) opportuni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iminates paper and reduces administrative cos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pedites processing and reduces cycle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wers search costs and time for buyers to find products and vend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s productivity of employees dealing with buying and/or sell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es errors and improves quality of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kes product configuration easi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3CFC-5BC2-470E-8008-1E3D251C24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nefits of B2B (continued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es marketing and sales costs (for seller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es inventory levels and cos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ables customized online catalogs with different prices for different custom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s production flexibility, permitting just-in-time deliv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es procurement costs (for buyer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cilitates mass custom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vides for efficient customer serv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s opportunities for collabo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0AA0-B78F-4144-8608-E2A725B7737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mitations of B2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nel conflic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eration of public excha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imination the distributor or the retail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636C-EE0E-490C-BA06-2FAC168879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Many: Sell-Side E-Marketpl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l-Side Models and Activit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ell-side e-marketpla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Web-based marketplace in which one company sells to many business buyers from e-catalogs or auctions, frequently over an extra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ree major pricing method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ling from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lectronic catalog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ling vi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ward auctions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e-to-o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ling, usually under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egotiat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-term contra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66AF-456E-433E-B7EF-24890ED221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5.3 Sell-Side B2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-Marketplace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71560" y="1533600"/>
            <a:ext cx="757872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9CF7-3E82-42B9-B0BA-ECACB7136C4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0320" y="1174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B2B fiel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major types of B2B model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scuss the characteristics of the sell-side marketplace, including auct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sell-side intermediary model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characteristics of the buy-side marketplace and e-procuremen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plain how reverse auctions work in B2B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B3F5-4C95-4059-82BE-19A5878339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o-Many: Sell-Side E-Marketpl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irect Sales from Catalo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mpany usually offers both one catalog for all customers and a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customized catalog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large custom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fers  an opportunity for efficient custom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ontact would-be buyers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to customer for use of traditional—one solution is to use extran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87B3-849E-4700-A095-754FBDE6E94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ling via Intermedi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rmediaries distribute products to a large number of buy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 products from many vendors and aggregate them into one catalog from which they s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so offer their products online via storefro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Using Auctions on the Sell-Sid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venue gene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st sav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d page view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mber acquisition and reten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3C37-9584-431C-8DA7-5C84788AEA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ling via Intermedi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0040" y="1272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ling from the Company’s Own Si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rge, well-known companies that frequently conduct auctions, build an auction mechanism on the company’s own s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Using Intermediar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additional resources are required for the company using the intermedi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able a company to have a robust, customized auction up-and-running immediate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illing and collection efforts are handled by the intermedi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CCDD-C5BB-4996-AFD1-72DB5E1B127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y-side e-marketpla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corporate-based acquisition site that uses reverse auctions, negotiations, group purchasing, or any other e-procurement meth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21FD-9362-46F3-8D5A-F3A7D163D6A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16080" y="133956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ocurement Meth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 bidding or tendering (a reverse auction) in a system in which suppliers compete against each o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 directly from manufacturers, wholesalers, or retailers from their catalogs and possibly by negoti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 from the catalog of an intermediar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e-distributor) that aggregates sellers’ catalo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 from an internal buyer’s catalog, in which company-approved vendors’ catalogs, including agreed-upon prices, are aggrega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8AAD-B383-4A78-BE6F-DE764A4F8C4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 at private or public auction sites in which the organization participates as one of the bu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oin a group-purchasing system that aggregates participants’ demand, creating a large volu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y at an exchange or industrial ma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llaborate with suppliers to share information about sales and inventory, so as to reduce inventory and stock-outs and enhance just-in-time deliv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ABC4-F1CF-4853-BE17-BE5D2398ACD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efficiencies in Traditional Procurement Manag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curement mana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oordination of all the activities relating to purchasing goods and services needed to accomplish the mission of an organ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verick buy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planned purchases of items needed quickly, often at non-pre-negotiated higher pr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A378-0DB9-4D73-ADE9-7C5D9B57F3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enefits of E-Procur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-procur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electronic acquisition of goods and services for organiz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y automating and streamlining the laborious routines of the purchasing function, purchasing professionals can focus on more strategic purch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6793-1CC3-42BC-A017-3FE4628B351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oals of E-Procur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ing the productivity of purchasing agen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wering purchase prices through product standardization, reverse auctions, volume discounts, and consolidation of purcha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ing information flow and mana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nimizing the purchases made from noncontract vend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ing the payment process and saving due to expedited payments (for seller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53CB-F529-462F-8298-E22EA42927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2480" y="138096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tablishing efficient, collaborative supplier rel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suring delivery on time, every ti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lashing order-fulfillment and processing times by leveraging auto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ing the skill requirements and training needs of purchasing ag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ing the number of suppli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eamlining the purchasing process, making it simple and fa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eamlining invoice reconciliation and dispute resol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C417-9313-4C29-B074-98BEDD5384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B2B aggregation and group purchasing model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other procurement method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plain how B2B administrative tasks can be automat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infrastructure and standards requirements for B2B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Web EDI, XML, and Web Servi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C01E-1BF4-4742-BE26-E176D618DD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the administrative processing cost per order by as much as 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new suppliers and vendors that can provide goods and services faster and/or cheaper (improved sour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budgetary controls into the procure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human errors in the buying or shipp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regulating buy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E635-46F0-4DB6-B550-C3C00C51EA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06280" y="138240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ing E-Procur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tting e-procurement into the company EC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viewing and changing the procurement process itsel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ing interfaces between e-procurement and integrated enterprise-wide information systems (ERP or SCM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ordinating the buyer’s information system with that of the sell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solidating the number of regular suppliers and integrating with their information systems, and if possible, with their business proces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8BC1-C1CC-418A-A2E7-AA3470D9209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e-sourc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rocess and tools that electronically enable any activity in the sourcing process, such as quotation/tender submittance and response, e-auctions, online negotiations, and spending analy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9672-6132-419B-93BE-932D42678A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-from-Many: Buy-Sid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rketplaces and E-Procure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05920" y="1252080"/>
            <a:ext cx="85568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lementing E-Procur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ategic sourcing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process of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ng potential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tiating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supplier relationshi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d to achieve corporate goals includ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re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quality and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-sourcing solutions attempt to improve strategic sourcing by making it more effective and effici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-in-time sourcing ( J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consul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ed sourcing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F9C0-1648-440F-BDCB-B9F47A8E72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-Side E-Marketplac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Au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equest for quote (RFQ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invitation” to participate in a tendering (bidding)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5D8A-756F-4394-9091-F02378824A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5.6 Reverse Auction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71600" y="914400"/>
            <a:ext cx="5987880" cy="52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2D46-6000-4E4F-B461-7DE545A0879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-Procurement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nal procurement marketpl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gregated catalogs of all approved suppliers combined into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sktop purcha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purchasing from internal marketplaces without the approval of supervisors and without the intervention of a procurement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oup purcha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gregation of orders from several buyers into volume purchases so that better prices can be negot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3CE0-3915-4301-AD32-5326BE2BD7E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-Procurement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rnal Aggreg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ternal Aggreg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uying from E-Distributo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urchasing Direct Go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ectronic Barter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uying in Exchanges and Industrial Mal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5438-972E-43CC-9A03-6607716E7F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7184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hibit 5.8 The Group Purchasing Proc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216480" cy="506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30F4-9DE1-40C0-82AF-B22F31139A0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E-Procurement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artering exchang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intermediary that links parties in a barter; a company submits its surplus to the exchange and receives points of credit, which can be used to buy the items that the company needs from other exchange participa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A7C0-5329-4131-9DD9-6473AECA7FF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sic B2B Concep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usiness-to-business e-commerce (B2B EC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ansactions between businesses conducted electronically over the Internet, extranets, intranets, or private networks; also known as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B2B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lectronic B2B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 or jus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A463-7AD7-4BFD-907C-2A8239C4EA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-Procurement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46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tract Manag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duce contract negotiation time and eff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cilitate inter- and intracompany contract analysis and develo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vide for proactive contract compliance mana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able enterprise-wide standardization of contrac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 understanding of contract-related ris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vide a more efficient approval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9341-1AF9-442F-892B-944A90F7535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ng B2B Tas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46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pend Manag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data warehouse repository designed to manage data from multiple data sour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a management of contracts, supplier catalogs, and product cont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a management of pric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tailed standard and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purchasing activity analysis and report to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pdates, notifications, and alerts regarding purcha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7864-1C28-4F83-A1EC-3FE46BDC635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ng B2B Tas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38040" y="1294920"/>
            <a:ext cx="846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urcing Management and Negoti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id comparison, including exports of detailed bid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 management functions that eliminate data redundancy, simplify data management, and reduce risk to data integ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ighted scoring of parameters to calculate the total value offered by suppli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tal merchandise purchased cost model with winner selection and rank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erse auctions and sealed bids, with a full set of features such as proxy bids and bid-time extens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gotiation support t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F8A5-782A-490F-BF54-09384CC279F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ng B2B Tas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46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-Procurement Managemen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procurement systems are used for making online purchases, connecting companies and their business processes directly with suppliers, and managing the interactions between them including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spon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ious pri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-mails sent to multiple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290B-9041-4F93-B91D-48682092B79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" y="144000"/>
            <a:ext cx="852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, Integration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gents in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46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rastructure for B2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lectronic data interchange (ED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ic transfer of specially-formatted standard business documents, such as bills, orders, and confirmations, sent between business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ue-added networks (VAN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vate, third-party managed networks that add communications services and security to existing common carriers; used to implement traditional EDI syst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ernet-based (Web) ED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DI that runs on the Internet and is widely accessible to most companies, including S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C038-73AE-49DB-A377-F37E81305A8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0600" y="122040"/>
            <a:ext cx="852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, Integration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gents in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46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gration for B2B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gration with the existing internal infrastructure and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gration with business partn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4755-018C-46F8-8A8B-F23225AFCC3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" y="99720"/>
            <a:ext cx="852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, Integration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gents in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Role of Standards in B2B Integra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XML (eXtensible Markup Languag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ndard (and its variants) used to improve compatibility between the disparate systems of business partners by defining the meaning of data in business docu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architecture enabling assembly of distributed applications from software services and tying them toge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59AA-CCB9-4173-ACAD-5847B160625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" y="122040"/>
            <a:ext cx="8523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, Integration,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Agents in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ole of Software Agents in B2B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ajor role of software agents in B2C is collecting data from multiple sellers’ si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ftware agents also collect information from business sellers’ sites for the benefit of business buy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78EB-1173-47C3-9B5C-4C37C8578D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5720" y="274320"/>
            <a:ext cx="852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rial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we justify the cost of B2B application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vendor(s) should we selec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ich B2B model(s) should we us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uld we restructure our procurement system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are the ethical issues in B2B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ll there b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assive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intermediat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can trust and loyalty be cultivated in B2B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56C4-B910-44A6-9B28-234906F7FD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B2B fiel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major B2B model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characteristics of sell-side marketpla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ll-side intermediari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characteristics of buy-side marketplaces and e-procuremen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2B reverse auct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E397-DFAA-4CC3-BAD8-6162EB66BDA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ey business drivers for B2B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vailability of a secure broadband Internet platform and private and public B2B e-marketplace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eed for collaborations between suppliers and buyer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bility to save money, reduce delays, and improve collaboration;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emergence of effective technologies for intra- and interorganizational integr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94BC-5D61-457E-A49C-711777DB87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2B aggregation and group purchas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ther purchasing method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ministrative task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frastructure and standards in B2B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b-based EDI, XML, and Web Servi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08DE-E251-4F1B-A499-F02917E17CC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hibit 5.2 Types of B2E E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7840" y="1652400"/>
            <a:ext cx="431640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6545520" cy="506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1876-A5DE-48BC-945F-AFE214CA8A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sic Types of B2B E-Marketpla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-to-Many and Many-to-One: Privat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-Marketpl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mpany-centric E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-commerce that focuses on a single company’s buying needs (many-to-one, or buy-side) or selling needs (one-to-many, or sell-sid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vate e-marketpl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rkets in which the individual sell-side or buy-side company has complete control over participation in the selling or buying transa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E626-C1AC-4BB3-9DFC-4C5C6B06F2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mediaries are frequently u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ucting a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gregating bu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trans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ny-to-Many: Excha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hanges (trading communities or trading exchange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-to-many e-marketplaces, usually owned and run by a third party or a consortium, in which many buyers and many sellers meet electronically to trade with each other; also call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rading communiti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rading ex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699F-B0F3-4331-9EC1-AB892CABEF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, Characteristic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odels of B2B 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ny-to-Many: Exchan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ublic e-marketpla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-party exchanges that are open to all interested parties (sellers and buyer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2B2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business sells to a business, but delivers small quantities to individuals or business custom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line intermedi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online third party that brokers a transaction online between a buyer and a seller; may be virtual or click-and-mort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entice Hall ©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4926-AB5C-4DFB-82F9-590C3BF195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lectronic Commerc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14:41:15Z</dcterms:created>
  <dc:creator>JL</dc:creator>
  <dc:description/>
  <dc:language>en-US</dc:language>
  <cp:lastModifiedBy>Pearson Education</cp:lastModifiedBy>
  <dcterms:modified xsi:type="dcterms:W3CDTF">2005-06-28T17:02:16Z</dcterms:modified>
  <cp:revision>60</cp:revision>
  <dc:subject/>
  <dc:title>Chapter </dc:title>
</cp:coreProperties>
</file>