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7106-8B26-4436-A987-8B96130E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8211-58B4-43EB-A47A-C40B6753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5383-376E-4E99-93A2-A20DD6D9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35D6-CAE6-4758-A724-12764F82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660B-1837-4D00-BCB1-5545589C8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7CAC-B48D-4902-AA81-C3A18EDF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1516-4763-450D-BB94-B4CB1BB6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CFA4-1428-4AF4-B261-F32AD0C9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D270-B39C-4C10-A63B-8C611665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91F4-49FD-4073-9BBC-9D4610FE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6819-41DA-43B1-ADA1-03FA32A9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8262-C219-4262-9820-B893F05F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E111-19FC-416A-9E9B-A90865C4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8E25-6D3A-45C9-AB0D-C6B3F119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2E79-D9B2-4D0A-8CBC-EFF1A47E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29EF-87B3-4479-B6E7-A59B8DDC9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BFFA-E7F3-4D25-9BF8-8138A4ABB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98DB5-D90A-4918-B609-3A4E194FA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BA7DC-72E9-40FD-9443-A5F0BB5D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88BC9-1D57-4CFF-A393-FC3E5068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8FE1D-EB10-44D8-B759-958749A7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98569-998F-4811-B419-0FBFAB39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D2BB-3D5D-4EFD-812E-B64734AE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AB5AD-9079-4381-90F1-8FEF9FC1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304E3-1BD6-4F17-BB05-8A5F05D2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98148-CD84-4AE8-9AC8-DC1175CC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4FB24-BA0E-4FE3-8B87-C4C8D3AE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2FA44-7558-4A6B-BD02-31D36AC3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4276F-581F-488E-840A-F763F0B78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5DE1E-416B-46CB-972B-4D127FF5C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07AB-0F49-4D49-A97E-DC7F97C6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F105-4B26-4F6E-9464-A8FEFCD2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79A4-4BAB-4DF3-8BEB-E08A0692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9ED4-F40B-44DB-A764-203B0FE0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09E5-2C32-49BA-917D-FE87B366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E3D2-BD5A-4AC3-935A-B8B07627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653E-F6CD-4D2D-B702-EDFBBF930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87C5-A122-4968-8579-9A59BBB30B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D9C0-4890-4527-8137-CBAAD294F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5697360" cy="60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2B E-Commerce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lling and Buying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n Private E-Marke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s, Characteristic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odels of B2B 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ypes of Transac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pot buy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purchase of goods and services as they are needed, usually at prevailing market pri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trategic systematic sourc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urchases involving long-term contracts that usually are based on private negotiations between sellers and buy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72CC-CA57-472B-AF78-83DEA039CAE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s, Characteristic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odels of B2B 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ypes of Materials Trad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rect materi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terials used in the production of a product (e.g., steel in a car or paper in a book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direct materi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terials used to support production (e.g., office supplies or light bulb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RO (maintenance, repair, and operatio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direct materials used in activities that support produc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448A-A4BF-40BF-A4A0-F20327BD403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s, Characteristic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odels of B2B 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ion of Tra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vertical marketpla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rkets that deal with one industry or industry segment (e.g., steel, chemical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rizontal marketpla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rkets that concentrate on a service, materials, or a product that is used in all types of industries (e.g., office supplies, PC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05AD-2C64-4709-868F-AE46DAACDD0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s, Characteristic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odels of B2B 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upply Chain Relationships in B2B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2B private e-marketplace provides a company with high supply chain power and high capabilities for online interac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public e-marketplace provides a business with high buying and selling capabilities, but results in low supply chain 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ing an intermediary results in low supply chain power and buying/selling capabilit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CD83-3F35-4394-87CE-44667D32A11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s, Characteristic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odels of B2B 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irtual Services Industries in B2B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ravel and entertainment serv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al est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nancial serv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line stock trad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line financ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ther online serv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D771-F127-4848-93E1-BE736233D87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s, Characteristic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odels of B2B 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enefits of B2B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reates new sales (purchase) opportunit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liminates paper and reduces administrative cos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pedites processing and reduces cycle ti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owers search costs and time for buyers to find products and vendo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creases productivity of employees dealing with buying and/or sell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duces errors and improves quality of serv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kes product configuration easi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E07D-6373-4CE4-84CB-ED1C5E78714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s, Characteristic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odels of B2B 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enefits of B2B (continued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duces marketing and sales costs (for seller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duces inventory levels and cos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nables customized online catalogs with different prices for different custom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creases production flexibility, permitting just-in-time delive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duces procurement costs (for buyer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acilitates mass customiz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vides for efficient customer servi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creases opportunities for collabor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93F3-617A-442C-A60B-146BDD9BA54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s, Characteristic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odels of B2B 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imitations of B2B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annel conflic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peration of public exchang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limination the distributor or the retail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43AD-2DBF-48CC-8687-FC6D21C00B1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to-Many: Sell-Side E-Marketpl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ll-Side Models and Activiti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ell-side e-marketpla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Web-based marketplace in which one company sells to many business buyers from e-catalogs or auctions, frequently over an extran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ree major pricing methods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ling from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lectronic catalog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ling vi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ward auctions;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ne-to-on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ling, usually under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egotiate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ng-term contra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4D4D-9076-487E-84A2-F7EF99A16E2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hibit 5.3 Sell-Side B2B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E-Marketplace Archite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871560" y="1533600"/>
            <a:ext cx="7578720" cy="471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AEF4-B29A-4BB9-B435-5EDBECAAD4C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0320" y="1174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the B2B fiel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the major types of B2B model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iscuss the characteristics of the sell-side marketplace, including auction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the sell-side intermediary model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the characteristics of the buy-side marketplace and e-procurement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plain how reverse auctions work in B2B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0FE2-23D9-467D-9358-3587E25923E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to-Many: Sell-Side E-Marketpl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irect Sales from Catalo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company usually offers both one catalog for all customers and a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customized catalog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r each large custom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ffers  an opportunity for efficient customiz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contact would-be buyers on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st to customer for use of traditional—one solution is to use extran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02A4-F108-42CD-93D9-E9797A432D0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ling via Intermediar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ntermediaries distribute products to a large number of buy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y products from many vendors and aggregate them into one catalog from which they sel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so offer their products online via storefro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Using Auctions on the Sell-Sid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venue gener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st saving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creased page view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ember acquisition and reten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A0CE-B52F-44D6-A064-346CF6F79A6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ling via Intermediar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0040" y="1272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lling from the Company’s Own Sit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rge, well-known companies that frequently conduct auctions, build an auction mechanism on the company’s own si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Using Intermediari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o additional resources are required for the company using the intermedia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nable a company to have a robust, customized auction up-and-running immediate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illing and collection efforts are handled by the intermedia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2ACA-D76B-4F12-8218-6508113F23A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-from-Many: Buy-Sid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Marketplaces and E-Procure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uy-side e-marketpla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corporate-based acquisition site that uses reverse auctions, negotiations, group purchasing, or any other e-procurement metho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C0A1-D255-4E05-8439-CD82487FEE7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-from-Many: Buy-Sid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Marketplaces and E-Procure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16080" y="133956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ocurement Metho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duct bidding or tendering (a reverse auction) in a system in which suppliers compete against each oth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y directly from manufacturers, wholesalers, or retailers from their catalogs and possibly by negoti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y from the catalog of an intermediar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e-distributor) that aggregates sellers’ catalog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y from an internal buyer’s catalog, in which company-approved vendors’ catalogs, including agreed-upon prices, are aggregat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CE77-8E13-46AE-9002-BD48B18149D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-from-Many: Buy-Sid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Marketplaces and E-Procure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y at private or public auction sites in which the organization participates as one of the buy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oin a group-purchasing system that aggregates participants’ demand, creating a large volu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y at an exchange or industrial mal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llaborate with suppliers to share information about sales and inventory, so as to reduce inventory and stock-outs and enhance just-in-time delive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785C-A6E9-4B37-B4CF-679224DB2EF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-from-Many: Buy-Sid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Marketplaces and E-Procure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nefficiencies in Traditional Procurement Manage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curement manage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coordination of all the activities relating to purchasing goods and services needed to accomplish the mission of an organiz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verick buy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nplanned purchases of items needed quickly, often at non-pre-negotiated higher pri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B27F-A496-4873-ADF7-A0ABDC7D21A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-from-Many: Buy-Sid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Marketplaces and E-Procure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enefits of E-Procure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-procure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electronic acquisition of goods and services for organiza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y automating and streamlining the laborious routines of the purchasing function, purchasing professionals can focus on more strategic purcha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5DA1-1F0E-4B35-B7D5-FDA81DF8ADE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-from-Many: Buy-Sid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Marketplaces and E-Procure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oals of E-Procure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creasing the productivity of purchasing agent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owering purchase prices through product standardization, reverse auctions, volume discounts, and consolidation of purcha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roving information flow and manage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inimizing the purchases made from noncontract vendo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roving the payment process and saving due to expedited payments (for seller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615D-E5E3-4779-A06E-7E613F1CA49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-from-Many: Buy-Sid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Marketplaces and E-Procure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2480" y="138096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stablishing efficient, collaborative supplier rela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nsuring delivery on time, every ti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lashing order-fulfillment and processing times by leveraging autom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ducing the skill requirements and training needs of purchasing ag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ducing the number of suppli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reamlining the purchasing process, making it simple and fa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reamlining invoice reconciliation and dispute resolu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C7B2-D2FB-40E7-B06F-CAB4407CF60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B2B aggregation and group purchasing model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other procurement method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plain how B2B administrative tasks can be automate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infrastructure and standards requirements for B2B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Web EDI, XML, and Web Servic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B45B-8F86-41E3-8CB9-13F5B109E0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-from-Many: Buy-Sid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Marketplaces and E-Procure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ing the administrative processing cost per order by as much as 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new suppliers and vendors that can provide goods and services faster and/or cheaper (improved sourc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ng budgetary controls into the procuremen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ing human errors in the buying or shipp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regulating buying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2092-1C7D-4F3E-90DD-9C1ABDB9B6E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-from-Many: Buy-Sid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Marketplaces and E-Procure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06280" y="138240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lementing E-Procure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tting e-procurement into the company EC strateg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viewing and changing the procurement process itsel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viding interfaces between e-procurement and integrated enterprise-wide information systems (ERP or SCM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ordinating the buyer’s information system with that of the sell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solidating the number of regular suppliers and integrating with their information systems, and if possible, with their business process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94F2-730B-4A68-BF98-2F2EB7E361C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-from-Many: Buy-Sid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Marketplaces and E-Procure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-sourc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process and tools that electronically enable any activity in the sourcing process, such as quotation/tender submittance and response, e-auctions, online negotiations, and spending analy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CD46-B71B-466B-9B71-A1696F32829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-from-Many: Buy-Sid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Marketplaces and E-Procure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05920" y="1252080"/>
            <a:ext cx="855684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lementing E-Procure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Strategic sourcing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the process of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ing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ng potential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otiating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ing supplier relationshi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d to achieve corporate goals including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redu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quality and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-sourcing solutions attempt to improve strategic sourcing by making it more effective and effici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-in-time sourcing ( J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consulting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ed sourcing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2AC5-2FA2-4FFA-97CB-1B15F1EB371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-Side E-Marketplac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rse Au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request for quote (RFQ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invitation” to participate in a tendering (bidding) syst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3420-EA4E-42D0-8F27-2F8384C9185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hibit 5.6 Reverse Auction Pro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371600" y="914400"/>
            <a:ext cx="5987880" cy="52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CEC5-8A23-4E9D-8915-9321E92AD5A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E-Procurement Metho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ernal procurement marketpla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ggregated catalogs of all approved suppliers combined into a sing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cat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esktop purchas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purchasing from internal marketplaces without the approval of supervisors and without the intervention of a procurement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group purchas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ggregation of orders from several buyers into volume purchases so that better prices can be negot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D090-F3E4-42E7-A481-C71157067CA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E-Procurement Metho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nternal Aggreg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ternal Aggreg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uying from E-Distributo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urchasing Direct Goo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lectronic Barter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uying in Exchanges and Industrial Mall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9CAC-286F-4FDE-85AC-12425551789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7184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hibit 5.8 The Group Purchasing Proces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219320" y="914400"/>
            <a:ext cx="6216480" cy="506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8E83-9D4F-442E-9EC1-D0D8734F533A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E-Procurement Metho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artering exchan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 intermediary that links parties in a barter; a company submits its surplus to the exchange and receives points of credit, which can be used to buy the items that the company needs from other exchange participa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0B01-4EE7-4ABE-AB51-51A1BDAA6CB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s, Characteristic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odels of B2B 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asic B2B Concep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usiness-to-business e-commerce (B2B EC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ransactions between businesses conducted electronically over the Internet, extranets, intranets, or private networks; also known as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eB2B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electronic B2B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 or just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B2B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D92D-B06C-4407-B555-B6DAFE6033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E-Procurement Metho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469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tract Manage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duce contract negotiation time and effor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acilitate inter- and intracompany contract analysis and develop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vide for proactive contract compliance manage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nable enterprise-wide standardization of contrac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rove understanding of contract-related ris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vide a more efficient approval proce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0AA2-B99F-493C-A0C0-A93EF142E88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ng B2B Tas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469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pend Manage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data warehouse repository designed to manage data from multiple data sour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ata management of contracts, supplier catalogs, and product cont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ata management of pric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tailed standard and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ad hoc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purchasing activity analysis and report too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pdates, notifications, and alerts regarding purchas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9F05-9D8C-477E-9C54-C73849DD028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ng B2B Tas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38040" y="1294920"/>
            <a:ext cx="8469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urcing Management and Negoti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id comparison, including exports of detailed bid da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r management functions that eliminate data redundancy, simplify data management, and reduce risk to data integr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eighted scoring of parameters to calculate the total value offered by suppli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tal merchandise purchased cost model with winner selection and rank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verse auctions and sealed bids, with a full set of features such as proxy bids and bid-time extension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gotiation support too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B24A-DE2B-464A-BD71-5CF4CB0AE29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ng B2B Tas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469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-Procurement Management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-procurement systems are used for making online purchases, connecting companies and their business processes directly with suppliers, and managing the interactions between them including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respond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stions and answ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vious pri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-mails sent to multiple particip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7A1A-B27F-4095-9474-0676BF2F428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8280" y="144000"/>
            <a:ext cx="8523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structure, Integration,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Agents in B2B 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469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rastructure for B2B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lectronic data interchange (ED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lectronic transfer of specially-formatted standard business documents, such as bills, orders, and confirmations, sent between business partn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alue-added networks (VAN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ivate, third-party managed networks that add communications services and security to existing common carriers; used to implement traditional EDI syste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ternet-based (Web) ED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DI that runs on the Internet and is widely accessible to most companies, including SM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4268-6899-40DF-87D8-A87EB68CA7F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0600" y="122040"/>
            <a:ext cx="8523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structure, Integration,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Agents in B2B 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469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ntegration for B2B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egration with the existing internal infrastructure and applica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egration with business partn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FE74-FF42-4EB2-9820-1621C519C19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8280" y="99720"/>
            <a:ext cx="8523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structure, Integration,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Agents in B2B 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Role of Standards in B2B Integratio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XML (eXtensible Markup Languag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andard (and its variants) used to improve compatibility between the disparate systems of business partners by defining the meaning of data in business docum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 architecture enabling assembly of distributed applications from software services and tying them togeth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949E-D719-407D-A15B-84F2B2691C0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60" y="122040"/>
            <a:ext cx="8523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structure, Integration,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Agents in B2B 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Role of Software Agents in B2B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major role of software agents in B2C is collecting data from multiple sellers’ sit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ftware agents also collect information from business sellers’ sites for the benefit of business buy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7B44-A0BA-4787-88DA-8434CBCAA4F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5720" y="274320"/>
            <a:ext cx="8523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rial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we justify the cost of B2B applications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ich vendor(s) should we select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ich B2B model(s) should we use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hould we restructure our procurement system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are the ethical issues in B2B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ll there b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assive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sintermediation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w can trust and loyalty be cultivated in B2B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D9AD-BFE2-4869-B85A-8AB29131BA0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B2B fiel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major B2B model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characteristics of sell-side marketplac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ll-side intermediari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characteristics of buy-side marketplaces and e-procurement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2B reverse auction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4B43-2D0C-4D0A-8763-E9FC3FAB048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s, Characteristic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odels of B2B 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Key business drivers for B2B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availability of a secure broadband Internet platform and private and public B2B e-marketplaces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need for collaborations between suppliers and buyers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ability to save money, reduce delays, and improve collaboration; 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emergence of effective technologies for intra- and interorganizational integrat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DBF7-EEB3-4FFA-B842-BF0C25FB46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2B aggregation and group purchasing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ther purchasing method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dministrative task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nfrastructure and standards in B2B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b-based EDI, XML, and Web Servic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D38A-254C-4C64-B8A7-19AAAAA10B7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hibit 5.2 Types of B2E E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7840" y="1652400"/>
            <a:ext cx="431640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6545520" cy="506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BE08-5EBA-4CBE-94F7-4B1655350C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s, Characteristic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odels of B2B 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asic Types of B2B E-Marketplac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e-to-Many and Many-to-One: Privat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-Marketpla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mpany-centric E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-commerce that focuses on a single company’s buying needs (many-to-one, or buy-side) or selling needs (one-to-many, or sell-sid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ivate e-marketpla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rkets in which the individual sell-side or buy-side company has complete control over participation in the selling or buying transac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9BD7-E384-4308-8403-D6A59F695E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s, Characteristic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odels of B2B 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ermediaries are frequently us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ducting au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gregating bu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trans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ny-to-Many: Exchang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changes (trading communities or trading exchange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-to-many e-marketplaces, usually owned and run by a third party or a consortium, in which many buyers and many sellers meet electronically to trade with each other; also called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rading communitie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rading ex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909C-C26E-4A09-8F8D-B89B43F9361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s, Characteristic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odels of B2B 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ny-to-Many: Exchang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ublic e-marketpla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-party exchanges that are open to all interested parties (sellers and buyer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2B2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business sells to a business, but delivers small quantities to individuals or business custom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nline intermedia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 online third party that brokers a transaction online between a buyer and a seller; may be virtual or click-and-mort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5D3B-F960-49F1-8D3B-BE91FD55311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14:41:15Z</dcterms:created>
  <dc:creator>JL</dc:creator>
  <dc:description/>
  <dc:language>en-US</dc:language>
  <cp:lastModifiedBy>Pearson Education</cp:lastModifiedBy>
  <dcterms:modified xsi:type="dcterms:W3CDTF">2005-06-28T17:02:16Z</dcterms:modified>
  <cp:revision>60</cp:revision>
  <dc:subject/>
  <dc:title>Chapter </dc:title>
</cp:coreProperties>
</file>