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ED46-7626-4551-A415-959D54AC73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لخصت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era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ادب-المراج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D9F-4B29-488A-A4D1-4E05EC8A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39E0-00C1-459E-ADBD-05C23716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05D-ED68-4496-8DA8-B672A5B1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643-DC2A-4F8E-AEDF-807656D8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E8EA-051F-421E-8078-792A0A83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608F-FD0E-4D7C-8FEE-ADB5DAE0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1BD1-C506-46F6-B648-2ACAB02A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84EA-4ECF-472C-ACA1-A91190CA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0066-5574-443F-B595-F2BD2D1E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FA50-28CF-47A4-A833-4B128A10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7147-7117-4D6D-BBA9-2FB83AC1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5CC-AFEB-4F8E-AD1F-2A991341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2254-C78D-4767-B0C9-94E7342B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0EFD-0525-4A7C-AE2A-E693829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A70E-6C06-4542-ABF5-8BB0E817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6885-525A-4F29-AD95-5A8AB012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FF60-A43C-4D29-A7AF-3977DF85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0F6-4DD3-43AC-ACAA-9088ED11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0D1D-8557-4E91-8B25-8BAAACC9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94E-4194-44D6-BA34-D943FE88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CD9-0A97-45EE-BE34-125AF6B4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3DD-9F86-4630-864E-D53CAD46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AF5-56B1-4433-85F2-8DB317ED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A1F-5D7C-4928-A08C-71C10BCD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EAD7-4F8F-4531-A6C3-C3E8C3E65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BF1A-CF28-4CBF-967D-45FE32C49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edia literacy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S 43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cture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. Ebtisam Feto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5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 L is concerned with helping students develop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An informed 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مطلع</a:t>
            </a: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and critical understanding of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e of the mass media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ques used by them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act of these techniq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362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More specifically, it is education that aims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students’ understanding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joyment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 media work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y produce mean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y are organized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y construct realit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 L also aims to provide students with the ability to create media produ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efinition of media literacy focuses primarily on children/students, which is in accord with the recommendations outline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governmental repo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t is vital to teach younger consumers of th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edia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because th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the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ost vulner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edia mess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lthou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,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t is import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dults,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L work will review the relevant literature dealing with media literacy&amp; health messages&amp; explore the relationship between media literacy&amp; health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Much of ML work will deal with laying out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عرض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specific exercises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chool health educators and other teachers can use to incorporate media literacy into health education related to the most important health risks facing children and adolesce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he ultimate goal of the ML 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s t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nother dimension to the media literacy concept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for a method of education that will satisfy the recommendations made in the governmental report,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ss Media and Health: Opportunities for Improving the Nation’s Heal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MEDIA LITERACY AND HOW IT WORKS</a:t>
            </a: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fortunately, the media does not present its messages in a neutral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حاي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value-free way; it shapes and distort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رف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his poses a problem for socie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s, especially students, are unable to distinguish between genuin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صلي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questionabl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شكوك فيها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sent by the med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EDIA LITERACY AND HOW IT WORKS/2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76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.g., media  has encouraged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responsibl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behavior by showing Dr. Doug Ross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giving condoms to a teenage gir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o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was liv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on the stre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but it also depicted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صو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esponsibl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 مبالي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behavior when it was revealed that Dr. Peter Benton got his girlfriend pregna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order to handle these mixed messages young people must be taught to be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respons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onsum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edia. But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going to do the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teach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The logical choice is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Nation's educato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EDIA LITERACY AND HOW IT WORKS/3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ral researchers have called for the inclusion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دراج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media education (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ME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thin existing school curricul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gue that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 students critically aware of what they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se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ccff33"/>
                </a:solidFill>
                <a:latin typeface="Arial"/>
              </a:rPr>
              <a:t>he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re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vision/video/film viewing and magazine reading are no longer ways to pass the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learning opportunities. Students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analy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ritique</a:t>
            </a:r>
            <a:r>
              <a:rPr b="0" lang="ar-SA" sz="2800" spc="-1" strike="noStrike">
                <a:solidFill>
                  <a:srgbClr val="99ff99"/>
                </a:solidFill>
                <a:latin typeface="Arial"/>
              </a:rPr>
              <a:t>ينتقد</a:t>
            </a:r>
            <a:r>
              <a:rPr b="0" lang="ar-SA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sages and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determ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w they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could b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id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different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EDIA LITERACY AND HOW IT WORKS/4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lso gives groups of students the opportunity to work together toward a common go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rocess they learn about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responsibility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coop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problem solv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matter what they do in life, they will always encounter situations that require these ski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ddition, students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dentif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ir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strength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weaknes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evelop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varied interes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ccept new challen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MEDIA LITERACY and HEALTH EDU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of the early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terature focused on the call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دا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including </a:t>
            </a: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in the existing school curricul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"/>
              </a:rPr>
              <a:t>Attention was given t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ng media literacy skill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rnering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كديس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for the movem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years since the movement began, leaders within the movement have been able t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 on a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bas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more comprehensive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definition of media litera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 well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Identify fundamental objectiv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135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40464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the Aspen Institute’s Report of the National Leadership Conference on ML,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media literate person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--and everyone should have the opportunity to become one who ca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d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ترج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ze 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both print and electronic med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he fundamental objective of media litera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critical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نقد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nom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حكم الذات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lationship to all me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The ability to access, analyze, and produce inform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ing about message analysis, such as persuasion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ing about producing messages, and developing campa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s promise for teaching youth to resist messages that encourage use of alcohol and tobacco for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n environmental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4358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Emphases in media literacy training range widely, includ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ed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طلع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zenship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esthetic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جمال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eciation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قدير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expressio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advocac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steem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حترام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competenc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ر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media literacy movement continues to grow, its range of emphases is expan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raditionally, the literature rarely has separated health issues from the more common areas of focus lik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more recent literature has giv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education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cris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زما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due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حقهم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dia literacy is essential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derstand the changes underway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جارية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ster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تقان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hanges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t’s broader than academic notions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افكار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f media litera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edia awar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ffects industry, public author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..Not just young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36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Copyright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حقوق الطبع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pre-convergence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قبل التقار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the past: wholesal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بيع بالجمل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, self-enforcing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فرض ذاتي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umer/citizen/possibilitie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مكانيات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re limi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inear continuity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مرارية الخطية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70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90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Copyright in the Information Age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عصر المعلومات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w: retail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بيع بالمفر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Consumer/citizen/reader has a vast playgrou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le cop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ex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دليل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nsformation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حويل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own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ftware-driven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يادة برامج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stores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verall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عموما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, loss of contr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Newspapers can no longer set editorial </a:t>
            </a:r>
            <a:r>
              <a:rPr b="0" lang="ar-SA" sz="3200" spc="-1" strike="noStrike">
                <a:solidFill>
                  <a:srgbClr val="99ff99"/>
                </a:solidFill>
                <a:latin typeface="Arial"/>
              </a:rPr>
              <a:t>الاعمال التحريرية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agenda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stream prior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try barriers are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y new entrant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شتركي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Even network operators are undermined</a:t>
            </a:r>
            <a:r>
              <a:rPr b="0" lang="ar-SA" sz="3200" spc="-1" strike="noStrike">
                <a:solidFill>
                  <a:srgbClr val="99ff99"/>
                </a:solidFill>
                <a:latin typeface="Arial"/>
              </a:rPr>
              <a:t>مقوضون</a:t>
            </a:r>
            <a:r>
              <a:rPr b="0" lang="ar-SA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kype calls on mobile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nly a few exception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Innovation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ابداع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– 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a problem for incumbents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اصحاب المناصب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uum tube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أنابي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transis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rt-ups’ advan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ruptive chang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غيير المعرق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eative destruction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دمار التغيي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blic interest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صلح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s it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rder for cultural industries to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reative respon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640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tists are changing their business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, musicians: 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mediari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وسطاء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d it harder to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ed to recruit new intermedi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.g., (internet services producers) ISPs, new web play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dia literacy is an opportunity to increase awareness and respect for crea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nction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عقوبا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natural li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duct placement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دعاية</a:t>
            </a: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ublic authorities - not just industry - need to be mindful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تبهة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f 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duct placement already pervas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اسعة الانتشا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..Revenue possibilitie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مكانيات دخ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diences have changed, more media literate, with wider cho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diovisual media source (AVMS) provides transparency and supports cho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358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rolling media consumption isn’t an op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afe1ff"/>
                </a:solidFill>
                <a:latin typeface="Arial"/>
              </a:rPr>
              <a:t>Empowerment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التخويل</a:t>
            </a:r>
            <a:r>
              <a:rPr b="0" lang="ar-SA" sz="3200" spc="-1" strike="noStrike">
                <a:solidFill>
                  <a:srgbClr val="afe1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fe1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afe1ff"/>
                </a:solidFill>
                <a:latin typeface="Arial"/>
              </a:rPr>
              <a:t>helps consumers 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oose wise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al with adv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audiovisual heritag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تراث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ment in val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literacy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معرفة القراءة والكتابة الاعلامية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defined as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the ability to access, analyze, evaluate, and produce media messag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 of the media literacy (ML) work deals with laying out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عرض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exercise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مارين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chool health educators and other teachers can use to incorporate ML into health educ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L) work suggests that through media literacy students can learn to evaluate critically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انتقاد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lth messages in various media outlet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سائل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Once students realize how the media to package</a:t>
            </a:r>
            <a:r>
              <a:rPr b="0" lang="ar-SA" sz="2800" spc="-1" strike="noStrike">
                <a:solidFill>
                  <a:srgbClr val="99ff99"/>
                </a:solidFill>
                <a:latin typeface="Arial"/>
              </a:rPr>
              <a:t>جمع-رزم</a:t>
            </a:r>
            <a:r>
              <a:rPr b="0" lang="ar-SA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messages, they will be more aware of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 to look for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interpret what they see and he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Commission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اللجنة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offers leadershi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ff99"/>
                </a:solidFill>
                <a:latin typeface="Arial"/>
              </a:rPr>
              <a:t>Its aim: a more even</a:t>
            </a:r>
            <a:r>
              <a:rPr b="1" lang="ar-SA" sz="3200" spc="-1" strike="noStrike">
                <a:solidFill>
                  <a:srgbClr val="99ff99"/>
                </a:solidFill>
                <a:latin typeface="Arial"/>
              </a:rPr>
              <a:t>مستوية</a:t>
            </a:r>
            <a:r>
              <a:rPr b="1" lang="ar-SA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99ff99"/>
                </a:solidFill>
                <a:latin typeface="Arial"/>
              </a:rPr>
              <a:t>approach to media literacy across the community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gress to date with this new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7 Communication sets out approach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رض اجهزة اتصا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commendation 2009, audiovisual media source (AVMS) repor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Conclusion</a:t>
            </a:r>
            <a:br>
              <a:rPr sz="4000"/>
            </a:b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“Walk hand in hand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بالتعاون</a:t>
            </a: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with change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8000" y="1341360"/>
            <a:ext cx="8928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Copyright model must be “fit for purpose” in a changed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cceptance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بول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y media-literate consumers is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lanced approach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نظرة متوازنة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 sanctions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عقوبات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Product place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 authorities’ awareness of change must evolve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تطور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ff99"/>
                </a:solidFill>
                <a:latin typeface="Arial"/>
              </a:rPr>
              <a:t>Media lit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ssion counts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عتمد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 Media Source (MS)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1800360" cy="16729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3635280" y="4508640"/>
            <a:ext cx="3097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16" dur="1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ervasivenes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غلغ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mass media creates a seemingl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على ما يبدو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less flow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دفق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Contained in the flow are various forms of health inform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s of the media are at the mercy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ت رحم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respective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خاص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outlet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وسائ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ovide them with the most current and accurate information possib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147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lthough the health community recognizes the power of the mass media to disseminate information abo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risks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on measures, unfortunately, the purposes of the two entitie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كيانا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not the sam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As a result, the public is not always informed of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health risks 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ive measures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Not 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heal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ess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easily understo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Some messag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ntai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islead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ضلل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496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The recognition of th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media’s dissemination power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as well as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dangers of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ding inaccurate information 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e1ff"/>
                </a:solidFill>
                <a:latin typeface="Arial"/>
              </a:rPr>
              <a:t>Omitting vital inform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spawned </a:t>
            </a:r>
            <a:r>
              <a:rPr b="0" lang="ar-SA" sz="2800" spc="-1" strike="noStrike">
                <a:solidFill>
                  <a:srgbClr val="99ff99"/>
                </a:solidFill>
                <a:latin typeface="Arial"/>
              </a:rPr>
              <a:t>شجعت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an eff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y th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Office of Disease Prevention and Health Promo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National Cancer Institute,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99"/>
                </a:solidFill>
                <a:latin typeface="Arial"/>
              </a:rPr>
              <a:t>Office for Substance Abuse Prevention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 how the mass media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community could work together more eff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sequent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لاح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,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ss Media and Health: Opportunities for Improving the Nation’s Heal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U.S. Department of Health and Human Services, 1998), revealed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كشف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number of areas that needed attention.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hese inclu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all facets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أوجه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the media to develop health messag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ing the communication skills of those in public health,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individuals how to interpret health information in the med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dia litera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le all of the recommendations are vital to the effective dissemination of health information,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the final recommend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 educate the public about how to interpret health messages in the media-is more closely associated with the focus of ML wor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 the recommendations of the investigators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حققون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is apparent that their concerns can be addressed through the concept of media literac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5:55:18Z</dcterms:created>
  <dc:creator>Mastour</dc:creator>
  <dc:description/>
  <dc:language>en-US</dc:language>
  <cp:lastModifiedBy>Mastour</cp:lastModifiedBy>
  <dcterms:modified xsi:type="dcterms:W3CDTF">2012-11-15T11:41:13Z</dcterms:modified>
  <cp:revision>245</cp:revision>
  <dc:subject/>
  <dc:title>Media literacy </dc:title>
</cp:coreProperties>
</file>