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F01F-5483-4EB1-B0BA-95C720EE24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لخصت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ادب-المراج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09A-6E75-422F-A124-DA4D935E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16D-8D57-40EF-9CF4-E4EF827E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6A8-D099-449C-832D-B14B9095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765-D451-4B83-9DB6-24ECEA79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F172-F1D8-4161-859F-8D185C63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561D-5D75-4E7D-97BB-342F4986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001E-69DE-492E-852C-9C2EAD63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2D3C-31C9-463E-853F-AB672FB8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A56B-C697-49E0-BF42-13B03BE2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A363-5B7F-43A3-9B9E-9BC477CD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3E8D-7686-463F-8593-EFC0DAAE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626-74E5-4495-9C7D-B9900CCF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2E59-0165-4F9E-8E9F-71C711C6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A86F-3EC0-410D-B795-0CB24A14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C8BB-9D8B-4962-B2EF-2265BC80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AA31-E474-4795-A49F-61A81838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0E8A-D452-4F79-BF3C-6119C225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90F-19D3-4F33-8EBD-D5FB675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C80-AF10-4666-B298-0AA3F13F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2DA-4993-476E-AA70-44B591B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FC1-6A18-4E57-BD71-51A8661B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942-1E54-4888-ABAA-41B362F8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D1A-DF65-46E6-8605-A3CAEF9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3D0-3331-4859-BC61-F69683B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49B7-21B6-4E1B-94D8-A7BB1DEB7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583C-245F-4841-8C55-A12922B47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edia literacy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S 4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Ebtisam Feto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5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L is concerned with helping students develop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An informed 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مطلع</a:t>
            </a: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and critical understanding of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 of the mass medi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s used by them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 of these techniq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362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More specifically, it is education that aim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students’ understanding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ment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media wor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y produce mean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y are organized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y construct real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 L also aims to provide students with the ability to create media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efinition of media literacy focuses primarily on children/students, which is in accord with the recommendations outline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governmental repo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t is vital to teach younger consumers of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dia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because th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ost vulne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edia mess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lthou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t is impor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dults,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L work will review the relevant literature dealing with media literacy&amp; health messages&amp; explore the relationship between media literacy&amp; health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Much of ML work will deal with laying out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عرض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specific exercise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hool health educators and other teachers can use to incorporate media literacy into health education related to the most important health risks facing children and adolesce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e ultimate goal of the ML 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s t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nother dimension to the media literacy concept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for a method of education that will satisfy the recommendations made in the governmental report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ss Media and Health: Opportunities for Improving the Nation’s Heal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EDIA LITERACY AND HOW IT WORKS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, the media does not present its messages in a neutral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حاي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value-free way; it shapes and distort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رف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is poses a problem for socie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, especially students, are unable to distinguish between genuin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صل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questionabl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شكوك في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sent by the med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EDIA LITERACY AND HOW IT WORKS/2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76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.g., media  has encourage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responsi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 by showing Dr. Doug Ross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giving condoms to a teenage gir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o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was liv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on the str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ut it also depicted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و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esponsibl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مبالي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 when it was revealed that Dr. Peter Benton got his girlfriend pregna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handle these mixed messages young people must be taught to be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respons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edia. But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going to do the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teac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The logical choice is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Nation's educato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EDIA LITERACY AND HOW IT WORKS/3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researchers have called for the inclusion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دراج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media education (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in existing school curricul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gue that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 students critically aware of what they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h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vision/video/film viewing and magazine reading are no longer ways to pass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learning opportunities. Students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analy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ritique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ينتقد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s an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determ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w they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ould 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i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different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EDIA LITERACY AND HOW IT WORKS/4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so gives groups of students the opportunity to work together toward a common go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ocess they learn about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responsibilit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op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problem solv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tter what they do in life, they will always encounter situations that require these ski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, students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ir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strength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weaknes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evelop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varied interes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ccept new challe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EDIA LITERACY and HEALTH EDU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of the early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terature focused on the call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دا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ncluding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in the existing school curricu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tention was given t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ng media literacy skill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rnering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كديس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for the move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years since the movement began, leaders within the movement have been able 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 on a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ore comprehensive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definition of media litera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well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dentify fundamental objectiv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135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the Aspen Institute’s Report of the National Leadership Conference on ML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media literate person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--and everyone should have the opportunity to become one who ca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d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ترج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both print and electronic med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e fundamental objective of media litera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critical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قد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nom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حكم الذات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lationship to all me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The ability to access, analyze, and produce inform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 about message analysis, such as persuasion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 about producing messages, and developing campa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promise for teaching youth to resist messages that encourage use of alcohol and tobacco for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n environmental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Emphases in media literacy training range widely, inclu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طل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ship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جمال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eciation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قدي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xpress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advocac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steem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حترا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competenc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ر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media literacy movement continues to grow, its range of emphases is expa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raditionally, the literature rarely has separated health issues from the more common areas of focus lik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more recent literature has giv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education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ris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زم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ue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قه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literacy is essential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stand the changes underway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اري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ter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تقان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hanges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t’s broader than academic notions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افكار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media litera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a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ffects industry, public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..Not just young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Copyright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حقوق الطبع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pre-convergence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قبل التقار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the past: wholesal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بيع بالجمل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self-enforcing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رض ذات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umer/citizen/possibilitie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مكانيات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re limi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near continuit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مرارية الخطية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70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90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Copyright in the Information Age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عصر المعلوما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w: retail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بيع بالمفر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Consumer/citizen/reader has a vast playgrou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e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لي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formation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حوي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own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-driven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يادة برامج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stores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verall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عموما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, loss of contr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Newspapers can no longer set editorial </a:t>
            </a:r>
            <a:r>
              <a:rPr b="0" lang="ar-SA" sz="3200" spc="-1" strike="noStrike">
                <a:solidFill>
                  <a:srgbClr val="99ff99"/>
                </a:solidFill>
                <a:latin typeface="Arial"/>
              </a:rPr>
              <a:t>الاعمال التحريرية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agenda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stream prio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try barriers are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y new entrant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شتركي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Even network operators are undermined</a:t>
            </a:r>
            <a:r>
              <a:rPr b="0" lang="ar-SA" sz="3200" spc="-1" strike="noStrike">
                <a:solidFill>
                  <a:srgbClr val="99ff99"/>
                </a:solidFill>
                <a:latin typeface="Arial"/>
              </a:rPr>
              <a:t>مقوضون</a:t>
            </a:r>
            <a:r>
              <a:rPr b="0" lang="ar-SA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kype calls on mobile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ly a few exception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Innovation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ابداع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– 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 problem for incumbents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اصحاب المناصب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uum tube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ناب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transis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rt-ups’ advan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ruptive chang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غيير المعرق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eative destruction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مار التغيي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blic intere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صلح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s it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rder for cultural industries to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reative respo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40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tists are changing their business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, musicians: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ri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وسطاء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d it harder to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ed to recruit new intermedi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, (internet services producers) ISPs, new web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dia literacy is an opportunity to increase awareness and respect for crea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nction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عقوبا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natural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duct placement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دعاية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ublic authorities - not just industry - need to be mindfu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تبهة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f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t placement already pervas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سعة الانتش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..Revenue possibiliti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مكانيات دخ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diences have changed, more media literate, with wider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diovisual media source (AVMS) provides transparency and supports cho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rolling media consumption isn’t an op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fe1ff"/>
                </a:solidFill>
                <a:latin typeface="Arial"/>
              </a:rPr>
              <a:t>Empowerment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التخويل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fe1ff"/>
                </a:solidFill>
                <a:latin typeface="Arial"/>
              </a:rPr>
              <a:t>helps consumers 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ose wis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al with adv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audiovisual heritag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راث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 in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معرفة القراءة والكتابة الاعلامية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efined as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the ability to access, analyze, evaluate, and produce media messag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of the media literacy (ML) work deals with laying out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عر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exercise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مارين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chool health educators and other teachers can use to incorporate ML into health edu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L) work suggests that through media literacy students can learn to evaluate critically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نتقا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lth messages in various media outlet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سائ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Once students realize how the media to package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جمع-رزم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essages, they will be more aware of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 to look for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interpret what they see and h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Commission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اللجنة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offers leadershi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ff99"/>
                </a:solidFill>
                <a:latin typeface="Arial"/>
              </a:rPr>
              <a:t>Its aim: a more even</a:t>
            </a:r>
            <a:r>
              <a:rPr b="1" lang="ar-SA" sz="3200" spc="-1" strike="noStrike">
                <a:solidFill>
                  <a:srgbClr val="99ff99"/>
                </a:solidFill>
                <a:latin typeface="Arial"/>
              </a:rPr>
              <a:t>مستوية</a:t>
            </a:r>
            <a:r>
              <a:rPr b="1" lang="ar-SA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99ff99"/>
                </a:solidFill>
                <a:latin typeface="Arial"/>
              </a:rPr>
              <a:t>approach to media literacy across the commun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gress to date with this new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7 Communication sets out approach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رض اجهزة اتصا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ommendation 2009, audiovisual media source (AVMS) 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Conclusion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“Walk hand in hand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بالتعاون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with change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928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Copyright model must be “fit for purpose” in a changed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eptance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بول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media-literate consumers is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lanced approach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ظرة متوازنة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 sanction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عقوبات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Product plac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 authorities’ awareness of change must evol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طو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Media 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ssion counts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مد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 Media Source (MS)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1800360" cy="1672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3635280" y="4508640"/>
            <a:ext cx="3097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vasivenes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غلغ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ass media creates a seemingl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على ما يبد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ess flow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دفق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Contained in the flow are various forms of health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of the media are at the merc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ت رحم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respec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اص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outlet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سائ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vide them with the most current and accurate information possi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lthough the health community recognizes the power of the mass media to disseminate information ab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risk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measures, unfortunately, the purposes of the two entitie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كيانا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not the sa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s a result, the public is not always informed of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health risks 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ve measur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Not 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heal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ess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easily underst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Some mess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tai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islea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ضلل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496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The recognition of t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media’s dissemination power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as well as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dangers of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ing inaccurate information 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e1ff"/>
                </a:solidFill>
                <a:latin typeface="Arial"/>
              </a:rPr>
              <a:t>Omitting vital in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spawned 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شجعت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an eff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th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Office of Disease Prevention and Health Promo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National Cancer Institute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Office for Substance Abuse Prevention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 how the mass media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community could work together more eff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sequent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لاح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ss Media and Health: Opportunities for Improving the Nation’s Heal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U.S. Department of Health and Human Services, 1998), revealed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كشف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umber of areas that needed attention.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ese inclu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ll facet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وج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edia to develop health messag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ing the communication skills of those in public health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individuals how to interpret health information in the me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all of the recommendations are vital to the effective dissemination of health information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e final recommend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 educate the public about how to interpret health messages in the media-is more closely associated with the focus of ML wo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 the recommendations of the investigator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حققو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is apparent that their concerns can be addressed through the concept of media literac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5:55:18Z</dcterms:created>
  <dc:creator>Mastour</dc:creator>
  <dc:description/>
  <dc:language>en-US</dc:language>
  <cp:lastModifiedBy>Mastour</cp:lastModifiedBy>
  <dcterms:modified xsi:type="dcterms:W3CDTF">2012-11-15T11:41:13Z</dcterms:modified>
  <cp:revision>245</cp:revision>
  <dc:subject/>
  <dc:title>Media literacy </dc:title>
</cp:coreProperties>
</file>