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7.wmf" ContentType="image/x-wmf"/>
  <Override PartName="/ppt/media/image12.jpeg" ContentType="image/jpeg"/>
  <Override PartName="/ppt/media/image6.png" ContentType="image/png"/>
  <Override PartName="/ppt/media/image19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2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4830FF-00FF-4609-9138-7ED2FF3E081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3ABC65-327D-4B9C-8602-223863F96C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8400" y="4254480"/>
            <a:ext cx="535464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E11F6E-C289-4AB3-8492-31BB19219FE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1680" y="4254480"/>
            <a:ext cx="5121000" cy="4719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aming or shaping the debate: 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أطير النقا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l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مل جذب-ندا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67CF9C1-0822-400D-BBC3-1EFFDDE336B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2503D2A-BEE0-4F4F-B4FC-3BF98F4850B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96520" y="4184640"/>
            <a:ext cx="571500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1AB5D0-55FC-42D7-94E3-C0D26AD411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1D2D64D-4A0A-4D2B-B1FE-43FA4CF6DD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96880" y="4254480"/>
            <a:ext cx="54561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DE60293-59D1-4608-B3A1-9330B878AF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42880" y="4254480"/>
            <a:ext cx="551016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9CACB3A-649A-471B-84C6-E98FD6D7A6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828516-90F4-4FF7-9B02-18A7A90A24F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20200" y="4254480"/>
            <a:ext cx="6077160" cy="502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se: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inance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ظام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21AE9B-3329-4899-983F-BC0724FF953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387000" y="4254120"/>
            <a:ext cx="59770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 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ظبي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43E9FF-5C4A-4DC5-A24B-25E267E39BF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100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20280" y="4487760"/>
            <a:ext cx="574380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ve a sensible second look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تحق نظرة ثانية معقول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91FDC21-15B2-46A5-AECF-01E1195228B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30200" y="4338720"/>
            <a:ext cx="6399360" cy="5099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: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ضاي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2CAAC1-C151-458B-BA71-AB0C526FF56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31680" y="4332240"/>
            <a:ext cx="5121000" cy="4735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advocacy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strategic u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mass med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ce healthy 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public policies: </a:t>
            </a:r>
            <a:r>
              <a:rPr b="0" lang="ar-SA" sz="1200" spc="-1" strike="noStrike">
                <a:solidFill>
                  <a:srgbClr val="ccccff"/>
                </a:solidFill>
                <a:latin typeface="Times New Roman"/>
                <a:cs typeface="Times New Roman"/>
              </a:rPr>
              <a:t>تقديم سياسات عامة صحية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F732D6-49CB-4F67-B06F-A8AF92BD06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93680" y="619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1680" y="4332240"/>
            <a:ext cx="512100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EE0-A36F-4955-B544-93DE266E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D65-16F2-4EA9-8060-34C022BB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DB8-C176-4191-90B4-2BE6E12E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F8C-8BEF-47D5-A04B-EAC59BCA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214AA-7812-4419-9D58-278EBDDD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C36B1-EE68-42C2-A54C-1E434338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03227-008F-46E5-83AF-43DC1FC3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FB010-BC37-4996-B5A2-4BE86AC5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2CDBA-AA2C-4E23-B655-69F393CE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A372A-34FD-4268-ADA6-06BBC3A8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8F1C6-8998-4ABD-936E-55EDE329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FA7-F3EE-41DA-B638-51FD3FE9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D10BE-7301-498D-B9AC-20A7F241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DA69D-2547-43B3-81B2-42F6A4B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3C1AC-EE5C-4B15-A0DB-7D5923F0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551C6-D0C0-4F95-8EF9-189F2684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C4BF0-83F1-4FE8-B465-2590149E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D3A9-F1DB-4EC5-8453-283ACAD9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8F94-A213-4EE1-9A1B-0A201FBB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A60D-C61E-448A-925C-058FFFFD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77436-9EAB-4AC3-A5C2-9AD31BBC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D463-50AE-4852-BE8F-B6A3371B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302-3D88-4652-A08C-B429F76F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1C15-269D-442C-B45A-30584DF6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42D7-CB23-47C6-B4E3-A01A2E9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F6CF-AB3B-44DC-8830-3A035BA4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21A93-8D1C-4FB5-AC6F-DE0CAAED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08C9-E259-4309-86B7-A7EE7BA1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07A5-4E26-4EA2-9871-59636C55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7528-F891-4F5F-B546-9E9982D8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E5F-09CD-48E3-849A-2A5FC35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101-52BC-4B15-8847-88F3F8BA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49DF-2AF0-4232-BE0F-1BF04DA1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EF1-9877-4FEB-9B0C-5FDF231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253-4E51-43FB-A988-E1A04550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2D5-DA8C-4975-9048-4807E19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DF27-A59D-4D98-BBA3-3564A8ED1AD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B299-EBC6-49AD-A2B1-A199053C1BEF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0A80-1384-474F-8E2D-9DF827B2DD19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Garamond"/>
              </a:rPr>
              <a:t>Principles of Media Advocac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S 438-Lecture 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btisam Fetohy, 20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228600" y="2666880"/>
            <a:ext cx="8610480" cy="0"/>
          </a:xfrm>
          <a:prstGeom prst="line">
            <a:avLst/>
          </a:prstGeom>
          <a:ln w="38160">
            <a:solidFill>
              <a:srgbClr val="cea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52A0-D0B4-4293-8B3A-31C28D887114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How can media advocacy be used to advance environmental chan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Media advocacy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can shift the mass media’s focus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individual factors that contribute to (alcohol or drug (AOD) u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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cus 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ocial chang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simply providing health inform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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promoting healthy communiti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rom giving people a message about their personal healt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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giving communities a voi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n defining and acting on public health issu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02A8-9611-418B-B0B8-FEB919C5607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380880" y="38088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Three Steps to Media Advo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97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edia Advocacy entails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rial"/>
              </a:rPr>
              <a:t>يتطلب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Setting the agenda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  <a:cs typeface="Arial"/>
              </a:rPr>
              <a:t>جدول الاعمال</a:t>
            </a:r>
            <a:r>
              <a:rPr b="0" lang="ar-SA" sz="36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/getting media atten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raming or shaping the deb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Advancing specific solutions or polic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5331-5536-4D8B-B2AE-2889A7915E2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-762120" algn="ctr">
              <a:buClr>
                <a:srgbClr val="ffcc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Setting the agenda/Getting Media Attention: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191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versy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خلاف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leston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عالم/علام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iversary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ذكرى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rony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سخ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lebrity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شه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95680" y="17524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eakthrough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اختراق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lize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موضع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rsonalize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أضف الطابع الشخصي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justic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ظل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28600" y="5181480"/>
            <a:ext cx="8686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s there a “hook”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cs typeface="Arial"/>
              </a:rPr>
              <a:t>تعليق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at you can capitalize on?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cs typeface="Arial"/>
              </a:rPr>
              <a:t>تستفيد من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86C0-2A49-4483-B414-EE7AF56CBE5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2.  Framing or shaping the deba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rything cannot be said about every issue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قضية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every 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ll the audience what is important about the story; create the mean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process for selecting what is left in and what is left out is called </a:t>
            </a:r>
            <a:r>
              <a:rPr b="0" i="1" lang="en-US" sz="3600" spc="-1" strike="noStrike">
                <a:solidFill>
                  <a:srgbClr val="ffcc00"/>
                </a:solidFill>
                <a:latin typeface="Garamond"/>
              </a:rPr>
              <a:t>framing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the audience deems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يعتقد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onsible for fixing the problem depends on how the story is fram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9754-FFFE-4E89-BAF5-F077819F0B2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Framing for content/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late individual problem to social iss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sign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خص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imary responsibil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ent solu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ضع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al/policy appe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pictures and imag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ilor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خطط-فصل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DFAA-AB2E-4598-B7EC-EF5D07D5439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 often media reports on problems (murder, mayhem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فوضى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; rarely does it offer solu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If “solution” is offered, the focus is on what individuals can do to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3399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tect themselves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ff3399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 their h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ffcc"/>
                </a:solidFill>
                <a:latin typeface="Garamond"/>
              </a:rPr>
              <a:t>Reframe</a:t>
            </a:r>
            <a:r>
              <a:rPr b="0" lang="en-US" sz="3600" spc="-1" strike="noStrike">
                <a:solidFill>
                  <a:srgbClr val="66ffcc"/>
                </a:solidFill>
                <a:latin typeface="Garamond"/>
              </a:rPr>
              <a:t>:</a:t>
            </a:r>
            <a:r>
              <a:rPr b="0" lang="en-US" sz="3200" spc="-1" strike="noStrike">
                <a:solidFill>
                  <a:srgbClr val="66ffcc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</a:rPr>
              <a:t>How can society make the environment healthier and safer for its people</a:t>
            </a:r>
            <a:r>
              <a:rPr b="0" lang="en-US" sz="3200" spc="-1" strike="noStrike">
                <a:solidFill>
                  <a:srgbClr val="66ffcc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60840" indent="-517320">
              <a:spcBef>
                <a:spcPts val="700"/>
              </a:spcBef>
              <a:buClr>
                <a:srgbClr val="66ffcc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nswe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public policy chan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2879640" y="110808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3. Advancing specific policy solutions</a:t>
            </a: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9EEE-C05E-481E-A0E0-5278B197A95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343080" y="3808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Developing a Media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2309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Goals and Objectiv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and Target Your Audi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Your Mes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Story Ide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 Action Ste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8B6F-99F0-474F-BBA3-867237E31A5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.g., Objectives of Media Advocac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Garamond"/>
              </a:rPr>
              <a:t>Goal: Restrict social availability of alcoho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bjectiv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ise awareness of easy access to alcoho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nstrate connection between alcohol and consequences: vandalism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تخريب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noise, assaults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عتداءات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et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ain support of community agencies and campus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حرم الجامعي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fficials to support policies to reduce social ac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ert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ارس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ssure on local officials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سئولين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dopt polic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A356-18FC-45CE-8064-E83AEE12380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152280" y="0"/>
            <a:ext cx="8991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Who is the </a:t>
            </a: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target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of Media Advoca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Decision makers and opinion leader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litician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Government regulato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mmunity lead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usiness own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ewspaper editors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cs typeface="Arial"/>
              </a:rPr>
              <a:t>محررو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ose who can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exert pressur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on decision mak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lumni, 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cs typeface="Arial"/>
              </a:rPr>
              <a:t>الخريج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ocal residents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cs typeface="Arial"/>
              </a:rPr>
              <a:t>سكان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aw enforcement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cs typeface="Arial"/>
              </a:rPr>
              <a:t>تطبيق قانون</a:t>
            </a:r>
            <a:r>
              <a:rPr b="0" lang="ar-SA" sz="28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public at larg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who must be educated about the issue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18DC-A618-4379-BCBA-D94BE8F5A3D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velop Your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9070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it simple: think in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ound bites: 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cs typeface="Arial"/>
              </a:rPr>
              <a:t>تعليقات قصي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problem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the solu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o needs to act? How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4009-9F46-4897-B174-D4A9AB25751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responsibility of news coverage does not rest solely with news journalists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صحفي الأخبار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rkeley Media Studies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’s not the reporter’s job to be educated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يتعلم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it’s the reporter’s job to report.”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san Rook, freelance report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you don’t exist in the media, for all practical purposes, you don’t exist.”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niel Schorr, commentator, NP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501-9B64-468B-86A6-1D8A252217D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Define Action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ok at calendar and plan for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media list with contact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ntify and begin to work with reporters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راسلين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Garamond"/>
              </a:rPr>
              <a:t>Devi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دبر-اخترع-استنبط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ystem for monitoring 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press kit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جموعة- مجموعة أدوات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et with editorial boards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مجالس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letters to the edit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7EF2-F42B-4D3D-B531-0DC232B7B14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736640"/>
            <a:ext cx="8001000" cy="374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Let’s brainstorm 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cs typeface="Arial"/>
              </a:rPr>
              <a:t>نفكر بإبداع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how to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frame messages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o support a party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cs typeface="Arial"/>
              </a:rPr>
              <a:t>حزب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ordinance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cs typeface="Arial"/>
              </a:rPr>
              <a:t>نظام</a:t>
            </a:r>
            <a:r>
              <a:rPr b="1" lang="ar-SA" sz="4800" spc="-1" strike="noStrike">
                <a:solidFill>
                  <a:srgbClr val="e5e5ff"/>
                </a:solidFill>
                <a:latin typeface="Garamond"/>
                <a:ea typeface="Arial"/>
              </a:rPr>
              <a:t>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393C-F950-4E55-8C46-57327299C8E8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380880" y="1676520"/>
            <a:ext cx="853452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  <a:ea typeface="PMingLiU"/>
              </a:rPr>
              <a:t>It reaches mass audiences, including key political and bureaucratic decision mak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  <a:ea typeface="PMingLiU"/>
              </a:rPr>
              <a:t>-If well informed about the process of news reporting, public health advocates may be in the position of influencing journalist to report issues in ways more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  <a:ea typeface="PMingLiU"/>
              </a:rPr>
              <a:t>consonant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rial"/>
              </a:rPr>
              <a:t>تتفق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  <a:ea typeface="PMingLiU"/>
              </a:rPr>
              <a:t> </a:t>
            </a:r>
            <a:r>
              <a:rPr b="0" lang="en-US" sz="3200" spc="-1" strike="noStrike">
                <a:solidFill>
                  <a:srgbClr val="e5e5ff"/>
                </a:solidFill>
                <a:latin typeface="Garamond"/>
                <a:ea typeface="PMingLiU"/>
              </a:rPr>
              <a:t>with public health ob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5"/>
          <p:cNvSpPr txBox="1"/>
          <p:nvPr/>
        </p:nvSpPr>
        <p:spPr>
          <a:xfrm>
            <a:off x="2411280" y="380880"/>
            <a:ext cx="424836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Mass Media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9" name="Picture 5" descr="BS01097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6"/>
          <p:cNvSpPr/>
          <p:nvPr/>
        </p:nvSpPr>
        <p:spPr>
          <a:xfrm>
            <a:off x="1295280" y="3048120"/>
            <a:ext cx="5715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  <a:ea typeface="華康古印體"/>
              </a:rPr>
              <a:t>Case Stud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Tahoma"/>
                <a:ea typeface="華康古印體"/>
              </a:rPr>
              <a:t>in Public Heal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86e0"/>
                </a:solidFill>
                <a:latin typeface="Tahoma"/>
                <a:ea typeface="華康古印體"/>
              </a:rPr>
              <a:t>Advocacy in Health Education and Health Pro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2" name="Picture 5" descr="j02551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WordArt 6"/>
          <p:cNvSpPr txBox="1"/>
          <p:nvPr/>
        </p:nvSpPr>
        <p:spPr>
          <a:xfrm>
            <a:off x="2971800" y="1782720"/>
            <a:ext cx="356724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Case Study 1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2987640" y="3068640"/>
            <a:ext cx="41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  <a:ea typeface="PMingLiU"/>
              </a:rPr>
              <a:t>Smokeles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rial"/>
                <a:ea typeface="PMingLiU"/>
              </a:rPr>
              <a:t>Tobacc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6" name="Picture 5" descr="j02551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WordArt 6"/>
          <p:cNvSpPr txBox="1"/>
          <p:nvPr/>
        </p:nvSpPr>
        <p:spPr>
          <a:xfrm>
            <a:off x="2971800" y="1557360"/>
            <a:ext cx="35672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Case Study 2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763640" y="3048120"/>
            <a:ext cx="56167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0033"/>
                </a:solidFill>
                <a:latin typeface="Arial"/>
                <a:ea typeface="PMingLiU"/>
              </a:rPr>
              <a:t>Tobacco advertising in printed media and outdoor advertis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j0255161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3802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>
            <a:off x="1523880" y="2971800"/>
            <a:ext cx="6553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PMingLiU"/>
              </a:rPr>
              <a:t>Prohibition  of smoking in restaurants and oth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  <a:ea typeface="PMingLiU"/>
              </a:rPr>
              <a:t>public indoor premise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Arial"/>
              </a:rPr>
              <a:t>مراسل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2971800" y="1782720"/>
            <a:ext cx="3567240" cy="12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Case Study 3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smoking consultation"/>
          <p:cNvPicPr/>
          <p:nvPr/>
        </p:nvPicPr>
        <p:blipFill>
          <a:blip r:embed="rId1"/>
          <a:srcRect l="0" t="1242" r="0" b="0"/>
          <a:stretch/>
        </p:blipFill>
        <p:spPr>
          <a:xfrm>
            <a:off x="179280" y="0"/>
            <a:ext cx="8640720" cy="67057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Object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1523880" y="3124080"/>
            <a:ext cx="55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  <a:ea typeface="PMingLiU"/>
              </a:rPr>
              <a:t>Control of Tobac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ahoma"/>
                <a:ea typeface="PMingLiU"/>
              </a:rPr>
              <a:t>(C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pi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cc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344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Overview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ing the Media and Media Advoc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Steps to Media Advocac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to Develop a Media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hods for Using the 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A6F6-98A8-486A-9963-A7236AF09E2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The Asia Pacific Association for the Control of Tobacco (APACT) recognizes that tobacco use is a major cause of death in the Asia-Pacific reg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The current pandemic of tobacco-related diseases is causing tremendous harm and an excessive burden on the econom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Everyone, especially children, has the right to live in a tobacco-smoke free environ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Garamond"/>
                <a:ea typeface="PMingLiU"/>
              </a:rPr>
              <a:t>The Hong Kong Declaration APACT 2001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PMingLiU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Of all the children alive today in Asia, a conservative estimate is that at least 150 million will eventually be killed by tobac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There is a need for an urgent effort to contain this pandemic of tobacco-related diseases as well as its terrible effects on the environment and the economy. If it is to effectively prevent young people from smoking, it must be a comprehensive programme directed at the entire commu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5e5ff"/>
                </a:solidFill>
                <a:latin typeface="Garamond"/>
                <a:ea typeface="PMingLiU"/>
              </a:rPr>
              <a:t>The Hong Kong Declaration APACT 2001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BS00979_"/>
          <p:cNvPicPr/>
          <p:nvPr/>
        </p:nvPicPr>
        <p:blipFill>
          <a:blip r:embed="rId1"/>
          <a:stretch/>
        </p:blipFill>
        <p:spPr>
          <a:xfrm>
            <a:off x="5562720" y="3048120"/>
            <a:ext cx="3195360" cy="34099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A comprehensive regional tobacco control polic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cc"/>
                </a:solidFill>
                <a:latin typeface="Garamond"/>
                <a:ea typeface="PMingLiU"/>
              </a:rPr>
              <a:t>An end to all tobacco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  <a:ea typeface="PMingLiU"/>
              </a:rPr>
              <a:t>advertis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Increase in tax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Protection of you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Regulation and control of </a:t>
            </a:r>
            <a:r>
              <a:rPr b="0" lang="en-US" sz="3200" spc="-1" strike="noStrike">
                <a:solidFill>
                  <a:srgbClr val="ff3399"/>
                </a:solidFill>
                <a:latin typeface="Garamond"/>
                <a:ea typeface="PMingLiU"/>
              </a:rPr>
              <a:t>tobacco produ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e5e5ff"/>
                </a:solidFill>
                <a:uFillTx/>
                <a:latin typeface="Garamond"/>
                <a:ea typeface="PMingLiU"/>
              </a:rPr>
              <a:t>The Hong Kong Declaration APACT 2001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PMingLiU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Eight Healthy Cities in Hong K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Tseung Kwan 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Wan Cha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Central &amp; West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Kwai Ts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Tsuen W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Sham Shui 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Wong Tai S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Tai P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e5ff"/>
                </a:solidFill>
                <a:uFillTx/>
                <a:latin typeface="Garamond"/>
                <a:ea typeface="PMingLiU"/>
              </a:rPr>
              <a:t>Healthy C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5410080" y="3657600"/>
            <a:ext cx="3505320" cy="2590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5410080" y="3657600"/>
            <a:ext cx="3200400" cy="251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334120" y="3809880"/>
            <a:ext cx="3429000" cy="2514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9" descr="DD01864_"/>
          <p:cNvPicPr/>
          <p:nvPr/>
        </p:nvPicPr>
        <p:blipFill>
          <a:blip r:embed="rId1"/>
          <a:stretch/>
        </p:blipFill>
        <p:spPr>
          <a:xfrm>
            <a:off x="5334120" y="4091040"/>
            <a:ext cx="33573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4"/>
          <p:cNvGrpSpPr/>
          <p:nvPr/>
        </p:nvGrpSpPr>
        <p:grpSpPr>
          <a:xfrm>
            <a:off x="152280" y="228600"/>
            <a:ext cx="8839080" cy="6427440"/>
            <a:chOff x="152280" y="228600"/>
            <a:chExt cx="8839080" cy="6427440"/>
          </a:xfrm>
        </p:grpSpPr>
        <p:pic>
          <p:nvPicPr>
            <p:cNvPr id="250" name="Picture 5" descr="photo"/>
            <p:cNvPicPr/>
            <p:nvPr/>
          </p:nvPicPr>
          <p:blipFill>
            <a:blip r:embed="rId1"/>
            <a:stretch/>
          </p:blipFill>
          <p:spPr>
            <a:xfrm>
              <a:off x="152280" y="228600"/>
              <a:ext cx="4536720" cy="3227400"/>
            </a:xfrm>
            <a:prstGeom prst="rect">
              <a:avLst/>
            </a:prstGeom>
            <a:ln w="9360">
              <a:solidFill>
                <a:srgbClr val="660066"/>
              </a:solidFill>
              <a:miter/>
            </a:ln>
          </p:spPr>
        </p:pic>
        <p:pic>
          <p:nvPicPr>
            <p:cNvPr id="251" name="Picture 6" descr="pic8"/>
            <p:cNvPicPr/>
            <p:nvPr/>
          </p:nvPicPr>
          <p:blipFill>
            <a:blip r:embed="rId2"/>
            <a:stretch/>
          </p:blipFill>
          <p:spPr>
            <a:xfrm>
              <a:off x="465120" y="3277080"/>
              <a:ext cx="4849560" cy="3378960"/>
            </a:xfrm>
            <a:prstGeom prst="rect">
              <a:avLst/>
            </a:prstGeom>
            <a:ln w="9360">
              <a:solidFill>
                <a:srgbClr val="660066"/>
              </a:solidFill>
              <a:miter/>
            </a:ln>
          </p:spPr>
        </p:pic>
        <p:pic>
          <p:nvPicPr>
            <p:cNvPr id="252" name="Picture 7" descr="Kwai Tsing 1"/>
            <p:cNvPicPr/>
            <p:nvPr/>
          </p:nvPicPr>
          <p:blipFill>
            <a:blip r:embed="rId3"/>
            <a:srcRect l="0" t="1205" r="0" b="51809"/>
            <a:stretch/>
          </p:blipFill>
          <p:spPr>
            <a:xfrm>
              <a:off x="4610880" y="1313280"/>
              <a:ext cx="4380480" cy="2824560"/>
            </a:xfrm>
            <a:prstGeom prst="rect">
              <a:avLst/>
            </a:prstGeom>
            <a:ln w="9360">
              <a:solidFill>
                <a:srgbClr val="660066"/>
              </a:solidFill>
              <a:miter/>
            </a:ln>
          </p:spPr>
        </p:pic>
        <p:sp>
          <p:nvSpPr>
            <p:cNvPr id="253" name="Text Box 8"/>
            <p:cNvSpPr/>
            <p:nvPr/>
          </p:nvSpPr>
          <p:spPr>
            <a:xfrm>
              <a:off x="5220000" y="386280"/>
              <a:ext cx="335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Times New Roman"/>
                  <a:ea typeface="PMingLiU"/>
                </a:rPr>
                <a:t>Tseung Kwan O Distr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>
              <a:off x="4767480" y="386280"/>
              <a:ext cx="469080" cy="4737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Text Box 10"/>
            <p:cNvSpPr/>
            <p:nvPr/>
          </p:nvSpPr>
          <p:spPr>
            <a:xfrm>
              <a:off x="5531760" y="4574160"/>
              <a:ext cx="27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Times New Roman"/>
                  <a:ea typeface="PMingLiU"/>
                </a:rPr>
                <a:t>Kwai Tsing Distr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5838840" y="5759280"/>
              <a:ext cx="2689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Times New Roman"/>
                  <a:ea typeface="PMingLiU"/>
                </a:rPr>
                <a:t>Central &amp; Weste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Times New Roman"/>
                  <a:ea typeface="PMingLiU"/>
                </a:rPr>
                <a:t>Distri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5393160" y="5996160"/>
              <a:ext cx="469080" cy="4737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13"/>
            <p:cNvSpPr/>
            <p:nvPr/>
          </p:nvSpPr>
          <p:spPr>
            <a:xfrm rot="5400000">
              <a:off x="6642000" y="4181040"/>
              <a:ext cx="473760" cy="469080"/>
            </a:xfrm>
            <a:prstGeom prst="leftArrow">
              <a:avLst>
                <a:gd name="adj1" fmla="val 50000"/>
                <a:gd name="adj2" fmla="val 25249"/>
              </a:avLst>
            </a:prstGeom>
            <a:solidFill>
              <a:srgbClr val="0000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Photo4"/>
          <p:cNvPicPr/>
          <p:nvPr/>
        </p:nvPicPr>
        <p:blipFill>
          <a:blip r:embed="rId1"/>
          <a:srcRect l="0" t="2573" r="0" b="0"/>
          <a:stretch/>
        </p:blipFill>
        <p:spPr>
          <a:xfrm>
            <a:off x="345960" y="1523880"/>
            <a:ext cx="8534520" cy="510552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260" name="Text Box 5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PMingLiU"/>
              </a:rPr>
              <a:t>Hong Kong Healthy Schools Award Scheme Opening Ceremo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PMingLiU"/>
              </a:rPr>
              <a:t>20 May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4"/>
          <p:cNvGrpSpPr/>
          <p:nvPr/>
        </p:nvGrpSpPr>
        <p:grpSpPr>
          <a:xfrm>
            <a:off x="228600" y="228600"/>
            <a:ext cx="8762760" cy="6400440"/>
            <a:chOff x="228600" y="228600"/>
            <a:chExt cx="8762760" cy="6400440"/>
          </a:xfrm>
        </p:grpSpPr>
        <p:pic>
          <p:nvPicPr>
            <p:cNvPr id="262" name="Picture 5" descr="Photo56y"/>
            <p:cNvPicPr/>
            <p:nvPr/>
          </p:nvPicPr>
          <p:blipFill>
            <a:blip r:embed="rId1"/>
            <a:stretch/>
          </p:blipFill>
          <p:spPr>
            <a:xfrm>
              <a:off x="622440" y="804240"/>
              <a:ext cx="3387240" cy="23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6" descr="Photo1"/>
            <p:cNvPicPr/>
            <p:nvPr/>
          </p:nvPicPr>
          <p:blipFill>
            <a:blip r:embed="rId2"/>
            <a:stretch/>
          </p:blipFill>
          <p:spPr>
            <a:xfrm>
              <a:off x="543600" y="3542760"/>
              <a:ext cx="3387600" cy="23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" descr="Photo56x"/>
            <p:cNvPicPr/>
            <p:nvPr/>
          </p:nvPicPr>
          <p:blipFill>
            <a:blip r:embed="rId3"/>
            <a:stretch/>
          </p:blipFill>
          <p:spPr>
            <a:xfrm>
              <a:off x="5034240" y="779040"/>
              <a:ext cx="3387600" cy="23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8" descr="Photo56"/>
            <p:cNvPicPr/>
            <p:nvPr/>
          </p:nvPicPr>
          <p:blipFill>
            <a:blip r:embed="rId4"/>
            <a:stretch/>
          </p:blipFill>
          <p:spPr>
            <a:xfrm>
              <a:off x="4955400" y="3623400"/>
              <a:ext cx="3387600" cy="240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9" descr="SO01862_"/>
            <p:cNvPicPr/>
            <p:nvPr/>
          </p:nvPicPr>
          <p:blipFill>
            <a:blip r:embed="rId5"/>
            <a:stretch/>
          </p:blipFill>
          <p:spPr>
            <a:xfrm>
              <a:off x="228600" y="228600"/>
              <a:ext cx="4096800" cy="323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0" descr="SO01862_"/>
            <p:cNvPicPr/>
            <p:nvPr/>
          </p:nvPicPr>
          <p:blipFill>
            <a:blip r:embed="rId6"/>
            <a:stretch/>
          </p:blipFill>
          <p:spPr>
            <a:xfrm>
              <a:off x="4798080" y="240120"/>
              <a:ext cx="4193280" cy="330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1" descr="SO01862_"/>
            <p:cNvPicPr/>
            <p:nvPr/>
          </p:nvPicPr>
          <p:blipFill>
            <a:blip r:embed="rId7"/>
            <a:stretch/>
          </p:blipFill>
          <p:spPr>
            <a:xfrm>
              <a:off x="228600" y="3301200"/>
              <a:ext cx="4035960" cy="31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2" descr="SO01862_"/>
            <p:cNvPicPr/>
            <p:nvPr/>
          </p:nvPicPr>
          <p:blipFill>
            <a:blip r:embed="rId8"/>
            <a:stretch/>
          </p:blipFill>
          <p:spPr>
            <a:xfrm>
              <a:off x="4779720" y="3381840"/>
              <a:ext cx="4114800" cy="324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pic14"/>
          <p:cNvPicPr/>
          <p:nvPr/>
        </p:nvPicPr>
        <p:blipFill>
          <a:blip r:embed="rId1"/>
          <a:stretch/>
        </p:blipFill>
        <p:spPr>
          <a:xfrm>
            <a:off x="4114800" y="152280"/>
            <a:ext cx="4800600" cy="655344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sp>
        <p:nvSpPr>
          <p:cNvPr id="271" name="WordArt 5"/>
          <p:cNvSpPr txBox="1"/>
          <p:nvPr/>
        </p:nvSpPr>
        <p:spPr>
          <a:xfrm>
            <a:off x="304920" y="4286160"/>
            <a:ext cx="5867280" cy="19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Healthy Workplace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4" descr="canada comic"/>
          <p:cNvPicPr/>
          <p:nvPr/>
        </p:nvPicPr>
        <p:blipFill>
          <a:blip r:embed="rId1"/>
          <a:stretch/>
        </p:blipFill>
        <p:spPr>
          <a:xfrm>
            <a:off x="228600" y="0"/>
            <a:ext cx="8610480" cy="6858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new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What Can You Use the Media to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7480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You ca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information to general and specific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llustrate a point vis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 on sol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 sense of urgency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اضطرار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C179-89E4-4FA9-A6D8-3751E052ECA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new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  <a:ea typeface="PMingLiU"/>
              </a:rPr>
              <a:t>Political Will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  <a:ea typeface="PMingLiU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To introduce, implement and enforce tobacco control meas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Political support f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Minister of Heal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Minister of Lab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PMingLiU"/>
              </a:rPr>
              <a:t>Minister of Finan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PMingLiU"/>
              </a:rPr>
              <a:t>Departments suppor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4"/>
          <p:cNvSpPr/>
          <p:nvPr/>
        </p:nvSpPr>
        <p:spPr>
          <a:xfrm>
            <a:off x="1116000" y="1600200"/>
            <a:ext cx="742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7c80"/>
                </a:solidFill>
                <a:latin typeface="Comic Sans MS"/>
                <a:ea typeface="PMingLiU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5" descr="SO02520_"/>
          <p:cNvPicPr/>
          <p:nvPr/>
        </p:nvPicPr>
        <p:blipFill>
          <a:blip r:embed="rId1"/>
          <a:stretch/>
        </p:blipFill>
        <p:spPr>
          <a:xfrm>
            <a:off x="5715000" y="3581280"/>
            <a:ext cx="28623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6094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What Can Be Achieved Using the Med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22860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reation  of awarenes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Behavioral change on an individual level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fluencing attitudes towards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hifting paradigms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cs typeface="Arial"/>
              </a:rPr>
              <a:t>الأمثلة المتحركة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Undermining 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cc00"/>
                </a:solidFill>
                <a:latin typeface="Garamond"/>
                <a:cs typeface="Arial"/>
              </a:rPr>
              <a:t>تقويض-زعزعة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sistance t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enerating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takeholder support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policies and programs that we want to adv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79AF-834A-42B6-BA0F-5770D22D40B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68580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Definition of Media Advoc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762120" y="1523880"/>
            <a:ext cx="7619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7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Media advocacy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7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strategic use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of </a:t>
            </a: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mass media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7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to support community organiz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79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nd advance healthy </a:t>
            </a:r>
            <a:r>
              <a:rPr b="0" lang="en-US" sz="4000" spc="-1" strike="noStrike">
                <a:solidFill>
                  <a:srgbClr val="ffcc00"/>
                </a:solidFill>
                <a:latin typeface="Garamond"/>
              </a:rPr>
              <a:t>public policie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8E7-0BD0-4F49-91AC-7983D810C1E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aramond"/>
              </a:rPr>
              <a:t>Media advocacy uses a range of media and advocacy strategies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stimulat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لتحفيز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road-based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العريضة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ag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order to refram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يعيد تأطي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shape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ea typeface="Arial"/>
              </a:rPr>
              <a:t>     </a:t>
            </a:r>
            <a:r>
              <a:rPr b="0" lang="ar-SA" sz="3200" spc="-1" strike="noStrike">
                <a:solidFill>
                  <a:srgbClr val="ffffff"/>
                </a:solidFill>
                <a:latin typeface="Garamond"/>
                <a:cs typeface="Arial"/>
              </a:rPr>
              <a:t>شكل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discussion about a health issu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increase support for and advanc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ealthy public polic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Using Media Advoc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4337-0C24-4A12-9769-6F7BCE2FEE9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762120" y="3049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Using Media Advoc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04920" y="13716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edia advocacy can be us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ape public debate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نقاش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peak directly with those of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pressure to decision 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t is a tactic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cs typeface="Arial"/>
              </a:rPr>
              <a:t>وسيلة</a:t>
            </a:r>
            <a:r>
              <a:rPr b="0" lang="ar-SA" sz="3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community groups and others to communicate their own story in their own words to promote social chang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B02E-E18D-4C81-9CDE-2BF12C4F8C6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Using Media vs. Media Advocac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41936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ks to mobilize  commun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ivates social and political involve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s healthy public polic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es on the power g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news de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eks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يريد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inform people about health prob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otivates individuals to change own behav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s health mess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cuses on information g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public affairs 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  <a:cs typeface="Arial"/>
              </a:rPr>
              <a:t>شئون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s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419720" y="1523880"/>
            <a:ext cx="0" cy="4724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7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5094-A54B-4FC3-BF00-74B801DE593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13:52:17Z</dcterms:created>
  <dc:creator>Beth DeRicco</dc:creator>
  <dc:description/>
  <dc:language>en-US</dc:language>
  <cp:lastModifiedBy>ksu</cp:lastModifiedBy>
  <cp:lastPrinted>2001-11-07T19:04:19Z</cp:lastPrinted>
  <dcterms:modified xsi:type="dcterms:W3CDTF">2012-11-04T06:04:07Z</dcterms:modified>
  <cp:revision>404</cp:revision>
  <dc:subject/>
  <dc:title>An Introduction to Media Advocacy</dc:title>
</cp:coreProperties>
</file>