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12.jpeg" ContentType="image/jpeg"/>
  <Override PartName="/ppt/media/image6.png" ContentType="image/png"/>
  <Override PartName="/ppt/media/image19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2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756BEA-20ED-4251-A363-5784247A33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7A6A6C-5D09-475C-A0AF-37791A74BE5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400" y="4254480"/>
            <a:ext cx="53546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51A49F-65A0-4107-8A44-89EC1AB08DB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254480"/>
            <a:ext cx="5121000" cy="4719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aming or shaping the debate: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أطير النقا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l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مل جذب-ندا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AFC9E7-A16A-49DD-89A2-9BDCB9F8AA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406792-3423-4422-966E-51B4C4EE97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96520" y="4184640"/>
            <a:ext cx="57150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099A67-4867-4D0B-9211-07A90B2D33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0812C8-ED70-4184-A129-6A0DBC9D30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96880" y="4254480"/>
            <a:ext cx="5456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B66283-09F2-4C18-B405-FFB0923509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42880" y="4254480"/>
            <a:ext cx="55101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369C07-BD37-4075-B992-250595C373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1EB1BB-A087-4EC9-969D-0CF706868D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20200" y="4254480"/>
            <a:ext cx="6077160" cy="50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se: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ance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ظام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5F9082-482F-48A9-AA54-66E6F1E113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87000" y="4254120"/>
            <a:ext cx="59770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 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ظب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2AF547-8F62-4B95-B2CF-C07E111E0D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100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20280" y="4487760"/>
            <a:ext cx="574380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ve a sensible second look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حق نظرة ثانية معقول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33F8B8-05C8-47FB-9519-3FCED5A00DE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30200" y="4338720"/>
            <a:ext cx="6399360" cy="509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ي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12C4D7-3314-4188-983D-DD52459F9F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1680" y="4332240"/>
            <a:ext cx="5121000" cy="4735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advocacy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strategic 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mass med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 healthy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public policies: </a:t>
            </a:r>
            <a:r>
              <a:rPr b="0" lang="ar-SA" sz="1200" spc="-1" strike="noStrike">
                <a:solidFill>
                  <a:srgbClr val="ccccff"/>
                </a:solidFill>
                <a:latin typeface="Times New Roman"/>
                <a:cs typeface="Times New Roman"/>
              </a:rPr>
              <a:t>تقديم سياسات عامة صحية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4EF2F1-0DF1-4F65-BB9A-101CE855544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332240"/>
            <a:ext cx="51210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AA-F44F-4A2A-B302-60E8769A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F1C-C7EF-4694-8EF4-B744917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72B-41A2-4238-BBD2-9FFEAB15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AE9-B6B0-4946-9B30-42A42CF1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DDA4B-6203-41F4-861C-F448D3C7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514D-F2D6-4E32-AC09-77078AA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BB06-E9A7-4449-A8D1-14B828AA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E93E3-66A6-4253-9003-BCB4460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F4B1-A8D0-4565-900E-6B14284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6BF7-1B62-4555-948B-86954DE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5AE6F-593A-471F-A461-6A7ED80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E65-B94C-4F2E-8FA3-A72E2DB2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9FE24-681B-42C7-8728-92EEB74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A52A-2DEC-478C-A0B8-69C3AAE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00718-8486-424E-B670-492282E0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470E-8245-4ABE-95F1-55A1C76B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93FF-C2FA-4083-9852-A1DB2FA3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2DA9-CE9C-4E75-80D1-B7D1007B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D55E-99C5-4041-9D1D-7D170A45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1059-417C-42E4-B667-0173A74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C8CF-C875-442D-BC2F-C885EB9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7301-6FBE-48C3-B175-CF9AC98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0CC-B0CE-4D4A-8BB8-E9C6276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7B44-DC61-48AC-9C01-4A827E2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1356-D535-4FC7-BC57-49EFFD5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ACAB-E080-42AF-B6E7-287A732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B381-EB7E-4DF3-B14D-710C31A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CBCA-54E0-48D0-B62E-4D34AF8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FA52-744F-49D5-B37E-5D925009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C37E-09FA-4644-9BCC-2ABB8BA3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C87-96AB-459D-A362-E964B6C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69C-E751-4755-A04D-296281E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166-4EC3-4CAD-9D4A-BB53A14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97C-0667-4BE6-9C05-816EDCA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809-62D1-4B1F-A5FD-3005956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B1C-FAC8-4F2C-8183-F6026FC3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9D8D-32E5-4236-8614-FFC71236B0C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9F4-24C1-4728-8F9A-5588146743A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325-5260-432E-86C3-5624C05CAC6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Principles of Media Advocac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S 438-Lecture 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btisam Fetohy, 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38160">
            <a:solidFill>
              <a:srgbClr val="cea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9988-DE03-4E67-832A-46AB2694934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ow can media advocacy be used to advance environmental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Media advocacy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an shift the mass media’s focu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individual factors that contribute to (alcohol or drug (AOD) u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cus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ocial chan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simply providing health in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romoting healthy commun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giving people a message about their personal heal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iving communities a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defining and acting on public health iss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425-E4BA-4F28-B355-658B61F41F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Three Steps to Media Advo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97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dia Advocacy entails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يتطلب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ting the agenda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جدول الاعمال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/getting media atten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aming or shaping the deb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dvancing specific solutions or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0F8-4737-4D62-9FCC-1FB4A23A22E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Setting the agenda/Getting Media Attention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191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versy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لا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ston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عالم/علا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iversar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ذكر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on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سخ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ebrit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شه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through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اختراق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iz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موضع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أضف الطابع الشخصي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justic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ظل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28600" y="51814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s there a “hook”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تعليق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at you can capitalize on?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تستفيد م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5FF-859A-488C-8A77-BC1AFFF6E5F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2.  Framing or shaping the deb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thing cannot be said about every issu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قض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every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the audience what is important about the story; create the mea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cess for selecting what is left in and what is left out is called </a:t>
            </a:r>
            <a:r>
              <a:rPr b="0" i="1" lang="en-US" sz="3600" spc="-1" strike="noStrike">
                <a:solidFill>
                  <a:srgbClr val="ffcc00"/>
                </a:solidFill>
                <a:latin typeface="Garamond"/>
              </a:rPr>
              <a:t>framin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the audience deems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يعتقد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sible for fixing the problem depends on how the story is fram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4AC-6B40-4258-878E-8C2F713F87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raming for content/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late individual problem to social 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ص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responsi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ض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al/policy app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pictures and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ilor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طط-فصل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66D-3C65-4D2D-94EB-CF6BD10CE36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often media reports on problems (murder, mayhem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فوضى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; rarely does it offer solu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If “solution” is offered, the focus is on what individuals can do to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3399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ct themselves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3399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 their h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cc"/>
                </a:solidFill>
                <a:latin typeface="Garamond"/>
              </a:rPr>
              <a:t>Reframe</a:t>
            </a:r>
            <a:r>
              <a:rPr b="0" lang="en-US" sz="3600" spc="-1" strike="noStrike">
                <a:solidFill>
                  <a:srgbClr val="66ffcc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66ffcc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How can society make the environment healthier and safer for its people</a:t>
            </a:r>
            <a:r>
              <a:rPr b="0" lang="en-US" sz="3200" spc="-1" strike="noStrike">
                <a:solidFill>
                  <a:srgbClr val="66ffcc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spcBef>
                <a:spcPts val="700"/>
              </a:spcBef>
              <a:buClr>
                <a:srgbClr val="66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ublic polic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879640" y="110808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3. Advancing specific policy solutions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3366-5FD1-425C-9253-E5262BF4A58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3430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eveloping a Media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230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Goals and Objec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nd Target Your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Story Id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Action St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542-579A-484C-A3B1-ABB9C2FA82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, Objectives of Media Advocac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Goal: Restrict social availability of alcoh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se awareness of easy access to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nstrate connection between alcohol and consequences: vandalism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تخريب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noise, assaults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عتداءا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e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in support of community agencies and campu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حرم الجامعي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ficials to support policies to reduce social 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rt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ارس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sure on local official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سئولين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dopt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05FA-4D2F-460C-BFE0-19C78A723B7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52280" y="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ho is the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target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of Media Advoca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ecision makers and opinion leader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tician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overnment regula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mmunity lead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own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ewspaper editors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محررو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ose who can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exert pressur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n decision mak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umni, 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الخريج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cal residents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سكان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w enforcement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تطبيق قانون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ublic at larg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who must be educated about the issue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23DF-01F1-42B0-ABBB-079D0730A6E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velop Your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9070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it simple: think in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ound bites: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تعليقات قصي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problem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sol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needs to act? How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365-5260-4E99-93D1-2BCC14F69B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sponsibility of news coverage does not rest solely with news journalist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صحفي الأخبار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rkeley Media Studies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not the reporter’s job to be educated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يتعلم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t’s the reporter’s job to report.”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san Rook, freelance repo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 don’t exist in the media, for all practical purposes, you don’t exist.”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niel Schorr, commentator, NP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41BF-37D5-49AC-A2E2-27628845348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efine Action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at calendar and plan for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media list with contact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nd begin to work with reporter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راسلين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Devi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دبر-اخترع-استنبط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stem for monitoring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press kit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جموعة- مجموعة أدو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et with editorial board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جالس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letters to the edi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EA8-EEA7-4C73-82B3-E8361E52AB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8001000" cy="37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Let’s brainstorm 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نفكر بإبداع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how to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frame messages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o support a party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حزب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rdinance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نظام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CAB0-6C8A-407F-9907-7048BB699FA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80880" y="1676520"/>
            <a:ext cx="853452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It reaches mass audiences, including key political and bureaucratic decision mak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-If well informed about the process of news reporting, public health advocates may be in the position of influencing journalist to report issues in ways more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consonan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rial"/>
              </a:rPr>
              <a:t>تتفق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with public health ob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2411280" y="380880"/>
            <a:ext cx="4248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Mass Media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Picture 5" descr="BS0109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295280" y="30481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  <a:ea typeface="華康古印體"/>
              </a:rPr>
              <a:t>Case Stud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Tahoma"/>
                <a:ea typeface="華康古印體"/>
              </a:rPr>
              <a:t>in Public Heal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Tahoma"/>
                <a:ea typeface="華康古印體"/>
              </a:rPr>
              <a:t>Advocacy in Health Education and Health 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2" name="Picture 5" descr="j025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2971800" y="1782720"/>
            <a:ext cx="35672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1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987640" y="3068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  <a:ea typeface="PMingLiU"/>
              </a:rPr>
              <a:t>Smokeles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  <a:ea typeface="PMingLiU"/>
              </a:rPr>
              <a:t>Tobac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Picture 5" descr="j025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6"/>
          <p:cNvSpPr txBox="1"/>
          <p:nvPr/>
        </p:nvSpPr>
        <p:spPr>
          <a:xfrm>
            <a:off x="2971800" y="1557360"/>
            <a:ext cx="35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2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763640" y="3048120"/>
            <a:ext cx="56167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  <a:ea typeface="PMingLiU"/>
              </a:rPr>
              <a:t>Tobacco advertising in printed media and outdoor adverti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j0255161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80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1523880" y="2971800"/>
            <a:ext cx="6553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PMingLiU"/>
              </a:rPr>
              <a:t>Prohibition  of smoking in restaurants and 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PMingLiU"/>
              </a:rPr>
              <a:t>public indoor premise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راس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971800" y="1782720"/>
            <a:ext cx="356724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3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moking consultation"/>
          <p:cNvPicPr/>
          <p:nvPr/>
        </p:nvPicPr>
        <p:blipFill>
          <a:blip r:embed="rId1"/>
          <a:srcRect l="0" t="1242" r="0" b="0"/>
          <a:stretch/>
        </p:blipFill>
        <p:spPr>
          <a:xfrm>
            <a:off x="179280" y="0"/>
            <a:ext cx="8640720" cy="67057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Object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1523880" y="3124080"/>
            <a:ext cx="55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  <a:ea typeface="PMingLiU"/>
              </a:rPr>
              <a:t>Control of Tobac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  <a:ea typeface="PMingLiU"/>
              </a:rPr>
              <a:t>(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pi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the Media and Media Advoc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Steps to Media Advoc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Develop a Media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ods for Using the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5CC0-435C-4068-9B35-4B8181E2025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 Asia Pacific Association for the Control of Tobacco (APACT) recognizes that tobacco use is a major cause of death in the Asia-Pacific reg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 current pandemic of tobacco-related diseases is causing tremendous harm and an excessive burden on the econom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Everyone, especially children, has the right to live in a tobacco-smoke free environ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  <a:ea typeface="PMingLiU"/>
              </a:rPr>
              <a:t>The Hong Kong Declaration APACT 200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Of all the children alive today in Asia, a conservative estimate is that at least 150 million will eventually be killed by tobac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re is a need for an urgent effort to contain this pandemic of tobacco-related diseases as well as its terrible effects on the environment and the economy. If it is to effectively prevent young people from smoking, it must be a comprehensive programme directed at the entire commu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  <a:ea typeface="PMingLiU"/>
              </a:rPr>
              <a:t>The Hong Kong Declaration APACT 200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BS00979_"/>
          <p:cNvPicPr/>
          <p:nvPr/>
        </p:nvPicPr>
        <p:blipFill>
          <a:blip r:embed="rId1"/>
          <a:stretch/>
        </p:blipFill>
        <p:spPr>
          <a:xfrm>
            <a:off x="5562720" y="3048120"/>
            <a:ext cx="3195360" cy="3409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A comprehensive regional tobacco control polic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Garamond"/>
                <a:ea typeface="PMingLiU"/>
              </a:rPr>
              <a:t>An end to all tobacco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Increase in ta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Protection of y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Regulation and control of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tobacco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5e5ff"/>
                </a:solidFill>
                <a:uFillTx/>
                <a:latin typeface="Garamond"/>
                <a:ea typeface="PMingLiU"/>
              </a:rPr>
              <a:t>The Hong Kong Declaration APACT 200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Eight Healthy Cities in Hong K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seung Kwan 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Wan Ch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Central &amp; Wes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Kwai T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suen W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Sham Shui 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Wong Tai 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ai 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Garamond"/>
                <a:ea typeface="PMingLiU"/>
              </a:rPr>
              <a:t>Healthy C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410080" y="3657600"/>
            <a:ext cx="3505320" cy="259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5410080" y="3657600"/>
            <a:ext cx="3200400" cy="251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334120" y="3809880"/>
            <a:ext cx="3429000" cy="251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9" descr="DD01864_"/>
          <p:cNvPicPr/>
          <p:nvPr/>
        </p:nvPicPr>
        <p:blipFill>
          <a:blip r:embed="rId1"/>
          <a:stretch/>
        </p:blipFill>
        <p:spPr>
          <a:xfrm>
            <a:off x="5334120" y="4091040"/>
            <a:ext cx="3357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"/>
          <p:cNvGrpSpPr/>
          <p:nvPr/>
        </p:nvGrpSpPr>
        <p:grpSpPr>
          <a:xfrm>
            <a:off x="152280" y="228600"/>
            <a:ext cx="8839080" cy="6427440"/>
            <a:chOff x="152280" y="228600"/>
            <a:chExt cx="8839080" cy="6427440"/>
          </a:xfrm>
        </p:grpSpPr>
        <p:pic>
          <p:nvPicPr>
            <p:cNvPr id="250" name="Picture 5" descr="photo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4536720" cy="322740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pic>
          <p:nvPicPr>
            <p:cNvPr id="251" name="Picture 6" descr="pic8"/>
            <p:cNvPicPr/>
            <p:nvPr/>
          </p:nvPicPr>
          <p:blipFill>
            <a:blip r:embed="rId2"/>
            <a:stretch/>
          </p:blipFill>
          <p:spPr>
            <a:xfrm>
              <a:off x="465120" y="3277080"/>
              <a:ext cx="4849560" cy="337896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pic>
          <p:nvPicPr>
            <p:cNvPr id="252" name="Picture 7" descr="Kwai Tsing 1"/>
            <p:cNvPicPr/>
            <p:nvPr/>
          </p:nvPicPr>
          <p:blipFill>
            <a:blip r:embed="rId3"/>
            <a:srcRect l="0" t="1205" r="0" b="51809"/>
            <a:stretch/>
          </p:blipFill>
          <p:spPr>
            <a:xfrm>
              <a:off x="4610880" y="1313280"/>
              <a:ext cx="4380480" cy="282456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sp>
          <p:nvSpPr>
            <p:cNvPr id="253" name="Text Box 8"/>
            <p:cNvSpPr/>
            <p:nvPr/>
          </p:nvSpPr>
          <p:spPr>
            <a:xfrm>
              <a:off x="5220000" y="386280"/>
              <a:ext cx="33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Tseung Kwan O 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>
              <a:off x="4767480" y="386280"/>
              <a:ext cx="469080" cy="473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5531760" y="457416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Kwai Tsing 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5838840" y="5759280"/>
              <a:ext cx="268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Central &amp; Wes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5393160" y="5996160"/>
              <a:ext cx="469080" cy="473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3"/>
            <p:cNvSpPr/>
            <p:nvPr/>
          </p:nvSpPr>
          <p:spPr>
            <a:xfrm rot="5400000">
              <a:off x="6642000" y="4181040"/>
              <a:ext cx="473760" cy="469080"/>
            </a:xfrm>
            <a:prstGeom prst="leftArrow">
              <a:avLst>
                <a:gd name="adj1" fmla="val 50000"/>
                <a:gd name="adj2" fmla="val 25249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Photo4"/>
          <p:cNvPicPr/>
          <p:nvPr/>
        </p:nvPicPr>
        <p:blipFill>
          <a:blip r:embed="rId1"/>
          <a:srcRect l="0" t="2573" r="0" b="0"/>
          <a:stretch/>
        </p:blipFill>
        <p:spPr>
          <a:xfrm>
            <a:off x="345960" y="1523880"/>
            <a:ext cx="8534520" cy="5105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60" name="Text Box 5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PMingLiU"/>
              </a:rPr>
              <a:t>Hong Kong Healthy Schools Award Scheme Opening Ceremo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PMingLiU"/>
              </a:rPr>
              <a:t>20 May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4"/>
          <p:cNvGrpSpPr/>
          <p:nvPr/>
        </p:nvGrpSpPr>
        <p:grpSpPr>
          <a:xfrm>
            <a:off x="228600" y="228600"/>
            <a:ext cx="8762760" cy="6400440"/>
            <a:chOff x="228600" y="228600"/>
            <a:chExt cx="8762760" cy="6400440"/>
          </a:xfrm>
        </p:grpSpPr>
        <p:pic>
          <p:nvPicPr>
            <p:cNvPr id="262" name="Picture 5" descr="Photo56y"/>
            <p:cNvPicPr/>
            <p:nvPr/>
          </p:nvPicPr>
          <p:blipFill>
            <a:blip r:embed="rId1"/>
            <a:stretch/>
          </p:blipFill>
          <p:spPr>
            <a:xfrm>
              <a:off x="622440" y="804240"/>
              <a:ext cx="3387240" cy="23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Photo1"/>
            <p:cNvPicPr/>
            <p:nvPr/>
          </p:nvPicPr>
          <p:blipFill>
            <a:blip r:embed="rId2"/>
            <a:stretch/>
          </p:blipFill>
          <p:spPr>
            <a:xfrm>
              <a:off x="543600" y="3542760"/>
              <a:ext cx="3387600" cy="23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" descr="Photo56x"/>
            <p:cNvPicPr/>
            <p:nvPr/>
          </p:nvPicPr>
          <p:blipFill>
            <a:blip r:embed="rId3"/>
            <a:stretch/>
          </p:blipFill>
          <p:spPr>
            <a:xfrm>
              <a:off x="5034240" y="779040"/>
              <a:ext cx="3387600" cy="23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Photo56"/>
            <p:cNvPicPr/>
            <p:nvPr/>
          </p:nvPicPr>
          <p:blipFill>
            <a:blip r:embed="rId4"/>
            <a:stretch/>
          </p:blipFill>
          <p:spPr>
            <a:xfrm>
              <a:off x="4955400" y="3623400"/>
              <a:ext cx="3387600" cy="240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SO01862_"/>
            <p:cNvPicPr/>
            <p:nvPr/>
          </p:nvPicPr>
          <p:blipFill>
            <a:blip r:embed="rId5"/>
            <a:stretch/>
          </p:blipFill>
          <p:spPr>
            <a:xfrm>
              <a:off x="228600" y="228600"/>
              <a:ext cx="4096800" cy="32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0" descr="SO01862_"/>
            <p:cNvPicPr/>
            <p:nvPr/>
          </p:nvPicPr>
          <p:blipFill>
            <a:blip r:embed="rId6"/>
            <a:stretch/>
          </p:blipFill>
          <p:spPr>
            <a:xfrm>
              <a:off x="4798080" y="240120"/>
              <a:ext cx="4193280" cy="33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1" descr="SO01862_"/>
            <p:cNvPicPr/>
            <p:nvPr/>
          </p:nvPicPr>
          <p:blipFill>
            <a:blip r:embed="rId7"/>
            <a:stretch/>
          </p:blipFill>
          <p:spPr>
            <a:xfrm>
              <a:off x="228600" y="3301200"/>
              <a:ext cx="4035960" cy="31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2" descr="SO01862_"/>
            <p:cNvPicPr/>
            <p:nvPr/>
          </p:nvPicPr>
          <p:blipFill>
            <a:blip r:embed="rId8"/>
            <a:stretch/>
          </p:blipFill>
          <p:spPr>
            <a:xfrm>
              <a:off x="4779720" y="3381840"/>
              <a:ext cx="4114800" cy="324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pic14"/>
          <p:cNvPicPr/>
          <p:nvPr/>
        </p:nvPicPr>
        <p:blipFill>
          <a:blip r:embed="rId1"/>
          <a:stretch/>
        </p:blipFill>
        <p:spPr>
          <a:xfrm>
            <a:off x="4114800" y="152280"/>
            <a:ext cx="4800600" cy="6553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71" name="WordArt 5"/>
          <p:cNvSpPr txBox="1"/>
          <p:nvPr/>
        </p:nvSpPr>
        <p:spPr>
          <a:xfrm>
            <a:off x="304920" y="4286160"/>
            <a:ext cx="586728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Healthy Workplace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anada comic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new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What Can You Use the Media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748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c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information to general and specif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ustrate a point vis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on 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sense of urgency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اضطرار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06EC-BD9E-40F2-8F61-4C67EE2AD3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new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Political Will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o introduce, implement and enforce tobacco control meas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Political support f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Lab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Fin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Departments suppor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116000" y="1600200"/>
            <a:ext cx="742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7c80"/>
                </a:solidFill>
                <a:latin typeface="Comic Sans MS"/>
                <a:ea typeface="PMingLiU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5" descr="SO02520_"/>
          <p:cNvPicPr/>
          <p:nvPr/>
        </p:nvPicPr>
        <p:blipFill>
          <a:blip r:embed="rId1"/>
          <a:stretch/>
        </p:blipFill>
        <p:spPr>
          <a:xfrm>
            <a:off x="5715000" y="3581280"/>
            <a:ext cx="28623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609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What Can Be Achieved Using the Med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860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on  of awarenes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ehavioral change on an individual level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fluencing attitudes towards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hifting paradigms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الأمثلة المتحركة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ndermining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تقويض-زعزعة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sistance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neratin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takeholder suppor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policies and programs that we want to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75D0-DE84-4AFE-9D14-7199BCB9B4F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8580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Definition of Media Advo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2120" y="152388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edia advocacy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strategic use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of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mass media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o support community organiz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nd advance healthy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public polici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A6E-B01F-46DE-98EA-961D4E01028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edia advocacy uses a range of media and advocacy strategies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timulat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لتحفيز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ad-based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عريض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ag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fram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يعيد تأطي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shap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شكل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discussion about a health issu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increase support for and advanc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althy public poli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Advoc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E3CD-4E9F-4D9B-AED6-38E8EEC3A73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Advoc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edia advocacy can be us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 public debate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نقاش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directly with those of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pressure to decision 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 is a tactic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وسيلة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community groups and others to communicate their own story in their own words to promote social chan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B63-16B7-4D5E-8158-E1D4DC691A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vs. Media Advoc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s to mobilize  comm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s social and political involv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s healthy public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es on the power g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news de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يريد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inform people about health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s individuals to change ow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s health mes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es on information g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ublic affairs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شئون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419720" y="1523880"/>
            <a:ext cx="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C3B7-9F7C-43C2-B397-29AFA8057EB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3:52:17Z</dcterms:created>
  <dc:creator>Beth DeRicco</dc:creator>
  <dc:description/>
  <dc:language>en-US</dc:language>
  <cp:lastModifiedBy>ksu</cp:lastModifiedBy>
  <cp:lastPrinted>2001-11-07T19:04:19Z</cp:lastPrinted>
  <dcterms:modified xsi:type="dcterms:W3CDTF">2012-11-04T06:04:07Z</dcterms:modified>
  <cp:revision>404</cp:revision>
  <dc:subject/>
  <dc:title>An Introduction to Media Advocacy</dc:title>
</cp:coreProperties>
</file>