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43.jpeg" ContentType="image/jpeg"/>
  <Override PartName="/ppt/media/image45.jpeg" ContentType="image/jpeg"/>
  <Override PartName="/ppt/media/image6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449-E54E-4365-B1DD-1AE962AD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E38-68B9-4CC4-B468-539FB8C8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A2C-F742-4895-98C8-D1E519DC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DCD-E073-479E-8219-A784DCC1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A65-228E-44B2-B40F-EF3EFA7A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5377-354C-4328-A91B-188C1A84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D401-6D7F-4D5A-9635-A07C6411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280-8450-4325-9695-277260C0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764-17DE-4DFC-8D3A-59BFB2EB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A8B-B054-4E1F-944C-6AD46918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A99-BAE1-4EC7-B75A-90DC0E92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691-FDAE-4BE7-BC76-055CBAE9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B1DA-2879-4877-B63B-1DB442EF7F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11360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988640"/>
            <a:ext cx="64008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S 48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r. Ebtisam Fet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6" descr="PictureIntro-red"/>
          <p:cNvPicPr/>
          <p:nvPr/>
        </p:nvPicPr>
        <p:blipFill>
          <a:blip r:embed="rId1"/>
          <a:stretch/>
        </p:blipFill>
        <p:spPr>
          <a:xfrm>
            <a:off x="3059280" y="1484280"/>
            <a:ext cx="3632040" cy="237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eck for Normal Healthy Tee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5" descr="Picture27"/>
          <p:cNvPicPr/>
          <p:nvPr/>
        </p:nvPicPr>
        <p:blipFill>
          <a:blip r:embed="rId1"/>
          <a:stretch/>
        </p:blipFill>
        <p:spPr>
          <a:xfrm>
            <a:off x="468360" y="15573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Picture28"/>
          <p:cNvPicPr/>
          <p:nvPr/>
        </p:nvPicPr>
        <p:blipFill>
          <a:blip r:embed="rId2"/>
          <a:stretch/>
        </p:blipFill>
        <p:spPr>
          <a:xfrm>
            <a:off x="4716360" y="1697040"/>
            <a:ext cx="395928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Picture29"/>
          <p:cNvPicPr/>
          <p:nvPr/>
        </p:nvPicPr>
        <p:blipFill>
          <a:blip r:embed="rId3"/>
          <a:stretch/>
        </p:blipFill>
        <p:spPr>
          <a:xfrm>
            <a:off x="539640" y="4005360"/>
            <a:ext cx="3672000" cy="200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icture32"/>
          <p:cNvPicPr/>
          <p:nvPr/>
        </p:nvPicPr>
        <p:blipFill>
          <a:blip r:embed="rId4"/>
          <a:stretch/>
        </p:blipFill>
        <p:spPr>
          <a:xfrm>
            <a:off x="4788000" y="4149720"/>
            <a:ext cx="3816360" cy="1887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for Early Signs of Decay: White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5" descr="Picture31"/>
          <p:cNvPicPr/>
          <p:nvPr/>
        </p:nvPicPr>
        <p:blipFill>
          <a:blip r:embed="rId1"/>
          <a:stretch/>
        </p:blipFill>
        <p:spPr>
          <a:xfrm>
            <a:off x="468360" y="1557360"/>
            <a:ext cx="3959280" cy="216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6" descr="Picture32"/>
          <p:cNvPicPr/>
          <p:nvPr/>
        </p:nvPicPr>
        <p:blipFill>
          <a:blip r:embed="rId2"/>
          <a:stretch/>
        </p:blipFill>
        <p:spPr>
          <a:xfrm>
            <a:off x="4788000" y="15573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Picture34"/>
          <p:cNvPicPr/>
          <p:nvPr/>
        </p:nvPicPr>
        <p:blipFill>
          <a:blip r:embed="rId3"/>
          <a:stretch/>
        </p:blipFill>
        <p:spPr>
          <a:xfrm>
            <a:off x="4859280" y="3933720"/>
            <a:ext cx="3745080" cy="2159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Picture33"/>
          <p:cNvPicPr/>
          <p:nvPr/>
        </p:nvPicPr>
        <p:blipFill>
          <a:blip r:embed="rId4"/>
          <a:stretch/>
        </p:blipFill>
        <p:spPr>
          <a:xfrm>
            <a:off x="938160" y="4027320"/>
            <a:ext cx="3076560" cy="20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for Later Signs of Decay: Brown Sp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Picture35"/>
          <p:cNvPicPr/>
          <p:nvPr/>
        </p:nvPicPr>
        <p:blipFill>
          <a:blip r:embed="rId1"/>
          <a:stretch/>
        </p:blipFill>
        <p:spPr>
          <a:xfrm>
            <a:off x="826920" y="1557360"/>
            <a:ext cx="3313440" cy="2139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Picture36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2139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Picture37"/>
          <p:cNvPicPr/>
          <p:nvPr/>
        </p:nvPicPr>
        <p:blipFill>
          <a:blip r:embed="rId3"/>
          <a:stretch/>
        </p:blipFill>
        <p:spPr>
          <a:xfrm>
            <a:off x="826920" y="4027320"/>
            <a:ext cx="3240360" cy="200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Picture38"/>
          <p:cNvPicPr/>
          <p:nvPr/>
        </p:nvPicPr>
        <p:blipFill>
          <a:blip r:embed="rId4"/>
          <a:stretch/>
        </p:blipFill>
        <p:spPr>
          <a:xfrm>
            <a:off x="4932360" y="4027320"/>
            <a:ext cx="3456000" cy="22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heck for Advanced/Severe Deca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Picture41"/>
          <p:cNvPicPr/>
          <p:nvPr/>
        </p:nvPicPr>
        <p:blipFill>
          <a:blip r:embed="rId1"/>
          <a:stretch/>
        </p:blipFill>
        <p:spPr>
          <a:xfrm>
            <a:off x="684360" y="1413000"/>
            <a:ext cx="3743280" cy="208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1" name="Picture 11" descr="Picture42"/>
          <p:cNvPicPr/>
          <p:nvPr/>
        </p:nvPicPr>
        <p:blipFill>
          <a:blip r:embed="rId2"/>
          <a:stretch/>
        </p:blipFill>
        <p:spPr>
          <a:xfrm>
            <a:off x="4788000" y="1413000"/>
            <a:ext cx="3744720" cy="2251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2" name="Picture 13" descr="Picture44"/>
          <p:cNvPicPr/>
          <p:nvPr/>
        </p:nvPicPr>
        <p:blipFill>
          <a:blip r:embed="rId3"/>
          <a:stretch/>
        </p:blipFill>
        <p:spPr>
          <a:xfrm>
            <a:off x="4859280" y="4005360"/>
            <a:ext cx="369576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3" name="Picture 12" descr="Picture43"/>
          <p:cNvPicPr/>
          <p:nvPr/>
        </p:nvPicPr>
        <p:blipFill>
          <a:blip r:embed="rId4"/>
          <a:stretch/>
        </p:blipFill>
        <p:spPr>
          <a:xfrm>
            <a:off x="826920" y="3933720"/>
            <a:ext cx="3529080" cy="205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APD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 Caries Risk 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ssessment</a:t>
            </a: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 Tool (CAT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4920" y="1054080"/>
          <a:ext cx="9109080" cy="5810400"/>
        </p:xfrm>
        <a:graphic>
          <a:graphicData uri="http://schemas.openxmlformats.org/drawingml/2006/table">
            <a:tbl>
              <a:tblPr/>
              <a:tblGrid>
                <a:gridCol w="360360"/>
                <a:gridCol w="1297080"/>
                <a:gridCol w="2303280"/>
                <a:gridCol w="1871640"/>
                <a:gridCol w="3276720"/>
              </a:tblGrid>
              <a:tr h="82548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es Risk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ate R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gh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linical 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arious teeth in past 24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amel demineralization (enamel caries “white- spot lesions”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99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isible plaque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buClr>
                          <a:srgbClr val="99cc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gingivi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io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eth in the past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r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enamel demineralization (enamel caries “white-spot lesion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ingivit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rio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eth in the past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ore than 1 are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enamel demineralization (enamel caries “white- spot lesion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sible plaq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n anterior (front) 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adiographic enamel c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High titers of mutans streptococ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earing dental or orthodontic appli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namel hypopla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APD Caries Risk Assessment Tool (CAT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395280"/>
                <a:gridCol w="1728720"/>
                <a:gridCol w="1943280"/>
                <a:gridCol w="2592360"/>
                <a:gridCol w="2484360"/>
              </a:tblGrid>
              <a:tr h="61596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es Risk Indic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ate R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gh Ris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nviron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haracteri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opical fluoride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sumption of </a:t>
                      </a: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imple sugar or foods strongly associated with caries initiation primarily at mealti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Regula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of dental care in the established dental h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optimal systemic fluoride exposure with optimal topical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ccasional between meal exposures to simple sugar or foods strongly associated with c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Mid-level caregiver socioeconomic status (i.e., eligible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مؤهل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chool lunch progra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Irregula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f dental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boptimal topic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luoride expo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requent (i.e., 3 or more) between-meal exposur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simple sugars or foods associated strongly with c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w-level caregiver socioeconomic statu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i.e, eligible for Medicaid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cs typeface="Tahoma"/>
                        </a:rPr>
                        <a:t>مساعدة طبية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 usual sour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dental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ctive caries present in the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99"/>
                </a:solidFill>
                <a:latin typeface="Arial"/>
              </a:rPr>
              <a:t>AAPD Caries Risk Assessment Tool (CAT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1916280"/>
          <a:ext cx="9144000" cy="3238200"/>
        </p:xfrm>
        <a:graphic>
          <a:graphicData uri="http://schemas.openxmlformats.org/drawingml/2006/table">
            <a:tbl>
              <a:tblPr/>
              <a:tblGrid>
                <a:gridCol w="507960"/>
                <a:gridCol w="2479680"/>
                <a:gridCol w="1008000"/>
                <a:gridCol w="1602000"/>
                <a:gridCol w="3546360"/>
              </a:tblGrid>
              <a:tr h="1036080">
                <a:tc rowSpan="2">
                  <a:txBody>
                    <a:bodyPr lIns="90000" rIns="90000" tIns="46800" bIns="46800" anchor="t" vert="eaVer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aries</a:t>
                      </a:r>
                      <a:r>
                        <a:rPr b="0" lang="en-U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isk indicato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w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derate Ri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igh Ri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5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eneral Health Condi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dren with special health care nee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onditions impairing saliva composition/f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ticipatory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7020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s section addresses the following top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844640"/>
            <a:ext cx="64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ory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قع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Risk for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ylitol for M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ribut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ary and Feed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 brush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paste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p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Oral Hygiene: Flo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0" descr="Picture-Guidance"/>
          <p:cNvPicPr/>
          <p:nvPr/>
        </p:nvPicPr>
        <p:blipFill>
          <a:blip r:embed="rId1"/>
          <a:stretch/>
        </p:blipFill>
        <p:spPr>
          <a:xfrm>
            <a:off x="5364000" y="2060640"/>
            <a:ext cx="3564000" cy="259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 Unicode MS"/>
              </a:rPr>
              <a:t>Minimize Risk for Inf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5940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Address active oral health disease in mother/careg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Educate mother/caregiver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echanism of cariogenic bacteria trans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Mother/caregiver should model positive oral hygiene behaviors for their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Recommend xylitol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w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gum to mothers/careg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Picture45"/>
          <p:cNvPicPr/>
          <p:nvPr/>
        </p:nvPicPr>
        <p:blipFill>
          <a:blip r:embed="rId1"/>
          <a:stretch/>
        </p:blipFill>
        <p:spPr>
          <a:xfrm>
            <a:off x="6012000" y="1784520"/>
            <a:ext cx="313200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nticipatory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550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risk of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oral hygi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dietary sug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existing dental dec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fluorides judiciously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Tahoma"/>
              </a:rPr>
              <a:t>بتعق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Picture46"/>
          <p:cNvPicPr/>
          <p:nvPr/>
        </p:nvPicPr>
        <p:blipFill>
          <a:blip r:embed="rId1"/>
          <a:stretch/>
        </p:blipFill>
        <p:spPr>
          <a:xfrm>
            <a:off x="5292720" y="2205000"/>
            <a:ext cx="3708360" cy="331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bjectives of the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 the of lecture the students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Early Signs of Decay: White Spots and Brown Sp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dvanced/Severe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methods to minimize Risk for oral  Inf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Dietary and Feeding Habits that lead to dental c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how to educate mothers for Tooth brush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lo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merican Academy of Pediatric Dentistry (AAPD) Caries Risk Assessment Tool (C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Recommended Fluor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s of Fluo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Xylitol for Mother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5724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Xylitol gum or mints used 4 times a day may prevent transmission of cariogenic bacteria to inf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s reduce the development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dental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“sugar” that bacteria can’t use eas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sts fermentation by mouth bac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s plaque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s salivary flow to aid in the repair of damaged tooth enam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Picture46"/>
          <p:cNvPicPr/>
          <p:nvPr/>
        </p:nvPicPr>
        <p:blipFill>
          <a:blip r:embed="rId1"/>
          <a:stretch/>
        </p:blipFill>
        <p:spPr>
          <a:xfrm>
            <a:off x="5808600" y="2133720"/>
            <a:ext cx="3335400" cy="33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Substrate: Contributing Dietary and Feeding Ha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58672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requent consumption of carbohydrates, especially sippy cups/bottles with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Unicode MS"/>
              </a:rPr>
              <a:t>fruit ju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, soft drinks,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Unicode MS"/>
              </a:rPr>
              <a:t>powdered sweetened drink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formula, or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  <a:ea typeface="Arial Unicode MS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icky foods like raisi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زبي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/fruit leathe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(roll-ups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Arial Unicode MS"/>
              </a:rPr>
              <a:t>لفة  مثل قمر الدي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, hard candies , and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hewy vitam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tles at bedtime or nap time not containin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ping pacifier in sugary sub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Picture47"/>
          <p:cNvPicPr/>
          <p:nvPr/>
        </p:nvPicPr>
        <p:blipFill>
          <a:blip r:embed="rId1"/>
          <a:stretch/>
        </p:blipFill>
        <p:spPr>
          <a:xfrm>
            <a:off x="5867280" y="1052640"/>
            <a:ext cx="3097440" cy="2733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Picture48"/>
          <p:cNvPicPr/>
          <p:nvPr/>
        </p:nvPicPr>
        <p:blipFill>
          <a:blip r:embed="rId2"/>
          <a:stretch/>
        </p:blipFill>
        <p:spPr>
          <a:xfrm>
            <a:off x="5364000" y="4386240"/>
            <a:ext cx="3780000" cy="204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 Unicode MS"/>
              </a:rPr>
              <a:t>Substrate: Contributing Dietary and Feeding Habits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 bottle is given at nap time or bedtime, </a:t>
            </a:r>
            <a:r>
              <a:rPr b="0" lang="en-US" sz="2900" spc="-1" strike="noStrike">
                <a:solidFill>
                  <a:srgbClr val="ff5050"/>
                </a:solidFill>
                <a:latin typeface="Arial Unicode MS"/>
                <a:ea typeface="Arial Unicode MS"/>
              </a:rPr>
              <a:t>parents should use a cloth to wipe the baby’s mouth prior to lying the infant down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ue to the decreased salivary flow, any food or drink that is in the baby’s mouth during sleeping periods stays there for many hours and promotes the caries proces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 Unicode MS"/>
              </a:rPr>
              <a:t>Substrate: Contributing Dietary and Feeding Habits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cause there is an increased risk for the development of caries for children who sleep with bottles containing liquid with natural or added sugars, and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cause children who drink bottles while lying down may be more prone to getting ear infections, the AAP suggests that children not be put to bed with bottl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 Unicode MS"/>
              </a:rPr>
              <a:t>Substrate: Contributing Dietary and Feeding Habits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ents should also be reminded that pacifiers should not be dipped in sweet liquids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addition, 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because bacteria are transmitted through the saliva,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Arial Unicode MS"/>
                <a:ea typeface="Times New Roman"/>
              </a:rPr>
              <a:t>pre-tasting,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-chewing, and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26"/>
              </a:spcBef>
              <a:buClr>
                <a:srgbClr val="0099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5050"/>
                </a:solidFill>
                <a:latin typeface="Arial Unicode MS"/>
                <a:ea typeface="Times New Roman"/>
              </a:rPr>
              <a:t>sharing of utensils</a:t>
            </a:r>
            <a:r>
              <a:rPr b="0" lang="en-US" sz="2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hould be avoided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  <a:ea typeface="Arial Unicode MS"/>
              </a:rPr>
              <a:t>Tooth brushing Recommenda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0" y="836640"/>
          <a:ext cx="9144000" cy="6097680"/>
        </p:xfrm>
        <a:graphic>
          <a:graphicData uri="http://schemas.openxmlformats.org/drawingml/2006/table">
            <a:tbl>
              <a:tblPr/>
              <a:tblGrid>
                <a:gridCol w="2050920"/>
                <a:gridCol w="7093080"/>
              </a:tblGrid>
              <a:tr h="814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  <a:ea typeface="Arial Unicode MS"/>
                        </a:rPr>
                        <a:t>Tooth brushing Recommendations  (CDC, 2001)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&lt; 1 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 Clean teeth with soft toothbru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 Parent performs brush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6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Pea-sized amount of fluoride-   containing toothpaste or gel 2x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Parent performs or supervis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&gt; 6 yea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~  Brush with fluoridated toothpaste 2x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4df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Toothpaste and Childre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5796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ingest substantial amounts of toothpaste because of immature swallowing ref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use of fluoride toothpaste may be associated with increased risk of fluorosi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permanent teeth have mineralized (around 6-8 years of age), dental fluorosis is no longer a conc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Picture52"/>
          <p:cNvPicPr/>
          <p:nvPr/>
        </p:nvPicPr>
        <p:blipFill>
          <a:blip r:embed="rId1"/>
          <a:stretch/>
        </p:blipFill>
        <p:spPr>
          <a:xfrm>
            <a:off x="5796000" y="2492280"/>
            <a:ext cx="3348000" cy="2470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Toothpa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mall pea-sized amount of toothpaste weighs 0.4 mg to 0.6 mg fluoride, which is equal to the daily recommended intake for children younger than 2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Picture49"/>
          <p:cNvPicPr/>
          <p:nvPr/>
        </p:nvPicPr>
        <p:blipFill>
          <a:blip r:embed="rId1"/>
          <a:stretch/>
        </p:blipFill>
        <p:spPr>
          <a:xfrm>
            <a:off x="755640" y="3645000"/>
            <a:ext cx="7854840" cy="302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Optimizing Oral Hygiene: Floss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7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70c0"/>
                </a:solidFill>
                <a:uFillTx/>
                <a:latin typeface="Arial"/>
              </a:rPr>
              <a:t>When to Use Flo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ce a day (preferably at night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enever any 2 teeth tou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ound 2 to 2 ½ years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children may only need a few back teeth flossed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s may need flossing between all their tight teeth, depending on the child’s dental spac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Picture54"/>
          <p:cNvPicPr/>
          <p:nvPr/>
        </p:nvPicPr>
        <p:blipFill>
          <a:blip r:embed="rId1"/>
          <a:stretch/>
        </p:blipFill>
        <p:spPr>
          <a:xfrm>
            <a:off x="5724360" y="1125360"/>
            <a:ext cx="3419640" cy="2257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24" name="Picture 8" descr="Picture55"/>
          <p:cNvPicPr/>
          <p:nvPr/>
        </p:nvPicPr>
        <p:blipFill>
          <a:blip r:embed="rId2"/>
          <a:stretch/>
        </p:blipFill>
        <p:spPr>
          <a:xfrm>
            <a:off x="5724360" y="3716280"/>
            <a:ext cx="3419640" cy="216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reatment and Refer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5580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s section addresses the following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ed Fluorid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ement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Flu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ide Var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Fluoride Var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Existing Dental Decay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ing an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ral: Establishment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ؤسس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tal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System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9" descr="Picture-Treatment-Red"/>
          <p:cNvPicPr/>
          <p:nvPr/>
        </p:nvPicPr>
        <p:blipFill>
          <a:blip r:embed="rId1"/>
          <a:stretch/>
        </p:blipFill>
        <p:spPr>
          <a:xfrm>
            <a:off x="5364000" y="1197000"/>
            <a:ext cx="3600720" cy="2952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Arial"/>
              </a:rPr>
              <a:t>Physical: Oral Health Assessmen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6948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s section addresses the following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ernal Primary Caregiver Scree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Oral Health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ing Child for Oral Ex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mary Teeth Eru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at to Look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Normal Healthy Tee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Early Signs of Decay: White Sp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Early Signs of Decay: Brown Sp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Advanced/Severe Dec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APD Caries Risk Assessment Tool (C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1" descr="Picture-Physical-red"/>
          <p:cNvPicPr/>
          <p:nvPr/>
        </p:nvPicPr>
        <p:blipFill>
          <a:blip r:embed="rId1"/>
          <a:stretch/>
        </p:blipFill>
        <p:spPr>
          <a:xfrm>
            <a:off x="5867280" y="1628640"/>
            <a:ext cx="3276720" cy="208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Recommended Fluoride Supplement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907920"/>
          <a:ext cx="8713800" cy="557064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8000"/>
                <a:gridCol w="2178000"/>
              </a:tblGrid>
              <a:tr h="648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uoride Concentration in Community Drinking 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0.3 p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–0.6 p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–6 mont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mo–3 y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 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rs–6 y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yrs–16 y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Example of Fluo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d Fluorosis                 Severe Fluor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Picture52"/>
          <p:cNvPicPr/>
          <p:nvPr/>
        </p:nvPicPr>
        <p:blipFill>
          <a:blip r:embed="rId1"/>
          <a:stretch/>
        </p:blipFill>
        <p:spPr>
          <a:xfrm>
            <a:off x="4900680" y="1230480"/>
            <a:ext cx="3533760" cy="2162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Picture51"/>
          <p:cNvPicPr/>
          <p:nvPr/>
        </p:nvPicPr>
        <p:blipFill>
          <a:blip r:embed="rId2"/>
          <a:stretch/>
        </p:blipFill>
        <p:spPr>
          <a:xfrm>
            <a:off x="747720" y="1193760"/>
            <a:ext cx="3457440" cy="21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Fluoride Varn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765000"/>
            <a:ext cx="849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% sodium fluoride or 2.26% fluoride in a viscous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لزج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nou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راتنجية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 in an alcoholic suspension with flavoring agent (e.g., bubble gu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not been associated with fluor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does not replace the dental home nor is it equivalent to comprehensive dental ca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Picture53"/>
          <p:cNvPicPr/>
          <p:nvPr/>
        </p:nvPicPr>
        <p:blipFill>
          <a:blip r:embed="rId1"/>
          <a:stretch/>
        </p:blipFill>
        <p:spPr>
          <a:xfrm>
            <a:off x="755640" y="4221000"/>
            <a:ext cx="7848720" cy="26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Times New Roman"/>
              </a:rPr>
              <a:t>How to apply fluoride varn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y all the teeth with a 2 x 2 gau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aint fluoride varnish on all tooth surf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 to Par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pplying Fluoride Varn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Picture54"/>
          <p:cNvPicPr/>
          <p:nvPr/>
        </p:nvPicPr>
        <p:blipFill>
          <a:blip r:embed="rId1"/>
          <a:stretch/>
        </p:blipFill>
        <p:spPr>
          <a:xfrm>
            <a:off x="539640" y="1600200"/>
            <a:ext cx="38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Picture55"/>
          <p:cNvPicPr/>
          <p:nvPr/>
        </p:nvPicPr>
        <p:blipFill>
          <a:blip r:embed="rId2"/>
          <a:stretch/>
        </p:blipFill>
        <p:spPr>
          <a:xfrm>
            <a:off x="4716360" y="1600200"/>
            <a:ext cx="3888000" cy="218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Picture56"/>
          <p:cNvPicPr/>
          <p:nvPr/>
        </p:nvPicPr>
        <p:blipFill>
          <a:blip r:embed="rId3"/>
          <a:stretch/>
        </p:blipFill>
        <p:spPr>
          <a:xfrm>
            <a:off x="539640" y="3938760"/>
            <a:ext cx="3816360" cy="2187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8" descr="Picture57"/>
          <p:cNvPicPr/>
          <p:nvPr/>
        </p:nvPicPr>
        <p:blipFill>
          <a:blip r:embed="rId4"/>
          <a:stretch/>
        </p:blipFill>
        <p:spPr>
          <a:xfrm>
            <a:off x="4788000" y="3938760"/>
            <a:ext cx="3744720" cy="218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Remove Existing Dental Decay: </a:t>
            </a:r>
            <a:br>
              <a:rPr sz="3700"/>
            </a:b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Treating an Infec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e of the things that child health professionals do best is treat infec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wever, it is important to remember this is an active dental infection that must be trea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child should be referred to a pediatric dentist or general dentist for appropriate trea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Remove Existing Dental Decay: </a:t>
            </a:r>
            <a:br>
              <a:rPr sz="3200"/>
            </a:b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reating an Infection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175280" y="1125360"/>
            <a:ext cx="4789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child in this photo has 4 severely decayed upper incisors. </a:t>
            </a:r>
            <a:r>
              <a:rPr b="0" lang="en-US" sz="2400" spc="-1" strike="noStrike">
                <a:solidFill>
                  <a:srgbClr val="0070c0"/>
                </a:solidFill>
                <a:latin typeface="Arial Unicode MS"/>
              </a:rPr>
              <a:t>Both central incisors are abscesse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 Note the parulus above each incisor. </a:t>
            </a:r>
            <a:r>
              <a:rPr b="0" lang="en-US" sz="2400" spc="-1" strike="noStrike">
                <a:solidFill>
                  <a:srgbClr val="0070c0"/>
                </a:solidFill>
                <a:latin typeface="Arial Unicode MS"/>
              </a:rPr>
              <a:t>The abscessed central incisors need to be extracted as soon as possible to avoid development of facial cellulitis with potential orbital involvemen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. The lateral incisors may be salvageable with dental restorations or crowns depending on radiographic eval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Picture58-red"/>
          <p:cNvPicPr/>
          <p:nvPr/>
        </p:nvPicPr>
        <p:blipFill>
          <a:blip r:embed="rId1"/>
          <a:stretch/>
        </p:blipFill>
        <p:spPr>
          <a:xfrm>
            <a:off x="0" y="1989000"/>
            <a:ext cx="4211640" cy="31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Referral: Establishment of Dental Hom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hat is a dental hom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When to ref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 high-risk children by 6 month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er all children </a:t>
            </a: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within 6 months after the first tooth erupts or by 1 year of age, whichever is earlie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Picture64"/>
          <p:cNvPicPr/>
          <p:nvPr/>
        </p:nvPicPr>
        <p:blipFill>
          <a:blip r:embed="rId1"/>
          <a:stretch/>
        </p:blipFill>
        <p:spPr>
          <a:xfrm>
            <a:off x="5724360" y="1265400"/>
            <a:ext cx="324036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ommunity Systems of C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dentify dental care professionals in your community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26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evelop partnership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Picture65"/>
          <p:cNvPicPr/>
          <p:nvPr/>
        </p:nvPicPr>
        <p:blipFill>
          <a:blip r:embed="rId1"/>
          <a:stretch/>
        </p:blipFill>
        <p:spPr>
          <a:xfrm>
            <a:off x="2340000" y="3716280"/>
            <a:ext cx="4824360" cy="2919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465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s section addresses the following top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ake a Difference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ing Medical Education (CME)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4" descr="Picture-Conclusion"/>
          <p:cNvPicPr/>
          <p:nvPr/>
        </p:nvPicPr>
        <p:blipFill>
          <a:blip r:embed="rId1"/>
          <a:stretch/>
        </p:blipFill>
        <p:spPr>
          <a:xfrm>
            <a:off x="4932360" y="2349360"/>
            <a:ext cx="4032360" cy="275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8" name="Rectangle 8"/>
          <p:cNvSpPr/>
          <p:nvPr/>
        </p:nvSpPr>
        <p:spPr>
          <a:xfrm>
            <a:off x="1476360" y="692280"/>
            <a:ext cx="37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Fluoride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 Unicode MS"/>
              </a:rPr>
              <a:t>Determine fluoride exposur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systemic versus top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  <a:ea typeface="Arial Unicode MS"/>
              </a:rPr>
              <a:t>Fluoridat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58% of tot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Optimal level is 0.7 t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1.2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Significant state var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DC fluoridation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icture23"/>
          <p:cNvPicPr/>
          <p:nvPr/>
        </p:nvPicPr>
        <p:blipFill>
          <a:blip r:embed="rId1"/>
          <a:stretch/>
        </p:blipFill>
        <p:spPr>
          <a:xfrm>
            <a:off x="5364000" y="2492280"/>
            <a:ext cx="3492720" cy="250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u Can Make a Difference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5867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itute oral health risk assessments into well-child vis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37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patient education regarding oral heal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ppropriate prevention interventions (e.g., feeding practices, hygien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 findings and follow-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7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 office staff in oral health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ss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Picture66"/>
          <p:cNvPicPr/>
          <p:nvPr/>
        </p:nvPicPr>
        <p:blipFill>
          <a:blip r:embed="rId1"/>
          <a:stretch/>
        </p:blipFill>
        <p:spPr>
          <a:xfrm>
            <a:off x="6012000" y="1914480"/>
            <a:ext cx="2808000" cy="3809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You Can Make a Difference!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dentists (pediatric/general)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your area who accept new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/Medicaid pati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 a dentist to lunch to establish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ral relationship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25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stigate fluoride content in area water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Maternal/Primary Caregiver Screen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08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mother’s/caregiver’s oral hi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involved quadr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 to dental home if untreated oral health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6084720" y="1914480"/>
            <a:ext cx="2784600" cy="389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Maternal/Primary Caregiver Screening/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though child health professionals may not be used to assessing maternal health issues, they routinely take a health history when assessing medical conditions that are heritable or transmi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Because cariogenic bacteria can be transmitted from primary caregiver to child, an oral health history provides an opportunity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child health professional to better understand a child’s risk for early colonization and also prov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ducating the caregiver about caries preven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99"/>
                </a:solidFill>
                <a:latin typeface="Arial"/>
              </a:rPr>
              <a:t>Maternal/Primary Caregiver Screening/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4470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75000"/>
              </a:lnSpc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3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other’s/caregiver’s oral assessment does not need to involve a physical examination, but can be </a:t>
            </a:r>
            <a:r>
              <a:rPr b="0" lang="en-US" sz="3300" spc="-1" strike="noStrike">
                <a:solidFill>
                  <a:srgbClr val="333399"/>
                </a:solidFill>
                <a:latin typeface="Arial"/>
                <a:ea typeface="Times New Roman"/>
              </a:rPr>
              <a:t>done</a:t>
            </a:r>
            <a:r>
              <a:rPr b="0" lang="en-US" sz="33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by asking key questions such as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w are your teeth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you had a lot of cavities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 you have a regular dentist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en was your last visit to the dentist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you ever had a tooth filled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825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ave you had a lot of dental work done?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mary Teeth Eru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Picture25-red"/>
          <p:cNvPicPr/>
          <p:nvPr/>
        </p:nvPicPr>
        <p:blipFill>
          <a:blip r:embed="rId1"/>
          <a:stretch/>
        </p:blipFill>
        <p:spPr>
          <a:xfrm>
            <a:off x="611280" y="1125360"/>
            <a:ext cx="7705800" cy="496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hat to Look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604836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ft the lip to inspect soft tissue and tee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sess f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laq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bri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n teeth (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oral hygie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white sp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ntal dec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ooth defec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name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 Presence of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nt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row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vide education 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brush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the appropriate-sized toothbr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iet during exami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987640" cy="33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20:14:35Z</dcterms:created>
  <dc:creator>Mastour</dc:creator>
  <dc:description/>
  <dc:language>en-US</dc:language>
  <cp:lastModifiedBy>ksu</cp:lastModifiedBy>
  <dcterms:modified xsi:type="dcterms:W3CDTF">2012-09-25T04:34:48Z</dcterms:modified>
  <cp:revision>383</cp:revision>
  <dc:subject/>
  <dc:title>CHS 483</dc:title>
</cp:coreProperties>
</file>