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6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8D3-2DC7-4CF6-84CE-FA0FB96F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424-88D3-4AC5-B5C0-90187156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8D4-B501-46C6-9609-9147317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9A6-FE57-43F7-A0B0-E4192EDD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95E-E8EF-4E7F-9EA4-A4AC14E6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A4B-8D55-47A9-BB52-3955EF9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97C-31F0-46AA-A8D7-65F586E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06F-CF95-4BB9-94A7-DA08DDD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219-6C54-438D-AA2D-F181C50F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174-528B-413F-A356-1E038EC5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D60-6047-41AE-AD81-B9AB430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3AC-DEBB-461F-84F3-C2C3F83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817-D84C-4AC0-8519-A713260259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1136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S 48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r. Ebtisam Fet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6" descr="PictureIntro-red"/>
          <p:cNvPicPr/>
          <p:nvPr/>
        </p:nvPicPr>
        <p:blipFill>
          <a:blip r:embed="rId1"/>
          <a:stretch/>
        </p:blipFill>
        <p:spPr>
          <a:xfrm>
            <a:off x="3059280" y="1484280"/>
            <a:ext cx="363204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for Normal Healthy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Picture27"/>
          <p:cNvPicPr/>
          <p:nvPr/>
        </p:nvPicPr>
        <p:blipFill>
          <a:blip r:embed="rId1"/>
          <a:stretch/>
        </p:blipFill>
        <p:spPr>
          <a:xfrm>
            <a:off x="468360" y="15573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Picture28"/>
          <p:cNvPicPr/>
          <p:nvPr/>
        </p:nvPicPr>
        <p:blipFill>
          <a:blip r:embed="rId2"/>
          <a:stretch/>
        </p:blipFill>
        <p:spPr>
          <a:xfrm>
            <a:off x="4716360" y="1697040"/>
            <a:ext cx="395928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icture29"/>
          <p:cNvPicPr/>
          <p:nvPr/>
        </p:nvPicPr>
        <p:blipFill>
          <a:blip r:embed="rId3"/>
          <a:stretch/>
        </p:blipFill>
        <p:spPr>
          <a:xfrm>
            <a:off x="539640" y="4005360"/>
            <a:ext cx="3672000" cy="200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icture32"/>
          <p:cNvPicPr/>
          <p:nvPr/>
        </p:nvPicPr>
        <p:blipFill>
          <a:blip r:embed="rId4"/>
          <a:stretch/>
        </p:blipFill>
        <p:spPr>
          <a:xfrm>
            <a:off x="4788000" y="4149720"/>
            <a:ext cx="3816360" cy="188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Early Signs of Decay: White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Picture31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216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Picture32"/>
          <p:cNvPicPr/>
          <p:nvPr/>
        </p:nvPicPr>
        <p:blipFill>
          <a:blip r:embed="rId2"/>
          <a:stretch/>
        </p:blipFill>
        <p:spPr>
          <a:xfrm>
            <a:off x="4788000" y="15573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Picture34"/>
          <p:cNvPicPr/>
          <p:nvPr/>
        </p:nvPicPr>
        <p:blipFill>
          <a:blip r:embed="rId3"/>
          <a:stretch/>
        </p:blipFill>
        <p:spPr>
          <a:xfrm>
            <a:off x="4859280" y="3933720"/>
            <a:ext cx="3745080" cy="215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Picture33"/>
          <p:cNvPicPr/>
          <p:nvPr/>
        </p:nvPicPr>
        <p:blipFill>
          <a:blip r:embed="rId4"/>
          <a:stretch/>
        </p:blipFill>
        <p:spPr>
          <a:xfrm>
            <a:off x="938160" y="4027320"/>
            <a:ext cx="3076560" cy="20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for Later Signs of Decay: Brown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Picture35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213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Picture36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213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Picture37"/>
          <p:cNvPicPr/>
          <p:nvPr/>
        </p:nvPicPr>
        <p:blipFill>
          <a:blip r:embed="rId3"/>
          <a:stretch/>
        </p:blipFill>
        <p:spPr>
          <a:xfrm>
            <a:off x="826920" y="4027320"/>
            <a:ext cx="3240360" cy="200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Picture38"/>
          <p:cNvPicPr/>
          <p:nvPr/>
        </p:nvPicPr>
        <p:blipFill>
          <a:blip r:embed="rId4"/>
          <a:stretch/>
        </p:blipFill>
        <p:spPr>
          <a:xfrm>
            <a:off x="4932360" y="4027320"/>
            <a:ext cx="3456000" cy="22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heck for Advanced/Severe Deca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Picture41"/>
          <p:cNvPicPr/>
          <p:nvPr/>
        </p:nvPicPr>
        <p:blipFill>
          <a:blip r:embed="rId1"/>
          <a:stretch/>
        </p:blipFill>
        <p:spPr>
          <a:xfrm>
            <a:off x="684360" y="1413000"/>
            <a:ext cx="3743280" cy="208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Picture 11" descr="Picture42"/>
          <p:cNvPicPr/>
          <p:nvPr/>
        </p:nvPicPr>
        <p:blipFill>
          <a:blip r:embed="rId2"/>
          <a:stretch/>
        </p:blipFill>
        <p:spPr>
          <a:xfrm>
            <a:off x="4788000" y="1413000"/>
            <a:ext cx="3744720" cy="225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3" descr="Picture44"/>
          <p:cNvPicPr/>
          <p:nvPr/>
        </p:nvPicPr>
        <p:blipFill>
          <a:blip r:embed="rId3"/>
          <a:stretch/>
        </p:blipFill>
        <p:spPr>
          <a:xfrm>
            <a:off x="4859280" y="4005360"/>
            <a:ext cx="369576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12" descr="Picture43"/>
          <p:cNvPicPr/>
          <p:nvPr/>
        </p:nvPicPr>
        <p:blipFill>
          <a:blip r:embed="rId4"/>
          <a:stretch/>
        </p:blipFill>
        <p:spPr>
          <a:xfrm>
            <a:off x="826920" y="3933720"/>
            <a:ext cx="3529080" cy="20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APD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 Caries Risk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ssessment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 Tool (CAT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4920" y="1054080"/>
          <a:ext cx="9109080" cy="5810400"/>
        </p:xfrm>
        <a:graphic>
          <a:graphicData uri="http://schemas.openxmlformats.org/drawingml/2006/table">
            <a:tbl>
              <a:tblPr/>
              <a:tblGrid>
                <a:gridCol w="360360"/>
                <a:gridCol w="1297080"/>
                <a:gridCol w="2303280"/>
                <a:gridCol w="1871640"/>
                <a:gridCol w="3276720"/>
              </a:tblGrid>
              <a:tr h="82548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es Risk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ate R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gh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rious teeth in past 24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amel demineralization (enamel caries “white- spot lesions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99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isible plaque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99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gingiv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io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eth in the past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enamel demineralization (enamel caries “white-spot lesion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ingiv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io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eth in the past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e than 1 ar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enamel demineralization (enamel caries “white- spot lesion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sible plaq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nterior (front) 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diographic enamel c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High titers of mutans strept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aring dental or orthodontic appli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namel hypopl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APD Caries Risk Assessment Tool (CAT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395280"/>
                <a:gridCol w="1728720"/>
                <a:gridCol w="1943280"/>
                <a:gridCol w="2592360"/>
                <a:gridCol w="2484360"/>
              </a:tblGrid>
              <a:tr h="61596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es Risk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ate R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gh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viron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opical fluoride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sumption of </a:t>
                      </a: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imple sugar or foods strongly associated with caries initiation primarily at meal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Reg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of dental care in the established dental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optimal systemic fluoride exposure with optimal topical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ccasional between meal exposures to simple sugar or foods strongly associated with c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id-level caregiver socioeconomic status (i.e., eligibl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مؤه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chool lunch progr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Irregula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f dental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optimal topic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luoride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equent (i.e., 3 or more) between-meal exposur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simple sugars or foods associated strongly with c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-level caregiver socioeconomic stat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i.e, eligible for Medica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مساعدة طبي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usual sour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dent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tive caries present in the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APD Caries Risk Assessment Tool (CAT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916280"/>
          <a:ext cx="9144000" cy="3238200"/>
        </p:xfrm>
        <a:graphic>
          <a:graphicData uri="http://schemas.openxmlformats.org/drawingml/2006/table">
            <a:tbl>
              <a:tblPr/>
              <a:tblGrid>
                <a:gridCol w="507960"/>
                <a:gridCol w="2479680"/>
                <a:gridCol w="1008000"/>
                <a:gridCol w="1602000"/>
                <a:gridCol w="3546360"/>
              </a:tblGrid>
              <a:tr h="103608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ies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sk indicato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ate R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gh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5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neral Health Cond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with special health care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ditions impairing saliva composition/f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ticipatory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7020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s section addresses the following top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44640"/>
            <a:ext cx="64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ory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قع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Risk for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itol for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ribu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ary and Feed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 brush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paste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Oral Hygiene: Flo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0" descr="Picture-Guidance"/>
          <p:cNvPicPr/>
          <p:nvPr/>
        </p:nvPicPr>
        <p:blipFill>
          <a:blip r:embed="rId1"/>
          <a:stretch/>
        </p:blipFill>
        <p:spPr>
          <a:xfrm>
            <a:off x="5364000" y="2060640"/>
            <a:ext cx="3564000" cy="259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 Unicode MS"/>
              </a:rPr>
              <a:t>Minimize Risk for 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940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ddress active oral health disease in mother/careg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ducate mother/caregiver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echanism of cariogenic bacteria trans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other/caregiver should model positive oral hygiene behaviors for their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ecommend xylitol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w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um to mothers/careg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Picture45"/>
          <p:cNvPicPr/>
          <p:nvPr/>
        </p:nvPicPr>
        <p:blipFill>
          <a:blip r:embed="rId1"/>
          <a:stretch/>
        </p:blipFill>
        <p:spPr>
          <a:xfrm>
            <a:off x="6012000" y="1784520"/>
            <a:ext cx="313200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ticipatory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50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risk of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oral hygi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ietary sug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existing dental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fluorides judiciously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بتعق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Picture46"/>
          <p:cNvPicPr/>
          <p:nvPr/>
        </p:nvPicPr>
        <p:blipFill>
          <a:blip r:embed="rId1"/>
          <a:stretch/>
        </p:blipFill>
        <p:spPr>
          <a:xfrm>
            <a:off x="5292720" y="2205000"/>
            <a:ext cx="3708360" cy="331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 of the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 the of lecture the students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arly Signs of Decay: White Spots and Brown S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dvanced/Sever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methods to minimize Risk for oral 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ietary and Feeding Habits that lead to dental c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how to educate mothers for Tooth brush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l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merican Academy of Pediatric Dentistry (AAPD) Caries Risk Assessment Tool (C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Recommended Fluor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s of Fluo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Xylitol for Moth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5724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ylitol gum or mints used 4 times a day may prevent transmission of cariogenic bacteria to inf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s reduce the developm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dental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“sugar” that bacteria can’t use eas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sts fermentation by mouth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s plaque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s salivary flow to aid in the repair of damaged tooth enam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Picture46"/>
          <p:cNvPicPr/>
          <p:nvPr/>
        </p:nvPicPr>
        <p:blipFill>
          <a:blip r:embed="rId1"/>
          <a:stretch/>
        </p:blipFill>
        <p:spPr>
          <a:xfrm>
            <a:off x="5808600" y="2133720"/>
            <a:ext cx="3335400" cy="33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Substrate: Contributing Dietary and Feed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8672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requent consumption of carbohydrates, especially sippy cups/bottles with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Unicode MS"/>
              </a:rPr>
              <a:t>fruit ju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 soft drinks,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Unicode MS"/>
              </a:rPr>
              <a:t>powdered sweetened drink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formula, or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Unicode MS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icky foods like raisi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زبي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/fruit leathe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roll-up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لفة  مثل قمر الدي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, hard candies , and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wy vita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s at bedtime or nap time not containin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ping pacifier in sugary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Picture47"/>
          <p:cNvPicPr/>
          <p:nvPr/>
        </p:nvPicPr>
        <p:blipFill>
          <a:blip r:embed="rId1"/>
          <a:stretch/>
        </p:blipFill>
        <p:spPr>
          <a:xfrm>
            <a:off x="5867280" y="1052640"/>
            <a:ext cx="3097440" cy="273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Picture48"/>
          <p:cNvPicPr/>
          <p:nvPr/>
        </p:nvPicPr>
        <p:blipFill>
          <a:blip r:embed="rId2"/>
          <a:stretch/>
        </p:blipFill>
        <p:spPr>
          <a:xfrm>
            <a:off x="5364000" y="4386240"/>
            <a:ext cx="3780000" cy="204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 Unicode MS"/>
              </a:rPr>
              <a:t>Substrate: Contributing Dietary and Feeding Habits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 bottle is given at nap time or bedtime, </a:t>
            </a:r>
            <a:r>
              <a:rPr b="0" lang="en-US" sz="2900" spc="-1" strike="noStrike">
                <a:solidFill>
                  <a:srgbClr val="ff5050"/>
                </a:solidFill>
                <a:latin typeface="Arial Unicode MS"/>
                <a:ea typeface="Arial Unicode MS"/>
              </a:rPr>
              <a:t>parents should use a cloth to wipe the baby’s mouth prior to lying the infant down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e to the decreased salivary flow, any food or drink that is in the baby’s mouth during sleeping periods stays there for many hours and promotes the caries proces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 Unicode MS"/>
              </a:rPr>
              <a:t>Substrate: Contributing Dietary and Feeding Habits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cause there is an increased risk for the development of caries for children who sleep with bottles containing liquid with natural or added sugars, and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cause children who drink bottles while lying down may be more prone to getting ear infections, the AAP suggests that children not be put to bed with bottl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 Unicode MS"/>
              </a:rPr>
              <a:t>Substrate: Contributing Dietary and Feeding Habits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ents should also be reminded that pacifiers should not be dipped in sweet liquid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addition, 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cause bacteria are transmitted through the saliva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Arial Unicode MS"/>
                <a:ea typeface="Times New Roman"/>
              </a:rPr>
              <a:t>pre-tasting,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-chewing, and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Arial Unicode MS"/>
                <a:ea typeface="Times New Roman"/>
              </a:rPr>
              <a:t>sharing of utensils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hould be avoid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  <a:ea typeface="Arial Unicode MS"/>
              </a:rPr>
              <a:t>Tooth brushing Recommenda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836640"/>
          <a:ext cx="9144000" cy="609768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814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Tooth brushing Recommendations  (CDC, 2001)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&lt; 1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 Clean teeth with soft toothbru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 Parent performs brus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Pea-sized amount of fluoride-   containing toothpaste or gel 2x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Parent performs or supervis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&gt; 6 yea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 Brush with fluoridated toothpaste 2x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Toothpaste and Childre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79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ingest substantial amounts of toothpaste because of immature swallowing ref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use of fluoride toothpaste may be associated with increased risk of fluoro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permanent teeth have mineralized (around 6-8 years of age), dental fluorosis is no longer a 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Picture52"/>
          <p:cNvPicPr/>
          <p:nvPr/>
        </p:nvPicPr>
        <p:blipFill>
          <a:blip r:embed="rId1"/>
          <a:stretch/>
        </p:blipFill>
        <p:spPr>
          <a:xfrm>
            <a:off x="5796000" y="2492280"/>
            <a:ext cx="3348000" cy="247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oothpa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ea-sized amount of toothpaste weighs 0.4 mg to 0.6 mg fluoride, which is equal to the daily recommended intake for children younger than 2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Picture49"/>
          <p:cNvPicPr/>
          <p:nvPr/>
        </p:nvPicPr>
        <p:blipFill>
          <a:blip r:embed="rId1"/>
          <a:stretch/>
        </p:blipFill>
        <p:spPr>
          <a:xfrm>
            <a:off x="755640" y="3645000"/>
            <a:ext cx="7854840" cy="302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Optimizing Oral Hygiene: Floss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7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70c0"/>
                </a:solidFill>
                <a:uFillTx/>
                <a:latin typeface="Arial"/>
              </a:rPr>
              <a:t>When to Use Fl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ce a day (preferably at nigh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ever any 2 teeth to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ound 2 to 2 ½ years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children may only need a few back teeth flossed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 may need flossing between all their tight teeth, depending on the child’s dental spac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Picture54"/>
          <p:cNvPicPr/>
          <p:nvPr/>
        </p:nvPicPr>
        <p:blipFill>
          <a:blip r:embed="rId1"/>
          <a:stretch/>
        </p:blipFill>
        <p:spPr>
          <a:xfrm>
            <a:off x="5724360" y="1125360"/>
            <a:ext cx="3419640" cy="225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4" name="Picture 8" descr="Picture55"/>
          <p:cNvPicPr/>
          <p:nvPr/>
        </p:nvPicPr>
        <p:blipFill>
          <a:blip r:embed="rId2"/>
          <a:stretch/>
        </p:blipFill>
        <p:spPr>
          <a:xfrm>
            <a:off x="5724360" y="3716280"/>
            <a:ext cx="341964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reatment and Refer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5580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s section addresses the following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Fluorid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Flu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 Var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Fluoride Var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Existing Dental Deca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ing an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: Establishment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ؤسس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tal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System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Picture-Treatment-Red"/>
          <p:cNvPicPr/>
          <p:nvPr/>
        </p:nvPicPr>
        <p:blipFill>
          <a:blip r:embed="rId1"/>
          <a:stretch/>
        </p:blipFill>
        <p:spPr>
          <a:xfrm>
            <a:off x="5364000" y="1197000"/>
            <a:ext cx="36007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Physical: Oral Health Assess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6948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s section addresses the following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rimary Caregiver Scre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Oral Health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ing Child for Oral Ex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Teeth E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at to Look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Normal Healthy Tee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Early Signs of Decay: White Sp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Early Signs of Decay: Brown Sp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Advanced/Severe Dec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PD Caries Risk Assessment Tool (C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Picture-Physical-red"/>
          <p:cNvPicPr/>
          <p:nvPr/>
        </p:nvPicPr>
        <p:blipFill>
          <a:blip r:embed="rId1"/>
          <a:stretch/>
        </p:blipFill>
        <p:spPr>
          <a:xfrm>
            <a:off x="5867280" y="1628640"/>
            <a:ext cx="3276720" cy="208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commended Fluoride Supplemen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907920"/>
          <a:ext cx="8713800" cy="55706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  <a:gridCol w="2178000"/>
              </a:tblGrid>
              <a:tr h="64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uoride Concentration in Community Drinking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3 p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–0.6 p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–6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–3 y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s–6 y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yrs–16 y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xample of Fluo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Fluorosis                 Severe Flu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Picture52"/>
          <p:cNvPicPr/>
          <p:nvPr/>
        </p:nvPicPr>
        <p:blipFill>
          <a:blip r:embed="rId1"/>
          <a:stretch/>
        </p:blipFill>
        <p:spPr>
          <a:xfrm>
            <a:off x="4900680" y="1230480"/>
            <a:ext cx="353376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Picture51"/>
          <p:cNvPicPr/>
          <p:nvPr/>
        </p:nvPicPr>
        <p:blipFill>
          <a:blip r:embed="rId2"/>
          <a:stretch/>
        </p:blipFill>
        <p:spPr>
          <a:xfrm>
            <a:off x="747720" y="1193760"/>
            <a:ext cx="3457440" cy="21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luoride Varn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% sodium fluoride or 2.26% fluoride in a viscous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لز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nou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راتنجية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in an alcoholic suspension with flavoring agent (e.g., bubble gu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not been associated with fluor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does not replace the dental home nor is it equivalent to comprehensive dental c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Picture53"/>
          <p:cNvPicPr/>
          <p:nvPr/>
        </p:nvPicPr>
        <p:blipFill>
          <a:blip r:embed="rId1"/>
          <a:stretch/>
        </p:blipFill>
        <p:spPr>
          <a:xfrm>
            <a:off x="755640" y="4221000"/>
            <a:ext cx="7848720" cy="26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How to apply fluoride var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y all the teeth with a 2 x 2 gau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int fluoride varnish on all tooth su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 to Par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pplying Fluoride Varn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Picture54"/>
          <p:cNvPicPr/>
          <p:nvPr/>
        </p:nvPicPr>
        <p:blipFill>
          <a:blip r:embed="rId1"/>
          <a:stretch/>
        </p:blipFill>
        <p:spPr>
          <a:xfrm>
            <a:off x="539640" y="1600200"/>
            <a:ext cx="38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Picture55"/>
          <p:cNvPicPr/>
          <p:nvPr/>
        </p:nvPicPr>
        <p:blipFill>
          <a:blip r:embed="rId2"/>
          <a:stretch/>
        </p:blipFill>
        <p:spPr>
          <a:xfrm>
            <a:off x="4716360" y="1600200"/>
            <a:ext cx="388800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Picture56"/>
          <p:cNvPicPr/>
          <p:nvPr/>
        </p:nvPicPr>
        <p:blipFill>
          <a:blip r:embed="rId3"/>
          <a:stretch/>
        </p:blipFill>
        <p:spPr>
          <a:xfrm>
            <a:off x="539640" y="3938760"/>
            <a:ext cx="38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Picture57"/>
          <p:cNvPicPr/>
          <p:nvPr/>
        </p:nvPicPr>
        <p:blipFill>
          <a:blip r:embed="rId4"/>
          <a:stretch/>
        </p:blipFill>
        <p:spPr>
          <a:xfrm>
            <a:off x="4788000" y="3938760"/>
            <a:ext cx="3744720" cy="218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Remove Existing Dental Decay: </a:t>
            </a:r>
            <a:br>
              <a:rPr sz="3700"/>
            </a:b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Treating an Infe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e of the things that child health professionals do best is treat infe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wever, it is important to remember this is an active dental infection that must be tre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hild should be referred to a pediatric dentist or general dentist for appropriate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Remove Existing Dental Decay: 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reating an Infection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75280" y="1125360"/>
            <a:ext cx="4789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child in this photo has 4 severely decayed upper incisors. </a:t>
            </a:r>
            <a:r>
              <a:rPr b="0" lang="en-US" sz="2400" spc="-1" strike="noStrike">
                <a:solidFill>
                  <a:srgbClr val="0070c0"/>
                </a:solidFill>
                <a:latin typeface="Arial Unicode MS"/>
              </a:rPr>
              <a:t>Both central incisors are abscesse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 Note the parulus above each incisor. </a:t>
            </a:r>
            <a:r>
              <a:rPr b="0" lang="en-US" sz="2400" spc="-1" strike="noStrike">
                <a:solidFill>
                  <a:srgbClr val="0070c0"/>
                </a:solidFill>
                <a:latin typeface="Arial Unicode MS"/>
              </a:rPr>
              <a:t>The abscessed central incisors need to be extracted as soon as possible to avoid development of facial cellulitis with potential orbital involveme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 The lateral incisors may be salvageable with dental restorations or crowns depending on radiographic eval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Picture58-red"/>
          <p:cNvPicPr/>
          <p:nvPr/>
        </p:nvPicPr>
        <p:blipFill>
          <a:blip r:embed="rId1"/>
          <a:stretch/>
        </p:blipFill>
        <p:spPr>
          <a:xfrm>
            <a:off x="0" y="1989000"/>
            <a:ext cx="4211640" cy="31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Referral: Establishment of Dental Hom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hat is a dental ho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When to ref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 high-risk children by 6 mo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 all children </a:t>
            </a: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within 6 months after the first tooth erupts or by 1 year of age, whichever is earlie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Picture64"/>
          <p:cNvPicPr/>
          <p:nvPr/>
        </p:nvPicPr>
        <p:blipFill>
          <a:blip r:embed="rId1"/>
          <a:stretch/>
        </p:blipFill>
        <p:spPr>
          <a:xfrm>
            <a:off x="5724360" y="1265400"/>
            <a:ext cx="32403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munity Systems of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dentify dental care professionals in your community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 partnership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Picture65"/>
          <p:cNvPicPr/>
          <p:nvPr/>
        </p:nvPicPr>
        <p:blipFill>
          <a:blip r:embed="rId1"/>
          <a:stretch/>
        </p:blipFill>
        <p:spPr>
          <a:xfrm>
            <a:off x="2340000" y="3716280"/>
            <a:ext cx="4824360" cy="29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46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s section addresses the following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a Differen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Medical Education (CME)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Picture-Conclusion"/>
          <p:cNvPicPr/>
          <p:nvPr/>
        </p:nvPicPr>
        <p:blipFill>
          <a:blip r:embed="rId1"/>
          <a:stretch/>
        </p:blipFill>
        <p:spPr>
          <a:xfrm>
            <a:off x="4932360" y="2349360"/>
            <a:ext cx="4032360" cy="275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8" name="Rectangle 8"/>
          <p:cNvSpPr/>
          <p:nvPr/>
        </p:nvSpPr>
        <p:spPr>
          <a:xfrm>
            <a:off x="1476360" y="692280"/>
            <a:ext cx="37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Fluoride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 Unicode MS"/>
              </a:rPr>
              <a:t>Determine fluoride expo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systemic versus top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 Unicode MS"/>
              </a:rPr>
              <a:t>Fluorid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8% of tot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al level is 0.7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.2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gnificant state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DC fluoridati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icture23"/>
          <p:cNvPicPr/>
          <p:nvPr/>
        </p:nvPicPr>
        <p:blipFill>
          <a:blip r:embed="rId1"/>
          <a:stretch/>
        </p:blipFill>
        <p:spPr>
          <a:xfrm>
            <a:off x="5364000" y="2492280"/>
            <a:ext cx="349272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u Can Make a Difference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867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e oral health risk assessments into well-child vis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37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patient education regarding oral heal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ppropriate prevention interventions (e.g., feeding practices, hygien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 findings and follow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office staff in oral health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Picture66"/>
          <p:cNvPicPr/>
          <p:nvPr/>
        </p:nvPicPr>
        <p:blipFill>
          <a:blip r:embed="rId1"/>
          <a:stretch/>
        </p:blipFill>
        <p:spPr>
          <a:xfrm>
            <a:off x="6012000" y="1914480"/>
            <a:ext cx="280800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u Can Make a Difference!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dentists (pediatric/general)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your area who accept new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/Medicaid pati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 dentist to lunch to establish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ral relationship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e fluoride content in area water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Maternal/Primary Caregiver Screen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8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mother’s/caregiver’s oral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involved quadr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dental home if untreated oral health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084720" y="1914480"/>
            <a:ext cx="2784600" cy="389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Maternal/Primary Caregiver Screening/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hild health professionals may not be used to assessing maternal health issues, they routinely take a health history when assessing medical conditions that are heritable or transmi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Because cariogenic bacteria can be transmitted from primary caregiver to child, an oral health history provides an opportun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child health professional to better understand a child’s risk for early colonization and also prov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ucating the caregiver about caries preven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Maternal/Primary Caregiver Screening/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470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7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other’s/caregiver’s oral assessment does not need to involve a physical examination, but can be </a:t>
            </a:r>
            <a:r>
              <a:rPr b="0" lang="en-US" sz="3300" spc="-1" strike="noStrike">
                <a:solidFill>
                  <a:srgbClr val="333399"/>
                </a:solidFill>
                <a:latin typeface="Arial"/>
                <a:ea typeface="Times New Roman"/>
              </a:rPr>
              <a:t>done</a:t>
            </a:r>
            <a:r>
              <a:rPr b="0" lang="en-US" sz="3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by asking key questions such a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are your teeth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you had a lot of cavities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 you have a regular dentist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en was your last visit to the dentist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you ever had a tooth filled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you had a lot of dental work don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Teeth Eru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Picture25-red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496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to Look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6048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ft the lip to inspect soft tissue and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sess f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laq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br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teeth (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ral hygie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ite sp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ntal dec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ooth defec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nam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nt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row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vide education 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rush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the appropriate-sized toothbr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et during exami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987640" cy="33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20:14:35Z</dcterms:created>
  <dc:creator>Mastour</dc:creator>
  <dc:description/>
  <dc:language>en-US</dc:language>
  <cp:lastModifiedBy>ksu</cp:lastModifiedBy>
  <dcterms:modified xsi:type="dcterms:W3CDTF">2012-09-25T04:34:48Z</dcterms:modified>
  <cp:revision>383</cp:revision>
  <dc:subject/>
  <dc:title>CHS 483</dc:title>
</cp:coreProperties>
</file>