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7827-5206-446B-BD3F-659EC45143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Heading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---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عناوين-مؤسسة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nstitution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c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ار العجز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: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tribu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جرا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 عدا ذل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emaker: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منظم القل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force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تقرير لجنة عم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زام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Evaluation by Professional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rganizations (PSRO).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ظمات مراجعة المعايير المه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matter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أمو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,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ؤسسا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i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وكالات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The possibilities: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الامكانيات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ط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t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ه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Perhap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ربم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Reared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بى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ook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جهة نظر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disapprov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فض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motional: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غاط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i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كيان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D7A-5844-4CD2-83C0-D96DAAD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F2E-005C-47F5-A2FC-07672F01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072-182B-4F0F-8DD1-DA61394C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418-EDF3-4C09-BF62-2A93EE02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74C-FAAC-4B5C-8399-AC7EBE68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DD11-168F-4F1B-81B5-C27D5F6A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8BAC-3802-43F6-9DF3-A532D0E6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6065-9A3B-4FD5-99E9-8878B0F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3B62-75D8-4848-B0A9-2D0E58C6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26D-5A77-4E2B-B764-70A9C7C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F517-6463-4838-A745-97BAF8C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BFF-E279-4498-B14E-D73B841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D49-0D47-4EC2-86D1-9D2EB08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02C8-AE5F-4419-BF86-293AA81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C19-D95F-4C4F-9019-475F4F3B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1FBD-ED36-4C09-830B-93A6BC19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220F-12F2-4667-9CD5-FE4F8F9B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F56-6B01-4162-B07E-934E4919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2D1-9F6B-4177-848B-53EB4F57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AD5-A50C-4F4B-83BF-EFF81D3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6DC-F01E-4F58-B84D-696B42AA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8EB-97E5-4CCD-8441-64B7A94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2EB-7055-4A1B-8F3B-F0BBFFD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BBC-93B6-4B94-8515-6356AE9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CD66-4129-4D17-BFD4-4ABB9F2A7F72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5CE-5D5E-4DD5-8633-B8558B68B11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Consumer Health Education CHS 488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cture 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 Dr Ebtisam Fetoh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mester 1-2012-1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21844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discussed under 6 headings according to the type of institution or primary audienc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atient 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hoo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ccupational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unity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iona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med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Content Placeholder 3" descr="Untitled.jpg"/>
          <p:cNvPicPr/>
          <p:nvPr/>
        </p:nvPicPr>
        <p:blipFill>
          <a:blip r:embed="rId1"/>
          <a:srcRect l="0" t="0" r="836" b="31626"/>
          <a:stretch/>
        </p:blipFill>
        <p:spPr>
          <a:xfrm>
            <a:off x="0" y="1125360"/>
            <a:ext cx="9144000" cy="5727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atient E programs are aimed at people with specific disease or health problem. Patient E. exist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Hospital as well 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2.H. maintenance organizations (HM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3.Group or single medical practice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4.Nursing hom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5.Hospices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دور العجزة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6.Mental H. institu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me Health Agencies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8.Community or neighborhood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حي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ealth center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MCj02396570000[1]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ently, programs of planned patients (as consumers) education have been recognized by health care personnel and the public as being an integral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كم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of health care delivery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Various key elements Including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islative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تشريع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dvent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وصو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 audiovisual technology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ising health care costs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ave contributed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ساهم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development of patient education programs in hospit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atient E. may be organize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Informally on a one to one basis (doctor or nurse to patient)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As a planned group education programs in a hospital or other health fac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-Patient educa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1)The one to one instruc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ccurs most often in an informal manner when during physical examination or in a doctor private office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hysician or nurse impart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يمنح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patient information abou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diseas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s treat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ethods of taking prescribed medic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most cases this type of educational intervention is not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ned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, and followed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d matter or communication at a later date by a health educator, nurse or receptionist. At best it is a hit-or-mess     affair.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قضية الفوضى أوالضربة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exceptions to this approach exist. A few physicians (particularly those in group practice) have a H. educator on staff or designat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رشح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 HE as a physician and/or nurse func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is approach includes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materials specific to disease    entity,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كيا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dication,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l condition,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llow up programs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Ensure adherence to a specific regimen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Provide answers to questions that may otherwise go unanswer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1332360" y="1052280"/>
            <a:ext cx="10225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2)Most organized patient E programs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found in hospital sett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se programs aren't widespread, 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receiving a great deal of public and professional atten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common programs developed for adult inpati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Organized programs for Adult inpatients  offered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148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bet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tr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nat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tom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rt attack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mastectomy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51280" y="1557360"/>
            <a:ext cx="5292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ostnatal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reoperativ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pirato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stoperativ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roke, an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cemaker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are welcomed in the Consumer Health Education cour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wish to you happy semes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STRUCTOR’S EXPECT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BILES OF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ttendance and punctua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دقة المواعي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icip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itm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ect of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othe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date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استحقاق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ose hospitals that do hav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rmal patient E, the programs are usually of the following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s for diabetes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ardia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atient , or other serious chronic diseases or disabilitie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ectant parent’s class;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operative instru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075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n these areas where there is a large patient population, and often classes can be given on a daily basis by H. educators or nurs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se courses aren't mandatory and are usually taken by the patient on referral from his doctor or the nurse-educator on the floor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general,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patient E programs lack defined: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) Goals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)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Methodologies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1.Evaluating the programs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.Teaching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3.Financ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development of “disease-specific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linically tested, teaching and evaluation protocols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اتفاقيات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re deemed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يعتبر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ssential fo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ird-party reimbursement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عويض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pati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-Accreditation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تفويض-الاعتما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and/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Evaluation by Professional Stand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rganizations (PSRO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of working in Health Care Set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ly varied job responsibili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d credibility due to health care conn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community profil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لمحة حيا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vers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تنوع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wages and benefi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job satisfa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 of working in Health Care Sett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may have a low prio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s are hard to com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صعبة الحصول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M.D.s have little respect for health edu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The school setting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mportance of including health instruction in education curricula has been recognized since the early 1900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n 1997, the Institute of Medicine advised that students should receive the health-related education and services necessary for them t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rive maximum benefit from their education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 them to become healthy, productive adul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embrac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يعتن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as a val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provided with th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nowledg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skills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mpowermen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eded to choose and maintain healthful personal behavi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a life time learner, students be able t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obtai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valuate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us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w information for future health-related deci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Untitled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90720"/>
            <a:ext cx="81374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. It’s now recognized for its value 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nging the health behaviors of young people as well 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ordinating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نسي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any different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rvic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rogram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onding to the health needs of children and you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lth education (HE) is “the necessary link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الحلقة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evolution of health services”.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تطور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is link is not a single entity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كيان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ut a composite of h. related information includ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disease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ease preven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ients’ right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community and national laws in reference to health matters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. It helps to change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only the health behaviors of individuals but als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nvironments in which students and educators live, learn and w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olici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gram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rvic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ctivitie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are delivered within this comprehensive framework are the responsibility of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ng peopl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ent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and social services professional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ducator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titution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gencies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vernmen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t is one of the most neglected areas of H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ossibilities are enormous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-In the number of students who could be reached by H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-Programs and benefits that could be attained in the present and in the fu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For e.g., early disease prevention oriented H E programs could decrease the risk factors associated with heart disease before the disease has a chance to take pl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RULES OF GOOD HEALTH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full bath more than once a we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ush teeth at least once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long hours with windows op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s much milk as possible, but no coffee or t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some vegetables or fruit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t least 4 glasses of water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y part of every day outdo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ve a bowel movement every morn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 :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rehend concepts related to health promotion &amp; disease preven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ccess valid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صحيح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information and health- promoting products and servi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ability to practice health- enhancing behaviors and reduce health ris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/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alyze the influence of culture, media, technology and other factors on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personal communica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kills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goal-setting and decision-making skil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dvocate for personal, family and community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ordinated school health pro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oordinated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نسق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health program brings together (integrates) various aspects of a school district to best impact the health of the students, staff, administration, and the community as a whole. 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t includes the coordination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od services, nursing services, school counsel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instr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ysical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t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ff well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o’s Teaching 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chool health a prior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qualifications of the health educ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job opportunities for school health educator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j0217698"/>
          <p:cNvPicPr/>
          <p:nvPr/>
        </p:nvPicPr>
        <p:blipFill>
          <a:blip r:embed="rId1"/>
          <a:stretch/>
        </p:blipFill>
        <p:spPr>
          <a:xfrm>
            <a:off x="3924360" y="4724280"/>
            <a:ext cx="1747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/disadvantages of teaching school health education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62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ing with young people during these developmental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vent harmful behaviors from forming rather than working with people who have already formed bad hab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pact all students because it is a required course for all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duate degree is not needed for entry-level employ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od job security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أمن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er months are f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nefits are go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: School Health Educat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hours on the job, including many weekends and even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status when compared with math. English,  and science teach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pay when compared with other professionals in other fields, but comparable with that of other health educators in other fiel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iplin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نضباط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s with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sure to get a master’s deg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fficulties with parents and administration when controversial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جدل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jects are taught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A host of other factors that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difference between health and sicknes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 order to appreciate the concept of public HE as it is defined here, one must first accept the definition of health as much more than the absence of dise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chool HE is considered as a part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little importanc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ysical educ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 economic depart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e curriculum is frequen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appropriate to today’s stud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ree major problems in school H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tradition of low visib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ؤي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prior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narrow definition of appropriate content and -Jurisdiction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دي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–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w adequately trained health educator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t is important for improvement of SHE to do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trai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lot and demonstration projec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ts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نح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eneralized and local agencies for the development of comprehensive elementary and secondary school HE program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re is an immediate need of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curric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Personnel develop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the impact of HE on the future population could be appreciated. Then health education become as integral part of curriculum as math and scien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niversity Wellness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culty &amp; Staff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oup or personal Disease Present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t the conclusion of your presentation, prepare a quiz with five questions relating to your topic (this may be included at the end of your presentation)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Don’t forget your table of contents and cover page!  It’s your job as a group or personal to present the top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ding Rubric! 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رشا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larity and Present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ontent Reliabil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Group Particip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Organiz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reativ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otal Scor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_____ 10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19440" y="311148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The WHO constitution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دستور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begins with the following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definition of health: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health is a state of complete physical, mental, societal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حضارية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environmental), emotional, spiritual and social well-being and not merely absence of disease or infirmity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الوهن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’s definition of health is vital for acceptance of consumer HE as a necessary component of health care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umer HE programs are concerned with taking into consideration the “whole” pers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f a patient isn't cooperating in taking his/her medication, for e.g. the physician or H. educator should conside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ther the patient clearly understands the reasons for taking medication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the patient ”thinks” about a specific medication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what he/she been told by others perhaps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What patient’s outlook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جهة نظر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on medication in general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he/she may have been reared in a cultu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at disapproves of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ll med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ggested action in this e.g. may be obvious, but the  e.g. stress the importance of considering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mental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et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motional,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piritu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ocesses in all aspects of health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 variety of entities seek to inform the public about h. matters. HE is discussed under the six primary categories of the Consume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programs mentioned in the following reach the majority of consumer of health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5:58:17Z</dcterms:created>
  <dc:creator>Mastour</dc:creator>
  <dc:description/>
  <dc:language>en-US</dc:language>
  <cp:lastModifiedBy>Mastour</cp:lastModifiedBy>
  <dcterms:modified xsi:type="dcterms:W3CDTF">2012-09-14T18:09:58Z</dcterms:modified>
  <cp:revision>393</cp:revision>
  <dc:subject/>
  <dc:title>CHS 488  </dc:title>
</cp:coreProperties>
</file>