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4B0F-B34A-43FC-8802-1FF72C930C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Heading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---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عناوين-مؤسسة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institution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c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دار العجز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: :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contribu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جراء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ا عدا ذل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emaker: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منظم القل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force 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تقرير لجنة عم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dator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زام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Evaluation by Professional Stand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rganizations (PSRO).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ظمات مراجعة المعايير المه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matter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أمو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,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ؤسسا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ncies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وكالات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The possibilities: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الامكانيات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: 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منطق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irmity: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وه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Perhap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ربم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Reared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بى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ook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وجهة نظر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disapprov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ترفض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motional: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غاطف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Entities: </a:t>
            </a:r>
            <a:r>
              <a:rPr b="0" lang="ar-SA" sz="1200" spc="-1" strike="noStrike">
                <a:solidFill>
                  <a:srgbClr val="009999"/>
                </a:solidFill>
                <a:latin typeface="Arial"/>
              </a:rPr>
              <a:t>كيان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FF7-985E-435A-B7F3-8A873CA2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9D8-352A-4FE6-A2D4-84C29897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C0E-A8B1-40A2-988E-010DF11AC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321-1FC9-485A-A6A8-0F628306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50C1-EEDE-41D1-B311-DD740325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AB1-08BA-4D2A-A343-81A8AFF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C79-388E-4253-B1B9-7900CF3F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B39B-2380-40D9-A5F0-6D483663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737EE-4F9A-44BF-8334-19CA892C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7990-7493-46BA-BB3D-62B8227F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97D8-AFA3-42FE-9A22-75B18830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CFA-A4A3-4560-BA48-A9897871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A84-4933-48E4-9819-43CFE96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E0F32-9A7D-4511-A157-41FC8C8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94EC-3619-4112-9C52-8EC12451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2FE9-CDB6-4DE2-88F1-3570FAC3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B767-73BB-4378-BEE6-F5839748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932-ABC9-4357-90B3-CBC28F94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2BD-CEF3-40BC-89BC-3FF614AC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86D-1587-49A0-82CA-5AEB2718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D73-C364-445A-8380-2FA8F525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BBA-8B5D-45C5-AC18-C6AA3B5C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0FB-5D7F-43D0-A1CF-8E5CF44F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BBF-9FA4-47CC-B7B1-44E6E3D1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EEBD-63BD-4AAE-A1A6-1E76A64D6BDD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3CF2-BFD7-4790-AD2F-DF778E9B5E7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Consumer Health Education CHS 488 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cture 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 Dr Ebtisam Fetoh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mester 1-2012-1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981000"/>
            <a:ext cx="8218440" cy="616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discussed under 6 headings according to the type of institution or primary audienc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atient 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choo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Occupational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Community H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National HE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6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The media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assification Consumer HE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1" name="Content Placeholder 3" descr="Untitled.jpg"/>
          <p:cNvPicPr/>
          <p:nvPr/>
        </p:nvPicPr>
        <p:blipFill>
          <a:blip r:embed="rId1"/>
          <a:srcRect l="0" t="0" r="836" b="31626"/>
          <a:stretch/>
        </p:blipFill>
        <p:spPr>
          <a:xfrm>
            <a:off x="0" y="1125360"/>
            <a:ext cx="9144000" cy="5727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atient E programs are aimed at people with specific disease or health problem. Patient E. exists in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1.Hospital as well a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2.H. maintenance organizations (HMO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3.Group or single medical practice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4.Nursing hom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5.Hospices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دور العجزة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6.Mental H. institu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7.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me Health Agencies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8.Community or neighborhood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الحي</a:t>
            </a:r>
            <a:r>
              <a:rPr b="0" lang="ar-SA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health center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6" descr="MCj02396570000[1]"/>
          <p:cNvPicPr/>
          <p:nvPr/>
        </p:nvPicPr>
        <p:blipFill>
          <a:blip r:embed="rId1"/>
          <a:stretch/>
        </p:blipFill>
        <p:spPr>
          <a:xfrm>
            <a:off x="5796000" y="3068640"/>
            <a:ext cx="3348000" cy="23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cently, programs of planned patients (as consumers) education have been recognized by health care personnel and the public as being an integral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كم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 of health care delivery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Various key elements Including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egislative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تشريع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advent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وصول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f audiovisual technology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ising health care costs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ave contributed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ساهم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development of patient education programs in hospital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atient E. may be organized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Informally on a one to one basis (doctor or nurse to patient)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As a planned group education programs in a hospital or other health fac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-Patient educa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1)The one to one instruction: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ccurs most often in an informal manner when during physical examination or in a doctor private office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hysician or nurse impart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يمنح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o the patient information about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disease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s treat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ethods of taking prescribed medic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most cases this type of educational intervention is not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ned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, and followed b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nted matter or communication at a later date by a health educator, nurse or receptionist. At best it is a hit-or-mess     affair.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قضية الفوضى أوالضربة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me exceptions to this approach exist. A few physicians (particularly those in group practice) have a H. educator on staff or designat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رشح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rganized HE as a physician and/or nurse func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53352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is approach includes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ritten materials specific to disease    entity,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كيا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edication,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eneral condition,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llow up programs to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.Ensure adherence to a specific regimen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.Provide answers to questions that may otherwise go unanswere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1332360" y="1052280"/>
            <a:ext cx="10225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2)Most organized patient E programs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n be found in hospital setting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se programs aren't widespread, Bu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Verdana"/>
              <a:buChar char="•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y are receiving a great deal of public and professional atten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algn="just"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st common programs developed for adult inpati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1730520" indent="0" algn="just">
              <a:buNone/>
              <a:tabLst>
                <a:tab algn="l" pos="0"/>
                <a:tab algn="l" pos="8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Organized programs for Adult inpatients  offered</a:t>
            </a:r>
            <a:r>
              <a:rPr b="0" lang="en-US" sz="3200" spc="-1" strike="noStrike">
                <a:solidFill>
                  <a:srgbClr val="eec85e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14836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bet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tritio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natal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stom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rt attack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17188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mastectomy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51280" y="1557360"/>
            <a:ext cx="5292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rtl="1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ostnatal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,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preoperativ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9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spirator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stoperative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1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roke, and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0" rtl="1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cemaker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You are welcomed in the Consumer Health Education cour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 wish to you happy semest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STRUCTOR’S EXPECTATION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BILES OFF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ttendance and punctua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دقة المواعي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ticip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mitm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ect of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other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dates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استحقاق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 those hospitals that do hav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formal patient E, the programs are usually of the following typ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grams for diabetes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ardiac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atient , or other serious chronic diseases or disabilities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ectant parent’s class; a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-536040" algn="just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operative instructio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536040" indent="0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075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n these areas where there is a large patient population, and often classes can be given on a daily basis by H. educators or nurse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ese courses aren't mandatory and are usually taken by the patient on referral from his doctor or the nurse-educator on the floor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In general,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patient E programs lack defined: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a) Goals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)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Methodologies</a:t>
            </a:r>
            <a:r>
              <a:rPr b="0" lang="en-US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r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1.Evaluating the programs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2.Teaching and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3.Financ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atient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development of “disease-specific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linically tested, teaching and evaluation protocols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اتفاقيات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“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re deemed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يعتبر</a:t>
            </a:r>
            <a:r>
              <a:rPr b="0" lang="ar-SA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ssential for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ird-party reimbursement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عويض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patient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2-Accreditation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تفويض-الاعتماد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and/ 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-Evaluation by Professional Standard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rganizations (PSRO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dvantages of working in Health Care Sett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ly varied job responsibili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reased credibility due to health care conn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 community profil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لمحة حيا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vers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تنوع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ou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wages and benefi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job satisfa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 of working in Health Care Sett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may have a low prior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Jobs are hard to com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صعبة الحصول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ng hou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M.D.s have little respect for health edu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The school setting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importance of including health instruction in education curricula has been recognized since the early 1900s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n 1997, the Institute of Medicine advised that students should receive the health-related education and services necessary for them to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rive maximum benefit from their education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 them to become healthy, productive adul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embrace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يعتن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as a val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y are provided with th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knowledg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skills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empowermen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eded to choose and maintain healthful personal behavi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a life time learner, students be able to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obtai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valuate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us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new information for future health-related decis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Content Placeholder 3" descr="Untitled.jpg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90720"/>
            <a:ext cx="81374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1. It’s now recognized for its value i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anging the health behaviors of young people as well a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ordinating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تنسيق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many different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ervice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programs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sponding to the health needs of children and you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Health education (HE) is “the necessary link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الحلقة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n evolution of health services”.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تطور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is link is not a single entity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كيان</a:t>
            </a:r>
            <a:r>
              <a:rPr b="0" lang="ar-SA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but a composite of h. related information including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disease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ease preven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cation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tients’ right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ledge of community and national laws in reference to health matters, 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496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2. It helps to change: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only the health behaviors of individuals but als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environments in which students and educators live, learn and work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olici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program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service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ctivities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at are delivered within this comprehensive framework are the responsibility of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ng people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ent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and social services professional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ducators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titutions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gencies an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vernment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7993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It is one of the most neglected areas of HE:</a:t>
            </a:r>
            <a:br>
              <a:rPr sz="2800"/>
            </a:b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 possibilities are enormous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-In the number of students who could be reached by H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-Programs and benefits that could be attained in the present and in the fu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For e.g., early disease prevention oriented H E programs could decrease the risk factors associated with heart disease before the disease has a chance to take pla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RULES OF GOOD HEALTH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full bath more than once a wee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ush teeth at least once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long hours with windows ope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s much milk as possible, but no coffee or te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t some vegetables or fruit every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rink at least 4 glasses of water a da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y part of every day outdoo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ave a bowel movement every morning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 :</a:t>
            </a:r>
            <a:r>
              <a:rPr b="0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rehend concepts related to health promotion &amp; disease preven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ccess valid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الصحيحة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ealth education information and health- promoting products and servi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ability to practice health- enhancing behaviors and reduce health risk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oday’s Health Ed Standard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Students will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:/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alyze the influence of culture, media, technology and other factors on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interpersonal communica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skills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use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goal-setting and decision-making skil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to enhance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monstrate the ability to advocate for personal, family and community healt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ordinated school health progra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 coordinated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منسق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health program brings together (integrates) various aspects of a school district to best impact the health of the students, staff, administration, and the community as a whole.  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It includes the coordination of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od services, nursing services, school counsel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lth instruc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ysical edu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dministr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hool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mmunit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ff wellnes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o’s Teaching 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school health a priority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qualifications of the health educator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are the job opportunities for school health educators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j0217698"/>
          <p:cNvPicPr/>
          <p:nvPr/>
        </p:nvPicPr>
        <p:blipFill>
          <a:blip r:embed="rId1"/>
          <a:stretch/>
        </p:blipFill>
        <p:spPr>
          <a:xfrm>
            <a:off x="3924360" y="4724280"/>
            <a:ext cx="17478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/disadvantages of teaching school health education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962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orking with young people during these developmental yea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vent harmful behaviors from forming rather than working with people who have already formed bad habi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mpact all students because it is a required course for all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raduate degree is not needed for entry-level employ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ood job security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أمن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mmer months are f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nefits are goo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advantages: School Health Educator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 hours on the job, including many weekends and evening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status when compared with math. English,  and science teach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latively low pay when compared with other professionals in other fields, but comparable with that of other health educators in other fiel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scipline 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انضباط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blems with stude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sure to get a master’s degre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fficulties with parents and administration when controversial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جدلي</a:t>
            </a:r>
            <a:r>
              <a:rPr b="0" lang="ar-SA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bjects are taught.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6. A host of other factors that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ca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i="1" lang="en-US" sz="32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ke difference between health and sicknes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n order to appreciate the concept of public HE as it is defined here, one must first accept the definition of health as much more than the absence of diseas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6407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chool HE is considered as a part of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little importance of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ysical education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iolo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ome economic departm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Disadvantag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1-The curriculum is frequent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appropriate to today’s student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921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ree major problems in school HE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tradition of low visibility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رؤية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d priorit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narrow definition of appropriate content and -Jurisdiction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دي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–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ew adequately trained health educator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It is important for improvement of SHE to do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eacher training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lot and demonstration project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ts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منح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 generalized and local agencies for the development of comprehensive elementary and secondary school HE program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chool health education (SHE)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There is an immediate need of Both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. curriculum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Personnel development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f the impact of HE on the future population could be appreciated. Then health education become as integral part of curriculum as math and scienc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niversity Wellness Progra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culty &amp; Staff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udent Progra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oup or personal Disease Presentation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At the conclusion of your presentation, prepare a quiz with five questions relating to your topic (this may be included at the end of your presentation)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  <a:ea typeface="Times New Roman"/>
              </a:rPr>
              <a:t>Don’t forget your table of contents and cover page!  It’s your job as a group or personal to present the top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ading Rubric! </a:t>
            </a:r>
            <a:r>
              <a:rPr b="0" lang="ar-SA" sz="4400" spc="-1" strike="noStrike">
                <a:solidFill>
                  <a:srgbClr val="ffffcc"/>
                </a:solidFill>
                <a:latin typeface="Arial"/>
              </a:rPr>
              <a:t>ارشاد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larity and Present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Content Reliabil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Group Particip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Organiz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eaeaea"/>
                </a:solidFill>
                <a:uFillTx/>
                <a:latin typeface="Verdana"/>
                <a:ea typeface="Times New Roman"/>
              </a:rPr>
              <a:t>Creativity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       _____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Total Scor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  <a:ea typeface="Times New Roman"/>
              </a:rPr>
              <a:t>_____ 100</a:t>
            </a: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19440" y="3111480"/>
            <a:ext cx="1905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sumer health 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The WHO constitution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ar-SA" sz="3600" spc="-1" strike="noStrike">
                <a:solidFill>
                  <a:srgbClr val="eec85e"/>
                </a:solidFill>
                <a:latin typeface="Verdana"/>
              </a:rPr>
              <a:t>دستور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begins with the following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definition of health: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health is a state of complete physical, mental, societal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حضارية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(environmental), emotional, spiritual and social well-being and not merely absence of disease or infirmity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الوهن</a:t>
            </a:r>
            <a:r>
              <a:rPr b="0" lang="ar-SA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”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’s definition of health is vital for acceptance of consumer HE as a necessary component of health care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Consumer HE programs are concerned with taking into consideration the “whole” pers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c85e"/>
                </a:solidFill>
                <a:latin typeface="Verdana"/>
              </a:rPr>
              <a:t>If a patient isn't cooperating in taking his/her medication, for e.g. the physician or H. educator should consider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ther the patient clearly understands the reasons for taking medication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at the patient ”thinks” about a specific medication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what he/she been told by others perhaps)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3.What patient’s outlook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وجهة نظر</a:t>
            </a:r>
            <a:r>
              <a:rPr b="0" lang="ar-SA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s on medication in general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(he/she may have been reared in a cultu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at disapproves of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ll medication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uggested action in this e.g. may be obvious, but the  e.g. stress the importance of considering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physic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mental,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et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, emotional, </a:t>
            </a:r>
            <a:r>
              <a:rPr b="0" lang="en-US" sz="3200" spc="-1" strike="noStrike">
                <a:solidFill>
                  <a:srgbClr val="ffffcc"/>
                </a:solidFill>
                <a:latin typeface="Verdana"/>
              </a:rPr>
              <a:t>spiritu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nd </a:t>
            </a: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social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processes in all aspects of health c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nsumer health educ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A variety of entities seek to inform the public about h. matters. HE is discussed under the six primary categories of the Consumer H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The programs mentioned in the following reach the majority of consumer of health service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05:58:17Z</dcterms:created>
  <dc:creator>Mastour</dc:creator>
  <dc:description/>
  <dc:language>en-US</dc:language>
  <cp:lastModifiedBy>Mastour</cp:lastModifiedBy>
  <dcterms:modified xsi:type="dcterms:W3CDTF">2012-09-14T18:09:58Z</dcterms:modified>
  <cp:revision>393</cp:revision>
  <dc:subject/>
  <dc:title>CHS 488  </dc:title>
</cp:coreProperties>
</file>