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402300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5261040" y="66340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A077-0084-4EC9-9C28-9B6899C91B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3E3-5413-41DA-8C7A-2E93634704A1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Heading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---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عناوين-مؤسسة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nstitution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F2B-F150-4C0D-99C2-AE840FC4DEBF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c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ار العجز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E621-D1FD-4910-AC2F-81606A54D11D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: :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contribu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اجراء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025-6142-48A3-90F7-C4D1B10CAEA0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ا عدا ذل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086D-BF8C-44B7-8BFB-C0AEA5C4620D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emaker: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منظم القل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2A9-5EA0-425A-95BC-691E27319A25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force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تقرير لجنة عم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4FA9-3751-457C-B10A-6A1F0EEF5BB1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زام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DBD2-49BD-4CE4-8FDE-B04025EF8FFD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Evaluation by Professional Stand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rganizations (PSRO).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ظمات مراجعة المعايير المه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4F80-E36A-4B56-B84F-6AF49EDDF5B6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31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matter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أمو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E240-32E9-4384-9D62-4F93D4DB2C28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,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ؤسسا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i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وكالات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7F7E-C13F-4C4F-AD9D-CDE544C96177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The possibilities: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الامكانيات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2384-A10F-4E5E-A07E-CEBE05B31FA7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طق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C72E-E443-4A0C-8DCB-DAD5DF850142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t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ه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DAA1-1F7C-42DB-9543-5BC13118A5FC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Perhap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ربم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5E5B-EA0D-42BC-BDB2-5CF987B041ED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Reared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بى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ook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جهة نظر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disapprov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فض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motional: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غاطف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FB53-D32F-43DF-AC55-69B64A339B6E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titi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كيان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428-73BE-49D5-A510-B410C0EB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09E-5829-404A-978E-B2383977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EB9-0EA6-4F9B-A97A-5468C8B9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06B-E0C8-4958-B317-5AA67B90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F861-8A5F-4FA7-84CA-B2380B90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55E3-A3C1-4051-A877-6D7E22ED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7B98-F80C-435F-97D1-B6072026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2AFA-2BFB-4CDF-8D65-77F74368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FA01-2036-4C30-A704-C4D3DD9F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183-03B5-4AF0-94CA-3086201E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7D66-FC6F-4500-95A2-0983061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1C8-E9A5-4CEC-9985-3805D7C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1586-FD3F-451B-8F58-BEF14D58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A890-D091-4079-A334-94DE013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0822-A745-4FD7-8CF8-48B97C2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99D5-939A-4165-B40D-6A2B81F1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9A6B-8C65-4165-83F7-82D68944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C95-E467-42F1-9DEF-D0BFA67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892-DCC0-4FD0-B164-9BE6BF3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459-3B6E-4FFD-9BE7-85B6E1B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F0A-9612-4791-9016-BF1AF95A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33D-3A85-4790-874C-529D01C9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992-C2DC-435C-8069-14D5807A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1F0-CABC-44CA-AC21-4C5E448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3FD7-E951-41C9-B655-44B629E3B6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65E2-E84F-4452-BF8A-590A92520ACF}" type="slidenum">
              <a:rPr b="0" lang="ar-S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Consumer Health Education CHS 488 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cture 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 Dr Ebtisam Fetoh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mester 2/2011-20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218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discussed under 6 headings according to the type of institution or primary audienc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atient 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choo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ccupational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unity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ationa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med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Content Placeholder 3" descr="Untitled.jpg"/>
          <p:cNvPicPr/>
          <p:nvPr/>
        </p:nvPicPr>
        <p:blipFill>
          <a:blip r:embed="rId1"/>
          <a:srcRect l="0" t="0" r="845" b="31564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atient E programs are aimed at people with specific disease or health problem. Patient E. exists i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1.Hospital as well 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2.H. maintenance organization (HMO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3.Group or single medical practice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4.Nursing hom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5.Hospices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دور العجزة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6.Mental H. institu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7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me Health Agencies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8.Community or neighborhood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الحي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health center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6" descr="MCj02396570000[1]"/>
          <p:cNvPicPr/>
          <p:nvPr/>
        </p:nvPicPr>
        <p:blipFill>
          <a:blip r:embed="rId1"/>
          <a:stretch/>
        </p:blipFill>
        <p:spPr>
          <a:xfrm>
            <a:off x="5796000" y="3068640"/>
            <a:ext cx="334800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cently, programs of planned patients (as consumers) education have been recognized by health care personnel and the public as being an integral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كم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of health care delivery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Various key elements Including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gislative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تشريع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dvent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وصو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 audiovisual technology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ising health care costs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ave contributed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ساهم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development of patient education programs in hospit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atient E. may be organize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Informally on a one to one basis (doctor or nurse to patient)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As a planned group education programs in a hospital or other health fac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وسيلة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-Patient educatio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1)The one to one instruction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ccurs most often in an informal manner when during physical examination or in a doctor private office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hysician or nurse impart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يمنح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patient information about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diseas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s treat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ethods of taking prescribed medic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most cases this type of educational intervention is not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ned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, and followed b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nted matter or communication at a later date by a health educator, nurse or receptionist. At best it is a hit-or-mess     affair.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قضية الفوضى أوالضربة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me exceptions to this approach exist. A few physicians (particularly those in group practice) have a H. educator on staff or designat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رشح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 HE as a physician and/or nurse func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is approach includes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materials specific to disease    entity,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كيا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dication,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l condition,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llow up programs t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Ensure adherence to a specific regimen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Provide answers to questions that may otherwise go unanswer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1332360" y="1052280"/>
            <a:ext cx="1022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2)Most organized patient E programs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be found in hospital setting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se programs aren't widespread, B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receiving a great deal of public and professional atten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common programs developed for adult inpati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Organized programs for Adult inpatients  offered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923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bet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tri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nata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tom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heart attack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mastectomy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56000" y="1557360"/>
            <a:ext cx="4788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postnatal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preoperativ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pirator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toperativ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oke, an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acemaker edu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are welcomed in the Consumer Health Education cour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wish to you happy semes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STRUCTOR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 EXPECTA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BILES OF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ttendance and punctua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دقة المواعي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icip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mitm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ect of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ch othe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e dates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استحقاق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ose hospitals that do hav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rmal patient E, the programs are usually of the following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grams for diabetes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ardia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atient , or other serious chronic diseases or disabilitie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ectant pare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class;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operative instruc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075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n these areas where there is a large patient population, and often classes can be given on a daily basis by H. educators or nurse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se courses aren't mandatory and are usually taken by the patient on referral from his doctor or the nurse-educator on the floor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general,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patient E programs lack defined: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) Goals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)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Methodologies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r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1.Evaluating the programs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2.Teaching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3.Financ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development of 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disease-specific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linically tested, teaching and evaluation protocols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اتفاقيات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re deemed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يعتبر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ssential fo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ird-party reimbursement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عويض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pati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-Accreditation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تفويض-الاعتما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and/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Evaluation by Professional Standard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rganizations (PSRO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of working in Health Care Sett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ly varied job responsibili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ased credibility due to health care conn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community profil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لمحة حيا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vers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تنوع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wages and benefi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job satisfa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 of working in Health Care Sett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may have a low prior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s are hard to com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صعبة الحصول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M.D.s have little respect for health edu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The school setting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importance of including health instruction in education curricula has been recognized since the early 1900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n 1997, the Institute of Medicine advised that students should receive the health-related education and services necessary for them t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rive maximum benefit from their education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 them to become healthy, productive adul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embrac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يعتن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as a val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provided with th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nowledg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skills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mpowermen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eded to choose and maintain healthful personal behavi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 a life time learner, students be able t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obtai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valuate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us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w information for future health-related deci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Untitled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90720"/>
            <a:ext cx="81374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. I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 now recognized for its value i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anging the health behaviors of young people as well 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ordinating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نسي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any different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rvic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rogram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onding to the health needs of children and you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ealth education (HE) is </a:t>
            </a:r>
            <a:r>
              <a:rPr b="0" lang="en-US" sz="28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necessary link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الحلقة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evolution of health services</a:t>
            </a:r>
            <a:r>
              <a:rPr b="0" lang="en-US" sz="2800" spc="-1" strike="noStrike">
                <a:solidFill>
                  <a:srgbClr val="eec85e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.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تطور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is link is not a single entity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كيان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but a composite of h. related information including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disease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ease preven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ient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right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community, state and national laws in reference to health matters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9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. It helps to change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only the health behaviors of individuals but als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environments in which students and educators live, learn and work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olici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rogram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rvic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ctivities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are delivered within this comprehensive framework are the responsibility of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ng peopl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ent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and social services professional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ducator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titution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gencies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vernmen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99308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t is one of the most neglected areas of H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ossibilities are enormous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-In the number of students who could be reached by H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-Programs and benefits that could be attained in the present and in the fu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For e.g., early disease prevention oriented H E programs could decrease the risk factors associated with heart disease before the disease has a chance to take pl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RULES OF GOOD HEALTH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full bath more than once a we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ush teeth at least once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eep long hours with windows op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s much milk as possible, but no coffee or t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t some vegetables or fruit every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t least 4 glasses of water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y part of every day outdo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ve a bowel movement every morn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 :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rehend concepts related to health promotion &amp; disease preven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ccess valid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صحيح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information and health- promoting products and servi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ability to practice health- enhancing behaviors and reduce health risk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/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alyze the influence of culture, media, technology and other factors on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terpersonal communica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kills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goal-setting and decision-making skil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dvocate for personal, family and community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ordinated school health pro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coordinated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نسق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health program brings together (integrates) various aspects of a school district to best impact the health of the students, faculty, staff, administration, and the community as a whole. 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t includes the coordination of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od services, nursing services, school counsel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instru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ysical edu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minist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munit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aculty/staff welln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o’s Teaching 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chool health a priorit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qualifications of the health educat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job opportunities for school health educator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j0217698"/>
          <p:cNvPicPr/>
          <p:nvPr/>
        </p:nvPicPr>
        <p:blipFill>
          <a:blip r:embed="rId1"/>
          <a:stretch/>
        </p:blipFill>
        <p:spPr>
          <a:xfrm>
            <a:off x="3924360" y="479736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/disadvantages of teaching school health education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962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rking with young people during these developmental ye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vent harmful behaviors from forming rather than working with people who have already formed bad hab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pact all students because it is a required course for all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duate degree is not needed for entry-level employ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od job security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أمن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er months are f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nefits are go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: School Health Educat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hours on the job, including many weekends and evening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status when compared with math. English,  and science teach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pay when compared with other professionals in other fields, but comparable with that of other health educators in other fiel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ciplin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انضباط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s with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sure to get a maste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deg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fficulties with parents and administration when controversial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جدل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jects are taught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. A host of other factors that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difference between health and sicknes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 order to appreciate the concept of public HE as it is defined here, one must first accept the definition of health as much more than the absence of disea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chool HE is considered as a part o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little importanc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ysical educ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me economic departm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Dis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e curriculum is frequent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appropriate to toda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stud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ree major problems in school H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tradition of low visib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ؤية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prior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narrow definition of appropriate content and -Jurisdiction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دي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w adequately trained health educator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t is important for improvement of SHE to do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train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lot and demonstration projec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nts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نح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generalized and local agencies for the development of comprehensive elementary and secondary school HE program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re is an immediate need of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curriculu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Personnel develop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the impact of HE on the future population could be appreciated. Then health education become as integral part of curriculum as math and scien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niversity Wellness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culty &amp; Staff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" name="Picture 4" descr="j0217698"/>
          <p:cNvPicPr/>
          <p:nvPr/>
        </p:nvPicPr>
        <p:blipFill>
          <a:blip r:embed="rId1"/>
          <a:stretch/>
        </p:blipFill>
        <p:spPr>
          <a:xfrm>
            <a:off x="5148360" y="3733920"/>
            <a:ext cx="2376360" cy="1693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MCj02055640000[1]"/>
          <p:cNvPicPr/>
          <p:nvPr/>
        </p:nvPicPr>
        <p:blipFill>
          <a:blip r:embed="rId2"/>
          <a:stretch/>
        </p:blipFill>
        <p:spPr>
          <a:xfrm>
            <a:off x="1643040" y="3786120"/>
            <a:ext cx="177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oup or personal Disease Present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t the conclusion of your presentation, prepare a quiz with five questions relating to your topic (this may be included at the end of your presentation)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D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 forget your table of contents and cover page!  I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s your job as a group or personal to present the top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ding Rubric! </a:t>
            </a: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ارشاد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larity and Present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ontent Reliabil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Group Particip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Organiz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reativ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Total Scor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_____ 100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3619440" y="3111480"/>
            <a:ext cx="190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The WHO constitution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دستور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begins with the following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definition of health:</a:t>
            </a:r>
            <a:r>
              <a:rPr b="0" lang="en-US" sz="3600" spc="-1" strike="noStrike">
                <a:solidFill>
                  <a:srgbClr val="eec85e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health is a state of complete physical, mental, societal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حضارية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environmental), emotional, spiritual and social well-being and not merely absence of disease or infirmity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الوهن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definition of health is vital for acceptance of consumer HE as a necessary component of health care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umer HE programs are concerned with taking into consideration the 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whole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pers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f a patient isn't cooperating in taking his/her medication, for e.g. the physician or H. educator should consider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ther the patient clearly understands the reasons for taking medication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the patien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nk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bout a specific medication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what he/she been told by others perhaps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What patie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outlook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وجهة نظر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on medication in general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he/she may have been reared in a cultu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at disapproves of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ll medicati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uggested action in this e.g. may be obvious, but the  e.g. stress the importance of considering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hysic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mental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et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motional,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piritu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ocesses in all aspects of health c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 variety of entities seek to inform the public about h. matters. HE is discussed under the six primary categories of the Consume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programs mentioned in the following reach the majority of consumer of health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5:58:17Z</dcterms:created>
  <dc:creator>Mastour</dc:creator>
  <dc:description/>
  <dc:language>en-US</dc:language>
  <cp:lastModifiedBy>ksu</cp:lastModifiedBy>
  <dcterms:modified xsi:type="dcterms:W3CDTF">2012-02-25T09:07:44Z</dcterms:modified>
  <cp:revision>383</cp:revision>
  <dc:subject/>
  <dc:title>CHS 488  </dc:title>
</cp:coreProperties>
</file>