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2844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526104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402300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5261040" y="66340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108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9DA6-37C0-49C3-9DDA-FD4BEB5AB74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8F7B-534F-4936-BE7D-D59706729429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Headings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:--- 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عناوين-مؤسسة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institution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9E08-9E65-49E5-B899-9067A0B0853C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ces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دار العجز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3D15-AD8C-4F00-8BA5-84000614E846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: :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contribu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اجراء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D340-24C5-4E70-BDFF-530088E573CF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ما عدا ذل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771B-5621-4E63-A247-66E5876985B9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emaker: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منظم القل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295A-17F3-4E7D-A91B-372B7855950C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force rep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: تقرير لجنة عم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4B83-7667-49A1-80EB-A89E83D12750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datory: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زام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A131-D24E-4945-A8A8-950051BEB6D1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Evaluation by Professional Standa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rganizations (PSRO).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منظمات مراجعة المعايير المه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E831-E2F0-4C9A-B287-A764BCB76763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31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matters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أمو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DCF0-CBFB-42D7-947A-A5DC37E6F42D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,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ؤسسا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cies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وكالات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6587-F74F-42CD-ABD1-8E15168103C6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The possibilities:-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الامكانيات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241D-D3EE-4A81-805D-26DDC329214C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منطق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BF8B-B41E-4A9C-BE9E-742C6F36ABC7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rmity: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وه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A8F9-4D8A-4574-81FB-71DC787B528C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Perhaps: 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ربم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FC4E-97D7-48A8-BDE3-F95079C8DAE1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Reared: 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تربى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ook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وجهة نظر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disapproves: 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ترفض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emotional: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غاطف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1440" y="6634080"/>
            <a:ext cx="40230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7162-C202-4E65-9C82-28CE472A3EAA}" type="slidenum">
              <a:rPr b="0" lang="ar-S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8800" y="3317760"/>
            <a:ext cx="74260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Entities: 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كيان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71B-B31D-4A6F-8FEF-21A67A3D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56D-7151-433A-9C67-054BD09E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5EA-64F3-401C-A214-5968A3AC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A30-75DD-4219-93FD-D391FB70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EA0F-6011-4823-A447-33FAAB52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CC46-EAC4-4962-BAD2-7452D62D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02A5-FC91-48DA-9E34-0DC0A2DC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BE77-E6A9-4825-B82D-111A6ED4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A52B-CDC7-410F-A2BB-55E33C59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5740-A0FC-49FD-B4BF-32F150E7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CBC2-B5BE-48E0-AF90-41057EA2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575-4197-4B26-9393-0AF0F235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9FD4-0C67-4401-8FE6-6ED2319B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2389-8915-46BD-94F8-3CAB0404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46D2-A86B-4A8D-B64A-4FACFC1F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BA99-2567-4ACB-883A-85E28EFB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82DB-A0A2-461D-99CF-C0C04706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37CE-DB5A-45CE-9FA3-A432C7C2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9058-5CFF-4F47-9D88-E4BF63F1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6896-B52B-4C18-9396-3957FA64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5463-4162-459F-BABD-9676F653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18D-7BDF-492A-8F07-4409622F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E9F-0A83-4A50-9412-EDB7E2AB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A3E3-BCEA-465C-B5A9-94C9A2BF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19EA-7A0F-4B6E-9776-283B893BAF7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E3F7-EAC2-4FC8-8D9F-600DEFD8F851}" type="slidenum">
              <a:rPr b="0" lang="ar-S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Consumer Health Education CHS 488  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cture 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y Dr Ebtisam Fetoh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mester 2/2011-20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assification Consumer HE program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821844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ey are discussed under 6 headings according to the type of institution or primary audience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Patient 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chool H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Occupational H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unity H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National H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6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e media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assification Consumer HE program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Content Placeholder 3" descr="Untitled.jpg"/>
          <p:cNvPicPr/>
          <p:nvPr/>
        </p:nvPicPr>
        <p:blipFill>
          <a:blip r:embed="rId1"/>
          <a:srcRect l="0" t="0" r="845" b="31564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Patient E programs are aimed at people with specific disease or health problem. Patient E. exists in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1.Hospital as well a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2.H. maintenance organization (HMO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3.Group or single medical practices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4.Nursing hom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5.Hospices</a:t>
            </a: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دور العجزة</a:t>
            </a: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6.Mental H. institution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7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me Health Agencies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a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8.Community or neighborhood</a:t>
            </a: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الحي</a:t>
            </a: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health center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6" descr="MCj02396570000[1]"/>
          <p:cNvPicPr/>
          <p:nvPr/>
        </p:nvPicPr>
        <p:blipFill>
          <a:blip r:embed="rId1"/>
          <a:stretch/>
        </p:blipFill>
        <p:spPr>
          <a:xfrm>
            <a:off x="5796000" y="3068640"/>
            <a:ext cx="3348000" cy="237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893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cently, programs of planned patients (as consumers) education have been recognized by health care personnel and the public as being an integral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مكمل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t of health care delivery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Various key elements Including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egislative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تشريعي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tion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dvent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وصول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f audiovisual technology, a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ising health care costs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have contributed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ساهم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o the development of patient education programs in hospital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Patient E. may be organized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Informally on a one to one basis (doctor or nurse to patient) 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.As a planned group education programs in a hospital or other health facility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وسيلة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-Patient educatio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1)The one to one instruction: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occurs most often in an informal manner when during physical examination or in a doctor private office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he physician or nurse impart 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يمنح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o the patient information about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diseas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ts treatme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methods of taking prescribed medica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In most cases this type of educational intervention is not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lanned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ganized, and followed b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inted matter or communication at a later date by a health educator, nurse or receptionist. At best it is a hit-or-mess     affair.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قضية الفوضى أوالضربة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me exceptions to this approach exist. A few physicians (particularly those in group practice) have a H. educator on staff or designate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مرشح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ganized HE as a physician and/or nurse func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is approach includes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ritten materials specific to disease    entity,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كيا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dication, 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neral condition, a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Follow up programs to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Ensure adherence to a specific regimen 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.Provide answers to questions that may otherwise go unanswer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9308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1332360" y="1052280"/>
            <a:ext cx="10225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730520" indent="0" algn="just">
              <a:buNone/>
              <a:tabLst>
                <a:tab algn="l" pos="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2)Most organized patient E programs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indent="0" algn="just">
              <a:buNone/>
              <a:tabLst>
                <a:tab algn="l" pos="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n be found in hospital setting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indent="0" algn="just">
              <a:buNone/>
              <a:tabLst>
                <a:tab algn="l" pos="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algn="just">
              <a:buClr>
                <a:srgbClr val="eaeaea"/>
              </a:buClr>
              <a:buSzPct val="70000"/>
              <a:buFont typeface="Verdana"/>
              <a:buChar char="•"/>
              <a:tabLst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ese programs aren't widespread, Bu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algn="just">
              <a:buClr>
                <a:srgbClr val="eaeaea"/>
              </a:buClr>
              <a:buSzPct val="70000"/>
              <a:buFont typeface="Verdana"/>
              <a:buChar char="•"/>
              <a:tabLst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ey are receiving a great deal of public and professional attentio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indent="0" algn="just">
              <a:buNone/>
              <a:tabLst>
                <a:tab algn="l" pos="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algn="just"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st common programs developed for adult inpatie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indent="0" algn="just">
              <a:buNone/>
              <a:tabLst>
                <a:tab algn="l" pos="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Arial"/>
              </a:rPr>
              <a:t>Organized programs for Adult inpatients  offered</a:t>
            </a:r>
            <a:r>
              <a:rPr b="0" lang="en-US" sz="3200" spc="-1" strike="noStrike">
                <a:solidFill>
                  <a:srgbClr val="eec85e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9236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17188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abete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17188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utritio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17188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natal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17188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stomy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171880" indent="0" rtl="1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heart attack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17188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mastectomy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,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56000" y="1557360"/>
            <a:ext cx="4788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rtl="1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postnatal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,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 rtl="1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preoperative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9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spiratory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 rtl="1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stoperative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 rtl="1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1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roke, and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 rtl="1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acemaker educ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5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ou are welcomed in the Consumer Health Education cours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 wish to you happy semes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INSTRUCTOR</a:t>
            </a:r>
            <a:r>
              <a:rPr b="0" lang="en-US" sz="3200" spc="-1" strike="noStrike">
                <a:solidFill>
                  <a:srgbClr val="eec85e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 EXPECTATION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BILES OFF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ttendance and punctuality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دقة المواعيد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rticipation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mmitment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spect of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ach other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e dates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لاستحقاق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569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those hospitals that do have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formal patient E, the programs are usually of the following typ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-536040" algn="just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grams for diabetes,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cardiac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atient , or other serious chronic diseases or disabilities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-536040" algn="just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pectant paren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 class; a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-536040" algn="just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operative instructio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075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In these areas where there is a large patient population, and often classes can be given on a daily basis by H. educators or nurse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ese courses aren't mandatory and are usually taken by the patient on referral from his doctor or the nurse-educator on the floor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n general, 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patient E programs lack defined: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) Goals and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) 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Methodologies</a:t>
            </a:r>
            <a:r>
              <a:rPr b="0" lang="en-US" sz="36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for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1.Evaluating the programs,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2.Teaching and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3.Financ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e development of </a:t>
            </a:r>
            <a:r>
              <a:rPr b="0" lang="en-US" sz="3200" spc="-1" strike="noStrike">
                <a:solidFill>
                  <a:srgbClr val="eec85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disease-specific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Clinically tested, teaching and evaluation protocols</a:t>
            </a:r>
            <a:r>
              <a:rPr b="0" lang="ar-SA" sz="3200" spc="-1" strike="noStrike">
                <a:solidFill>
                  <a:srgbClr val="eec85e"/>
                </a:solidFill>
                <a:latin typeface="Verdana"/>
              </a:rPr>
              <a:t>اتفاقيات</a:t>
            </a:r>
            <a:r>
              <a:rPr b="0" lang="ar-SA" sz="32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are deemed</a:t>
            </a:r>
            <a:r>
              <a:rPr b="0" lang="ar-SA" sz="3200" spc="-1" strike="noStrike">
                <a:solidFill>
                  <a:srgbClr val="eec85e"/>
                </a:solidFill>
                <a:latin typeface="Verdana"/>
              </a:rPr>
              <a:t>يعتبر</a:t>
            </a:r>
            <a:r>
              <a:rPr b="0" lang="ar-SA" sz="32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essential for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-Third-party reimbursement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تعويض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r patient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-Accreditation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لتفويض-الاعتماد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and/ 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-Evaluation by Professional Standard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view Organizations (PSRO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dvantages of working in Health Care Sett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ly varied job responsibilit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creased credibility due to health care connec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 community profile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لمحة حياة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verse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متنوعة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oup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od wages and benefi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od job satisfac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isadvantages of working in Health Care Setting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690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alth education may have a low prior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s are hard to come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صعبة الحصول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ng hou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 M.D.s have little respect for health educ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c85e"/>
                </a:solidFill>
                <a:latin typeface="Verdana"/>
              </a:rPr>
              <a:t>The school setting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importance of including health instruction in education curricula has been recognized since the early 1900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In 1997, the Institute of Medicine advised that students should receive the health-related education and services necessary for them to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rive maximum benefit from their education and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nable them to become healthy, productive adul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embrace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يعتنق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alth as a valu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are provided with the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knowledg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skills and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empowermen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needed to choose and maintain healthful personal behavio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 a life time learner, students be able to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obtai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evaluate and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us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new information for future health-related decis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Content Placeholder 3" descr="Untitled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7" name="Titl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920" y="1890720"/>
            <a:ext cx="81374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1. I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 now recognized for its value i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anging the health behaviors of young people as well 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ordinating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تنسيق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many different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ervice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programs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sponding to the health needs of children and you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Health education (HE) is </a:t>
            </a:r>
            <a:r>
              <a:rPr b="0" lang="en-US" sz="2800" spc="-1" strike="noStrike">
                <a:solidFill>
                  <a:srgbClr val="eec85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he necessary link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الحلقة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in evolution of health services</a:t>
            </a:r>
            <a:r>
              <a:rPr b="0" lang="en-US" sz="2800" spc="-1" strike="noStrike">
                <a:solidFill>
                  <a:srgbClr val="eec85e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.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تطور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his link is not a single entity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كيان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but a composite of h. related information including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nowledge of disease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ease prevention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dication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tient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rights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nowledge of community, state and national laws in reference to health matters, a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96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2. It helps to change: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t only the health behaviors of individuals but also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environments in which students and educators live, learn and work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policie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program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service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activities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at are delivered within this comprehensive framework are the responsibility of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Young people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ents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alth and social services professionals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ducators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stitutions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gencies and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overnment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799308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It is one of the most neglected areas of HE: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he possibilities are enormous both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-In the number of students who could be reached by H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-Programs and benefits that could be attained in the present and in the futu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For e.g., early disease prevention oriented H E programs could decrease the risk factors associated with heart disease before the disease has a chance to take pla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RULES OF GOOD HEALTH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ake a full bath more than once a we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rush teeth at least once a d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leep long hours with windows op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rink as much milk as possible, but no coffee or te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at some vegetables or fruit everyd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rink at least 4 glasses of water a d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y part of every day outdoo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ave a bowel movement every morn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oday’s Health Ed Standards :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Students will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mprehend concepts related to health promotion &amp; disease preven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monstrate the ability to access valid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لصحيحة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alth education information and health- promoting products and servic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monstrate ability to practice health- enhancing behaviors and reduce health risk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oday’s Health Ed Standard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: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Students will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/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alyze the influence of culture, media, technology and other factors on heal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monstrate the ability to use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interpersonal communicatio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skills to enhance heal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monstrate the ability to use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goal-setting and decision-making skill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to enhance heal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monstrate the ability to advocate for personal, family and community heal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ordinated school health progra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coordinated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منسق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chool health program brings together (integrates) various aspects of a school district to best impact the health of the students, faculty, staff, administration, and the community as a whole. 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It includes the coordination of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ood services, nursing services, school counsel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alth instruc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hysical educ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ministr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chool environ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munity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aculty/staff wellne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o’s Teaching 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 school health a priority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are the qualifications of the health educator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are the job opportunities for school health educator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4" descr="j0217698"/>
          <p:cNvPicPr/>
          <p:nvPr/>
        </p:nvPicPr>
        <p:blipFill>
          <a:blip r:embed="rId1"/>
          <a:stretch/>
        </p:blipFill>
        <p:spPr>
          <a:xfrm>
            <a:off x="3924360" y="479736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dvantages/disadvantages of teaching school health education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9629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orking with young people during these developmental yea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vent harmful behaviors from forming rather than working with people who have already formed bad habi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mpact all students because it is a required course for all stude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aduate degree is not needed for entry-level employ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ood job security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أمن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mmer months are fre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nefits are go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isadvantages: School Health Educator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ng hours on the job, including many weekends and evening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latively low status when compared with math. English,  and science teach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latively low pay when compared with other professionals in other fields, but comparable with that of other health educators in other fiel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cipline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انضباط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blems with stude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ssure to get a maste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 degre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fficulties with parents and administration when controversial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جدلي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bjects are taught.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6. A host of other factors that </a:t>
            </a:r>
            <a:r>
              <a:rPr b="0" i="1" lang="en-US" sz="3200" spc="-1" strike="noStrike">
                <a:solidFill>
                  <a:srgbClr val="eec85e"/>
                </a:solidFill>
                <a:latin typeface="Verdana"/>
              </a:rPr>
              <a:t>ca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i="1" lang="en-US" sz="3200" spc="-1" strike="noStrike">
                <a:solidFill>
                  <a:srgbClr val="eec85e"/>
                </a:solidFill>
                <a:latin typeface="Verdana"/>
              </a:rPr>
              <a:t>do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ke difference between health and sicknes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In order to appreciate the concept of public HE as it is defined here, one must first accept the definition of health as much more than the absence of diseas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64072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chool HE is considered as a part o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little importance of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hysical education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olo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me economic departmen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Disadvantag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-The curriculum is frequent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appropriate to toda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 studen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792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ree major problems in school HE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tradition of low visibility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رؤية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d priorit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narrow definition of appropriate content and -Jurisdiction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مدي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r H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ew adequately trained health educator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It is important for improvement of SHE to do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acher traini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ilot and demonstration projec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ants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منح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 generalized and local agencies for the development of comprehensive elementary and secondary school HE program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here is an immediate need of Both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 curriculum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Personnel developme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f the impact of HE on the future population could be appreciated. Then health education become as integral part of curriculum as math and scien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University Wellness Program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aculty &amp; Staff Progra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 Progra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1" name="Picture 4" descr="j0217698"/>
          <p:cNvPicPr/>
          <p:nvPr/>
        </p:nvPicPr>
        <p:blipFill>
          <a:blip r:embed="rId1"/>
          <a:stretch/>
        </p:blipFill>
        <p:spPr>
          <a:xfrm>
            <a:off x="5148360" y="3733920"/>
            <a:ext cx="2376360" cy="1693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MCj02055640000[1]"/>
          <p:cNvPicPr/>
          <p:nvPr/>
        </p:nvPicPr>
        <p:blipFill>
          <a:blip r:embed="rId2"/>
          <a:stretch/>
        </p:blipFill>
        <p:spPr>
          <a:xfrm>
            <a:off x="1643040" y="3786120"/>
            <a:ext cx="17766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Group or personal Disease Present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At the conclusion of your presentation, prepare a quiz with five questions relating to your topic (this may be included at the end of your presentation)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D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t forget your table of contents and cover page!  I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s your job as a group or personal to present the topic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rading Rubric! </a:t>
            </a:r>
            <a:r>
              <a:rPr b="0" lang="ar-SA" sz="4400" spc="-1" strike="noStrike">
                <a:solidFill>
                  <a:srgbClr val="ffffcc"/>
                </a:solidFill>
                <a:latin typeface="Arial"/>
              </a:rPr>
              <a:t>ارشادات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Clarity and Presentation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_____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Content Reliability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_____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Group Participation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_____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Organization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_____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Creativity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           _____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Total Scor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_____ 100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3619440" y="3111480"/>
            <a:ext cx="1905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ank You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sumer health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The WHO constitution </a:t>
            </a:r>
            <a:r>
              <a:rPr b="0" lang="ar-SA" sz="36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eec85e"/>
                </a:solidFill>
                <a:latin typeface="Verdana"/>
              </a:rPr>
              <a:t>دستور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begins with the following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definition of health:</a:t>
            </a:r>
            <a:r>
              <a:rPr b="0" lang="en-US" sz="3600" spc="-1" strike="noStrike">
                <a:solidFill>
                  <a:srgbClr val="eec85e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health is a state of complete physical, mental, societal</a:t>
            </a:r>
            <a:r>
              <a:rPr b="0" lang="ar-SA" sz="3600" spc="-1" strike="noStrike">
                <a:solidFill>
                  <a:srgbClr val="eaeaea"/>
                </a:solidFill>
                <a:latin typeface="Verdana"/>
              </a:rPr>
              <a:t>حضارية</a:t>
            </a:r>
            <a:r>
              <a:rPr b="0" lang="ar-SA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(environmental), emotional, spiritual and social well-being and not merely absence of disease or infirmity</a:t>
            </a:r>
            <a:r>
              <a:rPr b="0" lang="ar-SA" sz="3600" spc="-1" strike="noStrike">
                <a:solidFill>
                  <a:srgbClr val="eaeaea"/>
                </a:solidFill>
                <a:latin typeface="Verdana"/>
              </a:rPr>
              <a:t>الوهن</a:t>
            </a:r>
            <a:r>
              <a:rPr b="0" lang="ar-SA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 definition of health is vital for acceptance of consumer HE as a necessary component of health care servic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Consumer HE programs are concerned with taking into consideration the </a:t>
            </a:r>
            <a:r>
              <a:rPr b="0" lang="en-US" sz="3200" spc="-1" strike="noStrike">
                <a:solidFill>
                  <a:srgbClr val="eec85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whole</a:t>
            </a:r>
            <a:r>
              <a:rPr b="0" lang="en-US" sz="3200" spc="-1" strike="noStrike">
                <a:solidFill>
                  <a:srgbClr val="eec85e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 perso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If a patient isn't cooperating in taking his/her medication, for e.g. the physician or H. educator should consider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ther the patient clearly understands the reasons for taking medication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the patient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nk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bout a specific medication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(what he/she been told by others perhaps)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.What patien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 outlook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وجهة نظر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 on medication in general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(he/she may have been reared in a cultur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at disapproves of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all medication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uggested action in this e.g. may be obvious, but the  e.g. stress the importance of considering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physica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mental,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ocieta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emotional,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piritua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ocia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rocesses in all aspects of health c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A variety of entities seek to inform the public about h. matters. HE is discussed under the six primary categories of the Consumer H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e programs mentioned in the following reach the majority of consumer of health servic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5:58:17Z</dcterms:created>
  <dc:creator>Mastour</dc:creator>
  <dc:description/>
  <dc:language>en-US</dc:language>
  <cp:lastModifiedBy>ksu</cp:lastModifiedBy>
  <dcterms:modified xsi:type="dcterms:W3CDTF">2012-02-25T09:07:44Z</dcterms:modified>
  <cp:revision>383</cp:revision>
  <dc:subject/>
  <dc:title>CHS 488  </dc:title>
</cp:coreProperties>
</file>