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12.png" ContentType="image/png"/>
  <Override PartName="/ppt/media/image8.png" ContentType="image/png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6EFF4-B3EE-4724-B6F2-653DF6DD2DBB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itab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الخيري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ltimatel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في النهاي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efron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ظلبع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r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قر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6295-3456-42A1-BEA9-83A25DE90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9132-3A74-4A99-9641-6C4F8D449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8826-29AD-4624-AAC3-240D493F8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760B-941E-4203-8BC6-4B0D4F300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72218-2298-47D1-8CE5-99D021E11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CFE7C-15A3-4C12-A9CB-23CA55E96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4F45B-3A0D-4FEA-ABC6-5D55C70D2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C60C5-B403-4E40-9CE3-D31F04AA4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B2E8B-FFA2-40DB-A4A3-0EB36F58B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08C17-38EB-4D2D-B9A7-C5331339B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70122-4FA6-4130-8BA6-552719BEE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B810-611A-49C9-81C5-39C63C65B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A9F26-6FB9-4DCD-BE98-17148FEC8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2688C-4C4F-40D8-9F1C-93E7084E7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2F3AB-53FF-413A-997A-270981D7E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3B753-1610-4777-9B73-8B7B54B1D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67BB9-AE12-4FC5-AB29-1F04EE2FB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5E4C-2D7E-45F4-9D74-F0FC7828D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DDFC-26C9-4640-A90F-8EC4C95CA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AAE4-4264-4C7B-95E3-1ABE7449E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288D-E3BB-4D9A-951D-FA31B89E1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D14C-A868-48DA-911C-8A6C702A8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6ECC-6C3A-489D-BBC0-C0440DF67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CB84-FF08-4632-A139-E194F9D58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B05B1-18E0-45F9-B6CB-EB39DF7F2BD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7F353-F29F-4EFB-BE1F-ED5E02178DF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11.wmf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onsumer health education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HS 488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cture 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y Dr. Ebtisam Fetohy-201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II-Occupational Health Educ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50560" y="836280"/>
            <a:ext cx="856908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A major problem i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employees’ 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fear of:</a:t>
            </a:r>
            <a:r>
              <a:rPr b="0" lang="en-US" sz="3200" spc="-1" strike="noStrike">
                <a:solidFill>
                  <a:srgbClr val="86d1e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Canc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ther 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industrial diseases couple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with their equall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Strong fea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f plant closing (due to high toxicity levels) and the possible loss of their job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y workers come to terms with potential dangers by 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denying the possibilit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f c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anc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r in the worksi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II-Occupational Health Educ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9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A concerted </a:t>
            </a:r>
            <a:r>
              <a:rPr b="0" lang="ar-SA" sz="32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ccffff"/>
                </a:solidFill>
                <a:latin typeface="Arial"/>
              </a:rPr>
              <a:t>مشتركة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efforts b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•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agement------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ادار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•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ions------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اتحادات نقابية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alth profession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•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orkers themselv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This concerted effort is neede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or 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al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o come to 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grips </a:t>
            </a:r>
            <a:r>
              <a:rPr b="0" lang="ar-SA" sz="32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th the 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problem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f 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occupational diseas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The task force report conclude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“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ame four factors that hamper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يعو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ther forms of Health Education are present, namel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II-Occupational Health Educ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229600" cy="52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Barriers to occupational health education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dividual  ignoranc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- public apathy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اللامبالاة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ercial pressure 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lack of strong positive leadership on the part of either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799"/>
              </a:spcBef>
              <a:buClr>
                <a:srgbClr val="ccffff"/>
              </a:buClr>
              <a:buSzPct val="9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government o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799"/>
              </a:spcBef>
              <a:buClr>
                <a:srgbClr val="ccffff"/>
              </a:buClr>
              <a:buSzPct val="9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health professions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negatively affect occupational health program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bd57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ysical activity and fitn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bd57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utrition and weight contr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bd57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ess redu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bd57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ker safety and heal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bd57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lood pressure and/or cholesterol education and contr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bd57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cohol, smoking and dru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420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971640" y="1267920"/>
            <a:ext cx="72007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bd57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duce medical care cos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fbd57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hance productiv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fbd57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hance the image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صورة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f the compan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Title 1" descr=""/>
          <p:cNvPicPr/>
          <p:nvPr/>
        </p:nvPicPr>
        <p:blipFill>
          <a:blip r:embed="rId1"/>
          <a:stretch/>
        </p:blipFill>
        <p:spPr>
          <a:xfrm>
            <a:off x="0" y="0"/>
            <a:ext cx="8420040" cy="1268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orksite Health Promotion ~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Practitioners Perspectiv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latively new phenomenon (mid-1970s)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-site programs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grams vary widely in content and focus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e programs offer during work hours, some before and after work hours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e totally funded, some employee-employer funded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6d1ec"/>
                </a:solidFill>
                <a:latin typeface="Arial"/>
              </a:rPr>
              <a:t>Rationale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86d1ec"/>
                </a:solidFill>
                <a:latin typeface="Arial"/>
              </a:rPr>
              <a:t>(1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Employee spends 1/3 of his life on the job.  We have a captive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سير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udience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6d1ec"/>
                </a:solidFill>
                <a:latin typeface="Arial"/>
              </a:rPr>
              <a:t>(2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Healthy employees save the employer money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6d1ec"/>
                </a:solidFill>
                <a:latin typeface="Arial"/>
              </a:rPr>
              <a:t>(3)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rale and turnover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مبيعات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e positively impact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ites of occupational educ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vate clubs (Gold’s Gym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just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ks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نزهات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Recreation Dep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just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lege’s/Univers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just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spit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just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do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شقة خاصة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/Apartment complex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just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te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orts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صايف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Cruise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جولات بحرية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vantages of employment in Worksite H.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pportunity for prevention empha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cess to individuals who might not participate in community progr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verse groups of people (upper management to blue collar worker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erally a high degree of job satisfa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y and benefits generally go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cess to fitness facilities for personal 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sadvantages in Worksite sett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50920" y="1557000"/>
            <a:ext cx="8424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ng and irregular hours (e.g., shift work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much room for advancement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تقدم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gram is low on the corporate priority 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bcontracting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تعاقد ثانوي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y take over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سيطر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ong pressure to be a role mod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250920" y="1628280"/>
            <a:ext cx="8447040" cy="50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d577"/>
                </a:solidFill>
                <a:latin typeface="Arial"/>
              </a:rPr>
              <a:t>Why Community Health Educatio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fbd57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mmunity-Based Health Education: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key to prevention and early det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fbd57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ecause Over the last century, the leading causes of death have shifted from infectious diseases to chronic behavioral oriented types of disease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7" name="Titl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420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sumer Healt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496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-Patient education, II-School health educ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III- Occupational Health Educati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 growing cost of health care combined with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 increase of preventable acute and chronic illnesses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ecff"/>
                </a:solidFill>
                <a:latin typeface="Arial"/>
              </a:rPr>
              <a:t>Drive the continuing need for comprehensive worksite health promotion programs.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mmunity/Public Health Education: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oint Committee on Health Education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5000"/>
              </a:lnSpc>
              <a:spcBef>
                <a:spcPts val="700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application of a variety of methods that result in the education and mobilization of community members in actions for resolving health issues and problems which affect the community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5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d577"/>
                </a:solidFill>
                <a:latin typeface="Arial"/>
              </a:rPr>
              <a:t>These methods includ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but are not limited to, 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group proces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mass media, communication, 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community organizati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organization development, </a:t>
            </a:r>
            <a:r>
              <a:rPr b="0" lang="en-US" sz="2800" spc="-1" strike="noStrike">
                <a:solidFill>
                  <a:srgbClr val="fbd577"/>
                </a:solidFill>
                <a:latin typeface="Arial"/>
              </a:rPr>
              <a:t>strategic plann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skills training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, legislati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policy making, and </a:t>
            </a:r>
            <a:r>
              <a:rPr b="0" lang="en-US" sz="2800" spc="-1" strike="noStrike">
                <a:solidFill>
                  <a:srgbClr val="fbd577"/>
                </a:solidFill>
                <a:latin typeface="Arial"/>
              </a:rPr>
              <a:t>advocac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mmunity Health Program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50560" y="1699920"/>
            <a:ext cx="5257800" cy="44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Basic premise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The health of a community is the sum total of the health of the individuals comprising that community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Picture 4" descr="j0183328"/>
          <p:cNvPicPr/>
          <p:nvPr/>
        </p:nvPicPr>
        <p:blipFill>
          <a:blip r:embed="rId2"/>
          <a:stretch/>
        </p:blipFill>
        <p:spPr>
          <a:xfrm>
            <a:off x="6300720" y="2781360"/>
            <a:ext cx="2165400" cy="1814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250560" y="1988640"/>
            <a:ext cx="8893080" cy="46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he present day leading causes of death result from lifestyle choices or behaviors: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850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Injury,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850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Violence, and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850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Other factors in the environment; and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unavailability or inaccessibility of quality health programs and services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Titl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628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457200" y="1915920"/>
            <a:ext cx="8229600" cy="42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ile health promotion in 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school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health care centers, and 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worksit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provides targeted interventions for specific population groups, community-based programs can reach the entire populatio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Title 1" descr=""/>
          <p:cNvPicPr/>
          <p:nvPr/>
        </p:nvPicPr>
        <p:blipFill>
          <a:blip r:embed="rId1"/>
          <a:stretch/>
        </p:blipFill>
        <p:spPr>
          <a:xfrm>
            <a:off x="214200" y="0"/>
            <a:ext cx="8715600" cy="1420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V-Community health educ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896472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It is the program designed to help people develo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799"/>
              </a:spcBef>
              <a:buClr>
                <a:srgbClr val="ccffff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cessary attitudes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799"/>
              </a:spcBef>
              <a:buClr>
                <a:srgbClr val="ccffff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nowledge 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799"/>
              </a:spcBef>
              <a:buClr>
                <a:srgbClr val="ccffff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actices for optimal state of health for </a:t>
            </a:r>
            <a:r>
              <a:rPr b="0" lang="en-US" sz="3200" spc="-1" strike="noStrike">
                <a:solidFill>
                  <a:srgbClr val="fbd577"/>
                </a:solidFill>
                <a:latin typeface="Arial"/>
              </a:rPr>
              <a:t>themselv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their families and </a:t>
            </a:r>
            <a:r>
              <a:rPr b="0" lang="en-US" sz="3200" spc="-1" strike="noStrike">
                <a:solidFill>
                  <a:srgbClr val="fbd577"/>
                </a:solidFill>
                <a:latin typeface="Arial"/>
              </a:rPr>
              <a:t>communiti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They are offered through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799"/>
              </a:spcBef>
              <a:buClr>
                <a:srgbClr val="cc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deral, state and local public agencies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799"/>
              </a:spcBef>
              <a:buClr>
                <a:srgbClr val="cc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ritable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خيرية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ganization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799"/>
              </a:spcBef>
              <a:buClr>
                <a:srgbClr val="cc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oluntary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طوعية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gencies 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799"/>
              </a:spcBef>
              <a:buClr>
                <a:srgbClr val="cc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spital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V-Community health educ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y hospitals are involved in community programs offering education on specific diseases and general health information. 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For e.g., a typical hospital with an active community health education program may offer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diabetes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ostomy 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cardiac as well as smoking clinics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 parental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أبوية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parenting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أبوة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asses;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V-Community health education, co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50560" y="691920"/>
            <a:ext cx="889308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 obesity progra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.  a cardiopulmonary resuscitation course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7. industrial health educatio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. drug education 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9. program concerning venereal diseas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The objectives should b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Identification of the needs 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Determination of specific health risk factors that  exist in the communi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Risk factors vary depending on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cial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cioeconomic 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ccupational structure of the communi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V-Community health educ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ce the community’s needs have been identified, programs can be designed to meet the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The major problem of Community HE ar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•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sufficient program funding 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ability of many agencies to involve consumers in their program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V-Community health educ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50560" y="765000"/>
            <a:ext cx="843588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It is essential that community programs be designed with the consumer in mind so tha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Language difference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Economic conditions 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Consumers’ 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free tim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o attend such programs are taken into consideratio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re the 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majorit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f 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both me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wome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hold job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programs should be arranged at 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appropriate hour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 Another major problem of community health programs is the lack of complianc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V-Community health educ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y individual consumers do not follow up on risk factors identified through community screening program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n after thorough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شام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gram of telephone calls and letters, 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the compliance rate is frequently very low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Occupational Health Educ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95280" y="1125360"/>
            <a:ext cx="842472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he worksite setting provides an opportunity to implement: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850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educational programs;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850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policy and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850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environmental actions that support health, </a:t>
            </a:r>
            <a:r>
              <a:rPr b="0" lang="en-US" sz="3400" spc="-1" strike="noStrike">
                <a:solidFill>
                  <a:srgbClr val="ccecff"/>
                </a:solidFill>
                <a:latin typeface="Arial"/>
              </a:rPr>
              <a:t>which benefit: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850"/>
              </a:spcBef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Managers,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850"/>
              </a:spcBef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Employees, and, ultimately,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850"/>
              </a:spcBef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he community as a whole.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Titl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62864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468360" y="1268280"/>
            <a:ext cx="784872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d577"/>
                </a:solidFill>
                <a:latin typeface="Arial"/>
              </a:rPr>
              <a:t>Included in the community setting ar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5000"/>
              </a:lnSpc>
              <a:spcBef>
                <a:spcPts val="751"/>
              </a:spcBef>
              <a:buClr>
                <a:srgbClr val="fbd57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ublic facilities;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5000"/>
              </a:lnSpc>
              <a:spcBef>
                <a:spcPts val="751"/>
              </a:spcBef>
              <a:buClr>
                <a:srgbClr val="fbd57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local government agencies; and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5000"/>
              </a:lnSpc>
              <a:spcBef>
                <a:spcPts val="751"/>
              </a:spcBef>
              <a:buClr>
                <a:srgbClr val="fbd57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ocial service, </a:t>
            </a:r>
            <a:r>
              <a:rPr b="0" lang="en-US" sz="3000" spc="-1" strike="noStrike">
                <a:solidFill>
                  <a:srgbClr val="fbd577"/>
                </a:solidFill>
                <a:latin typeface="Arial"/>
              </a:rPr>
              <a:t>faith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, and civic  </a:t>
            </a:r>
            <a:r>
              <a:rPr b="0" lang="ar-SA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3000" spc="-1" strike="noStrike">
                <a:solidFill>
                  <a:srgbClr val="ffffff"/>
                </a:solidFill>
                <a:latin typeface="Arial"/>
              </a:rPr>
              <a:t>مدني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organizations that provide channels to reach people where they </a:t>
            </a:r>
            <a:r>
              <a:rPr b="0" lang="en-US" sz="3000" spc="-1" strike="noStrike">
                <a:solidFill>
                  <a:srgbClr val="fbd577"/>
                </a:solidFill>
                <a:latin typeface="Arial"/>
              </a:rPr>
              <a:t>live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, work, and </a:t>
            </a:r>
            <a:r>
              <a:rPr b="0" lang="en-US" sz="3000" spc="-1" strike="noStrike">
                <a:solidFill>
                  <a:srgbClr val="fbd577"/>
                </a:solidFill>
                <a:latin typeface="Arial"/>
              </a:rPr>
              <a:t>play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395280" y="1557000"/>
            <a:ext cx="813744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5000"/>
              </a:lnSpc>
              <a:spcBef>
                <a:spcPts val="751"/>
              </a:spcBef>
              <a:buClr>
                <a:srgbClr val="fbd57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y can be strong advocates for </a:t>
            </a:r>
            <a:r>
              <a:rPr b="0" lang="en-US" sz="3000" spc="-1" strike="noStrike">
                <a:solidFill>
                  <a:srgbClr val="fbd577"/>
                </a:solidFill>
                <a:latin typeface="Arial"/>
              </a:rPr>
              <a:t>educational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, policy, and </a:t>
            </a:r>
            <a:r>
              <a:rPr b="0" lang="en-US" sz="3000" spc="-1" strike="noStrike">
                <a:solidFill>
                  <a:srgbClr val="fbd577"/>
                </a:solidFill>
                <a:latin typeface="Arial"/>
              </a:rPr>
              <a:t>environmental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changes throughout the community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5000"/>
              </a:lnSpc>
              <a:spcBef>
                <a:spcPts val="751"/>
              </a:spcBef>
              <a:buClr>
                <a:srgbClr val="fbd57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laces of worship </a:t>
            </a:r>
            <a:r>
              <a:rPr b="0" lang="ar-SA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3000" spc="-1" strike="noStrike">
                <a:solidFill>
                  <a:srgbClr val="ffffff"/>
                </a:solidFill>
                <a:latin typeface="Arial"/>
              </a:rPr>
              <a:t>العبادة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ay be a particularly important setting for health promotion initiatives, and they may effectively reach some underserved population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Title 1" descr=""/>
          <p:cNvPicPr/>
          <p:nvPr/>
        </p:nvPicPr>
        <p:blipFill>
          <a:blip r:embed="rId1"/>
          <a:stretch/>
        </p:blipFill>
        <p:spPr>
          <a:xfrm>
            <a:off x="0" y="260280"/>
            <a:ext cx="8420040" cy="1297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Day in the Life of a Community Health Educat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50560" y="1483920"/>
            <a:ext cx="8569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vantages/Disadvantages of Working in Community/Public Health Educati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86d1ec"/>
                </a:solidFill>
                <a:uFillTx/>
                <a:latin typeface="Arial"/>
              </a:rPr>
              <a:t>ADVANTAGES</a:t>
            </a:r>
            <a:r>
              <a:rPr b="0" lang="en-US" sz="3200" spc="-1" strike="noStrike">
                <a:solidFill>
                  <a:srgbClr val="86d1ec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ghly varied and dynamic job responsibil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ong prevention orientation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توجيه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gh community pro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k with multiple groups (ethniciti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gh degree of self-satisfa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4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86d1ec"/>
                </a:solidFill>
                <a:uFillTx/>
                <a:latin typeface="Arial"/>
              </a:rPr>
              <a:t>Disadvantages</a:t>
            </a:r>
            <a:r>
              <a:rPr b="0" lang="en-US" sz="3600" spc="-1" strike="noStrike">
                <a:solidFill>
                  <a:srgbClr val="86d1ec"/>
                </a:solidFill>
                <a:latin typeface="Arial"/>
              </a:rPr>
              <a:t> of working in Community/Public Health Educ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50920" y="1599840"/>
            <a:ext cx="864216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w pay, especially in the voluntary health agenc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employment depends upon soft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السهل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ney, job security is tenuous…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ضعي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olunteers can be unreliable and irresponsible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ck of funding is always a proble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6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V-National health and health related agency progra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se programs differ from those already mentioned because they are 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sponsore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by 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voluntary nonprofit agenci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s well as profit making agenc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328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Two  sources of employmen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Voluntary Health Agencie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 Address health needs not met by government agencies….American Cancer Society, American Heart Association, American Lung Associ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ublic Health Agencie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 Government health agencies (tax supported)…Public Health Departme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V-National health and health related agency program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-360" y="1557360"/>
            <a:ext cx="889308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e.g., because of its extensive public information program, 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the American Cancer Society’s “seven danger signals” have widely known by the public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Unusual bleeding/discharge</a:t>
            </a:r>
            <a:r>
              <a:rPr b="0" lang="en-US" sz="3200" spc="-1" strike="noStrike">
                <a:solidFill>
                  <a:srgbClr val="86d1ec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spcBef>
                <a:spcPts val="799"/>
              </a:spcBef>
              <a:buClr>
                <a:srgbClr val="ccec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lood in urine or sto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spcBef>
                <a:spcPts val="799"/>
              </a:spcBef>
              <a:buClr>
                <a:srgbClr val="ccec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charge from any part of the body, for e.g., nipple, penis,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V-National health and health related agency program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2. A sore which does not heel: sores tha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cc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n’t seem to be getting better over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cc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e getting big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cc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tting more painfu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cc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e starting to ble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3.Change in bowel or bladder habit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cc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nge in the color, consistency,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ze, or shape, of stool (diarrhea, constipati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cc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lood present in urine or stoo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964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V-National health and health related agency program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60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86d1ec"/>
                </a:solidFill>
                <a:latin typeface="Arial"/>
              </a:rPr>
              <a:t>. 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Lump in breast or other part of the bod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cc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y lump found in the breast when doing a self examin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cc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y lump in scrotum when doing a self examin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cc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ther lumps found on the body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V-National health and health related agency program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. 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Nagging </a:t>
            </a:r>
            <a:r>
              <a:rPr b="0" lang="ar-SA" sz="32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ccffff"/>
                </a:solidFill>
                <a:latin typeface="Arial"/>
              </a:rPr>
              <a:t>مزعجة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cough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cc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nge in voice and hoarsen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cc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ugh that doesn’t go aw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cc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utum with blo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Occupational Health Educ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94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cc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vironmental hazards of many types exist in the workpla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cc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U S public Health Service has estimated that there may be as many as 390,000 new cases of occupational disease each year and 100,000 death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Picture 6" descr="MCj02902980000[1]"/>
          <p:cNvPicPr/>
          <p:nvPr/>
        </p:nvPicPr>
        <p:blipFill>
          <a:blip r:embed="rId1"/>
          <a:stretch/>
        </p:blipFill>
        <p:spPr>
          <a:xfrm>
            <a:off x="5940360" y="2924280"/>
            <a:ext cx="2952720" cy="1873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-222120"/>
            <a:ext cx="80755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6.Obvious change in moles </a:t>
            </a:r>
            <a:r>
              <a:rPr b="0" lang="ar-SA" sz="3200" spc="-1" strike="noStrike">
                <a:solidFill>
                  <a:srgbClr val="ccffff"/>
                </a:solidFill>
                <a:latin typeface="Arial"/>
              </a:rPr>
              <a:t>شامات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: use the ABCD rol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ymmetry: Does the mole look the same in all parts or are  there differenc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rder: are the borders sharp or ragged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خشن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or: what are the colors seen in the mol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ameter: is the mole bigger than a pencil eraser (6 mm)?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96472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V-National health and health related agency program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79280" y="1341360"/>
            <a:ext cx="896472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7.Difficulty in swallowing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eling of pressure in throat or chest which makes swallowing uncomfort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eling of full without food or with small amount of foo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Such groups a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ight watchers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coholics anonymous; 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moke Enders, are only a few of the numerous organizations that have a health message to impar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However, general health education is not their major objective</a:t>
            </a:r>
            <a:r>
              <a:rPr b="0" lang="en-US" sz="2800" spc="-1" strike="noStrike">
                <a:solidFill>
                  <a:srgbClr val="86d1ec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V-National health and health related agency program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Advantage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manage to affect the public’s lifestyle in areas where professional health education has fail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se health and health related agencies have an impact upon society in many areas of consumer health educ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1360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V-National health and health related agency program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864216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equently, one’s experience with a disease or condition gives one a much better perspective for, related to it and teaching others who are similarly afflic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For e.g., the Reach for Recovery program of the American Cancer Society utilizes volunteers who have undergone mastectomy operations in the rehabilitation of recent mastectomy patients( self- help group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07552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VI-The Medi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896472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People get information about health from media especially Televis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cording to Harris Poll commissioned by the Blue Cross Association, 29% of the people surveyed reported that they received most of health and medical information from TV advertis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Only doctors exceed the media in providing health inform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might be positive indicator. If the information received from the media were accura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VI-The Medi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Disadvantag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ever, investigation have revealed that much of the information regarding health wa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•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accurate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•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sleading or bot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Advantag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levision and the media in general, offer an excellent vehicle for health information which is both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curate 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leva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VI-The Medi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Most people have seen and assimilated </a:t>
            </a:r>
            <a:r>
              <a:rPr b="0" lang="ar-SA" sz="2800" spc="-1" strike="noStrike">
                <a:solidFill>
                  <a:srgbClr val="ccffff"/>
                </a:solidFill>
                <a:latin typeface="Arial"/>
              </a:rPr>
              <a:t>تستوعب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information from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alth documentaries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لوثائقيات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blic broadcasting, or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vertising provided by health agenc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Health message advertising is most effective in areas of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mo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nereal diseases (VD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ypertension 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ckle- cell anemi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VI-The Medi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has been estimated that daily Radio audience exceeds116 million adults an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T.V audience exceeds 64 million adul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iven that potential combined with readership of printed media. One can easily see the advantages of utilizing mass   media for HE purpos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VI-The Medi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900000" y="1052640"/>
            <a:ext cx="7786800" cy="50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Needs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There is a definite need for the media t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cc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gulate the preparation of appropriate      broadcast materials and a need for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cc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early defined accountability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سؤولية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the public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cc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is also need for health educators and broadcasters to cooperate in the development of health education Programm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anding 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وجيه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First Job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586728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mmer employment in health ed settin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olunteer work in health ed settin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velop a professional portfol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ertifications (CH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culty recommend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fessional organiz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ADUATE SCHO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9" name="Picture 4" descr="MCj01983270000[1]"/>
          <p:cNvPicPr/>
          <p:nvPr/>
        </p:nvPicPr>
        <p:blipFill>
          <a:blip r:embed="rId8"/>
          <a:stretch/>
        </p:blipFill>
        <p:spPr>
          <a:xfrm>
            <a:off x="5580000" y="2276640"/>
            <a:ext cx="3564000" cy="2900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II-Occupational Health Educ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028000" cy="57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Categories of risks to the workers includ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Safety hazards or dangerous physical condition 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Health hazards such as high levels of toxic substances in the immediate environ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238560" y="2889360"/>
            <a:ext cx="266688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Thank You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III-Occupational Health Educ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ccffff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The number of carcinogens in the workplace is growing dail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ccffff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earch has found that for many types of cancer, there is a long latency period (20-30 year) following exposure before a cancer can be detec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II-Occupational Health Educ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For some cancers, the victim may have been exposed only for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few weeks 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y have been exposed 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indirectly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ough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- 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contamination of clothing at work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- by living in a community where a high level of carcinogens is found in the atmosphe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II-Occupational Health Educ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8229600" cy="579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Need for occupational health educati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Extensive employee educational programs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order to foster the worker’s understanding of his/her rights and responsibilities under the federal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الاتحادية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ccupational safety and health law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Many large corporations have institute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Annual health screening examinations&amp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Counseling programs for executives</a:t>
            </a:r>
            <a:r>
              <a:rPr b="0" lang="ar-SA" sz="3200" spc="-1" strike="noStrike">
                <a:solidFill>
                  <a:srgbClr val="ccffff"/>
                </a:solidFill>
                <a:latin typeface="Arial"/>
              </a:rPr>
              <a:t>المدراء    التنفيذيين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and workers alike.  </a:t>
            </a:r>
            <a:r>
              <a:rPr b="0" lang="ar-SA" sz="32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II-Occupational Health Educ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National Institute of Occupational Safety and Healt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NIOSH) has proposed the establishment of 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regional centers to be primarily involved i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-residency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المقيمين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ysicians training in occupational medici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-curriculum develop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-graduate training in related area such as industrial hygiene and safety engineer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9T04:56:04Z</dcterms:created>
  <dc:creator>Mastour</dc:creator>
  <dc:description/>
  <dc:language>en-US</dc:language>
  <cp:lastModifiedBy>Mastour</cp:lastModifiedBy>
  <dcterms:modified xsi:type="dcterms:W3CDTF">2012-10-12T10:34:27Z</dcterms:modified>
  <cp:revision>382</cp:revision>
  <dc:subject/>
  <dc:title>Consumer health education</dc:title>
</cp:coreProperties>
</file>