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AB09-D96F-40DA-A2A4-0C9078DE549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itab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خير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imate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في النها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fro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ظلبع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قر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ECA0-5F6A-4EBD-A4E0-FD9DB315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7123-5F65-4E1F-A59F-D3E27EEF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6B8-29BD-49AF-9446-0A6D02AC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0937-C3F1-43BB-8AC9-80CCA898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7C39-6FE0-482C-87CD-1B044C6A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D61E-692B-4B6C-B6E5-02E93344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4C75-A211-480F-B11A-BAE94305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6A58-0005-4035-98BB-390852DF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FAEF-6E37-4FCA-8477-FDCA9582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0A7D-BE43-42E4-A513-56C3CED5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9EE1-0CA6-4E7A-BE32-E00C85EF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6109-27D9-4DF1-943B-6A8FD818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4AF0-9A69-47FD-A6FC-28078977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34FA-0898-43E2-89D5-DAB5F0A1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737D-EF0E-461B-914A-F8952984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2622-D424-4E98-9CAC-EB9D0AF7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BF33-4CC4-47FF-9D65-641B4892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62AA-C018-4223-B835-14226AB9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4C3-7021-4EA1-931F-46E2E437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1D4D-B61A-4A98-B942-9970B2B2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657-A671-4EAE-B2EC-32257117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1023-DF75-4896-A315-C3CDCA44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DA8-5BB1-4435-81A5-EA1C3560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13DB-88B4-40DF-823A-BF06F7EC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0151-1675-414E-B516-FA095BBD19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F75C-F32A-4F6D-AC89-79CF81B1DF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nsumer health educatio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S 48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ctur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Dr. Ebtisam Fetohy-20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II-Occupational Health Edu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major problem i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mployees’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ear of: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nc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ndustrial diseases coupl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their equal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trong fe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plant closing (due to high toxicity levels) and the possible loss of their job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workers come to terms with potential dangers by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enying the possibil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c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 in the worksi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II-Occupational Health Edu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 concerted </a:t>
            </a:r>
            <a:r>
              <a:rPr b="0" lang="ar-SA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ccffff"/>
                </a:solidFill>
                <a:latin typeface="Arial"/>
              </a:rPr>
              <a:t>مشتركة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efforts b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agement------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دار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ons------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تحادات نقاب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professio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kers themsel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is concerted effort is need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come to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grips </a:t>
            </a:r>
            <a:r>
              <a:rPr b="0" lang="ar-SA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roble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ccupational diseas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task force report conclud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four factors that hamper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عو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forms of Health Education are present, name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II-Occupational Health Edu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arriers to occupational health education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  ignoran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 public apathy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لامبالا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rcial pressure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ack of strong positive leadership on the part of either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vernment 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ealth profession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negatively affect occupational health progra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activity and fi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rition and weight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ss re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er safety and 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pressure and/or cholesterol education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ohol, smoking and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2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7200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medical care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 produ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 the imag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صور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comp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8420040" cy="126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rksite Health Promotion ~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ractitioners Perspect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ively new phenomenon (mid-1970s)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-site program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s vary widely in content and focu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rograms offer during work hours, some before and after work hou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totally funded, some employee-employer funde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Rational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(1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mployee spends 1/3 of his life on the job.  We have a captive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سي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dience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(2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Healthy employees save the employer money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(3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ale and turnover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بيعا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positively impa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tes of occupational edu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te clubs (Gold’s Gy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ks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نزهات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Recreation Dep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ge’s/Univers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pi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o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شقة خاص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Apartment comple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t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rts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صاي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Cruise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ولات بحري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 of employment in Worksite H.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rtunity for prevention emph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 to individuals who might not participate in community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erse groups of people (upper management to blue collar work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ly a high degree of job satisf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y and benefits generally 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 to fitness facilities for personal 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advantages in Worksite set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and irregular hours (e.g., shift wor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much room for advancement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قدم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 is low on the corporate priority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contracting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عاقد ثانوي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take over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سيطر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 pressure to be a rol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44704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d577"/>
                </a:solidFill>
                <a:latin typeface="Arial"/>
              </a:rPr>
              <a:t>Why Community Health Educ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ty-Based Health Education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ey to prevention and early de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cause Over the last century, the leading causes of death have shifted from infectious diseases to chronic behavioral oriented types of diseas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2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umer Heal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-Patient education, II-School health edu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II- Occupational Health Edu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growing cost of health care combined wi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increase of preventable acute and chronic illnesse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"/>
              </a:rPr>
              <a:t>Drive the continuing need for comprehensive worksite health promotion programs.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unity/Public Health Education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t Committee on Health Education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700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pplication of a variety of methods that result in the education and mobilization of community members in actions for resolving health issues and problems which affect the community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577"/>
                </a:solidFill>
                <a:latin typeface="Arial"/>
              </a:rPr>
              <a:t>These methods inclu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but are not limited to,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group proc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mass media, communication,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ommunity organiz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organization development, </a:t>
            </a:r>
            <a:r>
              <a:rPr b="0" lang="en-US" sz="2800" spc="-1" strike="noStrike">
                <a:solidFill>
                  <a:srgbClr val="fbd577"/>
                </a:solidFill>
                <a:latin typeface="Arial"/>
              </a:rPr>
              <a:t>strategic plann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kills training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, legisl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policy making, and </a:t>
            </a:r>
            <a:r>
              <a:rPr b="0" lang="en-US" sz="2800" spc="-1" strike="noStrike">
                <a:solidFill>
                  <a:srgbClr val="fbd577"/>
                </a:solidFill>
                <a:latin typeface="Arial"/>
              </a:rPr>
              <a:t>advocac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unity Health Pro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525780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asic premis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The health of a community is the sum total of the health of the individuals comprising that community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j0183328"/>
          <p:cNvPicPr/>
          <p:nvPr/>
        </p:nvPicPr>
        <p:blipFill>
          <a:blip r:embed="rId2"/>
          <a:stretch/>
        </p:blipFill>
        <p:spPr>
          <a:xfrm>
            <a:off x="6300720" y="2781360"/>
            <a:ext cx="2165400" cy="1814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present day leading causes of death result from lifestyle choices or behaviors: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50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Injury,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50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Violence, and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850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ther factors in the environment; and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navailability or inaccessibility of quality health programs and services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health promotion in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choo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health care centers, and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orksi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ovides targeted interventions for specific population groups, community-based programs can reach the entire popul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214200" y="0"/>
            <a:ext cx="8715600" cy="142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V-Community health edu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t is the program designed to help people develo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essary attitude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ledge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es for optimal state of health for </a:t>
            </a:r>
            <a:r>
              <a:rPr b="0" lang="en-US" sz="3200" spc="-1" strike="noStrike">
                <a:solidFill>
                  <a:srgbClr val="fbd577"/>
                </a:solidFill>
                <a:latin typeface="Arial"/>
              </a:rPr>
              <a:t>themselv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their families and </a:t>
            </a:r>
            <a:r>
              <a:rPr b="0" lang="en-US" sz="3200" spc="-1" strike="noStrike">
                <a:solidFill>
                  <a:srgbClr val="fbd577"/>
                </a:solidFill>
                <a:latin typeface="Arial"/>
              </a:rPr>
              <a:t>communit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y are offered throug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, state and local public agencie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itable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خيري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ntary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طوعي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ncies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pit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V-Community health edu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hospitals are involved in community programs offering education on specific diseases and general health information.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r e.g., a typical hospital with an active community health education program may off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diabet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ostomy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cardiac as well as smoking clinic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parental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بوي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parenting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بو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es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V-Community health education, co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obesity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 a cardiopulmonary resuscitation cours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industrial health educ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drug education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program concerning venereal disea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 objectives should b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Identification of the needs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Determination of specific health risk factors that  exist in the commun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isk factors vary depending 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cial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oeconomic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pational structure of the commun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V-Community health edu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the community’s needs have been identified, programs can be designed to meet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major problem of Community HE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ufficient program funding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bility of many agencies to involve consumers in their progra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V-Community health edu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4358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t is essential that community programs be designed with the consumer in mind so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Language differenc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Economic conditions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Consumers’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ree ti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attend such programs are taken into conside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the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ajori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both m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om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old job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programs should be arranged at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ppropriate hou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Another major problem of community health programs is the lack of complian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V-Community health edu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individual consumers do not follow up on risk factors identified through community screening progra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 after thorough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شام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 of telephone calls and letters,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compliance rate is frequently very 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ccupational Health Edu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4247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worksite setting provides an opportunity to implement: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ducational programs;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licy and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nvironmental actions that support health, </a:t>
            </a:r>
            <a:r>
              <a:rPr b="0" lang="en-US" sz="3400" spc="-1" strike="noStrike">
                <a:solidFill>
                  <a:srgbClr val="ccecff"/>
                </a:solidFill>
                <a:latin typeface="Arial"/>
              </a:rPr>
              <a:t>which benefit: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nagers,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Employees, and, ultimately,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5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community as a whole.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7848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d577"/>
                </a:solidFill>
                <a:latin typeface="Arial"/>
              </a:rPr>
              <a:t>Included in the community setting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751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ublic facilities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751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cal government agencies; and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751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cial service, </a:t>
            </a:r>
            <a:r>
              <a:rPr b="0" lang="en-US" sz="3000" spc="-1" strike="noStrike">
                <a:solidFill>
                  <a:srgbClr val="fbd577"/>
                </a:solidFill>
                <a:latin typeface="Arial"/>
              </a:rPr>
              <a:t>faith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and civic  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مدني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rganizations that provide channels to reach people where they </a:t>
            </a:r>
            <a:r>
              <a:rPr b="0" lang="en-US" sz="3000" spc="-1" strike="noStrike">
                <a:solidFill>
                  <a:srgbClr val="fbd577"/>
                </a:solidFill>
                <a:latin typeface="Arial"/>
              </a:rPr>
              <a:t>liv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work, and </a:t>
            </a:r>
            <a:r>
              <a:rPr b="0" lang="en-US" sz="3000" spc="-1" strike="noStrike">
                <a:solidFill>
                  <a:srgbClr val="fbd577"/>
                </a:solidFill>
                <a:latin typeface="Arial"/>
              </a:rPr>
              <a:t>pla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1374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751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y can be strong advocates for </a:t>
            </a:r>
            <a:r>
              <a:rPr b="0" lang="en-US" sz="3000" spc="-1" strike="noStrike">
                <a:solidFill>
                  <a:srgbClr val="fbd577"/>
                </a:solidFill>
                <a:latin typeface="Arial"/>
              </a:rPr>
              <a:t>educationa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policy, and </a:t>
            </a:r>
            <a:r>
              <a:rPr b="0" lang="en-US" sz="3000" spc="-1" strike="noStrike">
                <a:solidFill>
                  <a:srgbClr val="fbd577"/>
                </a:solidFill>
                <a:latin typeface="Arial"/>
              </a:rPr>
              <a:t>environmenta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changes throughout the community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751"/>
              </a:spcBef>
              <a:buClr>
                <a:srgbClr val="fbd57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laces of worship 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العبادة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y be a particularly important setting for health promotion initiatives, and they may effectively reach some underserved populat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0" y="260280"/>
            <a:ext cx="8420040" cy="129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Day in the Life of a Community Health Educa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tages/Disadvantages of Working in Community/Public Health Edu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6d1ec"/>
                </a:solidFill>
                <a:uFillTx/>
                <a:latin typeface="Arial"/>
              </a:rPr>
              <a:t>ADVANTAGES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ly varied and dynamic job responsi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prevention orientation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وجيه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community 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with multiple groups (ethnicit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degree of self-satisf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86d1ec"/>
                </a:solidFill>
                <a:uFillTx/>
                <a:latin typeface="Arial"/>
              </a:rPr>
              <a:t>Disadvantages</a:t>
            </a:r>
            <a:r>
              <a:rPr b="0" lang="en-US" sz="3600" spc="-1" strike="noStrike">
                <a:solidFill>
                  <a:srgbClr val="86d1ec"/>
                </a:solidFill>
                <a:latin typeface="Arial"/>
              </a:rPr>
              <a:t> of working in Community/Public Health Edu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pay, especially in the voluntary health agen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employment depends upon soft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سه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ey, job security is tenuous…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ضعي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nteers can be unreliable and irresponsibl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funding is always a probl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-National health and health related agency progr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rograms differ from those already mentioned because they are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sponsor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voluntary nonprofit agenc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 well as profit making agenc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wo  sources of employm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oluntary Health Agenci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Address health needs not met by government agencies….American Cancer Society, American Heart Association, American Lung Associ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blic Health Agenci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Government health agencies (tax supported)…Public Health Depart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-National health and health related agency pro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.g., because of its extensive public information program,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American Cancer Society’s “seven danger signals” have widely known by the public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Unusual bleeding/discharge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ccec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in urine or s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ccec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harge from any part of the body, for e.g., nipple, peni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-National health and health related agency pro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2. A sore which does not heel: sores th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seem to be getting better over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getting big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ting more pain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starting to ble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3.Change in bowel or bladder habi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in the color, consistency,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ze, or shape, of stool (diarrhea, constip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present in urine or s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-National health and health related agency pro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86d1ec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Lump in breast or other part of the bod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lump found in the breast when doing a self examin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lump in scrotum when doing a self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lumps found on the body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-National health and health related agency pro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agging </a:t>
            </a:r>
            <a:r>
              <a:rPr b="0" lang="ar-SA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ccffff"/>
                </a:solidFill>
                <a:latin typeface="Arial"/>
              </a:rPr>
              <a:t>مزعجة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ug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in voice and hoars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gh that doesn’t go a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utum with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ccupational Health Edu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al hazards of many types exist in the workpl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 S public Health Service has estimated that there may be as many as 390,000 new cases of occupational disease each year and 100,000 death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6" descr="MCj02902980000[1]"/>
          <p:cNvPicPr/>
          <p:nvPr/>
        </p:nvPicPr>
        <p:blipFill>
          <a:blip r:embed="rId1"/>
          <a:stretch/>
        </p:blipFill>
        <p:spPr>
          <a:xfrm>
            <a:off x="5940360" y="2924280"/>
            <a:ext cx="2952720" cy="187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22212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6.Obvious change in moles </a:t>
            </a:r>
            <a:r>
              <a:rPr b="0" lang="ar-SA" sz="3200" spc="-1" strike="noStrike">
                <a:solidFill>
                  <a:srgbClr val="ccffff"/>
                </a:solidFill>
                <a:latin typeface="Arial"/>
              </a:rPr>
              <a:t>شامات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: use the ABCD ro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ymmetry: Does the mole look the same in all parts or are  there differen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der: are the borders sharp or ragged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خشن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r: what are the colors seen in the mo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meter: is the mole bigger than a pencil eraser (6 mm)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-National health and health related agency pro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7.Difficulty in swallow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ling of pressure in throat or chest which makes swallowing uncomfor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ling of full without food or with small amount of f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uch groups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 watcher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coholics anonymous;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e Enders, are only a few of the numerous organizations that have a health message to imp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owever, general health education is not their major objective</a:t>
            </a:r>
            <a:r>
              <a:rPr b="0" lang="en-US" sz="2800" spc="-1" strike="noStrike">
                <a:solidFill>
                  <a:srgbClr val="86d1e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-National health and health related agency pro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dvantag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anage to affect the public’s lifestyle in areas where professional health education has fail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health and health related agencies have an impact upon society in many areas of consumer health edu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136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-National health and health related agency pro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tly, one’s experience with a disease or condition gives one a much better perspective for, related to it and teaching others who are similarly affli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r e.g., the Reach for Recovery program of the American Cancer Society utilizes volunteers who have undergone mastectomy operations in the rehabilitation of recent mastectomy patients( self- help group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0755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-The Me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People get information about health from media especially Televi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rding to Harris Poll commissioned by the Blue Cross Association, 29% of the people surveyed reported that they received most of health and medical information from TV adverti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Only doctors exceed the media in providing health infor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might be positive indicator. If the information received from the media were accur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-The Me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Disadvanta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investigation have revealed that much of the information regarding health w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ccurat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leading or bo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evision and the media in general, offer an excellent vehicle for health information which is bo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te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va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-The Me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Most people have seen and assimilated </a:t>
            </a:r>
            <a:r>
              <a:rPr b="0" lang="ar-SA" sz="2800" spc="-1" strike="noStrike">
                <a:solidFill>
                  <a:srgbClr val="ccffff"/>
                </a:solidFill>
                <a:latin typeface="Arial"/>
              </a:rPr>
              <a:t>تستوعب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nformation from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documentaries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وثائقيا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c broadcasting, 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ertising provided by health agenc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Health message advertising is most effective in area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ereal diseases (VD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tension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ckle- cell anem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-The Me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been estimated that daily Radio audience exceeds116 million adults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.V audience exceeds 64 million adul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 that potential combined with readership of printed media. One can easily see the advantages of utilizing mass   media for HE purpo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I-The Me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77868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Needs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re is a definite need for the media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te the preparation of appropriate      broadcast materials and a need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ly defined accountability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سؤولي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public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lso need for health educators and broadcasters to cooperate in the development of health education Programm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nding 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وجيه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First Jo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58672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er employment in health ed set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nteer work in health ed set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a professional portfol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ifications (CH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ulty recommend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sional organ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DUATE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MCj01983270000[1]"/>
          <p:cNvPicPr/>
          <p:nvPr/>
        </p:nvPicPr>
        <p:blipFill>
          <a:blip r:embed="rId8"/>
          <a:stretch/>
        </p:blipFill>
        <p:spPr>
          <a:xfrm>
            <a:off x="5580000" y="2276640"/>
            <a:ext cx="3564000" cy="290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II-Occupational Health Edu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028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tegories of risks to the workers inclu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Safety hazards or dangerous physical condition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Health hazards such as high levels of toxic substances in the immediate enviro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38560" y="2889360"/>
            <a:ext cx="26668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ank You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II-Occupational Health Edu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e number of carcinogens in the workplace is growing dai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has found that for many types of cancer, there is a long latency period (20-30 year) following exposure before a cancer can be detec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II-Occupational Health Edu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For some cancers, the victim may have been exposed only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ew weeks 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have been exposed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indirect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-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ntamination of clothing at wo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- by living in a community where a high level of carcinogens is found in the atmosphe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II-Occupational Health Edu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7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eed for occupational health edu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Extensive employee educational program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rder to foster the worker’s understanding of his/her rights and responsibilities under the federal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اتحاد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cupational safety and health law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any large corporations have institut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nual health screening examinations&amp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ounseling programs for executives</a:t>
            </a:r>
            <a:r>
              <a:rPr b="0" lang="ar-SA" sz="3200" spc="-1" strike="noStrike">
                <a:solidFill>
                  <a:srgbClr val="ccffff"/>
                </a:solidFill>
                <a:latin typeface="Arial"/>
              </a:rPr>
              <a:t>المدراء    التنفيذيين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nd workers alike.  </a:t>
            </a:r>
            <a:r>
              <a:rPr b="0" lang="ar-SA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II-Occupational Health Edu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National Institute of Occupational Safety and Heal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NIOSH) has proposed the establishment of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regional centers to be primarily involved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-residency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مقيمي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ians training in occupational medic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-curriculum develop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-graduate training in related area such as industrial hygiene and safety enginee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04:56:04Z</dcterms:created>
  <dc:creator>Mastour</dc:creator>
  <dc:description/>
  <dc:language>en-US</dc:language>
  <cp:lastModifiedBy>Mastour</cp:lastModifiedBy>
  <dcterms:modified xsi:type="dcterms:W3CDTF">2012-10-12T10:34:27Z</dcterms:modified>
  <cp:revision>382</cp:revision>
  <dc:subject/>
  <dc:title>Consumer health education</dc:title>
</cp:coreProperties>
</file>