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18C6-4CA6-478C-8462-06694545E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6EAF-EFE9-400E-B44F-745DCF49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3403-730E-4AF9-9605-3D7D360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11BE-BD23-4C63-8E87-0D959E2D7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8D4BE-CE7F-4594-91FD-F3BF151C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C4801-7DB8-4198-9DAB-B6EE296B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3836B-85B7-49F4-B2B0-C31CC5B1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C0A02-08C4-48EA-8EAB-D871D73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D5336-D3F9-40E7-9AE1-5C473798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22789-F1F8-4DE5-A80B-9D943D5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12F82-C78B-47E8-9E44-2885A05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6141-5F87-447A-B6E7-ACFE7A9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C004C-20A6-4400-A417-70616AF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42E11-FA70-41CE-9D6B-67834BA4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09D40-71A5-4212-8028-96ED98E6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740B9-C8C5-45B3-AE67-68A78DB8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A18F2-6414-4B33-B866-456CE57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E913-9C1A-4456-9E94-40C33DFB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1DB5-C2AD-4A9D-AF84-9EB2487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1FB3-C28E-43A8-A82B-CF74BE2C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F4A9-FFAE-4337-A681-846C1B51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842A-B42D-4544-BDAE-1FF5AFD1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03F6-894C-446A-BEB8-DD0617FE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53FC-A1FA-408D-82F2-E7D03E5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ACC1-6466-4B24-BD18-AFDBDDC2766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2660760" y="63468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© 2011 Cengage Learnin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" name="Picture 10" descr="oranges.jpg"/>
          <p:cNvPicPr/>
          <p:nvPr/>
        </p:nvPicPr>
        <p:blipFill>
          <a:blip r:embed="rId9"/>
          <a:stretch/>
        </p:blipFill>
        <p:spPr>
          <a:xfrm>
            <a:off x="190440" y="179280"/>
            <a:ext cx="660600" cy="9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51" name="Picture 16" descr="Florida beach house.jpg"/>
          <p:cNvPicPr/>
          <p:nvPr/>
        </p:nvPicPr>
        <p:blipFill>
          <a:blip r:embed="rId2"/>
          <a:stretch/>
        </p:blipFill>
        <p:spPr>
          <a:xfrm>
            <a:off x="409680" y="1523880"/>
            <a:ext cx="19526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2630520" y="6253200"/>
            <a:ext cx="389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1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14A-05F7-4B4E-BD17-FABDFCA1C0D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87520" y="15094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صادر اموال البنك العقاري</a:t>
            </a:r>
            <a:br>
              <a:rPr sz="26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الفصل الثالث</a:t>
            </a: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مصدر الرابع : الودائع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بوب الودائع التي يقبلها المصرف الى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مجموعات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ودائع الجارية : ودائع قابلة لسحب عند طلب المودع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ودائع التوفير او الادخار : قابلة للسحب بعد اشعار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ودائع ثابتة : تودع باستحقاقات محددة مسبق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شهادات الايداع المصرفي : تصدر بمبالغ متفاوتة و اجال متفاوت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دخار السكن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المصدر الخامس : تحصيل القروض و بيع الاستثمارات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160" y="1522440"/>
            <a:ext cx="6724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أ - تحصيل القروض الممنوح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صدر مهما داخليا للبنك</a:t>
            </a:r>
            <a:r>
              <a:rPr b="0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يمتاز بالقدرة و التنبؤ بمبالغة وإجال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ب. بيع الاستثمارات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قد يدفع البنك الى تصفية بعض اجزاء من الاستثمارات التي يملكها اذا كانت الضغوط منصبة علية لمواجهة الحاجة للسيولة العامل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قد يحقق خسارة اذا كان البيع على عجل</a:t>
            </a:r>
            <a:r>
              <a:rPr b="0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120" y="1612800"/>
            <a:ext cx="7937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بنك العقاري بنك ديناميكي : مجمع للأموال, يتحرك باستمرار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مكن تقسيم ادارة الاموال في البنك العقاري الى مجموعتين من الانشطة هم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نشطة تجهيز الاموال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نشطة استخدام الاموال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464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طبيعة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1270080" y="1625760"/>
            <a:ext cx="60008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مصادر اموال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1523520"/>
            <a:ext cx="7505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صادر اموال البنك العقاري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أس المال و الزيادة ف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حتجاز الارباح الصافية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ودائع المتنوع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قتراض من الغي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حصيل القروض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يع الاستثمار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رأسمال المصرف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60360" y="1599840"/>
            <a:ext cx="547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. رأس المال المدفوع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حصل علية من المالكين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كثر المصادر ديموم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صرف يحصل على رأس المال من خلال بيع اسهم في السوق المالي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Picture 6" descr="80-400703995"/>
          <p:cNvPicPr/>
          <p:nvPr/>
        </p:nvPicPr>
        <p:blipFill>
          <a:blip r:embed="rId1"/>
          <a:stretch/>
        </p:blipFill>
        <p:spPr>
          <a:xfrm>
            <a:off x="898560" y="2827440"/>
            <a:ext cx="142884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وظائف رأسمال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1800" y="1599840"/>
            <a:ext cx="763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. 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مثل المالكين في أدارة البنك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ن خلال التمثيل بالجمعية العمومية و من ثم بمجلس الادار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شراء الموجودات (ألأصول) الثابتة اللازمة لبدء البنك و استمراره في عمل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متصاص الخسائر العامل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في حال حقق البنك خسارة في نهاية السنة فأن هذه الخسارة ترحل الى حساب حق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وظائف رأسمال البنك العقار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98480" y="1469520"/>
            <a:ext cx="76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سمى المصرف مليئا اذا كانت الموجودات اكبر من المطلوب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حمي المصرف نفسه من الخسارة العاملة الناشئة عن تعثر الديون من خلال مخصص الدين المشكوك فيه و يقدر تقديرا , يستقطع هذا الحساب كل سنة من حساب الارباح والخسائر (باعتبار الدين المشكوك بة مصروفا)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م يحمل لحساب السنة القادم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702480" y="4519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وظائف رأسمال البنك العقاري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01520" y="1533240"/>
            <a:ext cx="69102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دعيم ثقة المودعين و السلطات الرقابية في قدرة البنك على مواجهة المشكلات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رأس المال الكافي يساعد على ابقاء المصرف سائرا و يستطيع ان ينمي نفسة و زيادة رأس المال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المصدر الثاني : الارباح المحتجزة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ستعمل لما يأت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دفع مقسوم الارباح السنو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عتمد على سياسة البنك و ملكيته (قطاع عام او قطاع خاص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قطاع الخاص يوجد قوانين و انظمة تحدد التوزيع  في حين القطاع الخاص يؤخذ بعين الاعتبار ارضاء المالكين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دعيم رأس المال من خلال احتجاز الارباح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لمصدر الثالث : الاقتراض من الغير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مصارف العقارية تقترض من الغير لزيادة رأس المال و خاصة للآجال طويلة و متوسط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قد يكون الاقتراض مباشر او غير مباشر من خلال اصدار سندات و طرحها بالسوق المال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تفاوت اشكال الاقتراض من الغير و لكنها تكون دائما اقل اسبقية من الودائع حيث اللاحقة في التسديد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9:45:42Z</dcterms:created>
  <dc:creator>Karen Loftus</dc:creator>
  <dc:description>k.l.lotus@comcst.net</dc:description>
  <dc:language>en-US</dc:language>
  <cp:lastModifiedBy>Administrator</cp:lastModifiedBy>
  <dcterms:modified xsi:type="dcterms:W3CDTF">2011-03-08T05:07:19Z</dcterms:modified>
  <cp:revision>113</cp:revision>
  <dc:subject/>
  <dc:title>Slide 1</dc:title>
</cp:coreProperties>
</file>