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DE3F8-1B3B-4770-84A3-0ED8F064F4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63954-40FC-4D5A-8B61-8B5442D3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0E065-C784-49ED-AE3D-2A8E2811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4B8C-BC88-4282-A456-A8419B6137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AB092-9130-4E49-A798-496E7E29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C14F0-92CA-4DD2-B7FC-31AEA985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D9B88-E045-4E8D-A80B-C6505CCA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A72B7-68E1-4164-92C8-355F7A4C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AC4B-2AB5-4F95-BF47-5F39A27E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B11F6-E08C-4603-9618-6DEFF2C6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DED97-4374-48D1-904D-6F7950D7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B1B22-B9EB-427C-9427-D332F1AE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8926EE-EA8A-4FA0-A620-648975F4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E1561-D7E8-4892-A53B-7A2CF71A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36448-2CFA-4AF8-8C5B-C539E86C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0385F-B094-4A02-A28F-D6ABA58A6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87FC-485D-4BF9-A6FA-C6DB82BA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5D3D0-B61F-4C30-B6CA-6A7D500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AE4FF-D49F-4588-BF03-070E97BD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23AB7-390E-4948-A6F7-83B7E248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139E0-7816-466F-A299-D1B63A082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4EE53-495D-42DE-8903-5148269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D1807-B767-457C-B13E-D1A0E69E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41DAE-D088-4DD4-B6DD-15FF64E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D077-E591-473E-9DC0-6668638EBF63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F6BF-2F40-4A2F-934F-C2A8D9D94088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مصادر اموال البنك العقاري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الفصل الثالث</a:t>
            </a: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المصدر الرابع : الودائع</a:t>
            </a:r>
            <a:r>
              <a:rPr b="0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بوب الودائع التي يقبلها المصرف الى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مجموع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ودائع الجارية : ودائع قابلة لسحب عند طلب المودع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دائع التوفير او الادخار : قابلة للسحب بعد اشعا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دائع ثابتة : تودع باستحقاقات محددة مسبق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هادات الايداع المصرفي : تصدر بمبالغ متفاوتة و اجال متفاوت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08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5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دخار السكن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مصدر الخامس : تحصيل القروض و بيع الاستثمارات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27160" y="1522440"/>
            <a:ext cx="6724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أ - تحصيل القروض الممنوح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buClr>
                <a:srgbClr val="00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صدر مهما داخليا للبنك</a:t>
            </a:r>
            <a:r>
              <a:rPr b="0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يمتاز بالقدرة و التنبؤ بمبالغة وإجال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ب. بيع الاستثمارات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قد يدفع البنك الى تصفية بعض اجزاء من الاستثمارات التي يملكها اذا كانت الضغوط منصبة علية لمواجهة الحاجة للسيولة العامل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قد يحقق خسارة اذا كان البيع على عجل</a:t>
            </a:r>
            <a:r>
              <a:rPr b="0" lang="ar-SA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80880" indent="-3808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120" y="1612800"/>
            <a:ext cx="7937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بنك العقاري بنك ديناميكي : مجمع للأموال, يتحرك باستمرا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مكن تقسيم ادارة الاموال في البنك العقاري الى مجموعتين من الانشطة هم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نشطة تجهيز الاموال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نشطة استخدام الاموا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464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طبيعة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1270080" y="1625760"/>
            <a:ext cx="60008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صادر اموال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523520"/>
            <a:ext cx="7505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مصادر اموال البنك العقار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أس المال و الزيادة ف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حتجاز الارباح الصافية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ودائع المتنوع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اقتراض من الغي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حصيل القروض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 algn="r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يع الاستثمار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رأسمال المصرف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60360" y="1599840"/>
            <a:ext cx="547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. رأس المال المدفوع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يحصل علية من المالكين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كثر المصادر ديمومة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مصرف يحصل على رأس المال من خلال بيع اسهم في السوق المالي</a:t>
            </a:r>
            <a:r>
              <a:rPr b="1" lang="ar-SA" sz="3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25800" indent="-32580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05600" indent="-271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2" name="Picture 6" descr="80-400703995"/>
          <p:cNvPicPr/>
          <p:nvPr/>
        </p:nvPicPr>
        <p:blipFill>
          <a:blip r:embed="rId1"/>
          <a:stretch/>
        </p:blipFill>
        <p:spPr>
          <a:xfrm>
            <a:off x="898560" y="282744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 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مثل المالكين في أدارة البنك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ن خلال التمثيل بالجمعية العمومية و من ثم بمجلس الادار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راء الموجودات (ألأصول) الثابتة اللازمة لبدء البنك و استمراره في عمل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متصاص الخسائر العامل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في حال حقق البنك خسارة في نهاية السنة فأن هذه الخسارة ترحل الى حساب حق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98480" y="1469520"/>
            <a:ext cx="76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سمى المصرف مليئا اذا كانت الموجودات اكبر من المطلوب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حمي المصرف نفسه من الخسارة العاملة الناشئة عن تعثر الديون من خلال مخصص الدين المشكوك فيه و يقدر تقديرا , يستقطع هذا الحساب كل سنة من حساب الارباح والخسائر (باعتبار الدين المشكوك بة مصروفا)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م يحمل لحساب السنة القادم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وظائف رأسمال البنك العقاري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01520" y="1533240"/>
            <a:ext cx="6910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دعيم ثقة المودعين و السلطات الرقابية في قدرة البنك على مواجهة المشكل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رأس المال الكافي يساعد على ابقاء المصرف سائرا و يستطيع ان ينمي نفسة و زيادة رأس الما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مصدر الثاني : الارباح المحتجزة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ستعمل لما يأت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دفع مقسوم الارباح السنو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عتمد على سياسة البنك و ملكيته (قطاع عام او قطاع خاص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قطاع الخاص يوجد قوانين و انظمة تحدد التوزيع  في حين القطاع الخاص يؤخذ بعين الاعتبار ارضاء المالكين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دعيم رأس المال من خلال احتجاز الارباح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لمصدر الثالث : الاقتراض من الغير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مصارف العقارية تقترض من الغير لزيادة رأس المال و خاصة للآجال طويلة و متوسط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قد يكون الاقتراض مباشر او غير مباشر من خلال اصدار سندات و طرحها بالسوق المال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تفاوت اشكال الاقتراض من الغير و لكنها تكون دائما اقل اسبقية من الودائع حيث اللاحقة في التسديد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3-08T05:07:19Z</dcterms:modified>
  <cp:revision>113</cp:revision>
  <dc:subject/>
  <dc:title>Slide 1</dc:title>
</cp:coreProperties>
</file>