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62993-8821-4CDA-A1B3-9339713ADC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A543-A893-438D-8963-52CDE408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6F32-FF86-49B2-A3A4-82BC4D22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C4C31-A5E4-4014-B082-71C287143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73970-3FC6-46A3-9FA2-CE2DC5F4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6297C5-BF09-455E-BD0C-BED686BB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D392F-396C-49F9-9384-C3308147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44DD8-5ADC-4F2C-B704-429A9195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2AC58-7A3C-4140-ACA2-AA38CC37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5C7D6-D91C-4F29-8663-7D859163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910E9-B433-4DF8-A7B2-1CBEB8DF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13EA-7E93-43FD-903C-AC858D45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1E0AC-6EE6-496F-BB46-8FB8346E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4DEA6-1CB4-4A4D-A1BB-6F75CFC9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EE4A2-189A-46E3-B76E-0F6A6719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43E1E-BDE5-4888-B638-CDF5F50A4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C8A9C-8B2D-4849-ABE6-983F4B49D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45DF6-EE12-4027-A0B7-E6302F04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693EE-D4E9-4F2C-AA94-9238EDCB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59BC-0428-417C-93E3-35A6D696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77760" y="228600"/>
            <a:ext cx="75693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A2894-0A27-475F-9C4C-AF107176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5A45-A55A-4B61-8B39-93EF9E84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B95A-AC44-4FC5-81B2-502097EA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01E2-C175-4D86-B207-C191ED05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26E4-72C9-4B8F-A3FD-DA0465FC4925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6"/>
          <p:cNvSpPr/>
          <p:nvPr/>
        </p:nvSpPr>
        <p:spPr>
          <a:xfrm>
            <a:off x="2660760" y="634680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© 2011 Cengage Learning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" name="Picture 10" descr="oranges.jpg"/>
          <p:cNvPicPr/>
          <p:nvPr/>
        </p:nvPicPr>
        <p:blipFill>
          <a:blip r:embed="rId9"/>
          <a:stretch/>
        </p:blipFill>
        <p:spPr>
          <a:xfrm>
            <a:off x="190440" y="179280"/>
            <a:ext cx="660600" cy="98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26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7" name="AutoShape 1027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1028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AutoShape 1029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Line 1030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pic>
        <p:nvPicPr>
          <p:cNvPr id="51" name="Picture 16" descr="Florida beach house.jpg"/>
          <p:cNvPicPr/>
          <p:nvPr/>
        </p:nvPicPr>
        <p:blipFill>
          <a:blip r:embed="rId2"/>
          <a:stretch/>
        </p:blipFill>
        <p:spPr>
          <a:xfrm>
            <a:off x="409680" y="1523880"/>
            <a:ext cx="1952640" cy="14432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2630520" y="6253200"/>
            <a:ext cx="389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2011 Cengage Lear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E0EC-6A00-48F5-A8A4-ED7FC3D4173E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87520" y="1509480"/>
            <a:ext cx="6400800" cy="17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اداره السيولة في المصرف العقاري</a:t>
            </a:r>
            <a:r>
              <a:rPr b="1" lang="ar-SA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600"/>
            </a:b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240" y="335232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الفصل الرابع</a:t>
            </a:r>
            <a:r>
              <a:rPr b="1" lang="ar-SA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مكونات  الاحتياط الثانوي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حوالات او اذونات الخزين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سندات الحكوم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شهادات الايداع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وجودات اخرى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120" y="1612800"/>
            <a:ext cx="7937640" cy="44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بوب انشطة استخدام الاموال بالبنك العقاري ال خمس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احتياطيات الاولية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2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احتياطيات الثانو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3.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دارة القروض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استثمارات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5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موجودات الثابت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464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استخدام الاموال في البنك العقاري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ontent Placeholder 4"/>
          <p:cNvSpPr/>
          <p:nvPr/>
        </p:nvSpPr>
        <p:spPr>
          <a:xfrm>
            <a:off x="1270080" y="1625760"/>
            <a:ext cx="6000840" cy="44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1320" y="1523520"/>
            <a:ext cx="7505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مى ادارة الاحتياطيات الاولية و الثانوية معا بإدارة السيول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مى ادارة القروض و الاستثمارات بإدارة الائتمان او الربح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ادارة الاحتياطات الاولية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59880" y="15998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احتياط الاولي : هو الموجودات السائلة التي لا يحقق المصرف مردودا فهي اساسا النقد في الصندوق و الفقرات النقدية برسم التحصيل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01680" indent="-301680"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بنك العقاري اقل حاجة للاحتياط الاولي قياسا بالمصارف الاخرى بسسب عدم اعتمادة لودائع الجارية و وودائع التوفير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01680" indent="-3016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3760" indent="-251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اسباب الاحتفاظ الاحتياطات الاولية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01800" y="1599840"/>
            <a:ext cx="7632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واجهة السحب من الودائع (اذا كان مسموحا)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احتفاظ برصيد نقدي لدى المصارف الاخرى للسحب عند الحاج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واجهة السحب على البنك مقابل موافقته على منح القرض السكن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واجهة المصروفات العاملة مثل الرواتب والأجور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822960" indent="-411480" algn="r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الوفاء بمتطلبات الاحتياطي القانوني النقد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مكونات الاحتياط الاولي</a:t>
            </a: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98480" y="1469520"/>
            <a:ext cx="76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العملة الورقية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الارصدة المحتفظ بها كودائع لدى مصارف اخرى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الفقرات برسم التحصيل مثل الشيكات و الحوالات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الارصدة المحتفظ بها لدى البنك المركزي للدولة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Times New Roman"/>
                <a:cs typeface="Times New Roman"/>
              </a:rPr>
              <a:t>الارصدة المحتفظ بها لدى المصارف الخارجية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marL="511920" indent="-5119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702480" y="45194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5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الاحتياط الثانوي</a:t>
            </a: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01520" y="1533240"/>
            <a:ext cx="691020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موجودات سائلة جدا تحقق عائدا متواضعا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غرضها الرئيسي تدعيم الاحتياطات الاولية عند الحاجة و استيعاب ما يفيض من الاحتياطات الاولية عن متطلبات المصرف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تعتبر ذخيرة او خزانا للسيولة تفتح ابوابة عند الحاجة لغرض تحويل جزء منة الى احتياطات اول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مواصفات  الاحتياط الثانوي</a:t>
            </a:r>
            <a:r>
              <a:rPr b="1" lang="ar-SA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يشترط توفر ما يلي بالاحتياط الثانوي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استحقاق قصير الاج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ذلك لان اسعار الاستثمار ذات الاجل الطويل تتعرض لتقلبات حادة بسب تقلب سعر الفائدة قياسا يالاستثمارات ذات الاجل الطويل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انخفاض المخاطر الائتمانية</a:t>
            </a: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يقصد بالمخاطر الائتمانية احتمال عدم قيام المدين بالوفاء بالتزاماته كما متفق عل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7760" y="228600"/>
            <a:ext cx="7569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ffff"/>
                </a:solidFill>
                <a:latin typeface="Arial"/>
              </a:rPr>
              <a:t>مواصفات  الاحتياط الثانوي</a:t>
            </a:r>
            <a:endParaRPr b="1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بيعية او القابلية على التسويق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و يقصد بها ضرورة توفر سوق حاضرة مع عرض وطلب مستمرين بحيث أنة بإمكان البائع بيعها بسعر السوق ايضا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9:45:42Z</dcterms:created>
  <dc:creator>Karen Loftus</dc:creator>
  <dc:description>k.l.lotus@comcst.net</dc:description>
  <dc:language>en-US</dc:language>
  <cp:lastModifiedBy>Administrator</cp:lastModifiedBy>
  <dcterms:modified xsi:type="dcterms:W3CDTF">2011-03-13T12:37:36Z</dcterms:modified>
  <cp:revision>116</cp:revision>
  <dc:subject/>
  <dc:title>Slide 1</dc:title>
</cp:coreProperties>
</file>