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EBB4F-1ACF-4656-9203-71DE3792F5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693AF-4CCA-400A-B0D6-6FFCC7C0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52D67-EA76-4761-B6CC-30F6D136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95BFE-DE1F-4578-B1B9-1814289409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9AF3B-7F1D-44D8-9ED7-1CBA8065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A3549-8F05-48BC-BC7C-07D8FFCC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5AFD9-2ACD-48D5-ACA7-222052FF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0D4EF-FA07-4B98-825B-76B0C09D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46BD9-4B11-4A38-9790-CD44CFA1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77760" y="228600"/>
            <a:ext cx="7569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15022-87A5-447F-9FA3-E18A9B60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1AE9E-9FE6-464F-92E1-74946669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1F386-95C9-4D88-AFF7-BC1E7C3D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CE653-E508-4509-B308-26334C1D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157AA-0CB7-4ADB-A808-3ABAE0CC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9B534-F6D9-4788-A8BE-AF057FE1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22E74-DF02-49E1-BC04-3A777A2A8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61C46-C8EC-4F32-8403-14F27B34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B3245-933C-4B99-8270-F2A37E5A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9E63B-A693-4EF1-91D7-46DFE4F6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39F32-BADF-4B60-8D63-3D404A8D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77760" y="228600"/>
            <a:ext cx="7569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1E594-E648-4223-97B4-A22CBD07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69FA3-1A5B-46D9-84CD-116F27BB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36F13-A8D0-4609-8710-3D77F532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DF126-57B7-4A7D-A46F-EA2D4A1A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956F-A827-4F52-9D5D-590FB794BED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6"/>
          <p:cNvSpPr/>
          <p:nvPr/>
        </p:nvSpPr>
        <p:spPr>
          <a:xfrm>
            <a:off x="2660760" y="6346800"/>
            <a:ext cx="23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© 2011 Cengage Learning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" name="Picture 10" descr="oranges.jpg"/>
          <p:cNvPicPr/>
          <p:nvPr/>
        </p:nvPicPr>
        <p:blipFill>
          <a:blip r:embed="rId9"/>
          <a:stretch/>
        </p:blipFill>
        <p:spPr>
          <a:xfrm>
            <a:off x="190440" y="179280"/>
            <a:ext cx="660600" cy="98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26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7" name="AutoShape 1027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8" name="Rectangle 1028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9" name="AutoShape 1029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0" name="Line 1030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pic>
        <p:nvPicPr>
          <p:cNvPr id="51" name="Picture 16" descr="Florida beach house.jpg"/>
          <p:cNvPicPr/>
          <p:nvPr/>
        </p:nvPicPr>
        <p:blipFill>
          <a:blip r:embed="rId2"/>
          <a:stretch/>
        </p:blipFill>
        <p:spPr>
          <a:xfrm>
            <a:off x="409680" y="1523880"/>
            <a:ext cx="1952640" cy="14432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4"/>
          </p:nvPr>
        </p:nvSpPr>
        <p:spPr>
          <a:xfrm>
            <a:off x="2630520" y="6253200"/>
            <a:ext cx="389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1 Cengage Lea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FE0A-98C2-4461-8699-B4FCCA801AB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87520" y="1509480"/>
            <a:ext cx="6400800" cy="17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داره السيولة في المصرف العقاري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6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240" y="335232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50021"/>
                </a:solidFill>
                <a:latin typeface="Arial"/>
              </a:rPr>
              <a:t>الفصل الرابع</a:t>
            </a:r>
            <a:r>
              <a:rPr b="1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Arial"/>
              </a:rPr>
              <a:t>مكونات  الاحتياط الثانوي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حوالات او اذونات الخزينة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السندات الحكومية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شهادات الايداع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موجودات اخرى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09120" y="1612800"/>
            <a:ext cx="7937640" cy="44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تبوب انشطة استخدام الاموال بالبنك العقاري ال خمس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الاحتياطيات الاولية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الاحتياطيات الثانوية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3.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ادارة القروض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الاستثمارات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5.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الموجودات الثابتة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7464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استخدام الاموال في البنك العقاري</a:t>
            </a: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Content Placeholder 4"/>
          <p:cNvSpPr/>
          <p:nvPr/>
        </p:nvSpPr>
        <p:spPr>
          <a:xfrm>
            <a:off x="1270080" y="1625760"/>
            <a:ext cx="600084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1523520"/>
            <a:ext cx="7505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سمى ادارة الاحتياطيات الاولية و الثانوية معا بإدارة السيول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سمى ادارة القروض و الاستثمارات بإدارة الائتمان او الربح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ادارة الاحتياطات الاولية</a:t>
            </a: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59880" y="1599840"/>
            <a:ext cx="7874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احتياط الاولي : هو الموجودات السائلة التي لا يحقق المصرف مردودا فهي اساسا النقد في الصندوق و الفقرات النقدية برسم التحصيل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01680" indent="-3016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بنك العقاري اقل حاجة للاحتياط الاولي قياسا بالمصارف الاخرى بسسب عدم اعتمادة لودائع الجارية و وودائع التوفير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01680" indent="-3016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3760" indent="-25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اسباب الاحتفاظ الاحتياطات الاولية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01800" y="1599840"/>
            <a:ext cx="7632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822960" indent="-411480" algn="r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مواجهة السحب من الودائع (اذا كان مسموحا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822960" indent="-411480" algn="r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الاحتفاظ برصيد نقدي لدى المصارف الاخرى للسحب عند الحاجة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822960" indent="-411480" algn="r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مواجهة السحب على البنك مقابل موافقته على منح القرض السكني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822960" indent="-411480" algn="r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مواجهة المصروفات العاملة مثل الرواتب والأجور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822960" indent="-411480" algn="r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الوفاء بمتطلبات الاحتياطي القانوني النقدي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مكونات الاحتياط الاولي</a:t>
            </a: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98480" y="1469520"/>
            <a:ext cx="763416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ar-SA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3399"/>
                </a:solidFill>
                <a:latin typeface="Times New Roman"/>
                <a:cs typeface="Times New Roman"/>
              </a:rPr>
              <a:t>العملة الورقية</a:t>
            </a:r>
            <a:r>
              <a:rPr b="0" lang="ar-SA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11920" indent="-51192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</a:t>
            </a:r>
            <a:r>
              <a:rPr b="0" lang="ar-SA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003399"/>
                </a:solidFill>
                <a:latin typeface="Times New Roman"/>
                <a:cs typeface="Times New Roman"/>
              </a:rPr>
              <a:t>الارصدة المحتفظ بها كودائع لدى مصارف اخرى</a:t>
            </a:r>
            <a:r>
              <a:rPr b="0" lang="ar-SA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11920" indent="-51192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</a:t>
            </a:r>
            <a:r>
              <a:rPr b="0" lang="ar-SA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003399"/>
                </a:solidFill>
                <a:latin typeface="Times New Roman"/>
                <a:cs typeface="Times New Roman"/>
              </a:rPr>
              <a:t>الفقرات برسم التحصيل مثل الشيكات و الحوالات</a:t>
            </a:r>
            <a:r>
              <a:rPr b="0" lang="ar-SA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11920" indent="-51192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</a:t>
            </a:r>
            <a:r>
              <a:rPr b="0" lang="ar-SA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003399"/>
                </a:solidFill>
                <a:latin typeface="Times New Roman"/>
                <a:cs typeface="Times New Roman"/>
              </a:rPr>
              <a:t>الارصدة المحتفظ بها لدى البنك المركزي للدولة</a:t>
            </a:r>
            <a:r>
              <a:rPr b="0" lang="ar-SA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11920" indent="-5119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</a:t>
            </a:r>
            <a:r>
              <a:rPr b="0" lang="ar-SA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003399"/>
                </a:solidFill>
                <a:latin typeface="Times New Roman"/>
                <a:cs typeface="Times New Roman"/>
              </a:rPr>
              <a:t>الارصدة المحتفظ بها لدى المصارف الخارجية</a:t>
            </a:r>
            <a:r>
              <a:rPr b="0" lang="ar-SA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511920" indent="-5119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511920" indent="-511920" algn="r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511920" indent="-511920" algn="r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511920" indent="-5119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702480" y="45194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Arial"/>
              </a:rPr>
              <a:t>الاحتياط الثانوي</a:t>
            </a:r>
            <a:r>
              <a:rPr b="1" lang="ar-SA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01520" y="1533240"/>
            <a:ext cx="69102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موجودات سائلة جدا تحقق عائدا متواضعا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غرضها الرئيسي تدعيم الاحتياطات الاولية عند الحاجة و استيعاب ما يفيض من الاحتياطات الاولية عن متطلبات المصرف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تعتبر ذخيرة او خزانا للسيولة تفتح ابوابة عند الحاجة لغرض تحويل جزء منة الى احتياطات اولية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Arial"/>
              </a:rPr>
              <a:t>مواصفات  الاحتياط الثانوي</a:t>
            </a:r>
            <a:r>
              <a:rPr b="1" lang="ar-SA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يشترط توفر ما يلي بالاحتياط الثانوي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ستحقاق قصير الاج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ذلك لان اسعار الاستثمار ذات الاجل الطويل تتعرض لتقلبات حادة بسب تقلب سعر الفائدة قياسا يالاستثمارات ذات الاجل الطويل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نخفاض المخاطر الائتماني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يقصد بالمخاطر الائتمانية احتمال عدم قيام المدين بالوفاء بالتزاماته كما متفق علية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مواصفات  الاحتياط الثانوي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بيعية او القابلية على التسويق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و يقصد بها ضرورة توفر سوق حاضرة مع عرض وطلب مستمرين بحيث أنة بإمكان البائع بيعها بسعر السوق ايضا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9:45:42Z</dcterms:created>
  <dc:creator>Karen Loftus</dc:creator>
  <dc:description>k.l.lotus@comcst.net</dc:description>
  <dc:language>en-US</dc:language>
  <cp:lastModifiedBy>Administrator</cp:lastModifiedBy>
  <dcterms:modified xsi:type="dcterms:W3CDTF">2011-03-13T12:37:36Z</dcterms:modified>
  <cp:revision>116</cp:revision>
  <dc:subject/>
  <dc:title>Slide 1</dc:title>
</cp:coreProperties>
</file>