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962-B1AB-43CD-A46B-BEFF47B1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9EE-FE0D-4D5E-B4A3-C236787A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5A9-BB37-4169-93AA-38C5B7C8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2CF-41A7-493D-91BD-1FECA945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FD8-E3FD-4FE1-97B5-06A164D2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B8A-3E3F-43F1-9CEA-CF00D44E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644-683A-45FC-B2ED-76E13614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118-5F3A-4C72-804F-7AFEF568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36F-80AF-48B3-96D2-2508035B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D7D-4AAB-4D71-9156-5EBD113B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9FA-AE44-4906-9B2A-D2E9993E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FF2-0710-400D-9B27-EE9C1DF0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6AB6-73E4-4D63-842B-A033AFFC101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Alooly\Desktop\C.N\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Alooly\Desktop\C.N\Slide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Alooly\Desktop\C.N\Slide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Alooly\Desktop\C.N\Slide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Users\Alooly\Desktop\C.N\Slide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Users\Alooly\Desktop\C.N\Slid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looly\Desktop\C.N\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Alooly\Desktop\C.N\Slid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Alooly\Desktop\C.N\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Alooly\Desktop\C.N\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Alooly\Desktop\C.N\Slide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Alooly\Desktop\C.N\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Alooly\Desktop\C.N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Alooly\Desktop\C.N\Slide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Alooly\Desktop\C.N\Slide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1:34:59Z</dcterms:created>
  <dc:creator>Windows User</dc:creator>
  <dc:description/>
  <dc:language>en-US</dc:language>
  <cp:lastModifiedBy>Windows User</cp:lastModifiedBy>
  <dcterms:modified xsi:type="dcterms:W3CDTF">2011-01-19T11:40:07Z</dcterms:modified>
  <cp:revision>2</cp:revision>
  <dc:subject/>
  <dc:title>Slide 1</dc:title>
</cp:coreProperties>
</file>