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A24-EFD3-47D7-A10C-100953D7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2AE-5C3F-4050-AA0B-EC6736CC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FB-FFDB-4A91-A233-0F4013D6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5B3-7D91-42E5-A0C2-A8E7FADA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91E-DD00-4495-BB2D-D3ED8A5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1F1-CE84-4B13-BD71-B2EBFE6F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49-4B60-4B3C-93EA-9558789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638-16A1-4F76-B753-B8D9A1EC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E34-5374-46AA-8F8C-C382C08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B93-267A-410C-8C31-05D8D2C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D35-E4AD-4FFF-803B-26A98CF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A55-36A8-4A77-95C6-9F91D41F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489-955F-4A33-A479-DD1F399D04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Alooly\Desktop\C.N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looly\Desktop\C.N\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looly\Desktop\C.N\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Alooly\Desktop\C.N\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looly\Desktop\C.N\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looly\Desktop\C.N\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looly\Desktop\C.N\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Alooly\Desktop\C.N\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looly\Desktop\C.N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ooly\Desktop\C.N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Alooly\Desktop\C.N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Alooly\Desktop\C.N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looly\Desktop\C.N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looly\Desktop\C.N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looly\Desktop\C.N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34:59Z</dcterms:created>
  <dc:creator>Windows User</dc:creator>
  <dc:description/>
  <dc:language>en-US</dc:language>
  <cp:lastModifiedBy>Windows User</cp:lastModifiedBy>
  <dcterms:modified xsi:type="dcterms:W3CDTF">2011-01-19T11:40:07Z</dcterms:modified>
  <cp:revision>2</cp:revision>
  <dc:subject/>
  <dc:title>Slide 1</dc:title>
</cp:coreProperties>
</file>