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E7D-9FB7-4248-BBDB-07559EA9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5E6-4137-42EA-97B4-863CE398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8E6-FF95-4D86-9F0D-B69BBCBD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9D0-7135-4CEB-B321-51EDE83C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26CC7-09FA-4F85-833B-B38D8B1F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ABCFF-4A4D-4CF8-BE5C-AE8E85E0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48059-E2A0-44E1-A1AF-6AAEC956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BB690-DD2C-4FC5-B012-8B02EA6E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283E9-2E48-47DF-BEEB-ADE055B6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03457-B332-4505-B5A1-5A0F58E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9EACA-7975-4993-A094-51AE560C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094-1EF2-4D94-A85A-F5D0D127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F2BB4-4101-4A1E-9486-A6E499D4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D6F70-99BE-41E9-BB63-D796872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CF7E5-906C-4A81-B04E-2D4DCCC0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BAE9F-E8AD-44CB-AE38-8DC757BD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CE95D-4D62-4177-A800-C9C08B4E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77F-A61B-44F9-93AF-B20DA102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2DD-C178-45A9-84A2-35BC83C6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CAA-D46A-4932-8A85-FC2C0C1B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4C3-D0F8-4F06-94DE-AB8827C9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FC0-A2FE-472A-8511-9F504649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112-0E69-4549-82AD-4092F0B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6B4-ED56-42E5-A738-269A3ED9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0986-CB70-4682-A13C-111531848A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4643-9A2A-4A90-9FF1-F403CA8D942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L. 32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ed 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. Mohammed Ass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ing Assist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llege  of Pharm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nk 4" descr=""/>
          <p:cNvPicPr/>
          <p:nvPr/>
        </p:nvPicPr>
        <p:blipFill>
          <a:blip r:embed="rId1"/>
          <a:stretch/>
        </p:blipFill>
        <p:spPr>
          <a:xfrm>
            <a:off x="4503600" y="4172040"/>
            <a:ext cx="157320" cy="15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gns and sympto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Elevate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Increase Motor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 Increase Aler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 Decrease need for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ase of overdose lead to convulsion and d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A of 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Block neurotransmitters reupta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Most reuptake inhibitors affect either NE or 5-HT(Serotoni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Promote neurotransmitters rel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Block Metabolism - MAO inhibitors (monoamine oxida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Antagonize the effect of inhibitory neurotransmi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nal Synap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68360" y="1413000"/>
          <a:ext cx="784872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78487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be divided based on their site of ac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rebral stimulants (Amphetamine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Medullary stimulants (Pic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Spinal stimulants (Strychni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b Work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bjectiv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To demonstrate effects of some CNS stimulant on m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After the lab, you will be able to handle and inject the mice correct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You will be able to differentiate between Amphetamine,Picrotoxin and Strychinine regarding the symptoms that induced by each of th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 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 the reuptake of norepinephrine and dopamine into the presynaptic neuron and increase the release of these monoamines into the extraneuronal spac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- Clinical u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Narcoleps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Attention-deficit hyperactivity disorder (ADH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erse effec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Cardiovascular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tens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ndocrine metabol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 lo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Gastrointestinal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dominal pain,Loss of appetite Xerosto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Neurolog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ache , Insom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Psychiatr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ling nervo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injecting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mice with amphetamine you will notic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Hair e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Licking, gnaw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ereo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niff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rotoxin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competitive antagonist of GABA recep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picrotoxin you w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 by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Asymmet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Intermit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Spontane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Coordin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ychinin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ive antagonist of the glycin receptor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Strychinine you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Symmetr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Reflex in ori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Continu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Uncoordin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- CNS Stimulants Drug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rvous System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can be classified 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Central Nervous System (CN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rain and spinal 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eripheral Nervous System (PNS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outside of the brain and spinal cor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ipheral Nervo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Syste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PN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divided i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sory division(a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receptors to the CNS and Informs the CNS of the state of the bod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or division(e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CNS to effectors orga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tor Neur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or division is also divided i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somatic nervous system 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ARY (generally) Somatic nerve fibers that conduct impulses from the CNS to skeletal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autonomic nervous syste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UNTARY (generally) Conducts impulses from the CNS to smooth muscle, cardiac muscle, and gla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uron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the basic functional unit of the nervous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three major part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ll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ndr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ax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f0429-01"/>
          <p:cNvPicPr/>
          <p:nvPr/>
        </p:nvPicPr>
        <p:blipFill>
          <a:blip r:embed="rId1"/>
          <a:stretch/>
        </p:blipFill>
        <p:spPr>
          <a:xfrm>
            <a:off x="611280" y="1773360"/>
            <a:ext cx="756108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urotransmitters C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be classified into 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citat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ch, glutamate, aspartate , serotonin and N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 Inhibitory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GABA , glyci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imulants are a substance which tends to increase behavioral activity when administer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0:57:46Z</dcterms:created>
  <dc:creator>user</dc:creator>
  <dc:description/>
  <dc:language>en-US</dc:language>
  <cp:lastModifiedBy>Mohammed</cp:lastModifiedBy>
  <dcterms:modified xsi:type="dcterms:W3CDTF">2013-09-13T16:14:07Z</dcterms:modified>
  <cp:revision>21</cp:revision>
  <dc:subject/>
  <dc:title>CNS Stimulants Drugs</dc:title>
</cp:coreProperties>
</file>