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1C3-E9AA-49BA-8B34-FE7AA4C4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2FAF-97C3-4FE2-872D-98561C7E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FAC-08D0-4773-BFDD-64E7C757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F216-7053-4D2A-B372-7ACC063B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7125C-1746-4BF2-94E7-86AC22F3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F56BB-0237-467D-8355-903B3651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C7EEB-E374-47DB-B221-D12BEAF2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10474-0B64-4F3B-AF9A-1434F6AE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AFAE6-AAE2-4537-9514-611F42A1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55BE4-D45E-4B13-830A-7ECA4409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AEBB4-8C12-477E-9000-A5FC896C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FEF-039E-4F72-BD68-BED7C536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6836E-F390-4E26-9CDF-F28F257D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F357A-E661-4D56-BE5C-88EC05AA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722A3-4E9E-4B95-885E-779EED66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C74C5-9F54-4246-8F03-F443AEC7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292A5-FE4B-4651-845A-D50C5AEE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8356-5476-4B34-884B-E307949C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0C7-ECE0-4FD9-A043-45A566FD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327-2CE4-4877-B208-6BCE2ECA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CAA-A7A7-4515-944F-A0638A0C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E91-115C-4CA0-AB0E-37CA9DAF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CB5-0EB9-4574-88AD-C6F02345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8EA2-411A-47A6-B032-52905BC4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A290-6055-4320-85D6-E3BD139596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DA7A-B1D3-4360-A5B8-AB20821F383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L. 32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nted b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h. Mohammed Assi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ing Assist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llege  of Pharm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Ink 4" descr=""/>
          <p:cNvPicPr/>
          <p:nvPr/>
        </p:nvPicPr>
        <p:blipFill>
          <a:blip r:embed="rId1"/>
          <a:stretch/>
        </p:blipFill>
        <p:spPr>
          <a:xfrm>
            <a:off x="4503600" y="4172040"/>
            <a:ext cx="157320" cy="15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gns and symptom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 Elevate M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- Increase Motor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 Increase Alert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- Decrease need for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ase of overdose lead to convulsion and dea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A of CNS Stimulan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- Block neurotransmitters reuptak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Most reuptake inhibitors affect either NE or 5-HT(Serotonin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- Promote neurotransmitters rel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- Block Metabolism - MAO inhibitors (monoamine oxida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Antagonize the effect of inhibitory neurotransmi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nal Synap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468360" y="1413000"/>
          <a:ext cx="784872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3000"/>
                    <a:ext cx="784872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NS Stimulan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They can be divided based on their site of ac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Cerebral stimulants (Amphetamine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Medullary stimulants (Picrotox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Spinal stimulants (Strychnin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Lab Work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bjectiv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- To demonstrate effects of some CNS stimulant on m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- After the lab, you will be able to handle and inject the mice correctl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- You will be able to differentiate between Amphetamine,Picrotoxin and Strychinine regarding the symptoms that induced by each of them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- Amphetam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A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ck the reuptake of norepinephrine and dopamine into the presynaptic neuron and increase the release of these monoamines into the extraneuronal space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- Clinical u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Narcoleps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Attention-deficit hyperactivity disorder (ADH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mphetam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erse effec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Cardiovascular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tens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Endocrine metabolic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ight lo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Gastrointestinal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dominal pain,Loss of appetite Xerostom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Neurologic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dache , Insom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Psychiatric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eling nervou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mphetamin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injecting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mice with amphetamine you will notic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Hair er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Licking, gnaw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tereoty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niff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rotoxin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-competitive antagonist of GABA recep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injecting the mice with picrotoxin you wi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lonic convul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haracterized by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Asymmetr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Intermit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Spontaneo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Coordin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ychinine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etitive antagonist of the glycin receptor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injecting the mice with Strychinine you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onic convul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haracterize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Symmetr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Reflex in orig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Continuo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Uncoordina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- CNS Stimulants Drugs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rvous System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rvous system can be classified i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Central Nervous System (CN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rain and spinal 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eripheral Nervous System (PNS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rvous system outside of the brain and spinal cord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ipheral Nervo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Syste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PNS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be divided int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nsory division(affre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s impulses from receptors to the CNS and Informs the CNS of the state of the bod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tor division(effre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s impulses from CNS to effectors orga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tor Neur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tor division is also divided i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somatic nervous system 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UNTARY (generally) Somatic nerve fibers that conduct impulses from the CNS to skeletal mus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autonomic nervous syste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UNTARY (generally) Conducts impulses from the CNS to smooth muscle, cardiac muscle, and gla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uron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the basic functional unit of the nervous syst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ontain three major part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cell bo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dendri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axo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u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f0429-01"/>
          <p:cNvPicPr/>
          <p:nvPr/>
        </p:nvPicPr>
        <p:blipFill>
          <a:blip r:embed="rId1"/>
          <a:stretch/>
        </p:blipFill>
        <p:spPr>
          <a:xfrm>
            <a:off x="611280" y="1773360"/>
            <a:ext cx="7561080" cy="39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urotransmitters CN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n be classified into 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citator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ch, glutamate, aspartate , serotonin and N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. Inhibitory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GABA , glycin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NS Stimulants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f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imulants are a substance which tends to increase behavioral activity when administer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0:57:46Z</dcterms:created>
  <dc:creator>user</dc:creator>
  <dc:description/>
  <dc:language>en-US</dc:language>
  <cp:lastModifiedBy>Mohammed</cp:lastModifiedBy>
  <dcterms:modified xsi:type="dcterms:W3CDTF">2013-09-13T16:14:07Z</dcterms:modified>
  <cp:revision>21</cp:revision>
  <dc:subject/>
  <dc:title>CNS Stimulants Drugs</dc:title>
</cp:coreProperties>
</file>