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6B37-6104-482B-94E8-A5CEDB8F6A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A5A97-8197-452A-A332-CF64B12FB2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444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5B9A-7FE2-424B-9419-7FCE6BA7C8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444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F494D-F482-4CA9-8623-8FB382C00F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sldImg"/>
          </p:nvPr>
        </p:nvSpPr>
        <p:spPr>
          <a:xfrm>
            <a:off x="1108080" y="654120"/>
            <a:ext cx="4635360" cy="3476520"/>
          </a:xfrm>
          <a:prstGeom prst="rect">
            <a:avLst/>
          </a:prstGeom>
          <a:ln w="0">
            <a:noFill/>
          </a:ln>
        </p:spPr>
      </p:sp>
      <p:sp>
        <p:nvSpPr>
          <p:cNvPr id="270" name="PlaceHolder 2"/>
          <p:cNvSpPr>
            <a:spLocks noGrp="1"/>
          </p:cNvSpPr>
          <p:nvPr>
            <p:ph type="body"/>
          </p:nvPr>
        </p:nvSpPr>
        <p:spPr>
          <a:xfrm>
            <a:off x="417600" y="4349880"/>
            <a:ext cx="6013440" cy="4132080"/>
          </a:xfrm>
          <a:prstGeom prst="rect">
            <a:avLst/>
          </a:prstGeom>
          <a:noFill/>
          <a:ln w="0">
            <a:noFill/>
          </a:ln>
        </p:spPr>
        <p:txBody>
          <a:bodyPr lIns="92160" rIns="92160" tIns="46080" bIns="46080" anchor="t">
            <a:noAutofit/>
          </a:bodyPr>
          <a:p>
            <a:pPr indent="0" algn="ctr">
              <a:spcBef>
                <a:spcPts val="451"/>
              </a:spcBef>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Approaches in the Diagnosis and Management of Urticaria and Angioedema</a:t>
            </a:r>
            <a:endParaRPr b="0" lang="en-US" sz="1200" spc="-1" strike="noStrike">
              <a:solidFill>
                <a:srgbClr val="000000"/>
              </a:solidFill>
              <a:latin typeface="Arial"/>
            </a:endParaRPr>
          </a:p>
          <a:p>
            <a:pPr indent="0" algn="ctr">
              <a:spcBef>
                <a:spcPts val="451"/>
              </a:spcBef>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et was prepared on behalf of the Urticaria and Angioedema Committee by;</a:t>
            </a:r>
            <a:endParaRPr b="0" lang="en-US" sz="1200" spc="-1" strike="noStrike">
              <a:solidFill>
                <a:srgbClr val="000000"/>
              </a:solidFill>
              <a:latin typeface="Arial"/>
            </a:endParaRPr>
          </a:p>
          <a:p>
            <a:pPr indent="0">
              <a:spcBef>
                <a:spcPts val="451"/>
              </a:spcBef>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icholas A. Soter M.D., FAAAAI</a:t>
            </a:r>
            <a:endParaRPr b="0" lang="en-US" sz="1200" spc="-1" strike="noStrike">
              <a:solidFill>
                <a:srgbClr val="000000"/>
              </a:solidFill>
              <a:latin typeface="Arial"/>
            </a:endParaRPr>
          </a:p>
          <a:p>
            <a:pPr indent="0">
              <a:spcBef>
                <a:spcPts val="451"/>
              </a:spcBef>
              <a:buNone/>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en P. Kaplan  M.D., FAAAAI</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71E19-D6B7-48F9-BDE9-18116B72DB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4444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F5E0C-9FED-4F59-AF90-98AC1873F9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sldImg"/>
          </p:nvPr>
        </p:nvSpPr>
        <p:spPr>
          <a:xfrm>
            <a:off x="1104840" y="652320"/>
            <a:ext cx="4638600" cy="3480120"/>
          </a:xfrm>
          <a:prstGeom prst="rect">
            <a:avLst/>
          </a:prstGeom>
          <a:ln w="0">
            <a:noFill/>
          </a:ln>
        </p:spPr>
      </p:sp>
      <p:sp>
        <p:nvSpPr>
          <p:cNvPr id="276" name="PlaceHolder 2"/>
          <p:cNvSpPr>
            <a:spLocks noGrp="1"/>
          </p:cNvSpPr>
          <p:nvPr>
            <p:ph type="body"/>
          </p:nvPr>
        </p:nvSpPr>
        <p:spPr>
          <a:xfrm>
            <a:off x="449280" y="4349880"/>
            <a:ext cx="598176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contrast to food intolerance, food allergy defines adverse reactions to food protein mediated by the immune system.  Food allergy can be further divided into those allergies that are mediated by IgE antibody and those which are not IgE mediated. The IgE mediated food allergies are typically acute in onset and examples include anaphylaxis or urticaria.  The non-IgE mediated food allergies are generally slower in onset and primarily are gastrointestinal reaction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6986-46D4-4691-9323-81F30A7128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444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CE204-2AAA-421D-9C22-CBC13CE7E9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444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29112-2A87-4B17-A016-4394CED8C6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444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56BBA-FCDD-4892-AEAD-FE72BA0727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444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FBF1-6CCF-49E7-BE8F-AA08AFE37E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444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C6832-1D9B-4A41-A625-235514578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D7FC4-3652-41F0-A46C-A60A03FC7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A0C5E-387F-499F-9AD1-1AC0BE2B5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E2E8A-0059-4ADE-92EB-D07E8FC80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31631E-8A84-42D8-ACB5-484B585B93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FB5BA-1CE2-417F-9571-A5119ED27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A02CF-1955-4964-B518-C1EEE7ACB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5F754-C6F7-40B5-BCCE-283DF1400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12245-A874-448B-A83D-22968B60E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0E50F-7B41-4462-A353-AB8B1D62D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F4892-314D-44F3-90C7-96D69BEA0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A85DE-736D-4239-8270-215E8FA5E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A516A-73DF-402A-B3F5-2EDCA4460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4B945-9C70-4B12-8A25-1D2F991BF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09211-CA53-44C3-AE03-1B428E0AE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C1CEB5-3BD1-4B70-A79D-EC16BE7D6C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EB712-D378-49FB-8129-E52EB9DA44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1AD6E-B397-4F6C-BFE5-E795FB45E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6994E-01D9-44F8-AB06-23A1FE4AC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BF8F9-2B41-4DBE-9741-9C2ABBA65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D68E3-9CF7-4F15-8BAE-502A121E9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B0544-507F-4838-934F-9F98100E4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FA75E-AE84-45CF-AA98-92CA959E6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017F7-7E43-4301-A9B3-3E836CF653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77CF-C8BC-44C7-A056-14DD6CC3F6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0F5E9-F737-4016-B07E-83F504C9CEC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COMMON PEDIATRIC ALLERGI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allergic conjuctiviti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314280" y="6270480"/>
            <a:ext cx="1261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8ae"/>
                </a:solidFill>
                <a:latin typeface="Times New Roman"/>
              </a:rPr>
              <a:t>© AAAAI 2000</a:t>
            </a:r>
            <a:endParaRPr b="0" lang="en-US" sz="1400" spc="-1" strike="noStrike">
              <a:solidFill>
                <a:srgbClr val="ffffff"/>
              </a:solidFill>
              <a:latin typeface="Arial"/>
            </a:endParaRPr>
          </a:p>
        </p:txBody>
      </p:sp>
      <p:pic>
        <p:nvPicPr>
          <p:cNvPr id="237" name="Picture 3" descr="URTICARIA AND ANGIOEDEMA"/>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FOOD ALLERGY"/>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2701800" y="3139920"/>
            <a:ext cx="2997360" cy="2924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osinophilic esophagitis</a:t>
            </a:r>
            <a:endParaRPr b="0" lang="en-US" sz="24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osinophilic gastritis</a:t>
            </a:r>
            <a:endParaRPr b="0" lang="en-US" sz="24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osinophilic gastroenteritis</a:t>
            </a:r>
            <a:endParaRPr b="0" lang="en-US" sz="24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opic dermatitis</a:t>
            </a:r>
            <a:endParaRPr b="0" lang="en-US" sz="2400" spc="-1" strike="noStrike">
              <a:solidFill>
                <a:srgbClr val="ffffff"/>
              </a:solidFill>
              <a:latin typeface="Arial"/>
            </a:endParaRPr>
          </a:p>
        </p:txBody>
      </p:sp>
      <p:sp>
        <p:nvSpPr>
          <p:cNvPr id="240" name="AutoShape 3"/>
          <p:cNvSpPr/>
          <p:nvPr/>
        </p:nvSpPr>
        <p:spPr>
          <a:xfrm>
            <a:off x="2617920" y="1776240"/>
            <a:ext cx="3487680" cy="447840"/>
          </a:xfrm>
          <a:prstGeom prst="rightArrow">
            <a:avLst>
              <a:gd name="adj1" fmla="val 56028"/>
              <a:gd name="adj2" fmla="val 77193"/>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PlaceHolder 1"/>
          <p:cNvSpPr>
            <a:spLocks noGrp="1"/>
          </p:cNvSpPr>
          <p:nvPr>
            <p:ph type="title"/>
          </p:nvPr>
        </p:nvSpPr>
        <p:spPr>
          <a:xfrm>
            <a:off x="0" y="0"/>
            <a:ext cx="9144000" cy="1417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ecff"/>
                </a:solidFill>
                <a:latin typeface="Arial"/>
              </a:rPr>
              <a:t>Adverse Reactions to Food</a:t>
            </a:r>
            <a:endParaRPr b="0" lang="en-US" sz="5000" spc="-1" strike="noStrike">
              <a:solidFill>
                <a:srgbClr val="ccecff"/>
              </a:solidFill>
              <a:latin typeface="Arial"/>
            </a:endParaRPr>
          </a:p>
        </p:txBody>
      </p:sp>
      <p:sp>
        <p:nvSpPr>
          <p:cNvPr id="242" name="Text Box 5"/>
          <p:cNvSpPr/>
          <p:nvPr/>
        </p:nvSpPr>
        <p:spPr>
          <a:xfrm>
            <a:off x="454320" y="1684440"/>
            <a:ext cx="216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IgE-Mediated</a:t>
            </a:r>
            <a:endParaRPr b="0" lang="en-US" sz="3200" spc="-1" strike="noStrike">
              <a:solidFill>
                <a:srgbClr val="ffffff"/>
              </a:solidFill>
              <a:latin typeface="Arial"/>
            </a:endParaRPr>
          </a:p>
        </p:txBody>
      </p:sp>
      <p:sp>
        <p:nvSpPr>
          <p:cNvPr id="243" name="Text Box 6"/>
          <p:cNvSpPr/>
          <p:nvPr/>
        </p:nvSpPr>
        <p:spPr>
          <a:xfrm>
            <a:off x="5950080" y="1684440"/>
            <a:ext cx="2981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Non-IgE Mediated</a:t>
            </a:r>
            <a:endParaRPr b="0" lang="en-US" sz="3200" spc="-1" strike="noStrike">
              <a:solidFill>
                <a:srgbClr val="ffffff"/>
              </a:solidFill>
              <a:latin typeface="Arial"/>
            </a:endParaRPr>
          </a:p>
        </p:txBody>
      </p:sp>
      <p:sp>
        <p:nvSpPr>
          <p:cNvPr id="244" name="PlaceHolder 2"/>
          <p:cNvSpPr>
            <a:spLocks noGrp="1"/>
          </p:cNvSpPr>
          <p:nvPr>
            <p:ph/>
          </p:nvPr>
        </p:nvSpPr>
        <p:spPr>
          <a:xfrm>
            <a:off x="334800" y="2387160"/>
            <a:ext cx="2176560" cy="2576520"/>
          </a:xfrm>
          <a:prstGeom prst="rect">
            <a:avLst/>
          </a:prstGeom>
          <a:noFill/>
          <a:ln w="0">
            <a:noFill/>
          </a:ln>
        </p:spPr>
        <p:txBody>
          <a:bodyPr anchor="t">
            <a:normAutofit/>
          </a:bodyPr>
          <a:p>
            <a:pPr marL="343080" indent="-343080">
              <a:lnSpc>
                <a:spcPct val="80000"/>
              </a:lnSpc>
              <a:spcBef>
                <a:spcPts val="176"/>
              </a:spcBef>
              <a:spcAft>
                <a:spcPts val="176"/>
              </a:spcAft>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l Allergy Syndrome</a:t>
            </a:r>
            <a:endParaRPr b="0" lang="en-US" sz="2800" spc="-1" strike="noStrike">
              <a:solidFill>
                <a:srgbClr val="ffffff"/>
              </a:solidFill>
              <a:latin typeface="Arial"/>
            </a:endParaRPr>
          </a:p>
          <a:p>
            <a:pPr marL="343080" indent="-343080">
              <a:lnSpc>
                <a:spcPct val="80000"/>
              </a:lnSpc>
              <a:spcBef>
                <a:spcPts val="176"/>
              </a:spcBef>
              <a:spcAft>
                <a:spcPts val="176"/>
              </a:spcAft>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phylaxis</a:t>
            </a:r>
            <a:endParaRPr b="0" lang="en-US" sz="2800" spc="-1" strike="noStrike">
              <a:solidFill>
                <a:srgbClr val="ffffff"/>
              </a:solidFill>
              <a:latin typeface="Arial"/>
            </a:endParaRPr>
          </a:p>
          <a:p>
            <a:pPr marL="343080" indent="-343080">
              <a:lnSpc>
                <a:spcPct val="80000"/>
              </a:lnSpc>
              <a:spcBef>
                <a:spcPts val="176"/>
              </a:spcBef>
              <a:spcAft>
                <a:spcPts val="176"/>
              </a:spcAft>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rticaria</a:t>
            </a:r>
            <a:endParaRPr b="0" lang="en-US" sz="2800" spc="-1" strike="noStrike">
              <a:solidFill>
                <a:srgbClr val="ffffff"/>
              </a:solidFill>
              <a:latin typeface="Arial"/>
            </a:endParaRPr>
          </a:p>
        </p:txBody>
      </p:sp>
      <p:sp>
        <p:nvSpPr>
          <p:cNvPr id="245" name="Rectangle 8"/>
          <p:cNvSpPr/>
          <p:nvPr/>
        </p:nvSpPr>
        <p:spPr>
          <a:xfrm>
            <a:off x="5991120" y="3254400"/>
            <a:ext cx="2887920" cy="335736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ein-Induced Enterocolitis</a:t>
            </a:r>
            <a:endParaRPr b="0" lang="en-US" sz="24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ein-Induced Enteropathy</a:t>
            </a:r>
            <a:endParaRPr b="0" lang="en-US" sz="24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osinophilic proctitis</a:t>
            </a:r>
            <a:endParaRPr b="0" lang="en-US" sz="24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rmatitis herpetiformis</a:t>
            </a:r>
            <a:endParaRPr b="0" lang="en-US" sz="2400" spc="-1" strike="noStrike">
              <a:solidFill>
                <a:srgbClr val="ffffff"/>
              </a:solidFill>
              <a:latin typeface="Arial"/>
            </a:endParaRPr>
          </a:p>
        </p:txBody>
      </p:sp>
      <p:sp>
        <p:nvSpPr>
          <p:cNvPr id="246" name="Rectangle 9"/>
          <p:cNvSpPr/>
          <p:nvPr/>
        </p:nvSpPr>
        <p:spPr>
          <a:xfrm>
            <a:off x="324000" y="1197000"/>
            <a:ext cx="8467560" cy="114120"/>
          </a:xfrm>
          <a:prstGeom prst="rect">
            <a:avLst/>
          </a:prstGeom>
          <a:gradFill rotWithShape="0">
            <a:gsLst>
              <a:gs pos="0">
                <a:srgbClr val="009999"/>
              </a:gs>
              <a:gs pos="100000">
                <a:srgbClr val="ccec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Content Placeholder 3" descr="bargraph6[1].gif"/>
          <p:cNvPicPr/>
          <p:nvPr/>
        </p:nvPicPr>
        <p:blipFill>
          <a:blip r:embed="rId1"/>
          <a:stretch/>
        </p:blipFill>
        <p:spPr>
          <a:xfrm>
            <a:off x="304920" y="380880"/>
            <a:ext cx="8534160" cy="601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380880" y="333360"/>
            <a:ext cx="8458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Times New Roman"/>
              </a:rPr>
              <a:t>Prevalence of Asthma, Rhinitis and Eczema in Saudi Arabia</a:t>
            </a:r>
            <a:endParaRPr b="0" lang="en-US" sz="3600" spc="-1" strike="noStrike">
              <a:solidFill>
                <a:srgbClr val="ffffff"/>
              </a:solidFill>
              <a:latin typeface="Arial"/>
            </a:endParaRPr>
          </a:p>
        </p:txBody>
      </p:sp>
      <p:grpSp>
        <p:nvGrpSpPr>
          <p:cNvPr id="221" name="Group 3"/>
          <p:cNvGrpSpPr/>
          <p:nvPr/>
        </p:nvGrpSpPr>
        <p:grpSpPr>
          <a:xfrm>
            <a:off x="-71280" y="1407960"/>
            <a:ext cx="9443880" cy="5223240"/>
            <a:chOff x="-71280" y="1407960"/>
            <a:chExt cx="9443880" cy="5223240"/>
          </a:xfrm>
        </p:grpSpPr>
        <p:graphicFrame>
          <p:nvGraphicFramePr>
            <p:cNvPr id="222" name="Object 2"/>
            <p:cNvGraphicFramePr/>
            <p:nvPr/>
          </p:nvGraphicFramePr>
          <p:xfrm>
            <a:off x="-71280" y="1407960"/>
            <a:ext cx="9227880" cy="4860720"/>
          </p:xfrm>
          <a:graphic>
            <a:graphicData uri="http://schemas.openxmlformats.org/presentationml/2006/ole">
              <p:oleObj progId="Excel.Sheet.12" r:id="rId1" spid="">
                <p:embed/>
                <p:pic>
                  <p:nvPicPr>
                    <p:cNvPr id="223" name="Object 2" descr=""/>
                    <p:cNvPicPr/>
                    <p:nvPr/>
                  </p:nvPicPr>
                  <p:blipFill>
                    <a:blip r:embed="rId2"/>
                    <a:stretch/>
                  </p:blipFill>
                  <p:spPr>
                    <a:xfrm>
                      <a:off x="-71280" y="1407960"/>
                      <a:ext cx="9227880" cy="4860720"/>
                    </a:xfrm>
                    <a:prstGeom prst="rect">
                      <a:avLst/>
                    </a:prstGeom>
                    <a:ln w="0">
                      <a:noFill/>
                    </a:ln>
                  </p:spPr>
                </p:pic>
              </p:oleObj>
            </a:graphicData>
          </a:graphic>
        </p:graphicFrame>
        <p:sp>
          <p:nvSpPr>
            <p:cNvPr id="224" name="Text Box 5"/>
            <p:cNvSpPr/>
            <p:nvPr/>
          </p:nvSpPr>
          <p:spPr>
            <a:xfrm>
              <a:off x="228600" y="60498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a:t>
              </a:r>
              <a:r>
                <a:rPr b="1" lang="en-US" sz="1800" spc="-1" strike="noStrike">
                  <a:solidFill>
                    <a:srgbClr val="ff0000"/>
                  </a:solidFill>
                  <a:latin typeface="Times New Roman"/>
                  <a:ea typeface="Times New Roman"/>
                </a:rPr>
                <a:t> Physicians’ diagnosed Asthma + highly suspected asthma</a:t>
              </a:r>
              <a:endParaRPr b="0" lang="en-US" sz="1800" spc="-1" strike="noStrike">
                <a:solidFill>
                  <a:srgbClr val="ffffff"/>
                </a:solidFill>
                <a:latin typeface="Arial"/>
              </a:endParaRPr>
            </a:p>
          </p:txBody>
        </p:sp>
        <p:sp>
          <p:nvSpPr>
            <p:cNvPr id="225" name="Text Box 6"/>
            <p:cNvSpPr/>
            <p:nvPr/>
          </p:nvSpPr>
          <p:spPr>
            <a:xfrm>
              <a:off x="2514600" y="3382560"/>
              <a:ext cx="22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t>
              </a:r>
              <a:endParaRPr b="0" lang="en-US" sz="2800" spc="-1" strike="noStrike">
                <a:solidFill>
                  <a:srgbClr val="ffffff"/>
                </a:solidFill>
                <a:latin typeface="Arial"/>
              </a:endParaRPr>
            </a:p>
          </p:txBody>
        </p:sp>
        <p:sp>
          <p:nvSpPr>
            <p:cNvPr id="226" name="Text Box 7"/>
            <p:cNvSpPr/>
            <p:nvPr/>
          </p:nvSpPr>
          <p:spPr>
            <a:xfrm>
              <a:off x="3048120" y="3230280"/>
              <a:ext cx="30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t>
              </a:r>
              <a:endParaRPr b="0" lang="en-US" sz="2800" spc="-1" strike="noStrike">
                <a:solidFill>
                  <a:srgbClr val="ffffff"/>
                </a:solidFill>
                <a:latin typeface="Arial"/>
              </a:endParaRPr>
            </a:p>
          </p:txBody>
        </p:sp>
      </p:grpSp>
      <p:sp>
        <p:nvSpPr>
          <p:cNvPr id="227" name="Text Box 8"/>
          <p:cNvSpPr/>
          <p:nvPr/>
        </p:nvSpPr>
        <p:spPr>
          <a:xfrm>
            <a:off x="1295280" y="571500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8ae"/>
                </a:solidFill>
                <a:latin typeface="Times New Roman"/>
                <a:ea typeface="Times New Roman"/>
              </a:rPr>
              <a:t>1986: n=2123, 1995: n=1008, 2001:n=1014</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457200" y="476280"/>
            <a:ext cx="8229600" cy="604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I.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ute: immediate; allergic; anaphylactic (e.g. hay fever).  Production of IgE to specific antigens, often pollens or animal proteins, known as allergens. IgE binds to receptors on mast cells and basophils; further contact with the allergen cross links this IgE and the cell degranulates, releasing mediators which cause vascular permeability, mucus secretion, bronchial constriction. Tested for by immediate skin tes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57200" y="692280"/>
            <a:ext cx="8229600" cy="5433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ype II</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ytotoxic: (e.g. autoimmune haemolytic anaemia). Production of IgM or IgG to body components. These may be non-self material whose elimination is not desired, such as transfused blood, bone marrow, etc, or self material to which the T or B lymphocytes have lost tolerance, leading to a state of autoimmunity.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324000" y="361800"/>
            <a:ext cx="8229600" cy="561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ype IV</a:t>
            </a:r>
            <a:endParaRPr b="0" lang="en-US" sz="3600" spc="-1" strike="noStrike">
              <a:solidFill>
                <a:srgbClr val="ffffff"/>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ell-mediated; delayed-type; tuberculin type: (e.g. TB granuloma). The activation of macrophages as a result of prolonged T cell responses is often accompanied, in solid organs, by granuloma formation. When the responsible antigen enters via the skin, as in contact sensitivity, an eczematous rash with oedema  develops at the site. Can be tested for by delayed skin te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ALLERGIC RHINITI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395280" y="981000"/>
            <a:ext cx="8280360" cy="56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lbertus Medium"/>
              </a:rPr>
              <a:t>The history is the most important element in the evaluation of allergy. Key features of the history are:</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lbertus Medium"/>
              </a:rPr>
              <a:t>Worsening of symptoms on exposure to aeroallergens</a:t>
            </a:r>
            <a:endParaRPr b="0" lang="en-US" sz="24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lbertus Medium"/>
              </a:rPr>
              <a:t>Seasonal variation in symptoms related to pollination of trees, grasses, and weeds</a:t>
            </a:r>
            <a:endParaRPr b="0" lang="en-US" sz="24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lbertus Medium"/>
              </a:rPr>
              <a:t>A family history of atopic disease</a:t>
            </a:r>
            <a:endParaRPr b="0" lang="en-US" sz="24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lbertus Medium"/>
              </a:rPr>
              <a:t>An environmental history assessing exposure to indoor and outdoor allegens                                                     and the presence of associated allergic condi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KIN PRICK TEST (SPT)</a:t>
            </a:r>
            <a:endParaRPr b="0" lang="en-US" sz="44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POSITIVE RESULT WHEN WHEAL &gt;3mm MORE THAN CONTROL</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80% OF +VE SKIN TEST GIVE +VE RAS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50% GIVE+VE CHALLENG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NEL OF TEST ANTIGENS APPROPRIATE TO THE LOCALITY AND SEASON AND HISTORY SHOULD BE U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11:57:16Z</dcterms:created>
  <dc:creator>Mergani</dc:creator>
  <dc:description/>
  <dc:language>en-US</dc:language>
  <cp:lastModifiedBy>Hp</cp:lastModifiedBy>
  <dcterms:modified xsi:type="dcterms:W3CDTF">2013-09-16T18:51:51Z</dcterms:modified>
  <cp:revision>32</cp:revision>
  <dc:subject/>
  <dc:title>Slide 1</dc:title>
</cp:coreProperties>
</file>