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454-93E5-472D-B312-A77F51FB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7BB-D496-47E8-9F7A-D3DF9DE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E7B-4044-49B5-8584-6D9D29C7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6D4-3694-436A-A063-5B13293C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67D-3A78-4953-A42B-27C19255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BE0-1127-43CB-9F9E-27F7651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CB46-FFDB-4D28-81E5-CADF886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FB9-B80A-41BA-BC31-94CCC74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9218-EAC2-4120-9B19-DB1FC0A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985-76F6-44CA-BEA3-E7FE5A9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A4E0-91E9-478B-B1DA-4B5EB06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F57-90C7-4120-9A2C-F8F7794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2A9A-3BF3-4258-8D9C-BC30DC4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7AFE-9D2F-4ACC-B354-D3F3D2B0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DEF-CBE1-4D43-AE81-6598A0B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41D-7C0E-4EA9-A1C9-052D4743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D766-DD6E-45EF-BBF1-180860B4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469-288A-47A4-97F9-153D8E8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81E-EE9E-43FC-8DBF-E219B6A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4D3-E4A6-42ED-B01F-144DFCD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5F6-45B8-452E-A051-AD07EC1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155-04CC-4080-A329-D043D47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327-D930-41DD-8446-55E32D5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39A-69AF-40D6-ABFE-7F61ED1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1027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1029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AD5-2495-4D89-A598-96ECBFD5A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03B-D23D-4FFD-B005-C2DC5FB87D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engueras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kin_ulcer_due_to_leishmaniasis,_hand_of_Central_American_adult_3MG0037_lore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Leishmaniasis_ulcer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ymptoms_of_Malaria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 of Communicable Dise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Outbreak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outbreak is occurrence of a number of cases of a disease that is unusually large or unexpected for a given place and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breaks and epidemics refer to the one and same th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breaks in emergency situations can spread rapidly giving rise to high morbidity and mortality ra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im should be to detect and control the outbreak as early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diseases with epidemic potential in emergency situ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l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ingococcal dise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as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igello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ertain areas the following diseases have to b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d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laria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louse borne typhus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yellow fever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ypanosomiasis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leishmania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iral hemorrhagic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relapsing f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yphoi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hepatitis A and 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s in the management of a communicable diseas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ation for th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coordination mee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ong surveillance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break response plan for each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ocks of iv fluids, antibiotics and vacci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s for isolation w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up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on of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system with early warning system for epidemic prone dise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orm ministry of health and WHO in case of outbreaks of specific dise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appropriate specimens (stool, CSF or serum) for laboratory confi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case in the weekly repo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ponse to th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ate the outbreak control te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estigate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l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appropriateness and effectiveness of containment measu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timeliness of outbreak detection and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public health policy if indica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and disseminate outbreak repo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Acute Respiratory Infe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recognition and 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children with cough carefully asses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signs of malnutr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severely malnourished to hospi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neumonia with antibiot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national treatment protoc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rtive meas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against measles,diphtheria and whooping cough reduces the impact of AR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vention and Control of Choler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pt diagnosis and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treatment centers with barrier nurs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cal material and vomit properly disinfected and dispos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Education on hygiene,safe water, safe food and hand was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erals to be held quickly and near the place of death.Meticulous hand washing for those who handle the bod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e washing hands with soap and water when food is being handl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other diarrhoeal diseas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sion of safe water sup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ly of adequate quantities of reasonably clean water is more important than supply of small quantities of microbiologically clean w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ble Diseases are the major cause of morbidity and mortality in emergencies particularly so in complex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causes of morbidity and mortality in emergencies are diarrhoeal diseases, acute respiratory infections,measles and in areas where it is endemic malar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Conjunctiv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equate clean water for personal hygiene and hand was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ctor control measures to reduce fly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infect articles contaminated by nasal and conjunctival dischar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health facilities vigorous hand washing to avoid cross contamination and proper disposal of infected mater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Deng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iminate habitats of Aedes mosquito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 during day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ys to determine vector density and larval habita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an outbreak use larvicide on all potential habitats of Aedes aegypt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ticides to reduce vector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mobilization to eliminate breeding s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hotograph of a person's back with the skin exhibiting the characteristic rash of dengue fe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785880"/>
            <a:ext cx="7358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Viral Hepat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forcement of water and food sanit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Hepatitis B and C, all blood products should be screened for the two (and for HIV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target population groups for Hepatitis A recommend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workers not immune to hepatitis A and B should be vaccina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vention and control of HIV/AID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e sexual and mother to child transmi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sure blood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versal precautions to be us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protection especially of women and childr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 health care work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nseling  and voluntary testing progra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asymptomatic  HIV infected children with EPI vacci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ptomatic HIV infected children should not be given BCG or yellow fever vaccin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Japanese Encephal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the sleeping and living are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use pigs away from the living quart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es are available for travel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pigs and fogging with insecticide although effective are expensi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Leishmania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190512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inforced surveillance, early detection and treat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tion of animal reservo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ctor contr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with insecticide treated ne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promotion and social mobil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http://upload.wikimedia.org/wikipedia/commons/thumb/6/67/Skin_ulcer_due_to_leishmaniasis%2C_hand_of_Central_American_adult_3MG0037_lores.jpg/230px-Skin_ulcer_due_to_leishmaniasis%2C_hand_of_Central_American_adult_3MG0037_lor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upload.wikimedia.org/wikipedia/commons/thumb/6/6e/Leishmaniasis_ulcer.jpg/220px-Leishmaniasis_ulc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78320" y="0"/>
            <a:ext cx="4765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ala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pid diagnosis and effective case manage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insecticide treated ne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methrin sprayed blankets or treated clot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or Residual Spray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mo prophylaxis to non-immune expatriates and Intermittent Presumptive Therapy for pregnant wom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upload.wikimedia.org/wikipedia/commons/thumb/d/db/Symptoms_of_Malaria.png/220px-Symptoms_of_Malari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communicable diseases that have also in the past caused epidemics amongst population affected by emergencies are meningococcal disease,tuberculosis, relapsing fever and typh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lnutrition and trauma are additional causes of illness and death amongst populations affected by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eas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tine vacc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sles outbreak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with measles vaccine is priority in emergency situations. The ideal target population being 6 month to 14 years old although age groups from 6 months to four years is still accept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sles vaccine should be accompanied with vitamin A administration in children 9 months to 5 years of a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eningococcal Mening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detection and control of the outbrea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agnosis and management of c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est risk group for meningococcal meningitis is children aged 2-10 years and this should be the priority group during vaccination campaig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Tubercul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for integration with the national TB control Program and involve local TB coordina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the national TB treatment protoco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ver the local population als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seriously ill patients to local hospit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ervices for sputum sm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cedures in place for follow up of c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evalu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vention and Control of Typhoid fev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education, clean water, food inspection, proper food handling and proper sewage dispos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detection and control are important in prevention of spre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guidelines should be consul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ervices are essential to know the outbreak strain and the anti microbial sensitivity patter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may be an adjunct for the control during a sustained high incidence epidemi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Typhus(epidemic louse born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 the epidemi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patients and contacts should be deloused with 0.5% Permethrin pow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ing and bedding that have not been used should also be treated similar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Yellow Fev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leeping and living quarters should be screen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is key to control of outbrea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urban areas mosquito breeding sites should be destroy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needed during an emergenc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sion of shelter,water,sanitation,food and basic health care are the most effective means of protecting health of those affected by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ystematic approach to control of communicable diseases is a key component of humanitarian response and crucial for the protection of the health of the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damental principles of Control of Communicable Diseases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apid Assess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rveilla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Outbreak Contro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Disease Manage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Rapid Health Assess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bjectives should be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extent of the emergency and the threat of communicable diseases in the pop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define the type and size of interventions and priority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plan the implementation of these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provide information to international community,donors and the media to mobilize resources both human and financi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Preven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cable diseases can be prevented by appropriate preventive measures which inclu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d site 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basic clinical ser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appropriate shel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ean water sup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 vaccination against specific dise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r and sufficient food sup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 of vec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urveill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is the ongoing systematic collection,analysis and interpretation of data in order to plan, implement and evaluate public health interven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system should be simple, flexible,acceptable and situation specif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 of a surveillance system in an emergen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65360"/>
            <a:ext cx="77086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y public health prior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 the severity of an emergency by collecting and analyzing mortality and morbidity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ct outbreaks and monitor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 trends in incidence and case fatality from major dise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information to ministry of health,donors to assist in health programme planning, implementation and resource mobiliz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12:12:48Z</dcterms:created>
  <dc:creator>Ashok</dc:creator>
  <dc:description/>
  <dc:language>en-US</dc:language>
  <cp:lastModifiedBy>user</cp:lastModifiedBy>
  <dcterms:modified xsi:type="dcterms:W3CDTF">2011-11-23T05:04:24Z</dcterms:modified>
  <cp:revision>14</cp:revision>
  <dc:subject/>
  <dc:title>Control of Communicable Diseases in Emergencies</dc:title>
</cp:coreProperties>
</file>