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EAED-AE44-4938-9A36-A8C03906D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BE62-D9AA-4A50-AB00-9BD96E22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B047-FF52-4478-9567-EE2597F45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F574-CA76-4C50-AFB4-0BEE6E947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0FF5-7D8B-45F7-85E8-0076E6681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3265-0634-4516-9AF0-56D9CB98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8DFC-DED4-4F85-8F8A-2FA42909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15D9-1AB7-46D9-B955-B6DB4944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EB328-F9AE-4F87-9FF9-D1893EE6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1FD8-08FA-4B43-B70A-0AA442A8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0713-20F8-4323-A77F-3ED7083D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FD9F-49A6-4C96-923C-D00C32CB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6C90-45D2-4325-B57F-908D38ED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6FDF-F6F9-450C-9F39-4E5EC890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328D-A27E-4EA1-B12C-EE4A86FF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4EA9-FE8B-46E0-9F8D-B3121711A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96681-929F-4A87-B43B-725638465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2BF4-7003-43BE-8539-9470B3A6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0080-5A98-4F53-B6D9-BFCD937B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C473-735A-4D60-BB3E-9869C277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F393-A398-487C-9218-C56BE132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B73C-5DC2-4AE0-9342-C2095718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26F3-7D37-413A-98FE-4F95F753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A4E4-4EF5-485F-A1E6-2328CA97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Rectangle 1027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AutoShape 1029"/>
            <p:cNvSpPr/>
            <p:nvPr/>
          </p:nvSpPr>
          <p:spPr>
            <a:xfrm flipH="1" flipV="1" rot="10800000">
              <a:off x="-16920" y="-12600"/>
              <a:ext cx="9204120" cy="457200"/>
            </a:xfrm>
            <a:prstGeom prst="pi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AutoShape 1030"/>
            <p:cNvSpPr/>
            <p:nvPr/>
          </p:nvSpPr>
          <p:spPr>
            <a:xfrm flipV="1">
              <a:off x="-37800" y="6466680"/>
              <a:ext cx="9239400" cy="460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Rectangle 1031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6A78-72D0-4B12-AA90-126B02CBA0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Rectangle 3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Rectangle 4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 flipH="1" flipV="1" rot="10800000">
              <a:off x="-16920" y="-12600"/>
              <a:ext cx="9204120" cy="457200"/>
            </a:xfrm>
            <a:prstGeom prst="pi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AutoShape 6"/>
            <p:cNvSpPr/>
            <p:nvPr/>
          </p:nvSpPr>
          <p:spPr>
            <a:xfrm flipV="1">
              <a:off x="-37800" y="6466680"/>
              <a:ext cx="9239400" cy="460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Rectangle 7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53" name="Group 13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4" name="Rectangle 14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" name="Rectangle 15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27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" name="Line 16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" name="Line 17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" name="Line 18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Line 19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Line 20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Line 21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0302-0929-48E1-9895-E23C8BD6F2C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Denguerash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Skin_ulcer_due_to_leishmaniasis,_hand_of_Central_American_adult_3MG0037_lores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en.wikipedia.org/wiki/File:Leishmaniasis_ulcer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Symptoms_of_Malaria.pn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rol of Communicable Diseas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Outbreak Contro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 outbreak is occurrence of a number of cases of a disease that is unusually large or unexpected for a given place and tim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utbreaks and epidemics refer to the one and same thing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utbreaks in emergency situations can spread rapidly giving rise to high morbidity and mortality rat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im should be to detect and control the outbreak as early as possibl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jor diseases with epidemic potential in emergency situation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98400" y="1665000"/>
            <a:ext cx="777240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ol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ningococcal diseas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as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higellosi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certain areas the following diseases have to be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cluded: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malaria,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louse borne typhus,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yellow fever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trypanosomiasis,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leishmaniasi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viral hemorrhagic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feve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relapsing feve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typhoid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nd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hepatitis A and 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eps in the management of a communicable disease outbrea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epar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597240" indent="-59724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tec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597240" indent="-59724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spon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597240" indent="-59724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valu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paration for the outbrea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alth coordination meeting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rong surveillance syst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utbreak response plan for each disea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ocks of iv fluids, antibiotics and vaccin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lans for isolation ward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aboratory suppor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tection of outbrea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rveillance system with early warning system for epidemic prone diseas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form ministry of health and WHO in case of outbreaks of specific diseas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ake appropriate specimens (stool, CSF or serum) for laboratory confirmat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clude case in the weekly repor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sponse to the outbrea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firm the outbrea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ctivate the outbreak control tea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vestigate the outbrea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trol the outbrea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valuation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ssess appropriateness and effectiveness of containment measur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ssess timeliness of outbreak detection and respons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ange public health policy if indicate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rite and disseminate outbreak repor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vention and Control of Acute Respiratory Infec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arly recognition and treat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l children with cough carefully assess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ssess signs of malnutri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fer severely malnourished to hospit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nage pneumonia with antibiotic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llow national treatment protoco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pportive measur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accination against measles,diphtheria and whooping cough reduces the impact of ARI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Prevention and Control of Choler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mpt diagnosis and manage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stablish treatment centers with barrier nursing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ecal material and vomit properly disinfected and dispose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alth Education on hygiene,safe water, safe food and hand washing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unerals to be held quickly and near the place of death.Meticulous hand washing for those who handle the body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mote washing hands with soap and water when food is being handled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vention and control of other diarrhoeal disease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vision of safe water suppl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pply of adequate quantities of reasonably clean water is more important than supply of small quantities of microbiologically clean wat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mmunicable Diseases are the major cause of morbidity and mortality in emergencies particularly so in complex emergenci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in causes of morbidity and mortality in emergencies are diarrhoeal diseases, acute respiratory infections,measles and in areas where it is endemic malaria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vention and Control of Conjunctivit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equate clean water for personal hygiene and hand washing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ector control measures to reduce fly populat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sinfect articles contaminated by nasal and conjunctival discharg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 health facilities vigorous hand washing to avoid cross contamination and proper disposal of infected material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vention and Control of Dengu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liminate habitats of Aedes mosquito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rsonal protection against mosquito bites during day tim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rveys to determine vector density and larval habitat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 an outbreak use larvicide on all potential habitats of Aedes aegypti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secticides to reduce vector populat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ocial mobilization to eliminate breeding sit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Photograph of a person's back with the skin exhibiting the characteristic rash of dengue fev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57200" y="785880"/>
            <a:ext cx="73580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vention and Control of Viral Hepatit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forcement of water and food sanitat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r Hepatitis B and C, all blood products should be screened for the two (and for HIV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accination of target population groups for Hepatitis A recommende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alth workers not immune to hepatitis A and B should be vaccinate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Prevention and control of HIV/AID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duce sexual and mother to child transmiss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sure blood safe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niversal precautions to be use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hysical protection especially of women and childre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tect health care worker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unseling  and voluntary testing program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accination of asymptomatic  HIV infected children with EPI vaccin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ymptomatic HIV infected children should not be given BCG or yellow fever vaccine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vention and Control of Japanese Encephalit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8400" y="1980720"/>
            <a:ext cx="777240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rsonal protection against mosquito bit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creen the sleeping and living area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use pigs away from the living quarter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accines are available for traveler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accination of pigs and fogging with insecticide although effective are expensiv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vention and Control of Leishmanias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98400" y="1905120"/>
            <a:ext cx="7772400" cy="38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inforced surveillance, early detection and treatmen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duction of animal reservoi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ector control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rsonal protection with insecticide treated net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alth promotion and social mobilizat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http://upload.wikimedia.org/wikipedia/commons/thumb/6/67/Skin_ulcer_due_to_leishmaniasis%2C_hand_of_Central_American_adult_3MG0037_lores.jpg/230px-Skin_ulcer_due_to_leishmaniasis%2C_hand_of_Central_American_adult_3MG0037_lore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357800" cy="3643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://upload.wikimedia.org/wikipedia/commons/thumb/6/6e/Leishmaniasis_ulcer.jpg/220px-Leishmaniasis_ulcer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78320" y="0"/>
            <a:ext cx="476568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vention and Control of Malari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98400" y="1980720"/>
            <a:ext cx="777240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apid diagnosis and effective case managemen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 of insecticide treated net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rmethrin sprayed blankets or treated clothing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door Residual Spraying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emo prophylaxis to non-immune expatriates and Intermittent Presumptive Therapy for pregnant women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http://upload.wikimedia.org/wikipedia/commons/thumb/d/db/Symptoms_of_Malaria.png/220px-Symptoms_of_Malaria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ther communicable diseases that have also in the past caused epidemics amongst population affected by emergencies are meningococcal disease,tuberculosis, relapsing fever and typhu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lnutrition and trauma are additional causes of illness and death amongst populations affected by emergenci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vention and Control of Measl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outine vaccin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asles outbreak respons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ss vaccination with measles vaccine is priority in emergency situations. The ideal target population being 6 month to 14 years old although age groups from 6 months to four years is still acceptabl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asles vaccine should be accompanied with vitamin A administration in children 9 months to 5 years of ag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vention and Control of Meningococcal Meningit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84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arly detection and control of the outbreak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agnosis and management of cas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ss vaccin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ighest risk group for meningococcal meningitis is children aged 2-10 years and this should be the priority group during vaccination campaign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vention and Control of Tuberculos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ed for integration with the national TB control Program and involve local TB coordinator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 the national TB treatment protocol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ver the local population also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fer seriously ill patients to local hospital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aboratory services for sputum smear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cedures in place for follow up of cas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gram evaluation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Prevention and Control of Typhoid fever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8400" y="7617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alth education, clean water, food inspection, proper food handling and proper sewage disposal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arly detection and control are important in prevention of sprea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O guidelines should be consulte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aboratory services are essential to know the outbreak strain and the anti microbial sensitivity patter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ss vaccination may be an adjunct for the control during a sustained high incidence epidemic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vention and Control of Typhus(epidemic louse borne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firm the epidemic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l patients and contacts should be deloused with 0.5% Permethrin powde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othing and bedding that have not been used should also be treated similarly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vention and Control of Yellow Fev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rsonal protection against mosquito bit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leeping and living quarters should be screene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ss vaccination is key to control of outbreak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 urban areas mosquito breeding sites should be destroye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at is needed during an emergency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vision of shelter,water,sanitation,food and basic health care are the most effective means of protecting health of those affected by emergenci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systematic approach to control of communicable diseases is a key component of humanitarian response and crucial for the protection of the health of the populat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undamental principles of Control of Communicable Diseases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9840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Rapid Assessment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Preventio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Surveillanc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Outbreak Control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Disease Management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51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Rapid Health Assess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84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objectives should be 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assess the extent of the emergency and the threat of communicable diseases in the popul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define the type and size of interventions and priority activit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plan the implementation of these activit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provide information to international community,donors and the media to mobilize resources both human and financial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Preven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84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municable diseases can be prevented by appropriate preventive measures which includ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ood site plann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vision of basic clinical servic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vision of appropriate shel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ean water supp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anit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ss vaccination against specific diseas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gular and sufficient food supp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trol of vecto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Surveillan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rveillance is the ongoing systematic collection,analysis and interpretation of data in order to plan, implement and evaluate public health intervent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rveillance system should be simple, flexible,acceptable and situation specifi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bjectives of a surveillance system in an emergenc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665360"/>
            <a:ext cx="770868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dentify public health priorit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nitor the severity of an emergency by collecting and analyzing mortality and morbidity dat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tect outbreaks and monitor respons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nitor trends in incidence and case fatality from major diseas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vide information to ministry of health,donors to assist in health programme planning, implementation and resource mobilizatio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3T12:12:48Z</dcterms:created>
  <dc:creator>Ashok</dc:creator>
  <dc:description/>
  <dc:language>en-US</dc:language>
  <cp:lastModifiedBy>user</cp:lastModifiedBy>
  <dcterms:modified xsi:type="dcterms:W3CDTF">2011-11-23T05:04:24Z</dcterms:modified>
  <cp:revision>14</cp:revision>
  <dc:subject/>
  <dc:title>Control of Communicable Diseases in Emergencies</dc:title>
</cp:coreProperties>
</file>