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CCAF3F-8B14-4DC8-B28F-B1F1C7F1B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+mn-e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+mn-e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+mn-e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+mn-e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114192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</a:pPr>
            <a:endParaRPr b="0" lang="x-none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2440" cy="41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7B69-2AF0-4519-9730-4E27BB70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107D-0AF2-4199-9AC7-CAFF59F9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436-DBC6-4743-BDFF-A066ACE0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9228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2736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9228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2736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FF6-105B-45A3-A402-DADDB4A0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0605-D4DD-4FD4-8C9C-3FD205A0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E90F-2965-4F7F-A027-8DFE7C9B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899F-EDAC-41FE-BB3D-2FCB7395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F071-1E15-45DC-B124-9B82C1CF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2AB4-EBBC-4DBB-A8E9-22670D8B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086600" y="6978240"/>
            <a:ext cx="15235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776C-7E27-4E13-800C-4AABAD64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E586-037A-4831-AB36-B208630C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C714-AC46-4C44-BCB1-D18F0380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FFF0-D514-4119-9A96-86B158A2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9C11-533C-44D8-859F-EEE64C2F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42A3-CC04-4463-A65E-FFD35EB7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69F3-40D7-45EF-9EB5-0A437926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9228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2736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49228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52736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D37F-7229-4C67-AD09-2034A978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20D47-904E-41C4-B258-B0F13F16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6107F-C83E-470B-8C1B-F0DC492C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8FD4E-E037-49AC-B7B4-1F15B15B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7F5DA-A694-4285-B0A8-2840CD58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D58F9-0A5F-48A0-86FB-8E899F9D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CFD4-2B7B-4A44-AE99-AC45F45D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86600" y="6978240"/>
            <a:ext cx="15235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2394B-D681-4F58-A75F-61477C76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170C8-1823-4311-BAFD-342D5962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854B4-B124-437D-9076-5757F21F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D226B-F8E2-4532-A20C-512FEF0C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2260D-D026-4627-9D38-A5F32D65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11D3C-EDC5-44EF-AF4A-40CF530D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49228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2736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49228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452736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ED885-C347-4C1B-9AAC-8718BEC7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A2DEF-CEB1-4111-B397-3F3960AC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49055-1B12-44D7-9A8F-72E6C1DA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5E720-CB6E-4518-9C25-22C1017F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D31A-90EB-47DE-850B-BF7847FB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128E1-A130-468E-A57D-D8823D49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19493-FEBC-4EA2-8001-3E9CDA3B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086600" y="6978240"/>
            <a:ext cx="15235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FCF6F-BFC5-498A-92A1-A495D2B9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1F328-D1B2-44BC-82E0-94532247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6A195-0C16-4470-9C91-134FB41F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9596A-28DD-44AF-9A9A-FC926F98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8E52F-E11A-488C-96C9-07BCBE81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CBD5C-2CA6-487C-BEA7-5D1E0DBE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49228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27360" y="41688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249228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4527360" y="3350160"/>
            <a:ext cx="193788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600E8-E4D7-4EAE-BEC5-2B39C225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618-4F5A-4D55-9F85-FAEC1A91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86600" y="6978240"/>
            <a:ext cx="15235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EDF-A5DD-4451-95F5-D1C99F13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A36-1559-4BFD-83A4-45A247D1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41680" y="335016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666-F9F8-4B5A-A50E-91581098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41680" y="416880"/>
            <a:ext cx="293724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50160"/>
            <a:ext cx="6019560" cy="26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2FB5-3D5D-41AA-8FA4-519E238C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Master text sty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cond level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17208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FEF5A71-C64D-45B9-8C77-3A175E8AF84A}" type="slidenum"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36680"/>
            <a:ext cx="64004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lick to edit Master text styles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ffffff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7238880" y="6356520"/>
            <a:ext cx="1445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ffffff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FE9D0FB-D1BE-4230-BDC6-52EC79AD4540}" type="slidenum">
              <a:rPr b="1" lang="en-GB" sz="1100" spc="-1" strike="noStrike">
                <a:solidFill>
                  <a:srgbClr val="ffffff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322480" y="5804640"/>
            <a:ext cx="3074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chemeClr val="accent1"/>
                </a:solidFill>
                <a:latin typeface="Wingding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2568240"/>
            <a:ext cx="8227800" cy="3468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Master text sty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cond level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17208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578952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207F7BB-D81F-4857-94DC-1A06899D9A71}" type="slidenum"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Master text sty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cond level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ird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4" marL="1720800" indent="-349200">
              <a:lnSpc>
                <a:spcPct val="100000"/>
              </a:lnSpc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GB" sz="1100" spc="-1" strike="noStrike">
                <a:solidFill>
                  <a:srgbClr val="808080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3A8377C-37C5-4039-A415-98F915ABB236}" type="slidenum">
              <a:rPr b="1" lang="en-GB" sz="1100" spc="-1" strike="noStrike">
                <a:solidFill>
                  <a:srgbClr val="808080"/>
                </a:solidFill>
                <a:latin typeface="Calisto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sto MT"/>
              </a:rPr>
              <a:t>CSC1201: Programming Language 2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tIns="18360" anchor="ctr">
            <a:normAutofit/>
          </a:bodyPr>
          <a:p>
            <a:pPr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Times New Roman"/>
              </a:rPr>
              <a:t>Aseel Al Hadlaq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de-DE" sz="2200" spc="-1" strike="noStrike">
                <a:solidFill>
                  <a:srgbClr val="595959"/>
                </a:solidFill>
                <a:latin typeface="Times New Roman"/>
              </a:rPr>
              <a:t>2nd</a:t>
            </a:r>
            <a:r>
              <a:rPr b="0" lang="en-GB" sz="2200" spc="-1" strike="noStrike">
                <a:solidFill>
                  <a:srgbClr val="595959"/>
                </a:solidFill>
                <a:latin typeface="Times New Roman"/>
              </a:rPr>
              <a:t> Term 2012-2013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148-D45E-4893-AAFC-64BB8263CC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36680"/>
            <a:ext cx="64004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C++ Overview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8871-B1B7-484B-AB40-FA5A86672E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C++ Overview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2666880"/>
            <a:ext cx="8686440" cy="3733560"/>
          </a:xfrm>
          <a:prstGeom prst="rect">
            <a:avLst/>
          </a:prstGeom>
          <a:noFill/>
          <a:ln w="0">
            <a:noFill/>
          </a:ln>
        </p:spPr>
        <p:txBody>
          <a:bodyPr tIns="1836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  <a:ea typeface="msmincho"/>
              </a:rPr>
              <a:t>C++ is platform independent so programs can be created on any operating system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  <a:ea typeface="msmincho"/>
              </a:rPr>
              <a:t>You can quickly create complex applications by using a modern C++ Integrated Development Environment (IDE), such as Microsoft’s Visual C++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77E6-AE7C-4168-A522-38520A7BED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C++ Overview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770200"/>
            <a:ext cx="8381520" cy="3266640"/>
          </a:xfrm>
          <a:prstGeom prst="rect">
            <a:avLst/>
          </a:prstGeom>
          <a:noFill/>
          <a:ln w="0">
            <a:noFill/>
          </a:ln>
        </p:spPr>
        <p:txBody>
          <a:bodyPr tIns="1836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  <a:ea typeface="msmincho"/>
              </a:rPr>
              <a:t>Features were added to the original C language to produce what is called “C with classes”. 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  <a:ea typeface="msmincho"/>
              </a:rPr>
              <a:t>These classes define programming objects with specific features that transform the procedural nature of C into the object-oriented programming language of C++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FA44-38AA-4F10-B5A7-8DA2E1D8DC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First C++ Program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2770200"/>
            <a:ext cx="8610120" cy="37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2240" indent="-2822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Arial"/>
              <a:buChar char="•"/>
            </a:pPr>
            <a:r>
              <a:rPr b="0" lang="en-GB" sz="2360" spc="-1" strike="noStrike">
                <a:solidFill>
                  <a:srgbClr val="595959"/>
                </a:solidFill>
                <a:latin typeface="Calisto MT"/>
              </a:rPr>
              <a:t>A program can contain one or many functions</a:t>
            </a:r>
            <a:endParaRPr b="0" lang="en-US" sz="2360" spc="-1" strike="noStrike">
              <a:solidFill>
                <a:srgbClr val="595959"/>
              </a:solidFill>
              <a:latin typeface="Calisto MT"/>
            </a:endParaRPr>
          </a:p>
          <a:p>
            <a:pPr marL="282240" indent="-2822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Arial"/>
              <a:buChar char="•"/>
            </a:pPr>
            <a:r>
              <a:rPr b="0" lang="en-GB" sz="2360" spc="-1" strike="noStrike">
                <a:solidFill>
                  <a:srgbClr val="595959"/>
                </a:solidFill>
                <a:latin typeface="Calisto MT"/>
              </a:rPr>
              <a:t>Must always have a function called “main”.</a:t>
            </a:r>
            <a:endParaRPr b="0" lang="en-US" sz="2360" spc="-1" strike="noStrike">
              <a:solidFill>
                <a:srgbClr val="595959"/>
              </a:solidFill>
              <a:latin typeface="Calisto MT"/>
            </a:endParaRPr>
          </a:p>
          <a:p>
            <a:pPr marL="282240" indent="-2822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Arial"/>
              <a:buChar char="•"/>
            </a:pPr>
            <a:r>
              <a:rPr b="0" lang="en-GB" sz="2360" spc="-1" strike="noStrike">
                <a:solidFill>
                  <a:srgbClr val="595959"/>
                </a:solidFill>
                <a:latin typeface="Calisto MT"/>
              </a:rPr>
              <a:t>The main function is the starting point of all C++ programs</a:t>
            </a:r>
            <a:endParaRPr b="0" lang="en-US" sz="2360" spc="-1" strike="noStrike">
              <a:solidFill>
                <a:srgbClr val="595959"/>
              </a:solidFill>
              <a:latin typeface="Calisto MT"/>
            </a:endParaRPr>
          </a:p>
          <a:p>
            <a:pPr marL="282240" indent="-2822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Arial"/>
              <a:buChar char="•"/>
            </a:pPr>
            <a:r>
              <a:rPr b="0" lang="en-GB" sz="2360" spc="-1" strike="noStrike">
                <a:solidFill>
                  <a:srgbClr val="595959"/>
                </a:solidFill>
                <a:latin typeface="Calisto MT"/>
              </a:rPr>
              <a:t>The compiler will not compile the code unless it finds a function called “main” within the program.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8100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8100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rgbClr val="595959"/>
                </a:solidFill>
                <a:latin typeface="Calisto MT"/>
              </a:rPr>
              <a:t>Function declaration: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8100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sto MT"/>
              </a:rPr>
              <a:t>FuncType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</a:rPr>
              <a:t> FuncName(</a:t>
            </a:r>
            <a:r>
              <a:rPr b="0" lang="en-GB" sz="1800" spc="-1" strike="noStrike">
                <a:solidFill>
                  <a:srgbClr val="ff0000"/>
                </a:solidFill>
                <a:latin typeface="Calisto MT"/>
              </a:rPr>
              <a:t>Type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 arg1, </a:t>
            </a:r>
            <a:r>
              <a:rPr b="0" lang="en-GB" sz="1800" spc="-1" strike="noStrike">
                <a:solidFill>
                  <a:srgbClr val="ff0000"/>
                </a:solidFill>
                <a:latin typeface="Calisto MT"/>
              </a:rPr>
              <a:t>Type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 arg2, </a:t>
            </a:r>
            <a:r>
              <a:rPr b="0" lang="en-GB" sz="1800" spc="-1" strike="noStrike">
                <a:solidFill>
                  <a:srgbClr val="ff0000"/>
                </a:solidFill>
                <a:latin typeface="Calisto MT"/>
              </a:rPr>
              <a:t>Type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</a:rPr>
              <a:t> argN)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8100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sto MT"/>
              </a:rPr>
              <a:t>{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</a:rPr>
              <a:t> function body </a:t>
            </a:r>
            <a:r>
              <a:rPr b="0" lang="en-GB" sz="2400" spc="-1" strike="noStrike">
                <a:solidFill>
                  <a:srgbClr val="ff0000"/>
                </a:solidFill>
                <a:latin typeface="Calisto MT"/>
              </a:rPr>
              <a:t>}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6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1ECE1EAF-23C3-47D9-B31A-972F9234CD5F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3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Hello World” program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86888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#include &lt;iostream&gt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using namespace std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int main ()</a:t>
            </a:r>
            <a:r>
              <a:rPr b="1" lang="x-none" sz="1400" spc="-1" strike="noStrike">
                <a:solidFill>
                  <a:srgbClr val="595959"/>
                </a:solidFill>
                <a:latin typeface="Calisto MT"/>
              </a:rPr>
              <a:t>‏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{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42516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cout &lt;&lt; “Hello World\n”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42516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Return 0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Calisto MT"/>
              </a:rPr>
              <a:t>} </a:t>
            </a: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 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include 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information from standard input/output library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iostream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. 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The instruction is more properly called a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“pre-processor” 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instruction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The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# 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hash character starts the line to denote a pre-processor instruction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 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Library name must be enclosed by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&lt;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 and </a:t>
            </a: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&gt;</a:t>
            </a:r>
            <a:r>
              <a:rPr b="0" lang="en-GB" sz="1400" spc="-1" strike="noStrike">
                <a:solidFill>
                  <a:srgbClr val="003399"/>
                </a:solidFill>
                <a:latin typeface="Calisto MT"/>
              </a:rPr>
              <a:t> angled brackets. 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7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ABE1D4B1-D275-4638-A99D-C5D0702B46CB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4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“</a:t>
            </a: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Hello World” program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0556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The second line of the program makes all the functions within the </a:t>
            </a:r>
            <a:r>
              <a:rPr b="1" lang="en-GB" sz="1700" spc="-1" strike="noStrike">
                <a:solidFill>
                  <a:srgbClr val="595959"/>
                </a:solidFill>
                <a:latin typeface="Calisto MT"/>
              </a:rPr>
              <a:t>iostream</a:t>
            </a: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 library available for use by their standard names, which are in </a:t>
            </a:r>
            <a:r>
              <a:rPr b="1" lang="en-GB" sz="1700" spc="-1" strike="noStrike">
                <a:solidFill>
                  <a:srgbClr val="595959"/>
                </a:solidFill>
                <a:latin typeface="Calisto MT"/>
              </a:rPr>
              <a:t>the namespace std</a:t>
            </a: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. 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One of these is a function named </a:t>
            </a:r>
            <a:r>
              <a:rPr b="1" lang="en-GB" sz="1700" spc="-1" strike="noStrike">
                <a:solidFill>
                  <a:srgbClr val="595959"/>
                </a:solidFill>
                <a:latin typeface="Calisto MT"/>
              </a:rPr>
              <a:t>cout</a:t>
            </a: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 that is used to write the output from a program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In the function declaration the data type is specified as</a:t>
            </a:r>
            <a:r>
              <a:rPr b="1" lang="en-GB" sz="1700" spc="-1" strike="noStrike">
                <a:solidFill>
                  <a:srgbClr val="595959"/>
                </a:solidFill>
                <a:latin typeface="Calisto MT"/>
              </a:rPr>
              <a:t> int</a:t>
            </a: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, meaning integer. This means that after executing its statements this function must return an integer value to the operating system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The braces </a:t>
            </a:r>
            <a:r>
              <a:rPr b="1" lang="en-GB" sz="1700" spc="-1" strike="noStrike">
                <a:solidFill>
                  <a:srgbClr val="595959"/>
                </a:solidFill>
                <a:latin typeface="Calisto MT"/>
              </a:rPr>
              <a:t>{ } </a:t>
            </a: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contain the statements to be executed by the program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The final statement in the main function return a value of zero to the operating system to indicate that the program executed correctly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868BB2DF-7A31-4038-A9C8-F80414B0944B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4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36680"/>
            <a:ext cx="64004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Data typ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AEE6-2AB1-4389-96F4-FAB4DBD693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Data Typ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A9B3A51F-6255-4800-B9A7-3F5949A5DFFB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4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0" descr="c_plus_data_types1.png"/>
          <p:cNvPicPr/>
          <p:nvPr/>
        </p:nvPicPr>
        <p:blipFill>
          <a:blip r:embed="rId1"/>
          <a:stretch/>
        </p:blipFill>
        <p:spPr>
          <a:xfrm>
            <a:off x="762120" y="2743200"/>
            <a:ext cx="7695720" cy="33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Keyword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6095880"/>
            <a:ext cx="8227800" cy="101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595959"/>
              </a:buClr>
              <a:buSzPct val="90000"/>
              <a:buFont typeface="Wingdings" charset="2"/>
              <a:buChar char=""/>
            </a:pPr>
            <a:r>
              <a:rPr b="0" lang="en-US" sz="1700" spc="-1" strike="noStrike">
                <a:solidFill>
                  <a:srgbClr val="595959"/>
                </a:solidFill>
                <a:latin typeface="Calisto MT"/>
              </a:rPr>
              <a:t>They cannot be used as variables or other user-defined elements like functions 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20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3EF9C7ED-CE5F-4E93-8172-29F27A36D674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8" descr="Screen shot 2013-02-02 at 10.38.16 PM.png"/>
          <p:cNvPicPr/>
          <p:nvPr/>
        </p:nvPicPr>
        <p:blipFill>
          <a:blip r:embed="rId1"/>
          <a:stretch/>
        </p:blipFill>
        <p:spPr>
          <a:xfrm>
            <a:off x="457200" y="2514600"/>
            <a:ext cx="1485720" cy="2488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Screen shot 2013-02-02 at 10.39.02 PM.png"/>
          <p:cNvPicPr/>
          <p:nvPr/>
        </p:nvPicPr>
        <p:blipFill>
          <a:blip r:embed="rId2"/>
          <a:stretch/>
        </p:blipFill>
        <p:spPr>
          <a:xfrm>
            <a:off x="1828800" y="2514600"/>
            <a:ext cx="1790280" cy="3263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Screen shot 2013-02-02 at 10.39.14 PM.png"/>
          <p:cNvPicPr/>
          <p:nvPr/>
        </p:nvPicPr>
        <p:blipFill>
          <a:blip r:embed="rId3"/>
          <a:stretch/>
        </p:blipFill>
        <p:spPr>
          <a:xfrm>
            <a:off x="3098880" y="2565360"/>
            <a:ext cx="1625400" cy="3606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Screen shot 2013-02-02 at 10.39.46 PM.png"/>
          <p:cNvPicPr/>
          <p:nvPr/>
        </p:nvPicPr>
        <p:blipFill>
          <a:blip r:embed="rId4"/>
          <a:stretch/>
        </p:blipFill>
        <p:spPr>
          <a:xfrm>
            <a:off x="4546440" y="2590920"/>
            <a:ext cx="1168200" cy="1968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Screen shot 2013-02-02 at 10.39.55 PM.png"/>
          <p:cNvPicPr/>
          <p:nvPr/>
        </p:nvPicPr>
        <p:blipFill>
          <a:blip r:embed="rId5"/>
          <a:stretch/>
        </p:blipFill>
        <p:spPr>
          <a:xfrm>
            <a:off x="5867280" y="2552760"/>
            <a:ext cx="132048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scape Sequenc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A31419A9-2D92-49F7-9E37-806CD6E02C54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8" descr="Screen shot 2013-02-02 at 10.51.23 PM.png"/>
          <p:cNvPicPr/>
          <p:nvPr/>
        </p:nvPicPr>
        <p:blipFill>
          <a:blip r:embed="rId1"/>
          <a:stretch/>
        </p:blipFill>
        <p:spPr>
          <a:xfrm>
            <a:off x="838080" y="3581280"/>
            <a:ext cx="6997320" cy="20062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0"/>
          <p:cNvSpPr/>
          <p:nvPr/>
        </p:nvSpPr>
        <p:spPr>
          <a:xfrm>
            <a:off x="838080" y="2666880"/>
            <a:ext cx="6933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The name reflects the fact that the backslash causes an “escape” from the normal way the character is interpre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Objectiv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Programming languages Overview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C++ Overview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Data Typ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Control Statement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595959"/>
                </a:solidFill>
                <a:latin typeface="Calisto MT"/>
              </a:rPr>
              <a:t>Functio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EB2E-14D0-437A-A8CA-3ACF10B2D6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Calisto MT"/>
              </a:rPr>
              <a:t>Declaring and Initializing Variables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766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To declare variables for example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int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first, second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char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ch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double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x; 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US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bool </a:t>
            </a:r>
            <a:r>
              <a:rPr b="0" lang="en-US" sz="1700" spc="-1" strike="noStrike">
                <a:solidFill>
                  <a:srgbClr val="002060"/>
                </a:solidFill>
                <a:latin typeface="Calisto MT"/>
              </a:rPr>
              <a:t>flag</a:t>
            </a:r>
            <a:r>
              <a:rPr b="0" lang="en-US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Calisto MT"/>
              </a:rPr>
              <a:t>To declare and initialize variables for example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int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first = 13,  second = 10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char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ch = ‘A’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GB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double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  x = 12.6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r>
              <a:rPr b="0" lang="en-US" sz="1700" spc="-1" strike="noStrike">
                <a:solidFill>
                  <a:schemeClr val="accent2">
                    <a:lumMod val="75000"/>
                  </a:schemeClr>
                </a:solidFill>
                <a:latin typeface="Calisto MT"/>
              </a:rPr>
              <a:t>bool </a:t>
            </a:r>
            <a:r>
              <a:rPr b="0" lang="en-US" sz="1700" spc="-1" strike="noStrike">
                <a:solidFill>
                  <a:srgbClr val="002060"/>
                </a:solidFill>
                <a:latin typeface="Calisto MT"/>
              </a:rPr>
              <a:t>flag</a:t>
            </a:r>
            <a:r>
              <a:rPr b="0" lang="en-GB" sz="1700" spc="-1" strike="noStrike">
                <a:solidFill>
                  <a:srgbClr val="002060"/>
                </a:solidFill>
                <a:latin typeface="Calisto MT"/>
              </a:rPr>
              <a:t> </a:t>
            </a:r>
            <a:r>
              <a:rPr b="0" lang="en-GB" sz="1700" spc="-1" strike="noStrike">
                <a:solidFill>
                  <a:srgbClr val="003399"/>
                </a:solidFill>
                <a:latin typeface="Calisto MT"/>
              </a:rPr>
              <a:t>= true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22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9A7E6879-55A0-4F6E-8158-9CC40CE584D8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1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684360" y="907920"/>
            <a:ext cx="784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Input (Read) Statement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Calisto MT"/>
              </a:rPr>
              <a:t>The syntax of </a:t>
            </a:r>
            <a:r>
              <a:rPr b="0" lang="en-GB" sz="2200" spc="-1" strike="noStrike">
                <a:solidFill>
                  <a:schemeClr val="accent5">
                    <a:lumMod val="75000"/>
                  </a:schemeClr>
                </a:solidFill>
                <a:latin typeface="Calisto MT"/>
              </a:rPr>
              <a:t>cin </a:t>
            </a:r>
            <a:r>
              <a:rPr b="0" lang="en-GB" sz="2200" spc="-1" strike="noStrike">
                <a:solidFill>
                  <a:srgbClr val="003399"/>
                </a:solidFill>
                <a:latin typeface="Calisto MT"/>
              </a:rPr>
              <a:t>together with &gt;&gt; is: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sto MT"/>
              </a:rPr>
              <a:t>cin &gt;&gt; </a:t>
            </a:r>
            <a:r>
              <a:rPr b="1" lang="en-GB" sz="2800" spc="-1" strike="noStrike">
                <a:solidFill>
                  <a:srgbClr val="0070c0"/>
                </a:solidFill>
                <a:latin typeface="Calisto MT"/>
              </a:rPr>
              <a:t>variable&gt;&gt; variable</a:t>
            </a:r>
            <a:r>
              <a:rPr b="1" lang="en-GB" sz="2800" spc="-1" strike="noStrike">
                <a:solidFill>
                  <a:schemeClr val="accent1">
                    <a:lumMod val="50000"/>
                  </a:schemeClr>
                </a:solidFill>
                <a:latin typeface="Calisto MT"/>
              </a:rPr>
              <a:t>;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3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B410ACA0-248F-4ABE-8473-FC8EC87893DD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1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Output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-3150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003399"/>
                </a:solidFill>
                <a:latin typeface="Calisto MT"/>
              </a:rPr>
              <a:t>The syntax of cout together with &lt;&lt; is: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5000" indent="-3150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1" lang="en-GB" sz="2200" spc="-1" strike="noStrike">
                <a:solidFill>
                  <a:srgbClr val="ff0000"/>
                </a:solidFill>
                <a:latin typeface="Calisto MT"/>
              </a:rPr>
              <a:t>cout &lt;&lt; </a:t>
            </a:r>
            <a:r>
              <a:rPr b="1" lang="en-GB" sz="2200" spc="-1" strike="noStrike">
                <a:solidFill>
                  <a:srgbClr val="0070c0"/>
                </a:solidFill>
                <a:latin typeface="Calisto MT"/>
              </a:rPr>
              <a:t>expression or manipulator </a:t>
            </a:r>
            <a:r>
              <a:rPr b="1" lang="en-GB" sz="2200" spc="-1" strike="noStrike">
                <a:solidFill>
                  <a:schemeClr val="accent1">
                    <a:lumMod val="50000"/>
                  </a:schemeClr>
                </a:solidFill>
                <a:latin typeface="Calisto MT"/>
              </a:rPr>
              <a:t>&lt;&lt;</a:t>
            </a:r>
            <a:r>
              <a:rPr b="1" lang="en-GB" sz="2200" spc="-1" strike="noStrike">
                <a:solidFill>
                  <a:srgbClr val="ff0000"/>
                </a:solidFill>
                <a:latin typeface="Calisto MT"/>
              </a:rPr>
              <a:t> </a:t>
            </a:r>
            <a:r>
              <a:rPr b="1" lang="en-GB" sz="2200" spc="-1" strike="noStrike">
                <a:solidFill>
                  <a:srgbClr val="0070c0"/>
                </a:solidFill>
                <a:latin typeface="Calisto MT"/>
              </a:rPr>
              <a:t>expression or manipulator </a:t>
            </a:r>
            <a:r>
              <a:rPr b="1" lang="en-GB" sz="2200" spc="-1" strike="noStrike">
                <a:solidFill>
                  <a:schemeClr val="accent1">
                    <a:lumMod val="50000"/>
                  </a:schemeClr>
                </a:solidFill>
                <a:latin typeface="Calisto MT"/>
              </a:rPr>
              <a:t>……….;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262440" indent="-26244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003399"/>
                </a:solidFill>
                <a:latin typeface="Calisto MT"/>
              </a:rPr>
              <a:t>The expression is evaluated and its value is printed at the current insertion point on the output device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262440" indent="-26244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2200" spc="-1" strike="noStrike">
                <a:solidFill>
                  <a:srgbClr val="003399"/>
                </a:solidFill>
                <a:latin typeface="Calisto MT"/>
              </a:rPr>
              <a:t>A manipulator is used to format the output. The simplest manipulator  is endl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1FD6867A-93C8-434F-BA8E-736C5F7574EA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2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Exampl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240" name="Content Placeholder 5" descr="Screen shot 2013-02-02 at 11.01.51 PM.png"/>
          <p:cNvPicPr/>
          <p:nvPr/>
        </p:nvPicPr>
        <p:blipFill>
          <a:blip r:embed="rId1"/>
          <a:stretch/>
        </p:blipFill>
        <p:spPr>
          <a:xfrm>
            <a:off x="1066680" y="2432520"/>
            <a:ext cx="7162560" cy="373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B8B0-4376-4425-8D90-E2AEE537AB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Working with String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6260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The C++ &lt;string&gt; class provides methods to manipulate strings of text.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SzPct val="90000"/>
              <a:buFont typeface="Wingdings" charset="2"/>
              <a:buChar char=""/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This is an example of Declaring and initializing  a string variable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</a:pP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alisto MT"/>
              </a:rPr>
              <a:t>#include &lt;string&gt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#include &lt;iostream&gt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using namespace std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int main( )</a:t>
            </a:r>
            <a:r>
              <a:rPr b="0" lang="x-none" sz="1400" spc="-1" strike="noStrike">
                <a:solidFill>
                  <a:srgbClr val="595959"/>
                </a:solidFill>
                <a:latin typeface="Calisto MT"/>
              </a:rPr>
              <a:t>‏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{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  </a:t>
            </a: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string str = "C++ is fun”;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sto MT"/>
              </a:rPr>
              <a:t>}</a:t>
            </a: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38C94A3B-D0D1-414C-944D-B2DCCBFE2BC1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4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36680"/>
            <a:ext cx="64004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ontrol Statement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uf Aljaffan (C) 2012 - CSC 1201 Course at K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DB91-B861-4803-A1F6-B7ED525771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If Statement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247" name="Content Placeholder 8" descr="Screen shot 2013-02-02 at 11.17.07 PM.png"/>
          <p:cNvPicPr/>
          <p:nvPr/>
        </p:nvPicPr>
        <p:blipFill>
          <a:blip r:embed="rId1"/>
          <a:stretch/>
        </p:blipFill>
        <p:spPr>
          <a:xfrm>
            <a:off x="4356000" y="2438280"/>
            <a:ext cx="4559040" cy="3568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 type="sldNum" idx="26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21B238A5-48F4-44A8-96DD-F9EE7DA0D949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7" descr="Screen shot 2013-02-02 at 11.17.21 PM.png"/>
          <p:cNvPicPr/>
          <p:nvPr/>
        </p:nvPicPr>
        <p:blipFill>
          <a:blip r:embed="rId2"/>
          <a:stretch/>
        </p:blipFill>
        <p:spPr>
          <a:xfrm>
            <a:off x="254160" y="2489040"/>
            <a:ext cx="3631680" cy="31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If .. Else Statement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251" name="Content Placeholder 5" descr="Screen shot 2013-02-02 at 11.17.38 PM.png"/>
          <p:cNvPicPr/>
          <p:nvPr/>
        </p:nvPicPr>
        <p:blipFill>
          <a:blip r:embed="rId1"/>
          <a:stretch/>
        </p:blipFill>
        <p:spPr>
          <a:xfrm>
            <a:off x="5334120" y="2514600"/>
            <a:ext cx="3352320" cy="3941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Screen shot 2013-02-02 at 11.17.49 PM.png"/>
          <p:cNvPicPr/>
          <p:nvPr/>
        </p:nvPicPr>
        <p:blipFill>
          <a:blip r:embed="rId2"/>
          <a:stretch/>
        </p:blipFill>
        <p:spPr>
          <a:xfrm>
            <a:off x="380880" y="2590920"/>
            <a:ext cx="3250800" cy="365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47C-1F44-4086-9CE8-4D99D77D57E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 : If..else Statement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254" name="Content Placeholder 5" descr="Screen shot 2013-02-02 at 11.14.45 PM.png"/>
          <p:cNvPicPr/>
          <p:nvPr/>
        </p:nvPicPr>
        <p:blipFill>
          <a:blip r:embed="rId1"/>
          <a:stretch/>
        </p:blipFill>
        <p:spPr>
          <a:xfrm>
            <a:off x="914400" y="2686680"/>
            <a:ext cx="7467120" cy="34851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BB47D584-7A9D-48D7-89ED-CB3AEE1CC40E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Switch Structur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28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32E58257-3DBE-4DB8-88F5-0A35A4254F23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29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Screen shot 2013-02-02 at 11.24.42 PM.png"/>
          <p:cNvPicPr/>
          <p:nvPr/>
        </p:nvPicPr>
        <p:blipFill>
          <a:blip r:embed="rId1"/>
          <a:stretch/>
        </p:blipFill>
        <p:spPr>
          <a:xfrm>
            <a:off x="609480" y="380880"/>
            <a:ext cx="5714640" cy="59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66290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Programming Languages Overview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0548-41DF-4047-91D4-2FF4FF6D6B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Switch Structur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29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B4F3342C-8B93-4953-880E-3A76323DB059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" descr="Screen shot 2013-02-02 at 11.24.22 PM.png"/>
          <p:cNvPicPr/>
          <p:nvPr/>
        </p:nvPicPr>
        <p:blipFill>
          <a:blip r:embed="rId1"/>
          <a:stretch/>
        </p:blipFill>
        <p:spPr>
          <a:xfrm>
            <a:off x="1219320" y="120600"/>
            <a:ext cx="4774680" cy="66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609480" y="152280"/>
            <a:ext cx="78483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d0d0d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: Switch Structur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10240" y="1295280"/>
            <a:ext cx="824760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000" spc="-1" strike="noStrike">
                <a:solidFill>
                  <a:srgbClr val="0d0d0d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30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FB8678B2-6499-422E-9382-FA9482407F46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457200" y="1943640"/>
            <a:ext cx="6400800" cy="47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har lett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Enter any  a-z character: 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in &gt;&gt; lett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switch(let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ase 'a'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Letter \'a\' found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ase 'b'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Letter \'b\' found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brea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ase 'c'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cout &lt;&lt; "Letter \'c\' found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	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default : cout &lt;&lt; "Letter is not a, b or c\n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x-none" sz="1600" spc="-1" strike="noStrike">
                <a:solidFill>
                  <a:srgbClr val="0d0d0d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00000"/>
              </a:lnSpc>
            </a:pP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  </a:t>
            </a:r>
            <a:r>
              <a:rPr b="1" lang="en-US" sz="1600" spc="-1" strike="noStrike">
                <a:solidFill>
                  <a:srgbClr val="0d0d0d"/>
                </a:solidFill>
                <a:latin typeface="Consolas"/>
              </a:rPr>
              <a:t>return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For Loop Structur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8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4920" indent="-304920">
              <a:lnSpc>
                <a:spcPct val="8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Lucida Grande"/>
              <a:buChar char=" "/>
            </a:pPr>
            <a:r>
              <a:rPr b="0" lang="en-US" sz="1700" spc="-1" strike="noStrike">
                <a:solidFill>
                  <a:srgbClr val="000000"/>
                </a:solidFill>
                <a:latin typeface="LM Mono 10 Regular"/>
                <a:ea typeface="LM Mono 10 Regular"/>
              </a:rPr>
              <a:t>The </a:t>
            </a:r>
            <a:r>
              <a:rPr b="0" lang="en-US" sz="1700" spc="-1" strike="noStrike">
                <a:solidFill>
                  <a:srgbClr val="ff0000"/>
                </a:solidFill>
                <a:latin typeface="LM Mono 10 Regular"/>
                <a:ea typeface="LM Mono 10 Regular"/>
              </a:rPr>
              <a:t>for</a:t>
            </a:r>
            <a:r>
              <a:rPr b="0" lang="en-US" sz="1700" spc="-1" strike="noStrike">
                <a:solidFill>
                  <a:srgbClr val="000000"/>
                </a:solidFill>
                <a:latin typeface="LM Mono 10 Regular"/>
                <a:ea typeface="LM Mono 10 Regular"/>
              </a:rPr>
              <a:t> loop execute part of the code a fixed number of times 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31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F67665B9-F2E9-47BF-8251-58CFE3F593E3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4" descr="Screen shot 2013-02-03 at 10.41.10 AM.png"/>
          <p:cNvPicPr/>
          <p:nvPr/>
        </p:nvPicPr>
        <p:blipFill>
          <a:blip r:embed="rId1"/>
          <a:stretch/>
        </p:blipFill>
        <p:spPr>
          <a:xfrm>
            <a:off x="533520" y="1295280"/>
            <a:ext cx="579096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: For Loop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601956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#</a:t>
            </a:r>
            <a:r>
              <a:rPr b="1" lang="en-US" sz="1600" spc="-1" strike="noStrike">
                <a:solidFill>
                  <a:srgbClr val="c00000"/>
                </a:solidFill>
                <a:latin typeface="Calisto MT"/>
              </a:rPr>
              <a:t>include</a:t>
            </a: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 &lt;iostream&gt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sto MT"/>
              </a:rPr>
              <a:t>using namespace </a:t>
            </a: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std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sto MT"/>
              </a:rPr>
              <a:t>int </a:t>
            </a: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main()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{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Calisto MT"/>
              </a:rPr>
              <a:t>int 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i,num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Calisto MT"/>
              </a:rPr>
              <a:t>cout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&lt;&lt;"enter any number: "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Calisto MT"/>
              </a:rPr>
              <a:t>cin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&gt;&gt;num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Calisto MT"/>
              </a:rPr>
              <a:t>for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 ( i=1 ; i&lt;=10 ; i++ )</a:t>
            </a:r>
            <a:r>
              <a:rPr b="1" lang="x-none" sz="1600" spc="-1" strike="noStrike">
                <a:solidFill>
                  <a:srgbClr val="0d0d0d"/>
                </a:solidFill>
                <a:latin typeface="Calisto MT"/>
              </a:rPr>
              <a:t>‏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{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c00000"/>
                </a:solidFill>
                <a:latin typeface="Calisto MT"/>
              </a:rPr>
              <a:t>cout 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&lt;&lt; endl &lt;&lt; num &lt;&lt; "*“ &lt;&lt; i &lt;&lt; "=“ &lt;&lt; num*i &lt;&lt; endl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	</a:t>
            </a:r>
            <a:r>
              <a:rPr b="1" lang="en-GB" sz="1600" spc="-1" strike="noStrike">
                <a:solidFill>
                  <a:srgbClr val="0d0d0d"/>
                </a:solidFill>
                <a:latin typeface="Calisto MT"/>
              </a:rPr>
              <a:t>}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sto MT"/>
              </a:rPr>
              <a:t>return</a:t>
            </a: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 0;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Calisto MT"/>
              </a:rPr>
              <a:t>}</a:t>
            </a: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B3B8D-2720-4361-8567-4701EC2F9E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rgbClr val="ffffff"/>
                </a:solidFill>
                <a:latin typeface="Calisto MT"/>
              </a:rPr>
              <a:t>While Loop Structure</a:t>
            </a:r>
            <a:endParaRPr b="0" lang="en-US" sz="4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/>
          </a:bodyPr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5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32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64E0CFF0-630D-4A72-A3A3-CE2333B0147A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6" descr="Screen shot 2013-02-03 at 10.56.35 AM.png"/>
          <p:cNvPicPr/>
          <p:nvPr/>
        </p:nvPicPr>
        <p:blipFill>
          <a:blip r:embed="rId1"/>
          <a:stretch/>
        </p:blipFill>
        <p:spPr>
          <a:xfrm>
            <a:off x="159840" y="533520"/>
            <a:ext cx="6613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:  While loop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568240"/>
            <a:ext cx="8227800" cy="346860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281" name="Picture 7" descr="Screen shot 2013-02-03 at 11.02.00 AM.png"/>
          <p:cNvPicPr/>
          <p:nvPr/>
        </p:nvPicPr>
        <p:blipFill>
          <a:blip r:embed="rId1"/>
          <a:stretch/>
        </p:blipFill>
        <p:spPr>
          <a:xfrm>
            <a:off x="609480" y="2590920"/>
            <a:ext cx="8076960" cy="358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26508-DE98-47E9-843C-C2550516B65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Relational Operators in C++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ldNum" idx="33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D82E021C-733D-4651-B950-C403CE361AA0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Content Placeholder 5" descr="Screen shot 2013-02-03 at 11.06.03 AM.png"/>
          <p:cNvPicPr/>
          <p:nvPr/>
        </p:nvPicPr>
        <p:blipFill>
          <a:blip r:embed="rId1"/>
          <a:stretch/>
        </p:blipFill>
        <p:spPr>
          <a:xfrm>
            <a:off x="752400" y="2666880"/>
            <a:ext cx="7095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Logical Operators in C++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ldNum" idx="34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440"/>
                <a:tab algn="l" pos="2285640"/>
                <a:tab algn="l" pos="2742840"/>
                <a:tab algn="l" pos="3200040"/>
                <a:tab algn="l" pos="3657240"/>
                <a:tab algn="l" pos="4114440"/>
                <a:tab algn="l" pos="4571640"/>
                <a:tab algn="l" pos="5028840"/>
                <a:tab algn="l" pos="5485680"/>
                <a:tab algn="l" pos="5942880"/>
                <a:tab algn="l" pos="6400080"/>
                <a:tab algn="l" pos="6857280"/>
                <a:tab algn="l" pos="7314480"/>
                <a:tab algn="l" pos="7771680"/>
                <a:tab algn="l" pos="8228880"/>
                <a:tab algn="l" pos="8686080"/>
                <a:tab algn="l" pos="9142920"/>
              </a:tabLst>
            </a:pPr>
            <a:fld id="{6B4DA648-FDA3-44A9-B73C-B8302EDCCF2E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Content Placeholder 8" descr="Screen shot 2013-02-03 at 11.07.58 AM.png"/>
          <p:cNvPicPr/>
          <p:nvPr/>
        </p:nvPicPr>
        <p:blipFill>
          <a:blip r:embed="rId1"/>
          <a:stretch/>
        </p:blipFill>
        <p:spPr>
          <a:xfrm>
            <a:off x="1193400" y="3048120"/>
            <a:ext cx="7111800" cy="23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36680"/>
            <a:ext cx="640044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Function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676520" y="3609720"/>
            <a:ext cx="51811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uf Aljaffan (C) 2012 - CSC 1201 Course at K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4F94-6855-4F77-BD23-2F953791A5A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User Defined Function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361080" indent="-361080" algn="just">
              <a:lnSpc>
                <a:spcPct val="15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</a:pPr>
            <a:r>
              <a:rPr b="1" lang="en-GB" sz="3300" spc="-1" strike="noStrike">
                <a:solidFill>
                  <a:srgbClr val="595959"/>
                </a:solidFill>
                <a:latin typeface="Arial"/>
              </a:rPr>
              <a:t>Value returning functions:</a:t>
            </a:r>
            <a:r>
              <a:rPr b="0" lang="en-GB" sz="33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lvl="1" marL="721800" indent="-354240" algn="just">
              <a:lnSpc>
                <a:spcPct val="15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functions that have a return type. 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lvl="1" marL="721800" indent="-354240" algn="just">
              <a:lnSpc>
                <a:spcPct val="15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These functions return a value of a specific data type using the </a:t>
            </a:r>
            <a:r>
              <a:rPr b="1" lang="en-GB" sz="2900" spc="-1" strike="noStrike">
                <a:solidFill>
                  <a:srgbClr val="c00000"/>
                </a:solidFill>
                <a:latin typeface="Arial"/>
              </a:rPr>
              <a:t>return</a:t>
            </a:r>
            <a:r>
              <a:rPr b="0" lang="en-GB" sz="29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statement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marL="86760" indent="0" algn="just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marL="361080" indent="-361080" algn="just">
              <a:lnSpc>
                <a:spcPct val="15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1" lang="en-GB" sz="3300" spc="-1" strike="noStrike">
                <a:solidFill>
                  <a:srgbClr val="595959"/>
                </a:solidFill>
                <a:latin typeface="Arial"/>
              </a:rPr>
              <a:t>Void functions:</a:t>
            </a:r>
            <a:r>
              <a:rPr b="0" lang="en-GB" sz="33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lvl="1" marL="721800" indent="-354240" algn="just">
              <a:lnSpc>
                <a:spcPct val="15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functions that do not have a return type. 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lvl="1" marL="721800" indent="-354240" algn="just">
              <a:lnSpc>
                <a:spcPct val="15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0"/>
              </a:tabLst>
            </a:pPr>
            <a:r>
              <a:rPr b="0" lang="en-GB" sz="2900" spc="-1" strike="noStrike">
                <a:solidFill>
                  <a:srgbClr val="262699"/>
                </a:solidFill>
                <a:latin typeface="Arial"/>
              </a:rPr>
              <a:t>These functions do not use a return statement to return a value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marL="867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35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</a:pPr>
            <a:fld id="{BE35473A-9C86-4D57-A17B-B0BF2E983069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24657518-5D36-48AA-8B88-11D19B340A3D}" type="slidenum">
              <a:rPr b="0" lang="en-GB" sz="1300" spc="-1" strike="noStrike">
                <a:solidFill>
                  <a:srgbClr val="000000"/>
                </a:solidFill>
                <a:latin typeface="Calisto MT"/>
                <a:ea typeface="msmincho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  <a:ea typeface="msmincho"/>
              </a:rPr>
              <a:t>Programming Methodologies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3300" spc="-1" strike="noStrike">
                <a:solidFill>
                  <a:srgbClr val="595959"/>
                </a:solidFill>
                <a:latin typeface="Calisto MT"/>
                <a:ea typeface="msmincho"/>
              </a:rPr>
              <a:t>Structured Programming</a:t>
            </a: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1020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alisto MT"/>
                <a:ea typeface="msmincho"/>
              </a:rPr>
              <a:t>Ex: C, Pascal, Fortran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1020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Calisto MT"/>
                <a:ea typeface="msmincho"/>
              </a:rPr>
              <a:t>Object-Oriented Programming(OOP)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alisto MT"/>
                <a:ea typeface="msmincho"/>
              </a:rPr>
              <a:t>Ex: C++, Java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A64E-6DC0-4E4B-82A4-28F114A823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Function Syntax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416880"/>
            <a:ext cx="6019560" cy="56152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295" name="Picture 6" descr="Screen shot 2013-02-03 at 11.41.32 AM.png"/>
          <p:cNvPicPr/>
          <p:nvPr/>
        </p:nvPicPr>
        <p:blipFill>
          <a:blip r:embed="rId1"/>
          <a:stretch/>
        </p:blipFill>
        <p:spPr>
          <a:xfrm>
            <a:off x="380880" y="0"/>
            <a:ext cx="6243120" cy="68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B314B-ED6B-4931-B146-AC4B5379D79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s: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70200"/>
            <a:ext cx="766260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553320" indent="-4698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Calisto MT"/>
              <a:buAutoNum type="arabicPeriod"/>
            </a:pPr>
            <a:r>
              <a:rPr b="0" lang="en-GB" sz="2900" spc="-1" strike="noStrike">
                <a:solidFill>
                  <a:srgbClr val="595959"/>
                </a:solidFill>
                <a:latin typeface="Arial"/>
              </a:rPr>
              <a:t>Write a Function larger, which returns the larger of the two given integers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marL="553320" indent="-4698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Calisto MT"/>
              <a:buAutoNum type="arabicPeriod"/>
            </a:pPr>
            <a:r>
              <a:rPr b="0" lang="en-GB" sz="2900" spc="-1" strike="noStrike">
                <a:solidFill>
                  <a:srgbClr val="595959"/>
                </a:solidFill>
                <a:latin typeface="Arial"/>
              </a:rPr>
              <a:t>Write a Function Square, which returns the square of the given integer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marL="553320" indent="-46980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Calisto MT"/>
              <a:buAutoNum type="arabicPeriod"/>
            </a:pPr>
            <a:r>
              <a:rPr b="0" lang="en-GB" sz="2900" spc="-1" strike="noStrike">
                <a:solidFill>
                  <a:srgbClr val="595959"/>
                </a:solidFill>
                <a:latin typeface="Calisto MT"/>
              </a:rPr>
              <a:t>Write a function  number_type. The function should output the number and message saying whether the number is positive, negative, or zero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9D6-B39D-4342-9A39-494758FC53D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Example: With return valu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520560"/>
            <a:ext cx="6248160" cy="60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larger ( 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x , 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y )</a:t>
            </a:r>
            <a:r>
              <a:rPr b="0" lang="x-none" sz="1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max;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( x &gt;= y )</a:t>
            </a:r>
            <a:r>
              <a:rPr b="0" lang="x-none" sz="1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x = x;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else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x = y;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max;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262699"/>
                </a:solidFill>
                <a:latin typeface="Arial"/>
              </a:rPr>
              <a:t>……</a:t>
            </a:r>
            <a:r>
              <a:rPr b="0" lang="en-GB" sz="1500" spc="-1" strike="noStrike">
                <a:solidFill>
                  <a:srgbClr val="262699"/>
                </a:solidFill>
                <a:latin typeface="Arial"/>
              </a:rPr>
              <a:t>..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262699"/>
                </a:solidFill>
                <a:latin typeface="Arial"/>
              </a:rPr>
              <a:t>Cout &lt;&lt; “The larger of 5 and 6 is “ &lt;&lt; larger(5 , 6) &lt;&lt; endl;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500" spc="-1" strike="noStrike">
                <a:solidFill>
                  <a:srgbClr val="262699"/>
                </a:solidFill>
                <a:latin typeface="Arial"/>
              </a:rPr>
              <a:t>………</a:t>
            </a:r>
            <a:r>
              <a:rPr b="0" lang="en-GB" sz="1500" spc="-1" strike="noStrike">
                <a:solidFill>
                  <a:srgbClr val="2626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36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</a:pPr>
            <a:fld id="{42428F33-8E8F-4FD1-82D0-19269FC26F44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6"/>
          <p:cNvSpPr/>
          <p:nvPr/>
        </p:nvSpPr>
        <p:spPr>
          <a:xfrm rot="949200">
            <a:off x="4724640" y="537120"/>
            <a:ext cx="3402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ee6d2"/>
                </a:solidFill>
                <a:latin typeface="Calisto MT"/>
              </a:rPr>
              <a:t>Solution Ex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: With return valu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-76320" y="216000"/>
            <a:ext cx="7162560" cy="60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square (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x)</a:t>
            </a:r>
            <a:r>
              <a:rPr b="0" lang="x-none" sz="17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x*x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main ( )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number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1700" spc="-1" strike="noStrike">
                <a:solidFill>
                  <a:srgbClr val="800000"/>
                </a:solidFill>
                <a:latin typeface="Arial"/>
              </a:rPr>
              <a:t>"Enter any number to Calculate the square of this number "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in&gt;&gt;number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ut&lt;&lt;endl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ut&lt;&lt;</a:t>
            </a:r>
            <a:r>
              <a:rPr b="0" lang="en-GB" sz="1700" spc="-1" strike="noStrike">
                <a:solidFill>
                  <a:srgbClr val="800000"/>
                </a:solidFill>
                <a:latin typeface="Arial"/>
              </a:rPr>
              <a:t>"the square of "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&lt;&lt;number&lt;&lt;</a:t>
            </a:r>
            <a:r>
              <a:rPr b="0" lang="en-GB" sz="1700" spc="-1" strike="noStrike">
                <a:solidFill>
                  <a:srgbClr val="800000"/>
                </a:solidFill>
                <a:latin typeface="Arial"/>
              </a:rPr>
              <a:t>" is "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&lt;&lt;square(number)&lt;&lt;endl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0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37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</a:pPr>
            <a:fld id="{D359E722-4A27-442E-BCCD-25436F92E85D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 rot="949200">
            <a:off x="3733920" y="516240"/>
            <a:ext cx="3402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ee6d2"/>
                </a:solidFill>
                <a:latin typeface="Calisto MT"/>
              </a:rPr>
              <a:t>Solution Ex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086600" y="274680"/>
            <a:ext cx="1523520" cy="585108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</a:rPr>
              <a:t>Example: Without return value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60195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1465c5"/>
                </a:solidFill>
                <a:latin typeface="Arial"/>
              </a:rPr>
              <a:t>Void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  number_type ( </a:t>
            </a:r>
            <a:r>
              <a:rPr b="0" lang="en-GB" sz="1700" spc="-1" strike="noStrike">
                <a:solidFill>
                  <a:srgbClr val="1466c5"/>
                </a:solidFill>
                <a:latin typeface="Arial"/>
              </a:rPr>
              <a:t>int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 x)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‏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1466c5"/>
                </a:solidFill>
                <a:latin typeface="Arial"/>
              </a:rPr>
              <a:t>if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 ( x &gt; 0 )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‏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cout &lt;&lt; x &lt;&lt; “ is positive.” &lt;&lt; endl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1466c5"/>
                </a:solidFill>
                <a:latin typeface="Arial"/>
              </a:rPr>
              <a:t>else if 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( x &lt; 0 )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‏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cout &lt;&lt; x &lt;&lt; “ is negative.” &lt;&lt; endl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1466c5"/>
                </a:solidFill>
                <a:latin typeface="Arial"/>
              </a:rPr>
              <a:t>else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cout&lt;&lt; x &lt;&lt; “is a zero.”&lt;&lt;endl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……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..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Number_type( 5 );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………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. </a:t>
            </a:r>
            <a:r>
              <a:rPr b="0" lang="en-GB" sz="1700" spc="-1" strike="noStrike">
                <a:solidFill>
                  <a:srgbClr val="59595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  <a:p>
            <a:pPr marL="824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38"/>
          </p:nvPr>
        </p:nvSpPr>
        <p:spPr>
          <a:xfrm>
            <a:off x="4305240" y="6356520"/>
            <a:ext cx="533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  <a:defRPr b="1" lang="en-GB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040"/>
                <a:tab algn="l" pos="1371240"/>
                <a:tab algn="l" pos="1828440"/>
                <a:tab algn="l" pos="2285640"/>
                <a:tab algn="l" pos="2742480"/>
                <a:tab algn="l" pos="3199680"/>
                <a:tab algn="l" pos="3656880"/>
                <a:tab algn="l" pos="4114080"/>
                <a:tab algn="l" pos="4570920"/>
                <a:tab algn="l" pos="5028120"/>
                <a:tab algn="l" pos="5485320"/>
                <a:tab algn="l" pos="5942520"/>
                <a:tab algn="l" pos="6399360"/>
                <a:tab algn="l" pos="6856560"/>
                <a:tab algn="l" pos="7313760"/>
                <a:tab algn="l" pos="7770960"/>
                <a:tab algn="l" pos="8227800"/>
                <a:tab algn="l" pos="8685000"/>
                <a:tab algn="l" pos="9142200"/>
              </a:tabLst>
            </a:pPr>
            <a:fld id="{A6C37B85-06BA-4E06-BE7B-56D1F5332D87}" type="slidenum">
              <a:rPr b="1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7"/>
          <p:cNvSpPr/>
          <p:nvPr/>
        </p:nvSpPr>
        <p:spPr>
          <a:xfrm rot="949200">
            <a:off x="4524120" y="461160"/>
            <a:ext cx="3402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ee6d2"/>
                </a:solidFill>
                <a:latin typeface="Calisto MT"/>
              </a:rPr>
              <a:t>Solution Ex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6A9037BD-0DF1-45D4-9789-7378D953F641}" type="slidenum">
              <a:rPr b="0" lang="en-GB" sz="1300" spc="-1" strike="noStrike">
                <a:solidFill>
                  <a:srgbClr val="000000"/>
                </a:solidFill>
                <a:latin typeface="Calisto MT"/>
                <a:ea typeface="msmincho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Calisto MT"/>
                <a:ea typeface="msmincho"/>
              </a:rPr>
              <a:t>Structured Programming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182" name="Content Placeholder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3C2A-42AA-4F49-8FA0-F3B5B73E70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ACB2981A-D6B3-478F-B9AB-820725B9F26D}" type="slidenum">
              <a:rPr b="0" lang="en-GB" sz="1300" spc="-1" strike="noStrike">
                <a:solidFill>
                  <a:srgbClr val="000000"/>
                </a:solidFill>
                <a:latin typeface="Calisto MT"/>
                <a:ea typeface="msmincho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ffffff"/>
                </a:solidFill>
                <a:latin typeface="Calisto MT"/>
                <a:ea typeface="msmincho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228600" y="1905120"/>
            <a:ext cx="937224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595959"/>
              </a:solidFill>
              <a:latin typeface="Calisto MT"/>
            </a:endParaRPr>
          </a:p>
          <a:p>
            <a:pPr lvl="1" marL="911160" indent="-51120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Calisto MT"/>
              <a:buAutoNum type="arabicPeriod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900" spc="-1" strike="noStrike">
                <a:solidFill>
                  <a:srgbClr val="595959"/>
                </a:solidFill>
                <a:latin typeface="Calisto MT"/>
                <a:ea typeface="msmincho"/>
              </a:rPr>
              <a:t>Identify components called </a:t>
            </a:r>
            <a:r>
              <a:rPr b="1" lang="en-GB" sz="2900" spc="-1" strike="noStrike">
                <a:solidFill>
                  <a:srgbClr val="595959"/>
                </a:solidFill>
                <a:latin typeface="Calisto MT"/>
                <a:ea typeface="msmincho"/>
              </a:rPr>
              <a:t>objects</a:t>
            </a:r>
            <a:r>
              <a:rPr b="0" lang="en-GB" sz="2900" spc="-1" strike="noStrike">
                <a:solidFill>
                  <a:srgbClr val="595959"/>
                </a:solidFill>
                <a:latin typeface="Calisto MT"/>
                <a:ea typeface="msmincho"/>
              </a:rPr>
              <a:t>, which form the basis of the solution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lvl="2" marL="1029240" indent="-34704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160" spc="-1" strike="noStrike">
                <a:solidFill>
                  <a:srgbClr val="595959"/>
                </a:solidFill>
                <a:latin typeface="Calisto MT"/>
                <a:ea typeface="msmincho"/>
              </a:rPr>
              <a:t>Ex.: Suppose you want to write a program that automates the book rental process for a local book store. </a:t>
            </a:r>
            <a:endParaRPr b="0" lang="en-US" sz="2160" spc="-1" strike="noStrike">
              <a:solidFill>
                <a:srgbClr val="595959"/>
              </a:solidFill>
              <a:latin typeface="Calisto MT"/>
            </a:endParaRPr>
          </a:p>
          <a:p>
            <a:pPr marL="34092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en-GB" sz="22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1" lang="en-GB" sz="22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1" lang="en-GB" sz="2200" spc="-1" strike="noStrike">
                <a:solidFill>
                  <a:srgbClr val="595959"/>
                </a:solidFill>
                <a:latin typeface="Calisto MT"/>
                <a:ea typeface="msmincho"/>
              </a:rPr>
              <a:t>The two main objects in this problem are</a:t>
            </a:r>
            <a:r>
              <a:rPr b="1" lang="en-GB" sz="2200" spc="-1" strike="noStrike">
                <a:solidFill>
                  <a:srgbClr val="1465c5"/>
                </a:solidFill>
                <a:latin typeface="Calisto MT"/>
                <a:ea typeface="msmincho"/>
              </a:rPr>
              <a:t> book </a:t>
            </a:r>
            <a:r>
              <a:rPr b="1" lang="en-GB" sz="2200" spc="-1" strike="noStrike">
                <a:solidFill>
                  <a:srgbClr val="595959"/>
                </a:solidFill>
                <a:latin typeface="Calisto MT"/>
                <a:ea typeface="msmincho"/>
              </a:rPr>
              <a:t>and</a:t>
            </a:r>
            <a:r>
              <a:rPr b="1" lang="en-GB" sz="2200" spc="-1" strike="noStrike">
                <a:solidFill>
                  <a:srgbClr val="1466c5"/>
                </a:solidFill>
                <a:latin typeface="Calisto MT"/>
                <a:ea typeface="msmincho"/>
              </a:rPr>
              <a:t> customer</a:t>
            </a:r>
            <a:r>
              <a:rPr b="1" lang="en-GB" sz="2200" spc="-1" strike="noStrike">
                <a:solidFill>
                  <a:srgbClr val="595959"/>
                </a:solidFill>
                <a:latin typeface="Calisto MT"/>
                <a:ea typeface="msmincho"/>
              </a:rPr>
              <a:t>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125856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2700" spc="-1" strike="noStrike">
                <a:solidFill>
                  <a:srgbClr val="595959"/>
                </a:solidFill>
                <a:latin typeface="Calisto MT"/>
                <a:ea typeface="msmincho"/>
              </a:rPr>
              <a:t> </a:t>
            </a:r>
            <a:endParaRPr b="0" lang="en-US" sz="2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EA43-00E1-457E-B290-446526264F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36A6C9B8-2C12-4870-AAD4-C8505F479741}" type="slidenum">
              <a:rPr b="0" lang="en-GB" sz="1300" spc="-1" strike="noStrike">
                <a:solidFill>
                  <a:srgbClr val="000000"/>
                </a:solidFill>
                <a:latin typeface="Calisto MT"/>
                <a:ea typeface="msmincho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ffffff"/>
                </a:solidFill>
                <a:latin typeface="Calisto MT"/>
                <a:ea typeface="msmincho"/>
              </a:rPr>
              <a:t>Object-Oriented Programming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3640" cy="32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831960" indent="-46656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Calisto MT"/>
              <a:buAutoNum type="arabicPeriod" startAt="2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900" spc="-1" strike="noStrike">
                <a:solidFill>
                  <a:srgbClr val="595959"/>
                </a:solidFill>
                <a:latin typeface="Calisto MT"/>
                <a:ea typeface="msmincho"/>
              </a:rPr>
              <a:t>Determine how these objects interact with one another.</a:t>
            </a:r>
            <a:endParaRPr b="0" lang="en-US" sz="2900" spc="-1" strike="noStrike">
              <a:solidFill>
                <a:srgbClr val="595959"/>
              </a:solidFill>
              <a:latin typeface="Calisto MT"/>
            </a:endParaRPr>
          </a:p>
          <a:p>
            <a:pPr marL="7452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Calisto MT"/>
                <a:ea typeface="msmincho"/>
              </a:rPr>
              <a:t>    </a:t>
            </a:r>
            <a:r>
              <a:rPr b="0" lang="en-GB" sz="2000" spc="-1" strike="noStrike">
                <a:solidFill>
                  <a:srgbClr val="595959"/>
                </a:solidFill>
                <a:latin typeface="Calisto MT"/>
                <a:ea typeface="msmincho"/>
              </a:rPr>
              <a:t>Specify for each object: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852840" indent="-46656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Relevant data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9168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Ex: title, author, publisher, retail cost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852840" indent="-46656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Operations to be performed on that data.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114696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Ex: Checking the title of the book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82980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184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4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40" spc="-1" strike="noStrike">
                <a:solidFill>
                  <a:srgbClr val="595959"/>
                </a:solidFill>
                <a:latin typeface="Calisto MT"/>
                <a:ea typeface="msmincho"/>
              </a:rPr>
              <a:t>	</a:t>
            </a:r>
            <a:r>
              <a:rPr b="0" lang="en-GB" sz="1840" spc="-1" strike="noStrike">
                <a:solidFill>
                  <a:srgbClr val="595959"/>
                </a:solidFill>
                <a:latin typeface="Calisto MT"/>
                <a:ea typeface="msmincho"/>
              </a:rPr>
              <a:t>Reducing the number of copies in stock by one after a copy is rented.</a:t>
            </a:r>
            <a:endParaRPr b="0" lang="en-US" sz="1840" spc="-1" strike="noStrike">
              <a:solidFill>
                <a:srgbClr val="595959"/>
              </a:solidFill>
              <a:latin typeface="Calisto MT"/>
            </a:endParaRPr>
          </a:p>
          <a:p>
            <a:pPr marL="1149120" indent="0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0" lang="en-GB" sz="2700" spc="-1" strike="noStrike">
                <a:solidFill>
                  <a:srgbClr val="595959"/>
                </a:solidFill>
                <a:latin typeface="Calisto MT"/>
                <a:ea typeface="msmincho"/>
              </a:rPr>
              <a:t> </a:t>
            </a:r>
            <a:endParaRPr b="0" lang="en-US" sz="27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6D2-2744-4957-AD64-185B52E22C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Calisto MT"/>
                <a:ea typeface="msmincho"/>
              </a:rPr>
              <a:t>Object-Oriented Programming</a:t>
            </a:r>
            <a:endParaRPr b="0" lang="en-US" sz="3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686440" cy="38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45720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This illustrates that each object consists of data and operations on that data.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539640" indent="-45720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 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An </a:t>
            </a:r>
            <a:r>
              <a:rPr b="1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object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 combines </a:t>
            </a:r>
            <a:r>
              <a:rPr b="1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data 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and </a:t>
            </a:r>
            <a:r>
              <a:rPr b="1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operations</a:t>
            </a: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 on the data into a single unit. 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marL="539640" indent="-457200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sto MT"/>
                <a:ea typeface="msmincho"/>
              </a:rPr>
              <a:t>In OOD, the final program is a collection of interacting objects.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  <a:tab algn="l" pos="7879680"/>
              </a:tabLst>
            </a:pPr>
            <a:endParaRPr b="0" lang="en-US" sz="16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5ED-E987-4C7C-9DBA-55EC978CC2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552000" y="6246000"/>
            <a:ext cx="2127960" cy="47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656640"/>
                <a:tab algn="l" pos="1313280"/>
                <a:tab algn="l" pos="1969920"/>
              </a:tabLst>
            </a:pPr>
            <a:fld id="{B2BC6D27-4819-46DD-8D67-B7D384E65DF2}" type="slidenum">
              <a:rPr b="0" lang="en-GB" sz="1300" spc="-1" strike="noStrike">
                <a:solidFill>
                  <a:srgbClr val="000000"/>
                </a:solidFill>
                <a:latin typeface="Calisto MT"/>
                <a:ea typeface="msmincho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sto MT"/>
              </a:rPr>
              <a:t>OO Features</a:t>
            </a:r>
            <a:endParaRPr b="0" lang="en-US" sz="4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8152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1020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Allow you to organize your program more effectively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By decomposing a problem into its essential parts.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Each component becomes </a:t>
            </a:r>
            <a:r>
              <a:rPr b="0" i="1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a self contained 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object that contains its own instructions and data related to that object.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All object oriented programming languages have three things in common: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encapsulation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polymorphism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Inheritance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100000"/>
              </a:lnSpc>
              <a:spcBef>
                <a:spcPts val="1020"/>
              </a:spcBef>
              <a:buClr>
                <a:srgbClr val="595959"/>
              </a:buClr>
              <a:buSzPct val="90000"/>
              <a:buFont typeface="Wingdings" charset="2"/>
              <a:buChar char="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Through this process, </a:t>
            </a:r>
            <a:r>
              <a:rPr b="1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complexity</a:t>
            </a:r>
            <a:r>
              <a:rPr b="0" lang="en-GB" sz="1800" spc="-1" strike="noStrike">
                <a:solidFill>
                  <a:srgbClr val="595959"/>
                </a:solidFill>
                <a:latin typeface="Calisto MT"/>
                <a:ea typeface="msmincho"/>
              </a:rPr>
              <a:t> is reduced and you can manage larger programs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</a:tabLst>
            </a:pP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176E-EFEA-44B1-8D26-A0C3C47136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Genesis">
  <a:themeElements>
    <a:clrScheme name="Genesis">
      <a:dk1>
        <a:srgbClr val="000000"/>
      </a:dk1>
      <a:lt1>
        <a:srgbClr val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5466"/>
      </a:dk2>
      <a:lt2>
        <a:srgbClr val="bbd7f8"/>
      </a:lt2>
      <a:accent1>
        <a:srgbClr val="80b606"/>
      </a:accent1>
      <a:accent2>
        <a:srgbClr val="e29f1d"/>
      </a:accent2>
      <a:accent3>
        <a:srgbClr val="2397e2"/>
      </a:accent3>
      <a:accent4>
        <a:srgbClr val="35aca2"/>
      </a:accent4>
      <a:accent5>
        <a:srgbClr val="5430bb"/>
      </a:accent5>
      <a:accent6>
        <a:srgbClr val="8d34e0"/>
      </a:accent6>
      <a:hlink>
        <a:srgbClr val="00b0f0"/>
      </a:hlink>
      <a:folHlink>
        <a:srgbClr val="0070c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Props1.xml><?xml version="1.0" encoding="utf-8"?>
<ds:datastoreItem xmlns:ds="http://schemas.openxmlformats.org/officeDocument/2006/customXml" ds:itemID="{3E82FE37-BB38-4986-BCE1-C2517EE8E3A8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EB67F8B9-41C9-4BCD-B1EA-1C181E3A3A23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47981E4D-BA02-48CB-9A0E-C240786B5E59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Genesis.thmx</Template>
  <TotalTime>400</TotalTime>
  <Application>LibreOffice/7.4.7.2$Linux_X86_64 LibreOffice_project/40$Build-2</Application>
  <AppVersion>15.0000</AppVersion>
  <Words>1696</Words>
  <Paragraphs>30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06:33:58Z</dcterms:created>
  <dc:creator>ALjaffan</dc:creator>
  <dc:description/>
  <dc:language>en-US</dc:language>
  <cp:lastModifiedBy>Mac</cp:lastModifiedBy>
  <dcterms:modified xsi:type="dcterms:W3CDTF">2013-02-03T09:17:37Z</dcterms:modified>
  <cp:revision>77</cp:revision>
  <dc:subject/>
  <dc:title>CSC1201: Programming Languag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Notes">
    <vt:r8>31</vt:r8>
  </property>
  <property fmtid="{D5CDD505-2E9C-101B-9397-08002B2CF9AE}" pid="4" name="PresentationFormat">
    <vt:lpwstr>On-screen Show (4:3)</vt:lpwstr>
  </property>
  <property fmtid="{D5CDD505-2E9C-101B-9397-08002B2CF9AE}" pid="5" name="Slides">
    <vt:r8>44</vt:r8>
  </property>
</Properties>
</file>