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26CA0F-7BAE-4AD5-8DFB-78BE2ABCC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558-BE6C-4276-88E3-837C136E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960D-968F-4D7D-AA9F-ABA550F2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D91-890A-433E-A1DD-12FC08A3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9228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2736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9228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2736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D6A4-17A6-4178-AB8D-2D3C1BEE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3BCB-D00C-4F67-8CF4-357511C0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4570-C8F4-46C8-A18E-5337D373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DA8F-1021-4853-9E1F-8222580A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3A77-C283-418B-B293-22A5E1A1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6726-2A2E-4CE7-83C4-92D9EBFE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086600" y="6978240"/>
            <a:ext cx="15235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78E6-7779-43AC-B020-493AA3AF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EAF2-8F1D-4CCD-82C8-C0317657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B5D-E062-4716-8142-025D7808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BE23-0BDE-47CC-A270-A399A5D7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CE3B-25FE-4A7A-83BA-D376DBBB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EB86-55A2-41B8-9064-143E510F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1E04-2BC6-4932-B89C-3BB0AEE3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9228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2736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49228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52736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E29C-89AE-4534-9D8C-48D59576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039C4-A55D-4263-9375-DA2C1081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AA8ED-EA57-4BE5-9705-381B254E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6BACE-CAE4-4629-99B8-5C965EDC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B4D09-A5A2-4B21-8448-E23A3A14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39083-740E-4941-B49F-BCD1F09F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789-1211-4E08-87BC-4ACB469B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86600" y="6978240"/>
            <a:ext cx="15235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56850-CFE3-4ACD-98CF-BC2BF86E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A7A08-C2E2-4EDC-A2F3-0851B8D0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45337-CC0E-4EE8-A211-24364FD6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AEC0D-02D1-4734-A787-92DAF1A7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CFA87-46B1-4BF3-B8C4-7B949558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76B1C-DA43-4D1D-A89A-FCE6D92E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49228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2736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49228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52736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0E9B3-C5D2-4254-AFA1-53FC94DD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9E7BC-298A-4FBD-A17C-1F5CCB46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A6303-7FF6-473F-BBF8-31BCF14D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0E5EC-A91B-4B68-92BD-806A84AF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66CE-A373-46F6-858E-1BE5D88C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D3C2A-DDDE-4C2B-ADBB-E37DC864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D45F1-19E9-4545-91FB-CC1CEE94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086600" y="6978240"/>
            <a:ext cx="15235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4C097-1440-4815-A158-5F3E2F3C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40590-A3A4-4242-9BE6-F568D5A2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67ECE-D72C-4CFC-8957-7467C3A8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91F74-7D94-436A-A5FF-699F2F88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E87AE-EA4F-4AA3-9BED-2DD386C7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0FE48-89A7-429E-B102-9B5248FF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49228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2736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249228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452736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9918B-24E2-4D52-971F-2A526CF1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565-B25F-484D-8A6A-8D2F5C79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86600" y="6978240"/>
            <a:ext cx="15235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739-6D99-4A4E-A469-8F561A36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DF3-A4CC-4F96-A3D7-5E18320A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CFC-2B0E-470A-98BD-36DF0441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715-5CA8-49BC-9F90-492AF28A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4D6350C-71A2-42F1-BC3A-2385E31C2F30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lick to edit Master text style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7238880" y="6356520"/>
            <a:ext cx="1445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03C5C4F-41FC-4A72-9301-200E2DC90F54}" type="slidenum">
              <a:rPr b="1" lang="en-GB" sz="11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322480" y="5804640"/>
            <a:ext cx="307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chemeClr val="accent1"/>
                </a:solidFill>
                <a:latin typeface="Wingding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2568240"/>
            <a:ext cx="8227800" cy="346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512CAF2-DE01-4CBC-983C-695226760B98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AE424D6-5230-42F4-BA4C-77EB10CFAF96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sto MT"/>
              </a:rPr>
              <a:t>CSC1201: Programming Language 2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tIns="18360" anchor="ctr">
            <a:normAutofit/>
          </a:bodyPr>
          <a:p>
            <a:pPr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Times New Roman"/>
              </a:rPr>
              <a:t>Aseel Al Hadlaq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de-DE" sz="2200" spc="-1" strike="noStrike">
                <a:solidFill>
                  <a:srgbClr val="595959"/>
                </a:solidFill>
                <a:latin typeface="Times New Roman"/>
              </a:rPr>
              <a:t>2nd</a:t>
            </a:r>
            <a:r>
              <a:rPr b="0" lang="en-GB" sz="2200" spc="-1" strike="noStrike">
                <a:solidFill>
                  <a:srgbClr val="595959"/>
                </a:solidFill>
                <a:latin typeface="Times New Roman"/>
              </a:rPr>
              <a:t> Term 2012-2013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D0D-BCA6-49F3-ACB0-3DDA7CF1B3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C++ Overview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B201-AB06-4F70-BF65-8E7AB44BB4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C++ Overview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2666880"/>
            <a:ext cx="8686440" cy="3733560"/>
          </a:xfrm>
          <a:prstGeom prst="rect">
            <a:avLst/>
          </a:prstGeom>
          <a:noFill/>
          <a:ln w="0">
            <a:noFill/>
          </a:ln>
        </p:spPr>
        <p:txBody>
          <a:bodyPr tIns="1836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  <a:ea typeface="msmincho"/>
              </a:rPr>
              <a:t>C++ is platform independent so programs can be created on any operating system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  <a:ea typeface="msmincho"/>
              </a:rPr>
              <a:t>You can quickly create complex applications by using a modern C++ Integrated Development Environment (IDE), such as Microsoft’s Visual C++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72A-34BC-4806-8645-EBEA4F44C7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C++ Overview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770200"/>
            <a:ext cx="8381520" cy="3266640"/>
          </a:xfrm>
          <a:prstGeom prst="rect">
            <a:avLst/>
          </a:prstGeom>
          <a:noFill/>
          <a:ln w="0">
            <a:noFill/>
          </a:ln>
        </p:spPr>
        <p:txBody>
          <a:bodyPr tIns="1836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  <a:ea typeface="msmincho"/>
              </a:rPr>
              <a:t>Features were added to the original C language to produce what is called “C with classes”.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  <a:ea typeface="msmincho"/>
              </a:rPr>
              <a:t>These classes define programming objects with specific features that transform the procedural nature of C into the object-oriented programming language of C++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5CF-8FE8-47DA-8B3B-586A98C2DB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First C++ Program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2770200"/>
            <a:ext cx="861012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2240" indent="-2822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Arial"/>
              <a:buChar char="•"/>
            </a:pPr>
            <a:r>
              <a:rPr b="0" lang="en-GB" sz="2360" spc="-1" strike="noStrike">
                <a:solidFill>
                  <a:srgbClr val="595959"/>
                </a:solidFill>
                <a:latin typeface="Calisto MT"/>
              </a:rPr>
              <a:t>A program can contain one or many functions</a:t>
            </a:r>
            <a:endParaRPr b="0" lang="en-US" sz="2360" spc="-1" strike="noStrike">
              <a:solidFill>
                <a:srgbClr val="595959"/>
              </a:solidFill>
              <a:latin typeface="Calisto MT"/>
            </a:endParaRPr>
          </a:p>
          <a:p>
            <a:pPr marL="282240" indent="-2822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Arial"/>
              <a:buChar char="•"/>
            </a:pPr>
            <a:r>
              <a:rPr b="0" lang="en-GB" sz="2360" spc="-1" strike="noStrike">
                <a:solidFill>
                  <a:srgbClr val="595959"/>
                </a:solidFill>
                <a:latin typeface="Calisto MT"/>
              </a:rPr>
              <a:t>Must always have a function called “main”.</a:t>
            </a:r>
            <a:endParaRPr b="0" lang="en-US" sz="2360" spc="-1" strike="noStrike">
              <a:solidFill>
                <a:srgbClr val="595959"/>
              </a:solidFill>
              <a:latin typeface="Calisto MT"/>
            </a:endParaRPr>
          </a:p>
          <a:p>
            <a:pPr marL="282240" indent="-2822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Arial"/>
              <a:buChar char="•"/>
            </a:pPr>
            <a:r>
              <a:rPr b="0" lang="en-GB" sz="2360" spc="-1" strike="noStrike">
                <a:solidFill>
                  <a:srgbClr val="595959"/>
                </a:solidFill>
                <a:latin typeface="Calisto MT"/>
              </a:rPr>
              <a:t>The main function is the starting point of all C++ programs</a:t>
            </a:r>
            <a:endParaRPr b="0" lang="en-US" sz="2360" spc="-1" strike="noStrike">
              <a:solidFill>
                <a:srgbClr val="595959"/>
              </a:solidFill>
              <a:latin typeface="Calisto MT"/>
            </a:endParaRPr>
          </a:p>
          <a:p>
            <a:pPr marL="282240" indent="-2822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Arial"/>
              <a:buChar char="•"/>
            </a:pPr>
            <a:r>
              <a:rPr b="0" lang="en-GB" sz="2360" spc="-1" strike="noStrike">
                <a:solidFill>
                  <a:srgbClr val="595959"/>
                </a:solidFill>
                <a:latin typeface="Calisto MT"/>
              </a:rPr>
              <a:t>The compiler will not compile the code unless it finds a function called “main” within the program.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8100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8100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rgbClr val="595959"/>
                </a:solidFill>
                <a:latin typeface="Calisto MT"/>
              </a:rPr>
              <a:t>Function declaration: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8100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sto MT"/>
              </a:rPr>
              <a:t>FuncType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</a:rPr>
              <a:t> FuncName(</a:t>
            </a:r>
            <a:r>
              <a:rPr b="0" lang="en-GB" sz="1800" spc="-1" strike="noStrike">
                <a:solidFill>
                  <a:srgbClr val="ff0000"/>
                </a:solidFill>
                <a:latin typeface="Calisto MT"/>
              </a:rPr>
              <a:t>Type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 arg1, </a:t>
            </a:r>
            <a:r>
              <a:rPr b="0" lang="en-GB" sz="1800" spc="-1" strike="noStrike">
                <a:solidFill>
                  <a:srgbClr val="ff0000"/>
                </a:solidFill>
                <a:latin typeface="Calisto MT"/>
              </a:rPr>
              <a:t>Type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 arg2, </a:t>
            </a:r>
            <a:r>
              <a:rPr b="0" lang="en-GB" sz="1800" spc="-1" strike="noStrike">
                <a:solidFill>
                  <a:srgbClr val="ff0000"/>
                </a:solidFill>
                <a:latin typeface="Calisto MT"/>
              </a:rPr>
              <a:t>Type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 argN)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8100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sto MT"/>
              </a:rPr>
              <a:t>{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</a:rPr>
              <a:t> function body </a:t>
            </a:r>
            <a:r>
              <a:rPr b="0" lang="en-GB" sz="2400" spc="-1" strike="noStrike">
                <a:solidFill>
                  <a:srgbClr val="ff0000"/>
                </a:solidFill>
                <a:latin typeface="Calisto MT"/>
              </a:rPr>
              <a:t>}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6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0195DDF9-5FB8-49D2-BAC2-D355EA8B2D58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3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Hello World” program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86888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#include &lt;iostream&gt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using namespace std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int main ()</a:t>
            </a:r>
            <a:r>
              <a:rPr b="1" lang="x-none" sz="1400" spc="-1" strike="noStrike">
                <a:solidFill>
                  <a:srgbClr val="595959"/>
                </a:solidFill>
                <a:latin typeface="Calisto MT"/>
              </a:rPr>
              <a:t>‏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{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42516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cout &lt;&lt; “Hello World\n”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42516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Return 0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} </a:t>
            </a: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 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include 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information from standard input/output library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iostream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. 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The instruction is more properly called a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“pre-processor” 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instruction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The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# 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hash character starts the line to denote a pre-processor instruction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 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Library name must be enclosed by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&lt;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 and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&gt;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 angled brackets. 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7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E48689F1-3863-42EC-BE7B-B36E6D2B38A5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4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Hello World” program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56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he second line of the program makes all the functions within the 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iostream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 library available for use by their standard names, which are in 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the namespace std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One of these is a function named 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cout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 that is used to write the output from a program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In the function declaration the data type is specified as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 int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, meaning integer. This means that after executing its statements this function must return an integer value to the operating system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he braces 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{ } 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contain the statements to be executed by the program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he final statement in the main function return a value of zero to the operating system to indicate that the program executed correctly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B0A98780-49ED-4DC3-A535-1414199EC76E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4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Data typ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3C05-54F1-46BE-AE6C-EE8F6C5384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Data Typ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B786FDE2-FFC6-458A-A2ED-892EE4772C41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4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0" descr="c_plus_data_types1.png"/>
          <p:cNvPicPr/>
          <p:nvPr/>
        </p:nvPicPr>
        <p:blipFill>
          <a:blip r:embed="rId1"/>
          <a:stretch/>
        </p:blipFill>
        <p:spPr>
          <a:xfrm>
            <a:off x="762120" y="2743200"/>
            <a:ext cx="7695720" cy="33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Keyword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6095880"/>
            <a:ext cx="8227800" cy="101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595959"/>
              </a:buClr>
              <a:buSzPct val="90000"/>
              <a:buFont typeface="Wingdings" charset="2"/>
              <a:buChar char=""/>
            </a:pPr>
            <a:r>
              <a:rPr b="0" lang="en-US" sz="1700" spc="-1" strike="noStrike">
                <a:solidFill>
                  <a:srgbClr val="595959"/>
                </a:solidFill>
                <a:latin typeface="Calisto MT"/>
              </a:rPr>
              <a:t>They cannot be used as variables or other user-defined elements like functions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20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E5DE6AEB-6857-4FBB-9CDE-A7E0583D5CE9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8" descr="Screen shot 2013-02-02 at 10.38.16 PM.png"/>
          <p:cNvPicPr/>
          <p:nvPr/>
        </p:nvPicPr>
        <p:blipFill>
          <a:blip r:embed="rId1"/>
          <a:stretch/>
        </p:blipFill>
        <p:spPr>
          <a:xfrm>
            <a:off x="457200" y="2514600"/>
            <a:ext cx="1485720" cy="2488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creen shot 2013-02-02 at 10.39.02 PM.png"/>
          <p:cNvPicPr/>
          <p:nvPr/>
        </p:nvPicPr>
        <p:blipFill>
          <a:blip r:embed="rId2"/>
          <a:stretch/>
        </p:blipFill>
        <p:spPr>
          <a:xfrm>
            <a:off x="1828800" y="2514600"/>
            <a:ext cx="1790280" cy="3263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Screen shot 2013-02-02 at 10.39.14 PM.png"/>
          <p:cNvPicPr/>
          <p:nvPr/>
        </p:nvPicPr>
        <p:blipFill>
          <a:blip r:embed="rId3"/>
          <a:stretch/>
        </p:blipFill>
        <p:spPr>
          <a:xfrm>
            <a:off x="3098880" y="2565360"/>
            <a:ext cx="1625400" cy="3606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Screen shot 2013-02-02 at 10.39.46 PM.png"/>
          <p:cNvPicPr/>
          <p:nvPr/>
        </p:nvPicPr>
        <p:blipFill>
          <a:blip r:embed="rId4"/>
          <a:stretch/>
        </p:blipFill>
        <p:spPr>
          <a:xfrm>
            <a:off x="4546440" y="2590920"/>
            <a:ext cx="1168200" cy="1968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Screen shot 2013-02-02 at 10.39.55 PM.png"/>
          <p:cNvPicPr/>
          <p:nvPr/>
        </p:nvPicPr>
        <p:blipFill>
          <a:blip r:embed="rId5"/>
          <a:stretch/>
        </p:blipFill>
        <p:spPr>
          <a:xfrm>
            <a:off x="5867280" y="2552760"/>
            <a:ext cx="132048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scape Sequenc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5EA8502F-B394-49B9-8353-8B4C7EA2D73B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8" descr="Screen shot 2013-02-02 at 10.51.23 PM.png"/>
          <p:cNvPicPr/>
          <p:nvPr/>
        </p:nvPicPr>
        <p:blipFill>
          <a:blip r:embed="rId1"/>
          <a:stretch/>
        </p:blipFill>
        <p:spPr>
          <a:xfrm>
            <a:off x="838080" y="3581280"/>
            <a:ext cx="6997320" cy="20062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0"/>
          <p:cNvSpPr/>
          <p:nvPr/>
        </p:nvSpPr>
        <p:spPr>
          <a:xfrm>
            <a:off x="838080" y="2666880"/>
            <a:ext cx="6933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The name reflects the fact that the backslash causes an “escape” from the normal way the character is interpre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Objectiv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Programming languages Overview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C++ Overview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Data Typ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Control Statement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Functio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C1F-3E7C-4BA5-A879-5FB7662E60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Calisto MT"/>
              </a:rPr>
              <a:t>Declaring and Initializing Variables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766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o declare variables for example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int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first, second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char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ch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double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x;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US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bool </a:t>
            </a:r>
            <a:r>
              <a:rPr b="0" lang="en-US" sz="1700" spc="-1" strike="noStrike">
                <a:solidFill>
                  <a:srgbClr val="002060"/>
                </a:solidFill>
                <a:latin typeface="Calisto MT"/>
              </a:rPr>
              <a:t>flag</a:t>
            </a:r>
            <a:r>
              <a:rPr b="0" lang="en-US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o declare and initialize variables for example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int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first = 13,  second = 10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char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ch = ‘A’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double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x = 12.6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US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bool </a:t>
            </a:r>
            <a:r>
              <a:rPr b="0" lang="en-US" sz="1700" spc="-1" strike="noStrike">
                <a:solidFill>
                  <a:srgbClr val="002060"/>
                </a:solidFill>
                <a:latin typeface="Calisto MT"/>
              </a:rPr>
              <a:t>flag</a:t>
            </a:r>
            <a:r>
              <a:rPr b="0" lang="en-GB" sz="1700" spc="-1" strike="noStrike">
                <a:solidFill>
                  <a:srgbClr val="002060"/>
                </a:solidFill>
                <a:latin typeface="Calisto MT"/>
              </a:rPr>
              <a:t> 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= true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22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0112152B-3368-4E19-A621-FFB01B82EF53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Input (Read) Statemen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The syntax of </a:t>
            </a:r>
            <a:r>
              <a:rPr b="0" lang="en-GB" sz="2200" spc="-1" strike="noStrike">
                <a:solidFill>
                  <a:schemeClr val="accent5">
                    <a:lumMod val="75000"/>
                  </a:schemeClr>
                </a:solidFill>
                <a:latin typeface="Calisto MT"/>
              </a:rPr>
              <a:t>cin </a:t>
            </a: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together with &gt;&gt; is: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sto MT"/>
              </a:rPr>
              <a:t>cin &gt;&gt; </a:t>
            </a:r>
            <a:r>
              <a:rPr b="1" lang="en-GB" sz="2800" spc="-1" strike="noStrike">
                <a:solidFill>
                  <a:srgbClr val="0070c0"/>
                </a:solidFill>
                <a:latin typeface="Calisto MT"/>
              </a:rPr>
              <a:t>variable&gt;&gt; variable</a:t>
            </a:r>
            <a:r>
              <a:rPr b="1" lang="en-GB" sz="2800" spc="-1" strike="noStrike">
                <a:solidFill>
                  <a:schemeClr val="accent1">
                    <a:lumMod val="50000"/>
                  </a:schemeClr>
                </a:solidFill>
                <a:latin typeface="Calisto MT"/>
              </a:rPr>
              <a:t>;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3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6C814928-0C44-4EF0-9B9D-59CDB62E5DF9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Outpu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-3150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The syntax of cout together with &lt;&lt; is: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5000" indent="-3150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1" lang="en-GB" sz="2200" spc="-1" strike="noStrike">
                <a:solidFill>
                  <a:srgbClr val="ff0000"/>
                </a:solidFill>
                <a:latin typeface="Calisto MT"/>
              </a:rPr>
              <a:t>cout &lt;&lt; </a:t>
            </a:r>
            <a:r>
              <a:rPr b="1" lang="en-GB" sz="2200" spc="-1" strike="noStrike">
                <a:solidFill>
                  <a:srgbClr val="0070c0"/>
                </a:solidFill>
                <a:latin typeface="Calisto MT"/>
              </a:rPr>
              <a:t>expression or manipulator </a:t>
            </a:r>
            <a:r>
              <a:rPr b="1" lang="en-GB" sz="2200" spc="-1" strike="noStrike">
                <a:solidFill>
                  <a:schemeClr val="accent1">
                    <a:lumMod val="50000"/>
                  </a:schemeClr>
                </a:solidFill>
                <a:latin typeface="Calisto MT"/>
              </a:rPr>
              <a:t>&lt;&lt;</a:t>
            </a:r>
            <a:r>
              <a:rPr b="1" lang="en-GB" sz="2200" spc="-1" strike="noStrike">
                <a:solidFill>
                  <a:srgbClr val="ff0000"/>
                </a:solidFill>
                <a:latin typeface="Calisto MT"/>
              </a:rPr>
              <a:t> </a:t>
            </a:r>
            <a:r>
              <a:rPr b="1" lang="en-GB" sz="2200" spc="-1" strike="noStrike">
                <a:solidFill>
                  <a:srgbClr val="0070c0"/>
                </a:solidFill>
                <a:latin typeface="Calisto MT"/>
              </a:rPr>
              <a:t>expression or manipulator </a:t>
            </a:r>
            <a:r>
              <a:rPr b="1" lang="en-GB" sz="2200" spc="-1" strike="noStrike">
                <a:solidFill>
                  <a:schemeClr val="accent1">
                    <a:lumMod val="50000"/>
                  </a:schemeClr>
                </a:solidFill>
                <a:latin typeface="Calisto MT"/>
              </a:rPr>
              <a:t>……….;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262440" indent="-26244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The expression is evaluated and its value is printed at the current insertion point on the output devic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262440" indent="-26244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A manipulator is used to format the output. The simplest manipulator  is endl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5D4D332C-097F-4AA9-9597-0C4FA741E1F9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2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Examp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240" name="Content Placeholder 5" descr="Screen shot 2013-02-02 at 11.01.51 PM.png"/>
          <p:cNvPicPr/>
          <p:nvPr/>
        </p:nvPicPr>
        <p:blipFill>
          <a:blip r:embed="rId1"/>
          <a:stretch/>
        </p:blipFill>
        <p:spPr>
          <a:xfrm>
            <a:off x="1066680" y="2432520"/>
            <a:ext cx="7162560" cy="373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EA0-6EE9-4305-8D8E-5149632D55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Working with String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6260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The C++ &lt;string&gt; class provides methods to manipulate strings of text.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This is an example of Declaring and initializing  a string variable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#include &lt;string&gt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#include &lt;iostream&gt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using namespace std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int main( )</a:t>
            </a:r>
            <a:r>
              <a:rPr b="0" lang="x-none" sz="1400" spc="-1" strike="noStrike">
                <a:solidFill>
                  <a:srgbClr val="595959"/>
                </a:solidFill>
                <a:latin typeface="Calisto MT"/>
              </a:rPr>
              <a:t>‏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{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  </a:t>
            </a: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string str = "C++ is fun”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}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2DCDE251-97FF-4F8C-8BB5-9D9C651BFBE4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4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ontrol Statement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uf Aljaffan (C) 2012 - CSC 1201 Course at K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D8FD-0CC4-4775-97C9-3EFFADE685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If Statemen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247" name="Content Placeholder 8" descr="Screen shot 2013-02-02 at 11.17.07 PM.png"/>
          <p:cNvPicPr/>
          <p:nvPr/>
        </p:nvPicPr>
        <p:blipFill>
          <a:blip r:embed="rId1"/>
          <a:stretch/>
        </p:blipFill>
        <p:spPr>
          <a:xfrm>
            <a:off x="4356000" y="2438280"/>
            <a:ext cx="4559040" cy="3568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 type="sldNum" idx="26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A3C15993-3341-49FF-9B93-18263CB6C506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7" descr="Screen shot 2013-02-02 at 11.17.21 PM.png"/>
          <p:cNvPicPr/>
          <p:nvPr/>
        </p:nvPicPr>
        <p:blipFill>
          <a:blip r:embed="rId2"/>
          <a:stretch/>
        </p:blipFill>
        <p:spPr>
          <a:xfrm>
            <a:off x="254160" y="2489040"/>
            <a:ext cx="3631680" cy="31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If .. Else Statemen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251" name="Content Placeholder 5" descr="Screen shot 2013-02-02 at 11.17.38 PM.png"/>
          <p:cNvPicPr/>
          <p:nvPr/>
        </p:nvPicPr>
        <p:blipFill>
          <a:blip r:embed="rId1"/>
          <a:stretch/>
        </p:blipFill>
        <p:spPr>
          <a:xfrm>
            <a:off x="5334120" y="2514600"/>
            <a:ext cx="3352320" cy="3941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Screen shot 2013-02-02 at 11.17.49 PM.png"/>
          <p:cNvPicPr/>
          <p:nvPr/>
        </p:nvPicPr>
        <p:blipFill>
          <a:blip r:embed="rId2"/>
          <a:stretch/>
        </p:blipFill>
        <p:spPr>
          <a:xfrm>
            <a:off x="380880" y="2590920"/>
            <a:ext cx="3250800" cy="365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4FF-2910-43B8-8B3D-B9216E8320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 : If..else Statemen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254" name="Content Placeholder 5" descr="Screen shot 2013-02-02 at 11.14.45 PM.png"/>
          <p:cNvPicPr/>
          <p:nvPr/>
        </p:nvPicPr>
        <p:blipFill>
          <a:blip r:embed="rId1"/>
          <a:stretch/>
        </p:blipFill>
        <p:spPr>
          <a:xfrm>
            <a:off x="914400" y="2686680"/>
            <a:ext cx="7467120" cy="3485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4481FEA0-D435-4787-BA4A-36D193BF9088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Switch Structur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28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1ACFC04C-5883-4506-9B83-7EC940C8E5A5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Screen shot 2013-02-02 at 11.24.42 PM.png"/>
          <p:cNvPicPr/>
          <p:nvPr/>
        </p:nvPicPr>
        <p:blipFill>
          <a:blip r:embed="rId1"/>
          <a:stretch/>
        </p:blipFill>
        <p:spPr>
          <a:xfrm>
            <a:off x="609480" y="380880"/>
            <a:ext cx="5714640" cy="59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66290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Programming Languages Overview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2019-2AC7-4A69-A454-B8560B3419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Switch Structur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29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871E746F-14AD-4423-A232-1AA157E78B71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Screen shot 2013-02-02 at 11.24.22 PM.png"/>
          <p:cNvPicPr/>
          <p:nvPr/>
        </p:nvPicPr>
        <p:blipFill>
          <a:blip r:embed="rId1"/>
          <a:stretch/>
        </p:blipFill>
        <p:spPr>
          <a:xfrm>
            <a:off x="1219320" y="120600"/>
            <a:ext cx="4774680" cy="66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609480" y="152280"/>
            <a:ext cx="78483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d0d0d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Switch Structur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0240" y="1295280"/>
            <a:ext cx="824760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000" spc="-1" strike="noStrike">
                <a:solidFill>
                  <a:srgbClr val="0d0d0d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30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7571BEFE-A957-49F9-A1DA-ED956EAB2B41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457200" y="1943640"/>
            <a:ext cx="6400800" cy="47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har let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Enter any  a-z character: 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in &gt;&gt; let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switch(let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ase 'a'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Letter \'a\' found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ase 'b'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Letter \'b\' found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brea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ase 'c'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Letter \'c\' found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default : cout &lt;&lt; "Letter is not a, b or c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return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For Loop Structur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8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4920" indent="-30492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Lucida Grande"/>
              <a:buChar char=" "/>
            </a:pPr>
            <a:r>
              <a:rPr b="0" lang="en-US" sz="1700" spc="-1" strike="noStrike">
                <a:solidFill>
                  <a:srgbClr val="000000"/>
                </a:solidFill>
                <a:latin typeface="LM Mono 10 Regular"/>
                <a:ea typeface="LM Mono 10 Regular"/>
              </a:rPr>
              <a:t>The </a:t>
            </a:r>
            <a:r>
              <a:rPr b="0" lang="en-US" sz="1700" spc="-1" strike="noStrike">
                <a:solidFill>
                  <a:srgbClr val="ff0000"/>
                </a:solidFill>
                <a:latin typeface="LM Mono 10 Regular"/>
                <a:ea typeface="LM Mono 10 Regular"/>
              </a:rPr>
              <a:t>for</a:t>
            </a:r>
            <a:r>
              <a:rPr b="0" lang="en-US" sz="1700" spc="-1" strike="noStrike">
                <a:solidFill>
                  <a:srgbClr val="000000"/>
                </a:solidFill>
                <a:latin typeface="LM Mono 10 Regular"/>
                <a:ea typeface="LM Mono 10 Regular"/>
              </a:rPr>
              <a:t> loop execute part of the code a fixed number of times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31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4B17B288-D965-4ABD-84F9-C4A69903E728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4" descr="Screen shot 2013-02-03 at 10.41.10 AM.png"/>
          <p:cNvPicPr/>
          <p:nvPr/>
        </p:nvPicPr>
        <p:blipFill>
          <a:blip r:embed="rId1"/>
          <a:stretch/>
        </p:blipFill>
        <p:spPr>
          <a:xfrm>
            <a:off x="533520" y="1295280"/>
            <a:ext cx="579096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For Loop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01956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#</a:t>
            </a:r>
            <a:r>
              <a:rPr b="1" lang="en-US" sz="1600" spc="-1" strike="noStrike">
                <a:solidFill>
                  <a:srgbClr val="c00000"/>
                </a:solidFill>
                <a:latin typeface="Calisto MT"/>
              </a:rPr>
              <a:t>include</a:t>
            </a: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 &lt;iostream&gt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sto MT"/>
              </a:rPr>
              <a:t>using namespace </a:t>
            </a: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std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sto MT"/>
              </a:rPr>
              <a:t>int </a:t>
            </a: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main()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{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int 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i,num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cout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&lt;&lt;"enter any number: "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cin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&gt;&gt;num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for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 ( i=1 ; i&lt;=10 ; i++ )</a:t>
            </a:r>
            <a:r>
              <a:rPr b="1" lang="x-none" sz="1600" spc="-1" strike="noStrike">
                <a:solidFill>
                  <a:srgbClr val="0d0d0d"/>
                </a:solidFill>
                <a:latin typeface="Calisto MT"/>
              </a:rPr>
              <a:t>‏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{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cout 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&lt;&lt; endl &lt;&lt; num &lt;&lt; "*“ &lt;&lt; i &lt;&lt; "=“ &lt;&lt; num*i &lt;&lt; endl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}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sto MT"/>
              </a:rPr>
              <a:t>return</a:t>
            </a: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 0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}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52A93-B447-4D8B-84A3-97BD2BAA93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rgbClr val="ffffff"/>
                </a:solidFill>
                <a:latin typeface="Calisto MT"/>
              </a:rPr>
              <a:t>While Loop Structure</a:t>
            </a: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5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32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20F83502-52C9-4DE4-87D7-0167F85FAD3D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6" descr="Screen shot 2013-02-03 at 10.56.35 AM.png"/>
          <p:cNvPicPr/>
          <p:nvPr/>
        </p:nvPicPr>
        <p:blipFill>
          <a:blip r:embed="rId1"/>
          <a:stretch/>
        </p:blipFill>
        <p:spPr>
          <a:xfrm>
            <a:off x="159840" y="533520"/>
            <a:ext cx="6613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 While loop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568240"/>
            <a:ext cx="8227800" cy="346860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281" name="Picture 7" descr="Screen shot 2013-02-03 at 11.02.00 AM.png"/>
          <p:cNvPicPr/>
          <p:nvPr/>
        </p:nvPicPr>
        <p:blipFill>
          <a:blip r:embed="rId1"/>
          <a:stretch/>
        </p:blipFill>
        <p:spPr>
          <a:xfrm>
            <a:off x="609480" y="2590920"/>
            <a:ext cx="8076960" cy="358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C3811-5DED-40DE-97EF-14BC7C91DE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Relational Operators in C++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ldNum" idx="33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66F1C154-3ACA-4C55-ADA2-8433F296E157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Content Placeholder 5" descr="Screen shot 2013-02-03 at 11.06.03 AM.png"/>
          <p:cNvPicPr/>
          <p:nvPr/>
        </p:nvPicPr>
        <p:blipFill>
          <a:blip r:embed="rId1"/>
          <a:stretch/>
        </p:blipFill>
        <p:spPr>
          <a:xfrm>
            <a:off x="752400" y="2666880"/>
            <a:ext cx="7095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Logical Operators in C++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ldNum" idx="34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18106361-5E0E-4879-B372-959C923F2363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Content Placeholder 8" descr="Screen shot 2013-02-03 at 11.07.58 AM.png"/>
          <p:cNvPicPr/>
          <p:nvPr/>
        </p:nvPicPr>
        <p:blipFill>
          <a:blip r:embed="rId1"/>
          <a:stretch/>
        </p:blipFill>
        <p:spPr>
          <a:xfrm>
            <a:off x="1193400" y="3048120"/>
            <a:ext cx="7111800" cy="23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Function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uf Aljaffan (C) 2012 - CSC 1201 Course at K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EEEC-A96F-4CC3-B611-496B168164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User Defined Function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361080" indent="-361080" algn="just">
              <a:lnSpc>
                <a:spcPct val="15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1" lang="en-GB" sz="3300" spc="-1" strike="noStrike">
                <a:solidFill>
                  <a:srgbClr val="595959"/>
                </a:solidFill>
                <a:latin typeface="Arial"/>
              </a:rPr>
              <a:t>Value returning functions:</a:t>
            </a:r>
            <a:r>
              <a:rPr b="0" lang="en-GB" sz="33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lvl="1" marL="721800" indent="-354240" algn="just">
              <a:lnSpc>
                <a:spcPct val="15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functions that have a return type. 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lvl="1" marL="721800" indent="-354240" algn="just">
              <a:lnSpc>
                <a:spcPct val="15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These functions return a value of a specific data type using the </a:t>
            </a:r>
            <a:r>
              <a:rPr b="1" lang="en-GB" sz="2900" spc="-1" strike="noStrike">
                <a:solidFill>
                  <a:srgbClr val="c00000"/>
                </a:solidFill>
                <a:latin typeface="Arial"/>
              </a:rPr>
              <a:t>return</a:t>
            </a:r>
            <a:r>
              <a:rPr b="0" lang="en-GB" sz="29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statement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86760" indent="0" algn="just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marL="361080" indent="-361080" algn="just">
              <a:lnSpc>
                <a:spcPct val="15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1" lang="en-GB" sz="3300" spc="-1" strike="noStrike">
                <a:solidFill>
                  <a:srgbClr val="595959"/>
                </a:solidFill>
                <a:latin typeface="Arial"/>
              </a:rPr>
              <a:t>Void functions:</a:t>
            </a:r>
            <a:r>
              <a:rPr b="0" lang="en-GB" sz="33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lvl="1" marL="721800" indent="-354240" algn="just">
              <a:lnSpc>
                <a:spcPct val="15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functions that do not have a return type. 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lvl="1" marL="721800" indent="-354240" algn="just">
              <a:lnSpc>
                <a:spcPct val="15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These functions do not use a return statement to return a value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867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35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D66E2735-D6B9-4990-BA94-B03D1FBE34C5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1707CD32-0890-403D-A142-6D3932D4A1A6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  <a:ea typeface="msmincho"/>
              </a:rPr>
              <a:t>Programming Methodologies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3300" spc="-1" strike="noStrike">
                <a:solidFill>
                  <a:srgbClr val="595959"/>
                </a:solidFill>
                <a:latin typeface="Calisto MT"/>
                <a:ea typeface="msmincho"/>
              </a:rPr>
              <a:t>Structured Programming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020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  <a:ea typeface="msmincho"/>
              </a:rPr>
              <a:t>Ex: C, Pascal, Fortran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Calisto MT"/>
                <a:ea typeface="msmincho"/>
              </a:rPr>
              <a:t>Object-Oriented Programming(OOP)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  <a:ea typeface="msmincho"/>
              </a:rPr>
              <a:t>Ex: C++, Java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6057-A207-4C43-8A39-A805183C99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Function Syntax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295" name="Picture 6" descr="Screen shot 2013-02-03 at 11.41.32 AM.png"/>
          <p:cNvPicPr/>
          <p:nvPr/>
        </p:nvPicPr>
        <p:blipFill>
          <a:blip r:embed="rId1"/>
          <a:stretch/>
        </p:blipFill>
        <p:spPr>
          <a:xfrm>
            <a:off x="380880" y="0"/>
            <a:ext cx="6243120" cy="68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49974-0F90-414F-B325-267A5CD75D3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s: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553320" indent="-4698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Calisto MT"/>
              <a:buAutoNum type="arabicPeriod"/>
            </a:pPr>
            <a:r>
              <a:rPr b="0" lang="en-GB" sz="2900" spc="-1" strike="noStrike">
                <a:solidFill>
                  <a:srgbClr val="595959"/>
                </a:solidFill>
                <a:latin typeface="Arial"/>
              </a:rPr>
              <a:t>Write a Function larger, which returns the larger of the two given integers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553320" indent="-4698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Calisto MT"/>
              <a:buAutoNum type="arabicPeriod"/>
            </a:pPr>
            <a:r>
              <a:rPr b="0" lang="en-GB" sz="2900" spc="-1" strike="noStrike">
                <a:solidFill>
                  <a:srgbClr val="595959"/>
                </a:solidFill>
                <a:latin typeface="Arial"/>
              </a:rPr>
              <a:t>Write a Function Square, which returns the square of the given integer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553320" indent="-4698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Calisto MT"/>
              <a:buAutoNum type="arabicPeriod"/>
            </a:pPr>
            <a:r>
              <a:rPr b="0" lang="en-GB" sz="2900" spc="-1" strike="noStrike">
                <a:solidFill>
                  <a:srgbClr val="595959"/>
                </a:solidFill>
                <a:latin typeface="Calisto MT"/>
              </a:rPr>
              <a:t>Write a function  number_type. The function should output the number and message saying whether the number is positive, negative, or zero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E8C0-96D4-4ABB-A1C2-79210C88690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Example: With return valu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520560"/>
            <a:ext cx="6248160" cy="60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larger ( 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x , 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y )</a:t>
            </a:r>
            <a:r>
              <a:rPr b="0" lang="x-none" sz="1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max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( x &gt;= y )</a:t>
            </a:r>
            <a:r>
              <a:rPr b="0" lang="x-none" sz="1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x = x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else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x = y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max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……</a:t>
            </a: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..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Cout &lt;&lt; “The larger of 5 and 6 is “ &lt;&lt; larger(5 , 6) &lt;&lt; endl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………</a:t>
            </a: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36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A81A8738-7FCD-464E-9D5D-D2BF9E852C80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6"/>
          <p:cNvSpPr/>
          <p:nvPr/>
        </p:nvSpPr>
        <p:spPr>
          <a:xfrm rot="949200">
            <a:off x="4724640" y="537120"/>
            <a:ext cx="340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ee6d2"/>
                </a:solidFill>
                <a:latin typeface="Calisto MT"/>
              </a:rPr>
              <a:t>Solution Ex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With return valu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-76320" y="216000"/>
            <a:ext cx="7162560" cy="60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x-none" sz="17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x*x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main ( )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number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1700" spc="-1" strike="noStrike">
                <a:solidFill>
                  <a:srgbClr val="800000"/>
                </a:solidFill>
                <a:latin typeface="Arial"/>
              </a:rPr>
              <a:t>"Enter any number to Calculate the square of this number "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in&gt;&gt;number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ut&lt;&lt;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1700" spc="-1" strike="noStrike">
                <a:solidFill>
                  <a:srgbClr val="800000"/>
                </a:solidFill>
                <a:latin typeface="Arial"/>
              </a:rPr>
              <a:t>"the square of "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&lt;&lt;number&lt;&lt;</a:t>
            </a:r>
            <a:r>
              <a:rPr b="0" lang="en-GB" sz="1700" spc="-1" strike="noStrike">
                <a:solidFill>
                  <a:srgbClr val="800000"/>
                </a:solidFill>
                <a:latin typeface="Arial"/>
              </a:rPr>
              <a:t>" is "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&lt;&lt;square(number)&lt;&lt;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37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B86D1E7E-F2BC-4635-AC16-13772EC65C47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 rot="949200">
            <a:off x="3733920" y="516240"/>
            <a:ext cx="340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ee6d2"/>
                </a:solidFill>
                <a:latin typeface="Calisto MT"/>
              </a:rPr>
              <a:t>Solution Ex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Without return valu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60195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1465c5"/>
                </a:solidFill>
                <a:latin typeface="Arial"/>
              </a:rPr>
              <a:t>Void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  number_type ( </a:t>
            </a:r>
            <a:r>
              <a:rPr b="0" lang="en-GB" sz="1700" spc="-1" strike="noStrike">
                <a:solidFill>
                  <a:srgbClr val="1466c5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 x)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‏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1466c5"/>
                </a:solidFill>
                <a:latin typeface="Arial"/>
              </a:rPr>
              <a:t>if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 ( x &gt; 0 )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‏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cout &lt;&lt; x &lt;&lt; “ is positive.” &lt;&lt; 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1466c5"/>
                </a:solidFill>
                <a:latin typeface="Arial"/>
              </a:rPr>
              <a:t>else if 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( x &lt; 0 )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‏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cout &lt;&lt; x &lt;&lt; “ is negative.” &lt;&lt; 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1466c5"/>
                </a:solidFill>
                <a:latin typeface="Arial"/>
              </a:rPr>
              <a:t>else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cout&lt;&lt; x &lt;&lt; “is a zero.”&lt;&lt;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……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.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Number_type( 5 )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………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. 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38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314C12CF-68FA-4275-BFAD-6D39564AE27A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7"/>
          <p:cNvSpPr/>
          <p:nvPr/>
        </p:nvSpPr>
        <p:spPr>
          <a:xfrm rot="949200">
            <a:off x="4524120" y="461160"/>
            <a:ext cx="340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ee6d2"/>
                </a:solidFill>
                <a:latin typeface="Calisto MT"/>
              </a:rPr>
              <a:t>Solution Ex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39C94E85-FF8C-498E-BA5C-8D30F5576263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  <a:ea typeface="msmincho"/>
              </a:rPr>
              <a:t>Structured Programming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182" name="Content Placeholder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B399-6E99-470E-843B-A12D395814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52A59258-22C4-4980-9EF3-6AE2FF3C3C9B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ffffff"/>
                </a:solidFill>
                <a:latin typeface="Calisto MT"/>
                <a:ea typeface="msmincho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228600" y="1905120"/>
            <a:ext cx="937224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lvl="1" marL="911160" indent="-51120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Calisto MT"/>
              <a:buAutoNum type="arabicPeriod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900" spc="-1" strike="noStrike">
                <a:solidFill>
                  <a:srgbClr val="595959"/>
                </a:solidFill>
                <a:latin typeface="Calisto MT"/>
                <a:ea typeface="msmincho"/>
              </a:rPr>
              <a:t>Identify components called </a:t>
            </a:r>
            <a:r>
              <a:rPr b="1" lang="en-GB" sz="2900" spc="-1" strike="noStrike">
                <a:solidFill>
                  <a:srgbClr val="595959"/>
                </a:solidFill>
                <a:latin typeface="Calisto MT"/>
                <a:ea typeface="msmincho"/>
              </a:rPr>
              <a:t>objects</a:t>
            </a:r>
            <a:r>
              <a:rPr b="0" lang="en-GB" sz="2900" spc="-1" strike="noStrike">
                <a:solidFill>
                  <a:srgbClr val="595959"/>
                </a:solidFill>
                <a:latin typeface="Calisto MT"/>
                <a:ea typeface="msmincho"/>
              </a:rPr>
              <a:t>, which form the basis of the solution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lvl="2" marL="1029240" indent="-3470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160" spc="-1" strike="noStrike">
                <a:solidFill>
                  <a:srgbClr val="595959"/>
                </a:solidFill>
                <a:latin typeface="Calisto MT"/>
                <a:ea typeface="msmincho"/>
              </a:rPr>
              <a:t>Ex.: Suppose you want to write a program that automates the book rental process for a local book store. </a:t>
            </a:r>
            <a:endParaRPr b="0" lang="en-US" sz="2160" spc="-1" strike="noStrike">
              <a:solidFill>
                <a:srgbClr val="595959"/>
              </a:solidFill>
              <a:latin typeface="Calisto MT"/>
            </a:endParaRPr>
          </a:p>
          <a:p>
            <a:pPr marL="34092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The two main objects in this problem are</a:t>
            </a:r>
            <a:r>
              <a:rPr b="1" lang="en-GB" sz="2200" spc="-1" strike="noStrike">
                <a:solidFill>
                  <a:srgbClr val="1465c5"/>
                </a:solidFill>
                <a:latin typeface="Calisto MT"/>
                <a:ea typeface="msmincho"/>
              </a:rPr>
              <a:t> book </a:t>
            </a: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and</a:t>
            </a:r>
            <a:r>
              <a:rPr b="1" lang="en-GB" sz="2200" spc="-1" strike="noStrike">
                <a:solidFill>
                  <a:srgbClr val="1466c5"/>
                </a:solidFill>
                <a:latin typeface="Calisto MT"/>
                <a:ea typeface="msmincho"/>
              </a:rPr>
              <a:t> customer</a:t>
            </a: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125856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700" spc="-1" strike="noStrike">
                <a:solidFill>
                  <a:srgbClr val="595959"/>
                </a:solidFill>
                <a:latin typeface="Calisto MT"/>
                <a:ea typeface="msmincho"/>
              </a:rPr>
              <a:t> </a:t>
            </a:r>
            <a:endParaRPr b="0" lang="en-US" sz="2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BBC-4913-40CB-B551-096B29255B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745E6F3D-9F3D-4294-A74C-6B506029A1B0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ffffff"/>
                </a:solidFill>
                <a:latin typeface="Calisto MT"/>
                <a:ea typeface="msmincho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364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831960" indent="-46656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Calisto MT"/>
              <a:buAutoNum type="arabicPeriod" startAt="2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900" spc="-1" strike="noStrike">
                <a:solidFill>
                  <a:srgbClr val="595959"/>
                </a:solidFill>
                <a:latin typeface="Calisto MT"/>
                <a:ea typeface="msmincho"/>
              </a:rPr>
              <a:t>Determine how these objects interact with one another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7452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  <a:ea typeface="msmincho"/>
              </a:rPr>
              <a:t>    </a:t>
            </a:r>
            <a:r>
              <a:rPr b="0" lang="en-GB" sz="2000" spc="-1" strike="noStrike">
                <a:solidFill>
                  <a:srgbClr val="595959"/>
                </a:solidFill>
                <a:latin typeface="Calisto MT"/>
                <a:ea typeface="msmincho"/>
              </a:rPr>
              <a:t>Specify for each object: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852840" indent="-46656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Relevant data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9168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Ex: title, author, publisher, retail cost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852840" indent="-46656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Operations to be performed on that data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114696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Ex: Checking the title of the book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82980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184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4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4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40" spc="-1" strike="noStrike">
                <a:solidFill>
                  <a:srgbClr val="595959"/>
                </a:solidFill>
                <a:latin typeface="Calisto MT"/>
                <a:ea typeface="msmincho"/>
              </a:rPr>
              <a:t>Reducing the number of copies in stock by one after a copy is rented.</a:t>
            </a:r>
            <a:endParaRPr b="0" lang="en-US" sz="1840" spc="-1" strike="noStrike">
              <a:solidFill>
                <a:srgbClr val="595959"/>
              </a:solidFill>
              <a:latin typeface="Calisto MT"/>
            </a:endParaRPr>
          </a:p>
          <a:p>
            <a:pPr marL="114912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700" spc="-1" strike="noStrike">
                <a:solidFill>
                  <a:srgbClr val="595959"/>
                </a:solidFill>
                <a:latin typeface="Calisto MT"/>
                <a:ea typeface="msmincho"/>
              </a:rPr>
              <a:t> </a:t>
            </a:r>
            <a:endParaRPr b="0" lang="en-US" sz="2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0AA-DBB1-49DE-9C0C-207341A8CD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Calisto MT"/>
                <a:ea typeface="msmincho"/>
              </a:rPr>
              <a:t>Object-Oriented Programming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686440" cy="38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45720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This illustrates that each object consists of data and operations on that data.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539640" indent="-45720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 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An </a:t>
            </a:r>
            <a:r>
              <a:rPr b="1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object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 combines </a:t>
            </a:r>
            <a:r>
              <a:rPr b="1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data 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and </a:t>
            </a:r>
            <a:r>
              <a:rPr b="1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operations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 on the data into a single unit.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539640" indent="-45720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In OOD, the final program is a collection of interacting objects.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415-62F7-4497-B948-F5B884978B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E6E3AB28-AB60-4A2C-B620-C22692A29B7D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sto MT"/>
              </a:rPr>
              <a:t>OO Featur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8152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Allow you to organize your program more effectively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By decomposing a problem into its essential parts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Each component becomes </a:t>
            </a:r>
            <a:r>
              <a:rPr b="0" i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a self contained 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object that contains its own instructions and data related to that object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All object oriented programming languages have three things in common: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encapsulation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polymorphism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Inheritance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Through this process, </a:t>
            </a:r>
            <a:r>
              <a:rPr b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complexity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 is reduced and you can manage larger programs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17ED-9DFC-40FA-B419-448FC9A70F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3E82FE37-BB38-4986-BCE1-C2517EE8E3A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EB67F8B9-41C9-4BCD-B1EA-1C181E3A3A23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47981E4D-BA02-48CB-9A0E-C240786B5E59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Genesis.thmx</Template>
  <TotalTime>400</TotalTime>
  <Application>LibreOffice/7.4.7.2$Linux_X86_64 LibreOffice_project/40$Build-2</Application>
  <AppVersion>15.0000</AppVersion>
  <Words>1696</Words>
  <Paragraphs>3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06:33:58Z</dcterms:created>
  <dc:creator>ALjaffan</dc:creator>
  <dc:description/>
  <dc:language>en-US</dc:language>
  <cp:lastModifiedBy>Mac</cp:lastModifiedBy>
  <dcterms:modified xsi:type="dcterms:W3CDTF">2013-02-03T09:17:37Z</dcterms:modified>
  <cp:revision>77</cp:revision>
  <dc:subject/>
  <dc:title>CSC1201: Programming Languag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31</vt:r8>
  </property>
  <property fmtid="{D5CDD505-2E9C-101B-9397-08002B2CF9AE}" pid="4" name="PresentationFormat">
    <vt:lpwstr>On-screen Show (4:3)</vt:lpwstr>
  </property>
  <property fmtid="{D5CDD505-2E9C-101B-9397-08002B2CF9AE}" pid="5" name="Slides">
    <vt:r8>44</vt:r8>
  </property>
</Properties>
</file>