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5D1FF7-C850-4065-8758-57880E8FC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08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43"/>
          </p:nvPr>
        </p:nvSpPr>
        <p:spPr>
          <a:xfrm>
            <a:off x="4143240" y="9120240"/>
            <a:ext cx="3169800" cy="4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BB1F71-E757-49FC-A360-D4975C659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75F-7B11-401C-9C67-4CB04FF1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B73-5BBA-41EF-AC5C-D901DFF6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F97-94FC-42A2-B559-E3BDCC2D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09D-A753-4823-ABE0-B2D55458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6034-DB1E-4534-8039-821C20C3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7C5F-4675-4AC4-8C7C-DE498E67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FD93-BB23-445D-86AE-D3DAF547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5DA0-2B04-49E4-861D-A4B8443D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2BBD-1DD9-4346-B184-F90DCC14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9BB9-976A-48D2-8FA8-5631F519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72AF-D363-4431-833B-12DE217B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713-086C-43A2-9DE9-62BC86D4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2EE9-6D28-4375-A029-696E46EE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5A44-3E3A-4741-9CDE-D9A6A9B2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65D9-1214-4217-BE93-86ACBCB1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5735-DEE6-40E0-8DB7-810535DC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67DD-EC59-421E-8963-1B952E55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3AA9-6880-440A-9559-6B62A5B4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A5B7-E46F-4E19-BF4B-428704E9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FEE3-A14B-4F81-A9C7-85C0957C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74C9-87EB-447E-9ABC-596EDC3B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7B51-E909-436D-8AD5-0E5BECF8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0D1-CA0C-4528-8E15-76F82F88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2D14-DC53-4733-AA79-B6FF1543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9FF9-E488-4B62-A730-D1B60F0E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05A1-639A-4FD2-83FB-3608991A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06FC-27D6-429C-A3B7-67409D87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9B96-1B10-40E8-98A7-5190311E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D315-CCE1-432B-B5D4-2D285968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E0BE-4D1A-4F72-AC3A-44D1A800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5DE22-D9E4-441E-AD1C-AD45808D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1DAA7-A8B9-408E-8BA2-13069B05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105F-CA19-4C04-A767-E67FDE4F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EE4-2F88-4A06-9F9B-8F1EC107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C86B9-E9D5-48C4-9C59-A971E74C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8563C-C86F-4792-949F-077689E2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E444-CF72-4849-842C-75459240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D33B-1C5D-4940-94E5-1EEECA1A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D1C7-AE5A-4A8F-9F3F-5CD1A6AE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9C533-C60F-4368-9E91-FBB874A8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2FDA7-7843-458E-86CE-F00F47DE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15F2-9A6D-4497-A335-60804F4E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26E15-D4B7-4B6D-B593-47865F6B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A1A-6543-46DB-B330-006C9380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FF6-B7A2-4178-BC5F-06AEEEFF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9FF-7B5F-4067-BFC8-8B37D798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C27-7CD9-43D7-BF5D-AF2F9452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FFE-6BFA-4214-99CE-42F32E6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679F36D-82E5-46C7-95DF-04AF63FA0CE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99D25A4-E63C-4A3E-913D-5AA9D433654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5BA2F0E-575D-4777-AEF3-57828D4D955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F2A193D-EA4B-43B7-9E08-A838F2B9046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olymorphism &amp;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6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74F2C4B-5A33-4C40-8901-2260DBA332E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E5C7DE7-F161-43AE-8EB7-E673B7872A2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inter arithmetic is relative to the data type the pointer is declared as pointing t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we point a base pointer to a derived object and then increment the pointer, it will not be pointing to the next derived object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t will be pointing to (what it thinks is) the next base object !!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Be careful about thi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mportant Point on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ldNum" idx="2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71BF26A-F37B-40E6-B5D6-E12DD054387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++, only public inheritance supports the perfect IS-A relationship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ase of private and protected inheritance, we cannot treat a derived class object in the same way as a base class obje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Public members of the base class becomes private or protected in the derived class and hence cannot be accessed directly by others using derived class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f we use private or protected inheritance, we cannot assign the address of a derived class object to a base class pointer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We can use type-casting, but it makes the program logic and structure complicate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Num" idx="2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8BF4F60-A89F-4F95-B31E-84F692D1990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virtual function is a member function that is declared within a base class and redefined (called </a:t>
            </a:r>
            <a:r>
              <a:rPr b="1" i="1" lang="en-US" sz="2000" spc="-1" strike="noStrike">
                <a:solidFill>
                  <a:srgbClr val="000000"/>
                </a:solidFill>
                <a:latin typeface="Gill Sans MT"/>
              </a:rPr>
              <a:t>overrid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 by a derived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implements the “one interface, multiple methods” philosophy that underlies polymorphis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keyword </a:t>
            </a:r>
            <a:r>
              <a:rPr b="1" lang="en-US" sz="2000" spc="-1" strike="noStrike">
                <a:solidFill>
                  <a:srgbClr val="660066"/>
                </a:solidFill>
                <a:latin typeface="Gill Sans MT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used to designate a member function as virtua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s run-time polymorphism with the help of base class pointer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Num" idx="2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A4C14D8-3864-445E-9AD9-3AFB347D628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74671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ile redefining a virtual function in a derived class, the function signature must match the original function present in the base clas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, we call it </a:t>
            </a:r>
            <a:r>
              <a:rPr b="1" i="1" lang="en-US" sz="1800" spc="-1" strike="noStrike">
                <a:solidFill>
                  <a:srgbClr val="660066"/>
                </a:solidFill>
                <a:latin typeface="Gill Sans MT"/>
              </a:rPr>
              <a:t>overriding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not overload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en a virtual function is redefined by a derived class, the keyword </a:t>
            </a:r>
            <a:r>
              <a:rPr b="1" lang="en-US" sz="1800" spc="-1" strike="noStrike">
                <a:solidFill>
                  <a:srgbClr val="660066"/>
                </a:solidFill>
                <a:latin typeface="Gill Sans MT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is not needed (but can be specified if the programmer wants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 “virtual”-ity of the member function continues along the inheritance chai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class that contains a virtual function is referred to as a </a:t>
            </a:r>
            <a:r>
              <a:rPr b="1" i="1" lang="en-US" sz="1800" spc="-1" strike="noStrike">
                <a:solidFill>
                  <a:srgbClr val="6600cc"/>
                </a:solidFill>
                <a:latin typeface="Gill Sans MT"/>
              </a:rPr>
              <a:t>polymorphic clas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Num" idx="2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AE3FCC1-46EA-4B36-8E66-D028A42DE9C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the polymorphic approach to work, several conditions must be me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rst, all the different derived classes must be descended from a single base clas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, the overridden function must be declared to be virtual in the base clas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Num" idx="3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388B4BE-0807-4B8B-8C8D-29D37A3BF14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1371600"/>
            <a:ext cx="4038120" cy="5028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48320" y="1447920"/>
            <a:ext cx="4190760" cy="4952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9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(s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erived 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1.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derived(s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base(d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derived (d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9280" indent="-269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re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9640" indent="-269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s.b. = static bind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29640" indent="-269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.b. = dynamic bind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3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83DBFA2-3D82-4FB6-966A-F6F4E63E7E4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38120" cy="5181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  cout &lt;&lt; “base\n”;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1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cout &lt;&lt; “derived-1\n”;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2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cout &lt;&lt; “derived-2\n”; 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48320" y="1295280"/>
            <a:ext cx="4038120" cy="5105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b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d1 od1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d2 od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n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in &gt;&gt; n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(n &gt; 2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 = &amp;od1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 = &amp;od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guess what ?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4648320" y="6324480"/>
            <a:ext cx="2971440" cy="380520"/>
          </a:xfrm>
          <a:prstGeom prst="wedgeRoundRectCallout">
            <a:avLst>
              <a:gd name="adj1" fmla="val -9132"/>
              <a:gd name="adj2" fmla="val -351163"/>
              <a:gd name="adj3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poly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Num" idx="3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C06B48E-081F-497A-ABFE-265C5BD2178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onstructors cannot be virtual, but destructors can be virtu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ensures that the derived class destructor is called when a base class pointer is used while deleting a dynamically created derived class o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Num" idx="3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BFB097D-EF77-4604-936A-006E7B1CC64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860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7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base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 “destructing 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derived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structing 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0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4832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 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p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2560" indent="-3225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b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2590920" y="5867280"/>
            <a:ext cx="4038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non-virtual de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3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0179428-61F4-4FD2-8A85-8430EA1B7A3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2860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~base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 “destructing 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derived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structing 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4832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 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p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2560" indent="-3225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deriv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b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971800" y="5867280"/>
            <a:ext cx="3352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virtual de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1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5707FFA-961D-41C0-A6A8-7815869D480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lymorphism in C++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inters to derived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point on inherita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 to virtual fun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rtual destru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about virtual fun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al com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ying polymorphis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irtual functions are 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Num" idx="3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8169CDB-BEB2-4DC3-A3D6-2338E769694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nce function is declared as virtual, it stays virtual no matter how many layers of derived classes it may pass throug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derived from derived, not b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derived2 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derived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show()  not defin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base b1;   derived d1;derived2 d2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base -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derived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 = &amp;d2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derived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imple App of virtu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Num" idx="3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0FF1BB4-90DF-4DF7-8451-1A4366C781C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 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 = 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 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Virtual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 &lt;&lt;“No area computation defined”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&lt;&lt;“for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class”;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triang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ublic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Void show_area(){cout&lt;&lt; x* 0.5 * y;} 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circ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 cout &lt;&lt; x *x;}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igure *p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Triangle 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rcle 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5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 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About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3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413D485-4B14-4D74-ADF2-D620190A199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lps to guarantee that a derived class will provide its own redefini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we want to omit the body of a virtual function in a base class, we can use pure virtual func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virtual ret-type func-name(param-list) = 0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Pure virtual function is a virtual function that has no definition in its base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ur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Pure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2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3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8E3C059-D07B-4C55-BC43-583FD2F2ACB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solidFill>
              <a:srgbClr val="aab0c8"/>
            </a:solidFill>
          </a:ln>
        </p:spPr>
        <p:txBody>
          <a:bodyPr lIns="90000" rIns="90000" tIns="45000" bIns="45000" anchor="t">
            <a:normAutofit fontScale="6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=0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=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=0 ;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pure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makes a class an </a:t>
            </a:r>
            <a:r>
              <a:rPr b="1" i="1" lang="en-US" sz="2000" spc="-1" strike="noStrike">
                <a:solidFill>
                  <a:srgbClr val="6600cc"/>
                </a:solidFill>
                <a:latin typeface="Gill Sans MT"/>
              </a:rPr>
              <a:t>abstract clas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We cannot create any objects of such class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forces derived classes to override it own implementat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Otherwise become abstract too and the complier will report an erro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imple App of virtu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Num" idx="3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F1797DA-1C7C-4D0D-BCF6-355CA9EDE21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=0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=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=0 ;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pure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triang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cout&lt;&lt; x* 0.5 * y;}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circ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no definiton of show_area() will case err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igure *p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Triangle 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rcle c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illegal – can’t cre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5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bstrac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ldNum" idx="4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A5DCE53-74E8-4571-B52B-AC630B63474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f a class has at least one pure virtual function, then that class is said to be abstrac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n abstract class has one important feature: </a:t>
            </a:r>
            <a:r>
              <a:rPr b="0" lang="en-GB" sz="2000" spc="-1" strike="noStrike">
                <a:solidFill>
                  <a:srgbClr val="ff0000"/>
                </a:solidFill>
                <a:latin typeface="Gill Sans MT"/>
              </a:rPr>
              <a:t>there are can be no object of the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stead, abstract class must be used only as a base that other classes will inheri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ven if the class is abstract, you still can use it to declare pointers, which are needed to support run time polymorphis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l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ldNum" idx="4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A9C5C4-9D4E-4165-BF7D-581E72C3A30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-time polymorphism is not automatically activated in C++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have to use virtual functions and base class pointers to enforce and activate run-time polymorphism in C++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pplying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Num" idx="4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C8DCC03-9D17-4F4A-B88B-51FE10DDA51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rly bi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rmal functions, overloaded func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nvirtual member and friend func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solved at compile 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ery efficient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t lacks flexibility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te bi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irtual functions accessed via a base class pointer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solved at run-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Quite flexible during run-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t has run-time overhead; slows down program execu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lymorphism in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1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A599B1C-BDD0-47ED-900E-ABA3C0E819C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 typ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pile time polymorphis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s static or early bin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Function and operator overloa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un time polymorphis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s dynamic or early bin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Virtual fun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inters to Deriv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2A916EE-1C89-486E-9C40-B468F0D02CA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++ allows base class pointers to point to derived class obje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ts have –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 Base_Class{ … }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 Derived_Class: public Base_Class{ … }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n we can write –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ase_Class *p1;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// pointer to object of type Base_Clas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erived_Class derived_obj; </a:t>
            </a: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// object of type Derived_Clas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oth statement are vali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0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  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1 = &amp;derived_obj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0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  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ase_Class *p2 = new Derived_Class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ldNum" idx="2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B413D19-5520-4E01-B8E0-D35D571EE6D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ing a base class pointer (pointing to a derived class object) we can access only those members of the derived object </a:t>
            </a:r>
            <a:r>
              <a:rPr b="1" lang="en-US" sz="2400" spc="-1" strike="noStrike">
                <a:solidFill>
                  <a:srgbClr val="660066"/>
                </a:solidFill>
                <a:latin typeface="Gill Sans MT"/>
              </a:rPr>
              <a:t>that were inherited from the 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is because the </a:t>
            </a:r>
            <a:r>
              <a:rPr b="1" lang="en-US" sz="2400" spc="-1" strike="noStrike">
                <a:solidFill>
                  <a:srgbClr val="660066"/>
                </a:solidFill>
                <a:latin typeface="Gill Sans MT"/>
              </a:rPr>
              <a:t>base poin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as knowledge only of the base cla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knows nothing about the members added by the derived cla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F793D33-FEA8-4ADA-ABEB-9CEF7602C0D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5105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erived 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deri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 the function calls here are statically bou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ldNum" idx="2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B3F8953-4BAA-4D67-8E06-25BB1B2BE03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ile it is permissible for a base class pointer to point to a derived object, the reverse is not tru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base b1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erived *pd = &amp;b1;  //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compiler err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 can perform a </a:t>
            </a:r>
            <a:r>
              <a:rPr b="1" lang="en-US" sz="2000" spc="-1" strike="noStrike">
                <a:solidFill>
                  <a:srgbClr val="660066"/>
                </a:solidFill>
                <a:latin typeface="Gill Sans MT"/>
              </a:rPr>
              <a:t>downcas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ith the help of type-casting, but should use it with caution 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88F438B-FA76-4446-8ECC-27EA115BCD0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45784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et’s hav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 …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 …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xyz { … };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having no relation with “base” or “derived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n if we write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base b_obj, *pbase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d_obj;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base = &amp;d_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OK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*pderived = pbase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compiler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*pderived = (derived *)pbase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ok, valid down casting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xyz obj;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derived = (derived *)&amp;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invalid casting, no compiler error, but may cause run-time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derived = (derived *)&amp;b_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invalid casting, no compiler error, but may cause run-time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0F59C5B-0075-468B-8CBB-CC71F8AED54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fact using type-casting, we can use pointer of any class to point to an object of any other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The compiler will not complai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uring run-time, the address assignment will also succee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But if we use the pointer to access any member, then it may cause run-time err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78560FC0-8014-4BAB-A9C3-1AA7A4A87923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customXml/itemProps2.xml><?xml version="1.0" encoding="utf-8"?>
<ds:datastoreItem xmlns:ds="http://schemas.openxmlformats.org/officeDocument/2006/customXml" ds:itemID="{A058DC7A-51BA-4C32-B43A-2655A6C49473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70067674-F97A-4CE3-A0A5-9210181C444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918</TotalTime>
  <Application>LibreOffice/7.4.7.2$Linux_X86_64 LibreOffice_project/40$Build-2</Application>
  <AppVersion>15.0000</AppVersion>
  <Words>2015</Words>
  <Paragraphs>394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5:54:09Z</dcterms:created>
  <dc:creator>Ahmed Khurshid</dc:creator>
  <dc:description/>
  <dc:language>en-US</dc:language>
  <cp:lastModifiedBy>Aseel</cp:lastModifiedBy>
  <dcterms:modified xsi:type="dcterms:W3CDTF">2013-04-08T19:40:08Z</dcterms:modified>
  <cp:revision>562</cp:revision>
  <dc:subject/>
  <dc:title>Chapter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7</vt:r8>
  </property>
</Properties>
</file>