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5CE6E9-5E1D-4EE9-8FA4-A169D692A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08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43"/>
          </p:nvPr>
        </p:nvSpPr>
        <p:spPr>
          <a:xfrm>
            <a:off x="4143240" y="9120240"/>
            <a:ext cx="3169800" cy="4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B645B8-E07F-475D-9CC5-A990B795E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1A3-DFCC-4B61-8428-C4C6864C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DB7-18F3-4C31-A45A-1AEEEC8E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6D3-5550-4D16-9F42-7F0D0223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5BA-283F-4FE8-969C-C9A89FD9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BBAB-F9CE-45E9-B276-6F40FAF4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B167-0D60-4C64-A850-55CA68D7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0EA9-10EF-4678-B690-4B9016A6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E735-D961-43CD-8126-D9D3F43D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4C30-FA34-494D-A10D-80D5B974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FDDE-8897-4959-89DD-2B33A96B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3464-7BA9-466A-93C6-1A850D31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D4C-739E-4A54-B725-21C01343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11D0-167E-4235-959A-0765EC3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2B51-6C9A-4A98-AF3C-B873235C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8636-55EA-477A-A880-30F1AF37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57F2-4BE9-4C08-8D8C-C8DEF900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BDFE-A8C5-495D-A3BA-5B1C8CC2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529B-94F5-4627-B6A0-363A6D02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E18E-A4F2-4151-BEFA-692E327F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7793-800F-49B9-B716-6CA37670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176E9-0B97-4EE0-864D-C737A169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8938-DF06-4911-915F-C206A08F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89A-FF98-4CE3-938F-3F8097DE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1E317-A9E3-4EC8-A635-59B43F73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BA85C-AE5A-4F3C-BA6E-F9F03AEF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0718-A418-4CD7-AE6A-B9F73F5D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D9F1-F3C1-4743-9990-83473E62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5D3A-4C99-4122-948D-79B9B7EC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67F3-BDCC-4B2A-9010-BE280C54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1742-42A8-49A6-9090-93F27601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A0684-71C5-404A-8E85-159752A1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63C13-B695-422E-9B43-58230A9A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0406-DF6E-466B-A174-CF6994E1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F84-4994-4607-938F-CF0F6590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1F92E-DE0F-4A49-82E0-EFED4AEC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E6AD-1359-4E19-9DAB-00F08E64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77C4-176A-4423-BF51-DA600E40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250C3-BFE6-45FC-8190-752A6995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21B3F-6179-4066-942B-14685D55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15FFF-F18B-4D31-9C9C-CD4606DB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4B82-2D3A-41AE-B4DB-5227D7C5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C290-4AC9-4E01-A016-17701CC9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8A3C-A6C7-4E16-982A-D3AA6156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29C-95CD-4999-A20E-17C579C9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EA6-3B3A-4C23-9765-51722CF0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07E-DF22-4A24-B369-DEA08863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C92-EB13-4B72-BFFD-DAA93B5B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61A-A150-4A29-BB45-3BF84F49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B208156-8F23-4D57-9A79-E5192AF8BC3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B8F695B-2812-409D-876F-4ABA16BC4B4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B53CC45-784E-4D89-839B-48FAECD57C2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7D9EBBB-F072-425F-A5A8-A1CBF3DA38C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olymorphism &amp;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6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DC595BE-6B8C-4742-B06B-8D4DA99F946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0EE206F-87BE-4687-868B-B61663813FF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inter arithmetic is relative to the data type the pointer is declared as pointing t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we point a base pointer to a derived object and then increment the pointer, it will not be pointing to the next derived object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t will be pointing to (what it thinks is) the next base object !!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Be careful about thi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mportant Point on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ldNum" idx="2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140E1CD-A6C3-4DA3-A2B1-69F97ED2223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++, only public inheritance supports the perfect IS-A relationship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ase of private and protected inheritance, we cannot treat a derived class object in the same way as a base class obje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Public members of the base class becomes private or protected in the derived class and hence cannot be accessed directly by others using derived class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f we use private or protected inheritance, we cannot assign the address of a derived class object to a base class pointer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We can use type-casting, but it makes the program logic and structure complicate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Num" idx="2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DB3315B-F945-4387-A2D2-36BEA76A243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virtual function is a member function that is declared within a base class and redefined (called </a:t>
            </a:r>
            <a:r>
              <a:rPr b="1" i="1" lang="en-US" sz="2000" spc="-1" strike="noStrike">
                <a:solidFill>
                  <a:srgbClr val="000000"/>
                </a:solidFill>
                <a:latin typeface="Gill Sans MT"/>
              </a:rPr>
              <a:t>overrid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 by a derived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implements the “one interface, multiple methods” philosophy that underlies polymorphis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keyword </a:t>
            </a:r>
            <a:r>
              <a:rPr b="1" lang="en-US" sz="2000" spc="-1" strike="noStrike">
                <a:solidFill>
                  <a:srgbClr val="660066"/>
                </a:solidFill>
                <a:latin typeface="Gill Sans MT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used to designate a member function as virtua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s run-time polymorphism with the help of base class pointer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Num" idx="2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2C5F064-7B78-4297-A603-382EBF0A451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74671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ile redefining a virtual function in a derived class, the function signature must match the original function present in the base clas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, we call it </a:t>
            </a:r>
            <a:r>
              <a:rPr b="1" i="1" lang="en-US" sz="1800" spc="-1" strike="noStrike">
                <a:solidFill>
                  <a:srgbClr val="660066"/>
                </a:solidFill>
                <a:latin typeface="Gill Sans MT"/>
              </a:rPr>
              <a:t>overriding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not overload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en a virtual function is redefined by a derived class, the keyword </a:t>
            </a:r>
            <a:r>
              <a:rPr b="1" lang="en-US" sz="1800" spc="-1" strike="noStrike">
                <a:solidFill>
                  <a:srgbClr val="660066"/>
                </a:solidFill>
                <a:latin typeface="Gill Sans MT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is not needed (but can be specified if the programmer wants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 “virtual”-ity of the member function continues along the inheritance chai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class that contains a virtual function is referred to as a </a:t>
            </a:r>
            <a:r>
              <a:rPr b="1" i="1" lang="en-US" sz="1800" spc="-1" strike="noStrike">
                <a:solidFill>
                  <a:srgbClr val="6600cc"/>
                </a:solidFill>
                <a:latin typeface="Gill Sans MT"/>
              </a:rPr>
              <a:t>polymorphic clas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Num" idx="2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51F8D15-E0C2-4ED2-883B-2FC267AF7B0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the polymorphic approach to work, several conditions must be me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rst, all the different derived classes must be descended from a single base clas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, the overridden function must be declared to be virtual in the base clas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Num" idx="3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6A686EB-A30A-4B3A-BC13-DA5ACA768D7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1371600"/>
            <a:ext cx="4038120" cy="5028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48320" y="1447920"/>
            <a:ext cx="4190760" cy="4952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9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(s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erived 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1.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derived(s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base(d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derived (d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9280" indent="-269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re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9640" indent="-269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s.b. = static bind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29640" indent="-269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.b. = dynamic bind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3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B0799EA-9A94-494D-AC80-9C030F1D226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38120" cy="5181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  cout &lt;&lt; “base\n”;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1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cout &lt;&lt; “derived-1\n”;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2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cout &lt;&lt; “derived-2\n”; 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48320" y="1295280"/>
            <a:ext cx="4038120" cy="5105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b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d1 od1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d2 od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n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in &gt;&gt; n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(n &gt; 2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 = &amp;od1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 = &amp;od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guess what ?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4648320" y="6324480"/>
            <a:ext cx="2971440" cy="380520"/>
          </a:xfrm>
          <a:prstGeom prst="wedgeRoundRectCallout">
            <a:avLst>
              <a:gd name="adj1" fmla="val -9132"/>
              <a:gd name="adj2" fmla="val -351163"/>
              <a:gd name="adj3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poly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Num" idx="3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BAA6C3F-6CF0-4BBA-BE6B-0726AD770E0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onstructors cannot be virtual, but destructors can be virtu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ensures that the derived class destructor is called when a base class pointer is used while deleting a dynamically created derived class o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Num" idx="3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D7E26EB-BF2A-4D40-94C1-F1C12058BF0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860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7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base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 “destructing 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derived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structing 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0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4832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 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p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2560" indent="-3225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b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2590920" y="5867280"/>
            <a:ext cx="4038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non-virtual de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3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427FD2D-4170-4BDF-B095-02B38968B87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2860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~base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 “destructing 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derived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structing 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4832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 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p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2560" indent="-3225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deriv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b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971800" y="5867280"/>
            <a:ext cx="3352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virtual de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1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7D88855-767E-4C2D-873B-AC473495C9F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lymorphism in C++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inters to derived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point on inherita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 to virtual fun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rtual destru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about virtual fun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al com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ying polymorphis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irtual functions are 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Num" idx="3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E0F9371-6D1B-4188-B20D-CDA09E85A74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nce function is declared as virtual, it stays virtual no matter how many layers of derived classes it may pass throug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derived from derived, not b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derived2 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derived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show()  not defin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base b1;   derived d1;derived2 d2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base -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derived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 = &amp;d2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derived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imple App of virtu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Num" idx="3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E3817C7-D09E-4473-AEB8-3F97482A8F2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 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 = 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 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Virtual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 &lt;&lt;“No area computation defined”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&lt;&lt;“for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class”;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triang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ublic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Void show_area(){cout&lt;&lt; x* 0.5 * y;} 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circ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 cout &lt;&lt; x *x;}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igure *p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Triangle 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rcle 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5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 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About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3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B103E00-DA9A-4C0F-9C8E-087B5F0CDAC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lps to guarantee that a derived class will provide its own redefini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we want to omit the body of a virtual function in a base class, we can use pure virtual func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virtual ret-type func-name(param-list) = 0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Pure virtual function is a virtual function that has no definition in its base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ur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Pure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2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3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DAE829D-14C8-42CE-B52B-1F0C11C6CD8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solidFill>
              <a:srgbClr val="aab0c8"/>
            </a:solidFill>
          </a:ln>
        </p:spPr>
        <p:txBody>
          <a:bodyPr lIns="90000" rIns="90000" tIns="45000" bIns="45000" anchor="t">
            <a:normAutofit fontScale="6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=0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=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=0 ;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pure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makes a class an </a:t>
            </a:r>
            <a:r>
              <a:rPr b="1" i="1" lang="en-US" sz="2000" spc="-1" strike="noStrike">
                <a:solidFill>
                  <a:srgbClr val="6600cc"/>
                </a:solidFill>
                <a:latin typeface="Gill Sans MT"/>
              </a:rPr>
              <a:t>abstract clas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We cannot create any objects of such class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forces derived classes to override it own implementat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Otherwise become abstract too and the complier will report an erro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imple App of virtu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Num" idx="3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5BDECC3-0F0F-48DB-96AA-647E654EA17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=0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=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=0 ;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pure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triang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cout&lt;&lt; x* 0.5 * y;}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circ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no definiton of show_area() will case err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igure *p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Triangle 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rcle c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illegal – can’t cre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5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bstrac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ldNum" idx="4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B6C5ADD-865A-4006-88AD-A0720E59D70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f a class has at least one pure virtual function, then that class is said to be abstrac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n abstract class has one important feature: </a:t>
            </a:r>
            <a:r>
              <a:rPr b="0" lang="en-GB" sz="2000" spc="-1" strike="noStrike">
                <a:solidFill>
                  <a:srgbClr val="ff0000"/>
                </a:solidFill>
                <a:latin typeface="Gill Sans MT"/>
              </a:rPr>
              <a:t>there are can be no object of the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stead, abstract class must be used only as a base that other classes will inheri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ven if the class is abstract, you still can use it to declare pointers, which are needed to support run time polymorphis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l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ldNum" idx="4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3985F58-E090-4F57-8ADC-D137FB85A14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-time polymorphism is not automatically activated in C++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have to use virtual functions and base class pointers to enforce and activate run-time polymorphism in C++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pplying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Num" idx="4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0A60682-7D09-4065-A8ED-A8CAF3EBAD2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rly bi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rmal functions, overloaded func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nvirtual member and friend func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solved at compile 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ery efficient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t lacks flexibility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te bi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irtual functions accessed via a base class pointer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solved at run-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Quite flexible during run-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t has run-time overhead; slows down program execu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lymorphism in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1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AAD0460-0DBC-45AC-B9FD-749CC71B81A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 typ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pile time polymorphis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s static or early bin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Function and operator overloa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un time polymorphis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s dynamic or early bin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Virtual fun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inters to Deriv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329252D-456E-421D-AD27-B94B20328ED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++ allows base class pointers to point to derived class obje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ts have –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 Base_Class{ … }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 Derived_Class: public Base_Class{ … }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n we can write –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ase_Class *p1;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// pointer to object of type Base_Clas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erived_Class derived_obj; </a:t>
            </a: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// object of type Derived_Clas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oth statement are vali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0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  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1 = &amp;derived_obj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0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  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ase_Class *p2 = new Derived_Class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ldNum" idx="2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03A02CE-AF88-4353-9625-D0C984CCC8C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ing a base class pointer (pointing to a derived class object) we can access only those members of the derived object </a:t>
            </a:r>
            <a:r>
              <a:rPr b="1" lang="en-US" sz="2400" spc="-1" strike="noStrike">
                <a:solidFill>
                  <a:srgbClr val="660066"/>
                </a:solidFill>
                <a:latin typeface="Gill Sans MT"/>
              </a:rPr>
              <a:t>that were inherited from the 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is because the </a:t>
            </a:r>
            <a:r>
              <a:rPr b="1" lang="en-US" sz="2400" spc="-1" strike="noStrike">
                <a:solidFill>
                  <a:srgbClr val="660066"/>
                </a:solidFill>
                <a:latin typeface="Gill Sans MT"/>
              </a:rPr>
              <a:t>base poin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as knowledge only of the base cla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knows nothing about the members added by the derived cla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C0291E3-A6AB-4F23-B4C5-1E79633A0CF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5105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erived 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deri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 the function calls here are statically bou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ldNum" idx="2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354F212-579C-4DE0-930A-AFA17DEA76B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ile it is permissible for a base class pointer to point to a derived object, the reverse is not tru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base b1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erived *pd = &amp;b1;  //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compiler err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 can perform a </a:t>
            </a:r>
            <a:r>
              <a:rPr b="1" lang="en-US" sz="2000" spc="-1" strike="noStrike">
                <a:solidFill>
                  <a:srgbClr val="660066"/>
                </a:solidFill>
                <a:latin typeface="Gill Sans MT"/>
              </a:rPr>
              <a:t>downcas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ith the help of type-casting, but should use it with caution 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8FBB24A-3D43-4463-8D97-B113FED5CA4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45784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et’s hav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 …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 …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xyz { … };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having no relation with “base” or “derived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n if we write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base b_obj, *pbase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d_obj;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base = &amp;d_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OK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*pderived = pbase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compiler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*pderived = (derived *)pbase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ok, valid down casting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xyz obj;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derived = (derived *)&amp;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invalid casting, no compiler error, but may cause run-time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derived = (derived *)&amp;b_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invalid casting, no compiler error, but may cause run-time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EA3D541-B158-4FE5-BA5E-F87C7BAF40D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fact using type-casting, we can use pointer of any class to point to an object of any other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The compiler will not complai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uring run-time, the address assignment will also succee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But if we use the pointer to access any member, then it may cause run-time err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78560FC0-8014-4BAB-A9C3-1AA7A4A87923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customXml/itemProps2.xml><?xml version="1.0" encoding="utf-8"?>
<ds:datastoreItem xmlns:ds="http://schemas.openxmlformats.org/officeDocument/2006/customXml" ds:itemID="{A058DC7A-51BA-4C32-B43A-2655A6C49473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70067674-F97A-4CE3-A0A5-9210181C444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918</TotalTime>
  <Application>LibreOffice/7.4.7.2$Linux_X86_64 LibreOffice_project/40$Build-2</Application>
  <AppVersion>15.0000</AppVersion>
  <Words>2015</Words>
  <Paragraphs>394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5:54:09Z</dcterms:created>
  <dc:creator>Ahmed Khurshid</dc:creator>
  <dc:description/>
  <dc:language>en-US</dc:language>
  <cp:lastModifiedBy>Aseel</cp:lastModifiedBy>
  <dcterms:modified xsi:type="dcterms:W3CDTF">2013-04-08T19:40:08Z</dcterms:modified>
  <cp:revision>562</cp:revision>
  <dc:subject/>
  <dc:title>Chapter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7</vt:r8>
  </property>
</Properties>
</file>