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FEB81B-332D-44BB-98B5-24659452D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2E8-A034-4CDD-A484-C727A76F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0ED-2D0F-4D91-9B0C-2E4FF6DA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244-823B-4F8F-9579-48CAEBAB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9228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2736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9228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2736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1BE-A08B-47AB-89B9-98117068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CC74-4C98-489B-B525-762574C8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7D0F-81A8-4755-9CAA-F9E939DD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E015-CE05-40EC-B75B-07ACD294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C9B2-28EA-4E53-A508-62737D0E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51D1-E795-4C5D-808D-763DC032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086600" y="6978240"/>
            <a:ext cx="15235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2BF8-EA4B-47C7-8F67-17832B0E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3660-725A-4893-B61D-2337EF21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E7A-5E89-4E76-8156-78E10965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FF93-9292-4AED-99E0-CFDB2373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AC80-6427-4B1A-91CE-BF426CE7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A185-1FB6-4041-B1AC-17956644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07AD-3952-440A-B002-AB984C6D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9228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2736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9228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52736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B8BB-E6ED-4ED6-A918-BA7D7086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392CE-8DF2-42B9-A395-2E40272E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635D-1EBF-4A0B-A8DB-FA64EE4A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831DB-F64D-4D1E-92B1-901CE123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E47F-2916-4A9B-881C-392E6B07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6DC81-A0B3-4A62-BACE-39BAC710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32EE-7CAA-4E8C-8644-525CD5E3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86600" y="6978240"/>
            <a:ext cx="15235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21D4-6982-4836-867D-26F56FC7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7AA2-E80D-4632-9607-AE6406A9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5A98A-9F31-4172-ACBB-B0CC674F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B600-4DF2-4005-9DB2-05D00438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65D2A-7F8C-421B-954D-659FCF93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7D344-F0AF-4627-B795-D020EA87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49228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2736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49228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52736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4199-873A-4C78-9773-C27D8E55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2A4D-A84D-4100-BE6D-15C77A8F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C5CEF-6879-470F-893A-DEF19D3A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2513A-46E3-497C-83FC-68582CDD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B0B-7286-40D5-B7DA-66CF8190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880C1-4E50-4652-A89F-80F8749F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734EF-6993-415D-A409-F2ACC698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086600" y="6978240"/>
            <a:ext cx="15235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B4578-5E75-473D-8CB1-B3834812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E40D4-ED6B-44B1-8AF6-29570EEB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97996-9C56-41CB-BAD1-2FAF9A04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A794E-B564-4BDD-9627-B99A9961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374F4-13D3-4830-A578-46866B5B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965ED-5236-451F-B3AF-B09A750F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49228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2736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249228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52736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D7466-1C3E-4878-95D2-0B58396E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BCC-D7D6-40E3-9DEF-FDCCF686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86600" y="6978240"/>
            <a:ext cx="15235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E33-3DB8-4000-B9F1-3A364C82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2D1-B484-46F9-B7BD-63D48CC4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CDD0-2874-49D2-A058-D1B16954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1C8-1CE4-4358-8DDE-75494B04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A013F45-1B55-4E9B-8133-3FB5D2F1C0C9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lick to edit Master text style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7238880" y="6356520"/>
            <a:ext cx="1445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DB3D7C5-B05D-4B6C-BEC1-3FF829086081}" type="slidenum">
              <a:rPr b="1" lang="en-GB" sz="11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322480" y="5804640"/>
            <a:ext cx="307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chemeClr val="accent1"/>
                </a:solidFill>
                <a:latin typeface="Wingding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2568240"/>
            <a:ext cx="8227800" cy="346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6640956-A1B3-461F-A2F9-718C2B2003B2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6998632-7F55-4B41-82D6-519780EDEC34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sto MT"/>
              </a:rPr>
              <a:t>CSC1201: Programming Language 2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tIns="18360" anchor="ctr">
            <a:normAutofit/>
          </a:bodyPr>
          <a:p>
            <a:pPr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Times New Roman"/>
              </a:rPr>
              <a:t>Aseel Al Hadlaq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de-DE" sz="2200" spc="-1" strike="noStrike">
                <a:solidFill>
                  <a:srgbClr val="595959"/>
                </a:solidFill>
                <a:latin typeface="Times New Roman"/>
              </a:rPr>
              <a:t>2nd</a:t>
            </a:r>
            <a:r>
              <a:rPr b="0" lang="en-GB" sz="2200" spc="-1" strike="noStrike">
                <a:solidFill>
                  <a:srgbClr val="595959"/>
                </a:solidFill>
                <a:latin typeface="Times New Roman"/>
              </a:rPr>
              <a:t> Term 2012-2013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836-D819-46DF-AF37-6FE2F65AFB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C++ Overview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3F32-7441-467B-9828-5388F01444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C++ Overview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2666880"/>
            <a:ext cx="8686440" cy="3733560"/>
          </a:xfrm>
          <a:prstGeom prst="rect">
            <a:avLst/>
          </a:prstGeom>
          <a:noFill/>
          <a:ln w="0">
            <a:noFill/>
          </a:ln>
        </p:spPr>
        <p:txBody>
          <a:bodyPr tIns="1836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  <a:ea typeface="msmincho"/>
              </a:rPr>
              <a:t>C++ is platform independent so programs can be created on any operating system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  <a:ea typeface="msmincho"/>
              </a:rPr>
              <a:t>You can quickly create complex applications by using a modern C++ Integrated Development Environment (IDE), such as Microsoft’s Visual C++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27F-9F84-4557-9A19-72F3D75C50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C++ Overview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770200"/>
            <a:ext cx="8381520" cy="3266640"/>
          </a:xfrm>
          <a:prstGeom prst="rect">
            <a:avLst/>
          </a:prstGeom>
          <a:noFill/>
          <a:ln w="0">
            <a:noFill/>
          </a:ln>
        </p:spPr>
        <p:txBody>
          <a:bodyPr tIns="1836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  <a:ea typeface="msmincho"/>
              </a:rPr>
              <a:t>Features were added to the original C language to produce what is called “C with classes”.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  <a:ea typeface="msmincho"/>
              </a:rPr>
              <a:t>These classes define programming objects with specific features that transform the procedural nature of C into the object-oriented programming language of C++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06E-0F8C-4AFF-AAA6-DCB3CB3955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First C++ Program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2770200"/>
            <a:ext cx="861012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2240" indent="-2822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Arial"/>
              <a:buChar char="•"/>
            </a:pPr>
            <a:r>
              <a:rPr b="0" lang="en-GB" sz="2360" spc="-1" strike="noStrike">
                <a:solidFill>
                  <a:srgbClr val="595959"/>
                </a:solidFill>
                <a:latin typeface="Calisto MT"/>
              </a:rPr>
              <a:t>A program can contain one or many functions</a:t>
            </a:r>
            <a:endParaRPr b="0" lang="en-US" sz="2360" spc="-1" strike="noStrike">
              <a:solidFill>
                <a:srgbClr val="595959"/>
              </a:solidFill>
              <a:latin typeface="Calisto MT"/>
            </a:endParaRPr>
          </a:p>
          <a:p>
            <a:pPr marL="282240" indent="-2822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Arial"/>
              <a:buChar char="•"/>
            </a:pPr>
            <a:r>
              <a:rPr b="0" lang="en-GB" sz="2360" spc="-1" strike="noStrike">
                <a:solidFill>
                  <a:srgbClr val="595959"/>
                </a:solidFill>
                <a:latin typeface="Calisto MT"/>
              </a:rPr>
              <a:t>Must always have a function called “main”.</a:t>
            </a:r>
            <a:endParaRPr b="0" lang="en-US" sz="2360" spc="-1" strike="noStrike">
              <a:solidFill>
                <a:srgbClr val="595959"/>
              </a:solidFill>
              <a:latin typeface="Calisto MT"/>
            </a:endParaRPr>
          </a:p>
          <a:p>
            <a:pPr marL="282240" indent="-2822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Arial"/>
              <a:buChar char="•"/>
            </a:pPr>
            <a:r>
              <a:rPr b="0" lang="en-GB" sz="2360" spc="-1" strike="noStrike">
                <a:solidFill>
                  <a:srgbClr val="595959"/>
                </a:solidFill>
                <a:latin typeface="Calisto MT"/>
              </a:rPr>
              <a:t>The main function is the starting point of all C++ programs</a:t>
            </a:r>
            <a:endParaRPr b="0" lang="en-US" sz="2360" spc="-1" strike="noStrike">
              <a:solidFill>
                <a:srgbClr val="595959"/>
              </a:solidFill>
              <a:latin typeface="Calisto MT"/>
            </a:endParaRPr>
          </a:p>
          <a:p>
            <a:pPr marL="282240" indent="-2822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Arial"/>
              <a:buChar char="•"/>
            </a:pPr>
            <a:r>
              <a:rPr b="0" lang="en-GB" sz="2360" spc="-1" strike="noStrike">
                <a:solidFill>
                  <a:srgbClr val="595959"/>
                </a:solidFill>
                <a:latin typeface="Calisto MT"/>
              </a:rPr>
              <a:t>The compiler will not compile the code unless it finds a function called “main” within the program.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8100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8100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rgbClr val="595959"/>
                </a:solidFill>
                <a:latin typeface="Calisto MT"/>
              </a:rPr>
              <a:t>Function declaration: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8100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sto MT"/>
              </a:rPr>
              <a:t>FuncType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</a:rPr>
              <a:t> FuncName(</a:t>
            </a:r>
            <a:r>
              <a:rPr b="0" lang="en-GB" sz="1800" spc="-1" strike="noStrike">
                <a:solidFill>
                  <a:srgbClr val="ff0000"/>
                </a:solidFill>
                <a:latin typeface="Calisto MT"/>
              </a:rPr>
              <a:t>Type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arg1, </a:t>
            </a:r>
            <a:r>
              <a:rPr b="0" lang="en-GB" sz="1800" spc="-1" strike="noStrike">
                <a:solidFill>
                  <a:srgbClr val="ff0000"/>
                </a:solidFill>
                <a:latin typeface="Calisto MT"/>
              </a:rPr>
              <a:t>Type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arg2, </a:t>
            </a:r>
            <a:r>
              <a:rPr b="0" lang="en-GB" sz="1800" spc="-1" strike="noStrike">
                <a:solidFill>
                  <a:srgbClr val="ff0000"/>
                </a:solidFill>
                <a:latin typeface="Calisto MT"/>
              </a:rPr>
              <a:t>Type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argN)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8100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sto MT"/>
              </a:rPr>
              <a:t>{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</a:rPr>
              <a:t> function body </a:t>
            </a:r>
            <a:r>
              <a:rPr b="0" lang="en-GB" sz="2400" spc="-1" strike="noStrike">
                <a:solidFill>
                  <a:srgbClr val="ff0000"/>
                </a:solidFill>
                <a:latin typeface="Calisto MT"/>
              </a:rPr>
              <a:t>}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644E410D-DC2A-4096-A48E-D76E7B789337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3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Hello World” program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86888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#include &lt;iostream&gt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using namespace std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int main ()</a:t>
            </a:r>
            <a:r>
              <a:rPr b="1" lang="x-none" sz="1400" spc="-1" strike="noStrike">
                <a:solidFill>
                  <a:srgbClr val="595959"/>
                </a:solidFill>
                <a:latin typeface="Calisto MT"/>
              </a:rPr>
              <a:t>‏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{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42516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cout &lt;&lt; “Hello World\n”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42516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Return 0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} </a:t>
            </a: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 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include 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information from standard input/output library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iostream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. 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The instruction is more properly called a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“pre-processor” 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instruction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The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# 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hash character starts the line to denote a pre-processor instruction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 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Library name must be enclosed by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&lt;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 and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&gt;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 angled brackets. 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7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99D3DB79-5731-40CD-8E20-FBBB23EF8310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4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Hello World” program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5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he second line of the program makes all the functions within the 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iostream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 library available for use by their standard names, which are in 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the namespace std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One of these is a function named 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cout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 that is used to write the output from a program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In the function declaration the data type is specified as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 int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, meaning integer. This means that after executing its statements this function must return an integer value to the operating system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he braces 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{ } 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contain the statements to be executed by the program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he final statement in the main function return a value of zero to the operating system to indicate that the program executed correctly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42F9D822-67C5-4271-892A-EED81001DAAB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4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Data typ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6C70-A784-4ACB-A9BA-E4A07EF78D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Data Typ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2116803B-71CA-49FD-B982-61FF20379B25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4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0" descr="c_plus_data_types1.png"/>
          <p:cNvPicPr/>
          <p:nvPr/>
        </p:nvPicPr>
        <p:blipFill>
          <a:blip r:embed="rId1"/>
          <a:stretch/>
        </p:blipFill>
        <p:spPr>
          <a:xfrm>
            <a:off x="762120" y="2743200"/>
            <a:ext cx="7695720" cy="33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Keyword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6095880"/>
            <a:ext cx="822780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595959"/>
              </a:buClr>
              <a:buSzPct val="90000"/>
              <a:buFont typeface="Wingdings" charset="2"/>
              <a:buChar char=""/>
            </a:pPr>
            <a:r>
              <a:rPr b="0" lang="en-US" sz="1700" spc="-1" strike="noStrike">
                <a:solidFill>
                  <a:srgbClr val="595959"/>
                </a:solidFill>
                <a:latin typeface="Calisto MT"/>
              </a:rPr>
              <a:t>They cannot be used as variables or other user-defined elements like functions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20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612A614E-4491-4D09-870C-40531925EA3D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8" descr="Screen shot 2013-02-02 at 10.38.16 PM.png"/>
          <p:cNvPicPr/>
          <p:nvPr/>
        </p:nvPicPr>
        <p:blipFill>
          <a:blip r:embed="rId1"/>
          <a:stretch/>
        </p:blipFill>
        <p:spPr>
          <a:xfrm>
            <a:off x="457200" y="2514600"/>
            <a:ext cx="1485720" cy="2488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creen shot 2013-02-02 at 10.39.02 PM.png"/>
          <p:cNvPicPr/>
          <p:nvPr/>
        </p:nvPicPr>
        <p:blipFill>
          <a:blip r:embed="rId2"/>
          <a:stretch/>
        </p:blipFill>
        <p:spPr>
          <a:xfrm>
            <a:off x="1828800" y="2514600"/>
            <a:ext cx="1790280" cy="3263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Screen shot 2013-02-02 at 10.39.14 PM.png"/>
          <p:cNvPicPr/>
          <p:nvPr/>
        </p:nvPicPr>
        <p:blipFill>
          <a:blip r:embed="rId3"/>
          <a:stretch/>
        </p:blipFill>
        <p:spPr>
          <a:xfrm>
            <a:off x="3098880" y="2565360"/>
            <a:ext cx="1625400" cy="3606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Screen shot 2013-02-02 at 10.39.46 PM.png"/>
          <p:cNvPicPr/>
          <p:nvPr/>
        </p:nvPicPr>
        <p:blipFill>
          <a:blip r:embed="rId4"/>
          <a:stretch/>
        </p:blipFill>
        <p:spPr>
          <a:xfrm>
            <a:off x="4546440" y="2590920"/>
            <a:ext cx="1168200" cy="1968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Screen shot 2013-02-02 at 10.39.55 PM.png"/>
          <p:cNvPicPr/>
          <p:nvPr/>
        </p:nvPicPr>
        <p:blipFill>
          <a:blip r:embed="rId5"/>
          <a:stretch/>
        </p:blipFill>
        <p:spPr>
          <a:xfrm>
            <a:off x="5867280" y="2552760"/>
            <a:ext cx="13204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scape Sequenc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6062F14C-515D-4F1C-B459-3C26F31521A5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8" descr="Screen shot 2013-02-02 at 10.51.23 PM.png"/>
          <p:cNvPicPr/>
          <p:nvPr/>
        </p:nvPicPr>
        <p:blipFill>
          <a:blip r:embed="rId1"/>
          <a:stretch/>
        </p:blipFill>
        <p:spPr>
          <a:xfrm>
            <a:off x="838080" y="3581280"/>
            <a:ext cx="6997320" cy="20062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0"/>
          <p:cNvSpPr/>
          <p:nvPr/>
        </p:nvSpPr>
        <p:spPr>
          <a:xfrm>
            <a:off x="838080" y="2666880"/>
            <a:ext cx="6933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The name reflects the fact that the backslash causes an “escape” from the normal way the character is interpre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Objectiv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Programming languages Overview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C++ Overview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Data Typ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Control Statement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Functio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BC4-23D6-443A-98F7-39A07943C9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Calisto MT"/>
              </a:rPr>
              <a:t>Declaring and Initializing Variables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766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o declare variables for example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int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first, second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char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ch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double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x;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bool </a:t>
            </a:r>
            <a:r>
              <a:rPr b="0" lang="en-US" sz="1700" spc="-1" strike="noStrike">
                <a:solidFill>
                  <a:srgbClr val="002060"/>
                </a:solidFill>
                <a:latin typeface="Calisto MT"/>
              </a:rPr>
              <a:t>flag</a:t>
            </a: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o declare and initialize variables for example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int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first = 13,  second = 10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char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ch = ‘A’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double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x = 12.6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bool </a:t>
            </a:r>
            <a:r>
              <a:rPr b="0" lang="en-US" sz="1700" spc="-1" strike="noStrike">
                <a:solidFill>
                  <a:srgbClr val="002060"/>
                </a:solidFill>
                <a:latin typeface="Calisto MT"/>
              </a:rPr>
              <a:t>flag</a:t>
            </a:r>
            <a:r>
              <a:rPr b="0" lang="en-GB" sz="1700" spc="-1" strike="noStrike">
                <a:solidFill>
                  <a:srgbClr val="002060"/>
                </a:solidFill>
                <a:latin typeface="Calisto MT"/>
              </a:rPr>
              <a:t> 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= true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22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FFB0AB7D-2523-4FDA-9C14-C8A91C01DBC5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Input (Read) Statemen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The syntax of </a:t>
            </a:r>
            <a:r>
              <a:rPr b="0" lang="en-GB" sz="2200" spc="-1" strike="noStrike">
                <a:solidFill>
                  <a:schemeClr val="accent5">
                    <a:lumMod val="75000"/>
                  </a:schemeClr>
                </a:solidFill>
                <a:latin typeface="Calisto MT"/>
              </a:rPr>
              <a:t>cin </a:t>
            </a: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together with &gt;&gt; is: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sto MT"/>
              </a:rPr>
              <a:t>cin &gt;&gt; </a:t>
            </a:r>
            <a:r>
              <a:rPr b="1" lang="en-GB" sz="2800" spc="-1" strike="noStrike">
                <a:solidFill>
                  <a:srgbClr val="0070c0"/>
                </a:solidFill>
                <a:latin typeface="Calisto MT"/>
              </a:rPr>
              <a:t>variable&gt;&gt; variable</a:t>
            </a:r>
            <a:r>
              <a:rPr b="1" lang="en-GB" sz="2800" spc="-1" strike="noStrike">
                <a:solidFill>
                  <a:schemeClr val="accent1">
                    <a:lumMod val="50000"/>
                  </a:schemeClr>
                </a:solidFill>
                <a:latin typeface="Calisto MT"/>
              </a:rPr>
              <a:t>;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3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FE0C8478-4C4A-4918-BBA2-546A68C19CBF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Outpu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The syntax of cout together with &lt;&lt; is: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5000" indent="-3150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1" lang="en-GB" sz="2200" spc="-1" strike="noStrike">
                <a:solidFill>
                  <a:srgbClr val="ff0000"/>
                </a:solidFill>
                <a:latin typeface="Calisto MT"/>
              </a:rPr>
              <a:t>cout &lt;&lt; </a:t>
            </a:r>
            <a:r>
              <a:rPr b="1" lang="en-GB" sz="2200" spc="-1" strike="noStrike">
                <a:solidFill>
                  <a:srgbClr val="0070c0"/>
                </a:solidFill>
                <a:latin typeface="Calisto MT"/>
              </a:rPr>
              <a:t>expression or manipulator </a:t>
            </a:r>
            <a:r>
              <a:rPr b="1" lang="en-GB" sz="2200" spc="-1" strike="noStrike">
                <a:solidFill>
                  <a:schemeClr val="accent1">
                    <a:lumMod val="50000"/>
                  </a:schemeClr>
                </a:solidFill>
                <a:latin typeface="Calisto MT"/>
              </a:rPr>
              <a:t>&lt;&lt;</a:t>
            </a:r>
            <a:r>
              <a:rPr b="1" lang="en-GB" sz="2200" spc="-1" strike="noStrike">
                <a:solidFill>
                  <a:srgbClr val="ff0000"/>
                </a:solidFill>
                <a:latin typeface="Calisto MT"/>
              </a:rPr>
              <a:t> </a:t>
            </a:r>
            <a:r>
              <a:rPr b="1" lang="en-GB" sz="2200" spc="-1" strike="noStrike">
                <a:solidFill>
                  <a:srgbClr val="0070c0"/>
                </a:solidFill>
                <a:latin typeface="Calisto MT"/>
              </a:rPr>
              <a:t>expression or manipulator </a:t>
            </a:r>
            <a:r>
              <a:rPr b="1" lang="en-GB" sz="2200" spc="-1" strike="noStrike">
                <a:solidFill>
                  <a:schemeClr val="accent1">
                    <a:lumMod val="50000"/>
                  </a:schemeClr>
                </a:solidFill>
                <a:latin typeface="Calisto MT"/>
              </a:rPr>
              <a:t>……….;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262440" indent="-26244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The expression is evaluated and its value is printed at the current insertion point on the output devic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262440" indent="-26244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A manipulator is used to format the output. The simplest manipulator  is endl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F6668698-C26E-4790-81E7-DB7359D01C2D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2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Examp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240" name="Content Placeholder 5" descr="Screen shot 2013-02-02 at 11.01.51 PM.png"/>
          <p:cNvPicPr/>
          <p:nvPr/>
        </p:nvPicPr>
        <p:blipFill>
          <a:blip r:embed="rId1"/>
          <a:stretch/>
        </p:blipFill>
        <p:spPr>
          <a:xfrm>
            <a:off x="1066680" y="2432520"/>
            <a:ext cx="7162560" cy="373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2A6F-9327-462F-8C2C-948DFF70F1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Working with String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6260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The C++ &lt;string&gt; class provides methods to manipulate strings of text.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This is an example of Declaring and initializing  a string variable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#include &lt;string&gt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#include &lt;iostream&gt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using namespace std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int main( )</a:t>
            </a:r>
            <a:r>
              <a:rPr b="0" lang="x-none" sz="1400" spc="-1" strike="noStrike">
                <a:solidFill>
                  <a:srgbClr val="595959"/>
                </a:solidFill>
                <a:latin typeface="Calisto MT"/>
              </a:rPr>
              <a:t>‏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{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  </a:t>
            </a: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string str = "C++ is fun”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}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C1653078-394D-4883-8312-A57EA03742D5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4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ontrol Statement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uf Aljaffan (C) 2012 - CSC 1201 Course at K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FDE0-816F-4BA4-B6AA-C96F22D844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If Statemen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247" name="Content Placeholder 8" descr="Screen shot 2013-02-02 at 11.17.07 PM.png"/>
          <p:cNvPicPr/>
          <p:nvPr/>
        </p:nvPicPr>
        <p:blipFill>
          <a:blip r:embed="rId1"/>
          <a:stretch/>
        </p:blipFill>
        <p:spPr>
          <a:xfrm>
            <a:off x="4356000" y="2438280"/>
            <a:ext cx="4559040" cy="3568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 type="sldNum" idx="2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CA00EB41-B206-4C1E-8B07-D734B2476EFC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7" descr="Screen shot 2013-02-02 at 11.17.21 PM.png"/>
          <p:cNvPicPr/>
          <p:nvPr/>
        </p:nvPicPr>
        <p:blipFill>
          <a:blip r:embed="rId2"/>
          <a:stretch/>
        </p:blipFill>
        <p:spPr>
          <a:xfrm>
            <a:off x="254160" y="2489040"/>
            <a:ext cx="363168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If .. Else Statemen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251" name="Content Placeholder 5" descr="Screen shot 2013-02-02 at 11.17.38 PM.png"/>
          <p:cNvPicPr/>
          <p:nvPr/>
        </p:nvPicPr>
        <p:blipFill>
          <a:blip r:embed="rId1"/>
          <a:stretch/>
        </p:blipFill>
        <p:spPr>
          <a:xfrm>
            <a:off x="5334120" y="2514600"/>
            <a:ext cx="3352320" cy="3941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Screen shot 2013-02-02 at 11.17.49 PM.png"/>
          <p:cNvPicPr/>
          <p:nvPr/>
        </p:nvPicPr>
        <p:blipFill>
          <a:blip r:embed="rId2"/>
          <a:stretch/>
        </p:blipFill>
        <p:spPr>
          <a:xfrm>
            <a:off x="380880" y="2590920"/>
            <a:ext cx="3250800" cy="365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E017-1A41-4BD0-A8FA-CC8BB20334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 : If..else Statemen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254" name="Content Placeholder 5" descr="Screen shot 2013-02-02 at 11.14.45 PM.png"/>
          <p:cNvPicPr/>
          <p:nvPr/>
        </p:nvPicPr>
        <p:blipFill>
          <a:blip r:embed="rId1"/>
          <a:stretch/>
        </p:blipFill>
        <p:spPr>
          <a:xfrm>
            <a:off x="914400" y="2686680"/>
            <a:ext cx="7467120" cy="3485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708B6E0C-5897-4F2F-A954-45DE8F4D0DCF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Switch Structur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28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39A6A01C-1171-42AC-9A36-D93B28D49C55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Screen shot 2013-02-02 at 11.24.42 PM.png"/>
          <p:cNvPicPr/>
          <p:nvPr/>
        </p:nvPicPr>
        <p:blipFill>
          <a:blip r:embed="rId1"/>
          <a:stretch/>
        </p:blipFill>
        <p:spPr>
          <a:xfrm>
            <a:off x="609480" y="380880"/>
            <a:ext cx="5714640" cy="59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66290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Programming Languages Overview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A8A7-8979-458D-9ACD-974AACFF63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Switch Structur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9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1C80F554-1891-48DA-910C-3430CB183DBF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Screen shot 2013-02-02 at 11.24.22 PM.png"/>
          <p:cNvPicPr/>
          <p:nvPr/>
        </p:nvPicPr>
        <p:blipFill>
          <a:blip r:embed="rId1"/>
          <a:stretch/>
        </p:blipFill>
        <p:spPr>
          <a:xfrm>
            <a:off x="1219320" y="120600"/>
            <a:ext cx="4774680" cy="66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609480" y="152280"/>
            <a:ext cx="78483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d0d0d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Switch Structur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0240" y="1295280"/>
            <a:ext cx="824760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000" spc="-1" strike="noStrike">
                <a:solidFill>
                  <a:srgbClr val="0d0d0d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30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571E083F-CE81-48F5-82FC-D14D321C1A29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457200" y="1943640"/>
            <a:ext cx="6400800" cy="47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har let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Enter any  a-z character: 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in &gt;&gt; let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switch(let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a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a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b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b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c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c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default : cout &lt;&lt; "Letter is not a, b or c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return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For Loop Structur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8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-30492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Lucida Grande"/>
              <a:buChar char=" "/>
            </a:pPr>
            <a:r>
              <a:rPr b="0" lang="en-US" sz="1700" spc="-1" strike="noStrike">
                <a:solidFill>
                  <a:srgbClr val="000000"/>
                </a:solidFill>
                <a:latin typeface="LM Mono 10 Regular"/>
                <a:ea typeface="LM Mono 10 Regular"/>
              </a:rPr>
              <a:t>The </a:t>
            </a:r>
            <a:r>
              <a:rPr b="0" lang="en-US" sz="1700" spc="-1" strike="noStrike">
                <a:solidFill>
                  <a:srgbClr val="ff0000"/>
                </a:solidFill>
                <a:latin typeface="LM Mono 10 Regular"/>
                <a:ea typeface="LM Mono 10 Regular"/>
              </a:rPr>
              <a:t>for</a:t>
            </a:r>
            <a:r>
              <a:rPr b="0" lang="en-US" sz="1700" spc="-1" strike="noStrike">
                <a:solidFill>
                  <a:srgbClr val="000000"/>
                </a:solidFill>
                <a:latin typeface="LM Mono 10 Regular"/>
                <a:ea typeface="LM Mono 10 Regular"/>
              </a:rPr>
              <a:t> loop execute part of the code a fixed number of times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31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CC8E7054-63A0-4F14-BDD2-1E292B939042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4" descr="Screen shot 2013-02-03 at 10.41.10 AM.png"/>
          <p:cNvPicPr/>
          <p:nvPr/>
        </p:nvPicPr>
        <p:blipFill>
          <a:blip r:embed="rId1"/>
          <a:stretch/>
        </p:blipFill>
        <p:spPr>
          <a:xfrm>
            <a:off x="533520" y="1295280"/>
            <a:ext cx="579096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For Loop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01956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#</a:t>
            </a:r>
            <a:r>
              <a:rPr b="1" lang="en-US" sz="1600" spc="-1" strike="noStrike">
                <a:solidFill>
                  <a:srgbClr val="c00000"/>
                </a:solidFill>
                <a:latin typeface="Calisto MT"/>
              </a:rPr>
              <a:t>include</a:t>
            </a: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 &lt;iostream&gt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sto MT"/>
              </a:rPr>
              <a:t>using namespace </a:t>
            </a: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std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sto MT"/>
              </a:rPr>
              <a:t>int </a:t>
            </a: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main()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{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int 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i,num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cout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&lt;&lt;"enter any number: "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cin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&gt;&gt;num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for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 ( i=1 ; i&lt;=10 ; i++ )</a:t>
            </a:r>
            <a:r>
              <a:rPr b="1" lang="x-none" sz="1600" spc="-1" strike="noStrike">
                <a:solidFill>
                  <a:srgbClr val="0d0d0d"/>
                </a:solidFill>
                <a:latin typeface="Calisto MT"/>
              </a:rPr>
              <a:t>‏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{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cout 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&lt;&lt; endl &lt;&lt; num &lt;&lt; "*“ &lt;&lt; i &lt;&lt; "=“ &lt;&lt; num*i &lt;&lt; endl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}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sto MT"/>
              </a:rPr>
              <a:t>return</a:t>
            </a: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 0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}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6B8C3-0D6C-4899-AA70-AD68FE7BA0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rgbClr val="ffffff"/>
                </a:solidFill>
                <a:latin typeface="Calisto MT"/>
              </a:rPr>
              <a:t>While Loop Structure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32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01931199-B7B4-4851-8F5E-CE06F38093FD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6" descr="Screen shot 2013-02-03 at 10.56.35 AM.png"/>
          <p:cNvPicPr/>
          <p:nvPr/>
        </p:nvPicPr>
        <p:blipFill>
          <a:blip r:embed="rId1"/>
          <a:stretch/>
        </p:blipFill>
        <p:spPr>
          <a:xfrm>
            <a:off x="159840" y="533520"/>
            <a:ext cx="6613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 While loop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568240"/>
            <a:ext cx="8227800" cy="346860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281" name="Picture 7" descr="Screen shot 2013-02-03 at 11.02.00 AM.png"/>
          <p:cNvPicPr/>
          <p:nvPr/>
        </p:nvPicPr>
        <p:blipFill>
          <a:blip r:embed="rId1"/>
          <a:stretch/>
        </p:blipFill>
        <p:spPr>
          <a:xfrm>
            <a:off x="609480" y="2590920"/>
            <a:ext cx="8076960" cy="358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AE6B1-B35D-4587-A647-4276AC76B02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Relational Operators in C++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Num" idx="33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73BDD48F-17E5-4246-BC80-5BAA131CCF9C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Content Placeholder 5" descr="Screen shot 2013-02-03 at 11.06.03 AM.png"/>
          <p:cNvPicPr/>
          <p:nvPr/>
        </p:nvPicPr>
        <p:blipFill>
          <a:blip r:embed="rId1"/>
          <a:stretch/>
        </p:blipFill>
        <p:spPr>
          <a:xfrm>
            <a:off x="752400" y="2666880"/>
            <a:ext cx="7095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Logical Operators in C++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ldNum" idx="34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5379F88A-FDB0-4DA9-A0C7-01D416D2A3EB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Content Placeholder 8" descr="Screen shot 2013-02-03 at 11.07.58 AM.png"/>
          <p:cNvPicPr/>
          <p:nvPr/>
        </p:nvPicPr>
        <p:blipFill>
          <a:blip r:embed="rId1"/>
          <a:stretch/>
        </p:blipFill>
        <p:spPr>
          <a:xfrm>
            <a:off x="1193400" y="3048120"/>
            <a:ext cx="7111800" cy="23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Function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uf Aljaffan (C) 2012 - CSC 1201 Course at K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FFA6-7885-4A10-AA11-22614C212D3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User Defined Function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361080" indent="-361080" algn="just">
              <a:lnSpc>
                <a:spcPct val="15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1" lang="en-GB" sz="3300" spc="-1" strike="noStrike">
                <a:solidFill>
                  <a:srgbClr val="595959"/>
                </a:solidFill>
                <a:latin typeface="Arial"/>
              </a:rPr>
              <a:t>Value returning functions:</a:t>
            </a:r>
            <a:r>
              <a:rPr b="0" lang="en-GB" sz="33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lvl="1" marL="721800" indent="-354240" algn="just">
              <a:lnSpc>
                <a:spcPct val="15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functions that have a return type. 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lvl="1" marL="721800" indent="-354240" algn="just">
              <a:lnSpc>
                <a:spcPct val="15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These functions return a value of a specific data type using the </a:t>
            </a:r>
            <a:r>
              <a:rPr b="1" lang="en-GB" sz="2900" spc="-1" strike="noStrike">
                <a:solidFill>
                  <a:srgbClr val="c00000"/>
                </a:solidFill>
                <a:latin typeface="Arial"/>
              </a:rPr>
              <a:t>return</a:t>
            </a:r>
            <a:r>
              <a:rPr b="0" lang="en-GB" sz="29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statement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86760" indent="0" algn="just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marL="361080" indent="-361080" algn="just">
              <a:lnSpc>
                <a:spcPct val="15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1" lang="en-GB" sz="3300" spc="-1" strike="noStrike">
                <a:solidFill>
                  <a:srgbClr val="595959"/>
                </a:solidFill>
                <a:latin typeface="Arial"/>
              </a:rPr>
              <a:t>Void functions:</a:t>
            </a:r>
            <a:r>
              <a:rPr b="0" lang="en-GB" sz="33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lvl="1" marL="721800" indent="-354240" algn="just">
              <a:lnSpc>
                <a:spcPct val="15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functions that do not have a return type. 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lvl="1" marL="721800" indent="-354240" algn="just">
              <a:lnSpc>
                <a:spcPct val="15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These functions do not use a return statement to return a value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867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35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A71BDC29-779B-4A1C-A71A-674BC7924C21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2A1C94DE-B29D-4BAD-89F1-44FA79043CD7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  <a:ea typeface="msmincho"/>
              </a:rPr>
              <a:t>Programming Methodologies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3300" spc="-1" strike="noStrike">
                <a:solidFill>
                  <a:srgbClr val="595959"/>
                </a:solidFill>
                <a:latin typeface="Calisto MT"/>
                <a:ea typeface="msmincho"/>
              </a:rPr>
              <a:t>Structured Programming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020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  <a:ea typeface="msmincho"/>
              </a:rPr>
              <a:t>Ex: C, Pascal, Fortran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Calisto MT"/>
                <a:ea typeface="msmincho"/>
              </a:rPr>
              <a:t>Object-Oriented Programming(OOP)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  <a:ea typeface="msmincho"/>
              </a:rPr>
              <a:t>Ex: C++, Java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5A0-4463-424C-8C23-9FDC089BBB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Function Syntax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295" name="Picture 6" descr="Screen shot 2013-02-03 at 11.41.32 AM.png"/>
          <p:cNvPicPr/>
          <p:nvPr/>
        </p:nvPicPr>
        <p:blipFill>
          <a:blip r:embed="rId1"/>
          <a:stretch/>
        </p:blipFill>
        <p:spPr>
          <a:xfrm>
            <a:off x="380880" y="0"/>
            <a:ext cx="6243120" cy="68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FDF83-06ED-488E-9E26-02FE1B99C31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s: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553320" indent="-4698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Calisto MT"/>
              <a:buAutoNum type="arabicPeriod"/>
            </a:pPr>
            <a:r>
              <a:rPr b="0" lang="en-GB" sz="2900" spc="-1" strike="noStrike">
                <a:solidFill>
                  <a:srgbClr val="595959"/>
                </a:solidFill>
                <a:latin typeface="Arial"/>
              </a:rPr>
              <a:t>Write a Function larger, which returns the larger of the two given integers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553320" indent="-4698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Calisto MT"/>
              <a:buAutoNum type="arabicPeriod"/>
            </a:pPr>
            <a:r>
              <a:rPr b="0" lang="en-GB" sz="2900" spc="-1" strike="noStrike">
                <a:solidFill>
                  <a:srgbClr val="595959"/>
                </a:solidFill>
                <a:latin typeface="Arial"/>
              </a:rPr>
              <a:t>Write a Function Square, which returns the square of the given integer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553320" indent="-4698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Calisto MT"/>
              <a:buAutoNum type="arabicPeriod"/>
            </a:pPr>
            <a:r>
              <a:rPr b="0" lang="en-GB" sz="2900" spc="-1" strike="noStrike">
                <a:solidFill>
                  <a:srgbClr val="595959"/>
                </a:solidFill>
                <a:latin typeface="Calisto MT"/>
              </a:rPr>
              <a:t>Write a function  number_type. The function should output the number and message saying whether the number is positive, negative, or zero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E23-6DAD-4CC3-9C01-5670146959B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Example: With return valu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520560"/>
            <a:ext cx="6248160" cy="60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larger ( 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x , 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y )</a:t>
            </a:r>
            <a:r>
              <a:rPr b="0" lang="x-none" sz="1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max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( x &gt;= y )</a:t>
            </a:r>
            <a:r>
              <a:rPr b="0" lang="x-none" sz="1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x = x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else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x = y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max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……</a:t>
            </a: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..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Cout &lt;&lt; “The larger of 5 and 6 is “ &lt;&lt; larger(5 , 6) &lt;&lt; endl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………</a:t>
            </a: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3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819C4905-3F08-4BA6-9309-FE6747602715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6"/>
          <p:cNvSpPr/>
          <p:nvPr/>
        </p:nvSpPr>
        <p:spPr>
          <a:xfrm rot="949200">
            <a:off x="4724640" y="537120"/>
            <a:ext cx="340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ee6d2"/>
                </a:solidFill>
                <a:latin typeface="Calisto MT"/>
              </a:rPr>
              <a:t>Solution Ex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With return valu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-76320" y="216000"/>
            <a:ext cx="7162560" cy="60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x-none" sz="17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x*x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main ( )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number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1700" spc="-1" strike="noStrike">
                <a:solidFill>
                  <a:srgbClr val="800000"/>
                </a:solidFill>
                <a:latin typeface="Arial"/>
              </a:rPr>
              <a:t>"Enter any number to Calculate the square of this number "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in&gt;&gt;number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ut&lt;&lt;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1700" spc="-1" strike="noStrike">
                <a:solidFill>
                  <a:srgbClr val="800000"/>
                </a:solidFill>
                <a:latin typeface="Arial"/>
              </a:rPr>
              <a:t>"the square of "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&lt;&lt;number&lt;&lt;</a:t>
            </a:r>
            <a:r>
              <a:rPr b="0" lang="en-GB" sz="1700" spc="-1" strike="noStrike">
                <a:solidFill>
                  <a:srgbClr val="800000"/>
                </a:solidFill>
                <a:latin typeface="Arial"/>
              </a:rPr>
              <a:t>" is "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&lt;&lt;square(number)&lt;&lt;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37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EAD9C47E-F7DA-4F86-8FDD-589F7C30626C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 rot="949200">
            <a:off x="4267440" y="516240"/>
            <a:ext cx="340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ee6d2"/>
                </a:solidFill>
                <a:latin typeface="Calisto MT"/>
              </a:rPr>
              <a:t>Solution Ex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Without return valu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60195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1465c5"/>
                </a:solidFill>
                <a:latin typeface="Arial"/>
              </a:rPr>
              <a:t>Void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  number_type ( </a:t>
            </a:r>
            <a:r>
              <a:rPr b="0" lang="en-GB" sz="1700" spc="-1" strike="noStrike">
                <a:solidFill>
                  <a:srgbClr val="1466c5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 x)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Arial"/>
              </a:rPr>
              <a:t>if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 ( x &gt; 0 )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cout &lt;&lt; x &lt;&lt; “ is positive.” &lt;&lt; 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Arial"/>
              </a:rPr>
              <a:t>else if 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( x &lt; 0 )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cout &lt;&lt; x &lt;&lt; “ is negative.” &lt;&lt; 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Arial"/>
              </a:rPr>
              <a:t>else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cout&lt;&lt; x &lt;&lt; “is a zero.”&lt;&lt;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……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.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Number_type( 5 )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………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. 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38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C9D9052C-169D-4AD1-9A85-3F520BCBFCBE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7"/>
          <p:cNvSpPr/>
          <p:nvPr/>
        </p:nvSpPr>
        <p:spPr>
          <a:xfrm rot="949200">
            <a:off x="4524120" y="461160"/>
            <a:ext cx="340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ee6d2"/>
                </a:solidFill>
                <a:latin typeface="Calisto MT"/>
              </a:rPr>
              <a:t>Solution Ex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54741860-9517-4FE6-A0F9-DAB84933F84E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  <a:ea typeface="msmincho"/>
              </a:rPr>
              <a:t>Structured Programming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182" name="Content Placeholder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EAE-B943-4BCA-BC21-EB4512B7FD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CFA70FDA-D460-49B6-A2A6-107116366593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ffffff"/>
                </a:solidFill>
                <a:latin typeface="Calisto MT"/>
                <a:ea typeface="msmincho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228600" y="1905120"/>
            <a:ext cx="937224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lvl="1" marL="911160" indent="-51120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Calisto MT"/>
              <a:buAutoNum type="arabicPeriod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900" spc="-1" strike="noStrike">
                <a:solidFill>
                  <a:srgbClr val="595959"/>
                </a:solidFill>
                <a:latin typeface="Calisto MT"/>
                <a:ea typeface="msmincho"/>
              </a:rPr>
              <a:t>Identify components called </a:t>
            </a:r>
            <a:r>
              <a:rPr b="1" lang="en-GB" sz="2900" spc="-1" strike="noStrike">
                <a:solidFill>
                  <a:srgbClr val="595959"/>
                </a:solidFill>
                <a:latin typeface="Calisto MT"/>
                <a:ea typeface="msmincho"/>
              </a:rPr>
              <a:t>objects</a:t>
            </a:r>
            <a:r>
              <a:rPr b="0" lang="en-GB" sz="2900" spc="-1" strike="noStrike">
                <a:solidFill>
                  <a:srgbClr val="595959"/>
                </a:solidFill>
                <a:latin typeface="Calisto MT"/>
                <a:ea typeface="msmincho"/>
              </a:rPr>
              <a:t>, which form the basis of the solution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lvl="2" marL="1029240" indent="-3470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160" spc="-1" strike="noStrike">
                <a:solidFill>
                  <a:srgbClr val="595959"/>
                </a:solidFill>
                <a:latin typeface="Calisto MT"/>
                <a:ea typeface="msmincho"/>
              </a:rPr>
              <a:t>Ex.: Suppose you want to write a program that automates the book rental process for a local book store. </a:t>
            </a:r>
            <a:endParaRPr b="0" lang="en-US" sz="2160" spc="-1" strike="noStrike">
              <a:solidFill>
                <a:srgbClr val="595959"/>
              </a:solidFill>
              <a:latin typeface="Calisto MT"/>
            </a:endParaRPr>
          </a:p>
          <a:p>
            <a:pPr marL="34092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The two main objects in this problem are</a:t>
            </a:r>
            <a:r>
              <a:rPr b="1" lang="en-GB" sz="2200" spc="-1" strike="noStrike">
                <a:solidFill>
                  <a:srgbClr val="1465c5"/>
                </a:solidFill>
                <a:latin typeface="Calisto MT"/>
                <a:ea typeface="msmincho"/>
              </a:rPr>
              <a:t> book </a:t>
            </a: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and</a:t>
            </a:r>
            <a:r>
              <a:rPr b="1" lang="en-GB" sz="2200" spc="-1" strike="noStrike">
                <a:solidFill>
                  <a:srgbClr val="1466c5"/>
                </a:solidFill>
                <a:latin typeface="Calisto MT"/>
                <a:ea typeface="msmincho"/>
              </a:rPr>
              <a:t> customer</a:t>
            </a: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125856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700" spc="-1" strike="noStrike">
                <a:solidFill>
                  <a:srgbClr val="595959"/>
                </a:solidFill>
                <a:latin typeface="Calisto MT"/>
                <a:ea typeface="msmincho"/>
              </a:rPr>
              <a:t> </a:t>
            </a:r>
            <a:endParaRPr b="0" lang="en-US" sz="2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267-2638-447A-9BE3-61A61674D4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3C1815E5-1B42-4E55-AAD2-857BC42B817E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ffffff"/>
                </a:solidFill>
                <a:latin typeface="Calisto MT"/>
                <a:ea typeface="msmincho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364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831960" indent="-46656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Calisto MT"/>
              <a:buAutoNum type="arabicPeriod" startAt="2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900" spc="-1" strike="noStrike">
                <a:solidFill>
                  <a:srgbClr val="595959"/>
                </a:solidFill>
                <a:latin typeface="Calisto MT"/>
                <a:ea typeface="msmincho"/>
              </a:rPr>
              <a:t>Determine how these objects interact with one another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7452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  <a:ea typeface="msmincho"/>
              </a:rPr>
              <a:t>    </a:t>
            </a:r>
            <a:r>
              <a:rPr b="0" lang="en-GB" sz="2000" spc="-1" strike="noStrike">
                <a:solidFill>
                  <a:srgbClr val="595959"/>
                </a:solidFill>
                <a:latin typeface="Calisto MT"/>
                <a:ea typeface="msmincho"/>
              </a:rPr>
              <a:t>Specify for each object: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852840" indent="-46656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Relevant data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9168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Ex: title, author, publisher, retail cost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852840" indent="-46656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Operations to be performed on that data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114696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Ex: Checking the title of the book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82980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184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4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4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40" spc="-1" strike="noStrike">
                <a:solidFill>
                  <a:srgbClr val="595959"/>
                </a:solidFill>
                <a:latin typeface="Calisto MT"/>
                <a:ea typeface="msmincho"/>
              </a:rPr>
              <a:t>Reducing the number of copies in stock by one after a copy is rented.</a:t>
            </a:r>
            <a:endParaRPr b="0" lang="en-US" sz="1840" spc="-1" strike="noStrike">
              <a:solidFill>
                <a:srgbClr val="595959"/>
              </a:solidFill>
              <a:latin typeface="Calisto MT"/>
            </a:endParaRPr>
          </a:p>
          <a:p>
            <a:pPr marL="114912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700" spc="-1" strike="noStrike">
                <a:solidFill>
                  <a:srgbClr val="595959"/>
                </a:solidFill>
                <a:latin typeface="Calisto MT"/>
                <a:ea typeface="msmincho"/>
              </a:rPr>
              <a:t> </a:t>
            </a:r>
            <a:endParaRPr b="0" lang="en-US" sz="2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DF7-D7BB-4EDF-9CAB-8F6491C1D3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Calisto MT"/>
                <a:ea typeface="msmincho"/>
              </a:rPr>
              <a:t>Object-Oriented Programming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686440" cy="38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This illustrates that each object consists of data and operations on that data.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 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An </a:t>
            </a:r>
            <a:r>
              <a:rPr b="1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object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 combines </a:t>
            </a:r>
            <a:r>
              <a:rPr b="1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data 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and </a:t>
            </a:r>
            <a:r>
              <a:rPr b="1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operations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 on the data into a single unit.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In OOD, the final program is a collection of interacting objects.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82B-41EF-4F9C-929C-B1472C2341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34F2DB58-7D6E-45DB-9882-26709AA881B8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sto MT"/>
              </a:rPr>
              <a:t>OO Featur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8152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Allow you to organize your program more effectively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By decomposing a problem into its essential parts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Each component becomes </a:t>
            </a:r>
            <a:r>
              <a:rPr b="0" i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a self contained 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object that contains its own instructions and data related to that object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All object oriented programming languages have three things in common: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encapsulation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polymorphism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Inheritance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Through this process, </a:t>
            </a:r>
            <a:r>
              <a:rPr b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complexity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 is reduced and you can manage larger programs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55D-651D-4065-9F18-A41C02CFE8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3E82FE37-BB38-4986-BCE1-C2517EE8E3A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EB67F8B9-41C9-4BCD-B1EA-1C181E3A3A23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47981E4D-BA02-48CB-9A0E-C240786B5E59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Genesis.thmx</Template>
  <TotalTime>425</TotalTime>
  <Application>LibreOffice/7.4.7.2$Linux_X86_64 LibreOffice_project/40$Build-2</Application>
  <AppVersion>15.0000</AppVersion>
  <Words>1696</Words>
  <Paragraphs>3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8:31:05Z</dcterms:created>
  <dc:creator>ALjaffan</dc:creator>
  <dc:description/>
  <dc:language>en-US</dc:language>
  <cp:lastModifiedBy>Mac</cp:lastModifiedBy>
  <dcterms:modified xsi:type="dcterms:W3CDTF">2013-02-04T18:57:01Z</dcterms:modified>
  <cp:revision>80</cp:revision>
  <dc:subject/>
  <dc:title>CSC1201: Programming Languag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31</vt:r8>
  </property>
  <property fmtid="{D5CDD505-2E9C-101B-9397-08002B2CF9AE}" pid="4" name="PresentationFormat">
    <vt:lpwstr>On-screen Show (4:3)</vt:lpwstr>
  </property>
  <property fmtid="{D5CDD505-2E9C-101B-9397-08002B2CF9AE}" pid="5" name="Slides">
    <vt:r8>44</vt:r8>
  </property>
</Properties>
</file>