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E1C577-A99A-431D-B0DD-BA1CF0977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BB3-0246-4D19-B612-CB36D71B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802-50EC-4D6C-96BC-EB3F6FED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A6B-A266-489B-86E2-102BB040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00E-D211-4906-8220-8055403C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E917-E2CD-49BE-B43A-55076DAC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D469-D6F8-422B-87EA-0D75AC5F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131D-195D-4189-8BF5-FA9634E2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5597-4CD3-45ED-B7C1-FEA1FEFE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0048-D7E4-4526-8263-6D54EE42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5627-112C-427B-8D39-C306BD92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A916-00F7-4854-9DB9-97BF8F23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804-C468-4375-92F0-9D365EB2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140E-11C1-48B4-9A3A-94B5F995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6919-7911-4F97-B72B-BF920EB0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942A-079E-4603-A33D-C878005B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6966-5153-467C-B394-190EBD23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8201-3EF3-4C47-B8C1-A64785B6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0973-291C-4FA1-BC01-4A8C546F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D830-A607-4D32-AC8C-AFFB6B7D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E8C7-0204-4766-BE2F-DC818C5A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1033-BF20-4B2B-9278-FD08C197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298F-EBD1-40EC-B103-C8ADB572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FC1-27CB-4DD4-A75C-4892B075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13B0-F1BE-460E-B5A9-EEB91737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D3681-2A76-46F1-A3B0-19954F05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16CF-CDBD-48C4-A185-F18F0675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2846-942D-4BBC-9813-7BC6B659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CDBA4-A0AB-4BD6-AAC6-0C7FBABD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8458-F36D-4945-993D-1B180B24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95D0-06AE-4561-B15F-11DF4ABE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11240-3034-4533-85F8-306CE934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12212-D81C-4B80-81A4-4FF1B6FE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1C15-F43A-47DF-9305-6D3C4B7D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9A2-0A45-447F-813D-FCCFF021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51813-EBFA-4C11-BB36-E9232DC8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9A166-BA8B-4A97-B8F2-BFBF52A7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B98BC-B3DE-44EB-B546-37C5CC47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92BB0-D8EF-478C-BD7A-CDD3D79A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3683-BEE6-4938-B11D-0F4B4107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255E-06B3-423E-B0CC-3FB4557B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A2444-6D6B-4FFB-A203-BF6D77F9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AEE7E-7971-4BDE-95E4-5F7CC8C6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D177-192F-4A16-B848-7E22CD37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3BA-A1B1-4615-9B1B-BB9FA9AA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0A2-6B20-4F44-8C4A-5F235A13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55F-C0A9-4946-84ED-957B2F87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677-35D3-45F0-9F5E-166D5919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99E-736B-4FD4-A000-F24258A1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C5F14F1-C81D-41C0-A8BB-F707C568B1E9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lick to edit Master text styl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7238880" y="6356520"/>
            <a:ext cx="1445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9118F51-6DAA-4731-B90B-9D55C0C3F514}" type="slidenum">
              <a:rPr b="1" lang="en-GB" sz="11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322480" y="5804640"/>
            <a:ext cx="307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chemeClr val="accent1"/>
                </a:solidFill>
                <a:latin typeface="Wingding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2568240"/>
            <a:ext cx="8227800" cy="346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043A0D-7FF0-401F-92B7-9D9793A69AB7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9B85A15-54CF-4422-A52E-8E65B7E29D76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sto MT"/>
              </a:rPr>
              <a:t>CSC1201: Programming Language 2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rmAutofit/>
          </a:bodyPr>
          <a:p>
            <a:pPr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Aseel Al Hadlaq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de-DE" sz="2200" spc="-1" strike="noStrike">
                <a:solidFill>
                  <a:srgbClr val="595959"/>
                </a:solidFill>
                <a:latin typeface="Times New Roman"/>
              </a:rPr>
              <a:t>2nd</a:t>
            </a: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 Term 2012-2013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A5B-C018-4132-88A8-53546F326F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C++ 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4993-8D10-44CD-A57A-BBCEC09682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C++ 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8686440" cy="373356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C++ is platform independent so programs can be created on any operating syste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You can quickly create complex applications by using a modern C++ Integrated Development Environment (IDE), such as Microsoft’s Visual C++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ADA-A95C-4A3E-827F-152A94DE92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C++ 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770200"/>
            <a:ext cx="8381520" cy="326664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Features were added to the original C language to produce what is called “C with classes”.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These classes define programming objects with specific features that transform the procedural nature of C into the object-oriented programming language of C++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162-0ACA-49BF-BF4A-E3CC48E378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First C++ Program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2770200"/>
            <a:ext cx="861012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A program can contain one or many functions</a:t>
            </a:r>
            <a:endParaRPr b="0" lang="en-US" sz="2360" spc="-1" strike="noStrike">
              <a:solidFill>
                <a:srgbClr val="595959"/>
              </a:solidFill>
              <a:latin typeface="Calisto MT"/>
            </a:endParaRPr>
          </a:p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Must always have a function called “main”.</a:t>
            </a:r>
            <a:endParaRPr b="0" lang="en-US" sz="2360" spc="-1" strike="noStrike">
              <a:solidFill>
                <a:srgbClr val="595959"/>
              </a:solidFill>
              <a:latin typeface="Calisto MT"/>
            </a:endParaRPr>
          </a:p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The main function is the starting point of all C++ programs</a:t>
            </a:r>
            <a:endParaRPr b="0" lang="en-US" sz="2360" spc="-1" strike="noStrike">
              <a:solidFill>
                <a:srgbClr val="595959"/>
              </a:solidFill>
              <a:latin typeface="Calisto MT"/>
            </a:endParaRPr>
          </a:p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The compiler will not compile the code unless it finds a function called “main” within the program.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Calisto MT"/>
              </a:rPr>
              <a:t>Function declaration: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sto MT"/>
              </a:rPr>
              <a:t>FuncType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</a:rPr>
              <a:t> FuncName(</a:t>
            </a:r>
            <a:r>
              <a:rPr b="0" lang="en-GB" sz="1800" spc="-1" strike="noStrike">
                <a:solidFill>
                  <a:srgbClr val="ff0000"/>
                </a:solidFill>
                <a:latin typeface="Calisto MT"/>
              </a:rPr>
              <a:t>Typ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arg1, </a:t>
            </a:r>
            <a:r>
              <a:rPr b="0" lang="en-GB" sz="1800" spc="-1" strike="noStrike">
                <a:solidFill>
                  <a:srgbClr val="ff0000"/>
                </a:solidFill>
                <a:latin typeface="Calisto MT"/>
              </a:rPr>
              <a:t>Typ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arg2, </a:t>
            </a:r>
            <a:r>
              <a:rPr b="0" lang="en-GB" sz="1800" spc="-1" strike="noStrike">
                <a:solidFill>
                  <a:srgbClr val="ff0000"/>
                </a:solidFill>
                <a:latin typeface="Calisto MT"/>
              </a:rPr>
              <a:t>Typ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argN)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sto MT"/>
              </a:rPr>
              <a:t>{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</a:rPr>
              <a:t> function body </a:t>
            </a:r>
            <a:r>
              <a:rPr b="0" lang="en-GB" sz="2400" spc="-1" strike="noStrike">
                <a:solidFill>
                  <a:srgbClr val="ff0000"/>
                </a:solidFill>
                <a:latin typeface="Calisto MT"/>
              </a:rPr>
              <a:t>}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C4191243-846C-4D0E-B39D-950A2D48BF5A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3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Hello World” program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86888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#include &lt;iostream&gt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using namespace std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int main ()</a:t>
            </a:r>
            <a:r>
              <a:rPr b="1" lang="x-none" sz="1400" spc="-1" strike="noStrike">
                <a:solidFill>
                  <a:srgbClr val="595959"/>
                </a:solidFill>
                <a:latin typeface="Calisto MT"/>
              </a:rPr>
              <a:t>‏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{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4251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cout &lt;&lt; “Hello World\n”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4251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Return 0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} </a:t>
            </a: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include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information from standard input/output library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iostream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. 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The instruction is more properly called a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“pre-processor”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instruction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The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#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hash character starts the line to denote a pre-processor instruction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Library name must be enclosed by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&lt;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 and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&gt;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 angled brackets. 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7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D46AC4EC-D073-40BC-A3F4-601BAA9F8DD9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Hello World” program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5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he second line of the program makes all the functions within the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iostream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 library available for use by their standard names, which are in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the namespace std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One of these is a function named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cout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 that is used to write the output from a progra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In the function declaration the data type is specified as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 int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, meaning integer. This means that after executing its statements this function must return an integer value to the operating syste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he braces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{ } 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contain the statements to be executed by the progra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he final statement in the main function return a value of zero to the operating system to indicate that the program executed correctly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468CBEEC-07BD-4200-BDE2-2049ED03D39D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Data typ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9B7D-A224-4D97-B642-282798F97B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Data Typ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DC9643E8-BC41-4150-81E5-B62A864BCFEF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0" descr="c_plus_data_types1.png"/>
          <p:cNvPicPr/>
          <p:nvPr/>
        </p:nvPicPr>
        <p:blipFill>
          <a:blip r:embed="rId1"/>
          <a:stretch/>
        </p:blipFill>
        <p:spPr>
          <a:xfrm>
            <a:off x="762120" y="2743200"/>
            <a:ext cx="7695720" cy="33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Keyword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6095880"/>
            <a:ext cx="82278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595959"/>
              </a:buClr>
              <a:buSzPct val="90000"/>
              <a:buFont typeface="Wingdings" charset="2"/>
              <a:buChar char=""/>
            </a:pPr>
            <a:r>
              <a:rPr b="0" lang="en-US" sz="1700" spc="-1" strike="noStrike">
                <a:solidFill>
                  <a:srgbClr val="595959"/>
                </a:solidFill>
                <a:latin typeface="Calisto MT"/>
              </a:rPr>
              <a:t>They cannot be used as variables or other user-defined elements like functions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20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67671804-DA82-421F-90FF-C7B3FDF6840D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8" descr="Screen shot 2013-02-02 at 10.38.16 PM.png"/>
          <p:cNvPicPr/>
          <p:nvPr/>
        </p:nvPicPr>
        <p:blipFill>
          <a:blip r:embed="rId1"/>
          <a:stretch/>
        </p:blipFill>
        <p:spPr>
          <a:xfrm>
            <a:off x="457200" y="2514600"/>
            <a:ext cx="1485720" cy="2488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creen shot 2013-02-02 at 10.39.02 PM.png"/>
          <p:cNvPicPr/>
          <p:nvPr/>
        </p:nvPicPr>
        <p:blipFill>
          <a:blip r:embed="rId2"/>
          <a:stretch/>
        </p:blipFill>
        <p:spPr>
          <a:xfrm>
            <a:off x="1828800" y="2514600"/>
            <a:ext cx="1790280" cy="326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Screen shot 2013-02-02 at 10.39.14 PM.png"/>
          <p:cNvPicPr/>
          <p:nvPr/>
        </p:nvPicPr>
        <p:blipFill>
          <a:blip r:embed="rId3"/>
          <a:stretch/>
        </p:blipFill>
        <p:spPr>
          <a:xfrm>
            <a:off x="3098880" y="2565360"/>
            <a:ext cx="1625400" cy="3606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Screen shot 2013-02-02 at 10.39.46 PM.png"/>
          <p:cNvPicPr/>
          <p:nvPr/>
        </p:nvPicPr>
        <p:blipFill>
          <a:blip r:embed="rId4"/>
          <a:stretch/>
        </p:blipFill>
        <p:spPr>
          <a:xfrm>
            <a:off x="4546440" y="2590920"/>
            <a:ext cx="1168200" cy="1968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Screen shot 2013-02-02 at 10.39.55 PM.png"/>
          <p:cNvPicPr/>
          <p:nvPr/>
        </p:nvPicPr>
        <p:blipFill>
          <a:blip r:embed="rId5"/>
          <a:stretch/>
        </p:blipFill>
        <p:spPr>
          <a:xfrm>
            <a:off x="5867280" y="2552760"/>
            <a:ext cx="13204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scape Sequenc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889AD85C-A7C3-4C88-8EF6-A7D1FC27FF5B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8" descr="Screen shot 2013-02-02 at 10.51.23 PM.png"/>
          <p:cNvPicPr/>
          <p:nvPr/>
        </p:nvPicPr>
        <p:blipFill>
          <a:blip r:embed="rId1"/>
          <a:stretch/>
        </p:blipFill>
        <p:spPr>
          <a:xfrm>
            <a:off x="838080" y="3581280"/>
            <a:ext cx="6997320" cy="20062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>
            <a:off x="838080" y="2666880"/>
            <a:ext cx="6933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e name reflects the fact that the backslash causes an “escape” from the normal way the character is interpre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Objectiv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Programming languages Overview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C++ Overview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Data Typ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Control Statement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Functio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0E5-18DA-42F1-9248-FEBA57F360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Calisto MT"/>
              </a:rPr>
              <a:t>Declaring and Initializing Variables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66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o declare variables for exampl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int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first, second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char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ch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double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x;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bool </a:t>
            </a:r>
            <a:r>
              <a:rPr b="0" lang="en-US" sz="1700" spc="-1" strike="noStrike">
                <a:solidFill>
                  <a:srgbClr val="002060"/>
                </a:solidFill>
                <a:latin typeface="Calisto MT"/>
              </a:rPr>
              <a:t>flag</a:t>
            </a: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o declare and initialize variables for exampl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int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first = 13,  second = 10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char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ch = ‘A’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double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x = 12.6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bool </a:t>
            </a:r>
            <a:r>
              <a:rPr b="0" lang="en-US" sz="1700" spc="-1" strike="noStrike">
                <a:solidFill>
                  <a:srgbClr val="002060"/>
                </a:solidFill>
                <a:latin typeface="Calisto MT"/>
              </a:rPr>
              <a:t>flag</a:t>
            </a:r>
            <a:r>
              <a:rPr b="0" lang="en-GB" sz="1700" spc="-1" strike="noStrike">
                <a:solidFill>
                  <a:srgbClr val="002060"/>
                </a:solidFill>
                <a:latin typeface="Calisto MT"/>
              </a:rPr>
              <a:t> 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= true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2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F44D6330-7E76-44DA-B860-AC2EADEDCCC0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Input (Read)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he syntax of </a:t>
            </a:r>
            <a:r>
              <a:rPr b="0" lang="en-GB" sz="2200" spc="-1" strike="noStrike">
                <a:solidFill>
                  <a:schemeClr val="accent5">
                    <a:lumMod val="75000"/>
                  </a:schemeClr>
                </a:solidFill>
                <a:latin typeface="Calisto MT"/>
              </a:rPr>
              <a:t>cin </a:t>
            </a: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ogether with &gt;&gt; is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sto MT"/>
              </a:rPr>
              <a:t>cin &gt;&gt; </a:t>
            </a:r>
            <a:r>
              <a:rPr b="1" lang="en-GB" sz="2800" spc="-1" strike="noStrike">
                <a:solidFill>
                  <a:srgbClr val="0070c0"/>
                </a:solidFill>
                <a:latin typeface="Calisto MT"/>
              </a:rPr>
              <a:t>variable&gt;&gt; variable</a:t>
            </a:r>
            <a:r>
              <a:rPr b="1" lang="en-GB" sz="2800" spc="-1" strike="noStrike">
                <a:solidFill>
                  <a:schemeClr val="accent1">
                    <a:lumMod val="50000"/>
                  </a:schemeClr>
                </a:solidFill>
                <a:latin typeface="Calisto MT"/>
              </a:rPr>
              <a:t>;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27C72E46-2CC9-4A25-A465-B62483E0F248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Outpu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he syntax of cout together with &lt;&lt; is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5000" indent="-3150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1" lang="en-GB" sz="2200" spc="-1" strike="noStrike">
                <a:solidFill>
                  <a:srgbClr val="ff0000"/>
                </a:solidFill>
                <a:latin typeface="Calisto MT"/>
              </a:rPr>
              <a:t>cout &lt;&lt; </a:t>
            </a:r>
            <a:r>
              <a:rPr b="1" lang="en-GB" sz="2200" spc="-1" strike="noStrike">
                <a:solidFill>
                  <a:srgbClr val="0070c0"/>
                </a:solidFill>
                <a:latin typeface="Calisto MT"/>
              </a:rPr>
              <a:t>expression or manipulator </a:t>
            </a:r>
            <a:r>
              <a:rPr b="1" lang="en-GB" sz="2200" spc="-1" strike="noStrike">
                <a:solidFill>
                  <a:schemeClr val="accent1">
                    <a:lumMod val="50000"/>
                  </a:schemeClr>
                </a:solidFill>
                <a:latin typeface="Calisto MT"/>
              </a:rPr>
              <a:t>&lt;&lt;</a:t>
            </a:r>
            <a:r>
              <a:rPr b="1" lang="en-GB" sz="2200" spc="-1" strike="noStrike">
                <a:solidFill>
                  <a:srgbClr val="ff0000"/>
                </a:solidFill>
                <a:latin typeface="Calisto MT"/>
              </a:rPr>
              <a:t> </a:t>
            </a:r>
            <a:r>
              <a:rPr b="1" lang="en-GB" sz="2200" spc="-1" strike="noStrike">
                <a:solidFill>
                  <a:srgbClr val="0070c0"/>
                </a:solidFill>
                <a:latin typeface="Calisto MT"/>
              </a:rPr>
              <a:t>expression or manipulator </a:t>
            </a:r>
            <a:r>
              <a:rPr b="1" lang="en-GB" sz="2200" spc="-1" strike="noStrike">
                <a:solidFill>
                  <a:schemeClr val="accent1">
                    <a:lumMod val="50000"/>
                  </a:schemeClr>
                </a:solidFill>
                <a:latin typeface="Calisto MT"/>
              </a:rPr>
              <a:t>……….;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262440" indent="-26244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he expression is evaluated and its value is printed at the current insertion point on the output devic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262440" indent="-26244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A manipulator is used to format the output. The simplest manipulator  is endl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C3E57B81-456E-4425-AA54-04EB8C072F2F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2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xamp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40" name="Content Placeholder 5" descr="Screen shot 2013-02-02 at 11.01.51 PM.png"/>
          <p:cNvPicPr/>
          <p:nvPr/>
        </p:nvPicPr>
        <p:blipFill>
          <a:blip r:embed="rId1"/>
          <a:stretch/>
        </p:blipFill>
        <p:spPr>
          <a:xfrm>
            <a:off x="1066680" y="2432520"/>
            <a:ext cx="7162560" cy="373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6E8-4C37-48E5-9F44-9214463BDF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Working with String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6260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The C++ &lt;string&gt; class provides methods to manipulate strings of text.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This is an example of Declaring and initializing  a string variable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#include &lt;string&gt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#include &lt;iostream&gt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using namespace std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int main( )</a:t>
            </a:r>
            <a:r>
              <a:rPr b="0" lang="x-none" sz="1400" spc="-1" strike="noStrike">
                <a:solidFill>
                  <a:srgbClr val="595959"/>
                </a:solidFill>
                <a:latin typeface="Calisto MT"/>
              </a:rPr>
              <a:t>‏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{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  </a:t>
            </a: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string str = "C++ is fun”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}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671A010E-B220-473B-BA59-45F2B4EEE8DB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ontrol Statement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uf Aljaffan (C) 2012 - CSC 1201 Course at K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5659-3F6A-4451-A3BD-1A5660952A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If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47" name="Content Placeholder 8" descr="Screen shot 2013-02-02 at 11.17.07 PM.png"/>
          <p:cNvPicPr/>
          <p:nvPr/>
        </p:nvPicPr>
        <p:blipFill>
          <a:blip r:embed="rId1"/>
          <a:stretch/>
        </p:blipFill>
        <p:spPr>
          <a:xfrm>
            <a:off x="4356000" y="2438280"/>
            <a:ext cx="4559040" cy="3568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 type="sldNum" idx="2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A6D70937-DCD3-4EB3-A99D-7565E513E9BF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7" descr="Screen shot 2013-02-02 at 11.17.21 PM.png"/>
          <p:cNvPicPr/>
          <p:nvPr/>
        </p:nvPicPr>
        <p:blipFill>
          <a:blip r:embed="rId2"/>
          <a:stretch/>
        </p:blipFill>
        <p:spPr>
          <a:xfrm>
            <a:off x="254160" y="2489040"/>
            <a:ext cx="363168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If .. Else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51" name="Content Placeholder 5" descr="Screen shot 2013-02-02 at 11.17.38 PM.png"/>
          <p:cNvPicPr/>
          <p:nvPr/>
        </p:nvPicPr>
        <p:blipFill>
          <a:blip r:embed="rId1"/>
          <a:stretch/>
        </p:blipFill>
        <p:spPr>
          <a:xfrm>
            <a:off x="5334120" y="2514600"/>
            <a:ext cx="3352320" cy="3941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Screen shot 2013-02-02 at 11.17.49 PM.png"/>
          <p:cNvPicPr/>
          <p:nvPr/>
        </p:nvPicPr>
        <p:blipFill>
          <a:blip r:embed="rId2"/>
          <a:stretch/>
        </p:blipFill>
        <p:spPr>
          <a:xfrm>
            <a:off x="380880" y="2590920"/>
            <a:ext cx="3250800" cy="36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4D3-2BB4-4127-9929-40B5883C8C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 : If..else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54" name="Content Placeholder 5" descr="Screen shot 2013-02-02 at 11.14.45 PM.png"/>
          <p:cNvPicPr/>
          <p:nvPr/>
        </p:nvPicPr>
        <p:blipFill>
          <a:blip r:embed="rId1"/>
          <a:stretch/>
        </p:blipFill>
        <p:spPr>
          <a:xfrm>
            <a:off x="914400" y="2686680"/>
            <a:ext cx="7467120" cy="3485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DCBAF5E3-8574-4024-AF64-7311B166397F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Switch Struc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28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3B2872B1-8B4E-4203-89CD-A1C1B847CE61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Screen shot 2013-02-02 at 11.24.42 PM.png"/>
          <p:cNvPicPr/>
          <p:nvPr/>
        </p:nvPicPr>
        <p:blipFill>
          <a:blip r:embed="rId1"/>
          <a:stretch/>
        </p:blipFill>
        <p:spPr>
          <a:xfrm>
            <a:off x="609480" y="380880"/>
            <a:ext cx="5714640" cy="59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66290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Programming Languages Overview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2ED8-47F0-486F-8290-6BE7221661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Switch Struc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A0DB81BE-8B42-47E2-8211-927101DB91FB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Screen shot 2013-02-02 at 11.24.22 PM.png"/>
          <p:cNvPicPr/>
          <p:nvPr/>
        </p:nvPicPr>
        <p:blipFill>
          <a:blip r:embed="rId1"/>
          <a:stretch/>
        </p:blipFill>
        <p:spPr>
          <a:xfrm>
            <a:off x="1219320" y="120600"/>
            <a:ext cx="477468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609480" y="152280"/>
            <a:ext cx="78483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d0d0d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Switch Struc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0240" y="1295280"/>
            <a:ext cx="824760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000" spc="-1" strike="noStrike">
                <a:solidFill>
                  <a:srgbClr val="0d0d0d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30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1C01846E-134A-420B-8E95-604BBF9EA421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457200" y="1943640"/>
            <a:ext cx="6400800" cy="4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har let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Enter any  a-z character: 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in &gt;&gt; let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switch(let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a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a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b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b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c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c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default : cout &lt;&lt; "Letter is not a, b or c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return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For Loop Structur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8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Lucida Grande"/>
              <a:buChar char=" "/>
            </a:pPr>
            <a:r>
              <a:rPr b="0" lang="en-US" sz="1700" spc="-1" strike="noStrike">
                <a:solidFill>
                  <a:srgbClr val="000000"/>
                </a:solidFill>
                <a:latin typeface="LM Mono 10 Regular"/>
                <a:ea typeface="LM Mono 10 Regular"/>
              </a:rPr>
              <a:t>The </a:t>
            </a:r>
            <a:r>
              <a:rPr b="0" lang="en-US" sz="1700" spc="-1" strike="noStrike">
                <a:solidFill>
                  <a:srgbClr val="ff0000"/>
                </a:solidFill>
                <a:latin typeface="LM Mono 10 Regular"/>
                <a:ea typeface="LM Mono 10 Regular"/>
              </a:rPr>
              <a:t>for</a:t>
            </a:r>
            <a:r>
              <a:rPr b="0" lang="en-US" sz="1700" spc="-1" strike="noStrike">
                <a:solidFill>
                  <a:srgbClr val="000000"/>
                </a:solidFill>
                <a:latin typeface="LM Mono 10 Regular"/>
                <a:ea typeface="LM Mono 10 Regular"/>
              </a:rPr>
              <a:t> loop execute part of the code a fixed number of times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31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22425BAD-0680-428B-92B4-B972AEBA4C78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Screen shot 2013-02-03 at 10.41.10 AM.png"/>
          <p:cNvPicPr/>
          <p:nvPr/>
        </p:nvPicPr>
        <p:blipFill>
          <a:blip r:embed="rId1"/>
          <a:stretch/>
        </p:blipFill>
        <p:spPr>
          <a:xfrm>
            <a:off x="533520" y="1295280"/>
            <a:ext cx="579096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For Loop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01956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#</a:t>
            </a: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include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 &lt;iostream&gt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using namespace 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std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int 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main()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{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int 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i,num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cout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&lt;&lt;"enter any number: "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cin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&gt;&gt;num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for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 ( i=1 ; i&lt;=10 ; i++ )</a:t>
            </a:r>
            <a:r>
              <a:rPr b="1" lang="x-none" sz="1600" spc="-1" strike="noStrike">
                <a:solidFill>
                  <a:srgbClr val="0d0d0d"/>
                </a:solidFill>
                <a:latin typeface="Calisto MT"/>
              </a:rPr>
              <a:t>‏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{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cout 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&lt;&lt; endl &lt;&lt; num &lt;&lt; "*“ &lt;&lt; i &lt;&lt; "=“ &lt;&lt; num*i &lt;&lt; endl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}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return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 0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}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B85F-026E-429C-8192-4D2E9003B0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ffffff"/>
                </a:solidFill>
                <a:latin typeface="Calisto MT"/>
              </a:rPr>
              <a:t>While Loop Structure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45B076F8-84D4-4B11-9BA8-E94329BCB242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6" descr="Screen shot 2013-02-03 at 10.56.35 AM.png"/>
          <p:cNvPicPr/>
          <p:nvPr/>
        </p:nvPicPr>
        <p:blipFill>
          <a:blip r:embed="rId1"/>
          <a:stretch/>
        </p:blipFill>
        <p:spPr>
          <a:xfrm>
            <a:off x="159840" y="533520"/>
            <a:ext cx="6613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 While loop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568240"/>
            <a:ext cx="8227800" cy="346860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281" name="Picture 7" descr="Screen shot 2013-02-03 at 11.02.00 AM.png"/>
          <p:cNvPicPr/>
          <p:nvPr/>
        </p:nvPicPr>
        <p:blipFill>
          <a:blip r:embed="rId1"/>
          <a:stretch/>
        </p:blipFill>
        <p:spPr>
          <a:xfrm>
            <a:off x="609480" y="2590920"/>
            <a:ext cx="8076960" cy="358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51BC-2EC8-449C-B70B-60110E190A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Relational Operators in C++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Num" idx="3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5844FB20-4004-4F19-BFFE-FCFD21D01D12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Content Placeholder 5" descr="Screen shot 2013-02-03 at 11.06.03 AM.png"/>
          <p:cNvPicPr/>
          <p:nvPr/>
        </p:nvPicPr>
        <p:blipFill>
          <a:blip r:embed="rId1"/>
          <a:stretch/>
        </p:blipFill>
        <p:spPr>
          <a:xfrm>
            <a:off x="752400" y="2666880"/>
            <a:ext cx="7095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Logical Operators in C++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ldNum" idx="34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71B1017C-6941-4AB6-9D4D-5F321CC632DB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Content Placeholder 8" descr="Screen shot 2013-02-03 at 11.07.58 AM.png"/>
          <p:cNvPicPr/>
          <p:nvPr/>
        </p:nvPicPr>
        <p:blipFill>
          <a:blip r:embed="rId1"/>
          <a:stretch/>
        </p:blipFill>
        <p:spPr>
          <a:xfrm>
            <a:off x="1193400" y="3048120"/>
            <a:ext cx="7111800" cy="23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uf Aljaffan (C) 2012 - CSC 1201 Course at K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462A-F606-4AD1-BA54-97D39A55EC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User Defined Function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361080" indent="-361080" algn="just">
              <a:lnSpc>
                <a:spcPct val="15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1" lang="en-GB" sz="3300" spc="-1" strike="noStrike">
                <a:solidFill>
                  <a:srgbClr val="595959"/>
                </a:solidFill>
                <a:latin typeface="Arial"/>
              </a:rPr>
              <a:t>Value returning functions:</a:t>
            </a:r>
            <a:r>
              <a:rPr b="0" lang="en-GB" sz="33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functions that have a return type. 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se functions return a value of a specific data type using the </a:t>
            </a:r>
            <a:r>
              <a:rPr b="1" lang="en-GB" sz="2900" spc="-1" strike="noStrike">
                <a:solidFill>
                  <a:srgbClr val="c00000"/>
                </a:solidFill>
                <a:latin typeface="Arial"/>
              </a:rPr>
              <a:t>return</a:t>
            </a:r>
            <a:r>
              <a:rPr b="0" lang="en-GB" sz="29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statement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86760" indent="0" algn="just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marL="361080" indent="-361080" algn="just">
              <a:lnSpc>
                <a:spcPct val="15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1" lang="en-GB" sz="3300" spc="-1" strike="noStrike">
                <a:solidFill>
                  <a:srgbClr val="595959"/>
                </a:solidFill>
                <a:latin typeface="Arial"/>
              </a:rPr>
              <a:t>Void functions:</a:t>
            </a:r>
            <a:r>
              <a:rPr b="0" lang="en-GB" sz="33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functions that do not have a return type. 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se functions do not use a return statement to return a value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867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35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63FC6E72-0957-4033-BC18-0B2DF10D61BE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AAE7E15F-8F61-4C63-B5B2-CF362C50B834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  <a:ea typeface="msmincho"/>
              </a:rPr>
              <a:t>Programming Methodologies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3300" spc="-1" strike="noStrike">
                <a:solidFill>
                  <a:srgbClr val="595959"/>
                </a:solidFill>
                <a:latin typeface="Calisto MT"/>
                <a:ea typeface="msmincho"/>
              </a:rPr>
              <a:t>Structured Programming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020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Ex: C, Pascal, Fortran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Calisto MT"/>
                <a:ea typeface="msmincho"/>
              </a:rPr>
              <a:t>Object-Oriented Programming(OOP)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Ex: C++, Java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3ED-B746-41DD-9FC6-1E270763B9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Function Syntax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295" name="Picture 6" descr="Screen shot 2013-02-03 at 11.41.32 AM.png"/>
          <p:cNvPicPr/>
          <p:nvPr/>
        </p:nvPicPr>
        <p:blipFill>
          <a:blip r:embed="rId1"/>
          <a:stretch/>
        </p:blipFill>
        <p:spPr>
          <a:xfrm>
            <a:off x="380880" y="0"/>
            <a:ext cx="6243120" cy="68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370E-F532-426E-907F-501528403E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s: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553320" indent="-4698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Calisto MT"/>
              <a:buAutoNum type="arabicPeriod"/>
            </a:pPr>
            <a:r>
              <a:rPr b="0" lang="en-GB" sz="2900" spc="-1" strike="noStrike">
                <a:solidFill>
                  <a:srgbClr val="595959"/>
                </a:solidFill>
                <a:latin typeface="Arial"/>
              </a:rPr>
              <a:t>Write a Function larger, which returns the larger of the two given integers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553320" indent="-4698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Calisto MT"/>
              <a:buAutoNum type="arabicPeriod"/>
            </a:pPr>
            <a:r>
              <a:rPr b="0" lang="en-GB" sz="2900" spc="-1" strike="noStrike">
                <a:solidFill>
                  <a:srgbClr val="595959"/>
                </a:solidFill>
                <a:latin typeface="Arial"/>
              </a:rPr>
              <a:t>Write a Function Square, which returns the square of the given integer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553320" indent="-4698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Calisto MT"/>
              <a:buAutoNum type="arabicPeriod"/>
            </a:pPr>
            <a:r>
              <a:rPr b="0" lang="en-GB" sz="2900" spc="-1" strike="noStrike">
                <a:solidFill>
                  <a:srgbClr val="595959"/>
                </a:solidFill>
                <a:latin typeface="Calisto MT"/>
              </a:rPr>
              <a:t>Write a function  number_type. The function should output the number and message saying whether the number is positive, negative, or zero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F8C-51DC-43C3-BF88-0C3591F5653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Example: With return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520560"/>
            <a:ext cx="6248160" cy="60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larger ( 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x , 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y )</a:t>
            </a:r>
            <a:r>
              <a:rPr b="0" lang="x-none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( x &gt;= y )</a:t>
            </a:r>
            <a:r>
              <a:rPr b="0" lang="x-none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x = x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else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x = y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……</a:t>
            </a: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..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Cout &lt;&lt; “The larger of 5 and 6 is “ &lt;&lt; larger(5 , 6) &lt;&lt; endl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………</a:t>
            </a: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3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A5B72A37-A3C3-4362-B82D-63CB1BBD3DFF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 rot="949200">
            <a:off x="4724640" y="537120"/>
            <a:ext cx="340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ee6d2"/>
                </a:solidFill>
                <a:latin typeface="Calisto MT"/>
              </a:rPr>
              <a:t>Solution Ex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With return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76320" y="216000"/>
            <a:ext cx="7162560" cy="60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x-none" sz="17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x*x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main ( )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7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7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17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37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D822C0A7-4EEB-461C-BC8A-0547E28BC982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 rot="949200">
            <a:off x="4267440" y="516240"/>
            <a:ext cx="340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ee6d2"/>
                </a:solidFill>
                <a:latin typeface="Calisto MT"/>
              </a:rPr>
              <a:t>Solution Ex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Without return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60195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1465c5"/>
                </a:solidFill>
                <a:latin typeface="Arial"/>
              </a:rPr>
              <a:t>Void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  number_type ( 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 x)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if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 ( x &gt; 0 )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cout &lt;&lt; x &lt;&lt; “ is positive.” &lt;&lt; 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else if 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( x &lt; 0 )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cout &lt;&lt; x &lt;&lt; “ is negative.” &lt;&lt; 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els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cout&lt;&lt; x &lt;&lt; “is a zero.”&lt;&lt;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……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.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Number_type( 5 )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………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. 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38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71689D83-9413-4DD0-B102-A42908A31BB7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7"/>
          <p:cNvSpPr/>
          <p:nvPr/>
        </p:nvSpPr>
        <p:spPr>
          <a:xfrm rot="949200">
            <a:off x="4524120" y="461160"/>
            <a:ext cx="340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ee6d2"/>
                </a:solidFill>
                <a:latin typeface="Calisto MT"/>
              </a:rPr>
              <a:t>Solution Ex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0C5B4302-9E72-4E10-AB63-FD880DE790C0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  <a:ea typeface="msmincho"/>
              </a:rPr>
              <a:t>Structured Programming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182" name="Content Placeholder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A54-2A29-4947-BDA7-0A60772455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FC48F79F-309D-4C71-A383-BD8122799BBC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Calisto MT"/>
                <a:ea typeface="msmincho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228600" y="1905120"/>
            <a:ext cx="937224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911160" indent="-511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Calisto MT"/>
              <a:buAutoNum type="arabicPeriod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Identify components called </a:t>
            </a:r>
            <a:r>
              <a:rPr b="1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objects</a:t>
            </a:r>
            <a:r>
              <a:rPr b="0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, which form the basis of the solution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lvl="2" marL="1029240" indent="-347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160" spc="-1" strike="noStrike">
                <a:solidFill>
                  <a:srgbClr val="595959"/>
                </a:solidFill>
                <a:latin typeface="Calisto MT"/>
                <a:ea typeface="msmincho"/>
              </a:rPr>
              <a:t>Ex.: Suppose you want to write a program that automates the book rental process for a local book store. </a:t>
            </a:r>
            <a:endParaRPr b="0" lang="en-US" sz="2160" spc="-1" strike="noStrike">
              <a:solidFill>
                <a:srgbClr val="595959"/>
              </a:solidFill>
              <a:latin typeface="Calisto MT"/>
            </a:endParaRPr>
          </a:p>
          <a:p>
            <a:pPr marL="34092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The two main objects in this problem are</a:t>
            </a:r>
            <a:r>
              <a:rPr b="1" lang="en-GB" sz="2200" spc="-1" strike="noStrike">
                <a:solidFill>
                  <a:srgbClr val="1465c5"/>
                </a:solidFill>
                <a:latin typeface="Calisto MT"/>
                <a:ea typeface="msmincho"/>
              </a:rPr>
              <a:t> book 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and</a:t>
            </a:r>
            <a:r>
              <a:rPr b="1" lang="en-GB" sz="2200" spc="-1" strike="noStrike">
                <a:solidFill>
                  <a:srgbClr val="1466c5"/>
                </a:solidFill>
                <a:latin typeface="Calisto MT"/>
                <a:ea typeface="msmincho"/>
              </a:rPr>
              <a:t> customer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125856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700" spc="-1" strike="noStrike">
                <a:solidFill>
                  <a:srgbClr val="595959"/>
                </a:solidFill>
                <a:latin typeface="Calisto MT"/>
                <a:ea typeface="msmincho"/>
              </a:rPr>
              <a:t> </a:t>
            </a:r>
            <a:endParaRPr b="0" lang="en-US" sz="2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60E-D0EE-4D0F-8355-40B423A284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29517A9E-E125-47E7-B773-D789E28A399B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Calisto MT"/>
                <a:ea typeface="msmincho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364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831960" indent="-46656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Calisto MT"/>
              <a:buAutoNum type="arabicPeriod" startAt="2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Determine how these objects interact with one another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7452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    </a:t>
            </a: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Specify for each object: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852840" indent="-46656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Relevant data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916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x: title, author, publisher, retail cost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852840" indent="-46656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Operations to be performed on that data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114696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x: Checking the title of the book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82980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Reducing the number of copies in stock by one after a copy is rented.</a:t>
            </a:r>
            <a:endParaRPr b="0" lang="en-US" sz="1840" spc="-1" strike="noStrike">
              <a:solidFill>
                <a:srgbClr val="595959"/>
              </a:solidFill>
              <a:latin typeface="Calisto MT"/>
            </a:endParaRPr>
          </a:p>
          <a:p>
            <a:pPr marL="114912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700" spc="-1" strike="noStrike">
                <a:solidFill>
                  <a:srgbClr val="595959"/>
                </a:solidFill>
                <a:latin typeface="Calisto MT"/>
                <a:ea typeface="msmincho"/>
              </a:rPr>
              <a:t> </a:t>
            </a:r>
            <a:endParaRPr b="0" lang="en-US" sz="2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5D2-F16F-4E93-B86B-979A516A54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Calisto MT"/>
                <a:ea typeface="msmincho"/>
              </a:rPr>
              <a:t>Object-Oriented Programming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686440" cy="38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This illustrates that each object consists of data and operations on that data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 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An </a:t>
            </a:r>
            <a:r>
              <a:rPr b="1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object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 combines </a:t>
            </a:r>
            <a:r>
              <a:rPr b="1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data 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and </a:t>
            </a:r>
            <a:r>
              <a:rPr b="1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operations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 on the data into a single unit.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In OOD, the final program is a collection of interacting objects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E81-CEE7-4403-8B78-E2538551DF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86229733-5C12-4537-8035-A8EB2EC94E60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sto MT"/>
              </a:rPr>
              <a:t>OO Fea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8152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Allow you to organize your program more effectively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By decomposing a problem into its essential parts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ach component becomes </a:t>
            </a:r>
            <a:r>
              <a:rPr b="0" i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a self contained 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object that contains its own instructions and data related to that object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All object oriented programming languages have three things in common: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ncapsulation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polymorphism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Inheritance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Through this process, </a:t>
            </a: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complexity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 is reduced and you can manage larger programs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0A6-4C49-4BC0-BCC6-80B0E089CE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3E82FE37-BB38-4986-BCE1-C2517EE8E3A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EB67F8B9-41C9-4BCD-B1EA-1C181E3A3A23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47981E4D-BA02-48CB-9A0E-C240786B5E59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Genesis.thmx</Template>
  <TotalTime>425</TotalTime>
  <Application>LibreOffice/7.4.7.2$Linux_X86_64 LibreOffice_project/40$Build-2</Application>
  <AppVersion>15.0000</AppVersion>
  <Words>1696</Words>
  <Paragraphs>3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8:31:05Z</dcterms:created>
  <dc:creator>ALjaffan</dc:creator>
  <dc:description/>
  <dc:language>en-US</dc:language>
  <cp:lastModifiedBy>Mac</cp:lastModifiedBy>
  <dcterms:modified xsi:type="dcterms:W3CDTF">2013-02-04T18:57:01Z</dcterms:modified>
  <cp:revision>80</cp:revision>
  <dc:subject/>
  <dc:title>CSC1201: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31</vt:r8>
  </property>
  <property fmtid="{D5CDD505-2E9C-101B-9397-08002B2CF9AE}" pid="4" name="PresentationFormat">
    <vt:lpwstr>On-screen Show (4:3)</vt:lpwstr>
  </property>
  <property fmtid="{D5CDD505-2E9C-101B-9397-08002B2CF9AE}" pid="5" name="Slides">
    <vt:r8>44</vt:r8>
  </property>
</Properties>
</file>