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E6964C-C36C-4375-BDA0-EBFB83910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8A6A28-4732-4DDE-9616-A7F7F8DC3242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x-non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EF8B5E-6FF4-4DB1-8A95-3EF634BC941D}" type="slidenum">
              <a:rPr b="0" lang="x-non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x-non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647F01-3164-408F-B5D2-6BC41645543D}" type="slidenum">
              <a:rPr b="0" lang="x-non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x-non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CF8CF2-A869-40C1-A85B-CC79DB4D36DE}" type="slidenum">
              <a:rPr b="0" lang="x-non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x-non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1B725B-AD14-4F5A-893E-4B8628D61A3D}" type="slidenum">
              <a:rPr b="0" lang="x-non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2ED6-FEDA-4487-B2ED-5BAE7EC9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3767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0520" y="2630520"/>
            <a:ext cx="3767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C907-1118-49E5-B9C7-A2D5018B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67084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0520" y="263052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670840" y="263052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6100-E2D0-4742-B81D-F017C8D9D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014560" y="223236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288240" y="223236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0520" y="263052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014560" y="263052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288240" y="263052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E788-47E1-45D9-9079-3262D552A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704C-7C28-4981-9643-718B730B5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0520" y="2232360"/>
            <a:ext cx="3767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6D48-42DF-4B2C-91B5-DD8844B3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3767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277C-B1E1-40FA-B490-248CC9F4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83816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670840" y="2232360"/>
            <a:ext cx="183816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A9D1-7232-4622-B86C-6AC0DC7B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4339-6EC8-4C83-81AE-0B1BB3FA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4524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DD0B-94C8-4C8F-AE7A-ABB91851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670840" y="2232360"/>
            <a:ext cx="183816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0520" y="263052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9720-4E9A-4F0A-BCB0-7E53146C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0520" y="2232360"/>
            <a:ext cx="3767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E33D-6B0C-422D-8A7E-A621990A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83816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67084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670840" y="263052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78D1-CC8B-4E95-826B-146EB828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67084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0520" y="2630520"/>
            <a:ext cx="3767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BF2D-8F93-4859-BED8-D7DC096C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3767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0520" y="2630520"/>
            <a:ext cx="3767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30F6-242C-4380-AC4E-D8C51B5F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7084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0520" y="263052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670840" y="263052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9DC2-D96E-4C31-B1FA-D7465709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014560" y="223236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8240" y="223236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0520" y="263052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014560" y="263052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3288240" y="263052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9B17-097B-44F8-9FD0-2B7CD896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9DCFF-168B-40A3-9025-C7C67FF8E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40520" y="2232360"/>
            <a:ext cx="3767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6C867-653A-46B7-A74A-B9168C7E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3767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A5254-66AA-42A0-8D03-36CBE086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83816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670840" y="2232360"/>
            <a:ext cx="183816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614FE-8FD8-4E85-A6A1-95A680A7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31099-06E8-4CBB-854B-3D83182F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3767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118A-CD18-4BF1-B511-185A724E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34524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0D790-CBBC-48F5-A3CE-8BB528AA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2670840" y="2232360"/>
            <a:ext cx="183816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40520" y="263052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DFF5C-F3F7-4A01-A178-A92F7801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83816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67084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670840" y="263052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9E61B-31BA-4996-8467-78C09248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67084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40520" y="2630520"/>
            <a:ext cx="3767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5C93D-32D4-4658-8C6D-4DACF4A1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3767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40520" y="2630520"/>
            <a:ext cx="3767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3C184-A57D-4912-93C2-07F351D0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67084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40520" y="263052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2670840" y="263052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1181B-B490-45F6-86D7-B3AFF31B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014560" y="223236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288240" y="223236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40520" y="263052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014560" y="263052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3288240" y="263052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8B8A9-28ED-471E-9E4D-168760A87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55E4D-5A60-402D-944A-DAF3665C9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40520" y="2232360"/>
            <a:ext cx="3767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02E58-3ABF-4623-BF45-8EFA0065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3767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3B8E4-4F94-4CDA-A7D9-8C5E104B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83816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670840" y="2232360"/>
            <a:ext cx="183816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3E6D-1CAC-4145-B8F4-CB18BBBE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83816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670840" y="2232360"/>
            <a:ext cx="183816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8E9BE-75A9-4EEA-9689-35170839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4DC82-FD85-4291-919F-C6BD9798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34524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1746E-77D6-4DE1-8E79-AE48E75B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670840" y="2232360"/>
            <a:ext cx="183816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40520" y="263052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820BB-74FC-4E4C-9235-3D708635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83816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267084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670840" y="263052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878F2-32C0-437F-AF3C-E08C654E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67084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40520" y="2630520"/>
            <a:ext cx="3767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5DE68-6F4C-4D68-B7D4-55AA1586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3767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40520" y="2630520"/>
            <a:ext cx="3767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14EFF-64E6-470A-8D0F-0944FE9C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67084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40520" y="263052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70840" y="263052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6BFA3-D256-45AA-9630-FA2B6BB3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014560" y="223236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3288240" y="223236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740520" y="263052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014560" y="263052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3288240" y="263052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A6145-9C21-41C3-A29B-6548EE8B8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5556-A5AC-4854-B0AA-A47B3935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4524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FAEC-F5A8-4307-A7E9-C6C23399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670840" y="2232360"/>
            <a:ext cx="183816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0520" y="263052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4BF5-F5C7-4A95-B1DE-5C151D73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83816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67084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670840" y="263052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ADFA-3D2F-481A-953A-952D7964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67084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0520" y="2630520"/>
            <a:ext cx="3767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E4EB-33A7-4290-B266-E515CB7E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7800" cy="1926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rgbClr val="ffffff"/>
                </a:solidFill>
                <a:latin typeface="Calisto MT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578952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63EA6C0-1792-4286-B2EE-A7D1DF7225EE}" type="slidenum"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Box 7"/>
          <p:cNvSpPr/>
          <p:nvPr/>
        </p:nvSpPr>
        <p:spPr>
          <a:xfrm>
            <a:off x="8322480" y="5804640"/>
            <a:ext cx="3074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chemeClr val="accent1"/>
                </a:solidFill>
                <a:latin typeface="Wingding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Master title styl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Master text style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Second level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Third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our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4" marL="17208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if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578952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2941EA1-699C-468C-9135-60C44B6F72A3}" type="slidenum"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Master title styl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40520" y="2784600"/>
            <a:ext cx="3767040" cy="32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Click to edit Master text styles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Second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Third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our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4" marL="17208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if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634640" y="2784600"/>
            <a:ext cx="3767040" cy="32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Click to edit Master text styles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Second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Third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our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4" marL="17208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if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578952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505108E-9233-4906-ADDE-51A0EA8D1CB2}" type="slidenum"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Master title styl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40520" y="2232360"/>
            <a:ext cx="3767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2599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1"/>
                </a:solidFill>
                <a:latin typeface="Calisto MT"/>
              </a:rPr>
              <a:t>Click to edit Master text styles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body"/>
          </p:nvPr>
        </p:nvSpPr>
        <p:spPr>
          <a:xfrm>
            <a:off x="740520" y="3160080"/>
            <a:ext cx="3767040" cy="28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Click to edit Master text styles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Second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Third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our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4" marL="17208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if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4631400" y="2232360"/>
            <a:ext cx="3767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2599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1"/>
                </a:solidFill>
                <a:latin typeface="Calisto MT"/>
              </a:rPr>
              <a:t>Click to edit Master text styles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4631400" y="3160080"/>
            <a:ext cx="3767040" cy="28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Click to edit Master text styles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Second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Third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our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4" marL="17208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if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 type="ftr" idx="11"/>
          </p:nvPr>
        </p:nvSpPr>
        <p:spPr>
          <a:xfrm>
            <a:off x="578952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8"/>
          <p:cNvSpPr>
            <a:spLocks noGrp="1"/>
          </p:cNvSpPr>
          <p:nvPr>
            <p:ph type="sldNum" idx="12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8CF70DC-3023-4FB4-A635-2CE647E9CCBF}" type="slidenum"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03640" y="177264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6000" spc="-1" strike="noStrike">
                <a:solidFill>
                  <a:srgbClr val="ffffff"/>
                </a:solidFill>
                <a:latin typeface="Calisto MT"/>
              </a:rPr>
              <a:t>CS1201: Programming Language 2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ffffff"/>
                </a:solidFill>
                <a:latin typeface="Calisto MT"/>
              </a:rPr>
              <a:t>Functions </a:t>
            </a:r>
            <a:endParaRPr b="0" lang="en-US" sz="6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Different Function Component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193" name="Content Placeholder 3" descr="Screen shot 2013-02-05 at 8.17.42 PM.png"/>
          <p:cNvPicPr/>
          <p:nvPr/>
        </p:nvPicPr>
        <p:blipFill>
          <a:blip r:embed="rId1"/>
          <a:stretch/>
        </p:blipFill>
        <p:spPr>
          <a:xfrm>
            <a:off x="228600" y="2286000"/>
            <a:ext cx="87321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Eliminating the Declaration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2770200"/>
            <a:ext cx="838152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o eliminate the function declaration, place the function definition (the function itself) in the listing before the first call to the function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s approach is simpler for short programs, in that it removes the declaration, but it is less flexible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Finding Errors in Function Code</a:t>
            </a:r>
            <a:endParaRPr b="0" lang="en-US" sz="4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66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int sum(int x, int y)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{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int result;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result = x+y;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}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8" name="Rectangle 1"/>
          <p:cNvSpPr/>
          <p:nvPr/>
        </p:nvSpPr>
        <p:spPr>
          <a:xfrm>
            <a:off x="1676520" y="4800600"/>
            <a:ext cx="6095520" cy="747360"/>
          </a:xfrm>
          <a:prstGeom prst="rect">
            <a:avLst/>
          </a:prstGeom>
          <a:gradFill rotWithShape="0">
            <a:gsLst>
              <a:gs pos="0">
                <a:srgbClr val="90d4cd"/>
              </a:gs>
              <a:gs pos="100000">
                <a:srgbClr val="2caa9f"/>
              </a:gs>
            </a:gsLst>
            <a:lin ang="5400000"/>
          </a:gradFill>
          <a:ln>
            <a:solidFill>
              <a:srgbClr val="30aba0"/>
            </a:solidFill>
            <a:round/>
          </a:ln>
          <a:effectLst>
            <a:outerShdw algn="tl" blurRad="88920" dir="11391949" dist="50425" rotWithShape="0" sx="102000" sy="101000">
              <a:srgbClr val="000000">
                <a:alpha val="35000"/>
              </a:srgbClr>
            </a:outerShdw>
          </a:effectLst>
        </p:spPr>
        <p:style>
          <a:lnRef idx="1">
            <a:schemeClr val="accent4"/>
          </a:lnRef>
          <a:fillRef idx="3">
            <a:schemeClr val="accent4"/>
          </a:fillRef>
          <a:effectRef idx="2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chemeClr val="lt1"/>
                </a:solidFill>
                <a:latin typeface="Calisto MT"/>
              </a:rPr>
              <a:t>this function must return an integer value as indicated in the header definition (</a:t>
            </a:r>
            <a:r>
              <a:rPr b="0" lang="en-US" sz="1800" spc="-1" strike="noStrike">
                <a:solidFill>
                  <a:schemeClr val="lt1"/>
                </a:solidFill>
                <a:latin typeface="Courier New"/>
              </a:rPr>
              <a:t>return result;</a:t>
            </a:r>
            <a:r>
              <a:rPr b="0" lang="en-US" sz="1800" spc="-1" strike="noStrike">
                <a:solidFill>
                  <a:schemeClr val="lt1"/>
                </a:solidFill>
                <a:latin typeface="Calisto MT"/>
              </a:rPr>
              <a:t>) should be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Finding Errors in Function Code</a:t>
            </a:r>
            <a:endParaRPr b="0" lang="en-US" sz="4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66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int sum (int n)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{ if (n==0)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return 0;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else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n+sum(n-1);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}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1066680" y="5117400"/>
            <a:ext cx="7162560" cy="747360"/>
          </a:xfrm>
          <a:prstGeom prst="rect">
            <a:avLst/>
          </a:prstGeom>
          <a:gradFill rotWithShape="0">
            <a:gsLst>
              <a:gs pos="0">
                <a:srgbClr val="90d4cd"/>
              </a:gs>
              <a:gs pos="100000">
                <a:srgbClr val="2caa9f"/>
              </a:gs>
            </a:gsLst>
            <a:lin ang="5400000"/>
          </a:gradFill>
          <a:ln>
            <a:solidFill>
              <a:srgbClr val="30aba0"/>
            </a:solidFill>
            <a:round/>
          </a:ln>
          <a:effectLst>
            <a:outerShdw algn="tl" blurRad="88920" dir="11391949" dist="50425" rotWithShape="0" sx="102000" sy="101000">
              <a:srgbClr val="000000">
                <a:alpha val="35000"/>
              </a:srgbClr>
            </a:outerShdw>
          </a:effectLst>
        </p:spPr>
        <p:style>
          <a:lnRef idx="1">
            <a:schemeClr val="accent4"/>
          </a:lnRef>
          <a:fillRef idx="3">
            <a:schemeClr val="accent4"/>
          </a:fillRef>
          <a:effectRef idx="2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chemeClr val="lt1"/>
                </a:solidFill>
                <a:latin typeface="Calisto MT"/>
              </a:rPr>
              <a:t>the result of n+sum(n-1) is not returned; sum returns an improper result, the else part should be written as: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ourier New"/>
              </a:rPr>
              <a:t>else return n+sum(n-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Finding Errors in Function Code</a:t>
            </a:r>
            <a:endParaRPr b="0" lang="en-US" sz="4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void f(float a);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float a;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cout&lt;&lt;a&lt;&lt;endl;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4" name="Rectangle 1"/>
          <p:cNvSpPr/>
          <p:nvPr/>
        </p:nvSpPr>
        <p:spPr>
          <a:xfrm>
            <a:off x="2514600" y="4392000"/>
            <a:ext cx="6552720" cy="2284200"/>
          </a:xfrm>
          <a:prstGeom prst="rect">
            <a:avLst/>
          </a:prstGeom>
          <a:gradFill rotWithShape="0">
            <a:gsLst>
              <a:gs pos="0">
                <a:srgbClr val="90d4cd"/>
              </a:gs>
              <a:gs pos="100000">
                <a:srgbClr val="2caa9f"/>
              </a:gs>
            </a:gsLst>
            <a:lin ang="5400000"/>
          </a:gradFill>
          <a:ln>
            <a:solidFill>
              <a:srgbClr val="30aba0"/>
            </a:solidFill>
            <a:round/>
          </a:ln>
          <a:effectLst>
            <a:outerShdw algn="tl" blurRad="88920" dir="11391949" dist="50425" rotWithShape="0" sx="102000" sy="101000">
              <a:srgbClr val="000000">
                <a:alpha val="35000"/>
              </a:srgbClr>
            </a:outerShdw>
          </a:effectLst>
        </p:spPr>
        <p:style>
          <a:lnRef idx="1">
            <a:schemeClr val="accent4"/>
          </a:lnRef>
          <a:fillRef idx="3">
            <a:schemeClr val="accent4"/>
          </a:fillRef>
          <a:effectRef idx="2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90000"/>
              </a:lnSpc>
              <a:buClr>
                <a:srgbClr val="ff3300"/>
              </a:buClr>
              <a:buFont typeface="Wingdings" charset="2"/>
              <a:buChar char=""/>
            </a:pPr>
            <a:r>
              <a:rPr b="0" lang="en-US" sz="2000" spc="-1" strike="noStrike">
                <a:solidFill>
                  <a:srgbClr val="ff3300"/>
                </a:solidFill>
                <a:latin typeface="Calisto MT"/>
              </a:rPr>
              <a:t>;</a:t>
            </a:r>
            <a:r>
              <a:rPr b="0" lang="en-US" sz="2000" spc="-1" strike="noStrike">
                <a:solidFill>
                  <a:schemeClr val="lt1"/>
                </a:solidFill>
                <a:latin typeface="Calisto MT"/>
              </a:rPr>
              <a:t> found after function definition hea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90000"/>
              </a:lnSpc>
              <a:buClr>
                <a:srgbClr val="ffffff"/>
              </a:buClr>
              <a:buFont typeface="Wingdings" charset="2"/>
              <a:buChar char=""/>
            </a:pPr>
            <a:r>
              <a:rPr b="0" lang="en-US" sz="2000" spc="-1" strike="noStrike">
                <a:solidFill>
                  <a:schemeClr val="lt1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chemeClr val="lt1"/>
                </a:solidFill>
                <a:latin typeface="Calisto MT"/>
              </a:rPr>
              <a:t>redefining the parameter </a:t>
            </a:r>
            <a:r>
              <a:rPr b="1" lang="en-US" sz="2000" spc="-1" strike="noStrike">
                <a:solidFill>
                  <a:schemeClr val="lt1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chemeClr val="lt1"/>
                </a:solidFill>
                <a:latin typeface="Calisto MT"/>
              </a:rPr>
              <a:t> in th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chemeClr val="lt1"/>
                </a:solidFill>
                <a:latin typeface="Courier New"/>
              </a:rPr>
              <a:t>void f(float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chemeClr val="lt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chemeClr val="lt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chemeClr val="lt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chemeClr val="lt1"/>
                </a:solidFill>
                <a:latin typeface="Courier New"/>
              </a:rPr>
              <a:t>float a2 = a + 8.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chemeClr val="lt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chemeClr val="lt1"/>
                </a:solidFill>
                <a:latin typeface="Courier New"/>
              </a:rPr>
              <a:t>cout &lt;&lt;a2&lt;&lt;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chemeClr val="lt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Finding Errors in Function Code</a:t>
            </a:r>
            <a:endParaRPr b="0" lang="en-US" sz="4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7662600" cy="37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void product(void)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{ 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int a, b, c, result;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cout &lt;&lt; “enter three integers:”;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cin &gt;&gt; a &gt;&gt; b &gt;&gt; c;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result = a*b*c;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cout &lt;&lt; “Result is” &lt;&lt; result;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return result;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7" name="Rectangle 1"/>
          <p:cNvSpPr/>
          <p:nvPr/>
        </p:nvSpPr>
        <p:spPr>
          <a:xfrm>
            <a:off x="6172200" y="2521080"/>
            <a:ext cx="2742840" cy="3051000"/>
          </a:xfrm>
          <a:prstGeom prst="rect">
            <a:avLst/>
          </a:prstGeom>
          <a:gradFill rotWithShape="0">
            <a:gsLst>
              <a:gs pos="0">
                <a:srgbClr val="90d4cd"/>
              </a:gs>
              <a:gs pos="100000">
                <a:srgbClr val="2caa9f"/>
              </a:gs>
            </a:gsLst>
            <a:lin ang="5400000"/>
          </a:gradFill>
          <a:ln>
            <a:solidFill>
              <a:srgbClr val="30aba0"/>
            </a:solidFill>
            <a:round/>
          </a:ln>
          <a:effectLst>
            <a:outerShdw algn="tl" blurRad="88920" dir="11391949" dist="50425" rotWithShape="0" sx="102000" sy="101000">
              <a:srgbClr val="000000">
                <a:alpha val="35000"/>
              </a:srgbClr>
            </a:outerShdw>
          </a:effectLst>
        </p:spPr>
        <p:style>
          <a:lnRef idx="1">
            <a:schemeClr val="accent4"/>
          </a:lnRef>
          <a:fillRef idx="3">
            <a:schemeClr val="accent4"/>
          </a:fillRef>
          <a:effectRef idx="2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90000"/>
              </a:lnSpc>
              <a:buClr>
                <a:srgbClr val="ffffff"/>
              </a:buClr>
              <a:buFont typeface="Wingdings" charset="2"/>
              <a:buChar char=""/>
            </a:pPr>
            <a:r>
              <a:rPr b="0" lang="en-US" sz="2400" spc="-1" strike="noStrike">
                <a:solidFill>
                  <a:schemeClr val="lt1"/>
                </a:solidFill>
                <a:latin typeface="Calisto MT"/>
              </a:rPr>
              <a:t>According to the definition it should not return a value , but in the block (body) it did &amp; this is WR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90000"/>
              </a:lnSpc>
              <a:buClr>
                <a:srgbClr val="ffffff"/>
              </a:buClr>
              <a:buFont typeface="Wingdings" charset="2"/>
              <a:buChar char=""/>
            </a:pPr>
            <a:r>
              <a:rPr b="0" lang="en-US" sz="2400" spc="-1" strike="noStrike">
                <a:solidFill>
                  <a:schemeClr val="lt1"/>
                </a:solidFill>
                <a:latin typeface="Wingdings"/>
              </a:rPr>
              <a:t></a:t>
            </a:r>
            <a:r>
              <a:rPr b="0" lang="en-US" sz="2400" spc="-1" strike="noStrike">
                <a:solidFill>
                  <a:schemeClr val="lt1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chemeClr val="lt1"/>
                </a:solidFill>
                <a:latin typeface="Calisto MT"/>
              </a:rPr>
              <a:t>Remove </a:t>
            </a:r>
            <a:r>
              <a:rPr b="1" lang="en-US" sz="2400" spc="-1" strike="noStrike">
                <a:solidFill>
                  <a:schemeClr val="lt1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Parameters vs Argument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13920" indent="-31392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GB" sz="2200" spc="-1" strike="noStrike">
                <a:solidFill>
                  <a:srgbClr val="595959"/>
                </a:solidFill>
                <a:latin typeface="Calisto MT"/>
              </a:rPr>
              <a:t>Up until now, we have not differentiated between function parameters and arguments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752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13920" indent="-31392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Calisto MT"/>
              </a:rPr>
              <a:t>In common usage, the terms parameter and argument are often interchanged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752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28200" indent="-30816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Calisto MT"/>
              </a:rPr>
              <a:t>A </a:t>
            </a:r>
            <a:r>
              <a:rPr b="1" lang="en-GB" sz="2000" spc="-1" strike="noStrike">
                <a:solidFill>
                  <a:srgbClr val="595959"/>
                </a:solidFill>
                <a:latin typeface="Calisto MT"/>
              </a:rPr>
              <a:t>function parameter</a:t>
            </a:r>
            <a:r>
              <a:rPr b="0" lang="en-GB" sz="2000" spc="-1" strike="noStrike">
                <a:solidFill>
                  <a:srgbClr val="595959"/>
                </a:solidFill>
                <a:latin typeface="Calisto MT"/>
              </a:rPr>
              <a:t> is a variable declared in the prototype or declaration of 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28200" indent="-30816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Calisto MT"/>
              </a:rPr>
              <a:t>An </a:t>
            </a:r>
            <a:r>
              <a:rPr b="1" lang="en-GB" sz="2000" spc="-1" strike="noStrike">
                <a:solidFill>
                  <a:srgbClr val="595959"/>
                </a:solidFill>
                <a:latin typeface="Calisto MT"/>
              </a:rPr>
              <a:t>argument</a:t>
            </a:r>
            <a:r>
              <a:rPr b="0" lang="en-GB" sz="2000" spc="-1" strike="noStrike">
                <a:solidFill>
                  <a:srgbClr val="595959"/>
                </a:solidFill>
                <a:latin typeface="Calisto MT"/>
              </a:rPr>
              <a:t> is the value that is passed to the function in place of a parameter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Parameters </a:t>
            </a:r>
            <a:r>
              <a:rPr b="1" lang="en-GB" sz="4600" spc="-1" strike="noStrike">
                <a:solidFill>
                  <a:srgbClr val="ffffff"/>
                </a:solidFill>
                <a:latin typeface="Calisto MT"/>
              </a:rPr>
              <a:t>vs </a:t>
            </a: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Argument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2133000"/>
            <a:ext cx="3423960" cy="32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Consolas"/>
              </a:rPr>
              <a:t>void foo(int x, int y)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Consolas"/>
              </a:rPr>
              <a:t>{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Consolas"/>
              </a:rPr>
              <a:t>int n=3;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Consolas"/>
              </a:rPr>
              <a:t>foo(6, n+1);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300640" y="2133720"/>
            <a:ext cx="3767040" cy="32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a function is called, all of the parameters of the function are created as variables, and the value of the arguments are copied into the parameters.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380880" y="5810040"/>
            <a:ext cx="73911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 is the argument (value) sent to parameter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the value of n+1 is sent to parameter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Methods of passing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GB" sz="2200" spc="-1" strike="noStrike">
                <a:solidFill>
                  <a:srgbClr val="595959"/>
                </a:solidFill>
                <a:latin typeface="Calisto MT"/>
              </a:rPr>
              <a:t>There are 3 primary methods of passing arguments to functions: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GB" sz="2000" spc="-1" strike="noStrike">
                <a:solidFill>
                  <a:srgbClr val="595959"/>
                </a:solidFill>
                <a:latin typeface="Calisto MT"/>
              </a:rPr>
              <a:t>pass by value, 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GB" sz="2000" spc="-1" strike="noStrike">
                <a:solidFill>
                  <a:srgbClr val="595959"/>
                </a:solidFill>
                <a:latin typeface="Calisto MT"/>
              </a:rPr>
              <a:t>pass by reference, 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GB" sz="2000" spc="-1" strike="noStrike">
                <a:solidFill>
                  <a:srgbClr val="595959"/>
                </a:solidFill>
                <a:latin typeface="Calisto MT"/>
              </a:rPr>
              <a:t>and pass by address. ( will be addressed later)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 </a:t>
            </a: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Passing arguments by valu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71440" y="2232360"/>
            <a:ext cx="3767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2599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alisto MT"/>
              </a:rPr>
              <a:t>Example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-228600" y="3160080"/>
            <a:ext cx="3767040" cy="28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685800" indent="-33660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Arial"/>
              <a:buChar char="•"/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</a:rPr>
              <a:t>By default, arguments in C++ are passed by value.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Arial"/>
              <a:buChar char="•"/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</a:rPr>
              <a:t>When arguments are </a:t>
            </a:r>
            <a:r>
              <a:rPr b="1" lang="en-GB" sz="1800" spc="-1" strike="noStrike">
                <a:solidFill>
                  <a:srgbClr val="595959"/>
                </a:solidFill>
                <a:latin typeface="Calisto MT"/>
              </a:rPr>
              <a:t>passed by value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</a:rPr>
              <a:t>, a copy of the argument is passed to the function.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91320" y="1600200"/>
            <a:ext cx="3978720" cy="3841560"/>
          </a:xfrm>
          <a:prstGeom prst="rect">
            <a:avLst/>
          </a:prstGeom>
          <a:solidFill>
            <a:schemeClr val="lt1"/>
          </a:solidFill>
          <a:ln w="31680">
            <a:solidFill>
              <a:srgbClr val="e29f1d"/>
            </a:solidFill>
            <a:round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chemeClr val="dk1"/>
                </a:solidFill>
                <a:latin typeface="Calisto MT"/>
              </a:rPr>
              <a:t>void foo(int y)</a:t>
            </a:r>
            <a:endParaRPr b="0" lang="en-US" sz="1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chemeClr val="dk1"/>
                </a:solidFill>
                <a:latin typeface="Calisto MT"/>
              </a:rPr>
              <a:t>{</a:t>
            </a:r>
            <a:endParaRPr b="0" lang="en-US" sz="1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chemeClr val="dk1"/>
                </a:solidFill>
                <a:latin typeface="Calisto MT"/>
              </a:rPr>
              <a:t>       </a:t>
            </a:r>
            <a:r>
              <a:rPr b="0" lang="en-GB" sz="1200" spc="-1" strike="noStrike">
                <a:solidFill>
                  <a:schemeClr val="dk1"/>
                </a:solidFill>
                <a:latin typeface="Calisto MT"/>
              </a:rPr>
              <a:t>cout &lt;&lt; "y = " &lt;&lt; y &lt;&lt; endl;</a:t>
            </a:r>
            <a:endParaRPr b="0" lang="en-US" sz="1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chemeClr val="dk1"/>
                </a:solidFill>
                <a:latin typeface="Calisto MT"/>
              </a:rPr>
              <a:t>}</a:t>
            </a:r>
            <a:endParaRPr b="0" lang="en-US" sz="1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chemeClr val="dk1"/>
                </a:solidFill>
                <a:latin typeface="Calisto MT"/>
              </a:rPr>
              <a:t>int main()</a:t>
            </a:r>
            <a:endParaRPr b="0" lang="en-US" sz="1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chemeClr val="dk1"/>
                </a:solidFill>
                <a:latin typeface="Calisto MT"/>
              </a:rPr>
              <a:t>{</a:t>
            </a:r>
            <a:endParaRPr b="0" lang="en-US" sz="1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chemeClr val="dk1"/>
                </a:solidFill>
                <a:latin typeface="Calisto MT"/>
              </a:rPr>
              <a:t>    </a:t>
            </a:r>
            <a:r>
              <a:rPr b="0" lang="en-GB" sz="1200" spc="-1" strike="noStrike">
                <a:solidFill>
                  <a:schemeClr val="dk1"/>
                </a:solidFill>
                <a:latin typeface="Calisto MT"/>
              </a:rPr>
              <a:t>foo(5); // first call</a:t>
            </a:r>
            <a:endParaRPr b="0" lang="en-US" sz="1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chemeClr val="dk1"/>
                </a:solidFill>
                <a:latin typeface="Calisto MT"/>
              </a:rPr>
              <a:t>    </a:t>
            </a:r>
            <a:r>
              <a:rPr b="0" lang="en-GB" sz="1200" spc="-1" strike="noStrike">
                <a:solidFill>
                  <a:schemeClr val="dk1"/>
                </a:solidFill>
                <a:latin typeface="Calisto MT"/>
              </a:rPr>
              <a:t>int x = 6;</a:t>
            </a:r>
            <a:endParaRPr b="0" lang="en-US" sz="1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chemeClr val="dk1"/>
                </a:solidFill>
                <a:latin typeface="Calisto MT"/>
              </a:rPr>
              <a:t>    </a:t>
            </a:r>
            <a:r>
              <a:rPr b="0" lang="en-GB" sz="1200" spc="-1" strike="noStrike">
                <a:solidFill>
                  <a:schemeClr val="dk1"/>
                </a:solidFill>
                <a:latin typeface="Calisto MT"/>
              </a:rPr>
              <a:t>foo(x); // second call</a:t>
            </a:r>
            <a:endParaRPr b="0" lang="en-US" sz="1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chemeClr val="dk1"/>
                </a:solidFill>
                <a:latin typeface="Calisto MT"/>
              </a:rPr>
              <a:t>    </a:t>
            </a:r>
            <a:r>
              <a:rPr b="0" lang="en-GB" sz="1200" spc="-1" strike="noStrike">
                <a:solidFill>
                  <a:schemeClr val="dk1"/>
                </a:solidFill>
                <a:latin typeface="Calisto MT"/>
              </a:rPr>
              <a:t>foo(x+1); // third call</a:t>
            </a:r>
            <a:endParaRPr b="0" lang="en-US" sz="1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chemeClr val="dk1"/>
                </a:solidFill>
                <a:latin typeface="Calisto MT"/>
              </a:rPr>
              <a:t>    </a:t>
            </a:r>
            <a:r>
              <a:rPr b="0" lang="en-GB" sz="1200" spc="-1" strike="noStrike">
                <a:solidFill>
                  <a:schemeClr val="dk1"/>
                </a:solidFill>
                <a:latin typeface="Calisto MT"/>
              </a:rPr>
              <a:t>return 0;</a:t>
            </a:r>
            <a:endParaRPr b="0" lang="en-US" sz="1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chemeClr val="dk1"/>
                </a:solidFill>
                <a:latin typeface="Calisto MT"/>
              </a:rPr>
              <a:t>}</a:t>
            </a:r>
            <a:endParaRPr b="0" lang="en-US" sz="1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Overview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39800" y="236232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04200" indent="-28584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Arial"/>
              <a:buChar char="•"/>
            </a:pPr>
            <a:r>
              <a:rPr b="0" lang="en-GB" sz="2200" spc="-1" strike="noStrike">
                <a:solidFill>
                  <a:srgbClr val="595959"/>
                </a:solidFill>
                <a:latin typeface="Calisto MT"/>
              </a:rPr>
              <a:t>What is a Function?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04200" indent="-28584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Arial"/>
              <a:buChar char="•"/>
            </a:pPr>
            <a:r>
              <a:rPr b="0" lang="en-GB" sz="2200" spc="-1" strike="noStrike">
                <a:solidFill>
                  <a:srgbClr val="595959"/>
                </a:solidFill>
                <a:latin typeface="Calisto MT"/>
              </a:rPr>
              <a:t>Function Prototype Vs Decleration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04200" indent="-28584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Arial"/>
              <a:buChar char="•"/>
            </a:pPr>
            <a:r>
              <a:rPr b="0" lang="en-GB" sz="2200" spc="-1" strike="noStrike">
                <a:solidFill>
                  <a:srgbClr val="595959"/>
                </a:solidFill>
                <a:latin typeface="Calisto MT"/>
              </a:rPr>
              <a:t>Highlight  Some Errors in Function Code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04200" indent="-28584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Arial"/>
              <a:buChar char="•"/>
            </a:pPr>
            <a:r>
              <a:rPr b="0" lang="en-GB" sz="2200" spc="-1" strike="noStrike">
                <a:solidFill>
                  <a:srgbClr val="595959"/>
                </a:solidFill>
                <a:latin typeface="Calisto MT"/>
              </a:rPr>
              <a:t>Parameters Vs Argument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04200" indent="-28584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Arial"/>
              <a:buChar char="•"/>
            </a:pPr>
            <a:r>
              <a:rPr b="0" lang="en-GB" sz="2200" spc="-1" strike="noStrike">
                <a:solidFill>
                  <a:srgbClr val="595959"/>
                </a:solidFill>
                <a:latin typeface="Calisto MT"/>
              </a:rPr>
              <a:t>Method Passing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04200" indent="-28584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Arial"/>
              <a:buChar char="•"/>
            </a:pPr>
            <a:r>
              <a:rPr b="0" lang="en-GB" sz="2200" spc="-1" strike="noStrike">
                <a:solidFill>
                  <a:srgbClr val="595959"/>
                </a:solidFill>
                <a:latin typeface="Calisto MT"/>
              </a:rPr>
              <a:t>Function Recursion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04200" indent="-28584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Arial"/>
              <a:buChar char="•"/>
            </a:pPr>
            <a:r>
              <a:rPr b="0" lang="en-GB" sz="2200" spc="-1" strike="noStrike">
                <a:solidFill>
                  <a:srgbClr val="595959"/>
                </a:solidFill>
                <a:latin typeface="Calisto MT"/>
              </a:rPr>
              <a:t>Function Overloading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 </a:t>
            </a: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Passing arguments by valu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2840" y="2232360"/>
            <a:ext cx="3767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ts val="2599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alisto MT"/>
              </a:rPr>
              <a:t>This is shown in the following example: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04920" y="3160080"/>
            <a:ext cx="3767040" cy="28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</a:rPr>
              <a:t>Because a copy of the argument is passed to the function, the original argument can not be modified by the function. 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31400" y="2232360"/>
            <a:ext cx="3767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Calisto MT"/>
            </a:endParaRPr>
          </a:p>
        </p:txBody>
      </p:sp>
      <p:graphicFrame>
        <p:nvGraphicFramePr>
          <p:cNvPr id="224" name="Content Placeholder 4"/>
          <p:cNvGraphicFramePr/>
          <p:nvPr/>
        </p:nvGraphicFramePr>
        <p:xfrm>
          <a:off x="4843080" y="1905120"/>
          <a:ext cx="3767400" cy="4797360"/>
        </p:xfrm>
        <a:graphic>
          <a:graphicData uri="http://schemas.openxmlformats.org/drawingml/2006/table">
            <a:tbl>
              <a:tblPr/>
              <a:tblGrid>
                <a:gridCol w="240120"/>
                <a:gridCol w="3527280"/>
              </a:tblGrid>
              <a:tr h="4797360">
                <a:tc>
                  <a:txBody>
                    <a:bodyPr lIns="33120" rIns="3312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120" marR="3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3120" rIns="3312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void foo(int y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{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using namespace std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"y = " &lt;&lt; y &lt;&lt; endl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y = 6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"y = " &lt;&lt; y &lt;&lt; endl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 // y is destroyed he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int main(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{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using namespace std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int x = 5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"x = " &lt;&lt; x &lt;&lt; endl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foo(x)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"x = " &lt;&lt; x &lt;&lt; endl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return 0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120" marR="3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 </a:t>
            </a:r>
            <a:r>
              <a:rPr b="0" lang="en-GB" sz="3600" spc="-1" strike="noStrike">
                <a:solidFill>
                  <a:srgbClr val="ffffff"/>
                </a:solidFill>
                <a:latin typeface="Calisto MT"/>
              </a:rPr>
              <a:t>Adv. And DisAdv. Of Passing  by value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3767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2599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alisto MT"/>
              </a:rPr>
              <a:t>Advantages 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740520" y="3160080"/>
            <a:ext cx="3767040" cy="28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23880" indent="-3060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</a:rPr>
              <a:t>Arguments passed by value can be: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2" marL="941760" indent="-31752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</a:rPr>
              <a:t> 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</a:rPr>
              <a:t>variables (eg. x),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2" marL="941760" indent="-31752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</a:rPr>
              <a:t> 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</a:rPr>
              <a:t>literals (eg. 6),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2" marL="941760" indent="-31752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</a:rPr>
              <a:t> 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</a:rPr>
              <a:t>or expressions (eg. x+1) or (eg foo()).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1" marL="623880" indent="-3060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</a:rPr>
              <a:t>Arguments are never changed by the function being called, which prevents side effects.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31400" y="2232360"/>
            <a:ext cx="3767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2599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alisto MT"/>
              </a:rPr>
              <a:t>Disadvantages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31400" y="3160080"/>
            <a:ext cx="3767040" cy="28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93120" indent="-27432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80000"/>
              <a:buFont typeface="Wingdings 2" charset="2"/>
              <a:buChar char=""/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</a:rPr>
              <a:t>Copying large structs or classes can take a lot of time to copy, and this can cause a performance penalty, especially if the function is called many times.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What is a Function? 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A function groups number of program statements into a unit and gives it a name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unctions are used to reduce program size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Any sequence of instructions that appear more than once in a program is a candidate for being made into function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Function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Just like variables you must tell the compiler about the functions: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Declaration before it is called 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Definition before it is called 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Function Declaration 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void Func1 (); </a:t>
            </a:r>
            <a:r>
              <a:rPr b="0" lang="en-US" sz="2200" spc="-1" strike="noStrike">
                <a:solidFill>
                  <a:srgbClr val="595959"/>
                </a:solidFill>
                <a:latin typeface="Wingdings"/>
              </a:rPr>
              <a:t>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 Function declaration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Declaration tells the compiler that at some point later we will present a function called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Func1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void means that the function has no return value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Empty parentheses () means that the function takes no parameter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Notice that the function declaration is terminated by a semicolon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unction declarations are also called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prototypes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Function Call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unc1(); </a:t>
            </a:r>
            <a:r>
              <a:rPr b="0" lang="en-US" sz="2200" spc="-1" strike="noStrike">
                <a:solidFill>
                  <a:srgbClr val="595959"/>
                </a:solidFill>
                <a:latin typeface="Wingdings"/>
              </a:rPr>
              <a:t>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 Function cal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we need to call the function: the function name, followed by parentheses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e syntax of the call is very similar to that of the declaration, except that the return type is not used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Function Definition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e definition contains the actual code for the function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Void Func1()       //decelerator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{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…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.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	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	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       //function body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}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Function Definition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e function body is composed of the statements that make up the function, delimited by brace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e decelerator must agree with the declaration: It must use the </a:t>
            </a:r>
            <a:r>
              <a:rPr b="0" lang="en-US" sz="2200" spc="-1" strike="noStrike">
                <a:solidFill>
                  <a:srgbClr val="ff0000"/>
                </a:solidFill>
                <a:latin typeface="Calisto MT"/>
              </a:rPr>
              <a:t>same function name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, have the </a:t>
            </a:r>
            <a:r>
              <a:rPr b="0" lang="en-US" sz="2200" spc="-1" strike="noStrike">
                <a:solidFill>
                  <a:srgbClr val="ff0000"/>
                </a:solidFill>
                <a:latin typeface="Calisto MT"/>
              </a:rPr>
              <a:t>same argument types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in the same order (if there are arguments), and have the </a:t>
            </a:r>
            <a:r>
              <a:rPr b="0" lang="en-US" sz="2200" spc="-1" strike="noStrike">
                <a:solidFill>
                  <a:srgbClr val="ff0000"/>
                </a:solidFill>
                <a:latin typeface="Calisto MT"/>
              </a:rPr>
              <a:t>same return type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Notice that the decelerator is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not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 terminated by a semicolon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Function Definition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When the function is called, control is transferred to the first statement in the function body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e other statements in the function body are then executed, and when the closing brace is encountered, control returns to the calling program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Genesis">
  <a:themeElements>
    <a:clrScheme name="Genesis">
      <a:dk1>
        <a:srgbClr val="000000"/>
      </a:dk1>
      <a:lt1>
        <a:srgbClr val="ffffff"/>
      </a:lt1>
      <a:dk2>
        <a:srgbClr val="465466"/>
      </a:dk2>
      <a:lt2>
        <a:srgbClr val="bbd7f8"/>
      </a:lt2>
      <a:accent1>
        <a:srgbClr val="80b606"/>
      </a:accent1>
      <a:accent2>
        <a:srgbClr val="e29f1d"/>
      </a:accent2>
      <a:accent3>
        <a:srgbClr val="2397e2"/>
      </a:accent3>
      <a:accent4>
        <a:srgbClr val="35aca2"/>
      </a:accent4>
      <a:accent5>
        <a:srgbClr val="5430bb"/>
      </a:accent5>
      <a:accent6>
        <a:srgbClr val="8d34e0"/>
      </a:accent6>
      <a:hlink>
        <a:srgbClr val="00b0f0"/>
      </a:hlink>
      <a:folHlink>
        <a:srgbClr val="0070c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Genesis">
  <a:themeElements>
    <a:clrScheme name="Genesis">
      <a:dk1>
        <a:srgbClr val="000000"/>
      </a:dk1>
      <a:lt1>
        <a:srgbClr val="ffffff"/>
      </a:lt1>
      <a:dk2>
        <a:srgbClr val="465466"/>
      </a:dk2>
      <a:lt2>
        <a:srgbClr val="bbd7f8"/>
      </a:lt2>
      <a:accent1>
        <a:srgbClr val="80b606"/>
      </a:accent1>
      <a:accent2>
        <a:srgbClr val="e29f1d"/>
      </a:accent2>
      <a:accent3>
        <a:srgbClr val="2397e2"/>
      </a:accent3>
      <a:accent4>
        <a:srgbClr val="35aca2"/>
      </a:accent4>
      <a:accent5>
        <a:srgbClr val="5430bb"/>
      </a:accent5>
      <a:accent6>
        <a:srgbClr val="8d34e0"/>
      </a:accent6>
      <a:hlink>
        <a:srgbClr val="00b0f0"/>
      </a:hlink>
      <a:folHlink>
        <a:srgbClr val="0070c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Genesis">
  <a:themeElements>
    <a:clrScheme name="Genesis">
      <a:dk1>
        <a:srgbClr val="000000"/>
      </a:dk1>
      <a:lt1>
        <a:srgbClr val="ffffff"/>
      </a:lt1>
      <a:dk2>
        <a:srgbClr val="465466"/>
      </a:dk2>
      <a:lt2>
        <a:srgbClr val="bbd7f8"/>
      </a:lt2>
      <a:accent1>
        <a:srgbClr val="80b606"/>
      </a:accent1>
      <a:accent2>
        <a:srgbClr val="e29f1d"/>
      </a:accent2>
      <a:accent3>
        <a:srgbClr val="2397e2"/>
      </a:accent3>
      <a:accent4>
        <a:srgbClr val="35aca2"/>
      </a:accent4>
      <a:accent5>
        <a:srgbClr val="5430bb"/>
      </a:accent5>
      <a:accent6>
        <a:srgbClr val="8d34e0"/>
      </a:accent6>
      <a:hlink>
        <a:srgbClr val="00b0f0"/>
      </a:hlink>
      <a:folHlink>
        <a:srgbClr val="0070c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Genesis">
  <a:themeElements>
    <a:clrScheme name="Genesis">
      <a:dk1>
        <a:srgbClr val="000000"/>
      </a:dk1>
      <a:lt1>
        <a:srgbClr val="ffffff"/>
      </a:lt1>
      <a:dk2>
        <a:srgbClr val="465466"/>
      </a:dk2>
      <a:lt2>
        <a:srgbClr val="bbd7f8"/>
      </a:lt2>
      <a:accent1>
        <a:srgbClr val="80b606"/>
      </a:accent1>
      <a:accent2>
        <a:srgbClr val="e29f1d"/>
      </a:accent2>
      <a:accent3>
        <a:srgbClr val="2397e2"/>
      </a:accent3>
      <a:accent4>
        <a:srgbClr val="35aca2"/>
      </a:accent4>
      <a:accent5>
        <a:srgbClr val="5430bb"/>
      </a:accent5>
      <a:accent6>
        <a:srgbClr val="8d34e0"/>
      </a:accent6>
      <a:hlink>
        <a:srgbClr val="00b0f0"/>
      </a:hlink>
      <a:folHlink>
        <a:srgbClr val="0070c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5466"/>
      </a:dk2>
      <a:lt2>
        <a:srgbClr val="bbd7f8"/>
      </a:lt2>
      <a:accent1>
        <a:srgbClr val="80b606"/>
      </a:accent1>
      <a:accent2>
        <a:srgbClr val="e29f1d"/>
      </a:accent2>
      <a:accent3>
        <a:srgbClr val="2397e2"/>
      </a:accent3>
      <a:accent4>
        <a:srgbClr val="35aca2"/>
      </a:accent4>
      <a:accent5>
        <a:srgbClr val="5430bb"/>
      </a:accent5>
      <a:accent6>
        <a:srgbClr val="8d34e0"/>
      </a:accent6>
      <a:hlink>
        <a:srgbClr val="00b0f0"/>
      </a:hlink>
      <a:folHlink>
        <a:srgbClr val="0070c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6594AD1C67AF545A5960EF5B4D34DFC" ma:contentTypeVersion="1" ma:contentTypeDescription="Create a new document." ma:contentTypeScope="" ma:versionID="158d98ff5f363f64d157ecf49ddff337">
  <xsd:schema xmlns:xsd="http://www.w3.org/2001/XMLSchema" xmlns:xs="http://www.w3.org/2001/XMLSchema" xmlns:p="http://schemas.microsoft.com/office/2006/metadata/properties" xmlns:ns1="http://schemas.microsoft.com/sharepoint/v3" targetNamespace="http://schemas.microsoft.com/office/2006/metadata/properties" ma:root="true" ma:fieldsID="a447206dab0015f8b9f8924535193e8c" ns1:_="">
    <xsd:import namespace="http://schemas.microsoft.com/sharepoint/v3"/>
    <xsd:element name="properties">
      <xsd:complexType>
        <xsd:sequence>
          <xsd:element name="documentManagement">
            <xsd:complexType>
              <xsd:all>
                <xsd:element ref="ns1:PublishingStartDate" minOccurs="0"/>
                <xsd:element ref="ns1:PublishingExpirationDate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http://schemas.microsoft.com/sharepoint/v3" elementFormDefault="qualified">
    <xsd:import namespace="http://schemas.microsoft.com/office/2006/documentManagement/types"/>
    <xsd:import namespace="http://schemas.microsoft.com/office/infopath/2007/PartnerControls"/>
    <xsd:element name="PublishingStartDate" ma:index="8" nillable="true" ma:displayName="Scheduling Start Date" ma:description="" ma:hidden="true" ma:internalName="PublishingStartDate">
      <xsd:simpleType>
        <xsd:restriction base="dms:Unknown"/>
      </xsd:simpleType>
    </xsd:element>
    <xsd:element name="PublishingExpirationDate" ma:index="9" nillable="true" ma:displayName="Scheduling End Date" ma:description="" ma:hidden="true" ma:internalName="PublishingExpirationDate">
      <xsd:simpleType>
        <xsd:restriction base="dms:Unknown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PublishingExpirationDate xmlns="http://schemas.microsoft.com/sharepoint/v3" xsi:nil="true"/>
    <PublishingStartDate xmlns="http://schemas.microsoft.com/sharepoint/v3" xsi:nil="true"/>
  </documentManagement>
</p:properties>
</file>

<file path=customXml/itemProps1.xml><?xml version="1.0" encoding="utf-8"?>
<ds:datastoreItem xmlns:ds="http://schemas.openxmlformats.org/officeDocument/2006/customXml" ds:itemID="{97EB3906-82FE-483B-9230-D46A57CC7728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microsoft.com/sharepoint/v3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customXml/itemProps2.xml><?xml version="1.0" encoding="utf-8"?>
<ds:datastoreItem xmlns:ds="http://schemas.openxmlformats.org/officeDocument/2006/customXml" ds:itemID="{CA296518-ACB8-4829-BA8B-AD4314C07442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9193EBF6-7E93-414B-A6CB-5F8079DA20A0}">
  <ds:schemaRefs>
    <ds:schemaRef ds:uri="http://schemas.microsoft.com/office/2006/metadata/properties"/>
    <ds:schemaRef ds:uri="http://schemas.microsoft.com/office/infopath/2007/PartnerControls"/>
    <ds:schemaRef ds:uri="http://schemas.microsoft.com/sharepoint/v3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Genesis.thmx</Template>
  <TotalTime>740</TotalTime>
  <Application>LibreOffice/7.4.7.2$Linux_X86_64 LibreOffice_project/40$Build-2</Application>
  <AppVersion>15.0000</AppVersion>
  <Words>1324</Words>
  <Paragraphs>18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18:03:11Z</dcterms:created>
  <dc:creator>ALjaffan</dc:creator>
  <dc:description/>
  <dc:language>en-US</dc:language>
  <cp:lastModifiedBy>Mac</cp:lastModifiedBy>
  <dcterms:modified xsi:type="dcterms:W3CDTF">2013-02-05T19:43:33Z</dcterms:modified>
  <cp:revision>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6594AD1C67AF545A5960EF5B4D34DFC</vt:lpwstr>
  </property>
  <property fmtid="{D5CDD505-2E9C-101B-9397-08002B2CF9AE}" pid="3" name="Notes">
    <vt:r8>5</vt:r8>
  </property>
  <property fmtid="{D5CDD505-2E9C-101B-9397-08002B2CF9AE}" pid="4" name="PresentationFormat">
    <vt:lpwstr>On-screen Show (4:3)</vt:lpwstr>
  </property>
  <property fmtid="{D5CDD505-2E9C-101B-9397-08002B2CF9AE}" pid="5" name="Slides">
    <vt:r8>21</vt:r8>
  </property>
</Properties>
</file>