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53DDB3-A176-4999-9DCD-FAD956CF8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4548B-375D-464A-ADBC-BC99E28509E0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0C731F-86B9-4530-A298-5B70287E87EF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322DA1-6E1A-4F7E-AD7A-08599AA0D25C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395F11-3692-47FB-97AA-F5C1BA5FBDB3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x-non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D38592-0709-4464-8387-A08044BF79E8}" type="slidenum">
              <a:rPr b="0" lang="x-non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A9C-C9F2-42D7-B475-9157BCB6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21A-158C-495A-9D12-3872A71A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081-261B-49F8-9C70-9717AD4E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AAC-59F7-4603-AF29-6895D989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6137-DD42-4058-9DA5-E55BA97D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1AB5-AF4C-470C-B427-6560E2E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EB6B-7235-478B-9B4E-921A016F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00C-2390-4991-98C8-BAEEB346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661C-BA9A-486B-A055-2E1BD54F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28DE-1B09-44D4-B50D-852E636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D518-1E20-4B69-B1D4-AED4CCB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FF1-C936-47BE-9CC3-11BD91A1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CF96-C49B-4DB3-9487-73E1712E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5097-1494-4844-ABC3-2836D338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DBE2-183F-4E7F-B7BC-DBCF7176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F65D-A6B7-4275-9533-9C74C95E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653D-8D31-4934-B9C2-4E99AA40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0183-8552-42B5-B859-947EBD37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D3F2-B40F-4823-9B56-B66D99CD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0492-6E85-442F-9DA3-F07F3B8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735B-6606-4B6C-B6F8-0F5CC4C0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85B5-F92D-410D-878D-D8569C1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0B8-6D55-4BC3-A2A1-CC9FC07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10F6F-D316-4B1A-83CF-FE314FFA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2E4B-7302-4A03-91F3-3AF058D3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9BCF-127E-4368-8815-DAF6970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970F-E7FD-4538-A2BB-BD4E019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2C7BF-BBF8-4865-99B5-0EDA597A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811A-EE96-40B2-9C74-3ADE91C1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4840-EEFE-4946-B32D-19BCC8FB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EF6B-A490-4BD8-9DFB-A1A8F412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D4CB-7BAB-46D5-B117-ED789BC1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D8AE-D5FC-47D9-9CC0-9B5C6332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D3F-3073-46C8-B0AA-6ED2E8BD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F743F-9413-430A-9205-74A8EDCC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B455-21AD-4FAB-AE1C-19CE973C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A2F6-FB3E-473D-B346-FC83ECBA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BD2B-F117-43A3-A3B3-B315D4ED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2F84-F7AC-4520-AAA2-ECD601E1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D314-5482-42DC-85E0-0F82420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B4AF-7142-4E9F-81CB-B4544455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171F-4485-4F57-9F0E-7A46E257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01456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288240" y="223236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4052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01456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3288240" y="2630520"/>
            <a:ext cx="12128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14EC-A144-4EBE-AD33-F8E30DED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F57-9439-4186-BFA7-4EB724A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452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ED1-33F7-482E-A4BE-2C7C7AE8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871-2983-4846-9303-06C4AA8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670840" y="263052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3D0-10D2-46B6-9765-217FB232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70840" y="2232360"/>
            <a:ext cx="18381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520" y="2630520"/>
            <a:ext cx="3767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2AC-74C9-4FF9-BF16-31091FFF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7800" cy="1926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0778D91-8812-4DEF-820E-9DD68C7BBE2B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Box 7"/>
          <p:cNvSpPr/>
          <p:nvPr/>
        </p:nvSpPr>
        <p:spPr>
          <a:xfrm>
            <a:off x="8322480" y="5804640"/>
            <a:ext cx="307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chemeClr val="accent1"/>
                </a:solidFill>
                <a:latin typeface="Wingding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5D38C52-6C7E-4C5E-9589-1B5E7BA61420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520" y="2784600"/>
            <a:ext cx="376704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634640" y="2784600"/>
            <a:ext cx="376704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20D8AD-E5BD-45F7-A0D1-6BAEE849898B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1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74052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463140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1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63140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8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452FB4-E9B3-463A-8BDA-BC0BC849ED22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3640" y="177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6000" spc="-1" strike="noStrike">
                <a:solidFill>
                  <a:srgbClr val="ffffff"/>
                </a:solidFill>
                <a:latin typeface="Calisto MT"/>
              </a:rPr>
              <a:t>CS1201: Programming Language 2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Calisto MT"/>
              </a:rPr>
              <a:t>Functions </a:t>
            </a:r>
            <a:endParaRPr b="0" lang="en-US" sz="6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ifferent Function Compon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93" name="Content Placeholder 3" descr="Screen shot 2013-02-05 at 8.17.42 PM.png"/>
          <p:cNvPicPr/>
          <p:nvPr/>
        </p:nvPicPr>
        <p:blipFill>
          <a:blip r:embed="rId1"/>
          <a:stretch/>
        </p:blipFill>
        <p:spPr>
          <a:xfrm>
            <a:off x="228600" y="2286000"/>
            <a:ext cx="8732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liminating the Declaration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770200"/>
            <a:ext cx="838152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o eliminate the function declaration, place the function definition (the function itself) in the listing before the first call to the functio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s approach is simpler for short programs, in that it removes the declaration, but it is less flexibl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nt sum(int x, int y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{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nt result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result = x+y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}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1676520" y="4800600"/>
            <a:ext cx="6095520" cy="74736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Calisto MT"/>
              </a:rPr>
              <a:t>this function must return an integer value as indicated in the header definition (</a:t>
            </a: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r>
              <a:rPr b="0" lang="en-US" sz="1800" spc="-1" strike="noStrike">
                <a:solidFill>
                  <a:schemeClr val="lt1"/>
                </a:solidFill>
                <a:latin typeface="Calisto MT"/>
              </a:rPr>
              <a:t>) should be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66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int sum (int n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{ if (n==0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return 0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else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n+sum(n-1);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}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66680" y="5117400"/>
            <a:ext cx="7162560" cy="74736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1800" spc="-1" strike="noStrike">
                <a:solidFill>
                  <a:schemeClr val="lt1"/>
                </a:solidFill>
                <a:latin typeface="Calisto MT"/>
              </a:rPr>
              <a:t>the result of n+sum(n-1) is not returned; sum returns an improper result, the else part should be written a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ourier New"/>
              </a:rPr>
              <a:t>else return n+sum(n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void f(float a)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float a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out&lt;&lt;a&lt;&lt;endl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514600" y="4392000"/>
            <a:ext cx="6552720" cy="228420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3300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rgbClr val="ff3300"/>
                </a:solidFill>
                <a:latin typeface="Calisto MT"/>
              </a:rPr>
              <a:t>;</a:t>
            </a: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 found after function definitio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redefining the parameter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chemeClr val="lt1"/>
                </a:solidFill>
                <a:latin typeface="Calisto MT"/>
              </a:rPr>
              <a:t> in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void f(float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float a2 = a + 8.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cout &lt;&lt;a2&lt;&lt;en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Finding Errors in Function Cod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7662600" cy="37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void product(void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int a, b, c, result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out &lt;&lt; “enter three integers:”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in &gt;&gt; a &gt;&gt; b &gt;&gt; c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result = a*b*c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cout &lt;&lt; “Result is” &lt;&lt; result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6172200" y="2521080"/>
            <a:ext cx="2742840" cy="3051000"/>
          </a:xfrm>
          <a:prstGeom prst="rect">
            <a:avLst/>
          </a:prstGeom>
          <a:gradFill rotWithShape="0">
            <a:gsLst>
              <a:gs pos="0">
                <a:srgbClr val="90d4cd"/>
              </a:gs>
              <a:gs pos="100000">
                <a:srgbClr val="2caa9f"/>
              </a:gs>
            </a:gsLst>
            <a:lin ang="5400000"/>
          </a:gradFill>
          <a:ln>
            <a:solidFill>
              <a:srgbClr val="30aba0"/>
            </a:solidFill>
            <a:round/>
          </a:ln>
          <a:effectLst>
            <a:outerShdw algn="tl" blurRad="88920" dir="11391949" dist="50425" rotWithShape="0" sx="102000" sy="10100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Calisto MT"/>
              </a:rPr>
              <a:t>According to the definition it should not return a value , but in the block (body) it did &amp; this is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"/>
            </a:pPr>
            <a:r>
              <a:rPr b="0" lang="en-US" sz="2400" spc="-1" strike="noStrike">
                <a:solidFill>
                  <a:schemeClr val="lt1"/>
                </a:solidFill>
                <a:latin typeface="Wingdings"/>
              </a:rPr>
              <a:t></a:t>
            </a:r>
            <a:r>
              <a:rPr b="0" lang="en-US" sz="2400" spc="-1" strike="noStrike">
                <a:solidFill>
                  <a:schemeClr val="lt1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chemeClr val="lt1"/>
                </a:solidFill>
                <a:latin typeface="Calisto MT"/>
              </a:rPr>
              <a:t>Remove </a:t>
            </a:r>
            <a:r>
              <a:rPr b="1" lang="en-US" sz="2400" spc="-1" strike="noStrike">
                <a:solidFill>
                  <a:schemeClr val="lt1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rameters vs Argu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Up until now, we have not differentiated between function parameters and arguments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75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3920" indent="-31392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In common usage, the terms parameter and argument are often interchanged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752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28200" indent="-3081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A </a:t>
            </a:r>
            <a:r>
              <a:rPr b="1" lang="en-GB" sz="2000" spc="-1" strike="noStrike">
                <a:solidFill>
                  <a:srgbClr val="595959"/>
                </a:solidFill>
                <a:latin typeface="Calisto MT"/>
              </a:rPr>
              <a:t>function parameter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 is a variable declared in the prototype or declaration of 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28200" indent="-30816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An </a:t>
            </a:r>
            <a:r>
              <a:rPr b="1" lang="en-GB" sz="2000" spc="-1" strike="noStrike">
                <a:solidFill>
                  <a:srgbClr val="595959"/>
                </a:solidFill>
                <a:latin typeface="Calisto MT"/>
              </a:rPr>
              <a:t>argument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 is the value that is passed to the function in place of a paramet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rameters </a:t>
            </a:r>
            <a:r>
              <a:rPr b="1" lang="en-GB" sz="4600" spc="-1" strike="noStrike">
                <a:solidFill>
                  <a:srgbClr val="ffffff"/>
                </a:solidFill>
                <a:latin typeface="Calisto MT"/>
              </a:rPr>
              <a:t>vs 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Argu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2133000"/>
            <a:ext cx="3423960" cy="32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void foo(int x, int y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int n=3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onsolas"/>
              </a:rPr>
              <a:t>foo(6, n+1);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00640" y="2133720"/>
            <a:ext cx="376704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a function is called, all of the parameters of the function are created as variables, and the value of the arguments are copied into the parameter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0880" y="5810040"/>
            <a:ext cx="7391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 is the argument (value) sent to paramete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the value of n+1 is sent to parameter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Methods of pass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There are 3 primary methods of passing arguments to functions: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pass by value,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pass by reference,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</a:rPr>
              <a:t>and pass by address. ( will be addressed later)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 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ssing arguments by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144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Example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-22860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85800" indent="-336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By default, arguments in C++ are passed by valu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Char char="•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When arguments are </a:t>
            </a:r>
            <a:r>
              <a:rPr b="1" lang="en-GB" sz="1800" spc="-1" strike="noStrike">
                <a:solidFill>
                  <a:srgbClr val="595959"/>
                </a:solidFill>
                <a:latin typeface="Calisto MT"/>
              </a:rPr>
              <a:t>passed by valu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, a copy of the argument is passed to the function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91320" y="1600200"/>
            <a:ext cx="3978720" cy="3841560"/>
          </a:xfrm>
          <a:prstGeom prst="rect">
            <a:avLst/>
          </a:prstGeom>
          <a:solidFill>
            <a:schemeClr val="lt1"/>
          </a:solidFill>
          <a:ln w="31680">
            <a:solidFill>
              <a:srgbClr val="e29f1d"/>
            </a:solidFill>
            <a:round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void foo(int y)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{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cout &lt;&lt; "y = " &lt;&lt; y &lt;&lt; endl;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}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int main()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{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foo(5); // first call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int x = 6;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foo(x); // second call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foo(x+1); // third call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    </a:t>
            </a: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return 0;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200" spc="-1" strike="noStrike">
                <a:solidFill>
                  <a:schemeClr val="dk1"/>
                </a:solidFill>
                <a:latin typeface="Calisto MT"/>
              </a:rPr>
              <a:t>}</a:t>
            </a: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9800" y="236232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What is a Function?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 Prototype Vs Declera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Highlight  Some Errors in Function Cod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Parameters Vs Argumen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Method Pass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 Recurs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04200" indent="-28584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Arial"/>
              <a:buChar char="•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 Overload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 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assing arguments by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284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This is shown in the following example: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Because a copy of the argument is passed to the function, the original argument can not be modified by the function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3140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Calisto MT"/>
            </a:endParaRPr>
          </a:p>
        </p:txBody>
      </p:sp>
      <p:graphicFrame>
        <p:nvGraphicFramePr>
          <p:cNvPr id="224" name="Content Placeholder 4"/>
          <p:cNvGraphicFramePr/>
          <p:nvPr/>
        </p:nvGraphicFramePr>
        <p:xfrm>
          <a:off x="4843080" y="1905120"/>
          <a:ext cx="3767400" cy="4797360"/>
        </p:xfrm>
        <a:graphic>
          <a:graphicData uri="http://schemas.openxmlformats.org/drawingml/2006/table">
            <a:tbl>
              <a:tblPr/>
              <a:tblGrid>
                <a:gridCol w="240120"/>
                <a:gridCol w="3527280"/>
              </a:tblGrid>
              <a:tr h="4797360">
                <a:tc>
                  <a:txBody>
                    <a:bodyPr lIns="33120" rIns="33120" tIns="18000" bIns="18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afafaf"/>
                          </a:solidFill>
                          <a:latin typeface="Consolas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3120" rIns="3312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void foo(int y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y = 6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y = " &lt;&lt; y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 // y is destroyed h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main(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using namespace std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int x = 5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foo(x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cout &lt;&lt; "x = " &lt;&lt; x &lt;&lt; endl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    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return 0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onsolas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 </a:t>
            </a:r>
            <a:r>
              <a:rPr b="0" lang="en-GB" sz="3600" spc="-1" strike="noStrike">
                <a:solidFill>
                  <a:srgbClr val="ffffff"/>
                </a:solidFill>
                <a:latin typeface="Calisto MT"/>
              </a:rPr>
              <a:t>Adv. And DisAdv. Of Passing  by value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052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Advantages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4052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23880" indent="-3060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Arguments passed by value can be: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941760" indent="-31752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variables (eg. x),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941760" indent="-31752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literals (eg. 6),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941760" indent="-31752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or expressions (eg. x+1) or (eg foo())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23880" indent="-3060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Arguments are never changed by the function being called, which prevents side effect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1400" y="2232360"/>
            <a:ext cx="3767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99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/>
                </a:solidFill>
                <a:latin typeface="Calisto MT"/>
              </a:rPr>
              <a:t>Disadvantage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31400" y="3160080"/>
            <a:ext cx="3767040" cy="28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93120" indent="-27432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80000"/>
              <a:buFont typeface="Wingdings 2" charset="2"/>
              <a:buChar char=""/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Copying large structs or classes can take a lot of time to copy, and this can cause a performance penalty, especially if the function is called many time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What is a Function? 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function groups number of program statements into a unit and gives it a nam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unctions are used to reduce program siz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y sequence of instructions that appear more than once in a program is a candidate for being made into functio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Just like variables you must tell the compiler about the function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claration before it is called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finition before it is called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claration 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void Func1 (); </a:t>
            </a:r>
            <a:r>
              <a:rPr b="0" lang="en-US" sz="2200" spc="-1" strike="noStrike">
                <a:solidFill>
                  <a:srgbClr val="595959"/>
                </a:solidFill>
                <a:latin typeface="Wingdings"/>
              </a:rPr>
              <a:t>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Function declaration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eclaration tells the compiler that at some point later we will present a function called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Func1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void means that the function has no return valu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mpty parentheses () means that the function takes no parame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otice that the function declaration is terminated by a semicol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unction declarations are also called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prototypes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Call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unc1(); </a:t>
            </a:r>
            <a:r>
              <a:rPr b="0" lang="en-US" sz="2200" spc="-1" strike="noStrike">
                <a:solidFill>
                  <a:srgbClr val="595959"/>
                </a:solidFill>
                <a:latin typeface="Wingdings"/>
              </a:rPr>
              <a:t>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Function cal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e need to call the function: the function name, followed by parentheses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syntax of the call is very similar to that of the declaration, except that the return type is not use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finition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definition contains the actual code for the func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Void Func1()       //decelerator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{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…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.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      //function body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}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finition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function body is composed of the statements that make up the function, delimited by brac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decelerator must agree with the declaration: It must use the </a:t>
            </a:r>
            <a:r>
              <a:rPr b="0" lang="en-US" sz="2200" spc="-1" strike="noStrike">
                <a:solidFill>
                  <a:srgbClr val="ff0000"/>
                </a:solidFill>
                <a:latin typeface="Calisto MT"/>
              </a:rPr>
              <a:t>same function name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, have the </a:t>
            </a:r>
            <a:r>
              <a:rPr b="0" lang="en-US" sz="2200" spc="-1" strike="noStrike">
                <a:solidFill>
                  <a:srgbClr val="ff0000"/>
                </a:solidFill>
                <a:latin typeface="Calisto MT"/>
              </a:rPr>
              <a:t>same argument typ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 the same order (if there are arguments), and have the </a:t>
            </a:r>
            <a:r>
              <a:rPr b="0" lang="en-US" sz="2200" spc="-1" strike="noStrike">
                <a:solidFill>
                  <a:srgbClr val="ff0000"/>
                </a:solidFill>
                <a:latin typeface="Calisto MT"/>
              </a:rPr>
              <a:t>same return typ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otice that the decelerator is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not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terminated by a semicolon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 Definition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en the function is called, control is transferred to the first statement in the function body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other statements in the function body are then executed, and when the closing brace is encountered, control returns to the calling program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97EB3906-82FE-483B-9230-D46A57CC772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CA296518-ACB8-4829-BA8B-AD4314C0744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193EBF6-7E93-414B-A6CB-5F8079DA20A0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Genesis.thmx</Template>
  <TotalTime>740</TotalTime>
  <Application>LibreOffice/7.4.7.2$Linux_X86_64 LibreOffice_project/40$Build-2</Application>
  <AppVersion>15.0000</AppVersion>
  <Words>1324</Words>
  <Paragraphs>1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8:03:11Z</dcterms:created>
  <dc:creator>ALjaffan</dc:creator>
  <dc:description/>
  <dc:language>en-US</dc:language>
  <cp:lastModifiedBy>Mac</cp:lastModifiedBy>
  <dcterms:modified xsi:type="dcterms:W3CDTF">2013-02-05T19:43:3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5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