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63404-AD70-4EF6-8067-50E5D4150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A9FA56-65CB-461E-8196-7720929E86B7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84428E-43A6-44F3-9A81-043896BFA6A5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79DBE4-0FA6-4B54-9B93-4093524706D2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7B9-5543-4C84-B2A5-4F05EED1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9B8-107F-475C-80C0-A760456B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5D1-9902-4836-99D8-F96EFCEE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56E-F2ED-4F5D-B3FF-B7B7C3CF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1CC-F520-476D-B136-E6C75D91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2434-8663-49E5-838E-E9FCB924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8788-9301-450B-BF30-774A2F3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0D95-9CE5-460E-91F0-7C21F48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320-1C7C-43C1-9F87-EFE4339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3899-E01F-4C20-ABDD-C28AD4E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C8D-1316-4AC7-8659-4AA870F9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383-0560-4EF1-AF25-0985DB90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F93B-88F0-4CD2-A547-7F144B9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1DD3-0A3F-42C4-9281-36F743E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5224-F528-4E54-BFD0-DFD35629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37C-1AA4-40D6-B188-48C3F997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F2B-6689-43C2-B3B9-C06EFB4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A9B4-E88B-432C-802D-B511BFA0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3523-29B1-42B4-8794-9DDA2F8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15AC-6089-4902-A9D8-8144335D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5C5F-6207-4FCE-85F9-0E8ABFF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316E-5E3A-4012-A1A8-21958287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A43-3723-452C-B8C4-A97569D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A3F0-CA65-4177-AEC1-EB4E3E6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09CB-A6EC-47B0-90A4-9EF643B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C44D-FE40-425E-A063-C26B33B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5928-DEC8-4ADC-BE7A-61304D1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43CB-FA6B-463C-BD4B-5B81EF7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2936-A4F6-420C-9B5A-5DA80222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0D2A-5EB8-454B-B267-15107389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DFC2-2678-44C4-90A8-F474231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E0F6-5B5A-4255-8F38-E3310F4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6923-1DD0-40F1-A955-FFA3ED2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6CD-A999-4560-A20E-BC01B34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F43B-0D2B-4E3B-92B0-3053013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1200-7899-4FBB-BF7E-7E3675A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6F11-D963-4F27-8A5E-B1349AB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61FC-1028-41EA-A15F-88741B2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B1C1-E3FE-4FC7-B334-7158975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B101-E667-4CAF-BA10-4A4EA95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B778-DC3D-43BC-B4E2-717F542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B369-8A80-4593-9822-47C0CD19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B5FA-9219-4F85-9F5B-7EE71615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72F-23EC-4A52-AAB4-8603ED5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678-C1E6-4257-BB6C-11E8D9F3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CE-876D-488F-A739-8FB1A94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2B5-3A31-4B1B-AC7A-1453097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843-EB06-4BE7-84DF-4B0D4DD0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117AE62-AA6A-49A3-807A-EED596E8DB1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75E9B73-8872-4AE8-B55D-B812F3403D8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6F8D50D-0443-459E-B4B9-C98437245A3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B36038B-88D9-4911-843A-78FE27F1B21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5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ming Languages -2  C++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thod Pass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 Recur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lobal and Local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Recursion and Recursive Functio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in calls another function…..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unction calls another function2….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unction calls itself ?! Possible??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Wingdings"/>
              </a:rPr>
              <a:t>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A recursive function is one that call itsel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cursion and Recursive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example to print numbers counting dow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print (int p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(p==0)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ut&lt;&lt;p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nt(p-1)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Finding Factorial Recursivel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62120" y="137160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371600" y="1828800"/>
            <a:ext cx="360" cy="5331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43000" y="2362320"/>
            <a:ext cx="144756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447920" y="3352680"/>
            <a:ext cx="15235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905120" y="4191120"/>
            <a:ext cx="17521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2895480" y="38098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581280" y="4647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2590920" y="5105520"/>
            <a:ext cx="1294920" cy="53316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733560" y="56386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2743200" y="609588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4381560" y="152388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762440" y="2514600"/>
            <a:ext cx="144756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5067360" y="3505320"/>
            <a:ext cx="15235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5524560" y="4343400"/>
            <a:ext cx="17521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210360" y="5257800"/>
            <a:ext cx="1294920" cy="53316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6362640" y="624852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V="1">
            <a:off x="7315200" y="5790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Line 23"/>
          <p:cNvSpPr/>
          <p:nvPr/>
        </p:nvSpPr>
        <p:spPr>
          <a:xfrm flipV="1">
            <a:off x="6629400" y="4647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6019560" y="39621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Line 25"/>
          <p:cNvSpPr/>
          <p:nvPr/>
        </p:nvSpPr>
        <p:spPr>
          <a:xfrm flipV="1">
            <a:off x="5638680" y="2895480"/>
            <a:ext cx="360" cy="6094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Line 26"/>
          <p:cNvSpPr/>
          <p:nvPr/>
        </p:nvSpPr>
        <p:spPr>
          <a:xfrm flipV="1">
            <a:off x="5257800" y="198108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Rectangle 27"/>
          <p:cNvSpPr/>
          <p:nvPr/>
        </p:nvSpPr>
        <p:spPr>
          <a:xfrm>
            <a:off x="5791320" y="1523880"/>
            <a:ext cx="251424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value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7772400" y="5867280"/>
            <a:ext cx="106632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6781680" y="48769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!=2*1=2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6477120" y="39625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!=3*2=6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5867280" y="312408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!=4*6=24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5486400" y="21337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!=5*24=120 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ding Factorial Recursiv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 w="9360">
            <a:solidFill>
              <a:srgbClr val="9fb8cd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Recursive factorial Func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#include&lt;iostream.h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#include&lt;iomonip.h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unsigned long factorial(unsigned long);</a:t>
            </a: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prototyp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out&lt;&lt;“enter a positive integer:”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in&gt;&gt;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out&lt;&lt;“factorial=“&lt;&lt;factorial(num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unsigned long factorial(unsigned long 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f ( n &lt;= 1) </a:t>
            </a: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the base c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n * factorial (n - 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Should perform similar task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overloaded function appears to perform different activities depending on the kind of data sent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performs one operation on one kind of data but another operation on a different kind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);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/decl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char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char, int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);  //Firs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‘=’); //Secon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‘+’,30);  //Third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()  // firs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For (int j=0; j&lt;45; j++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‘*’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 (char ch)  // Secon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For (int j=0;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j&lt;45; j++)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ch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(char ch,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 n)  //Thir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or(int j=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j&lt;n; j++)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ch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s program prints out three lines of characters. Here’s the 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********************************************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===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+++++++++++++++++++++++++++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2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rogram contains three functions with the same nam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hree declarations, three function calls, and three function defini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mpiler uses the function signature—the number of arguments, and their data types—to distinguish one function from anoth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3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nd pass by address. ( will be addressed later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no argum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describes an entirely different function than the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cha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ne argument of type ch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or the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char, int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ne argument of type char and another of type i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variable’s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op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so calle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isibility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escribes the locations within a program from which it can be acces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cope of a variable determines which parts of the program can access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ope: Local and Glob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riables defined within a function body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ariable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ause they have local sco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func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somevar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at othervar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th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2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s defined within a function are only visible, meaning they can only be accessed, from within the function in which they are defined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some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local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oat otherva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1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local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1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lobal variable is used when it must be accessible to more than one function in a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le local variables are defined within functions, global variables are defined outside of any fun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lobal variable is visible to all those functions that follow the variable’s definition in the listing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4" name="Content Placeholder 3" descr="showscope_t.gif"/>
          <p:cNvPicPr/>
          <p:nvPr/>
        </p:nvPicPr>
        <p:blipFill>
          <a:blip r:embed="rId1"/>
          <a:stretch/>
        </p:blipFill>
        <p:spPr>
          <a:xfrm>
            <a:off x="2181960" y="1219320"/>
            <a:ext cx="4779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rgument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re passed by valu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the called function creates a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new variab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the same type as the argument and copies the argument’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to it. As we noted, the function cannot access the original variable in the calling program, only the copy it cre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rguments by value is useful when the function does not need to modify the original variable in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fact, it offers insurance that the function cannot harm the original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56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rguments by reference uses a different mechanism. Instead of a value being passed to the function, a </a:t>
            </a:r>
            <a:r>
              <a:rPr b="0" i="1" lang="en-US" sz="2600" spc="-1" strike="noStrike">
                <a:solidFill>
                  <a:srgbClr val="ff0000"/>
                </a:solidFill>
                <a:latin typeface="Gill Sans MT"/>
              </a:rPr>
              <a:t>referen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original variable, in the calling program, is pas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important advantage of passing by reference is that the function can access th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ctu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variables in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provides a mechanism for passing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ore than one valu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om the function back to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5720" cy="39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, we declare the function parameters as references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3520" y="1828800"/>
            <a:ext cx="78681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Using namespace std 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oid duplicate (int&amp; a, int&amp; b, int &amp; c)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Int x=1,y=3,z=7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Duplicate (x,y,z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out &lt;&lt; “x=“&lt;&lt;x&lt;&lt;“, y=“&lt;&lt;y&lt;&lt;“,z=“&lt;&lt;z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oid duplicate (int&amp; a, int&amp; b, int &amp; c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a*=2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b*=2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*=2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}  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80880" y="1905120"/>
            <a:ext cx="828036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arguments are indicated by the ampersand (&amp;) following the data typ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a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nce a reference to a variable is treated exactly the same as the variable itself, then 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Screen shot 2013-02-11 at 7.20.48 PM.png"/>
          <p:cNvPicPr/>
          <p:nvPr/>
        </p:nvPicPr>
        <p:blipFill>
          <a:blip r:embed="rId1"/>
          <a:stretch/>
        </p:blipFill>
        <p:spPr>
          <a:xfrm>
            <a:off x="2209680" y="4800600"/>
            <a:ext cx="4635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2133720"/>
            <a:ext cx="81529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metimes we need a function to return multipl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wever, functions can only have one return val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e way to return multiple values is using reference parame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vantages of passing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t allows us to have the function change the value of the argument, which is sometimes useful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 a copy of the argument is not made, it is fast, even when used with large structs or class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We can pass by const reference to avoid unintentional chang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We can return multiple values from a func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1113</TotalTime>
  <Application>LibreOffice/7.4.7.2$Linux_X86_64 LibreOffice_project/40$Build-2</Application>
  <AppVersion>15.0000</AppVersion>
  <Words>1767</Words>
  <Paragraphs>2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Mac</cp:lastModifiedBy>
  <dcterms:modified xsi:type="dcterms:W3CDTF">2013-02-11T18:09:41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</vt:r8>
  </property>
  <property fmtid="{D5CDD505-2E9C-101B-9397-08002B2CF9AE}" pid="4" name="PresentationFormat">
    <vt:lpwstr>On-screen Show (4:3)</vt:lpwstr>
  </property>
  <property fmtid="{D5CDD505-2E9C-101B-9397-08002B2CF9AE}" pid="5" name="Slides">
    <vt:r8>24</vt:r8>
  </property>
</Properties>
</file>