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35029D-5EC2-49B3-B9C7-FD358AAE1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x-non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EDFEAC-EB39-4845-913E-9B59079E6C18}" type="slidenum">
              <a:rPr b="0" lang="x-non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x-non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25EE3A-1C08-4C9D-BE83-467D1629BC14}" type="slidenum">
              <a:rPr b="0" lang="x-non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x-non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47C833-1428-48DC-9C18-F5967295AFA6}" type="slidenum">
              <a:rPr b="0" lang="x-non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8504-DE0B-4C5D-BDCD-409CC22CB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9FCF-4036-4AC4-B781-2CCBA908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CA44-501D-4F58-A4A2-E4DDF1866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FCCF-F9E5-4B20-9B26-9A6B5D5F3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0500-8B15-433D-A2EA-3D70E2338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45C3-33FA-45AC-A5E8-9990452F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0A48-1EF3-47F2-A519-1550F629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1859-3058-4273-B3ED-4EA360BD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7EA3-3B08-49BA-B85D-D88D1F53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EF94-E64E-43A4-AE1E-F70776C3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48C4-36B0-4D62-8B51-9F25089D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785F-58D0-40AB-9AB8-F6110DF3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D151-7E31-4989-9DCF-F94800EF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A553-BA77-4298-8E16-C95F4C03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6F26-33FD-49FE-9977-B48CD0DF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DF0C-90A8-4CEF-9B07-4A3610463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84B3-4A87-4E43-85A8-BA4C543BA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DE33A-0A60-4DFF-A752-C8837B691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681D2-9221-4108-A871-9C04B5A6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3F3E8-EB2A-4C74-8F8F-A1540901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489F9-12E6-464C-975C-E539E496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9432D-1FD7-4868-90B5-9E5762F3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86E1-EE93-44EB-B257-96F39EE1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A39A7-8FB9-4513-8C1B-453F202E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0702F-DAA1-4893-8B1F-1635C5F2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73CA0-A332-4166-B140-E33402AC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3588B-58B2-441C-A8B6-33645BCA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244DE-57FF-4940-ADBD-45A8F804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50F9B-2A64-4145-BDAE-2B815B416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F74F4-39BB-4F05-94E4-C4A42DF69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6BC01-12F2-44AC-BE2F-E304A0189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4AE91-224C-4052-8059-7F4BEA00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382BA-2337-436E-8346-8C9FD9B1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7F21-2E18-4C23-AB54-D1B288C0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AB485-9623-48D2-8142-4AC42146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3B137-95D9-47FF-9DAC-FC5C0D0F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67215-6DDB-488F-8B3C-2D9045B6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26F26-95A3-443B-A155-73F7CC8F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F3011-2B6D-42E0-A326-3CEDEE35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5A257-CC74-4D29-AAD1-627A9FA3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8AC41-6AD8-42EC-B80A-F92185D2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6A4CA-8250-4504-8B91-FBED77399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484B6-8673-4425-820D-CC030C489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7D79-2D0C-4EBC-8AF7-06BA19D8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1260-94CC-48D7-AF7E-5EB401AF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9948-F17E-4FDE-9801-A6443689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2059-8B39-4E63-849E-44050D8C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0919-8344-4671-A201-2DE5EA37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E104FCF-8385-4C86-992F-77B1A11AADB8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CA8735D-DC96-45B9-BD86-15360F25666E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body"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F254F22-7CE4-49F7-B8D5-26BDEA3564E2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Isosceles Triangle 5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285920"/>
            <a:ext cx="4039920" cy="685440"/>
          </a:xfrm>
          <a:prstGeom prst="rect">
            <a:avLst/>
          </a:prstGeom>
          <a:noFill/>
          <a:ln w="0">
            <a:noFill/>
          </a:ln>
        </p:spPr>
        <p:txBody>
          <a:bodyPr rIns="90000" tIns="45000" bIns="45000" anchor="b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2"/>
                </a:solidFill>
                <a:latin typeface="Gill Sans MT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body"/>
          </p:nvPr>
        </p:nvSpPr>
        <p:spPr>
          <a:xfrm>
            <a:off x="4648320" y="1295280"/>
            <a:ext cx="4041360" cy="685440"/>
          </a:xfrm>
          <a:prstGeom prst="rect">
            <a:avLst/>
          </a:prstGeom>
          <a:noFill/>
          <a:ln w="0">
            <a:noFill/>
          </a:ln>
        </p:spPr>
        <p:txBody>
          <a:bodyPr rIns="90000" tIns="45000" bIns="45000" anchor="b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2"/>
                </a:solidFill>
                <a:latin typeface="Gill Sans MT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dt" idx="10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4281850-EA3B-47E2-971C-931A60A8D943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 type="body"/>
          </p:nvPr>
        </p:nvSpPr>
        <p:spPr>
          <a:xfrm>
            <a:off x="457200" y="2133720"/>
            <a:ext cx="4038120" cy="40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8"/>
          <p:cNvSpPr>
            <a:spLocks noGrp="1"/>
          </p:cNvSpPr>
          <p:nvPr>
            <p:ph type="body"/>
          </p:nvPr>
        </p:nvSpPr>
        <p:spPr>
          <a:xfrm>
            <a:off x="4648320" y="2133720"/>
            <a:ext cx="4038120" cy="40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5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rogramming Languages -2  C++</a:t>
            </a: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Lecture 3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4200" indent="-2858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Method Pass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4200" indent="-2858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Function Recurs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4200" indent="-2858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Function Overload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4200" indent="-2858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Global and Local variable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Recursion and Recursive Function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in calls another function…..norm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function calls another function2….norm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function calls itself ?! Possible?? </a:t>
            </a: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Wingdings"/>
              </a:rPr>
              <a:t></a:t>
            </a: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A recursive function is one that call itself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ecursion and Recursive Func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 example to print numbers counting dow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void print (int p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{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f (p==0)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return;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out&lt;&lt;p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rint(p-1);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return;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Finding Factorial Recursively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762120" y="1371600"/>
            <a:ext cx="1294920" cy="456840"/>
          </a:xfrm>
          <a:prstGeom prst="rect">
            <a:avLst/>
          </a:prstGeom>
          <a:gradFill rotWithShape="0">
            <a:gsLst>
              <a:gs pos="0">
                <a:srgbClr val="d2e2f2"/>
              </a:gs>
              <a:gs pos="50000">
                <a:srgbClr val="c0d8ee"/>
              </a:gs>
              <a:gs pos="100000">
                <a:srgbClr val="d2e2f2"/>
              </a:gs>
            </a:gsLst>
            <a:lin ang="948000"/>
          </a:gradFill>
          <a:ln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Times New Roman"/>
              </a:rPr>
              <a:t>5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1371600" y="1828800"/>
            <a:ext cx="360" cy="5331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GB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143000" y="2362320"/>
            <a:ext cx="1447560" cy="456840"/>
          </a:xfrm>
          <a:prstGeom prst="rect">
            <a:avLst/>
          </a:prstGeom>
          <a:gradFill rotWithShape="0">
            <a:gsLst>
              <a:gs pos="0">
                <a:srgbClr val="d2e2f2"/>
              </a:gs>
              <a:gs pos="50000">
                <a:srgbClr val="c0d8ee"/>
              </a:gs>
              <a:gs pos="100000">
                <a:srgbClr val="d2e2f2"/>
              </a:gs>
            </a:gsLst>
            <a:lin ang="948000"/>
          </a:gradFill>
          <a:ln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Times New Roman"/>
              </a:rPr>
              <a:t>5*4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8"/>
          <p:cNvSpPr/>
          <p:nvPr/>
        </p:nvSpPr>
        <p:spPr>
          <a:xfrm>
            <a:off x="2438280" y="2819160"/>
            <a:ext cx="360" cy="53352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GB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1447920" y="3352680"/>
            <a:ext cx="1523520" cy="456840"/>
          </a:xfrm>
          <a:prstGeom prst="rect">
            <a:avLst/>
          </a:prstGeom>
          <a:gradFill rotWithShape="0">
            <a:gsLst>
              <a:gs pos="0">
                <a:srgbClr val="d2e2f2"/>
              </a:gs>
              <a:gs pos="50000">
                <a:srgbClr val="c0d8ee"/>
              </a:gs>
              <a:gs pos="100000">
                <a:srgbClr val="d2e2f2"/>
              </a:gs>
            </a:gsLst>
            <a:lin ang="948000"/>
          </a:gradFill>
          <a:ln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Times New Roman"/>
              </a:rPr>
              <a:t>4*3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1905120" y="4191120"/>
            <a:ext cx="1752120" cy="456840"/>
          </a:xfrm>
          <a:prstGeom prst="rect">
            <a:avLst/>
          </a:prstGeom>
          <a:gradFill rotWithShape="0">
            <a:gsLst>
              <a:gs pos="0">
                <a:srgbClr val="d2e2f2"/>
              </a:gs>
              <a:gs pos="50000">
                <a:srgbClr val="c0d8ee"/>
              </a:gs>
              <a:gs pos="100000">
                <a:srgbClr val="d2e2f2"/>
              </a:gs>
            </a:gsLst>
            <a:lin ang="948000"/>
          </a:gradFill>
          <a:ln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Times New Roman"/>
              </a:rPr>
              <a:t>3*2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1"/>
          <p:cNvSpPr/>
          <p:nvPr/>
        </p:nvSpPr>
        <p:spPr>
          <a:xfrm>
            <a:off x="2895480" y="380988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GB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Line 12"/>
          <p:cNvSpPr/>
          <p:nvPr/>
        </p:nvSpPr>
        <p:spPr>
          <a:xfrm>
            <a:off x="3581280" y="464796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GB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Rectangle 13"/>
          <p:cNvSpPr/>
          <p:nvPr/>
        </p:nvSpPr>
        <p:spPr>
          <a:xfrm>
            <a:off x="2590920" y="5105520"/>
            <a:ext cx="1294920" cy="533160"/>
          </a:xfrm>
          <a:prstGeom prst="rect">
            <a:avLst/>
          </a:prstGeom>
          <a:gradFill rotWithShape="0">
            <a:gsLst>
              <a:gs pos="0">
                <a:srgbClr val="d2e2f2"/>
              </a:gs>
              <a:gs pos="50000">
                <a:srgbClr val="c0d8ee"/>
              </a:gs>
              <a:gs pos="100000">
                <a:srgbClr val="d2e2f2"/>
              </a:gs>
            </a:gsLst>
            <a:lin ang="948000"/>
          </a:gradFill>
          <a:ln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Times New Roman"/>
              </a:rPr>
              <a:t>2*1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4"/>
          <p:cNvSpPr/>
          <p:nvPr/>
        </p:nvSpPr>
        <p:spPr>
          <a:xfrm>
            <a:off x="3733560" y="563868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GB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2743200" y="6095880"/>
            <a:ext cx="1294920" cy="456840"/>
          </a:xfrm>
          <a:prstGeom prst="rect">
            <a:avLst/>
          </a:prstGeom>
          <a:gradFill rotWithShape="0">
            <a:gsLst>
              <a:gs pos="0">
                <a:srgbClr val="d2e2f2"/>
              </a:gs>
              <a:gs pos="50000">
                <a:srgbClr val="c0d8ee"/>
              </a:gs>
              <a:gs pos="100000">
                <a:srgbClr val="d2e2f2"/>
              </a:gs>
            </a:gsLst>
            <a:lin ang="948000"/>
          </a:gradFill>
          <a:ln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6"/>
          <p:cNvSpPr/>
          <p:nvPr/>
        </p:nvSpPr>
        <p:spPr>
          <a:xfrm>
            <a:off x="4381560" y="1523880"/>
            <a:ext cx="1294920" cy="456840"/>
          </a:xfrm>
          <a:prstGeom prst="rect">
            <a:avLst/>
          </a:prstGeom>
          <a:gradFill rotWithShape="0">
            <a:gsLst>
              <a:gs pos="0">
                <a:srgbClr val="d2e2f2"/>
              </a:gs>
              <a:gs pos="50000">
                <a:srgbClr val="c0d8ee"/>
              </a:gs>
              <a:gs pos="100000">
                <a:srgbClr val="d2e2f2"/>
              </a:gs>
            </a:gsLst>
            <a:lin ang="948000"/>
          </a:gradFill>
          <a:ln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Times New Roman"/>
              </a:rPr>
              <a:t>5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7"/>
          <p:cNvSpPr/>
          <p:nvPr/>
        </p:nvSpPr>
        <p:spPr>
          <a:xfrm>
            <a:off x="4762440" y="2514600"/>
            <a:ext cx="1447560" cy="456840"/>
          </a:xfrm>
          <a:prstGeom prst="rect">
            <a:avLst/>
          </a:prstGeom>
          <a:gradFill rotWithShape="0">
            <a:gsLst>
              <a:gs pos="0">
                <a:srgbClr val="d2e2f2"/>
              </a:gs>
              <a:gs pos="50000">
                <a:srgbClr val="c0d8ee"/>
              </a:gs>
              <a:gs pos="100000">
                <a:srgbClr val="d2e2f2"/>
              </a:gs>
            </a:gsLst>
            <a:lin ang="948000"/>
          </a:gradFill>
          <a:ln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Times New Roman"/>
              </a:rPr>
              <a:t>5*4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8"/>
          <p:cNvSpPr/>
          <p:nvPr/>
        </p:nvSpPr>
        <p:spPr>
          <a:xfrm>
            <a:off x="5067360" y="3505320"/>
            <a:ext cx="1523520" cy="456840"/>
          </a:xfrm>
          <a:prstGeom prst="rect">
            <a:avLst/>
          </a:prstGeom>
          <a:gradFill rotWithShape="0">
            <a:gsLst>
              <a:gs pos="0">
                <a:srgbClr val="d2e2f2"/>
              </a:gs>
              <a:gs pos="50000">
                <a:srgbClr val="c0d8ee"/>
              </a:gs>
              <a:gs pos="100000">
                <a:srgbClr val="d2e2f2"/>
              </a:gs>
            </a:gsLst>
            <a:lin ang="948000"/>
          </a:gradFill>
          <a:ln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Times New Roman"/>
              </a:rPr>
              <a:t>4*3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9"/>
          <p:cNvSpPr/>
          <p:nvPr/>
        </p:nvSpPr>
        <p:spPr>
          <a:xfrm>
            <a:off x="5524560" y="4343400"/>
            <a:ext cx="1752120" cy="456840"/>
          </a:xfrm>
          <a:prstGeom prst="rect">
            <a:avLst/>
          </a:prstGeom>
          <a:gradFill rotWithShape="0">
            <a:gsLst>
              <a:gs pos="0">
                <a:srgbClr val="d2e2f2"/>
              </a:gs>
              <a:gs pos="50000">
                <a:srgbClr val="c0d8ee"/>
              </a:gs>
              <a:gs pos="100000">
                <a:srgbClr val="d2e2f2"/>
              </a:gs>
            </a:gsLst>
            <a:lin ang="948000"/>
          </a:gradFill>
          <a:ln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Times New Roman"/>
              </a:rPr>
              <a:t>3*2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0"/>
          <p:cNvSpPr/>
          <p:nvPr/>
        </p:nvSpPr>
        <p:spPr>
          <a:xfrm>
            <a:off x="6210360" y="5257800"/>
            <a:ext cx="1294920" cy="533160"/>
          </a:xfrm>
          <a:prstGeom prst="rect">
            <a:avLst/>
          </a:prstGeom>
          <a:gradFill rotWithShape="0">
            <a:gsLst>
              <a:gs pos="0">
                <a:srgbClr val="d2e2f2"/>
              </a:gs>
              <a:gs pos="50000">
                <a:srgbClr val="c0d8ee"/>
              </a:gs>
              <a:gs pos="100000">
                <a:srgbClr val="d2e2f2"/>
              </a:gs>
            </a:gsLst>
            <a:lin ang="948000"/>
          </a:gradFill>
          <a:ln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Times New Roman"/>
              </a:rPr>
              <a:t>2*1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1"/>
          <p:cNvSpPr/>
          <p:nvPr/>
        </p:nvSpPr>
        <p:spPr>
          <a:xfrm>
            <a:off x="6362640" y="6248520"/>
            <a:ext cx="1294920" cy="456840"/>
          </a:xfrm>
          <a:prstGeom prst="rect">
            <a:avLst/>
          </a:prstGeom>
          <a:gradFill rotWithShape="0">
            <a:gsLst>
              <a:gs pos="0">
                <a:srgbClr val="d2e2f2"/>
              </a:gs>
              <a:gs pos="50000">
                <a:srgbClr val="c0d8ee"/>
              </a:gs>
              <a:gs pos="100000">
                <a:srgbClr val="d2e2f2"/>
              </a:gs>
            </a:gsLst>
            <a:lin ang="948000"/>
          </a:gradFill>
          <a:ln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dk1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2"/>
          <p:cNvSpPr/>
          <p:nvPr/>
        </p:nvSpPr>
        <p:spPr>
          <a:xfrm flipV="1">
            <a:off x="7315200" y="579096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GB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Line 23"/>
          <p:cNvSpPr/>
          <p:nvPr/>
        </p:nvSpPr>
        <p:spPr>
          <a:xfrm flipV="1">
            <a:off x="6629400" y="4647960"/>
            <a:ext cx="360" cy="60984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GB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Line 24"/>
          <p:cNvSpPr/>
          <p:nvPr/>
        </p:nvSpPr>
        <p:spPr>
          <a:xfrm flipV="1">
            <a:off x="6019560" y="3962160"/>
            <a:ext cx="360" cy="38124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GB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Line 25"/>
          <p:cNvSpPr/>
          <p:nvPr/>
        </p:nvSpPr>
        <p:spPr>
          <a:xfrm flipV="1">
            <a:off x="5638680" y="2895480"/>
            <a:ext cx="360" cy="60948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GB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Line 26"/>
          <p:cNvSpPr/>
          <p:nvPr/>
        </p:nvSpPr>
        <p:spPr>
          <a:xfrm flipV="1">
            <a:off x="5257800" y="1981080"/>
            <a:ext cx="360" cy="53352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GB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Rectangle 27"/>
          <p:cNvSpPr/>
          <p:nvPr/>
        </p:nvSpPr>
        <p:spPr>
          <a:xfrm>
            <a:off x="5791320" y="1523880"/>
            <a:ext cx="2514240" cy="304560"/>
          </a:xfrm>
          <a:prstGeom prst="rect">
            <a:avLst/>
          </a:prstGeom>
          <a:solidFill>
            <a:schemeClr val="bg1"/>
          </a:solidFill>
          <a:ln w="9525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value=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8"/>
          <p:cNvSpPr/>
          <p:nvPr/>
        </p:nvSpPr>
        <p:spPr>
          <a:xfrm>
            <a:off x="7772400" y="5867280"/>
            <a:ext cx="1066320" cy="304560"/>
          </a:xfrm>
          <a:prstGeom prst="rect">
            <a:avLst/>
          </a:prstGeom>
          <a:solidFill>
            <a:schemeClr val="bg1"/>
          </a:solidFill>
          <a:ln w="9525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9"/>
          <p:cNvSpPr/>
          <p:nvPr/>
        </p:nvSpPr>
        <p:spPr>
          <a:xfrm>
            <a:off x="6781680" y="4876920"/>
            <a:ext cx="2361960" cy="304560"/>
          </a:xfrm>
          <a:prstGeom prst="rect">
            <a:avLst/>
          </a:prstGeom>
          <a:solidFill>
            <a:schemeClr val="bg1"/>
          </a:solidFill>
          <a:ln w="9525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!=2*1=2 retur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0"/>
          <p:cNvSpPr/>
          <p:nvPr/>
        </p:nvSpPr>
        <p:spPr>
          <a:xfrm>
            <a:off x="6477120" y="3962520"/>
            <a:ext cx="2361960" cy="304560"/>
          </a:xfrm>
          <a:prstGeom prst="rect">
            <a:avLst/>
          </a:prstGeom>
          <a:solidFill>
            <a:schemeClr val="bg1"/>
          </a:solidFill>
          <a:ln w="9525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!=3*2=6 retur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1"/>
          <p:cNvSpPr/>
          <p:nvPr/>
        </p:nvSpPr>
        <p:spPr>
          <a:xfrm>
            <a:off x="5867280" y="3124080"/>
            <a:ext cx="2361960" cy="304560"/>
          </a:xfrm>
          <a:prstGeom prst="rect">
            <a:avLst/>
          </a:prstGeom>
          <a:solidFill>
            <a:schemeClr val="bg1"/>
          </a:solidFill>
          <a:ln w="9525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!=4*6=24 retur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2"/>
          <p:cNvSpPr/>
          <p:nvPr/>
        </p:nvSpPr>
        <p:spPr>
          <a:xfrm>
            <a:off x="5486400" y="2133720"/>
            <a:ext cx="2361960" cy="304560"/>
          </a:xfrm>
          <a:prstGeom prst="rect">
            <a:avLst/>
          </a:prstGeom>
          <a:solidFill>
            <a:schemeClr val="bg1"/>
          </a:solidFill>
          <a:ln w="9525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!=5*24=120  retur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ding Factorial Recursivel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gradFill rotWithShape="0">
            <a:gsLst>
              <a:gs pos="0">
                <a:srgbClr val="d2e2f2"/>
              </a:gs>
              <a:gs pos="50000">
                <a:srgbClr val="c0d8ee"/>
              </a:gs>
              <a:gs pos="100000">
                <a:srgbClr val="d2e2f2"/>
              </a:gs>
            </a:gsLst>
            <a:lin ang="948000"/>
          </a:gradFill>
          <a:ln w="9360">
            <a:solidFill>
              <a:srgbClr val="9fb8cd"/>
            </a:solidFill>
            <a:round/>
          </a:ln>
          <a:effectLst>
            <a:outerShdw dist="25560" dir="5400000" blurRad="3816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rmAutofit fontScale="90000"/>
          </a:bodyPr>
          <a:p>
            <a:pPr marL="26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336600"/>
                </a:solidFill>
                <a:latin typeface="Courier New"/>
              </a:rPr>
              <a:t>//Recursive factorial Functio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#include&lt;iostream.h&gt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#include&lt;iomonip.h&gt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unsigned long factorial(unsigned long);</a:t>
            </a:r>
            <a:r>
              <a:rPr b="1" lang="en-US" sz="1600" spc="-1" strike="noStrike">
                <a:solidFill>
                  <a:srgbClr val="336600"/>
                </a:solidFill>
                <a:latin typeface="Courier New"/>
              </a:rPr>
              <a:t>//prototyp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int num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cout&lt;&lt;“enter a positive integer:”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cin&gt;&gt;num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cout&lt;&lt;“factorial=“&lt;&lt;factorial(num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unsigned long factorial(unsigned long n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if ( n &lt;= 1) </a:t>
            </a:r>
            <a:r>
              <a:rPr b="1" lang="en-US" sz="1600" spc="-1" strike="noStrike">
                <a:solidFill>
                  <a:srgbClr val="336600"/>
                </a:solidFill>
                <a:latin typeface="Courier New"/>
              </a:rPr>
              <a:t>//the base cas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return  1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return n * factorial (n - 1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chemeClr val="dk1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Function Overloading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</a:rPr>
              <a:t>Functions with same name and different parameters or return data type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Times New Roman"/>
              </a:rPr>
              <a:t>Should perform similar tasks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.e., function to squar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and function to squar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lo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quare( int x) {return x * x;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 square(float x) { return x * x; 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ll-time c++ complier selects the proper function by examining the number, type and order of the paramet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unction Overload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240" cy="36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 overloaded function appears to perform different activities depending on the kind of data sent to i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t performs one operation on one kind of data but another operation on a different kind.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unction Overload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7000"/>
          </a:bodyPr>
          <a:p>
            <a:pPr marL="262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#include &lt;iostream&gt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2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ing namespace std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2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2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oid repchar();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//declar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2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oid repchar(char)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2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oid repchar(char, int)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2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2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in(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2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24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500" spc="-1" strike="noStrike">
                <a:solidFill>
                  <a:srgbClr val="464653"/>
                </a:solidFill>
                <a:latin typeface="Gill Sans MT"/>
              </a:rPr>
              <a:t>repchar();  //First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524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500" spc="-1" strike="noStrike">
                <a:solidFill>
                  <a:srgbClr val="464653"/>
                </a:solidFill>
                <a:latin typeface="Gill Sans MT"/>
              </a:rPr>
              <a:t>repchar(‘=’); //Second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524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500" spc="-1" strike="noStrike">
                <a:solidFill>
                  <a:srgbClr val="464653"/>
                </a:solidFill>
                <a:latin typeface="Gill Sans MT"/>
              </a:rPr>
              <a:t>repchar(‘+’,30);  //Third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62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turn 0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2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24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Void repchar()  // firs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For (int j=0; j&lt;45; j++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cout&lt;&lt;‘*’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cout&lt;&lt;end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Void repchar (char ch)  // Second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For (int j=0;</a:t>
            </a: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j&lt;45; j++)</a:t>
            </a: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cout&lt;&lt;ch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out&lt;&lt;end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Void repchar(char ch,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int n)  //Third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for(int j=0;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j&lt;n; j++)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out&lt;&lt;ch;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out&lt;&lt;end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unction Overload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s program prints out three lines of characters. Here’s the output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********************************************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=============================================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++++++++++++++++++++++++++++++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unction Overload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24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program contains three functions with the same nam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re are three declarations, three function calls, and three function definition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compiler uses the function signature—the number of arguments, and their data types—to distinguish one function from anoth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Methods of Pass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re are 3 primary methods of passing arguments to function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pass by value,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pass by reference,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and pass by address. ( will be addressed later)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unction Overload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1000"/>
          </a:bodyPr>
          <a:p>
            <a:pPr marL="239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void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repchar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9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ich takes 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no argument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describes an entirely different function than the declar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9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void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repchar(char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ich takes 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one argument of type char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or the declar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9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void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repchar(char, int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9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ich takes 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one argument of type char and another of type in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Global and Local Variable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1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0"/>
          </a:bodyPr>
          <a:p>
            <a:pPr marL="247680" indent="-2476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variable’s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scop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also called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visibility,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describes the locations within a program from which it can be accessed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7680" indent="-2476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scope of a variable determines which parts of the program can access i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7680" indent="-2476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cope: Local and Glob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7680" indent="-2476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Variables defined within a function body are called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local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variables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ecause they have local scop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voi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mefunc(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t somevar;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//variable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fine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i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loat othervar;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//th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unction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od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Global and Local Variable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27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Variables defined within a function are only visible, meaning they can only be accessed, from within the function in which they are defined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Void somefunc(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somevar;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//local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variables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float othervar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somevar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10;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//OK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othervar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11;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//OK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nextvar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12;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//illegal: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not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visible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in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somefunc(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void otherfunc(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nextvar;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//local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variabl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somevar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20;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//illegal: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not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visible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in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otherfunc(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othervar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21;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//illegal: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not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visible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in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otherfunc(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nextvar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22;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//OK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Global and Local Variab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global variable is used when it must be accessible to more than one function in a program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ile local variables are defined within functions, global variables are defined outside of any functi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lobal variable is visible to all those functions that follow the variable’s definition in the listing.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Global and Local Variab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64" name="Content Placeholder 3" descr="showscope_t.gif"/>
          <p:cNvPicPr/>
          <p:nvPr/>
        </p:nvPicPr>
        <p:blipFill>
          <a:blip r:embed="rId1"/>
          <a:stretch/>
        </p:blipFill>
        <p:spPr>
          <a:xfrm>
            <a:off x="2181960" y="1219320"/>
            <a:ext cx="47793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Methods of Pass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When passing arguments by value, the only way to return a value back to the caller is via the function’s return valu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While this is suitable in many cases, there are a few cases where better options are availabl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ethods of Pass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440" cy="35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n arguments 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are passed by valu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the called function creates a 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new variabl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f the same type as the argument and copies the argument’s 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valu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into it. As we noted, the function cannot access the original variable in the calling program, only the copy it create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assing arguments by value is useful when the function does not need to modify the original variable in the calling program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fact, it offers insurance that the function cannot harm the original variab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assing Arguments by Referen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56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252360" indent="-252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assing arguments by reference uses a different mechanism. Instead of a value being passed to the function, a </a:t>
            </a:r>
            <a:r>
              <a:rPr b="0" i="1" lang="en-US" sz="2600" spc="-1" strike="noStrike">
                <a:solidFill>
                  <a:srgbClr val="ff0000"/>
                </a:solidFill>
                <a:latin typeface="Gill Sans MT"/>
              </a:rPr>
              <a:t>referenc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to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the original variable, in the calling program, is passe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2360" indent="-252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 important advantage of passing by reference is that the function can access the 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actual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variables in the calling program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2360" indent="-252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s provides a mechanism for passing 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more than one valu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rom the function back to the calling program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GB" sz="3200" spc="-1" strike="noStrike">
                <a:solidFill>
                  <a:srgbClr val="464653"/>
                </a:solidFill>
                <a:latin typeface="Bookman Old Style"/>
              </a:rPr>
              <a:t>Passing Arguments by Referen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695720" cy="397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 </a:t>
            </a:r>
            <a:r>
              <a:rPr b="1" lang="en-GB" sz="2000" spc="-1" strike="noStrike">
                <a:solidFill>
                  <a:srgbClr val="000000"/>
                </a:solidFill>
                <a:latin typeface="Gill Sans MT"/>
              </a:rPr>
              <a:t>pass by reference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, we declare the function parameters as references rather than normal variables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33520" y="1828800"/>
            <a:ext cx="7868160" cy="51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#include &lt;iostream&gt;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Using namespace std ;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Void duplicate (int&amp; a, int&amp; b, int &amp; c);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Int main ()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Int x=1,y=3,z=7;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Duplicate (x,y,z);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Cout &lt;&lt; “x=“&lt;&lt;x&lt;&lt;“, y=“&lt;&lt;y&lt;&lt;“,z=“&lt;&lt;z;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Return 0;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Void duplicate (int&amp; a, int&amp; b, int &amp; c)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{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a*=2;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b*=2;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c*=2;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}  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GB" sz="3200" spc="-1" strike="noStrike">
                <a:solidFill>
                  <a:srgbClr val="464653"/>
                </a:solidFill>
                <a:latin typeface="Bookman Old Style"/>
              </a:rPr>
              <a:t>Passing Arguments by Referen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380880" y="1905120"/>
            <a:ext cx="8280360" cy="28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ference arguments are indicated by the ampersand (&amp;) following the data typ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t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hen the function is called, a will become a reference to the argu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ince a reference to a variable is treated exactly the same as the variable itself, then any changes made to the reference are passed through to the arg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Screen shot 2013-02-11 at 7.20.48 PM.png"/>
          <p:cNvPicPr/>
          <p:nvPr/>
        </p:nvPicPr>
        <p:blipFill>
          <a:blip r:embed="rId1"/>
          <a:stretch/>
        </p:blipFill>
        <p:spPr>
          <a:xfrm>
            <a:off x="2209680" y="4800600"/>
            <a:ext cx="46350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GB" sz="3200" spc="-1" strike="noStrike">
                <a:solidFill>
                  <a:srgbClr val="464653"/>
                </a:solidFill>
                <a:latin typeface="Bookman Old Style"/>
              </a:rPr>
              <a:t>Passing Arguments by Referen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39920" cy="685440"/>
          </a:xfrm>
          <a:prstGeom prst="rect">
            <a:avLst/>
          </a:prstGeom>
          <a:noFill/>
          <a:ln w="0">
            <a:noFill/>
          </a:ln>
        </p:spPr>
        <p:txBody>
          <a:bodyPr rIns="90000" tIns="45000" bIns="45000" anchor="b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2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2133720"/>
            <a:ext cx="8152920" cy="40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ometimes we need a function to return multiple value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However, functions can only have one return value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One way to return multiple values is using reference parameter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Advantages of passing by referen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It allows us to have the function change the value of the argument, which is sometimes useful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Because a copy of the argument is not made, it is fast, even when used with large structs or class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We can pass by const reference to avoid unintentional chang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We can return multiple values from a function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6594AD1C67AF545A5960EF5B4D34DFC" ma:contentTypeVersion="1" ma:contentTypeDescription="Create a new document." ma:contentTypeScope="" ma:versionID="158d98ff5f363f64d157ecf49ddff337">
  <xsd:schema xmlns:xsd="http://www.w3.org/2001/XMLSchema" xmlns:xs="http://www.w3.org/2001/XMLSchema" xmlns:p="http://schemas.microsoft.com/office/2006/metadata/properties" xmlns:ns1="http://schemas.microsoft.com/sharepoint/v3" targetNamespace="http://schemas.microsoft.com/office/2006/metadata/properties" ma:root="true" ma:fieldsID="a447206dab0015f8b9f8924535193e8c" ns1:_="">
    <xsd:import namespace="http://schemas.microsoft.com/sharepoint/v3"/>
    <xsd:element name="properties">
      <xsd:complexType>
        <xsd:sequence>
          <xsd:element name="documentManagement">
            <xsd:complexType>
              <xsd:all>
                <xsd:element ref="ns1:PublishingStartDate" minOccurs="0"/>
                <xsd:element ref="ns1:PublishingExpirationDate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http://schemas.microsoft.com/sharepoint/v3" elementFormDefault="qualified">
    <xsd:import namespace="http://schemas.microsoft.com/office/2006/documentManagement/types"/>
    <xsd:import namespace="http://schemas.microsoft.com/office/infopath/2007/PartnerControls"/>
    <xsd:element name="PublishingStartDate" ma:index="8" nillable="true" ma:displayName="Scheduling Start Date" ma:description="" ma:hidden="true" ma:internalName="PublishingStartDate">
      <xsd:simpleType>
        <xsd:restriction base="dms:Unknown"/>
      </xsd:simpleType>
    </xsd:element>
    <xsd:element name="PublishingExpirationDate" ma:index="9" nillable="true" ma:displayName="Scheduling End Date" ma:description="" ma:hidden="true" ma:internalName="PublishingExpirationDate">
      <xsd:simpleType>
        <xsd:restriction base="dms:Unknown"/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3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>
    <PublishingExpirationDate xmlns="http://schemas.microsoft.com/sharepoint/v3" xsi:nil="true"/>
    <PublishingStartDate xmlns="http://schemas.microsoft.com/sharepoint/v3" xsi:nil="true"/>
  </documentManagement>
</p:properties>
</file>

<file path=customXml/itemProps1.xml><?xml version="1.0" encoding="utf-8"?>
<ds:datastoreItem xmlns:ds="http://schemas.openxmlformats.org/officeDocument/2006/customXml" ds:itemID="{97EB3906-82FE-483B-9230-D46A57CC7728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microsoft.com/sharepoint/v3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customXml/itemProps2.xml><?xml version="1.0" encoding="utf-8"?>
<ds:datastoreItem xmlns:ds="http://schemas.openxmlformats.org/officeDocument/2006/customXml" ds:itemID="{CA296518-ACB8-4829-BA8B-AD4314C07442}">
  <ds:schemaRefs>
    <ds:schemaRef ds:uri="http://schemas.microsoft.com/sharepoint/v3/contenttype/forms"/>
  </ds:schemaRefs>
</ds:datastoreItem>
</file>

<file path=customXml/itemProps3.xml><?xml version="1.0" encoding="utf-8"?>
<ds:datastoreItem xmlns:ds="http://schemas.openxmlformats.org/officeDocument/2006/customXml" ds:itemID="{9193EBF6-7E93-414B-A6CB-5F8079DA20A0}">
  <ds:schemaRefs>
    <ds:schemaRef ds:uri="http://schemas.microsoft.com/office/2006/metadata/properties"/>
    <ds:schemaRef ds:uri="http://schemas.microsoft.com/office/infopath/2007/PartnerControls"/>
    <ds:schemaRef ds:uri="http://schemas.microsoft.com/sharepoint/v3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Origin.thmx</Template>
  <TotalTime>1113</TotalTime>
  <Application>LibreOffice/7.4.7.2$Linux_X86_64 LibreOffice_project/40$Build-2</Application>
  <AppVersion>15.0000</AppVersion>
  <Words>1767</Words>
  <Paragraphs>22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7:35:11Z</dcterms:created>
  <dc:creator>ALjaffan</dc:creator>
  <dc:description/>
  <dc:language>en-US</dc:language>
  <cp:lastModifiedBy>Mac</cp:lastModifiedBy>
  <dcterms:modified xsi:type="dcterms:W3CDTF">2013-02-11T18:09:41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6594AD1C67AF545A5960EF5B4D34DFC</vt:lpwstr>
  </property>
  <property fmtid="{D5CDD505-2E9C-101B-9397-08002B2CF9AE}" pid="3" name="Notes">
    <vt:r8>3</vt:r8>
  </property>
  <property fmtid="{D5CDD505-2E9C-101B-9397-08002B2CF9AE}" pid="4" name="PresentationFormat">
    <vt:lpwstr>On-screen Show (4:3)</vt:lpwstr>
  </property>
  <property fmtid="{D5CDD505-2E9C-101B-9397-08002B2CF9AE}" pid="5" name="Slides">
    <vt:r8>24</vt:r8>
  </property>
</Properties>
</file>