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doc" ContentType="application/msword"/>
  <Override PartName="/ppt/media/image1.wmf" ContentType="image/x-wmf"/>
  <Override PartName="/ppt/media/image2.gif" ContentType="image/gif"/>
  <Override PartName="/ppt/media/image3.png" ContentType="image/png"/>
  <Override PartName="/ppt/media/image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D1DB-D9DB-4144-BCB8-6985DEF97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C4C7-F450-4670-8CFC-006B18C0D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949E-4D76-4F54-88AB-C4BCB9357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EBCB-0FF6-4104-94ED-6D79DC631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4189D-BDE0-4F40-81E5-B928CDE66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4FA8C-AE20-4408-ADD6-CAB12ECFF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ADE96-D2D3-428A-8F86-9ECD400D0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56B81-539D-4D87-86FD-B6DC93C32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A16C1-48FA-4814-85C5-6502BADA3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FF746-726B-40D7-9CC5-1CB412F97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3B304-72A1-45C1-9C64-145C2394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984A-5BED-40DE-9930-FAE9FB798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BD042-C0AE-4BC9-9DF1-633D8D9C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8CD5E-C5E7-4BC9-97FB-38E0E4C3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049CF-ADD1-4E63-BCEC-6385F716F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BC5D9-536F-4637-A178-9C213653C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7C290-10DD-42B0-BB27-62D92E47C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BD9EF-28C7-4687-9CF6-1C8E9357A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E8A7A-ECD5-4921-B7D9-BCF8A90DC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6FB10-2E44-4914-B719-2E6A05296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09FE1-7109-49D6-9E6B-0ECD83DAF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F5861-A08B-469B-B8BD-FD1F9CCF4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2984-2FB6-49D4-B414-B4368126C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42AFA-DCBF-43A3-981D-DB1605369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39A2D-362C-4282-BCD3-BD603F49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10C75-FF94-48CB-B50E-5A6F5A44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D89A3-D7DB-403D-91A9-94BE0FCF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AC7D5-B8A2-4EE9-A344-25D41F442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1A207-16E1-4B35-84A7-EBD8E1C0F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C2A5D-FF63-471A-9A16-1F0AE2259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B8B16-C008-40DD-9E9F-CD3895794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37C3C-D74F-4A46-AF19-90CFE7D7C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BBC9E-129E-4993-BAA6-8EBD9F99F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AD0F-9362-4E9D-8318-46A966729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D7DBE-95E9-4A40-98A2-C8A4F0F46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FDDBA-58FD-4743-8200-FC0F25071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3316D-FE75-4931-9BD8-9E96B8797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8A6BA-AF88-4626-B144-D7447D18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F808B-3F54-4ECB-B5BF-D93623FB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95EF1-A55D-4F44-ABAF-06F6737F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74BA1-D631-4CA1-A442-0FD9A7BDD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85A01-B277-4EE6-8273-26DE0508F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10552-27B3-46B2-B968-CB3CC8D24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7041-E2AA-48FE-9139-41BE22CA5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CC4F-22FF-48F8-A31B-3BCCAED0C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D257-40B8-4225-B432-D717D212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1E7A-0ADB-4F82-A988-544A7760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65C5-35A1-4555-9D2B-C38D1C90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Isosceles Triangle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00800" y="6355080"/>
            <a:ext cx="2285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98720" y="6355080"/>
            <a:ext cx="347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216080" y="635508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974C85B0-6C83-4784-823D-161EBA53FBC9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20"/>
          <p:cNvSpPr/>
          <p:nvPr/>
        </p:nvSpPr>
        <p:spPr>
          <a:xfrm>
            <a:off x="905040" y="3648240"/>
            <a:ext cx="7314840" cy="1279800"/>
          </a:xfrm>
          <a:prstGeom prst="rect">
            <a:avLst/>
          </a:prstGeom>
          <a:noFill/>
          <a:ln cap="rnd" w="6350">
            <a:solidFill>
              <a:srgbClr val="727ca3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8" name="Rectangle 32"/>
          <p:cNvSpPr/>
          <p:nvPr/>
        </p:nvSpPr>
        <p:spPr>
          <a:xfrm>
            <a:off x="914400" y="5048280"/>
            <a:ext cx="7314840" cy="685440"/>
          </a:xfrm>
          <a:prstGeom prst="rect">
            <a:avLst/>
          </a:prstGeom>
          <a:noFill/>
          <a:ln cap="rnd" w="6350">
            <a:solidFill>
              <a:srgbClr val="9fb8c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" name="Rectangle 21"/>
          <p:cNvSpPr/>
          <p:nvPr/>
        </p:nvSpPr>
        <p:spPr>
          <a:xfrm>
            <a:off x="905040" y="3648240"/>
            <a:ext cx="228240" cy="1279800"/>
          </a:xfrm>
          <a:prstGeom prst="rect">
            <a:avLst/>
          </a:prstGeom>
          <a:solidFill>
            <a:schemeClr val="accent1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" name="Rectangle 31"/>
          <p:cNvSpPr/>
          <p:nvPr/>
        </p:nvSpPr>
        <p:spPr>
          <a:xfrm>
            <a:off x="914400" y="5048280"/>
            <a:ext cx="228240" cy="685440"/>
          </a:xfrm>
          <a:prstGeom prst="rect">
            <a:avLst/>
          </a:prstGeom>
          <a:solidFill>
            <a:schemeClr val="accent2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Isosceles Triangle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49E02EFD-CAD0-4E1E-8140-4C752BD8D71E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Isosceles Triangle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8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9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F2239839-10E0-4CAE-9561-459C4C84189F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body"/>
          </p:nvPr>
        </p:nvSpPr>
        <p:spPr>
          <a:xfrm>
            <a:off x="4632120" y="121608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Isosceles Triangle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1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2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013E0748-AB46-4E37-B34E-D111D2279706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doc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4578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S1201: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Programming Language 2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3899880"/>
            <a:ext cx="5105160" cy="9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9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6500" spc="-1" strike="noStrike">
                <a:solidFill>
                  <a:srgbClr val="464653"/>
                </a:solidFill>
                <a:latin typeface="Bookman Old Style"/>
              </a:rPr>
              <a:t>   </a:t>
            </a:r>
            <a:r>
              <a:rPr b="0" lang="en-US" sz="6500" spc="-1" strike="noStrike">
                <a:solidFill>
                  <a:srgbClr val="464653"/>
                </a:solidFill>
                <a:latin typeface="Bookman Old Style"/>
              </a:rPr>
              <a:t>Structure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Two steps to implementing structures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31076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reate the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structure declaration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  This establishes the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tag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(or name) of the structure and a list of items that are member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eclare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variable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(or instances) of the structure and use them in the program to hold data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Accessing Structure Membe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dot operator (.) allows you to access structure members in a progra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7692B-0657-4EA2-9BB1-BA8BB265BB0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buNone/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0"/>
            <a:ext cx="4723920" cy="6857640"/>
          </a:xfrm>
          <a:prstGeom prst="rect">
            <a:avLst/>
          </a:prstGeom>
          <a:solidFill>
            <a:srgbClr val="dde9e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inclu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iostream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Us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amesspace std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stru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ayRoll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i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mpNumber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st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ame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floa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ours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floa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ayRate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floa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alary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20000"/>
              </a:lnSpc>
              <a:spcBef>
                <a:spcPts val="476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id main(void)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yRoll employee;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t &lt;&lt; "Enter the employee's number: "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n &gt;&gt; employee.empNumber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t &lt;&lt; "Enter the employee's name: "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n&gt;&gt;employee.name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t &lt;&lt; "How many hours did the employee work? "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n &gt;&gt; employee.hours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t &lt;&lt; "What is the employee's hourly payrate? "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n &gt;&gt; employee.payRate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restige Elite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0" y="0"/>
            <a:ext cx="4571640" cy="6857640"/>
          </a:xfrm>
          <a:prstGeom prst="rect">
            <a:avLst/>
          </a:prstGeom>
          <a:solidFill>
            <a:srgbClr val="dde9e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loyee.salary= employee.hours * employee.payRate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t &lt;&lt; "Here is the employee's payroll data:\n"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t &lt;&lt; "Name: " &lt;&lt; employee.name &lt;&lt; endl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t &lt;&lt; "Number: " &lt;&lt; employee.empNumber &lt;&lt; endl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t &lt;&lt; "Hours worked: " &lt;&lt; employee.hours &lt;&lt; endl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t &lt;&lt; "Hourly Payrate: " &lt;&lt; employee.payRate &lt;&lt; endl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t &lt;&lt; “salary: $" &lt;&lt; employee.salary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 endl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7D38E-5D27-4C92-B654-C24FE13433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96000"/>
              </a:lnSpc>
              <a:spcBef>
                <a:spcPts val="1276"/>
              </a:spcBef>
              <a:buNone/>
            </a:pPr>
            <a:r>
              <a:rPr b="1" i="1" lang="en-US" sz="2400" spc="-1" strike="noStrike">
                <a:solidFill>
                  <a:srgbClr val="000000"/>
                </a:solidFill>
                <a:latin typeface="Officina Sans"/>
                <a:ea typeface="Officina Sans"/>
              </a:rPr>
              <a:t>Program Output with Example Inpu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restige Elite"/>
              </a:rPr>
              <a:t>Enter the employee's number: </a:t>
            </a:r>
            <a:r>
              <a:rPr b="0" lang="en-US" sz="2000" spc="-1" strike="noStrike">
                <a:solidFill>
                  <a:srgbClr val="ffffff"/>
                </a:solidFill>
                <a:latin typeface="Prestige Elite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Officina Sans"/>
                <a:ea typeface="Officina Sans"/>
              </a:rPr>
              <a:t>489 [Enter]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restige Elite"/>
                <a:ea typeface="Officina Sans"/>
              </a:rPr>
              <a:t>Enter the employee's name:</a:t>
            </a:r>
            <a:r>
              <a:rPr b="1" lang="en-US" sz="2000" spc="-1" strike="noStrike">
                <a:solidFill>
                  <a:srgbClr val="ffffff"/>
                </a:solidFill>
                <a:latin typeface="Prestige Elite"/>
                <a:ea typeface="Officina Sans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Officina Sans"/>
                <a:ea typeface="Officina Sans"/>
              </a:rPr>
              <a:t>Jill Smith [Enter]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restige Elite"/>
                <a:ea typeface="Officina Sans"/>
              </a:rPr>
              <a:t>How many hours did the employee work?</a:t>
            </a:r>
            <a:r>
              <a:rPr b="1" lang="en-US" sz="2000" spc="-1" strike="noStrike">
                <a:solidFill>
                  <a:srgbClr val="ffffff"/>
                </a:solidFill>
                <a:latin typeface="Prestige Elite"/>
                <a:ea typeface="Officina Sans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Officina Sans"/>
                <a:ea typeface="Officina Sans"/>
              </a:rPr>
              <a:t>40 [Enter]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restige Elite"/>
                <a:ea typeface="Officina Sans"/>
              </a:rPr>
              <a:t>What is the employee's hourly payrate?</a:t>
            </a:r>
            <a:r>
              <a:rPr b="1" lang="en-US" sz="2000" spc="-1" strike="noStrike">
                <a:solidFill>
                  <a:srgbClr val="ffffff"/>
                </a:solidFill>
                <a:latin typeface="Prestige Elite"/>
                <a:ea typeface="Officina Sans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Officina Sans"/>
                <a:ea typeface="Officina Sans"/>
              </a:rPr>
              <a:t>20 [Enter]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restige Elite"/>
                <a:ea typeface="Officina Sans"/>
              </a:rPr>
              <a:t>Here is the employee's payroll data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restige Elite"/>
                <a:ea typeface="Officina Sans"/>
              </a:rPr>
              <a:t>Name: Jill Smith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restige Elite"/>
                <a:ea typeface="Officina Sans"/>
              </a:rPr>
              <a:t>Number: 489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restige Elite"/>
                <a:ea typeface="Officina Sans"/>
              </a:rPr>
              <a:t>Hours worked: 40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restige Elite"/>
                <a:ea typeface="Officina Sans"/>
              </a:rPr>
              <a:t>Hourly Payrate: 20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restige Elite"/>
                <a:ea typeface="Officina Sans"/>
              </a:rPr>
              <a:t>salary: $800.00</a:t>
            </a:r>
            <a:r>
              <a:rPr b="0" lang="en-US" sz="2000" spc="-1" strike="noStrike">
                <a:solidFill>
                  <a:srgbClr val="ffffff"/>
                </a:solidFill>
                <a:latin typeface="Prestige Elite"/>
                <a:ea typeface="Officina San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19997-7021-4420-9AB3-7836553048D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Initializing Structure Members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5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 main(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yroll Employee1 = { 1111, Ali, 5, 30, 150 }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yroll Employee2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Arial"/>
              </a:rPr>
              <a:t>Employee2 = Employee1;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Arial"/>
              </a:rPr>
              <a:t>Return 0;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548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Arial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Displaying a Structur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contents of a structure variable cannot be displayed by passing the entire variable to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cout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  For example, assuming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employe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is a PayRoll structure variable, the following statement will not work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ut &lt;&lt; employee &lt;&lt;  endl; </a:t>
            </a:r>
            <a:r>
              <a:rPr b="1" lang="en-US" sz="2600" spc="-1" strike="noStrike">
                <a:solidFill>
                  <a:srgbClr val="ff0000"/>
                </a:solidFill>
                <a:latin typeface="Gill Sans MT"/>
              </a:rPr>
              <a:t>//won’t work!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3365A-C04A-4E20-8CB1-F3653300212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7720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0000"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5638320" cy="54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5000"/>
          </a:bodyPr>
          <a:p>
            <a:pPr marL="285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#include &lt;iostream&gt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5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#include &lt;math.h&gt;</a:t>
            </a: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5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5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struct Circle 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5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float radius; //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5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float diameter; //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5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float area; //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5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5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const float pi = 3.14159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5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void main(void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5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5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Circle c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5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cout &lt;&lt; "Enter the diameter of a circle: "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5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cin &gt;&gt; c.Diameter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5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c.Radius = C.Diameter / 2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5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c.Area = pi * </a:t>
            </a:r>
            <a:r>
              <a:rPr b="1" lang="en-US" sz="2000" spc="-1" strike="noStrike">
                <a:solidFill>
                  <a:srgbClr val="000000"/>
                </a:solidFill>
                <a:latin typeface="Prestige Elite"/>
              </a:rPr>
              <a:t>pow</a:t>
            </a: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(c.Radius, 2.0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5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cout &lt;&lt; "The radius and area of the circle are:\n"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5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cout &lt;&lt; "Radius: " &lt;&lt; c.radius &lt;&lt; endl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5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cout &lt;&lt; "Area: " &lt;&lt; c.area &lt;&lt; endl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5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}</a:t>
            </a: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5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41" name="Picture 2" descr="[IMAGE]"/>
          <p:cNvPicPr/>
          <p:nvPr/>
        </p:nvPicPr>
        <p:blipFill>
          <a:blip r:embed="rId1"/>
          <a:stretch/>
        </p:blipFill>
        <p:spPr>
          <a:xfrm>
            <a:off x="4267080" y="762120"/>
            <a:ext cx="1980720" cy="1980720"/>
          </a:xfrm>
          <a:prstGeom prst="rect">
            <a:avLst/>
          </a:prstGeom>
          <a:ln w="0">
            <a:noFill/>
          </a:ln>
        </p:spPr>
      </p:pic>
      <p:sp>
        <p:nvSpPr>
          <p:cNvPr id="242" name="TextBox 6"/>
          <p:cNvSpPr/>
          <p:nvPr/>
        </p:nvSpPr>
        <p:spPr>
          <a:xfrm>
            <a:off x="6172200" y="685800"/>
            <a:ext cx="2819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rea = pi * radius^</a:t>
            </a:r>
            <a:r>
              <a:rPr b="0" lang="en-US" sz="1600" spc="599" strike="noStrike">
                <a:solidFill>
                  <a:srgbClr val="000000"/>
                </a:solidFill>
                <a:latin typeface="Gill Sans MT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5029200" y="3505320"/>
            <a:ext cx="3962160" cy="1734480"/>
          </a:xfrm>
          <a:prstGeom prst="rect">
            <a:avLst/>
          </a:prstGeom>
          <a:solidFill>
            <a:schemeClr val="tx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Prestige Elite"/>
              </a:rPr>
              <a:t>Enter the diameter of a circle: </a:t>
            </a:r>
            <a:r>
              <a:rPr b="1" lang="en-US" sz="1800" spc="-1" strike="noStrike">
                <a:solidFill>
                  <a:srgbClr val="ffffff"/>
                </a:solidFill>
                <a:latin typeface="Officina Sans"/>
                <a:ea typeface="Officina Sans"/>
              </a:rPr>
              <a:t>10 [Enter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Prestige Elite"/>
                <a:ea typeface="Officina Sans"/>
              </a:rPr>
              <a:t>The radius and area of the circle a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Prestige Elite"/>
                <a:ea typeface="Officina Sans"/>
              </a:rPr>
              <a:t>Radius: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Prestige Elite"/>
                <a:ea typeface="Officina Sans"/>
              </a:rPr>
              <a:t>Area: 78.54</a:t>
            </a:r>
            <a:r>
              <a:rPr b="0" lang="en-US" sz="1800" spc="-1" strike="noStrike">
                <a:solidFill>
                  <a:srgbClr val="ffffff"/>
                </a:solidFill>
                <a:latin typeface="Prestige Elite"/>
                <a:ea typeface="Officina Sans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AD337-AE6D-4928-9E5B-87DEE98DAAC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trings as Structure Membe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en a character array is a structure member, use the same sting manipulation techniques with it as you would with any other character array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8C9FB-877D-4105-A380-46B4F783914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60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040" cy="47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// This program uses a structure to hold someone's first,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// middle, and last name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#include &lt;iostream&gt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#include &lt;string.h&gt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struct Nam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char first[15]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char middle[15]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char last[15]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char full[45]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TextBox 4"/>
          <p:cNvSpPr/>
          <p:nvPr/>
        </p:nvSpPr>
        <p:spPr>
          <a:xfrm>
            <a:off x="4800600" y="2438280"/>
            <a:ext cx="28191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0000"/>
                </a:solidFill>
                <a:latin typeface="Gill Sans MT"/>
              </a:rPr>
              <a:t>RE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0C856-73F5-417A-8857-AC205041A9E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3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9000"/>
          </a:bodyPr>
          <a:p>
            <a:pPr indent="0">
              <a:lnSpc>
                <a:spcPct val="80000"/>
              </a:lnSpc>
              <a:buNone/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Program continu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040" cy="49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5000"/>
          </a:bodyPr>
          <a:p>
            <a:pPr marL="26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void main(void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Name person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cout &lt;&lt; "Enter your first name: "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cin &gt;&gt; person.first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cout &lt;&lt; "Enter your middle name: "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cin &gt;&gt; person.middle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cout &lt;&lt; "Enter your last name: "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cin &gt;&gt; person.last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strcpy(person.full, person.first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strcat(person.full, " "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strcat(person.full, person.middle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strcat(person.full, " "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strcat(person.full, person.last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cout &lt;&lt; "\nYour full name is " &lt;&lt; person.full &lt;&lt; endl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0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}</a:t>
            </a: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TextBox 4"/>
          <p:cNvSpPr/>
          <p:nvPr/>
        </p:nvSpPr>
        <p:spPr>
          <a:xfrm>
            <a:off x="5715000" y="1143000"/>
            <a:ext cx="28191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0000"/>
                </a:solidFill>
                <a:latin typeface="Gill Sans MT"/>
              </a:rPr>
              <a:t>RE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7D18E-88E5-4719-B9D3-94E092C1985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-7632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Gill Sans MT"/>
              </a:rPr>
              <a:t>Data Typ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++ has several primitive data types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185" name="Object 2"/>
          <p:cNvGraphicFramePr/>
          <p:nvPr/>
        </p:nvGraphicFramePr>
        <p:xfrm>
          <a:off x="533520" y="3276720"/>
          <a:ext cx="8835840" cy="2222280"/>
        </p:xfrm>
        <a:graphic>
          <a:graphicData uri="http://schemas.openxmlformats.org/presentationml/2006/ole">
            <p:oleObj progId="Word.Document.8" r:id="rId1" spid="">
              <p:embed/>
              <p:pic>
                <p:nvPicPr>
                  <p:cNvPr id="18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276720"/>
                    <a:ext cx="8835840" cy="22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96000"/>
              </a:lnSpc>
              <a:spcBef>
                <a:spcPts val="1276"/>
              </a:spcBef>
              <a:buNone/>
            </a:pPr>
            <a:r>
              <a:rPr b="1" i="1" lang="en-US" sz="2400" spc="-1" strike="noStrike">
                <a:solidFill>
                  <a:srgbClr val="000000"/>
                </a:solidFill>
                <a:latin typeface="Officina Sans"/>
                <a:ea typeface="Officina Sans"/>
              </a:rPr>
              <a:t>Program Output with Example Inpu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estige Elite"/>
              </a:rPr>
              <a:t>Enter your first name: </a:t>
            </a:r>
            <a:r>
              <a:rPr b="1" lang="en-US" sz="2000" spc="-1" strike="noStrike">
                <a:solidFill>
                  <a:srgbClr val="000000"/>
                </a:solidFill>
                <a:latin typeface="Officina Sans"/>
                <a:ea typeface="Officina Sans"/>
              </a:rPr>
              <a:t>Josephine [Enter]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estige Elite"/>
                <a:ea typeface="Officina Sans"/>
              </a:rPr>
              <a:t>Enter your middle name:</a:t>
            </a:r>
            <a:r>
              <a:rPr b="1" lang="en-US" sz="2000" spc="-1" strike="noStrike">
                <a:solidFill>
                  <a:srgbClr val="000000"/>
                </a:solidFill>
                <a:latin typeface="Prestige Elite"/>
                <a:ea typeface="Officina San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Officina Sans"/>
                <a:ea typeface="Officina Sans"/>
              </a:rPr>
              <a:t>Yvonne [Enter]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estige Elite"/>
                <a:ea typeface="Officina Sans"/>
              </a:rPr>
              <a:t>Enter your last name:</a:t>
            </a:r>
            <a:r>
              <a:rPr b="1" lang="en-US" sz="2000" spc="-1" strike="noStrike">
                <a:solidFill>
                  <a:srgbClr val="000000"/>
                </a:solidFill>
                <a:latin typeface="Prestige Elite"/>
                <a:ea typeface="Officina San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Officina Sans"/>
                <a:ea typeface="Officina Sans"/>
              </a:rPr>
              <a:t>Smith [Enter]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restige Elite"/>
                <a:ea typeface="Officina Sans"/>
              </a:rPr>
              <a:t>Your full name is Josephine Yvonne Smith</a:t>
            </a:r>
            <a:r>
              <a:rPr b="0" lang="en-US" sz="2000" spc="-1" strike="noStrike">
                <a:solidFill>
                  <a:srgbClr val="000000"/>
                </a:solidFill>
                <a:latin typeface="Prestige Elite"/>
                <a:ea typeface="Officina San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TextBox 4"/>
          <p:cNvSpPr/>
          <p:nvPr/>
        </p:nvSpPr>
        <p:spPr>
          <a:xfrm>
            <a:off x="6019920" y="2057400"/>
            <a:ext cx="28191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0000"/>
                </a:solidFill>
                <a:latin typeface="Gill Sans MT"/>
              </a:rPr>
              <a:t>RE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C93DA-24E2-47CB-B244-7804D1F3968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tructures as Function Argumen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ructure variables may be passed as arguments to function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533520" y="2286000"/>
            <a:ext cx="678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howRect(box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533520" y="3276720"/>
            <a:ext cx="6552720" cy="173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oid showRect(Rectangle r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t &lt;&lt; r.length &lt;&lt; endl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t &lt;&lt; r.width &lt;&lt; endl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t &lt;&lt; r.area &lt;&lt; endl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51402-66EF-4B17-BFDA-94A1D8A834A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0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0000"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rogram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7772040" cy="5714640"/>
          </a:xfrm>
          <a:prstGeom prst="rect">
            <a:avLst/>
          </a:prstGeom>
          <a:solidFill>
            <a:srgbClr val="dde9e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restige Elite"/>
              </a:rPr>
              <a:t>#include &lt;iostream&gt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restige Elite"/>
              </a:rPr>
              <a:t>struct Iitem{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restige Elit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Prestige Elite"/>
              </a:rPr>
              <a:t>int partNum;</a:t>
            </a:r>
            <a:r>
              <a:rPr b="0" lang="en-US" sz="1600" spc="-1" strike="noStrike">
                <a:solidFill>
                  <a:srgbClr val="000000"/>
                </a:solidFill>
                <a:latin typeface="Prestige Elit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Prestige Elit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Prestige Elite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restige Elit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Prestige Elite"/>
              </a:rPr>
              <a:t>char description[50];    </a:t>
            </a:r>
            <a:r>
              <a:rPr b="0" lang="en-US" sz="1600" spc="-1" strike="noStrike">
                <a:solidFill>
                  <a:srgbClr val="000000"/>
                </a:solidFill>
                <a:latin typeface="Prestige Elit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Prestige Elite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restige Elit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Prestige Elite"/>
              </a:rPr>
              <a:t>int onHand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restige Elit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Prestige Elite"/>
              </a:rPr>
              <a:t>float price;</a:t>
            </a:r>
            <a:r>
              <a:rPr b="0" lang="en-US" sz="1600" spc="-1" strike="noStrike">
                <a:solidFill>
                  <a:srgbClr val="000000"/>
                </a:solidFill>
                <a:latin typeface="Prestige Elit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Prestige Elite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restige Elite"/>
              </a:rPr>
              <a:t>void ShowItem(Item);</a:t>
            </a:r>
            <a:r>
              <a:rPr b="0" lang="en-US" sz="1600" spc="-1" strike="noStrike">
                <a:solidFill>
                  <a:srgbClr val="000000"/>
                </a:solidFill>
                <a:latin typeface="Prestige Elit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Prestige Elite"/>
              </a:rPr>
              <a:t>// Function prototype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restige Elite"/>
              </a:rPr>
              <a:t>void main(void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restige Elite"/>
              </a:rPr>
              <a:t>{</a:t>
            </a:r>
            <a:r>
              <a:rPr b="0" lang="en-US" sz="1600" spc="-1" strike="noStrike">
                <a:solidFill>
                  <a:srgbClr val="000000"/>
                </a:solidFill>
                <a:latin typeface="Prestige Elit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Prestige Elite"/>
              </a:rPr>
              <a:t>Item Part = {171, "Industrial Widget", 25, 150.0}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restige Elit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Prestige Elite"/>
              </a:rPr>
              <a:t>ShowItem(part);</a:t>
            </a:r>
            <a:r>
              <a:rPr b="0" lang="en-US" sz="1600" spc="-1" strike="noStrike">
                <a:solidFill>
                  <a:srgbClr val="000000"/>
                </a:solidFill>
                <a:latin typeface="Prestige Elit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Prestige Elit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Prestige Elite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restige Elite"/>
              </a:rPr>
              <a:t>void ShowItem(InvItem piece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restige Elite"/>
              </a:rPr>
              <a:t>{</a:t>
            </a:r>
            <a:r>
              <a:rPr b="0" lang="en-US" sz="1600" spc="-1" strike="noStrike">
                <a:solidFill>
                  <a:srgbClr val="000000"/>
                </a:solidFill>
                <a:latin typeface="Prestige Elit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Prestige Elite"/>
              </a:rPr>
              <a:t>cout &lt;&lt; "Part Number: " &lt;&lt; piece.partNum &lt;&lt; endl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restige Elit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Prestige Elite"/>
              </a:rPr>
              <a:t>cout &lt;&lt; "Description: " &lt;&lt; piece.description &lt;&lt; endl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restige Elit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Prestige Elite"/>
              </a:rPr>
              <a:t>cout &lt;&lt; "Units On Hand: " &lt;&lt; piece.onHand &lt;&lt; endl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restige Elit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Prestige Elite"/>
              </a:rPr>
              <a:t>cout &lt;&lt; "Price: $" &lt;&lt; piece.price &lt;&lt; endl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restige Elite"/>
              </a:rPr>
              <a:t>}</a:t>
            </a:r>
            <a:r>
              <a:rPr b="0" lang="en-US" sz="1600" spc="-1" strike="noStrike">
                <a:solidFill>
                  <a:srgbClr val="000000"/>
                </a:solidFill>
                <a:latin typeface="Prestige Elite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TextBox 4"/>
          <p:cNvSpPr/>
          <p:nvPr/>
        </p:nvSpPr>
        <p:spPr>
          <a:xfrm>
            <a:off x="5715000" y="1523880"/>
            <a:ext cx="3047760" cy="2304720"/>
          </a:xfrm>
          <a:prstGeom prst="rect">
            <a:avLst/>
          </a:prstGeom>
          <a:solidFill>
            <a:schemeClr val="tx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Prestige Elite"/>
              </a:rPr>
              <a:t>Part Number: 17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Prestige Elite"/>
              </a:rPr>
              <a:t>Description: Industrial Widg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Prestige Elite"/>
              </a:rPr>
              <a:t>Units On Hand: 2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Prestige Elite"/>
              </a:rPr>
              <a:t>Price: $150.00</a:t>
            </a:r>
            <a:r>
              <a:rPr b="0" lang="en-US" sz="1800" spc="-1" strike="noStrike">
                <a:solidFill>
                  <a:srgbClr val="ffffff"/>
                </a:solidFill>
                <a:latin typeface="Prestige Elit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BDC2E-4F9F-4637-B324-2260A659DC8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Gill Sans MT"/>
              </a:rPr>
              <a:t>Abstract data types (ADTs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229240" cy="43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DT: Are data types created by the programme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DTs have their own range (or domain) of data and their own set of operations that may be performed on them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The programmer decides what values are acceptable for the data type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The programmer decides what operations may be performed on the data type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++ allows you to group several variables together into a single item known as a </a:t>
            </a: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structure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Gill Sans MT"/>
              </a:rPr>
              <a:t>Structur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240" cy="43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data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structur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is a group of data elements joined together under one nam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se data elements, known as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member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can have different types and different length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Gill Sans MT"/>
              </a:rPr>
              <a:t>Structur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ata structures are declared in C++ using the following syntax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95" name="Picture 4" descr="ag00338_.gif"/>
          <p:cNvPicPr/>
          <p:nvPr/>
        </p:nvPicPr>
        <p:blipFill>
          <a:blip r:embed="rId1"/>
          <a:stretch/>
        </p:blipFill>
        <p:spPr>
          <a:xfrm>
            <a:off x="6477120" y="4495680"/>
            <a:ext cx="409320" cy="9331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Screen shot 2013-02-17 at 8.28.45 PM.png"/>
          <p:cNvPicPr/>
          <p:nvPr/>
        </p:nvPicPr>
        <p:blipFill>
          <a:blip r:embed="rId2"/>
          <a:stretch/>
        </p:blipFill>
        <p:spPr>
          <a:xfrm>
            <a:off x="0" y="2476440"/>
            <a:ext cx="8470440" cy="3847680"/>
          </a:xfrm>
          <a:prstGeom prst="rect">
            <a:avLst/>
          </a:prstGeom>
          <a:ln w="0">
            <a:noFill/>
          </a:ln>
        </p:spPr>
      </p:pic>
      <p:sp>
        <p:nvSpPr>
          <p:cNvPr id="197" name="TextBox 5"/>
          <p:cNvSpPr/>
          <p:nvPr/>
        </p:nvSpPr>
        <p:spPr>
          <a:xfrm>
            <a:off x="3809880" y="5334120"/>
            <a:ext cx="3352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Note semicolon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Num" idx="13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C9172CCE-8AB7-4066-B5DB-41E7659CD67B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4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Group 6"/>
          <p:cNvGrpSpPr/>
          <p:nvPr/>
        </p:nvGrpSpPr>
        <p:grpSpPr>
          <a:xfrm>
            <a:off x="3048120" y="2133720"/>
            <a:ext cx="5028840" cy="3276360"/>
            <a:chOff x="3048120" y="2133720"/>
            <a:chExt cx="5028840" cy="3276360"/>
          </a:xfrm>
        </p:grpSpPr>
        <p:sp>
          <p:nvSpPr>
            <p:cNvPr id="200" name="Rectangle 7"/>
            <p:cNvSpPr/>
            <p:nvPr/>
          </p:nvSpPr>
          <p:spPr>
            <a:xfrm>
              <a:off x="3048120" y="2590920"/>
              <a:ext cx="5028840" cy="2819160"/>
            </a:xfrm>
            <a:prstGeom prst="rect">
              <a:avLst/>
            </a:prstGeom>
            <a:noFill/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01" name="Text Box 8"/>
            <p:cNvSpPr/>
            <p:nvPr/>
          </p:nvSpPr>
          <p:spPr>
            <a:xfrm>
              <a:off x="3126600" y="2911320"/>
              <a:ext cx="1278360" cy="3330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empNumb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9"/>
            <p:cNvSpPr/>
            <p:nvPr/>
          </p:nvSpPr>
          <p:spPr>
            <a:xfrm>
              <a:off x="3125880" y="3352680"/>
              <a:ext cx="668880" cy="3330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na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10"/>
            <p:cNvSpPr/>
            <p:nvPr/>
          </p:nvSpPr>
          <p:spPr>
            <a:xfrm>
              <a:off x="3126240" y="3886200"/>
              <a:ext cx="790560" cy="3330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hou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11"/>
            <p:cNvSpPr/>
            <p:nvPr/>
          </p:nvSpPr>
          <p:spPr>
            <a:xfrm>
              <a:off x="3126240" y="4343400"/>
              <a:ext cx="1034640" cy="3330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payR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12"/>
            <p:cNvSpPr/>
            <p:nvPr/>
          </p:nvSpPr>
          <p:spPr>
            <a:xfrm>
              <a:off x="3130200" y="4724280"/>
              <a:ext cx="912600" cy="3330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Sala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13"/>
            <p:cNvSpPr/>
            <p:nvPr/>
          </p:nvSpPr>
          <p:spPr>
            <a:xfrm>
              <a:off x="4648320" y="2895480"/>
              <a:ext cx="1523520" cy="380520"/>
            </a:xfrm>
            <a:prstGeom prst="rect">
              <a:avLst/>
            </a:prstGeom>
            <a:noFill/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07" name="Rectangle 14"/>
            <p:cNvSpPr/>
            <p:nvPr/>
          </p:nvSpPr>
          <p:spPr>
            <a:xfrm>
              <a:off x="4648320" y="3352680"/>
              <a:ext cx="2437920" cy="380520"/>
            </a:xfrm>
            <a:prstGeom prst="rect">
              <a:avLst/>
            </a:prstGeom>
            <a:noFill/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08" name="Rectangle 15"/>
            <p:cNvSpPr/>
            <p:nvPr/>
          </p:nvSpPr>
          <p:spPr>
            <a:xfrm>
              <a:off x="4648320" y="3809880"/>
              <a:ext cx="2209320" cy="380520"/>
            </a:xfrm>
            <a:prstGeom prst="rect">
              <a:avLst/>
            </a:prstGeom>
            <a:noFill/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09" name="Rectangle 16"/>
            <p:cNvSpPr/>
            <p:nvPr/>
          </p:nvSpPr>
          <p:spPr>
            <a:xfrm>
              <a:off x="4648320" y="4267080"/>
              <a:ext cx="2209320" cy="380520"/>
            </a:xfrm>
            <a:prstGeom prst="rect">
              <a:avLst/>
            </a:prstGeom>
            <a:noFill/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10" name="Rectangle 17"/>
            <p:cNvSpPr/>
            <p:nvPr/>
          </p:nvSpPr>
          <p:spPr>
            <a:xfrm>
              <a:off x="4648320" y="4724280"/>
              <a:ext cx="2209320" cy="380520"/>
            </a:xfrm>
            <a:prstGeom prst="rect">
              <a:avLst/>
            </a:prstGeom>
            <a:noFill/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x-none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11" name="Text Box 18"/>
            <p:cNvSpPr/>
            <p:nvPr/>
          </p:nvSpPr>
          <p:spPr>
            <a:xfrm>
              <a:off x="3204720" y="2133720"/>
              <a:ext cx="668880" cy="333000"/>
            </a:xfrm>
            <a:prstGeom prst="rect">
              <a:avLst/>
            </a:prstGeom>
            <a:noFill/>
            <a:ln w="9525">
              <a:solidFill>
                <a:srgbClr val="727c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Emp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 Box 19"/>
          <p:cNvSpPr/>
          <p:nvPr/>
        </p:nvSpPr>
        <p:spPr>
          <a:xfrm>
            <a:off x="4743000" y="1309680"/>
            <a:ext cx="310716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tructure Variable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0"/>
          <p:cNvSpPr/>
          <p:nvPr/>
        </p:nvSpPr>
        <p:spPr>
          <a:xfrm>
            <a:off x="353160" y="3747960"/>
            <a:ext cx="131796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1"/>
          <p:cNvSpPr/>
          <p:nvPr/>
        </p:nvSpPr>
        <p:spPr>
          <a:xfrm flipH="1">
            <a:off x="4343400" y="1676160"/>
            <a:ext cx="1143000" cy="45720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x-none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Line 22"/>
          <p:cNvSpPr/>
          <p:nvPr/>
        </p:nvSpPr>
        <p:spPr>
          <a:xfrm flipV="1">
            <a:off x="1600200" y="3047760"/>
            <a:ext cx="1371600" cy="91440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x-none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Line 23"/>
          <p:cNvSpPr/>
          <p:nvPr/>
        </p:nvSpPr>
        <p:spPr>
          <a:xfrm flipV="1">
            <a:off x="1600200" y="3504960"/>
            <a:ext cx="1371600" cy="45720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x-none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Line 24"/>
          <p:cNvSpPr/>
          <p:nvPr/>
        </p:nvSpPr>
        <p:spPr>
          <a:xfrm>
            <a:off x="1600200" y="3962160"/>
            <a:ext cx="1371600" cy="7632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 anchorCtr="1">
            <a:noAutofit/>
          </a:bodyPr>
          <a:p>
            <a:endParaRPr b="0" lang="x-none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Line 25"/>
          <p:cNvSpPr/>
          <p:nvPr/>
        </p:nvSpPr>
        <p:spPr>
          <a:xfrm>
            <a:off x="1600200" y="3962160"/>
            <a:ext cx="1371600" cy="53352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x-none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Line 26"/>
          <p:cNvSpPr/>
          <p:nvPr/>
        </p:nvSpPr>
        <p:spPr>
          <a:xfrm>
            <a:off x="1676160" y="4038480"/>
            <a:ext cx="1295640" cy="83808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x-none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8600" y="-7632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Gill Sans MT"/>
              </a:rPr>
              <a:t>Structur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xample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TextBox 3"/>
          <p:cNvSpPr/>
          <p:nvPr/>
        </p:nvSpPr>
        <p:spPr>
          <a:xfrm>
            <a:off x="380880" y="2057400"/>
            <a:ext cx="7848360" cy="4053600"/>
          </a:xfrm>
          <a:prstGeom prst="rect">
            <a:avLst/>
          </a:prstGeom>
          <a:solidFill>
            <a:schemeClr val="bg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70c0"/>
                </a:solidFill>
                <a:latin typeface="Gill Sans MT"/>
              </a:rPr>
              <a:t>struct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PERSON </a:t>
            </a:r>
            <a:r>
              <a:rPr b="0" lang="en-US" sz="2000" spc="-1" strike="noStrike">
                <a:solidFill>
                  <a:srgbClr val="00b050"/>
                </a:solidFill>
                <a:latin typeface="Gill Sans MT"/>
              </a:rPr>
              <a:t>// Declare PERSON struc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70c0"/>
                </a:solidFill>
                <a:latin typeface="Gill Sans MT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age; </a:t>
            </a:r>
            <a:r>
              <a:rPr b="0" lang="en-US" sz="2000" spc="-1" strike="noStrike">
                <a:solidFill>
                  <a:srgbClr val="00b050"/>
                </a:solidFill>
                <a:latin typeface="Gill Sans MT"/>
              </a:rPr>
              <a:t>// Declare member typ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2000" spc="-1" strike="noStrike">
                <a:solidFill>
                  <a:srgbClr val="0070c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70c0"/>
                </a:solidFill>
                <a:latin typeface="Gill Sans MT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s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70c0"/>
                </a:solidFill>
                <a:latin typeface="Gill Sans MT"/>
              </a:rPr>
              <a:t>float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eigh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70c0"/>
                </a:solidFill>
                <a:latin typeface="Gill Sans MT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name[25]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}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70c0"/>
                </a:solidFill>
                <a:latin typeface="Gill Sans MT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main(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ERSON brother; </a:t>
            </a:r>
            <a:r>
              <a:rPr b="0" lang="en-US" sz="2000" spc="-1" strike="noStrike">
                <a:solidFill>
                  <a:srgbClr val="00b050"/>
                </a:solidFill>
                <a:latin typeface="Gill Sans MT"/>
              </a:rPr>
              <a:t>// C++ style structure declar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rother.age = 7; </a:t>
            </a:r>
            <a:r>
              <a:rPr b="0" lang="en-US" sz="2000" spc="-1" strike="noStrike">
                <a:solidFill>
                  <a:srgbClr val="00b050"/>
                </a:solidFill>
                <a:latin typeface="Gill Sans MT"/>
              </a:rPr>
              <a:t>// assign values to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Gill Sans MT"/>
              </a:rPr>
              <a:t>Structur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xample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TextBox 3"/>
          <p:cNvSpPr/>
          <p:nvPr/>
        </p:nvSpPr>
        <p:spPr>
          <a:xfrm>
            <a:off x="380880" y="2057400"/>
            <a:ext cx="7848360" cy="1614240"/>
          </a:xfrm>
          <a:prstGeom prst="rect">
            <a:avLst/>
          </a:prstGeom>
          <a:solidFill>
            <a:schemeClr val="bg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70c0"/>
                </a:solidFill>
                <a:latin typeface="Gill Sans MT"/>
              </a:rPr>
              <a:t>struct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produ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70c0"/>
                </a:solidFill>
                <a:latin typeface="Gill Sans MT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eigh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2000" spc="-1" strike="noStrike">
                <a:solidFill>
                  <a:srgbClr val="0070c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70c0"/>
                </a:solidFill>
                <a:latin typeface="Gill Sans MT"/>
              </a:rPr>
              <a:t>float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pric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} apple, banana, mel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1_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1_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Urban</Template>
  <TotalTime>258</TotalTime>
  <Application>LibreOffice/7.4.7.2$Linux_X86_64 LibreOffice_project/40$Build-2</Application>
  <AppVersion>15.0000</AppVersion>
  <Words>1391</Words>
  <Paragraphs>21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7T17:16:32Z</dcterms:created>
  <dc:creator>NOUF</dc:creator>
  <dc:description/>
  <dc:language>en-US</dc:language>
  <cp:lastModifiedBy>Mac</cp:lastModifiedBy>
  <dcterms:modified xsi:type="dcterms:W3CDTF">2013-02-17T18:59:14Z</dcterms:modified>
  <cp:revision>40</cp:revision>
  <dc:subject/>
  <dc:title>CS1201:  Programming Language 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22</vt:r8>
  </property>
</Properties>
</file>