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" ContentType="application/msword"/>
  <Override PartName="/ppt/media/image1.wmf" ContentType="image/x-wmf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CEB-7F3F-45A9-879D-FA79D85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4AD-0CC7-4788-9820-91F7F828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068-8F29-4AA4-AFA1-2F6BF2AD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F4E-72E4-4F79-9B73-D279CFCC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0DAD-B2C6-414D-BCBB-0BBB2DA5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91D1-CF0E-4AEE-ACA0-DDD3D0C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2ACF-827D-4BA4-B1A8-06D5B45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F469-AEEE-49E7-BE98-C3C5DF88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46B6-30B9-4489-9160-90BEB3C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0AF9-CF85-4F2A-A820-98044BE3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F41-8988-4897-8F89-4240964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4D3-B3C9-4903-9C78-9B548D60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8CD-90EC-4B47-B41B-5C8909D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9243-594E-468B-8644-FFD39BC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51AD-CDA2-478B-A8DC-5CAD1A3A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C12-F159-4C58-AC36-01A12C99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5DE-4917-48D0-8690-6D235278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A7F3-0038-4662-91A6-7DAFB200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DA77-D1B0-4C8D-818E-7A958BD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D55D-BE0A-4525-94AD-117FB86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A10A-C7EE-42BE-BA0B-B13CBAF0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B063-1CF8-4B9E-8E89-C206F1B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7B6-BC54-4D38-9A52-65A6AE3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28CB-B8DB-48E2-8447-FE60103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C8A3-693F-4E97-A23D-3D59CD5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CC9E-295C-4C0D-BC02-67C455C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59D1-7F7B-4D7B-8F03-FBCD0FEA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1902-2981-4E37-911F-30A2741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2ADF-3EBC-40F0-A9F2-3D36CAEE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0301-F49E-4D17-A258-A473281C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1CD2-7869-451D-8153-6D38B093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7D68-9E5F-4981-B73F-BF125F2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EB64-201E-4106-BBEE-5413E6D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249-753C-406C-8827-45D4EA93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07DD-B7DB-4889-AD1E-C3A07C2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0B24-BA4F-4C6B-AC14-400461D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AC2C-ACF1-4150-8E5D-F4FC6B6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6FB5-AFD1-4FFF-B079-A54D433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90D9-761E-47B1-B575-29EA1A9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C78F-7B2F-4E1F-8AA9-ADDC220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94EE-4966-4995-8FE4-35BE7D8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EE7E-F28A-4CB7-80A3-2383145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626A-2B09-4797-8C30-A301E330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EC9-EAFE-4A38-8176-AB82F3B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BC-B386-4C15-A519-9726A75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595-202B-461D-BEE0-0F2D60B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041-BB48-4448-A9B0-A48D5CF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D4C-4DFD-4890-B13D-CB4A0CC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6ED1650-6D85-4169-8D9E-2D3AB6963E1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48FDC4-6674-46EB-B6F5-DE7EA39E455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16F5423-9B2E-4C14-A207-3AC5BF9FAE8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6BD5C41-ECEA-48F3-A6C8-5C5762E7F39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3899880"/>
            <a:ext cx="5105160" cy="9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500" spc="-1" strike="noStrike">
                <a:solidFill>
                  <a:srgbClr val="464653"/>
                </a:solidFill>
                <a:latin typeface="Bookman Old Style"/>
              </a:rPr>
              <a:t>   </a:t>
            </a:r>
            <a:r>
              <a:rPr b="0" lang="en-US" sz="6500" spc="-1" strike="noStrike">
                <a:solidFill>
                  <a:srgbClr val="464653"/>
                </a:solidFill>
                <a:latin typeface="Bookman Old Style"/>
              </a:rPr>
              <a:t>Struc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wo steps to implementing structur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1076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th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 declar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 This establishes th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a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or name) of the structure and a list of items that are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clar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or instances) of the structure and use them in the program to hold da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ccessing Structure 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ot operator (.) allows you to access structure members in a pro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19C3-F650-408C-8113-54F7E2F503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0"/>
            <a:ext cx="4723920" cy="6857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U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space std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str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yRoll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pNumber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urs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alary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Roll employee;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Enter the employee's number: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empNumber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Enter the employee's name: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&gt;&gt;employee.nam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w many hours did the employee work?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hours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What is the employee's hourly payrate?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0" y="0"/>
            <a:ext cx="4571640" cy="6857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.salary= employee.hours * employee.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ere is the employee's payroll data:\n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Name: " &lt;&lt; employee.name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Number: " &lt;&lt; employee.empNumber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urs worked: " &lt;&lt; employee.hours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urly Payrate: " &lt;&lt; employee.payRate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“salary: $" &lt;&lt; employee.salary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83B4-F344-478E-AEF6-8AB9E21266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6000"/>
              </a:lnSpc>
              <a:spcBef>
                <a:spcPts val="1276"/>
              </a:spcBef>
              <a:buNone/>
            </a:pPr>
            <a:r>
              <a:rPr b="1" i="1" lang="en-US" sz="24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Program Output with Example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</a:rPr>
              <a:t>Enter the employee's number: </a:t>
            </a:r>
            <a:r>
              <a:rPr b="0" lang="en-US" sz="2000" spc="-1" strike="noStrike">
                <a:solidFill>
                  <a:srgbClr val="ffffff"/>
                </a:solidFill>
                <a:latin typeface="Prestige Elit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489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Enter the employee's name: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Jill Smith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w many hours did the employee work?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40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What is the employee's hourly payrate?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20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ere is the employee's payroll dat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Name: Jill Smi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Number: 48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urs worked: 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urly Payrate: 2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salary: $800.00</a:t>
            </a: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B68B-FD07-4966-9002-94CBC12AE9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itializing Structure Memb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5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roll Employee1 = { 1111, Ali, 5, 30, 150 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roll Employee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Employee2 = Employee1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Return 0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splaying a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ntents of a structure variable cannot be displayed by passing the entire variable t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u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 For example, assuming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mploye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 PayRoll structure variable, the following statement will not wor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t &lt;&lt; employee &lt;&lt;  endl;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//won’t work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ACA7-DCD8-4D9C-AC68-13AA19AC07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math.h&gt;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uct Circl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radius; /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diameter; //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area; /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nst float pi = 3.14159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rcle c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the diameter of a circl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c.Diamet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.Radius = C.Diameter / 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.Area = pi * 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</a:rPr>
              <a:t>pow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(c.Radius, 2.0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The radius and area of the circle are:\n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Radius: " &lt;&lt; c.radius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Area: " &lt;&lt; c.area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Picture 2" descr="[IMAGE]"/>
          <p:cNvPicPr/>
          <p:nvPr/>
        </p:nvPicPr>
        <p:blipFill>
          <a:blip r:embed="rId1"/>
          <a:stretch/>
        </p:blipFill>
        <p:spPr>
          <a:xfrm>
            <a:off x="4267080" y="762120"/>
            <a:ext cx="1980720" cy="19807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6172200" y="685800"/>
            <a:ext cx="28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ea = pi * radius^</a:t>
            </a:r>
            <a:r>
              <a:rPr b="0" lang="en-US" sz="1600" spc="599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5029200" y="3505320"/>
            <a:ext cx="3962160" cy="17344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Enter the diameter of a circle: </a:t>
            </a:r>
            <a:r>
              <a:rPr b="1" lang="en-US" sz="18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10 [Enter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The radius and area of the circle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Radius: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Area: 78.54</a:t>
            </a: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7DAD-7606-4789-A503-43C7FBAEE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ings as Structure 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character array is a structure member, use the same sting manipulation techniques with it as you would with any other character arra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C690-242A-4965-9297-CA58BCF40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// This program uses a structure to hold someone's first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// middle, and last na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uct 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first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middle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last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full[4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800600" y="243828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A6E4-2DD7-4978-B4AA-0E4AA2827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>
              <a:lnSpc>
                <a:spcPct val="80000"/>
              </a:lnSpc>
              <a:buNone/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rogram contin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040" cy="49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Name perso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first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firs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middle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middl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last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las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py(person.full, person.first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" "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person.middle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" "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person.last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\nYour full name is " &lt;&lt; person.full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5000" y="114300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8869-F90F-4FD0-87F9-EF01AB3C7F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has several primitive data typ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533520" y="3276720"/>
          <a:ext cx="8835840" cy="22222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83584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6000"/>
              </a:lnSpc>
              <a:spcBef>
                <a:spcPts val="1276"/>
              </a:spcBef>
              <a:buNone/>
            </a:pPr>
            <a:r>
              <a:rPr b="1" i="1" lang="en-US" sz="24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Program Output with Example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Enter your first name: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Josephine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Enter your middle name: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Yvonne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Enter your last name: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Smith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Your full name is Josephine Yvonne Smith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6019920" y="205740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A0C9-B22B-44F4-8C0D-943B1B6D54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es as Function Arg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ucture variables may be passed as arguments to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2286000"/>
            <a:ext cx="678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Rect(bo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33520" y="3276720"/>
            <a:ext cx="6552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showRect(Rectangle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length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width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area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8F7A-1A67-4BEF-9C6E-42DFA265B5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772040" cy="5714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struct Iitem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nt partNum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har description[50];    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nt onHan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float price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ShowItem(Item)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// Function prototyp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tem Part = {171, "Industrial Widget", 25, 150.0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ShowItem(part)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ShowItem(InvItem piec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Part Number: " &lt;&lt; piece.partNum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Description: " &lt;&lt; piece.description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Units On Hand: " &lt;&lt; piece.onHand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Price: $" &lt;&lt; piece.price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715000" y="1523880"/>
            <a:ext cx="3047760" cy="230472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Part Number: 17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Description: Industrial Wid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Units On Hand: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Price: $150.00</a:t>
            </a: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7519-0864-42C3-8761-964B310E2B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bstract data types (ADT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T: Are data types created by the programm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Ts have their own range (or domain) of data and their own set of operations that may be performed on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grammer decides what values are acceptable for the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grammer decides what operations may be performed on the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++ allows you to group several variables together into a single item known as a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ata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 group of data elements joined together under on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data elements, known as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member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can have different types and different length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structures are declared in C++ using the following syntax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4" descr="ag00338_.gif"/>
          <p:cNvPicPr/>
          <p:nvPr/>
        </p:nvPicPr>
        <p:blipFill>
          <a:blip r:embed="rId1"/>
          <a:stretch/>
        </p:blipFill>
        <p:spPr>
          <a:xfrm>
            <a:off x="6477120" y="4495680"/>
            <a:ext cx="409320" cy="93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Screen shot 2013-02-17 at 8.28.45 PM.png"/>
          <p:cNvPicPr/>
          <p:nvPr/>
        </p:nvPicPr>
        <p:blipFill>
          <a:blip r:embed="rId2"/>
          <a:stretch/>
        </p:blipFill>
        <p:spPr>
          <a:xfrm>
            <a:off x="0" y="2476440"/>
            <a:ext cx="8470440" cy="38476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809880" y="5334120"/>
            <a:ext cx="335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Note semicol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E0C83EF-8582-4B57-BDDB-C076D24D0F8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3048120" y="2133720"/>
            <a:ext cx="5028840" cy="3276360"/>
            <a:chOff x="3048120" y="2133720"/>
            <a:chExt cx="5028840" cy="3276360"/>
          </a:xfrm>
        </p:grpSpPr>
        <p:sp>
          <p:nvSpPr>
            <p:cNvPr id="200" name="Rectangle 7"/>
            <p:cNvSpPr/>
            <p:nvPr/>
          </p:nvSpPr>
          <p:spPr>
            <a:xfrm>
              <a:off x="3048120" y="2590920"/>
              <a:ext cx="5028840" cy="28191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126600" y="2911320"/>
              <a:ext cx="12783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mp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125880" y="3352680"/>
              <a:ext cx="66888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3126240" y="3886200"/>
              <a:ext cx="7905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ho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3126240" y="4343400"/>
              <a:ext cx="103464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ay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3130200" y="4724280"/>
              <a:ext cx="91260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4648320" y="2895480"/>
              <a:ext cx="15235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7" name="Rectangle 14"/>
            <p:cNvSpPr/>
            <p:nvPr/>
          </p:nvSpPr>
          <p:spPr>
            <a:xfrm>
              <a:off x="4648320" y="3352680"/>
              <a:ext cx="24379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4648320" y="38098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4648320" y="42670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0" name="Rectangle 17"/>
            <p:cNvSpPr/>
            <p:nvPr/>
          </p:nvSpPr>
          <p:spPr>
            <a:xfrm>
              <a:off x="4648320" y="47242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3204720" y="2133720"/>
              <a:ext cx="668880" cy="333000"/>
            </a:xfrm>
            <a:prstGeom prst="rect">
              <a:avLst/>
            </a:prstGeom>
            <a:noFill/>
            <a:ln w="9525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m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19"/>
          <p:cNvSpPr/>
          <p:nvPr/>
        </p:nvSpPr>
        <p:spPr>
          <a:xfrm>
            <a:off x="4743000" y="1309680"/>
            <a:ext cx="3107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e Vari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53160" y="3747960"/>
            <a:ext cx="1317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4343400" y="1676160"/>
            <a:ext cx="114300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1600200" y="3047760"/>
            <a:ext cx="1371600" cy="9144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Line 23"/>
          <p:cNvSpPr/>
          <p:nvPr/>
        </p:nvSpPr>
        <p:spPr>
          <a:xfrm flipV="1">
            <a:off x="1600200" y="3504960"/>
            <a:ext cx="137160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1600200" y="3962160"/>
            <a:ext cx="1371600" cy="763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Line 25"/>
          <p:cNvSpPr/>
          <p:nvPr/>
        </p:nvSpPr>
        <p:spPr>
          <a:xfrm>
            <a:off x="1600200" y="3962160"/>
            <a:ext cx="137160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1676160" y="4038480"/>
            <a:ext cx="1295640" cy="8380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80880" y="2057400"/>
            <a:ext cx="7848360" cy="405360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PERSON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Declare PERSON stru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ge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Declare member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name[2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in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SON brother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C++ style structure decl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ther.age = 7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assign values to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80880" y="2057400"/>
            <a:ext cx="7848360" cy="1614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igh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 apple, banana, mel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58</TotalTime>
  <Application>LibreOffice/7.4.7.2$Linux_X86_64 LibreOffice_project/40$Build-2</Application>
  <AppVersion>15.0000</AppVersion>
  <Words>1391</Words>
  <Paragraphs>2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16:32Z</dcterms:created>
  <dc:creator>NOUF</dc:creator>
  <dc:description/>
  <dc:language>en-US</dc:language>
  <cp:lastModifiedBy>Mac</cp:lastModifiedBy>
  <dcterms:modified xsi:type="dcterms:W3CDTF">2013-02-17T18:59:14Z</dcterms:modified>
  <cp:revision>40</cp:revision>
  <dc:subject/>
  <dc:title>CS1201: 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2</vt:r8>
  </property>
</Properties>
</file>