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801A1-A789-4ED2-83BF-B4197049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477-9CC5-4FB1-8A7B-E1C9F347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444-972E-47C8-97D6-0C27C670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8DB-F235-4BA9-935F-0D74F135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F03-CD91-4C3D-B612-15E20091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275-758E-4FB9-8F1F-C9D0AD4D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B36-7419-4365-9534-C7A4C3F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6C53-2650-4100-8105-E2EA629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D5C1-2DD8-4D42-90FB-04C8675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FA83-1A2B-4B46-9D58-3A449EB0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2E1-F81F-4A60-9F1F-AE77ED4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A53B-01D1-404F-9C8D-79322B51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871-E48F-4780-AA22-3868A69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0B5D-B034-46A6-8DAC-849BC141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61D-E073-4477-A283-B0FCC71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5C56-E744-4131-B79B-ACBD1811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56D-74F0-4382-B77F-83D0B17D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6EE-39A0-4F94-A9BF-980E713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A36F-E439-467B-A861-28FBFC60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F831-CABE-45D7-B659-F2273188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6935-7208-4D26-9187-E5A3AED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ECD0-D35D-4DA9-8E30-2DAF67B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A26A-0EFE-402A-907F-AE6E84B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9AA-A3F6-4138-A6F1-A584D4C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60AB-7E20-400F-9247-CDE2AFB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0FF8-480B-466F-80CC-D77976D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0AAE-C78C-4C1A-9140-9E3B283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B426-0249-49B5-8643-BD1CFFE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7A88-D418-41CC-853F-DA91018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E679-217A-407A-A69A-5E01D01D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46BD-DB69-43D3-9715-16A7CE1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6A061-0702-452C-BAD5-E2875E78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61B3-D290-43D7-98D7-D8777C9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2233-5837-4CA5-963F-4934405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019-C6F9-40C5-AC44-A79F8E7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2FEE-FFF5-4B0C-9930-D1103BA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E74F-EB4C-4D8F-9A9C-B9FFC55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4755-87F9-49FA-9F8C-1521EE2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BC3D-EAB1-462C-9A23-CBD7315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B36B-62EC-4E8C-B0C8-4223AFC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2C182-1539-4697-8FA3-A2206DD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A0C4-35E4-4FBE-A24B-7F9EACA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A39DD-E278-4605-8A50-D98799AD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17CE-360B-40E8-AB17-9CE459C0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AC2B-3FE6-411C-BADC-C465D570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DCA-636C-4F6E-87A3-BF957DF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F22F-6E25-4492-8F5F-DB7438D2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DD03-DB16-4A61-930B-F2942094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ADBB-1C7B-4658-ABF0-10E3E75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2C2B-4664-4227-A708-8507CF8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AEE2-930F-404E-ACEB-3591EF8C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09953-FD8C-49D3-9889-D4FBC1B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46BB-02B0-4D4F-B279-0EF7206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7933-DADD-4A0F-B39C-6132C908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3DA9-D793-4BCE-8488-09E9608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1C48-045D-430D-941C-ABA38E1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B4F-B2CD-4020-9F8F-680621E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2DC3-A9A4-49B0-ACA1-6B918D36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670-EE66-4A89-A0E8-8F68F46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7C3-FF9A-4822-B412-2609FA2A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A79-090E-44AE-9548-0F2B1C3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1269B0-095E-4EA8-9F36-AA640CF47E9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F221847-479B-4E45-8E79-20783B84844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F33904-BE68-43CD-B9F6-C2D2F2C0730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677E017-EC2C-4AF0-BE26-80054B4EB58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6472BB-C75B-4DEB-A4F5-BAFA5FCEE27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Lecture #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457200" y="1600200"/>
            <a:ext cx="8152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lasses and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48A-E868-4D0F-9046-3811C15A3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onstructors Vs. Destruc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Destruct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158560"/>
            <a:ext cx="4023000" cy="32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tructor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guarante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at the memb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variable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r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itializ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when an object is declar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tructors automatically execute when a class object is declar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name of a constructor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the same as the name of the 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lass can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have more than on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onstructor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, Constructor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onstructor without parameters is call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the default constructor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3440" y="2082240"/>
            <a:ext cx="4023000" cy="32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truct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automatically execute when a class object goes out of sco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ame of a destructor is the tilde (~), followed by the class name (no spaces in between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las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an have only one destruc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destructor has no parame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539640" y="5499000"/>
            <a:ext cx="8208720" cy="1130040"/>
          </a:xfrm>
          <a:prstGeom prst="rect">
            <a:avLst/>
          </a:prstGeom>
          <a:solidFill>
            <a:srgbClr val="ffffff"/>
          </a:solidFill>
          <a:ln>
            <a:solidFill>
              <a:srgbClr val="727ca3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Constructors and Destructor 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are functions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without any 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  As a result, they cannot be called like other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Note</a:t>
            </a:r>
            <a:r>
              <a:rPr b="0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: A function can return a value of typ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0949-1398-4B70-A4E6-A7ED2314E9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r>
              <a:rPr b="0" lang="en-GB" sz="3200" spc="-1" strike="noStrike">
                <a:solidFill>
                  <a:srgbClr val="464653"/>
                </a:solidFill>
                <a:latin typeface="Adobe Arabic"/>
              </a:rPr>
              <a:t>#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6AA5F-8A3E-416F-ACB9-378C1851DA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9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adiu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Circl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Radius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Circl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19520" y="1447920"/>
            <a:ext cx="3657240" cy="466308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6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Circle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(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/ destru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~Circl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 ending object........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 r &gt;=0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getRadius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adiu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Content Placeholder 4"/>
          <p:cNvSpPr/>
          <p:nvPr/>
        </p:nvSpPr>
        <p:spPr>
          <a:xfrm>
            <a:off x="5334120" y="1661040"/>
            <a:ext cx="3657240" cy="466308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Circl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3.14*radius*radiu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Circle::perimeter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3.14 * radiu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main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x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 Enter the radius of the circle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in&gt;&gt;x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ircle C1(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\n the area of the circle is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&lt;C1.area()&lt;&lt;end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 and the perimeter is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&lt;C1.perimeter()&lt;&lt;end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mber Functions Defined Outside the Cla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name,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, is preceded by the class name, Circle, and a new symbol the double colon :: th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op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operat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way of saying,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 mea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 is a member function of the Circle class.” 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AA0B-314A-4E8D-86C8-B1F0B4EB6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Example </a:t>
            </a: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9ADFA-3DAF-4A3C-B584-F9BCAFA5D0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640" y="1066680"/>
            <a:ext cx="2808000" cy="518112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5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otect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Leng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Wid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rectangle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ngth = 0;     wid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55640" y="1265040"/>
            <a:ext cx="3006360" cy="55926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9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Dimension( L ,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~rectangle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  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setDimension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 L &gt;= 0 )  length = 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        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ng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 w &gt;= 0 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idth = w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id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getLength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getWidth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Content Placeholder 4"/>
          <p:cNvSpPr/>
          <p:nvPr/>
        </p:nvSpPr>
        <p:spPr>
          <a:xfrm>
            <a:off x="5562720" y="1517040"/>
            <a:ext cx="3352320" cy="534060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1000"/>
          </a:bodyPr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length * width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perimeter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( length + width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prin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800" spc="-1" strike="noStrike">
                <a:solidFill>
                  <a:srgbClr val="c00000"/>
                </a:solidFill>
                <a:latin typeface="Gill Sans MT"/>
              </a:rPr>
              <a:t>" Length = "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 &lt;&lt; length &lt;&lt; </a:t>
            </a:r>
            <a:r>
              <a:rPr b="0" lang="en-GB" sz="800" spc="-1" strike="noStrike">
                <a:solidFill>
                  <a:srgbClr val="c00000"/>
                </a:solidFill>
                <a:latin typeface="Gill Sans MT"/>
              </a:rPr>
              <a:t>" ; Width = " 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&lt;&lt; width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main 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    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10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 x,y;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Enter the length and width of the rectangle R1: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in&gt;&gt;x&gt;&gt;y;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rectangleType R1(x,y), R2(12,4), R3(9,1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1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1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1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1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2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2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2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2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3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3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3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3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Example #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412640"/>
            <a:ext cx="5294520" cy="374400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860000" y="980640"/>
            <a:ext cx="4673160" cy="496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7362000" cy="508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475640" y="2565000"/>
            <a:ext cx="6681600" cy="2795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Example #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533520"/>
            <a:ext cx="8686440" cy="63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 &lt;stdio.h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Book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PageCoun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CurrentPag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ook( int Numpages) ; // Construc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~Book(){} ; // Destruc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oid SetPage( int PageNumber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GetCurrentPage( void 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ok::Book( int NumPage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PageCount = NumPages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Book::SetPage( int PageNumber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CurrentPage=PageNumber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Book::GetCurrentPage( void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return CurrentPage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3040-A073-452D-8286-1681EAE5D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#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main(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ook ABook(128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Book.SetPage( 56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ut &lt;&lt; “The current page is: “ &lt;&lt; ABook.GetCurrentPage(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 0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EC3-B2BE-4CA4-B0D5-2ACB19826E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#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268640"/>
            <a:ext cx="6228000" cy="5637240"/>
          </a:xfrm>
          <a:prstGeom prst="rect">
            <a:avLst/>
          </a:prstGeom>
          <a:ln w="9525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4356000" y="1457280"/>
            <a:ext cx="4560480" cy="540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look around you now and see many examples of real-world objects: your cat, your desk, your television set, your bi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real-world objects share two characteristics: they all hav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they all hav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xample, dogs have state (name, color, breed, hungry) and dogs have behavior (barking, fetching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BB73F-AB8A-4FAB-BB81-28BDB1A27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251640" y="522360"/>
            <a:ext cx="6515640" cy="586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899640" y="2349000"/>
            <a:ext cx="7641720" cy="356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ftware objects are modeled after real-world objects in that they, too, have state and behavi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oftware object maintains its state i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implements its behavior with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metho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1" lang="en-GB" sz="2600" spc="-1" strike="noStrike">
                <a:solidFill>
                  <a:srgbClr val="002060"/>
                </a:solidFill>
                <a:latin typeface="Gill Sans MT"/>
              </a:rPr>
              <a:t>object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bines data and operations on the data into a single un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8F13B-D847-4CE8-A5BF-DA0DFA6F89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0892E-3E6E-41F5-9089-D4E43C5C94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OOD, the first step is to identify the components, called </a:t>
            </a:r>
            <a:r>
              <a:rPr b="1" lang="en-GB" sz="2600" spc="-1" strike="noStrike">
                <a:solidFill>
                  <a:srgbClr val="8b8b9d"/>
                </a:solidFill>
                <a:latin typeface="Gill Sans MT"/>
              </a:rPr>
              <a:t>object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objec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bines data and operations on the data into a single un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mechanism that allow you to combine data and operations on the data into a single unit is called a 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en-GB" sz="2600" spc="-1" strike="noStrike">
                <a:solidFill>
                  <a:srgbClr val="8b8b9d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collection of fixed number of components. The components of a class are called th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member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f th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defini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MembersList consists of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varia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attribute) and/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function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method)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declaration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718640" y="1981080"/>
            <a:ext cx="6021360" cy="1890000"/>
          </a:xfrm>
          <a:prstGeom prst="rect">
            <a:avLst/>
          </a:prstGeom>
          <a:solidFill>
            <a:srgbClr val="ffffff"/>
          </a:solidFill>
          <a:ln>
            <a:solidFill>
              <a:srgbClr val="727ca3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Gill Sans MT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class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lassMember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67C-BEF9-453C-9233-5F5980007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Content Placeholder 4" descr="Screen shot 2013-02-23 at 10.08.01 AM.png"/>
          <p:cNvPicPr/>
          <p:nvPr/>
        </p:nvPicPr>
        <p:blipFill>
          <a:blip r:embed="rId1"/>
          <a:stretch/>
        </p:blipFill>
        <p:spPr>
          <a:xfrm>
            <a:off x="698400" y="1536840"/>
            <a:ext cx="7606800" cy="394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7C1-A96F-4AAB-BB91-2B839D7BE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927E9-E2AC-4434-A0E2-FADB90CC19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880" y="1219320"/>
            <a:ext cx="84578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mbers of a class are classified into one of three categorie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rivate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i="1" lang="en-GB" sz="23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default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) : not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rotected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: not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ublic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: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GB" sz="2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GB" sz="2270" spc="-1" strike="noStrike">
                <a:solidFill>
                  <a:srgbClr val="0070c0"/>
                </a:solidFill>
                <a:latin typeface="Gill Sans MT"/>
              </a:rPr>
              <a:t>keyword </a:t>
            </a: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of category name  is followed by </a:t>
            </a:r>
            <a:r>
              <a:rPr b="0" i="1" lang="en-GB" sz="2270" spc="-1" strike="noStrike">
                <a:solidFill>
                  <a:srgbClr val="0070c0"/>
                </a:solidFill>
                <a:latin typeface="Gill Sans MT"/>
              </a:rPr>
              <a:t>colon (:) </a:t>
            </a: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7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ually the data within a class is private and the functions are public. </a:t>
            </a:r>
            <a:r>
              <a:rPr b="1" i="1" lang="en-GB" sz="23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In the definition of a class, you cannot initialize a variable when you declare i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In C++, a class is a definition. No memory is allocated for the class itself; memory is allocated for the class objects (class instances) when you declare th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394D9-95CA-4D76-8473-EC95A887FB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 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ge;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igh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Age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yrs) { age = yrs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Weight 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gs) { weight = kgs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etAge() {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ge; }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etWeight() {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ight; }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ain( 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t MyCa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Cat.setAge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Cat.setWeight(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"My cat\'s age is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Cat.getAg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" and weighs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Cat.getWeight() &lt;&lt;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" kg\n“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rcRect l="3460" t="7535" r="73662" b="76012"/>
          <a:stretch/>
        </p:blipFill>
        <p:spPr>
          <a:xfrm>
            <a:off x="5292000" y="5126760"/>
            <a:ext cx="37515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ng Objec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Cat MyCa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ling Member Func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MyCat.setAge(3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MyCat.setWeight(2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C520-8C20-4EAE-A1F1-982B98E78C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B4F7D0C1-DF7A-4A61-99C7-23F929989FE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190EE202-CC4B-425D-B100-7819B50BD08F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63CC0F7D-5A6F-4AFC-8029-B41F904FE354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441</TotalTime>
  <Application>LibreOffice/7.4.7.2$Linux_X86_64 LibreOffice_project/40$Build-2</Application>
  <AppVersion>15.0000</AppVersion>
  <Words>1735</Words>
  <Paragraphs>2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54:46Z</dcterms:created>
  <dc:creator>School</dc:creator>
  <dc:description/>
  <dc:language>en-US</dc:language>
  <cp:lastModifiedBy>Mac</cp:lastModifiedBy>
  <dcterms:modified xsi:type="dcterms:W3CDTF">2013-02-24T09:36:43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7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