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DDB344-3BE4-4BCA-B267-193CABFA4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011A42-FA01-4E3C-95E6-2657CA05957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89A-4BBB-4E2D-946A-C744DA07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EAE-12A7-4BF7-B1B3-B1230DE9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154-58F5-4409-994D-0397FAC5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E53-347F-4331-A698-5843298E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B7DB-CC8F-4EE4-AB61-B9005126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F154-C61F-424F-A665-AFB84C6B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5132-4BA3-4672-B11F-153CDAF4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83C1-E924-407A-B9E6-D4280721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34B9-BE1D-4EB0-99F0-C0F022F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1F8F-58BE-4480-936B-0C7745BF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684-B8E3-45FB-9DE5-1D06C13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C16-8396-44F6-9435-48F10F54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B9B9-4A7C-446D-9A41-365A3DC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3044-0DC4-4401-ADB7-BF3996E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838D-F351-4B20-976C-8A54AC0A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8950-AB9D-483E-8A47-7683E257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C997-0DA7-49CB-AD2F-D5DD2101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94A2-72FC-4392-A771-085D3C39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C462-0192-4C65-9481-3A58D253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025E9-AE03-47A9-B8D5-93010CE2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4A87-69B3-4C65-871E-D75E6569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CFA1-22A3-4815-B993-B871EFEC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31E-913A-48E3-8A26-2DDFC751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27C23-800E-4012-B993-80431CE5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D8FB-8761-4359-9674-019FC73B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F956-53B6-411B-9843-DF15D9CC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E72FD-ECC2-456A-86FA-28C7AD0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3BB7-08A0-410C-9420-B1FE4788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D8B6-64C0-433F-BF61-01E57FBC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82376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190320" y="12193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182376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3190320" y="3798720"/>
            <a:ext cx="13010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254C-3EAB-40B2-BF8C-66632F8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0BF-52CF-4F2D-A081-7434178D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136-AB45-4911-9750-818731D0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B42-9C20-4F68-9BBF-4B0723B1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50C-68E2-4A97-8CCF-EDA346E6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28280" y="37987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84C-AE9C-439D-AEB4-1129EBD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8280" y="1219320"/>
            <a:ext cx="197208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4136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E41-895A-4B0B-B001-018889DC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758CBEC-00E5-4728-A579-F5DD4876949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7E881A8-7192-47A3-B31E-B0A160C395D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D243814-613D-4A1D-A586-AAA4195B951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heritance in C++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464653"/>
                </a:solidFill>
                <a:latin typeface="Bookman Old Style"/>
              </a:rPr>
              <a:t>CSC1201: Programming Langu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BB5-4AD8-4249-85CC-1D2ABFC869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, protected, and priv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-246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 class member is declared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s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ublic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can be accessed by any other part of a program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s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rivate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can be accesses only by members of it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40520" indent="-2055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rther, derived classes do not have access to private base class member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3560" indent="-24660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s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rotected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can be accessed only by members of it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40520" indent="-2055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ever, derived classes also have access to protected base class member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40520" indent="-2055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,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otected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s a member to be inherited, but to remain private within a class hierarch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9917-828F-4A61-92BE-AF3637975C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nt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48760" indent="-248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 base class is inherited by use o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ublic,  (default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47000" indent="-2073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s public members become public members of the derived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47000" indent="-20736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s protected members become protected members of the derived clas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rotected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s public and protected members become protected members of the derived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464653"/>
                </a:solidFill>
                <a:latin typeface="Gill Sans MT"/>
              </a:rPr>
              <a:t>private,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s public and protected members become private members of the derived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In all cases, private members of a base class remain private to that bas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43EE-64C8-43CF-935C-5DD290E37B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Inheritance and Accessibili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71" name="Content Placeholder 3"/>
          <p:cNvGraphicFramePr/>
          <p:nvPr/>
        </p:nvGraphicFramePr>
        <p:xfrm>
          <a:off x="1447920" y="2372400"/>
          <a:ext cx="5999040" cy="2855520"/>
        </p:xfrm>
        <a:graphic>
          <a:graphicData uri="http://schemas.openxmlformats.org/drawingml/2006/table">
            <a:tbl>
              <a:tblPr/>
              <a:tblGrid>
                <a:gridCol w="1499760"/>
                <a:gridCol w="1499760"/>
                <a:gridCol w="1499760"/>
                <a:gridCol w="14997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cess Identifi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cessible from ow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cessible from Deriv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cessible from Objects outside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95F5-FD1A-4520-800E-A1B62D887D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Inheritance and Accessibi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0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class inherits the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Times New Roman"/>
              </a:rPr>
              <a:t>behavi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of another class and enhances it in some w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nheritance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Times New Roman"/>
              </a:rPr>
              <a:t>does not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mean inheriting access to another class’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private memb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 and Private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#includ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mespac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///////////////////////////////////////////////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bas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    priv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tected: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protdata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     pubdata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///////////////////////////////////////////////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19720" y="2682360"/>
            <a:ext cx="451152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B: public   A </a:t>
            </a:r>
            <a:r>
              <a:rPr b="0" lang="en-US" sz="2060" spc="-1" strike="noStrike">
                <a:solidFill>
                  <a:srgbClr val="000000"/>
                </a:solidFill>
                <a:latin typeface="Gill Sans MT"/>
              </a:rPr>
              <a:t>//publicly derived class</a:t>
            </a:r>
            <a:endParaRPr b="0" lang="en-US" sz="2060" spc="-1" strike="noStrike">
              <a:solidFill>
                <a:srgbClr val="000000"/>
              </a:solidFill>
              <a:latin typeface="Gill Sans MT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nct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riv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020" spc="-1" strike="noStrike">
                <a:solidFill>
                  <a:srgbClr val="464653"/>
                </a:solidFill>
                <a:latin typeface="Gill Sans MT"/>
              </a:rPr>
              <a:t>//error: not accessible</a:t>
            </a:r>
            <a:endParaRPr b="0" lang="en-US" sz="202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rot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020" spc="-1" strike="noStrike">
                <a:solidFill>
                  <a:srgbClr val="464653"/>
                </a:solidFill>
                <a:latin typeface="Gill Sans MT"/>
              </a:rPr>
              <a:t>//OK</a:t>
            </a:r>
            <a:endParaRPr b="0" lang="en-US" sz="202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ub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020" spc="-1" strike="noStrike">
                <a:solidFill>
                  <a:srgbClr val="464653"/>
                </a:solidFill>
                <a:latin typeface="Gill Sans MT"/>
              </a:rPr>
              <a:t>//OK</a:t>
            </a:r>
            <a:endParaRPr b="0" lang="en-US" sz="2020" spc="-1" strike="noStrike">
              <a:solidFill>
                <a:srgbClr val="000000"/>
              </a:solidFill>
              <a:latin typeface="Gill Sans MT"/>
            </a:endParaRPr>
          </a:p>
          <a:p>
            <a:pPr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566E-3572-410D-9DE7-9251D78CD1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 and Private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C :private A </a:t>
            </a:r>
            <a:r>
              <a:rPr b="0" lang="en-US" sz="1729" spc="-1" strike="noStrike">
                <a:solidFill>
                  <a:srgbClr val="000000"/>
                </a:solidFill>
                <a:latin typeface="Gill Sans MT"/>
              </a:rPr>
              <a:t>//privately derived class</a:t>
            </a:r>
            <a:endParaRPr b="0" lang="en-US" sz="1729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 funct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rivdataA; // not accessib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rot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//OK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=pubdataA;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//OK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636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8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62520" y="1751400"/>
            <a:ext cx="5181120" cy="51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in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a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B.priv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not acces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B.prot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not acces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B.pub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OK (A public to B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bjC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objC.priv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not acces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objC.protdataA;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//not accessib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=objC.pubdataA;  </a:t>
            </a:r>
            <a:r>
              <a:rPr b="0" lang="en-US" sz="2060" spc="-1" strike="noStrike">
                <a:solidFill>
                  <a:srgbClr val="000000"/>
                </a:solidFill>
                <a:latin typeface="Gill Sans MT"/>
              </a:rPr>
              <a:t>//not accessible (A private to C)</a:t>
            </a:r>
            <a:endParaRPr b="0" lang="en-US" sz="206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tur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518E-355C-498D-8468-864FF9E72F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 and Private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Func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in the derived classes can access protected and public data in the bas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Object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of the derived classes cannot access private or protected members of the bas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difference between publicly derived and privately derived classe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Objects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 of</a:t>
            </a:r>
            <a:r>
              <a:rPr b="0" lang="en-US" sz="37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the publicly derived class </a:t>
            </a: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B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can access public members of the base class </a:t>
            </a: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A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ff0000"/>
                </a:solidFill>
                <a:latin typeface="Gill Sans MT"/>
              </a:rPr>
              <a:t>Objects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 of the</a:t>
            </a:r>
            <a:r>
              <a:rPr b="0" lang="en-US" sz="37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privately derived class </a:t>
            </a:r>
            <a:r>
              <a:rPr b="0" lang="en-US" sz="1700" spc="-1" strike="noStrike">
                <a:solidFill>
                  <a:srgbClr val="464653"/>
                </a:solidFill>
                <a:latin typeface="Gill Sans MT"/>
              </a:rPr>
              <a:t>C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cannot; they can only access the public members of their own derived</a:t>
            </a:r>
            <a:r>
              <a:rPr b="0" lang="en-US" sz="37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class.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BF1C-11F9-4763-85EC-75E08FFC11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ublic and Private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the base class is inherited by using the </a:t>
            </a: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ccess specifier,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all public and protected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bers of the base class becom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the access specifier for a base class is </a:t>
            </a: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all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base becom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derived class, and all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rotected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mbers of the base becom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rotect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-254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the access specifier for a base class is </a:t>
            </a: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protect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all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ublic and protected member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f the base class become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protect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members of th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4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4350-14CE-4C5E-91C0-7ED7FAD9A0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base class inherited as public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Num" idx="1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2F658-A31B-41EE-8C10-51B19F301C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1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7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: public base // drived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rived( int x) {k =x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 ob(3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(1,2); // access member of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(); // access member of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K(); // access member of drived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base class inherited as priva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1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CD089-93C1-4AB1-9C2C-7FC4F16DBC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7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: private base // drived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rived( int x) {k =x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 ob(3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(1,2); // Error, can’t access set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(); // Error, , can’t access show(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Inheritance 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s Hierarch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antages of Inheri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 Inheritance Defini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, Protected and Privat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heritance and Accessi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and Private Inheri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tructors, Destructors, and Inheri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Rules for Building a Class Hierarch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Over-written Func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7FC4-FFF3-4FDE-B9D1-232430F932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4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base class inherited as protect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39CA8-DEF6-4353-AC48-A2C1A60B6F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343040" cy="513684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8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rotecte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j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i(int a) { i=a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geti() { return i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inherit base as prot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erived: protected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j(int a) {  j = a ; } // j is a protected 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K(int a){ k = a;} //k is also protected 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getj() { return j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getk() { return k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67080" y="1539360"/>
            <a:ext cx="31107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67000"/>
          </a:bodyPr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 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i(10);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illeg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ob.geti();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illeg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k = 10;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illeg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k(10);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ob.getk&lt;&lt; ‘ ‘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j(12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ob.getj()&lt;&lt; ‘ ‘;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9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structors, Destructors, and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n object of a derived class is created, the base class’ constructor will be called first, followed by the derived class’ constructo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a derived object is destroyed, its destructor is called first, followed by the base class' destructo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ACBF-6D6D-4780-BC5E-6EB8C33E6D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structors, Destructors, and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lass ba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base() { cout &lt;&lt; "Constructing base\n"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~base() { cout &lt;&lt; "Destructing base\n"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lass derived: public base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derived() { cout &lt;&lt; "Constructing derived\n"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~derived() { cout &lt;&lt; "Destructing derived\n"; 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erived ob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// do nothing but construct and destruct ob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4BB9-F5E7-45EF-8DFD-373CDB80B3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structors, Destructors, and Inherit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executed, this program display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tructing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tructing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tructing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tructing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F57A-A84D-4E57-840E-007EBFF719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S Mincho"/>
              </a:rPr>
              <a:t>Rules for building a class hierarch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Derived classe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  <a:ea typeface="Times New Roman"/>
              </a:rPr>
              <a:t>special cases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of bas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 derived class can also serve as a base class for new class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There is no limit on the depth of inheritance allowed in C++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Mincho"/>
              </a:rPr>
              <a:t>It is possible for a class to be a base class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  <a:ea typeface="MS Mincho"/>
              </a:rPr>
              <a:t>more than one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  <a:ea typeface="MS Minch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Mincho"/>
              </a:rPr>
              <a:t>derived clas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 ( public access)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Num" idx="1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D6B4C-12C3-4C3B-9598-F1E92FFCCE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640" y="1429920"/>
            <a:ext cx="2808000" cy="466308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7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otecte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eng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id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~rectangle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etDimension 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Length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Width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area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erimeter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99640" y="1268640"/>
            <a:ext cx="3312000" cy="46800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41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boxTyp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 //derived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ivat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heigh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h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~box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etDimension 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h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Heigh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area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volum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::boxTyp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); height = 0 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::box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h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Dimension( L, w, h);  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Content Placeholder 4"/>
          <p:cNvSpPr/>
          <p:nvPr/>
        </p:nvSpPr>
        <p:spPr>
          <a:xfrm>
            <a:off x="5940000" y="836640"/>
            <a:ext cx="3240000" cy="4959720"/>
          </a:xfrm>
          <a:prstGeom prst="rect">
            <a:avLst/>
          </a:prstGeom>
          <a:solidFill>
            <a:srgbClr val="ffffff"/>
          </a:solidFill>
          <a:ln>
            <a:solidFill>
              <a:srgbClr val="b88472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rmAutofit fontScale="90000"/>
          </a:bodyPr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boxType::~boxType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setDimension( 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w, 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h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rectangleType::setDimension( L , w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if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( h &gt;= 0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height = h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else           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height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getHeight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height; 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area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2 * ( length * width + length * height + width * height );  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volume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rectangleType::area() * height;  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boxType::print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rectangleType::print(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out &lt;&lt;</a:t>
            </a:r>
            <a:r>
              <a:rPr b="0" lang="en-GB" sz="1100" spc="-1" strike="noStrike">
                <a:solidFill>
                  <a:srgbClr val="c00000"/>
                </a:solidFill>
                <a:latin typeface="Gill Sans MT"/>
              </a:rPr>
              <a:t> " ; Height = "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&lt;&lt; heigh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5680" indent="-2754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nt. 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main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 myRectangle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 myRectangle2(8, 6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 myBox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oxType myBox2(10, 7, 3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"\n myRectangle1: "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yRectangle1.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" Area of myRectangle1: "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&lt;&lt; myRectangle1.area()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"\n myRectangle2: "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yRectangle2.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 " Area of myRectangle2: "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&lt;&lt; myRectangle2.area()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9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64B9-FCCC-4162-8DEF-3EE653E2DC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ver-written Fun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se functions are NOT overloaded, since they have exactly the same prototype (and header), and they are not in the sam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y are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over-writte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func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over-written function that is closest to the object defined takes preced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6B5-1315-4BB8-BE88-1B743BD1B0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 using protected membe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ldNum" idx="17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7A43C-1734-4ADC-B1AC-81981208A6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4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protecte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 // private to base, but accessible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: public base // drived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derived may access base’s i and j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K() { k = i * j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 ob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(1,2); // ok , known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(); // ok , known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et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show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8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 using protected membe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8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56867-9630-48C7-ABAB-16BA0A3C76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7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protecte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 // private to base, but accessible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1: public base // I &amp; j inherited as protec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K() { k = i * j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44000"/>
          </a:bodyPr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I &amp; j inhereited indirectly through derived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2: public derived1 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m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M() { m = i - j; } // leg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M(){ cout&lt;&lt; m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1 ob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2 ob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1.set(1,2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1set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1show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et(4,7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how()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2set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howK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2setM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howM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is Inheritance ?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91436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echanism by which one class ge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properties of another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heritance is a meaningful way to relate two or more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mplements an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s-a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relationship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 example – a dog </a:t>
            </a:r>
            <a:r>
              <a:rPr b="1" lang="en-US" sz="2300" spc="-1" strike="noStrike" u="sng">
                <a:solidFill>
                  <a:srgbClr val="464653"/>
                </a:solidFill>
                <a:uFillTx/>
                <a:latin typeface="Gill Sans MT"/>
              </a:rPr>
              <a:t>is-a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nimal.</a:t>
            </a:r>
            <a:r>
              <a:rPr b="0" lang="en-US" sz="23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C130-D9C7-4555-ABB3-6F3A21B860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464653"/>
                </a:solidFill>
                <a:latin typeface="Bookman Old Style"/>
              </a:rPr>
              <a:t>Example: using protected membe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C2F2D-351C-4BA5-9551-DF72A1E1FF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6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// this program won’t compi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base // base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protecte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i, j; // private to base, but accessible to deriv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(int a, int b) { i=a; j=b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()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 i &lt;&lt; “ “ &lt;&lt; j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Now, all elements of base are private in derived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1: private b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k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K() { k = i * j; } // O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K(){ cout&lt;&lt;k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52000"/>
          </a:bodyPr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access to i &amp; j &amp; set() &amp; show() not inherit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drived2: public derived1 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 m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// illegal because I and j are private to derived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etM() { m = i - j; }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showM(){ cout&lt;&lt; m &lt;&lt; “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\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n”;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void main()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1 ob1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rived2 ob2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1.set(1,2); // err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.1showK(); // err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et(4,7); // err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2.show(); // err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4876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heritance lets us create new classes from existing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The new classes that we create from the existing classes are called the </a:t>
            </a: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derived classes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;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  Is also referred to as the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subclas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The existing classes are called the </a:t>
            </a: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base classes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s also called the </a:t>
            </a:r>
            <a:r>
              <a:rPr b="0" i="1" lang="en-US" sz="2300" spc="-1" strike="noStrike">
                <a:solidFill>
                  <a:srgbClr val="464653"/>
                </a:solidFill>
                <a:latin typeface="Gill Sans MT"/>
              </a:rPr>
              <a:t>superclass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Gill Sans MT"/>
              </a:rPr>
              <a:t>The derived classes inherit the properties of the base class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ach derived class, in turn, becomes a base class for a futur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derived class can redefine the member functions of a base class, but this redefinition applies only to the objects of the derived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BE22-EF7A-4C4F-97E9-313E4D6B26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heritance is Hierarchal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Content Placeholder 4" descr="vehicle.gif"/>
          <p:cNvPicPr/>
          <p:nvPr/>
        </p:nvPicPr>
        <p:blipFill>
          <a:blip r:embed="rId1"/>
          <a:stretch/>
        </p:blipFill>
        <p:spPr>
          <a:xfrm>
            <a:off x="1066680" y="1979640"/>
            <a:ext cx="6933960" cy="341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8B35-7ED3-4C11-9F2C-E97F2FB2EC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erarchical Inheri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0064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heritance is hierarchic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 derived class can act as a base class to a lower-level derived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higher the class in the hierarchy, the mor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general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information it contai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lower the class in the hierarchy, the more </a:t>
            </a:r>
            <a:r>
              <a:rPr b="0" lang="en-US" sz="2300" spc="-1" strike="noStrike">
                <a:solidFill>
                  <a:srgbClr val="ff0000"/>
                </a:solidFill>
                <a:latin typeface="Gill Sans MT"/>
              </a:rPr>
              <a:t>specific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information it contai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tributes in a derived class </a:t>
            </a:r>
            <a:r>
              <a:rPr b="0" lang="en-US" sz="2600" spc="-1" strike="noStrike">
                <a:solidFill>
                  <a:srgbClr val="ff0000"/>
                </a:solidFill>
                <a:latin typeface="Gill Sans MT"/>
              </a:rPr>
              <a:t>overwri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the same ones in a bas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5987-F113-49A5-B818-0533D80065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  <a:ea typeface="MS Mincho"/>
              </a:rPr>
              <a:t>Advantages of Inherit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When a class inherits from another class, there are three benefi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(1) You can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MS Mincho"/>
              </a:rPr>
              <a:t>reus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 the methods and data of the existing cla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(2) You can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MS Mincho"/>
              </a:rPr>
              <a:t>exten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 the existing class by adding new data and new metho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(3) You can </a:t>
            </a: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Gill Sans MT"/>
                <a:ea typeface="MS Mincho"/>
              </a:rPr>
              <a:t>modify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MS Mincho"/>
              </a:rPr>
              <a:t> the existing class by overloading its methods with your own implementat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Class Inheritance Definiti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23680" y="2421000"/>
            <a:ext cx="5512320" cy="16560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76000"/>
          </a:bodyPr>
          <a:p>
            <a:pPr marL="806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333399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ClassId:  accessId BClass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06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06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ClassMembersLi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06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06800" y="4648320"/>
            <a:ext cx="8516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accessId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define how can the derived class access the Base class member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Access identifier can be either public, protected  and priv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0"/>
          <p:cNvSpPr/>
          <p:nvPr/>
        </p:nvSpPr>
        <p:spPr>
          <a:xfrm rot="3134400">
            <a:off x="2362320" y="1981080"/>
            <a:ext cx="609120" cy="439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d6585"/>
              </a:gs>
              <a:gs pos="50000">
                <a:srgbClr val="6a759d"/>
              </a:gs>
              <a:gs pos="100000">
                <a:srgbClr val="5d6585"/>
              </a:gs>
            </a:gsLst>
            <a:lin ang="4080000"/>
          </a:gradFill>
          <a:ln>
            <a:solidFill>
              <a:srgbClr val="727ca3"/>
            </a:solidFill>
            <a:round/>
          </a:ln>
          <a:effectLst>
            <a:outerShdw blurRad="50760" dir="5400000" dist="42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1503360" y="1600200"/>
            <a:ext cx="139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2"/>
          <p:cNvSpPr/>
          <p:nvPr/>
        </p:nvSpPr>
        <p:spPr>
          <a:xfrm rot="6647400">
            <a:off x="5173200" y="1931760"/>
            <a:ext cx="609120" cy="4392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d6585"/>
              </a:gs>
              <a:gs pos="50000">
                <a:srgbClr val="6a759d"/>
              </a:gs>
              <a:gs pos="100000">
                <a:srgbClr val="5d6585"/>
              </a:gs>
            </a:gsLst>
            <a:lin ang="7596000"/>
          </a:gradFill>
          <a:ln>
            <a:solidFill>
              <a:srgbClr val="727ca3"/>
            </a:solidFill>
            <a:round/>
          </a:ln>
          <a:effectLst>
            <a:outerShdw blurRad="50760" dir="5400000" dist="42840" rotWithShape="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5562720" y="1535760"/>
            <a:ext cx="152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l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DEF8-92CE-485F-8017-0547D5D5F9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Class Inheritance Definiti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B : public Class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d a single colon (not the double colon used for the scope resolution operator) followed by the keyword public and the name of the base class Class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line says that ClassB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derive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bas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A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FABF-B350-46DA-B38D-48485D8D19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.thmx</Template>
  <TotalTime>598</TotalTime>
  <Application>LibreOffice/7.4.7.2$Linux_X86_64 LibreOffice_project/40$Build-2</Application>
  <AppVersion>15.0000</AppVersion>
  <Words>3386</Words>
  <Paragraphs>5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8:26:47Z</dcterms:created>
  <dc:creator>Mac</dc:creator>
  <dc:description/>
  <dc:language>en-US</dc:language>
  <cp:lastModifiedBy>Mac</cp:lastModifiedBy>
  <dcterms:modified xsi:type="dcterms:W3CDTF">2013-03-02T18:23:48Z</dcterms:modified>
  <cp:revision>108</cp:revision>
  <dc:subject/>
  <dc:title>Inherit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