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1E9C55-4C59-496A-ABA5-C7EEBF9F8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8FD53D-9FB2-4E74-8E18-C7B1433F676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2A6-6537-46DF-907B-3263A054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0A2-93BD-4B63-8D5F-22748D22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772-C07A-4739-A5B5-6FB80201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4CA-4652-404F-8BF1-F452D45A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5C01-E1E5-47AB-9961-AD2002B0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540D-0CF9-4B43-9C78-F194B5FF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E837-9FF9-42B8-973C-F78801F6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8537-E282-48EA-A093-DEE36C60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AE8E-5A57-4B87-8489-C4B75F28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BB8E-47DB-42E8-A128-8D845C8D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D80B-4322-4D49-8796-10FA5B80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833-4ECA-45EB-B35C-8F8856FA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529A-CEB3-48C3-A4D7-DE2F93A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9133-A415-4EC5-B971-95DF5AAF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8CEA-C9E5-4F75-BF6A-987C6253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4E8D-0C6F-47D2-86EC-6706358C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6DCC-F30D-456D-BF07-2DD80508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41C8-4146-43F2-999D-0E8A8030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20FA-FF7D-454F-9A89-066D2CDA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DC1FA-6B90-430B-BFA2-46E3A737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D118-D7A2-4A41-8BA0-DFA64924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1BA18-4DE4-415F-9603-ACEF220B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36DA-3E67-4FCD-BD9A-E1469F79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B380-C46A-4FDE-831A-3E8A4AD0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8A1C6-79C7-4143-855E-655BF8C2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119B-88DD-4345-8B21-2BB8F440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F820-5C23-4E2F-843E-FB700E22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972C0-4F96-4718-A490-4662BBED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94CB-2044-4DD0-B16E-828E8F50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D875A-2614-4AA0-AD7F-CC71C079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A75-225E-4AB7-92CF-241AED32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0F1B-03F5-477E-89ED-CD4B93AD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2C1-E9DC-41C2-B0E2-89783E15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A86-E8EA-4E4A-B72D-12C41EAC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FF2-834B-4972-80C2-F3479A5B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7A2-73D3-4A38-9463-200F5D33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1F4AE28-95A0-4D5D-AB0B-19F2FF8A373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7C4D957-B6E4-46F3-B68D-BE752400365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623BAB8-0F92-4A63-85AE-CEE5F4EBF04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heritance in C++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Bookman Old Style"/>
              </a:rPr>
              <a:t>CSC1201: Programming Langu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E7F-BE30-4515-B1BC-430176AD1D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ublic, protected, and priv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a class member is declared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3560" indent="-246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s </a:t>
            </a: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public,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 can be accessed by any other part of a program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3560" indent="-246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s </a:t>
            </a: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private,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 can be accesses only by members of its clas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740520" indent="-20556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urther, derived classes do not have access to private base class member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3560" indent="-246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s </a:t>
            </a: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protected,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 can be accessed only by members of its clas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740520" indent="-20556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wever, derived classes also have access to protected base class member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40520" indent="-20556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us,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rotected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ows a member to be inherited, but to remain private within a class hierarch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AB99-1BEC-42FE-94CC-E748518D30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nt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48760" indent="-248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a base class is inherited by use of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public,  (default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747000" indent="-20736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s public members become public members of the derived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47000" indent="-20736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s protected members become protected members of the derived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protected,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s public and protected members become protected members of the derived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private,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s public and protected members become private members of the derived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8760" indent="-248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In all cases, private members of a base class remain private to that base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75B7-C0DE-4FA5-98C2-1F6B890D0E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Inheritance and Accessibilit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71" name="Content Placeholder 3"/>
          <p:cNvGraphicFramePr/>
          <p:nvPr/>
        </p:nvGraphicFramePr>
        <p:xfrm>
          <a:off x="1447920" y="2372400"/>
          <a:ext cx="5999040" cy="2855520"/>
        </p:xfrm>
        <a:graphic>
          <a:graphicData uri="http://schemas.openxmlformats.org/drawingml/2006/table">
            <a:tbl>
              <a:tblPr/>
              <a:tblGrid>
                <a:gridCol w="1499760"/>
                <a:gridCol w="1499760"/>
                <a:gridCol w="1499760"/>
                <a:gridCol w="149976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cess Identifi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cessible from own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cessible from Derive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cessible from Objects outside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9A6E-10EA-4229-92A7-6CB84CB0D6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Inheritance and Accessibil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0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 class inherits the </a:t>
            </a:r>
            <a:r>
              <a:rPr b="0" i="1" lang="en-US" sz="2600" spc="-1" strike="noStrike" u="sng">
                <a:solidFill>
                  <a:srgbClr val="ff0000"/>
                </a:solidFill>
                <a:uFillTx/>
                <a:latin typeface="Gill Sans MT"/>
                <a:ea typeface="Times New Roman"/>
              </a:rPr>
              <a:t>behavio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of another class and enhances it in some wa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nheritance </a:t>
            </a:r>
            <a:r>
              <a:rPr b="0" i="1" lang="en-US" sz="2600" spc="-1" strike="noStrike" u="sng">
                <a:solidFill>
                  <a:srgbClr val="ff0000"/>
                </a:solidFill>
                <a:uFillTx/>
                <a:latin typeface="Gill Sans MT"/>
                <a:ea typeface="Times New Roman"/>
              </a:rPr>
              <a:t>does not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mean inheriting access to another class’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private member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ublic and Private Inherit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#includ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mespac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///////////////////////////////////////////////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 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bas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     privdataA;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tected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protdataA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      pubdataA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///////////////////////////////////////////////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19720" y="2682360"/>
            <a:ext cx="451152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 B: public   A </a:t>
            </a:r>
            <a:r>
              <a:rPr b="0" lang="en-US" sz="2060" spc="-1" strike="noStrike">
                <a:solidFill>
                  <a:srgbClr val="000000"/>
                </a:solidFill>
                <a:latin typeface="Gill Sans MT"/>
              </a:rPr>
              <a:t>//publicly derived class</a:t>
            </a:r>
            <a:endParaRPr b="0" lang="en-US" sz="2060" spc="-1" strike="noStrike">
              <a:solidFill>
                <a:srgbClr val="000000"/>
              </a:solidFill>
              <a:latin typeface="Gill Sans MT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i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unct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2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62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t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62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=privdataA;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020" spc="-1" strike="noStrike">
                <a:solidFill>
                  <a:srgbClr val="464653"/>
                </a:solidFill>
                <a:latin typeface="Gill Sans MT"/>
              </a:rPr>
              <a:t>//error: not accessible</a:t>
            </a:r>
            <a:endParaRPr b="0" lang="en-US" sz="2020" spc="-1" strike="noStrike">
              <a:solidFill>
                <a:srgbClr val="000000"/>
              </a:solidFill>
              <a:latin typeface="Gill Sans MT"/>
            </a:endParaRPr>
          </a:p>
          <a:p>
            <a:pPr marL="62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=protdataA;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020" spc="-1" strike="noStrike">
                <a:solidFill>
                  <a:srgbClr val="464653"/>
                </a:solidFill>
                <a:latin typeface="Gill Sans MT"/>
              </a:rPr>
              <a:t>//OK</a:t>
            </a:r>
            <a:endParaRPr b="0" lang="en-US" sz="2020" spc="-1" strike="noStrike">
              <a:solidFill>
                <a:srgbClr val="000000"/>
              </a:solidFill>
              <a:latin typeface="Gill Sans MT"/>
            </a:endParaRPr>
          </a:p>
          <a:p>
            <a:pPr marL="62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=pubdataA;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020" spc="-1" strike="noStrike">
                <a:solidFill>
                  <a:srgbClr val="464653"/>
                </a:solidFill>
                <a:latin typeface="Gill Sans MT"/>
              </a:rPr>
              <a:t>//OK</a:t>
            </a:r>
            <a:endParaRPr b="0" lang="en-US" sz="2020" spc="-1" strike="noStrike">
              <a:solidFill>
                <a:srgbClr val="000000"/>
              </a:solidFill>
              <a:latin typeface="Gill Sans MT"/>
            </a:endParaRPr>
          </a:p>
          <a:p>
            <a:pPr marL="62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49E02-67C7-4BD9-9B03-C42B3C505E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ublic and Private Inherit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18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 C :private A </a:t>
            </a:r>
            <a:r>
              <a:rPr b="0" lang="en-US" sz="1729" spc="-1" strike="noStrike">
                <a:solidFill>
                  <a:srgbClr val="000000"/>
                </a:solidFill>
                <a:latin typeface="Gill Sans MT"/>
              </a:rPr>
              <a:t>//privately derived class</a:t>
            </a:r>
            <a:endParaRPr b="0" lang="en-US" sz="1729" spc="-1" strike="noStrike">
              <a:solidFill>
                <a:srgbClr val="000000"/>
              </a:solidFill>
              <a:latin typeface="Gill Sans MT"/>
            </a:endParaRPr>
          </a:p>
          <a:p>
            <a:pPr marL="318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8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8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id funct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36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636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t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636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=privdataA; // not accessibl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636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=protdataA;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//OK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636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=pubdataA;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//OK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636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18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8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62520" y="1751400"/>
            <a:ext cx="5181120" cy="51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in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 a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jB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=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jB.privdataA;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not access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=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jB.protdataA;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not access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=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jB.pubdataA;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OK (A public to B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jC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=objC.privdataA;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not access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=objC.protdataA;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not access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=objC.pubdataA;  </a:t>
            </a:r>
            <a:r>
              <a:rPr b="0" lang="en-US" sz="2060" spc="-1" strike="noStrike">
                <a:solidFill>
                  <a:srgbClr val="000000"/>
                </a:solidFill>
                <a:latin typeface="Gill Sans MT"/>
              </a:rPr>
              <a:t>//not accessible (A private to C)</a:t>
            </a:r>
            <a:endParaRPr b="0" lang="en-US" sz="206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tur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55E29-8A3D-4E1B-90D1-14EDDC2029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ublic and Private Inherit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Functio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n the derived classes can access protected and public data in the base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Objec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of the derived classes cannot access private or protected members of the base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difference between publicly derived and privately derived class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ff0000"/>
                </a:solidFill>
                <a:latin typeface="Gill Sans MT"/>
              </a:rPr>
              <a:t>Objects</a:t>
            </a: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 of</a:t>
            </a:r>
            <a:r>
              <a:rPr b="0" lang="en-US" sz="37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the publicly derived class </a:t>
            </a: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B </a:t>
            </a: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can access public members of the base class </a:t>
            </a: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A</a:t>
            </a: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ff0000"/>
                </a:solidFill>
                <a:latin typeface="Gill Sans MT"/>
              </a:rPr>
              <a:t>Objects</a:t>
            </a: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 of the</a:t>
            </a:r>
            <a:r>
              <a:rPr b="0" lang="en-US" sz="37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privately derived class </a:t>
            </a: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C </a:t>
            </a: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cannot; they can only access the public members of their own derived</a:t>
            </a:r>
            <a:r>
              <a:rPr b="0" lang="en-US" sz="37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class.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0E16-BE6C-4A4E-865F-B0257D75D9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ublic and Private Inherit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the base class is inherited by using the </a:t>
            </a:r>
            <a:r>
              <a:rPr b="1" lang="en-US" sz="2600" spc="-1" strike="noStrike">
                <a:solidFill>
                  <a:srgbClr val="ff0000"/>
                </a:solidFill>
                <a:latin typeface="Gill Sans MT"/>
              </a:rPr>
              <a:t>priva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access specifier,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all public and protected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bers of the base class become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priva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embers of the derived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the access specifier for a base class is </a:t>
            </a:r>
            <a:r>
              <a:rPr b="1" lang="en-US" sz="26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all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embers of the base become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embers of the derived class, and all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protected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bers of the base become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protecte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embers of the derived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the access specifier for a base class is </a:t>
            </a:r>
            <a:r>
              <a:rPr b="1" lang="en-US" sz="2600" spc="-1" strike="noStrike">
                <a:solidFill>
                  <a:srgbClr val="ff0000"/>
                </a:solidFill>
                <a:latin typeface="Gill Sans MT"/>
              </a:rPr>
              <a:t>protecte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all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public and protected member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f the base class become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protecte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embers of the derived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B123-1AFC-4869-B1F3-089C6C48FE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464653"/>
                </a:solidFill>
                <a:latin typeface="Bookman Old Style"/>
              </a:rPr>
              <a:t>Example:base class inherited as public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ldNum" idx="1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D4B9C-67AF-4BEA-ADA7-C43475E628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7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base // base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i, j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(int a, int b) { i=a; j=b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()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 i &lt;&lt; “ “ &lt;&lt; j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drived: public base // drived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rived( int x) {k =x;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K()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k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/>
          </a:bodyPr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main()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rived ob(3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et(1,2); // access member of b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how(); // access member of b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howK(); // access member of drived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4578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464653"/>
                </a:solidFill>
                <a:latin typeface="Bookman Old Style"/>
              </a:rPr>
              <a:t>Example:base class inherited as privat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Num" idx="1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48DF2-BB1B-4110-9F42-93D745FF35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7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base // base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i, j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(int a, int b) { i=a; j=b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()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 i &lt;&lt; “ “ &lt;&lt; j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drived: private base // drived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rived( int x) {k =x;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K()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k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/>
          </a:bodyPr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main()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rived ob(3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et(1,2); // Error, can’t access set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how(); // Error, , can’t access show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Inheritance 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ance is Hierarch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vantages of Inherita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lass Inheritance Defini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, Protected and Privat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heritance and Accessibil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and Private Inherita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tructors, Destructors, and Inherita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Rules for Building a Class Hierarch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Over-written Fun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3F99-7429-495E-B025-19F06EB7BC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4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464653"/>
                </a:solidFill>
                <a:latin typeface="Bookman Old Style"/>
              </a:rPr>
              <a:t>Example:base class inherited as protect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Num" idx="1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D5F8C-44BA-40F4-8765-D9AD4ED1FA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2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343040" cy="513684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8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base // base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I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rotecte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j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i(int a) { i=a;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geti() { return i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 inherit base as prot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derived: protected b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j(int a) {  j = a ; } // j is a protected he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K(int a){ k = a;} //k is also protected he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getj() { return j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getk() { return k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67080" y="1539360"/>
            <a:ext cx="31107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 fontScale="67000"/>
          </a:bodyPr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main()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rived ob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eti(10);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 illeg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 ob.geti();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illeg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k = 10;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illeg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etk(10);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 ob.getk&lt;&lt; ‘ ‘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etj(12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 ob.getj()&lt;&lt; ‘ ‘;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structors, Destructors, and Inherit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an object of a derived class is created, the base class’ constructor will be called first, followed by the derived class’ constructo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a derived object is destroyed, its destructor is called first, followed by the base class' destructo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120D-04DC-4547-8470-7F535905B2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structors, Destructors, and Inherit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lass base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base() { cout &lt;&lt; "Constructing base\n"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~base() { cout &lt;&lt; "Destructing base\n"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lass derived: public base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derived() { cout &lt;&lt; "Constructing derived\n"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~derived() { cout &lt;&lt; "Destructing derived\n"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derived ob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// do nothing but construct and destruct ob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68C6-8C2C-46E3-A5E2-CDF528529B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structors, Destructors, and Inherit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executed, this program display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tructing b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tructing deriv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structing deriv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structing b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F6E9-73FF-42F2-B94E-EE02F33B2E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S Mincho"/>
              </a:rPr>
              <a:t>Rules for building a class hierarch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Derived classes a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  <a:ea typeface="Times New Roman"/>
              </a:rPr>
              <a:t>special cases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of base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 derived class can also serve as a base class for new class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There is no limit on the depth of inheritance allowed in C++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Mincho"/>
              </a:rPr>
              <a:t>It is possible for a class to be a base class fo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  <a:ea typeface="MS Mincho"/>
              </a:rPr>
              <a:t>more than one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Mincho"/>
              </a:rPr>
              <a:t>derived clas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464653"/>
                </a:solidFill>
                <a:latin typeface="Bookman Old Style"/>
              </a:rPr>
              <a:t>Example ( public access)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ldNum" idx="1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749E4-9822-4521-AD03-4A2BD2C2F9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640" y="1429920"/>
            <a:ext cx="2808000" cy="466308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7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ectangleType // base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rotecte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ength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idth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ublic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~rectangleTyp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etDimension 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getLength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getWidth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area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perimeter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print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699640" y="1268640"/>
            <a:ext cx="3312000" cy="468000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 fontScale="41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lass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boxTyp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ublic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ectangleType //derived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rivat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heigh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ublic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oxTyp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oxType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h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~boxTyp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etDimension 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h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getHeight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area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volum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print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oxType::boxType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(); height = 0 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oxType::boxType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h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tDimension( L, w, h);  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Content Placeholder 4"/>
          <p:cNvSpPr/>
          <p:nvPr/>
        </p:nvSpPr>
        <p:spPr>
          <a:xfrm>
            <a:off x="5940000" y="836640"/>
            <a:ext cx="3240000" cy="4959720"/>
          </a:xfrm>
          <a:prstGeom prst="rect">
            <a:avLst/>
          </a:prstGeom>
          <a:solidFill>
            <a:srgbClr val="ffffff"/>
          </a:solidFill>
          <a:ln>
            <a:solidFill>
              <a:srgbClr val="b88472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rmAutofit fontScale="90000"/>
          </a:bodyPr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boxType::~boxType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boxType::setDimension( 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L, 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w, 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h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rectangleType::setDimension( L , w 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if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( h &gt;= 0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height = h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else           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height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boxType::getHeight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height; 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boxType::area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2 * ( length * width + length * height + width * height );  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boxType::volume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rectangleType::area() * height;  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boxType::print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rectangleType::print(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cout &lt;&lt;</a:t>
            </a:r>
            <a:r>
              <a:rPr b="0" lang="en-GB" sz="1100" spc="-1" strike="noStrike">
                <a:solidFill>
                  <a:srgbClr val="c00000"/>
                </a:solidFill>
                <a:latin typeface="Gill Sans MT"/>
              </a:rPr>
              <a:t> " ; Height = "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&lt;&lt; heigh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nt. 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2000"/>
          </a:bodyPr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n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main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 myRectangle1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 myRectangle2(8, 6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oxType myBox1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oxType myBox2(10, 7, 3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"\n myRectangle1: "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yRectangle1.print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 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" Area of myRectangle1: "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&lt;&lt; myRectangle1.area() &lt;&lt; 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"\n myRectangle2: "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yRectangle2.print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 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 " Area of myRectangle2: "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&lt;&lt; myRectangle2.area() &lt;&lt; 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8C160-8453-4953-8645-1EF08E5D61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ver-written Fun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se functions are NOT overloaded, since they have exactly the same prototype (and header), and they are not in the same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y are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over-writte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func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over-written function that is closest to the object defined takes precede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A877-C47E-411C-A99C-E4613D825F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464653"/>
                </a:solidFill>
                <a:latin typeface="Bookman Old Style"/>
              </a:rPr>
              <a:t>Example: using protected membe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ldNum" idx="1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C6729-A488-4DAF-AD51-1AAD959F00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4000"/>
          </a:bodyPr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base // base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protecte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i, j; // private to base, but accessible to deriv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(int a, int b) { i=a; j=b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()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 i &lt;&lt; “ “ &lt;&lt; j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drived: public base // drived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 derived may access base’s i and j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K() { k = i * j;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K()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k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/>
          </a:bodyPr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main()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rived ob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et(1,2); // ok , known to deriv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how(); // ok , known to deriv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etK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howK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464653"/>
                </a:solidFill>
                <a:latin typeface="Bookman Old Style"/>
              </a:rPr>
              <a:t>Example: using protected membe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Num" idx="1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5145A-8B9D-460E-B2D8-A895609A6A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7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base // base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protecte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i, j; // private to base, but accessible to deriv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(int a, int b) { i=a; j=b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()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 i &lt;&lt; “ “ &lt;&lt; j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drived1: public base // I &amp; j inherited as prot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K() { k = i * j;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K(){ cout&lt;&lt;k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 fontScale="44000"/>
          </a:bodyPr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 I &amp; j inhereited indirectly through derived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drived2: public derived1 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m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M() { m = i - j; } // leg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M(){ cout&lt;&lt; m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main()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rived1 ob1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rived2 ob2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1.set(1,2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1setK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1showK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2.set(4,7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2.show()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2setK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2.showK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2setM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2.showM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Inheritance ?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914364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echanism by which one class ge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properties of another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heritance is a meaningful way to relate two or more class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ance implements an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s-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relationship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 example – a dog </a:t>
            </a:r>
            <a:r>
              <a:rPr b="1" lang="en-US" sz="2300" spc="-1" strike="noStrike" u="sng">
                <a:solidFill>
                  <a:srgbClr val="464653"/>
                </a:solidFill>
                <a:uFillTx/>
                <a:latin typeface="Gill Sans MT"/>
              </a:rPr>
              <a:t>is-a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nimal.</a:t>
            </a:r>
            <a:r>
              <a:rPr b="0" lang="en-US" sz="23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6E1B-54AF-4146-AE2C-99FF758461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464653"/>
                </a:solidFill>
                <a:latin typeface="Bookman Old Style"/>
              </a:rPr>
              <a:t>Example: using protected membe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ldNum" idx="1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1D875-5095-431F-B5E7-D920D93092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6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// this program won’t compi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base // base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protecte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i, j; // private to base, but accessible to deriv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(int a, int b) { i=a; j=b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()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 i &lt;&lt; “ “ &lt;&lt; j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 Now, all elements of base are private in derived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drived1: private b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K() { k = i * j; } // O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K(){ cout&lt;&lt;k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 fontScale="52000"/>
          </a:bodyPr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 access to i &amp; j &amp; set() &amp; show() not inherit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drived2: public derived1 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m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 illegal because I and j are private to derived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M() { m = i - j; }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M(){ cout&lt;&lt; m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main()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rived1 ob1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rived2 ob2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1.set(1,2); // err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1showK(); // err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2.set(4,7); // err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2.show(); // err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4876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heritance lets us create new classes from existing class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The new classes that we create from the existing classes are called the </a:t>
            </a:r>
            <a:r>
              <a:rPr b="1" lang="en-GB" sz="2300" spc="-1" strike="noStrike">
                <a:solidFill>
                  <a:srgbClr val="000000"/>
                </a:solidFill>
                <a:latin typeface="Gill Sans MT"/>
              </a:rPr>
              <a:t>derived classes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;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  Is also referred to as the </a:t>
            </a:r>
            <a:r>
              <a:rPr b="0" i="1" lang="en-US" sz="2300" spc="-1" strike="noStrike">
                <a:solidFill>
                  <a:srgbClr val="464653"/>
                </a:solidFill>
                <a:latin typeface="Gill Sans MT"/>
              </a:rPr>
              <a:t>subclas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The existing classes are called the </a:t>
            </a:r>
            <a:r>
              <a:rPr b="1" lang="en-GB" sz="2300" spc="-1" strike="noStrike">
                <a:solidFill>
                  <a:srgbClr val="000000"/>
                </a:solidFill>
                <a:latin typeface="Gill Sans MT"/>
              </a:rPr>
              <a:t>base classes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s also called the </a:t>
            </a:r>
            <a:r>
              <a:rPr b="0" i="1" lang="en-US" sz="2300" spc="-1" strike="noStrike">
                <a:solidFill>
                  <a:srgbClr val="464653"/>
                </a:solidFill>
                <a:latin typeface="Gill Sans MT"/>
              </a:rPr>
              <a:t>superclas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Gill Sans MT"/>
              </a:rPr>
              <a:t>The derived classes inherit the properties of the base class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760" indent="-24876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ach derived class, in turn, becomes a base class for a future derived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760" indent="-24876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derived class can redefine the member functions of a base class, but this redefinition applies only to the objects of the derived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D96F-BE7E-4E2A-964A-3467EEE6C7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heritance is Hierarchal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2" name="Content Placeholder 4" descr="vehicle.gif"/>
          <p:cNvPicPr/>
          <p:nvPr/>
        </p:nvPicPr>
        <p:blipFill>
          <a:blip r:embed="rId1"/>
          <a:stretch/>
        </p:blipFill>
        <p:spPr>
          <a:xfrm>
            <a:off x="1066680" y="1979640"/>
            <a:ext cx="6933960" cy="341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D142-08C0-490B-9E5F-F72121B1A6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erarchical Inherit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0064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ance is hierarchic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 derived class can act as a base class to a lower-level derived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higher the class in the hierarchy, the more </a:t>
            </a: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general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information it contai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lower the class in the hierarchy, the more </a:t>
            </a: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specific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information it contai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tributes in a derived class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overwri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he same ones in a base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2E23-EAA5-4FB2-A71F-A8B9031FD0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S Mincho"/>
              </a:rPr>
              <a:t>Advantages of Inherit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When a class inherits from another class, there are three benefi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(1) You can </a:t>
            </a:r>
            <a:r>
              <a:rPr b="0" i="1" lang="en-US" sz="2600" spc="-1" strike="noStrike" u="sng">
                <a:solidFill>
                  <a:srgbClr val="ff0000"/>
                </a:solidFill>
                <a:uFillTx/>
                <a:latin typeface="Gill Sans MT"/>
                <a:ea typeface="MS Mincho"/>
              </a:rPr>
              <a:t>reus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 the methods and data of the existing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(2) You can </a:t>
            </a:r>
            <a:r>
              <a:rPr b="0" i="1" lang="en-US" sz="2600" spc="-1" strike="noStrike" u="sng">
                <a:solidFill>
                  <a:srgbClr val="ff0000"/>
                </a:solidFill>
                <a:uFillTx/>
                <a:latin typeface="Gill Sans MT"/>
                <a:ea typeface="MS Mincho"/>
              </a:rPr>
              <a:t>exten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 the existing class by adding new data and new metho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(3) You can </a:t>
            </a:r>
            <a:r>
              <a:rPr b="0" i="1" lang="en-US" sz="2600" spc="-1" strike="noStrike" u="sng">
                <a:solidFill>
                  <a:srgbClr val="ff0000"/>
                </a:solidFill>
                <a:uFillTx/>
                <a:latin typeface="Gill Sans MT"/>
                <a:ea typeface="MS Mincho"/>
              </a:rPr>
              <a:t>modify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 the existing class by overloading its methods with your own implementation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Class Inheritance Definiti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23680" y="2421000"/>
            <a:ext cx="5512320" cy="165600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76000"/>
          </a:bodyPr>
          <a:p>
            <a:pPr marL="806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DClassId:  accessId BClassI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06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06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ClassMembersLi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06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06800" y="4648320"/>
            <a:ext cx="8516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accessId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define how can the derived class access the Base class member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Access identifier can be either public, protected  and priv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0"/>
          <p:cNvSpPr/>
          <p:nvPr/>
        </p:nvSpPr>
        <p:spPr>
          <a:xfrm rot="3134400">
            <a:off x="2362320" y="1981080"/>
            <a:ext cx="609120" cy="4392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d6585"/>
              </a:gs>
              <a:gs pos="50000">
                <a:srgbClr val="6a759d"/>
              </a:gs>
              <a:gs pos="100000">
                <a:srgbClr val="5d6585"/>
              </a:gs>
            </a:gsLst>
            <a:lin ang="4080000"/>
          </a:gradFill>
          <a:ln>
            <a:solidFill>
              <a:srgbClr val="727ca3"/>
            </a:solidFill>
            <a:round/>
          </a:ln>
          <a:effectLst>
            <a:outerShdw blurRad="50760" dir="5400000" dist="42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1503360" y="1600200"/>
            <a:ext cx="139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2"/>
          <p:cNvSpPr/>
          <p:nvPr/>
        </p:nvSpPr>
        <p:spPr>
          <a:xfrm rot="6647400">
            <a:off x="5173200" y="1931760"/>
            <a:ext cx="609120" cy="4392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d6585"/>
              </a:gs>
              <a:gs pos="50000">
                <a:srgbClr val="6a759d"/>
              </a:gs>
              <a:gs pos="100000">
                <a:srgbClr val="5d6585"/>
              </a:gs>
            </a:gsLst>
            <a:lin ang="7596000"/>
          </a:gradFill>
          <a:ln>
            <a:solidFill>
              <a:srgbClr val="727ca3"/>
            </a:solidFill>
            <a:round/>
          </a:ln>
          <a:effectLst>
            <a:outerShdw blurRad="50760" dir="5400000" dist="42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63" name="TextBox 13"/>
          <p:cNvSpPr/>
          <p:nvPr/>
        </p:nvSpPr>
        <p:spPr>
          <a:xfrm>
            <a:off x="5562720" y="1535760"/>
            <a:ext cx="152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l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3573-1568-46F4-B0C8-218A9EC058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Class Inheritance Definiti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B : public Clas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d a single colon (not the double colon used for the scope resolution operator) followed by the keyword public and the name of the base class Class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s line says that ClassB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derive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bas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clas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AC6C-3D43-40E1-8B00-1732C9A358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.thmx</Template>
  <TotalTime>598</TotalTime>
  <Application>LibreOffice/7.4.7.2$Linux_X86_64 LibreOffice_project/40$Build-2</Application>
  <AppVersion>15.0000</AppVersion>
  <Words>3386</Words>
  <Paragraphs>52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8:26:47Z</dcterms:created>
  <dc:creator>Mac</dc:creator>
  <dc:description/>
  <dc:language>en-US</dc:language>
  <cp:lastModifiedBy>Mac</cp:lastModifiedBy>
  <dcterms:modified xsi:type="dcterms:W3CDTF">2013-03-02T18:23:48Z</dcterms:modified>
  <cp:revision>108</cp:revision>
  <dc:subject/>
  <dc:title>Inherit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