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2B1-D778-44A7-A578-64ABDD41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A13-D422-4738-9E6A-A4E0662E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7BD-F79A-4109-AB46-A31FF584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B53-795D-4E75-A0FF-839CFB91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DABD-F3BD-40DB-AC63-1CB7C94A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889-0D26-418F-8125-1B343B84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A1E5-1E88-4F5D-A4FD-EBB5122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E06-0A4B-4324-ABC8-719B9A0E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69C-F302-4FE9-86F7-A005C868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03FA-9B13-4DFF-8690-8F120847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330-7051-4ECD-A9A3-BFF1F3EE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BAE-1B47-4678-8AAD-514820B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3E62-005A-4413-9194-34C98EDC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4F0-73C9-4DBE-BEB5-C4CF08C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524-811A-4F36-9225-A27CF0B0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292-371E-476E-AD00-C4C0ED8F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7B22-EB62-48D5-BAB1-A2C0DEA4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AD41-A5C8-40A1-9B79-ED3B0D45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D9D7-6E10-44F0-9563-25688152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BE19-F352-4CC6-B2C1-37F1EE12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54A1-B4CC-4FAF-A6D0-D53451F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9DFC-3184-40AC-8CED-C07D9D9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D8D-7502-4212-ABBC-EAA1539E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AB22-E9F0-4DB6-8056-5B8F9B17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9590-46D9-4B8C-9149-2CB49C6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A417-752B-487E-ABD1-4CD20A0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FE34-C937-4C72-AF25-B31714A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F354-6A0E-40ED-B319-88007D53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C4A9-4BDE-4573-B301-BAEE10A3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E885-4053-4420-90C2-34F4807F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66BB7-A146-4FFF-ABBC-46E7E37F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5EB7-2569-450B-80D4-13A7C867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4431-64CE-41C8-B04E-FD30FC2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59B-D867-470E-BC24-92E247A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CF2F-7650-477E-AFD5-64B4982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0595-93B0-4B85-97C1-7CE91302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E48D-0AAA-45B9-BBD6-615F103C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6098-A770-45C1-B798-70DF437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352F-5532-4613-9897-352D698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89D0-F1AF-4DE7-AE03-C1B8CD0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A09D1-F3DC-4CD0-ABB9-C525E595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1C05-EBCA-46C9-AB36-600B33E3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6705-383F-4E2C-8FD9-4C66D33D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6061-D44F-4DFD-BEBC-45E55509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A49-FE86-4FB1-B8DB-31415E4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9F8D-268F-4BA7-A09E-94794690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0067-5192-4667-BBE1-BCA4344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D32D-E371-4C36-839D-48EA2660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248B-7C8F-4538-9956-41B42534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CFB1-48C9-493D-887A-C6CC63D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20F8-DCBF-4FF3-81E9-40A435E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071C-CAE8-4FDC-AF79-3A721DB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AA616-391B-45A4-9EA8-A46859A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DE8E-B7EF-4F5B-9C61-C6E57F56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BBB2-7079-424D-9D07-6E24BA1E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FCD-93B4-4C96-A1BB-4E60596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5FA8-09A5-4173-9726-EE19B91C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915A-9FEB-4A83-BA8C-C3312B58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984D-E2D0-4568-AF33-01B7B81E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EEF2-0838-4157-BC55-E0E1C8D8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DC71-8081-4C11-BEE7-42DC6F3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2034-0539-4B36-999D-67AF2F83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BB28A-4164-443C-BBEC-2A6956C6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82376-4CC5-48B1-8398-B65569E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9C2D-5E32-41C7-9637-6AD81DE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902E-E881-4F3A-BD6D-DC654F35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444-7C18-47CF-B9D6-7C067A9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C3E7C-2336-4A17-A9EC-C69A11F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4588-A9D5-4253-A085-B6B09DAB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4AB8-00BB-48A4-B7CA-8D039C9A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9F93-B31D-4D8B-A6D2-6D283B90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3DA8-11EB-41B2-80BC-9A32E323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5742-0668-4F7A-8CED-97B4CCFD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2E2B-8893-46F5-BE13-307598C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EB9C1-ACE3-40FD-B7BD-D884C8D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D15B-D8DF-46D7-8C09-39F0E85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C7E3-F6D1-4974-8E68-A4F1FB3F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A3B-8C2E-40EA-9621-2221258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E86B-978C-4A4E-9D79-F7271A8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C293-41A0-4DB0-8D92-0708421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8944-0650-4D2F-9286-E74FF28E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96D9-3C6E-4D90-BF39-577AD5B4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193B-D5D6-4E48-804C-8924224A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A5C7-AA61-45D2-BF5F-6FE98646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C0CB-9169-4EBB-8D28-C2546258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5791D-39EC-4CC4-9006-43F76349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C3753-593F-4F4F-8A1D-D2EC5ABD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738F-8E18-47F5-97AC-C14BFCDF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E5B-0E00-459C-9E8A-2365AB1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26C88-CFD6-4342-B6B8-E03CCAB2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00730-64F4-4C5E-88F2-32956F4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4EB21-56DC-41EF-AABD-954924C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1D9A-C545-474A-B4C0-133B761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F35BF-CEC0-4D1E-A776-412E182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7B78-11B4-48CB-B46E-45FA87B1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4B265-0E2C-4392-AA41-50F60386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086F-012C-4730-BAC2-3B87562FEAB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11EF-859C-4F2D-B2AB-F0245436840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02D8-D5E3-4C05-A198-815E17ED2EE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273-B40F-445D-9CF6-AF4796C25CA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1F77-8878-47D3-AD87-4BB8B3B4B03B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956D-0A48-4743-B2CA-7D94127FD3E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499-34DD-47E3-9E54-0D301DF0A71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AD53-3FCB-41C0-A39F-D7146ACDE48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2B8B-3F22-48D9-A0F4-55A8E5E0B18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8D24-C543-4D36-8753-FA84AF2EC91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8FD6-BC6F-403E-8103-CB8BC7EB265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B10-126D-4C08-AFC9-2975B38BDA6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3DCD-8410-4FD4-8360-076BCC686F1C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5D2F-E539-4CBD-A240-8DD83522790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1E1-035C-4633-A50A-81489E2046A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10C-66BC-460B-9CB2-A286D5917C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heritance in C++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64D-BAF8-4947-827B-4362BF47B43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ultiple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78920" y="1192320"/>
            <a:ext cx="4621320" cy="558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i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i = x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 &lt;&lt;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“CONS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“DES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k = x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“CONS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Content Placeholder 7"/>
          <p:cNvSpPr/>
          <p:nvPr/>
        </p:nvSpPr>
        <p:spPr>
          <a:xfrm>
            <a:off x="3962520" y="1609560"/>
            <a:ext cx="5029200" cy="540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base2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   </a:t>
            </a: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j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y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z ): base1(y), base2(z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{  j = x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~derived(){ cout &lt;&lt;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Destructing  derived\n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show(){cout &lt;&lt; i &lt;&lt;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&lt;&lt;j&lt;&lt;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&lt;&lt; k &lt;&lt; 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derived  ob(3,4,5)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ob.show()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4B3-1B0B-4F4F-AA39-3620D890390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26280" cy="2743200"/>
          </a:xfrm>
          <a:prstGeom prst="rect">
            <a:avLst/>
          </a:prstGeom>
          <a:ln w="0">
            <a:noFill/>
          </a:ln>
        </p:spPr>
      </p:pic>
      <p:sp>
        <p:nvSpPr>
          <p:cNvPr id="40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9AA1-6AF4-459D-A29A-63FE4EC3D9A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ultiple Base Class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1125360"/>
            <a:ext cx="4495680" cy="573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i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{ k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Content Placeholder 7"/>
          <p:cNvSpPr/>
          <p:nvPr/>
        </p:nvSpPr>
        <p:spPr>
          <a:xfrm>
            <a:off x="4648320" y="1125360"/>
            <a:ext cx="4316400" cy="547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erived(</a:t>
            </a:r>
            <a:r>
              <a:rPr b="0" lang="es-E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x, </a:t>
            </a:r>
            <a:r>
              <a:rPr b="0" lang="es-E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y): base1(x), base2(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derived()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show(){cout &lt;&lt; i &lt;&lt;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&lt;&lt;j&lt;&lt;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&lt;&lt; k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  ob(3,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ob.show();       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D53-EF6E-4740-9B4C-A06813A675D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69320" cy="313848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22B8-A799-44FA-B4BE-211C42301A5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Noti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2400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nstructor function of a derived class is free to use any and all parameters that it is declared as taken, whether or not one or more are passed along to a base clas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example, this fragment is perfectly vali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971640" y="3559320"/>
            <a:ext cx="714384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ass derived: public base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// derived uses both x and y and then passes them to base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int x, int y):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(x, y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{ j = x*y;  cout &lt;&lt; "Constructing derived\n"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A262-C1CC-464F-87E4-DCEFA03311C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A1A5-65C0-4D8B-AA63-BCBC75DF232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element of ambiguity can be introduced into a C++ program when multiple base classes are inherit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ider the following incorrect program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280" y="126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correct program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79280" y="990360"/>
            <a:ext cx="4316400" cy="571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i; 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derived1 inherits base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1 :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j;  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derived2 inherits base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2 :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k;  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* derived3 inherits both derived1 and derived2. This means that there are two copies of base in derived3! */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3 :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1,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2 {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sum;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1640" y="738360"/>
            <a:ext cx="4343400" cy="35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derived3 ob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i = 10;</a:t>
            </a: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this is ambiguous; which i???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j = 2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k = 3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 i ambiguous here, too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sum = ob.i + ob.j + ob.k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 also ambiguous, which i?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cout &lt;&lt; ob.i &lt;&lt; « »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cout &lt;&lt; ob.j &lt;&lt;“ “ &lt;&lt; ob.k &lt;&lt;“ “ 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cout &lt;&lt; ob.sum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0;  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6" name="Diagram 5" descr=""/>
          <p:cNvPicPr/>
          <p:nvPr/>
        </p:nvPicPr>
        <p:blipFill>
          <a:blip r:embed="rId1"/>
          <a:stretch/>
        </p:blipFill>
        <p:spPr>
          <a:xfrm>
            <a:off x="4645080" y="4280040"/>
            <a:ext cx="3620880" cy="2614320"/>
          </a:xfrm>
          <a:prstGeom prst="rect">
            <a:avLst/>
          </a:prstGeom>
          <a:ln w="0">
            <a:noFill/>
          </a:ln>
        </p:spPr>
      </p:pic>
      <p:pic>
        <p:nvPicPr>
          <p:cNvPr id="427" name="Elbow Connector 9" descr=""/>
          <p:cNvPicPr/>
          <p:nvPr/>
        </p:nvPicPr>
        <p:blipFill>
          <a:blip r:embed="rId2"/>
          <a:stretch/>
        </p:blipFill>
        <p:spPr>
          <a:xfrm>
            <a:off x="6016680" y="5900760"/>
            <a:ext cx="1834920" cy="36036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0968-A0CB-40A5-A74D-2361A194E11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9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Base Classes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the comments in this program indicate both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ever,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3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s both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2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a result, there are two copies of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ent in an object of typ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3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that in an expression li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223920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b.i = 2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223920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i is being referred to? The one in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one in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2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nce there are two copies of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ent in object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two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.i’s!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can see, the statement is inherently ambiguou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110-B8FA-423F-B5CC-5FE720A9789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olu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two ways to remedy the preceding pro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firs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s to apply th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scope resolution operator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i and manually select one i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example, the following version of the program will compile and run as expec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y applying th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the program manuall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lect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rivedl'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ersion of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as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, this solution raises a deeper issu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f only one copy of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actually require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re some way to prevent two copies from being included in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rived3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B79-3782-4E77-99A4-37239492AEB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Content Placeholder 4"/>
          <p:cNvSpPr/>
          <p:nvPr/>
        </p:nvSpPr>
        <p:spPr>
          <a:xfrm>
            <a:off x="5770440" y="2895480"/>
            <a:ext cx="3983040" cy="234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b.sum =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+ ob.j + ob.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&lt; </a:t>
            </a:r>
            <a:r>
              <a:rPr b="1" lang="ar-SA" sz="14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« 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j &lt;&lt;“ “ &lt;&lt; ob.k &lt;&lt;“ “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sum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return 0; 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>
              <a:spcBef>
                <a:spcPts val="499"/>
              </a:spcBef>
              <a:buClr>
                <a:srgbClr val="d2da7a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second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s to declare the base class as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virtual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olution is achieved with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virtual base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irtual base classes  ensures that only one copy of it will be present in any derived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D4E-7DAF-4FD6-9339-602DBBA4287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2286000" y="3657600"/>
            <a:ext cx="44197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/derived1 inherits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rived1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:</a:t>
            </a:r>
            <a:r>
              <a:rPr b="1" lang="en-US" sz="18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j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/derived2 inherits bas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rived2 : </a:t>
            </a:r>
            <a:r>
              <a:rPr b="1" lang="en-US" sz="18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k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heriting Multiple Bas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assing Parameters to Base Class Constru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Virtual Base Class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ce Between Normal Base Class and Virtual Bas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19C4-F983-403B-8866-D3F03802B90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04560" y="620640"/>
            <a:ext cx="4190760" cy="583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 This program uses virtual base classe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#include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iostream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using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namespace std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base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i; 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derived1 inherits base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1 :</a:t>
            </a:r>
            <a:r>
              <a:rPr b="1" lang="en-US" sz="12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base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j;  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derived2 inherits base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2 : </a:t>
            </a:r>
            <a:r>
              <a:rPr b="1" lang="en-US" sz="12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base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k;  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* derived3 inherits both derived1 and derived2. This means that there is only one copy of base in derived3! */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3 :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1,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2 {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um;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1640" y="620640"/>
            <a:ext cx="4343400" cy="345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rived3 ob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b.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 = 10;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</a:t>
            </a: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scope resolved, uses derived1’s I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b.j = 20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b.k = 30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 unambiguou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b.sum = ob.i + ob.j + ob.k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 unambiguou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ut &lt;&lt; ob.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&lt;&lt; </a:t>
            </a:r>
            <a:r>
              <a:rPr b="1" lang="ar-SA" sz="12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« »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ut &lt;&lt; ob.j &lt;&lt;“ “ &lt;&lt; ob.k &lt;&lt;“ “ 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ut &lt;&lt; ob.sum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turn 0;  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4500720" y="4076640"/>
            <a:ext cx="43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w that both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2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ve inherited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 virtual, any multiple inheritance involving them will cause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be presen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refore, in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3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re is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b.i = 10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perfectly valid and unambiguou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4F6-D995-488B-A868-6C4FBC7CFB8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Footer Placeholder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Difference Between Normal Base Class and Virtual Base Class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only difference between a normal base class and a virtual on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ecomes evident when an object inherits the base class more than onc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f the base class has been declared as virtual, the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ly one instance of it will be present in the inheriting object.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therwise,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ultiple copies will be fou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639E-D1B3-4EDF-A1E4-456388213DE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Inheriting Multiple Base Class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possible for a derived class to inherit two or more base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 definition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Name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: access1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ccess2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mber list of derivedNam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4880-13E3-486D-83EF-D7531CD28BC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ing Multiple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5" name="Content Placeholder 3" descr=""/>
          <p:cNvPicPr/>
          <p:nvPr/>
        </p:nvPicPr>
        <p:blipFill>
          <a:blip r:embed="rId1"/>
          <a:stretch/>
        </p:blipFill>
        <p:spPr>
          <a:xfrm>
            <a:off x="2743200" y="2071800"/>
            <a:ext cx="4114800" cy="24238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1A5-837A-480C-B7F0-601D36A506B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n example of multiple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1920" y="1219320"/>
            <a:ext cx="4343400" cy="555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1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howx() { cout &lt;&lt; x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2 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y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howy() { cout&lt;&lt; y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 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8320" y="1219320"/>
            <a:ext cx="4038480" cy="555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2 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et(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i,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j) { x= i;  y =j; }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derived ob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b.set(10, 20);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//from der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b.showx();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//from bas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b.showy();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//from base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6830-2094-48F9-9053-9C9A024D622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45200" y="-360"/>
            <a:ext cx="38988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Bookman Old Style"/>
              </a:rPr>
              <a:t>Multiple Base Classes</a:t>
            </a:r>
            <a:br>
              <a:rPr sz="2500"/>
            </a:br>
            <a:r>
              <a:rPr b="0" lang="en-US" sz="2500" spc="-1" strike="noStrike">
                <a:solidFill>
                  <a:srgbClr val="464653"/>
                </a:solidFill>
                <a:latin typeface="Bookman Old Style"/>
              </a:rPr>
              <a:t>Constructing Example 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-76320"/>
            <a:ext cx="5029200" cy="640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2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257800" y="342900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structors are called in order of derivation,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left to righ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s specified in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'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heritance lis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structors are called in reverse order,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right to lef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380200" y="1295280"/>
            <a:ext cx="51354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7BC-8271-49EE-969C-336CA656685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29200" y="87120"/>
            <a:ext cx="332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76320" y="0"/>
            <a:ext cx="487656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052960" y="1219320"/>
            <a:ext cx="553896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BBE3-F627-4A19-8DA7-ACF98150689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Footer Placeholder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assing Parameters to Base Class Construct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general form of this expanded declaration is shown he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e1 through baseN are the names of the base classes inherited by the derived clas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ice that a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col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eparates the constructor function declaration of the derived class from the base classes, and that the base classes are separated from each other by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comm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in the case of multiple base clas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457200" y="2133720"/>
            <a:ext cx="8686800" cy="222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erived-constructor(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arg-lis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Gill Sans MT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(arg-list)</a:t>
            </a:r>
            <a:r>
              <a:rPr b="1" i="1" lang="en-US" sz="4400" spc="-1" strike="noStrike">
                <a:solidFill>
                  <a:srgbClr val="ff0000"/>
                </a:solidFill>
                <a:latin typeface="Gill Sans MT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r>
              <a:rPr b="1" i="1" lang="en-US" sz="60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….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dy of derived constru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BE6-313A-4B83-AB5D-D8C15EE2E46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148000" y="152280"/>
            <a:ext cx="3322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Gill Sans MT"/>
              </a:rPr>
              <a:t>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0920" y="151920"/>
            <a:ext cx="4681440" cy="648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i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//derived uses x;" y is passed along to base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y): base(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 j = x;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derived(){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cout &lt;&lt; i &lt;&lt;“—”&lt;&lt;j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     derived  ob(3,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ob.show(); 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976920" cy="1657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932360" y="3500280"/>
            <a:ext cx="398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'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structor is declared as taking two parameters, x and y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wever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( )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s only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x; y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passed along to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( 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general, the constructor of the derived class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declare the parameter(s) that its class requires, as well as any required by the base clas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3671-373F-439C-A2C0-257D6953E87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03:34Z</dcterms:created>
  <dc:creator>Aseel</dc:creator>
  <dc:description/>
  <dc:language>en-US</dc:language>
  <cp:lastModifiedBy>Aseel</cp:lastModifiedBy>
  <dcterms:modified xsi:type="dcterms:W3CDTF">2013-03-10T12:35:04Z</dcterms:modified>
  <cp:revision>31</cp:revision>
  <dc:subject/>
  <dc:title>Inheritance in C++</dc:title>
</cp:coreProperties>
</file>