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52F-9483-4CD1-8158-596FDD23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032-BAE2-4180-8842-58848CB1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BE7-198F-405C-83FF-B4D9DAF4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125-8BF2-423D-9F7D-F0DBCC76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157C-3DFB-45E1-83EE-D5ABFB11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1DF8-B903-4982-87AA-2C971C35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1B25-027F-4512-95B3-37EDEF00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E4F8-9C89-436C-98D9-E2E2B995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6F91-0550-4838-9ADE-12CE9E9C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712A-F216-4363-9703-082E8749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CB59-4319-45AF-B425-025C40FB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D04-0B8B-4E55-A935-5F682AA1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4069-5622-412C-BDA3-BB570A16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8567-3213-4B66-B43C-714833F1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22D5-F794-4155-B0F0-79AC4558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061F-5A45-4F5A-A1BA-DC745C7F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4A0B-F7C0-4864-9459-6CBAB9AC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9FAD-5A10-4A72-9586-CFC73B74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A2A6-1AA8-467B-A42B-4FBE50A2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588A-9E7B-4731-A593-61738AB6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7B93-D8EA-4EF1-AFE1-B4098F14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A85E-8A6B-417F-9382-D4247609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B6F-B99B-4C7A-979D-F3F5B7DB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C893-EE32-49F8-8653-E112C4CF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694B2-CD49-44FA-B02D-B8EB6A78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11CBE-5878-4C07-A006-3CB4EC99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3D43A-AD12-4639-AC0A-ED1C0D0C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5440-B7B9-4046-991D-127C165B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A4E7-288C-45D2-90A6-7D8D09F4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F07B-BD8D-41A0-A941-E9D5D0DD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9E3F-FDCE-400A-892A-16077527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E0243-1229-4D4F-B5B6-90973D1C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793BB-19DF-4011-90A3-253ED12E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1DC-BF06-4AA2-AFC5-14711428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1D00D-98CD-4412-9FFF-4A60197A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A7AD9-0F85-4669-9AE4-65F39301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269E4-6B0F-4B3F-B316-A0E6BD21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D8E7D-2D3F-45DF-86F9-B9F88DD6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4D81-4415-4011-B889-FC6A482D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7B8B5-D73D-4A68-8C40-CF4EAB2B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14A3C-6311-4008-8812-FE198DCB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840FD-83F4-4F81-9EA7-1356F1BD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EE01D-C6D9-4F4B-B146-779EFE44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58BAD-CC14-4B92-972B-F7B41C24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E96-5FF2-4938-9144-BBE401A2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0B3E5-29CE-4280-B391-355A3085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FF87E-9B19-4480-9517-6002E4B8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FFE4D-780D-41B8-A9EC-A322A8BF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66281-559A-44AD-ABCE-811B045E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33930-B2A2-4870-A1EF-1B7279C2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A51D9-6C4E-4AC1-8A2D-DCDA2EF6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A1A7B-8E68-49AF-977E-EBD6543B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EC9C2-0126-4C2F-A16D-F504604D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38336-F058-4A38-A078-027628F8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F0D16-8E5C-4A5B-AB55-E893F15C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468-C617-45E3-A408-606AD19D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7F5B-911E-4D50-902B-5539B45F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37097-B488-4468-9C2F-57A762D4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CB0DF-3C67-45C7-90A8-F5B51CF3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D03D2-5D9A-45D2-B1D7-1F47875D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9A666-9C06-4ACC-B3C2-87418C5C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C46EC-3602-4E7B-9876-6138AEE9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7D8C0-5B86-4F67-869F-E3D93E84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DC019-5E36-403D-AEEA-2BE0C426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913AC-D7E6-49C8-8445-FE4AD75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5250E-5A25-4C52-B980-8BA7B5F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0B6-58DF-4757-8ABF-CDC4BD87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4E28C-F16D-4C06-9641-D194007C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F7C97-A859-4DA5-ACB6-87958E7A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9DA8E-EB88-4B43-BD0F-D83BF854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36025-6A01-46B8-8482-6778F3E2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1A8F9-BF16-4262-BD54-926B7C9E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23C21-C331-4374-866F-6FF966EC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C7463-9791-46CC-9FED-E10BC001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2B50E-ECA4-4052-90E6-3631ABF3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D9F83-1306-4C1B-9C33-EDFE2192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D856B-E864-42EA-8949-A7390360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77C-2EDB-4016-971F-97C3FDFE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A8278-627B-435D-BEAF-E0D9FB0E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56435-1D3C-479B-98CD-5CA63D95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CB8EB-0BB4-4CAB-89B6-5B8F8CB1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A0DD7-78E3-40DD-AB63-DADE76A0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8C69D-D4CA-4325-8242-4E3B1E33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8A756-8011-4099-BD97-C0C1FD3E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B4255-5390-41CD-B80D-77890FC9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E3574-CF4A-45D7-BFDE-416A39D7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296C6-0828-4B64-B255-9CF41F31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D69E9-80FB-43B7-876F-6961DEE3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D60-3743-4F66-8258-74A9E087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E3024-B516-4D8A-8C1D-94350FD0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E579F-A5F4-4DCA-9A83-5601DC89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BE25D-67CF-4DB1-8FE1-1A53BEF6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6AB96-D3ED-4D2D-ACEC-8732632B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B04ED-3287-4085-8D15-127E68A2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098B5-116A-44E6-A432-0F43C31D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BE540-1E6E-4767-BF23-4AB19302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2FE7-088E-4119-9ECB-C8FECAEC110F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9F35-3B31-41A8-B508-43230559FFD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D4A4-E41E-4F6F-81F3-C00A99EE1731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F316-9069-412F-BE84-DE4946CB66B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24DA-B07D-48A2-8D9C-9A7B2A312B3A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C802-E0FD-41B2-8B1F-280D19AFE94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5AEC-758B-45C2-B948-B62633D4AF75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75A7-6E43-47BB-855A-D87E0F9DE59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858B-CD89-4BAD-89FE-E2988CAB353E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08F-AF3C-4329-814D-59C43194B7B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E855-C52D-44E4-9C71-A94BFE80D5A0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383D-D91D-4488-8288-12941694B8E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90F5-7FE6-4394-B5FD-E896558464F4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0017-A30B-45F6-9987-9F92F9A1E0E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4F0A-22E2-42F4-8A7D-AAAFFA310F9C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D32D-9358-43BF-88C3-E9C5117421A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heritance in C++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Bookman Old Style"/>
              </a:rPr>
              <a:t>CSC1201: Programming Language 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E4A6-790D-4311-9AB0-D30747974F7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Multiple Base Cla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78920" y="1192320"/>
            <a:ext cx="4621320" cy="5589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i 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1(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 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 i = x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 &lt;&lt;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“CONS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“DES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2(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 )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 k = x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“CONS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Content Placeholder 7"/>
          <p:cNvSpPr/>
          <p:nvPr/>
        </p:nvSpPr>
        <p:spPr>
          <a:xfrm>
            <a:off x="3962520" y="1609560"/>
            <a:ext cx="5029200" cy="540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derived : </a:t>
            </a: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base1, </a:t>
            </a: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base2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   </a:t>
            </a: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j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(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,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y,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z ): base1(y), base2(z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{  j = x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500" spc="-1" strike="noStrike">
                <a:solidFill>
                  <a:srgbClr val="a31515"/>
                </a:solidFill>
                <a:latin typeface="Consolas"/>
              </a:rPr>
              <a:t>"Constructing derived\n"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~derived(){ cout &lt;&lt;</a:t>
            </a:r>
            <a:r>
              <a:rPr b="0" lang="en-US" sz="1500" spc="-1" strike="noStrike">
                <a:solidFill>
                  <a:srgbClr val="a31515"/>
                </a:solidFill>
                <a:latin typeface="Consolas"/>
              </a:rPr>
              <a:t>"Destructing  derived\n"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show(){cout &lt;&lt; i &lt;&lt;</a:t>
            </a:r>
            <a:r>
              <a:rPr b="0" lang="en-US" sz="1500" spc="-1" strike="noStrike">
                <a:solidFill>
                  <a:srgbClr val="a31515"/>
                </a:solidFill>
                <a:latin typeface="Consolas"/>
              </a:rPr>
              <a:t>"--"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&lt;&lt;j&lt;&lt;</a:t>
            </a:r>
            <a:r>
              <a:rPr b="0" lang="en-US" sz="1500" spc="-1" strike="noStrike">
                <a:solidFill>
                  <a:srgbClr val="a31515"/>
                </a:solidFill>
                <a:latin typeface="Consolas"/>
              </a:rPr>
              <a:t>"--"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&lt;&lt; k &lt;&lt; </a:t>
            </a:r>
            <a:r>
              <a:rPr b="0" lang="en-US" sz="1500" spc="-1" strike="noStrike">
                <a:solidFill>
                  <a:srgbClr val="a31515"/>
                </a:solidFill>
                <a:latin typeface="Consolas"/>
              </a:rPr>
              <a:t>"\n"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derived  ob(3,4,5)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ob.show()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5890-EA44-4D8A-B243-56C40C04072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Footer Placeholder 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226280" cy="2743200"/>
          </a:xfrm>
          <a:prstGeom prst="rect">
            <a:avLst/>
          </a:prstGeom>
          <a:ln w="0">
            <a:noFill/>
          </a:ln>
        </p:spPr>
      </p:pic>
      <p:sp>
        <p:nvSpPr>
          <p:cNvPr id="403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4696-1BE7-4F8C-969A-4E115A1C2A8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Multiple Base Class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1125360"/>
            <a:ext cx="4495680" cy="573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i 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1(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 ) { i = x;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2(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 ) { k = x;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32120" y="121608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Content Placeholder 7"/>
          <p:cNvSpPr/>
          <p:nvPr/>
        </p:nvSpPr>
        <p:spPr>
          <a:xfrm>
            <a:off x="4648320" y="1125360"/>
            <a:ext cx="4316400" cy="547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,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j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erived(</a:t>
            </a:r>
            <a:r>
              <a:rPr b="0" lang="es-E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x, </a:t>
            </a:r>
            <a:r>
              <a:rPr b="0" lang="es-E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 y): base1(x), base2(y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 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derived()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show(){cout &lt;&lt; i &lt;&lt;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--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&lt;&lt;j&lt;&lt;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--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&lt;&lt; k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  ob(3,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ob.show();        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4926-5116-4CAF-8095-DCF5BD88BDA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Footer Placeholder 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69320" cy="3138480"/>
          </a:xfrm>
          <a:prstGeom prst="rect">
            <a:avLst/>
          </a:prstGeom>
          <a:ln w="0">
            <a:noFill/>
          </a:ln>
        </p:spPr>
      </p:pic>
      <p:sp>
        <p:nvSpPr>
          <p:cNvPr id="412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FB04-7662-45BA-8830-E65EDD0EFA0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Footer Placeholder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Noti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24000" y="134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constructor function of a derived class is free to use any and all parameters that it is declared as taken, whether or not one or more are passed along to a base clas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example, this fragment is perfectly valid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971640" y="3559320"/>
            <a:ext cx="7143840" cy="228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ass derived: public base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// derived uses both x and y and then passes them to base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int x, int y):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ase(x, y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{ j = x*y;  cout &lt;&lt; "Constructing derived\n"; }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502B-A298-4EF6-BF38-BE02D7AAEB9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Base Cla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569B-87FB-475E-B36A-9F9438C4106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 element of ambiguity can be introduced into a C++ program when multiple base classes are inherited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ider the following incorrect program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2280" y="126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correct program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79280" y="990360"/>
            <a:ext cx="4316400" cy="571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#include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a31515"/>
                </a:solidFill>
                <a:latin typeface="Consolas"/>
              </a:rPr>
              <a:t>&lt;iostream&gt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std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i; }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nsolas"/>
              </a:rPr>
              <a:t>//derived1 inherits base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derived1 :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j;  }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nsolas"/>
              </a:rPr>
              <a:t>//derived2 inherits base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derived2 :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k;  }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nsolas"/>
              </a:rPr>
              <a:t>/* derived3 inherits both derived1 and derived2. This means that there are two copies of base in derived3! */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derived3 :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derived1, </a:t>
            </a: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derived2 {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sum;}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1640" y="738360"/>
            <a:ext cx="4343400" cy="352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main(){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derived3 ob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ob.i = 10;</a:t>
            </a:r>
            <a:r>
              <a:rPr b="0" lang="en-US" sz="1300" spc="-1" strike="noStrike">
                <a:solidFill>
                  <a:srgbClr val="008000"/>
                </a:solidFill>
                <a:latin typeface="Consolas"/>
              </a:rPr>
              <a:t>//this is ambiguous; which i???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ob.j = 20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ob.k = 30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nsolas"/>
              </a:rPr>
              <a:t>// i ambiguous here, too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ob.sum = ob.i + ob.j + ob.k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onsolas"/>
              </a:rPr>
              <a:t>// also ambiguous, which i?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cout &lt;&lt; ob.i &lt;&lt; « »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cout &lt;&lt; ob.j &lt;&lt;“ “ &lt;&lt; ob.k &lt;&lt;“ “ 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cout &lt;&lt; ob.sum;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300" spc="-1" strike="noStrike">
                <a:solidFill>
                  <a:srgbClr val="000000"/>
                </a:solidFill>
                <a:latin typeface="Consolas"/>
              </a:rPr>
              <a:t> 0;  }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6" name="Diagram 5" descr=""/>
          <p:cNvPicPr/>
          <p:nvPr/>
        </p:nvPicPr>
        <p:blipFill>
          <a:blip r:embed="rId1"/>
          <a:stretch/>
        </p:blipFill>
        <p:spPr>
          <a:xfrm>
            <a:off x="4645080" y="4280040"/>
            <a:ext cx="3620880" cy="2614320"/>
          </a:xfrm>
          <a:prstGeom prst="rect">
            <a:avLst/>
          </a:prstGeom>
          <a:ln w="0">
            <a:noFill/>
          </a:ln>
        </p:spPr>
      </p:pic>
      <p:pic>
        <p:nvPicPr>
          <p:cNvPr id="427" name="Elbow Connector 9" descr=""/>
          <p:cNvPicPr/>
          <p:nvPr/>
        </p:nvPicPr>
        <p:blipFill>
          <a:blip r:embed="rId2"/>
          <a:stretch/>
        </p:blipFill>
        <p:spPr>
          <a:xfrm>
            <a:off x="6016680" y="5900760"/>
            <a:ext cx="1834920" cy="360360"/>
          </a:xfrm>
          <a:prstGeom prst="rect">
            <a:avLst/>
          </a:prstGeom>
          <a:ln w="0">
            <a:noFill/>
          </a:ln>
        </p:spPr>
      </p:pic>
      <p:sp>
        <p:nvSpPr>
          <p:cNvPr id="428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AFED-1053-4503-BF60-298BCB8B5B1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Footer Placeholder 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96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Base Classes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197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 the comments in this program indicate both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l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2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ever,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3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s both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l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2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 a result, there are two copies of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esent in an object of type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3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 that in an expression li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223920">
              <a:lnSpc>
                <a:spcPct val="9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b.i = 20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223920">
              <a:lnSpc>
                <a:spcPct val="9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ich i is being referred to? The one in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l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one in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2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nce there are two copies of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esent in object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two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b.i’s!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 you can see, the statement is inherently ambiguou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802D-FF4C-4F5B-8C9C-31239BEC0E3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Solu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two ways to remedy the preceding progra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</a:t>
            </a: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first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is to apply the </a:t>
            </a: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scope resolution operator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o i and manually select one i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example, the following version of the program will compile and run as expec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y applying the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the program manually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lects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rivedl'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ersion of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bas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ever, this solution raises a deeper issu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if only one copy of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bas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 actually required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s there some way to prevent two copies from being included in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rived3?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89120" indent="-21924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2065-885A-4287-A2B7-5C5D16D9B9D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Content Placeholder 4"/>
          <p:cNvSpPr/>
          <p:nvPr/>
        </p:nvSpPr>
        <p:spPr>
          <a:xfrm>
            <a:off x="5770440" y="2895480"/>
            <a:ext cx="3983040" cy="234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Gill Sans MT"/>
              </a:rPr>
              <a:t>// scope resolve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ob.sum =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ob.</a:t>
            </a:r>
            <a:r>
              <a:rPr b="1" lang="en-US" sz="1400" spc="-1" strike="noStrike">
                <a:solidFill>
                  <a:srgbClr val="0070c0"/>
                </a:solidFill>
                <a:latin typeface="Gill Sans MT"/>
              </a:rPr>
              <a:t>derived1::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+ ob.j + ob.k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Gill Sans MT"/>
              </a:rPr>
              <a:t>// scope resolve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 &lt;&lt;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ob.</a:t>
            </a:r>
            <a:r>
              <a:rPr b="1" lang="en-US" sz="1400" spc="-1" strike="noStrike">
                <a:solidFill>
                  <a:srgbClr val="0070c0"/>
                </a:solidFill>
                <a:latin typeface="Gill Sans MT"/>
              </a:rPr>
              <a:t>derived1:: </a:t>
            </a:r>
            <a:r>
              <a:rPr b="0" lang="en-US" sz="1400" spc="-1" strike="noStrike">
                <a:solidFill>
                  <a:srgbClr val="0070c0"/>
                </a:solidFill>
                <a:latin typeface="Gill Sans MT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&lt; </a:t>
            </a:r>
            <a:r>
              <a:rPr b="1" lang="ar-SA" sz="1400" spc="-1" strike="noStrike" baseline="30000">
                <a:solidFill>
                  <a:srgbClr val="000000"/>
                </a:solidFill>
                <a:latin typeface="Gill Sans MT"/>
                <a:ea typeface="Arial"/>
              </a:rPr>
              <a:t>« »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 &lt;&lt; ob.j &lt;&lt;“ “ &lt;&lt; ob.k &lt;&lt;“ “ 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ut &lt;&lt; ob.sum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return 0; 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rtual Base Cla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255600">
              <a:spcBef>
                <a:spcPts val="499"/>
              </a:spcBef>
              <a:buClr>
                <a:srgbClr val="d2da7a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</a:t>
            </a: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second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is to declare the base class as </a:t>
            </a: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virtual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olution is achieved with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virtual base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irtual base classes  ensures that only one copy of it will be present in any derived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7A30-D308-4E51-85F9-8E1A52CB2FF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2286000" y="3657600"/>
            <a:ext cx="4419720" cy="259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Gill Sans MT"/>
              </a:rPr>
              <a:t>//derived1 inherits b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rived1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:</a:t>
            </a:r>
            <a:r>
              <a:rPr b="1" lang="en-US" sz="1800" spc="-1" strike="noStrike">
                <a:solidFill>
                  <a:srgbClr val="0070c0"/>
                </a:solidFill>
                <a:latin typeface="Gill Sans MT"/>
              </a:rPr>
              <a:t>virtual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j; 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Gill Sans MT"/>
              </a:rPr>
              <a:t>//derived2 inherits bas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rived2 : </a:t>
            </a:r>
            <a:r>
              <a:rPr b="1" lang="en-US" sz="1800" spc="-1" strike="noStrike">
                <a:solidFill>
                  <a:srgbClr val="0070c0"/>
                </a:solidFill>
                <a:latin typeface="Gill Sans MT"/>
              </a:rPr>
              <a:t>virtual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ase {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k;  }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51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heriting Multiple Bas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Passing Parameters to Base Class Construc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Virtual Base Classe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ce Between Normal Base Class and Virtual Bas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3C69-B0DC-4FCD-BB9A-830718D36E2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04560" y="620640"/>
            <a:ext cx="4190760" cy="583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// This program uses virtual base classe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#include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iostream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using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namespace std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base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i; }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//derived1 inherits base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derived1 :</a:t>
            </a:r>
            <a:r>
              <a:rPr b="1" lang="en-US" sz="1200" spc="-1" strike="noStrike">
                <a:solidFill>
                  <a:srgbClr val="0070c0"/>
                </a:solidFill>
                <a:latin typeface="Gill Sans MT"/>
              </a:rPr>
              <a:t>virtual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base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j;  }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//derived2 inherits base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derived2 : </a:t>
            </a:r>
            <a:r>
              <a:rPr b="1" lang="en-US" sz="1200" spc="-1" strike="noStrike">
                <a:solidFill>
                  <a:srgbClr val="0070c0"/>
                </a:solidFill>
                <a:latin typeface="Gill Sans MT"/>
              </a:rPr>
              <a:t>virtual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base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k;  }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/* derived3 inherits both derived1 and derived2. This means that there is only one copy of base in derived3! */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derived3 :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derived1,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derived2 { </a:t>
            </a: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public: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sum;}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1640" y="620640"/>
            <a:ext cx="4343400" cy="345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ill Sans MT"/>
              </a:rPr>
              <a:t>int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main()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derived3 ob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ob.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 = 10;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//</a:t>
            </a: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scope resolved, uses derived1’s I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b.j = 20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b.k = 30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// unambiguou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ob.sum = ob.i + ob.j + ob.k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Gill Sans MT"/>
              </a:rPr>
              <a:t>// unambiguou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ut &lt;&lt; ob.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i &lt;&lt; </a:t>
            </a:r>
            <a:r>
              <a:rPr b="1" lang="ar-SA" sz="1200" spc="-1" strike="noStrike" baseline="30000">
                <a:solidFill>
                  <a:srgbClr val="000000"/>
                </a:solidFill>
                <a:latin typeface="Gill Sans MT"/>
                <a:ea typeface="Arial"/>
              </a:rPr>
              <a:t>« »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ut &lt;&lt; ob.j &lt;&lt;“ “ &lt;&lt; ob.k &lt;&lt;“ “ 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cout &lt;&lt; ob.sum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return 0;  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TextBox 1"/>
          <p:cNvSpPr/>
          <p:nvPr/>
        </p:nvSpPr>
        <p:spPr>
          <a:xfrm>
            <a:off x="4500720" y="4076640"/>
            <a:ext cx="431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ow that both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l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2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ave inherited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as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s virtual, any multiple inheritance involving them will cause only one copy of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as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 be present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refore, in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3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ere is only one copy of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ase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ob.i = 10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 perfectly valid and unambiguou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4479-017E-4B27-BAE5-E43E1212B4A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Footer Placeholder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Difference Between Normal Base Class and Virtual Base Classe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only difference between a normal base class and a virtual one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ecomes evident when an object inherits the base class more than onc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f the base class has been declared as virtual, the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ly one instance of it will be present in the inheriting object.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Otherwise,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ultiple copies will be fou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0656-FAEC-4061-A4CD-694430DF59E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Inheriting Multiple Base Classe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possible for a derived class to inherit two or more base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General definition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clas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erivedName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: access1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access2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base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ember list of derivedNam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5EAB-5651-4E46-A490-1760206D8E0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heriting Multiple Base Cla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5" name="Content Placeholder 3" descr=""/>
          <p:cNvPicPr/>
          <p:nvPr/>
        </p:nvPicPr>
        <p:blipFill>
          <a:blip r:embed="rId1"/>
          <a:stretch/>
        </p:blipFill>
        <p:spPr>
          <a:xfrm>
            <a:off x="2743200" y="2071800"/>
            <a:ext cx="4114800" cy="242388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442D-CC77-42CD-91DF-DAB0EDE2D7C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n example of multiple base cla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51920" y="1219320"/>
            <a:ext cx="4343400" cy="555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#includ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&lt;iostream&gt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namespace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td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base1 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howx() { cout &lt;&lt; x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;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base2 {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y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howy() { cout&lt;&lt; y &lt;&lt;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\n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; }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48320" y="1219320"/>
            <a:ext cx="4038480" cy="555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derived: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base1,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base2 {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set(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i,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 j) { x= i;  y =j; }}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main()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derived ob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b.set(10, 20);</a:t>
            </a:r>
            <a:r>
              <a:rPr b="0" lang="en-US" sz="1600" spc="-1" strike="noStrike">
                <a:solidFill>
                  <a:srgbClr val="008000"/>
                </a:solidFill>
                <a:latin typeface="Consolas"/>
              </a:rPr>
              <a:t>//from deriv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b.showx();</a:t>
            </a:r>
            <a:r>
              <a:rPr b="0" lang="en-US" sz="1600" spc="-1" strike="noStrike">
                <a:solidFill>
                  <a:srgbClr val="008000"/>
                </a:solidFill>
                <a:latin typeface="Consolas"/>
              </a:rPr>
              <a:t>//from bas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ob.showy();</a:t>
            </a:r>
            <a:r>
              <a:rPr b="0" lang="en-US" sz="1600" spc="-1" strike="noStrike">
                <a:solidFill>
                  <a:srgbClr val="008000"/>
                </a:solidFill>
                <a:latin typeface="Consolas"/>
              </a:rPr>
              <a:t>//from base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EFD4-7064-4EF7-9058-77BB4F5E8DE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Footer Placeholder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245200" y="-360"/>
            <a:ext cx="38988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53"/>
                </a:solidFill>
                <a:latin typeface="Bookman Old Style"/>
              </a:rPr>
              <a:t>Multiple Base Classes</a:t>
            </a:r>
            <a:br>
              <a:rPr sz="2500"/>
            </a:br>
            <a:r>
              <a:rPr b="0" lang="en-US" sz="2500" spc="-1" strike="noStrike">
                <a:solidFill>
                  <a:srgbClr val="464653"/>
                </a:solidFill>
                <a:latin typeface="Bookman Old Style"/>
              </a:rPr>
              <a:t>Constructing Example </a:t>
            </a:r>
            <a:endParaRPr b="0" lang="en-US" sz="25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28600" y="-76320"/>
            <a:ext cx="5029200" cy="6400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,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 {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2 ob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nsolas"/>
              </a:rPr>
              <a:t>// construct and destruct ob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0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5257800" y="342900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structors are called in order of derivation,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left to righ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as specified in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'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heritance list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structors are called in reverse order,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right to left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380200" y="1295280"/>
            <a:ext cx="5135400" cy="1928880"/>
          </a:xfrm>
          <a:prstGeom prst="rect">
            <a:avLst/>
          </a:prstGeom>
          <a:ln w="0">
            <a:noFill/>
          </a:ln>
        </p:spPr>
      </p:pic>
      <p:sp>
        <p:nvSpPr>
          <p:cNvPr id="37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4FBC-9617-4741-BC46-6B28917B503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29200" y="87120"/>
            <a:ext cx="332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21932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Content Placeholder 2"/>
          <p:cNvSpPr/>
          <p:nvPr/>
        </p:nvSpPr>
        <p:spPr>
          <a:xfrm>
            <a:off x="76320" y="0"/>
            <a:ext cx="4876560" cy="685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1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1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2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2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2,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1{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derived() { 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main()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 ob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nsolas"/>
              </a:rPr>
              <a:t>// construct and destruct ob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0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5052960" y="1219320"/>
            <a:ext cx="5538960" cy="2428920"/>
          </a:xfrm>
          <a:prstGeom prst="rect">
            <a:avLst/>
          </a:prstGeom>
          <a:ln w="0">
            <a:noFill/>
          </a:ln>
        </p:spPr>
      </p:pic>
      <p:sp>
        <p:nvSpPr>
          <p:cNvPr id="38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17BA-B1E2-44F1-B66E-F38E8F38DE9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Footer Placeholder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assing Parameters to Base Class Constructo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general form of this expanded declaration is shown her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ase1 through baseN are the names of the base classes inherited by the derived clas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tice that a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colo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eparates the constructor function declaration of the derived class from the base classes, and that the base classes are separated from each other by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comma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in the case of multiple base class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457200" y="2133720"/>
            <a:ext cx="8686800" cy="2228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erived-constructor(</a:t>
            </a:r>
            <a:r>
              <a:rPr b="0" i="1" lang="en-US" sz="2000" spc="-1" strike="noStrike">
                <a:solidFill>
                  <a:srgbClr val="00b050"/>
                </a:solidFill>
                <a:latin typeface="Gill Sans MT"/>
              </a:rPr>
              <a:t>arg-list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Gill Sans MT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1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(arg-list)</a:t>
            </a:r>
            <a:r>
              <a:rPr b="1" i="1" lang="en-US" sz="4400" spc="-1" strike="noStrike">
                <a:solidFill>
                  <a:srgbClr val="ff0000"/>
                </a:solidFill>
                <a:latin typeface="Gill Sans MT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2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(arg-list)</a:t>
            </a:r>
            <a:r>
              <a:rPr b="1" i="1" lang="en-US" sz="6000" spc="-1" strike="noStrike">
                <a:solidFill>
                  <a:srgbClr val="ff0000"/>
                </a:solidFill>
                <a:latin typeface="Gill Sans MT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….</a:t>
            </a:r>
            <a:r>
              <a:rPr b="0" i="1" lang="en-US" sz="2000" spc="-1" strike="noStrike">
                <a:solidFill>
                  <a:srgbClr val="00b0f0"/>
                </a:solidFill>
                <a:latin typeface="Gill Sans MT"/>
              </a:rPr>
              <a:t>baseN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(arg-lis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ody of derived construct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lide Number Placeholder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FFBD-64E5-4BE6-842A-DBB5880AC4A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148000" y="152280"/>
            <a:ext cx="3322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Gill Sans MT"/>
              </a:rPr>
              <a:t>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50920" y="151920"/>
            <a:ext cx="4681440" cy="648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rotecte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i 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base(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 ) { i = x;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base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 base() { 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base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derived: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ba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j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nsolas"/>
              </a:rPr>
              <a:t>//derived uses x;" y is passed along to base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derived(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x,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y): base(y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  j = x; 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Con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~derived(){cout 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Destructing derived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show(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cout &lt;&lt; i &lt;&lt;“—”&lt;&lt;j&lt;&lt; </a:t>
            </a:r>
            <a:r>
              <a:rPr b="0" lang="en-US" sz="1400" spc="-1" strike="noStrike">
                <a:solidFill>
                  <a:srgbClr val="a31515"/>
                </a:solidFill>
                <a:latin typeface="Consolas"/>
              </a:rPr>
              <a:t>"\n"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main() {     derived  ob(3,4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ob.show();  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Consolas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0;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976920" cy="1657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4932360" y="3500280"/>
            <a:ext cx="398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'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nstructor is declared as taking two parameters, x and y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wever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erived( )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es only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x; y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 passed along to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ase( )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 general, the constructor of the derived class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declare the parameter(s) that its class requires, as well as any required by the base clas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lide Number Placeholder 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A93A-32A2-4D77-A413-37C74293867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Aseel AlHadlaq_KS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07:03:34Z</dcterms:created>
  <dc:creator>Aseel</dc:creator>
  <dc:description/>
  <dc:language>en-US</dc:language>
  <cp:lastModifiedBy>Aseel</cp:lastModifiedBy>
  <dcterms:modified xsi:type="dcterms:W3CDTF">2013-03-10T12:35:04Z</dcterms:modified>
  <cp:revision>31</cp:revision>
  <dc:subject/>
  <dc:title>Inheritance in C++</dc:title>
</cp:coreProperties>
</file>