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4A86-5C9B-463B-BD19-27D6922B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2BA2-DFCD-48D6-AAD5-82A74431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880F-3D16-460A-8C91-506B5B1F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82376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19032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182376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319032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B113-AF2D-42E9-B76B-C43A1F8C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00B6-D322-4D7A-9909-18816C6A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8590-D683-4FD1-9DD1-E79A7A12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68B3-1A68-4F5D-A3B6-414EBF5A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F86B-9C3B-448B-802F-F6E09877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BAEE-8BB9-41B5-B2D1-246A876F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FECF-C6BB-4B8F-82C2-72C0AB6F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5070-2939-45D6-B8DA-75C7FCDD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E42F-A1A7-49EA-9EC1-F77AE876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7954-41A9-4724-AD16-955334F4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5876-52E8-481A-A6EF-901C665F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CE59-CFD6-45BD-9500-4EEC7316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F625-4726-48A4-8665-366AA8A8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82376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19032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182376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319032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8A88-BDB9-4565-A8A1-1B663172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21D12-5363-4C32-A168-239C7AF8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4A3E4-836C-41CC-8AE6-6BAC2C1C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D0ADB-A86B-48A5-8187-B62502BB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BF423-B643-43D4-BA4E-923F3C2A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1056F-B6CF-40EA-943D-B5505AF6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D59-7372-4E08-8891-F840F9AA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03656-8CD5-490A-9199-6E74E6CE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D3686-3E5F-4FBA-9C18-184EA8F0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5A598-E061-4B64-8EAC-0A4FEC98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0BD8F-50D4-4A5E-A4C3-1322CF47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F3F93-B770-4DA1-8ACF-9C81FB82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13F76-3FE6-46D5-9C7B-A07F6363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82376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19032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182376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319032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1AEFC-C486-4437-8D87-7D83C52D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EF8EA-E6E1-4AF8-A133-8B239370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EEA99-909C-4840-81A0-5634E175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F3601-2690-4282-81A8-F2B650B6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DC1-5366-4647-9B5C-9DDC7254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D36BD-6FDF-4332-BDD6-B5F999EE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04BB9-287B-49B2-A402-F179596A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E3509-8F7F-4653-8F56-FE0285C1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BD761-69E8-44FF-90F7-FF0F2139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03035-3736-43EF-9FCB-2BFB4842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5D083-BECD-43AC-AC42-8F2056DF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DF30B-8106-4DA2-8AE9-33F9A25C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40C6C-3C72-4FAC-B26B-353CFF38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82376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19032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182376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319032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81708-E82F-4AF4-9AD7-E805A374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E8A-9405-40BE-B35F-B79A6586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F8F-22CF-4E7C-9F3F-C8F55239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D0E-4750-4592-BD05-C1BF7B08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A0A-1863-4AB9-ABBE-1C6B740C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CA29-3A7B-48D8-ACB8-80563423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71A275F-37CD-4631-AD33-90E0813262DC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E94B974-43C0-4DF7-BD03-73BF303D0E51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403992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648320" y="1295280"/>
            <a:ext cx="404136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B632D17-7C4A-4A78-89DD-C4F13CF04D05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 type="body"/>
          </p:nvPr>
        </p:nvSpPr>
        <p:spPr>
          <a:xfrm>
            <a:off x="45720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8"/>
          <p:cNvSpPr>
            <a:spLocks noGrp="1"/>
          </p:cNvSpPr>
          <p:nvPr>
            <p:ph type="body"/>
          </p:nvPr>
        </p:nvSpPr>
        <p:spPr>
          <a:xfrm>
            <a:off x="464832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965E611-F07A-4418-AC78-F3DEA10843B1}" type="slidenum">
              <a:rPr b="0" lang="en-GB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Pointer Data Type and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referencing Operator (*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ferred to as indirection operat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fers to the object to which its operand (that is, the pointer) poin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or example, given the statement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899640" y="4073400"/>
            <a:ext cx="7344000" cy="223560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8"/>
          <p:cNvGrpSpPr/>
          <p:nvPr/>
        </p:nvGrpSpPr>
        <p:grpSpPr>
          <a:xfrm>
            <a:off x="6732360" y="3645000"/>
            <a:ext cx="2088000" cy="802800"/>
            <a:chOff x="6732360" y="3645000"/>
            <a:chExt cx="2088000" cy="802800"/>
          </a:xfrm>
        </p:grpSpPr>
        <p:sp>
          <p:nvSpPr>
            <p:cNvPr id="209" name="Rectangle 3"/>
            <p:cNvSpPr/>
            <p:nvPr/>
          </p:nvSpPr>
          <p:spPr>
            <a:xfrm>
              <a:off x="6732360" y="4042440"/>
              <a:ext cx="481680" cy="405360"/>
            </a:xfrm>
            <a:prstGeom prst="rect">
              <a:avLst/>
            </a:prstGeom>
            <a:solidFill>
              <a:srgbClr val="727ca3"/>
            </a:solidFill>
            <a:ln>
              <a:solidFill>
                <a:srgbClr val="545b7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GB" sz="1800" spc="-1" strike="noStrike">
                <a:solidFill>
                  <a:schemeClr val="lt1"/>
                </a:solidFill>
                <a:latin typeface="Gill Sans MT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8250480" y="4042440"/>
              <a:ext cx="481680" cy="405360"/>
            </a:xfrm>
            <a:prstGeom prst="rect">
              <a:avLst/>
            </a:prstGeom>
            <a:solidFill>
              <a:srgbClr val="d2da7a"/>
            </a:solidFill>
            <a:ln>
              <a:solidFill>
                <a:srgbClr val="9ba15a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800" spc="-1" strike="noStrike">
                  <a:solidFill>
                    <a:schemeClr val="lt1"/>
                  </a:solidFill>
                  <a:latin typeface="Gill Sans MT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" name="Straight Arrow Connector 6"/>
            <p:cNvCxnSpPr>
              <a:stCxn id="209" idx="3"/>
              <a:endCxn id="210" idx="1"/>
            </p:cNvCxnSpPr>
            <p:nvPr/>
          </p:nvCxnSpPr>
          <p:spPr>
            <a:xfrm>
              <a:off x="7214040" y="4245120"/>
              <a:ext cx="1036440" cy="360"/>
            </a:xfrm>
            <a:prstGeom prst="straightConnector1">
              <a:avLst/>
            </a:prstGeom>
            <a:ln>
              <a:solidFill>
                <a:srgbClr val="727ca3"/>
              </a:solidFill>
              <a:round/>
              <a:tailEnd len="med" type="arrow" w="med"/>
            </a:ln>
          </p:spPr>
        </p:cxnSp>
        <p:sp>
          <p:nvSpPr>
            <p:cNvPr id="212" name="TextBox 7"/>
            <p:cNvSpPr/>
            <p:nvPr/>
          </p:nvSpPr>
          <p:spPr>
            <a:xfrm>
              <a:off x="8338680" y="3645000"/>
              <a:ext cx="481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1800" spc="-1" strike="noStrike">
                  <a:solidFill>
                    <a:srgbClr val="000000"/>
                  </a:solidFill>
                  <a:latin typeface="Gill Sans M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9"/>
            <p:cNvSpPr/>
            <p:nvPr/>
          </p:nvSpPr>
          <p:spPr>
            <a:xfrm>
              <a:off x="6732360" y="3645000"/>
              <a:ext cx="481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GB" sz="1800" spc="-1" strike="noStrike">
                  <a:solidFill>
                    <a:srgbClr val="000000"/>
                  </a:solidFill>
                  <a:latin typeface="Gill Sans MT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10"/>
          <p:cNvSpPr/>
          <p:nvPr/>
        </p:nvSpPr>
        <p:spPr>
          <a:xfrm>
            <a:off x="467640" y="5301360"/>
            <a:ext cx="5688360" cy="115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x-none" sz="1800" spc="-1" strike="noStrike">
              <a:solidFill>
                <a:schemeClr val="lt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referencing Operator (*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et us consider the following stat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43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In these statements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8" marL="4000680" indent="-4572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5000"/>
              <a:buFont typeface="Wingdings 3" charset="2"/>
              <a:buChar char=""/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is a pointer variable of type </a:t>
            </a: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8" marL="4000680" indent="-4572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5000"/>
              <a:buFont typeface="Wingdings 3" charset="2"/>
              <a:buChar char=""/>
              <a:tabLst>
                <a:tab algn="l" pos="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num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is a variable of type </a:t>
            </a: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int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et us assume that memory location 1200 is allocated for p, and memory location 1800 is allocated for nu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1187640" y="2026440"/>
            <a:ext cx="2180520" cy="682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2482920" y="4869000"/>
            <a:ext cx="3885840" cy="120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7632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referencing Operator (*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9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onsider the following statemen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Bookman Old Style"/>
              <a:buAutoNum type="arabicPeriod"/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num = 78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Bookman Old Style"/>
              <a:buAutoNum type="arabicPeriod"/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p = &amp;num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Bookman Old Style"/>
              <a:buAutoNum type="arabicPeriod"/>
            </a:pPr>
            <a:r>
              <a:rPr b="0" lang="en-GB" sz="2000" spc="-1" strike="noStrike">
                <a:solidFill>
                  <a:srgbClr val="464653"/>
                </a:solidFill>
                <a:latin typeface="Gill Sans MT"/>
              </a:rPr>
              <a:t>*p = 24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4500000" y="2421000"/>
            <a:ext cx="3142800" cy="818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4515480" y="3501000"/>
            <a:ext cx="3152520" cy="790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3"/>
          <a:stretch/>
        </p:blipFill>
        <p:spPr>
          <a:xfrm>
            <a:off x="4559040" y="4581000"/>
            <a:ext cx="3180960" cy="894960"/>
          </a:xfrm>
          <a:prstGeom prst="rect">
            <a:avLst/>
          </a:prstGeom>
          <a:ln w="0">
            <a:noFill/>
          </a:ln>
        </p:spPr>
      </p:pic>
      <p:sp>
        <p:nvSpPr>
          <p:cNvPr id="224" name="Right Arrow 3"/>
          <p:cNvSpPr/>
          <p:nvPr/>
        </p:nvSpPr>
        <p:spPr>
          <a:xfrm>
            <a:off x="3132000" y="2493000"/>
            <a:ext cx="791640" cy="409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da7a"/>
          </a:solidFill>
          <a:ln>
            <a:solidFill>
              <a:srgbClr val="b8a15a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25" name="Right Arrow 8"/>
          <p:cNvSpPr/>
          <p:nvPr/>
        </p:nvSpPr>
        <p:spPr>
          <a:xfrm>
            <a:off x="3132000" y="3630600"/>
            <a:ext cx="791640" cy="409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da7a"/>
          </a:solidFill>
          <a:ln>
            <a:solidFill>
              <a:srgbClr val="b8a15a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26" name="Right Arrow 9"/>
          <p:cNvSpPr/>
          <p:nvPr/>
        </p:nvSpPr>
        <p:spPr>
          <a:xfrm>
            <a:off x="3129480" y="4675680"/>
            <a:ext cx="791640" cy="409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ada7a"/>
          </a:solidFill>
          <a:ln>
            <a:solidFill>
              <a:srgbClr val="b8a15a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74760" y="44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63680"/>
            <a:ext cx="8229240" cy="5017320"/>
          </a:xfrm>
          <a:prstGeom prst="rect">
            <a:avLst/>
          </a:prstGeom>
          <a:solidFill>
            <a:schemeClr val="lt1"/>
          </a:solidFill>
          <a:ln w="19080">
            <a:solidFill>
              <a:srgbClr val="9fb8cd"/>
            </a:solidFill>
            <a:round/>
          </a:ln>
        </p:spPr>
        <p:txBody>
          <a:bodyPr lIns="90000" rIns="90000" tIns="45000" bIns="45000" anchor="t">
            <a:normAutofit fontScale="90000"/>
          </a:bodyPr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&lt;iostream&gt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&lt;string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 std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Courier New"/>
              </a:rPr>
              <a:t>//===============================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main(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*p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x = 37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out &lt;&lt;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"x=  " &lt;&lt; x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p=&amp;x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1400" spc="-1" strike="noStrike">
                <a:solidFill>
                  <a:srgbClr val="a31515"/>
                </a:solidFill>
                <a:latin typeface="Courier New"/>
              </a:rPr>
              <a:t>cout &lt;&lt;"*p=  "&lt;&lt; *p &lt;&lt;"  , x= "&lt;&lt;x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*p=85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1400" spc="-1" strike="noStrike">
                <a:solidFill>
                  <a:srgbClr val="a31515"/>
                </a:solidFill>
                <a:latin typeface="Courier New"/>
              </a:rPr>
              <a:t>cout &lt;&lt;"*P=  " &lt;&lt;*p &lt;&lt;"  , x=  "&lt;&lt;x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 &lt;&lt;" Address of p is :  "&lt;&lt; &amp;p 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&lt;&lt;"value of p :  "&lt;&lt; p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&lt;&lt; " value of memory location pointed to by *p =  "&lt;&lt;*p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&lt;&lt;"Address of X =  " &lt;&lt; &amp;x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 &lt;&lt;" Value of x =   " &lt;&lt; x&lt;&lt;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11640" y="1556640"/>
            <a:ext cx="7540560" cy="3040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ummary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3" name="Content Placeholder 3" descr="Screen shot 2013-03-11 at 10.11.37 PM.png"/>
          <p:cNvPicPr/>
          <p:nvPr/>
        </p:nvPicPr>
        <p:blipFill>
          <a:blip r:embed="rId1"/>
          <a:stretch/>
        </p:blipFill>
        <p:spPr>
          <a:xfrm>
            <a:off x="571680" y="2614680"/>
            <a:ext cx="8000640" cy="21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Initializing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++ does not automatically initialize variab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variables must be initialized if you do not want them to point to anyth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variables are initialized using  the following two statements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 = NULL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 = 0 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number 0 is the only number that can be directly assigned to a pointer vari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Operations on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value of one pointer variable can be assigned to another pointer variable of the same typ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wo pointer variables of the same type can be compared for equality, and so 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eger values can be added and subtracted from a pointer variabl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value of one pointer variable can be subtracted from another pointer vari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Operations on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420624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pies the value of q into p. After this statement executes, both p and q point to the same memory locati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ny changes made to *p automatically change the value of *q, and vice vers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2120" y="1882440"/>
            <a:ext cx="8270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expressio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 == q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evaluates to true if p and q have the same value—that is, if they point to the same memory locati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imilarly, the expressio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 != q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evaluates to true if p and q point to different memory locat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1560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Data Type and Pointer Variabl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Decla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Operat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itializing Pointer Variab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perations on Pointer Variab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unctions and Point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lasses, Structs, and Pointer Variab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640" y="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crement and incr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2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++ increments the value of a pointer variable by the size of the memory to which it is point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imilarly, --  the value of a pointer variable by the size of the memory to which it is poin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 explain the increment and decrement operations on pointer variabl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all that the size of the memory allocated for 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588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nt variable is 4 byte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88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double variable is 8 byte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88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a char variable is 1 byte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88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studentType is 40 byt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755640" y="3124080"/>
            <a:ext cx="7333920" cy="117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Decrement and incr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statem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-2754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++; or p = p + 1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ncrements the value of p by 4 bytes because p is a pointer of type int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imilarly, the statement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-2754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q++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-2754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hPtr++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ncrement the value of q by 8 bytes and the value of chPtr by 1 byte, respectively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statem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-2754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tdPtr++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increments the value of stdPtr by 40 byt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oreover, the statem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 = p + 2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crements the value of p by 8 byt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us, when an integer is added to a pointer variable, the value of the pointer variable is incremented by the integer times the size of the memory that the pointer is pointing t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imilarly, when an integer is subtracted from a pointer variable, the value of the pointer variable is decremented by the integer times the size of the memory to which the pointer is poin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ointer arithmetic can be very dangerou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program can accidentally access the memory locations of other variables and change their content without warning. leaving the programmer trying to find out what went wro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unctions and Point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 pointer variable can be passed as a parameter to a function either by value or by refere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the function pointerParameters, both p and q are pointers. The parameter p is a reference parameter; the parameter q is a value paramet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urthermore, the function pointerParameters can change the value of *q, but not the value of q. However, the function pointerParameters can change the value of both p and *p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971640" y="2286000"/>
            <a:ext cx="56163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52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2000"/>
          </a:bodyPr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using namespace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void f(int *j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int main(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int i =0 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int *p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p = &amp;i; </a:t>
            </a:r>
            <a:r>
              <a:rPr b="0" lang="en-GB" sz="2600" spc="-1" strike="noStrike">
                <a:solidFill>
                  <a:srgbClr val="008000"/>
                </a:solidFill>
                <a:latin typeface="Courier New"/>
              </a:rPr>
              <a:t>// p now points to 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8000"/>
                </a:solidFill>
                <a:latin typeface="Courier New"/>
              </a:rPr>
              <a:t>cout&lt;&lt;</a:t>
            </a: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"*p is " &lt;&lt; *p&lt;&lt;end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&lt;&lt; "i= " &lt;&lt; i &lt;&lt;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f(p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cout &lt;&lt; "i is  " &lt;&lt; i &lt;&lt; endl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return 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void f(int *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*j = 100; </a:t>
            </a:r>
            <a:r>
              <a:rPr b="0" lang="en-GB" sz="2600" spc="-1" strike="noStrike">
                <a:solidFill>
                  <a:srgbClr val="008000"/>
                </a:solidFill>
                <a:latin typeface="Courier New"/>
              </a:rPr>
              <a:t>// var pointed to by j is assigned 100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8000"/>
                </a:solidFill>
                <a:latin typeface="Courier New"/>
              </a:rPr>
              <a:t>cout &lt;&lt;</a:t>
            </a: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"*j is  : "&lt;&lt; *j&lt;&lt;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0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3852000" y="1124640"/>
            <a:ext cx="5133600" cy="194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unctions and Point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ssing a pointer as an argument to a function is in some ways similar to passing a refere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y both permit the variable in the calling program to be modified by the function. However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mechanism is different. A reference is an alias for the original variable, while a pointer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address of the vari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s and Function Return Valu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C++, the return type of a function can be a pointer. For example, the return type of the functio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2699640" y="2666880"/>
            <a:ext cx="3960000" cy="32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24000" y="836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207360"/>
            <a:ext cx="8229240" cy="65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&lt;iostream&gt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using namespace std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* GetSalary(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salary = 26.48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*HourlySalary = &amp;salary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return HourlySalary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hours  = 46.5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salary = *GetSalary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out &lt;&lt;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"Weekly Hours:  " &lt;&lt; hours &lt;&lt; 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cout &lt;&lt; "Hourly Salary: " &lt;&lt; salary &lt;&lt; 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double WeeklySalary = hours * salary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cout &lt;&lt; </a:t>
            </a: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"Weekly Salary: " &lt;&lt; WeeklySalary &lt;&lt; endl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a31515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475640" y="2493000"/>
            <a:ext cx="6552000" cy="2341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 Data Type and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++’s data types are classified into three categori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Simpl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Structured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Pointer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1640" y="33264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lasses, Structs, and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1640" y="1412640"/>
            <a:ext cx="4098600" cy="4568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rmAutofit fontScale="5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by default, all members of a class are priva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4000" y="1412640"/>
            <a:ext cx="4041360" cy="4568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rmAutofit fontScale="54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 </a:t>
            </a: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by default, all members of a struct are publi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2174760"/>
            <a:ext cx="4039920" cy="4278240"/>
          </a:xfrm>
          <a:prstGeom prst="rect">
            <a:avLst/>
          </a:prstGeom>
          <a:solidFill>
            <a:schemeClr val="lt1"/>
          </a:solidFill>
          <a:ln w="19080">
            <a:solidFill>
              <a:srgbClr val="fada7a"/>
            </a:solidFill>
            <a:round/>
          </a:ln>
        </p:spPr>
        <p:txBody>
          <a:bodyPr lIns="90000" rIns="90000" tIns="45000" bIns="45000"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chemeClr val="dk1"/>
                </a:solidFill>
                <a:latin typeface="Gill Sans MT"/>
              </a:rPr>
              <a:t>Class </a:t>
            </a: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char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name[26]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double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GPA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int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sID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char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grade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  </a:t>
            </a: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studen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 </a:t>
            </a: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*studentPtr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4278240"/>
          </a:xfrm>
          <a:prstGeom prst="rect">
            <a:avLst/>
          </a:prstGeom>
          <a:solidFill>
            <a:schemeClr val="lt1"/>
          </a:solidFill>
          <a:ln w="19080">
            <a:solidFill>
              <a:srgbClr val="d2da7a"/>
            </a:solidFill>
            <a:round/>
          </a:ln>
        </p:spPr>
        <p:txBody>
          <a:bodyPr lIns="90000" rIns="90000" tIns="45000" bIns="45000"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chemeClr val="dk1"/>
                </a:solidFill>
                <a:latin typeface="Gill Sans MT"/>
              </a:rPr>
              <a:t>struct</a:t>
            </a: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 </a:t>
            </a: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char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name[26]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double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GPA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int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sID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7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300" spc="-1" strike="noStrike">
                <a:solidFill>
                  <a:schemeClr val="dk1"/>
                </a:solidFill>
                <a:latin typeface="Gill Sans MT"/>
              </a:rPr>
              <a:t>char</a:t>
            </a:r>
            <a:r>
              <a:rPr b="0" lang="en-GB" sz="2300" spc="-1" strike="noStrike">
                <a:solidFill>
                  <a:schemeClr val="dk1"/>
                </a:solidFill>
                <a:latin typeface="Gill Sans MT"/>
              </a:rPr>
              <a:t> grade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 </a:t>
            </a: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studen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600" spc="-1" strike="noStrike">
                <a:solidFill>
                  <a:srgbClr val="a57b6e"/>
                </a:solidFill>
                <a:latin typeface="Gill Sans MT"/>
              </a:rPr>
              <a:t>studentType </a:t>
            </a:r>
            <a:r>
              <a:rPr b="0" lang="en-GB" sz="2600" spc="-1" strike="noStrike">
                <a:solidFill>
                  <a:schemeClr val="dk1"/>
                </a:solidFill>
                <a:latin typeface="Gill Sans MT"/>
              </a:rPr>
              <a:t>*studentPtr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Right Brace 8"/>
          <p:cNvSpPr/>
          <p:nvPr/>
        </p:nvSpPr>
        <p:spPr>
          <a:xfrm>
            <a:off x="6732360" y="3529800"/>
            <a:ext cx="503640" cy="136764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727ca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3348000" y="3812040"/>
            <a:ext cx="46116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ight Brace 10"/>
          <p:cNvSpPr/>
          <p:nvPr/>
        </p:nvSpPr>
        <p:spPr>
          <a:xfrm>
            <a:off x="2852280" y="3653280"/>
            <a:ext cx="503640" cy="136764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727ca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TextBox 11"/>
          <p:cNvSpPr/>
          <p:nvPr/>
        </p:nvSpPr>
        <p:spPr>
          <a:xfrm>
            <a:off x="7380360" y="3840480"/>
            <a:ext cx="46116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Member access operator (.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following statement stores 3.9 in the component GPA of the object stud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*studentPtr.gpa = 3.9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nsider the expression *studentPtr.gpa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Because. (dot) has a higher precedence than *, the expression studentPtr.gpa evaluates firs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The expression studentPtr.gpa would result in a syntax error, as studentPtr is not a struct variable, so it has no such component as GPA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Member access operator (-&gt;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C++ provides another operator called the member access operator arrow, -&gt;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759960" y="2362320"/>
            <a:ext cx="72972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580000" y="620640"/>
            <a:ext cx="26024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548640"/>
            <a:ext cx="447444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using namespace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class classexample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private 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int x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public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void setX(int a ) {x=a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2600" spc="-1" strike="noStrike">
                <a:solidFill>
                  <a:srgbClr val="0000ff"/>
                </a:solidFill>
                <a:latin typeface="Courier New"/>
              </a:rPr>
              <a:t>void print(){cout&lt;&lt;</a:t>
            </a:r>
            <a:r>
              <a:rPr b="0" lang="fr-FR" sz="2600" spc="-1" strike="noStrike">
                <a:solidFill>
                  <a:srgbClr val="a31515"/>
                </a:solidFill>
                <a:latin typeface="Courier New"/>
              </a:rPr>
              <a:t>"x= " &lt;&lt;x&lt;&lt;endl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a31515"/>
                </a:solidFill>
                <a:latin typeface="Courier New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void main ()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classexample ob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classexample *obpointer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obpointer = &amp;ob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obpointer-&gt;setX(5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obpointer-&gt;print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9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477960" y="5445360"/>
            <a:ext cx="3456000" cy="1272960"/>
          </a:xfrm>
          <a:prstGeom prst="rect">
            <a:avLst/>
          </a:prstGeom>
          <a:ln w="9525">
            <a:noFill/>
          </a:ln>
        </p:spPr>
      </p:pic>
      <p:sp>
        <p:nvSpPr>
          <p:cNvPr id="284" name="Rectangle 8"/>
          <p:cNvSpPr/>
          <p:nvPr/>
        </p:nvSpPr>
        <p:spPr>
          <a:xfrm>
            <a:off x="5292000" y="1628640"/>
            <a:ext cx="3312000" cy="1583640"/>
          </a:xfrm>
          <a:prstGeom prst="rect">
            <a:avLst/>
          </a:prstGeom>
          <a:solidFill>
            <a:schemeClr val="accent1">
              <a:alpha val="19000"/>
            </a:scheme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7164360" y="2133000"/>
            <a:ext cx="1151640" cy="86364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5364000" y="3645000"/>
            <a:ext cx="3312000" cy="1583640"/>
          </a:xfrm>
          <a:prstGeom prst="rect">
            <a:avLst/>
          </a:prstGeom>
          <a:solidFill>
            <a:schemeClr val="accent1">
              <a:alpha val="19000"/>
            </a:scheme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7308360" y="4149000"/>
            <a:ext cx="1151640" cy="86364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7380360" y="2493000"/>
            <a:ext cx="431640" cy="359640"/>
          </a:xfrm>
          <a:prstGeom prst="rect">
            <a:avLst/>
          </a:prstGeom>
          <a:solidFill>
            <a:srgbClr val="727ca3"/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7596360" y="4509000"/>
            <a:ext cx="431640" cy="359640"/>
          </a:xfrm>
          <a:prstGeom prst="rect">
            <a:avLst/>
          </a:prstGeom>
          <a:solidFill>
            <a:srgbClr val="727ca3"/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5508000" y="2349000"/>
            <a:ext cx="359640" cy="359640"/>
          </a:xfrm>
          <a:prstGeom prst="rect">
            <a:avLst/>
          </a:prstGeom>
          <a:solidFill>
            <a:srgbClr val="ff0000">
              <a:alpha val="57000"/>
            </a:srgb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5580000" y="4581000"/>
            <a:ext cx="359640" cy="359640"/>
          </a:xfrm>
          <a:prstGeom prst="rect">
            <a:avLst/>
          </a:prstGeom>
          <a:solidFill>
            <a:srgbClr val="ff0000">
              <a:alpha val="57000"/>
            </a:srgbClr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ill Sans MT"/>
            </a:endParaRPr>
          </a:p>
        </p:txBody>
      </p:sp>
      <p:cxnSp>
        <p:nvCxnSpPr>
          <p:cNvPr id="292" name="Straight Arrow Connector 17"/>
          <p:cNvCxnSpPr/>
          <p:nvPr/>
        </p:nvCxnSpPr>
        <p:spPr>
          <a:xfrm>
            <a:off x="6012000" y="2564640"/>
            <a:ext cx="1008360" cy="360"/>
          </a:xfrm>
          <a:prstGeom prst="straightConnector1">
            <a:avLst/>
          </a:prstGeom>
          <a:ln>
            <a:solidFill>
              <a:srgbClr val="727ca3"/>
            </a:solidFill>
            <a:round/>
            <a:tailEnd len="med" type="arrow" w="med"/>
          </a:ln>
        </p:spPr>
      </p:cxnSp>
      <p:cxnSp>
        <p:nvCxnSpPr>
          <p:cNvPr id="293" name="Straight Arrow Connector 19"/>
          <p:cNvCxnSpPr/>
          <p:nvPr/>
        </p:nvCxnSpPr>
        <p:spPr>
          <a:xfrm>
            <a:off x="6084000" y="4797000"/>
            <a:ext cx="1080360" cy="360"/>
          </a:xfrm>
          <a:prstGeom prst="straightConnector1">
            <a:avLst/>
          </a:prstGeom>
          <a:ln>
            <a:solidFill>
              <a:srgbClr val="727ca3"/>
            </a:solidFill>
            <a:round/>
            <a:tailEnd len="med" type="arrow" w="med"/>
          </a:ln>
        </p:spPr>
      </p:cxnSp>
      <p:sp>
        <p:nvSpPr>
          <p:cNvPr id="294" name="TextBox 20"/>
          <p:cNvSpPr/>
          <p:nvPr/>
        </p:nvSpPr>
        <p:spPr>
          <a:xfrm>
            <a:off x="7308360" y="2133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1"/>
          <p:cNvSpPr/>
          <p:nvPr/>
        </p:nvSpPr>
        <p:spPr>
          <a:xfrm>
            <a:off x="7596360" y="1628640"/>
            <a:ext cx="79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2"/>
          <p:cNvSpPr/>
          <p:nvPr/>
        </p:nvSpPr>
        <p:spPr>
          <a:xfrm>
            <a:off x="5364000" y="1917000"/>
            <a:ext cx="129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b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3"/>
          <p:cNvSpPr/>
          <p:nvPr/>
        </p:nvSpPr>
        <p:spPr>
          <a:xfrm>
            <a:off x="5508000" y="4077000"/>
            <a:ext cx="129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b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4"/>
          <p:cNvSpPr/>
          <p:nvPr/>
        </p:nvSpPr>
        <p:spPr>
          <a:xfrm>
            <a:off x="7452360" y="4149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5"/>
          <p:cNvSpPr/>
          <p:nvPr/>
        </p:nvSpPr>
        <p:spPr>
          <a:xfrm>
            <a:off x="7740360" y="3645000"/>
            <a:ext cx="79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6"/>
          <p:cNvSpPr/>
          <p:nvPr/>
        </p:nvSpPr>
        <p:spPr>
          <a:xfrm>
            <a:off x="7524360" y="4509000"/>
            <a:ext cx="4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What is the Pointer Valu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2" name="Diagram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0760" y="44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 Data Type and Pointer Vari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4640"/>
            <a:ext cx="822924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There is no name associated with pointer data typ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If no name is associated with a pointer data type, how do you declare pointer variabl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800" spc="-1" strike="noStrike">
                <a:solidFill>
                  <a:srgbClr val="464653"/>
                </a:solidFill>
                <a:latin typeface="Gill Sans MT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 is called a pointer variable of type </a:t>
            </a:r>
            <a:r>
              <a:rPr b="0" lang="en-GB" sz="2800" spc="-1" strike="noStrike">
                <a:solidFill>
                  <a:srgbClr val="464653"/>
                </a:solidFill>
                <a:latin typeface="Gill Sans MT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800" spc="-1" strike="noStrike">
                <a:solidFill>
                  <a:srgbClr val="464653"/>
                </a:solidFill>
                <a:latin typeface="Gill Sans MT"/>
              </a:rPr>
              <a:t>ch 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is called a pointer variable of type </a:t>
            </a:r>
            <a:r>
              <a:rPr b="0" lang="en-GB" sz="2800" spc="-1" strike="noStrike">
                <a:solidFill>
                  <a:srgbClr val="464653"/>
                </a:solidFill>
                <a:latin typeface="Gill Sans MT"/>
              </a:rPr>
              <a:t>char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835640" y="3357000"/>
            <a:ext cx="5271480" cy="16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 Decla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us, the character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can appear anywhere between the data type name and the variable nam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8" name="Diagram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 Declar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464653"/>
                </a:solidFill>
                <a:latin typeface="Gill Sans MT"/>
              </a:rPr>
              <a:t>in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*  p, q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this statem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only p is the pointer variable, not q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Here, q is an int variabl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e prefer to attach the character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*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o the variable name. So the preceding statement is written a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464653"/>
                </a:solidFill>
                <a:latin typeface="Gill Sans MT"/>
              </a:rPr>
              <a:t>int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*p, q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ointer Operat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++ provides two operators operator to work with point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(&amp;) the address of operator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464653"/>
                </a:solidFill>
                <a:latin typeface="Gill Sans MT"/>
              </a:rPr>
              <a:t>(*) the dereferencing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4464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Address of Operator (&amp;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7640" y="134064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s a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unary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operator that returns the address of its operan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For example, given the statement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25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3000" spc="-1" strike="noStrike">
                <a:solidFill>
                  <a:srgbClr val="464653"/>
                </a:solidFill>
                <a:latin typeface="Gill Sans MT"/>
              </a:rPr>
              <a:t>int </a:t>
            </a:r>
            <a:r>
              <a:rPr b="0" lang="en-GB" sz="3000" spc="-1" strike="noStrike">
                <a:solidFill>
                  <a:srgbClr val="000000"/>
                </a:solidFill>
                <a:latin typeface="Gill Sans MT"/>
              </a:rPr>
              <a:t>x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125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3000" spc="-1" strike="noStrike">
                <a:solidFill>
                  <a:srgbClr val="464653"/>
                </a:solidFill>
                <a:latin typeface="Gill Sans MT"/>
              </a:rPr>
              <a:t>int </a:t>
            </a:r>
            <a:r>
              <a:rPr b="0" lang="en-GB" sz="3000" spc="-1" strike="noStrike">
                <a:solidFill>
                  <a:srgbClr val="000000"/>
                </a:solidFill>
                <a:latin typeface="Gill Sans MT"/>
              </a:rPr>
              <a:t>*p;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statemen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 = &amp;x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ssigns the address of x to p. That is, x and the value of p refer to the same memory loc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069D6CF7-D671-45A4-A1DA-42F0ADA1F467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customXml/itemProps2.xml><?xml version="1.0" encoding="utf-8"?>
<ds:datastoreItem xmlns:ds="http://schemas.openxmlformats.org/officeDocument/2006/customXml" ds:itemID="{57019109-EB3E-44C2-91DE-0B2ACEACC55E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9AA7E087-4DC8-46CA-AF6E-8FF646528A07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561</TotalTime>
  <Application>LibreOffice/7.4.7.2$Linux_X86_64 LibreOffice_project/40$Build-2</Application>
  <AppVersion>15.0000</AppVersion>
  <Words>1908</Words>
  <Paragraphs>2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9:09:17Z</dcterms:created>
  <dc:creator>School</dc:creator>
  <dc:description/>
  <dc:language>en-US</dc:language>
  <cp:lastModifiedBy>Mac</cp:lastModifiedBy>
  <dcterms:modified xsi:type="dcterms:W3CDTF">2013-03-11T19:38:40Z</dcterms:modified>
  <cp:revision>112</cp:revision>
  <dc:subject/>
  <dc:title>Pointer Data Type and Pointer Variab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PresentationFormat">
    <vt:lpwstr>On-screen Show (4:3)</vt:lpwstr>
  </property>
  <property fmtid="{D5CDD505-2E9C-101B-9397-08002B2CF9AE}" pid="4" name="Slides">
    <vt:r8>33</vt:r8>
  </property>
</Properties>
</file>