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C1AF-7C9D-462C-8495-158EEE798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DB3C-538A-4A93-B6B1-D3BE2695C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3545-CEC2-4E75-97EF-9E1DECB04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3F0E-C33B-4275-A5AC-DA74A2A9F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640AE-3717-4F10-B9B9-F7DCA13C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4EB8-ACFE-43E1-939F-E0CB2C05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A8291-0B69-43D0-8A53-EB64AE8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D1098-A2F6-476C-8314-2EC5952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0E6D-6F4F-458A-B616-989275E5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22695-D5A8-4A4E-A8A1-FDD574BF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D6CF9-907F-4A48-AF7A-1AEAB3C0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50E0-599A-409A-91DC-5E721C59B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72A6-06CF-468B-AD51-70ACAD8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D502A-C34A-4CE6-A905-D2618E7C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F9E0F-F4F9-48D9-BC6E-2244EEBB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534CA-B71B-4F83-9D1A-5EC30BF3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974E-3398-49F3-957F-B1A2161E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9737-DFD3-46A8-8329-B1F30F94C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631B-483D-4216-B375-E9405CE3A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4366-DCEE-4B64-9B62-25BAE9715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D635-8D6C-4D8C-80D8-1D8BBDD4A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7BDB-E60E-4735-BAE3-F00A3F7D2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6266-07AC-4335-A86C-F180C77B1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BDBE-8EF2-4638-AD6E-E7EF54ABC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205C-6CC7-4692-AFF5-66200E89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F921-9AE3-4E4F-AC4B-AE76024ADD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4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11-01T07:36:47Z</dcterms:modified>
  <cp:revision>141</cp:revision>
  <dc:subject/>
  <dc:title>Chapter 2- Classification of Igneous ROcks</dc:title>
</cp:coreProperties>
</file>