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8A0E-9257-462A-ADCE-094F014C2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7AB0A-16AF-4BF8-A7BC-0367D026A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886D-3625-4E70-827A-CFDD4F3D5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F92B-578B-4B9D-BAFF-88778EE5F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846F9-4EE8-44D3-B093-799A3839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4BDD7-0F19-4DA4-B057-C59B561D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12A51-E32C-4D79-80BF-2337DE4D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6A858-1B0E-4D1E-A957-4F901984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E85E4-9429-4839-A77E-D631E5A7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F14BB-3E68-498C-9E88-713363D7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47D90-5D5B-46C0-AC80-689C2D9D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ECCA-D6B9-4483-B47C-B7B5E422E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7AC01-2F38-43D0-BA07-5DEF196D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56D9A-40DD-4C87-8BA5-4DF41B7F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9FFB2-31EA-487B-8CF6-DD3FDD89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DBD66-ECD2-4AE4-A606-1F1B986F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E8F18-2425-4E38-A010-5F634A8D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8D57-47CA-409E-99B6-84BFE9B01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58BE-DFD1-4854-84DE-4F1FBE06A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92DF2-F881-4986-90EF-F67FF58DF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7C9A-D137-40B2-B632-EAD36839A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C406-F569-4050-BE26-A7DD5AED9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92FD-D09E-4777-B91E-CC1CCDDAD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05115-611E-4F5E-AA2E-EFCE0106D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1D7F-4D7C-4E9C-B9FA-5E7F343E6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40000"/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71EB-B7E0-4095-BF78-5D409732AA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457200" y="586584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5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the pyroclastic rocks. After Fisher (1966) Earth Sci. Rev.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87-298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8" descr="Fig-2-5NewColor"/>
          <p:cNvPicPr/>
          <p:nvPr/>
        </p:nvPicPr>
        <p:blipFill>
          <a:blip r:embed="rId1"/>
          <a:stretch/>
        </p:blipFill>
        <p:spPr>
          <a:xfrm>
            <a:off x="1523880" y="838080"/>
            <a:ext cx="5715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239760" y="121932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xt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han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ystals too small to see by 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haner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see the constituent min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e grained- &lt; 1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um grained- 1-5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rse grained- 5-50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coarse grained- &gt; 50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rphyr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modal grain size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lassy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 crystals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28600" y="609588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1a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#1 for plotting a point with the components: 70% X, 20% Y, and 10% Z on triangular diagram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 Introduction to Igneous and Metamorphic Petrology, John Winter, Prentice H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Fig 2-1a"/>
          <p:cNvPicPr/>
          <p:nvPr/>
        </p:nvPicPr>
        <p:blipFill>
          <a:blip r:embed="rId1"/>
          <a:stretch/>
        </p:blipFill>
        <p:spPr>
          <a:xfrm>
            <a:off x="2031840" y="1054080"/>
            <a:ext cx="50803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2280" y="6019920"/>
            <a:ext cx="899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1b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#2 for plotting a point with the components: 70% X, 20% Y, and 10% Z on triangular diagram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 Introduction to Igneous and Metamorphic Petrology, John Winter, Prentice H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8" descr="Fig 2-1b"/>
          <p:cNvPicPr/>
          <p:nvPr/>
        </p:nvPicPr>
        <p:blipFill>
          <a:blip r:embed="rId1"/>
          <a:stretch/>
        </p:blipFill>
        <p:spPr>
          <a:xfrm>
            <a:off x="1905120" y="1116000"/>
            <a:ext cx="55623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8" descr="Fig 2-2a.jpg"/>
          <p:cNvPicPr/>
          <p:nvPr/>
        </p:nvPicPr>
        <p:blipFill>
          <a:blip r:embed="rId1"/>
          <a:stretch/>
        </p:blipFill>
        <p:spPr>
          <a:xfrm>
            <a:off x="2743200" y="0"/>
            <a:ext cx="62564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525780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gure 2.2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classification of the phaneritic igneous rocks: Phaneritic rocks with more than 10% (quartz + feldspar + feldspathoids)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pic>
        <p:nvPicPr>
          <p:cNvPr id="94" name="Picture 47" descr="Fig 2-2b.jpg"/>
          <p:cNvPicPr/>
          <p:nvPr/>
        </p:nvPicPr>
        <p:blipFill>
          <a:blip r:embed="rId1"/>
          <a:stretch/>
        </p:blipFill>
        <p:spPr>
          <a:xfrm>
            <a:off x="1600200" y="914400"/>
            <a:ext cx="5715000" cy="4705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2438280" y="5791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2b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of the phaneritic igneous rocks: Gabbroic rocks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438280" y="5791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2c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of the phaneritic igneous rocks: Ultramafic rocks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Fig 2-2c.jpg"/>
          <p:cNvPicPr/>
          <p:nvPr/>
        </p:nvPicPr>
        <p:blipFill>
          <a:blip r:embed="rId1"/>
          <a:stretch/>
        </p:blipFill>
        <p:spPr>
          <a:xfrm>
            <a:off x="1238400" y="1343160"/>
            <a:ext cx="666720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80880" y="4495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3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and nomenclature of volcanic rocks. After IUG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Fig 2-3.jpg"/>
          <p:cNvPicPr/>
          <p:nvPr/>
        </p:nvPicPr>
        <p:blipFill>
          <a:blip r:embed="rId1"/>
          <a:stretch/>
        </p:blipFill>
        <p:spPr>
          <a:xfrm>
            <a:off x="4495680" y="0"/>
            <a:ext cx="418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57200" y="617220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4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hemical classification of volcanics based on total alkalis vs. silica. After Le Maitre (2002) . Igneous Rocks: A Classification and Glossary of Terms. Cambridge University Pres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Fig-2-4Color.jpg"/>
          <p:cNvPicPr/>
          <p:nvPr/>
        </p:nvPicPr>
        <p:blipFill>
          <a:blip r:embed="rId1"/>
          <a:stretch/>
        </p:blipFill>
        <p:spPr>
          <a:xfrm>
            <a:off x="1219320" y="717480"/>
            <a:ext cx="641664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John D Winter</dc:creator>
  <dc:description/>
  <dc:language>en-US</dc:language>
  <cp:lastModifiedBy>ksu</cp:lastModifiedBy>
  <dcterms:modified xsi:type="dcterms:W3CDTF">2011-11-01T07:36:47Z</dcterms:modified>
  <cp:revision>141</cp:revision>
  <dc:subject/>
  <dc:title>Chapter 2- Classification of Igneous ROcks</dc:title>
</cp:coreProperties>
</file>