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6874-7B91-44AF-BA9F-4EEFEE77D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4DB4-31AF-47F9-B66C-350DC96CA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2848-DE40-421B-8ADB-F92D9AC0C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67B8-5CA8-41CF-81C7-AC7AFC9E9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71603-1812-4A8D-9B22-20BC3B7D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4ACEB-9F52-4B4A-B70E-E8C7E12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8B4F6-DF5C-420D-9191-CA4AD632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F3FFF-FB49-4C9D-995A-B2C083D3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5670B-4024-498C-89B7-420F776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61BC3-9917-49F1-B74A-FE4B064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58DB4-27A7-4FB0-8D95-6691E40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DD43-FBD0-4E4D-84E8-6A81BAB4C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681E9-4805-4188-9956-9E64FA7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8DB2-D81A-4EC7-9858-1369894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CD901-06E6-4F40-94EE-82297D5B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5EF2-F374-4B0A-830A-F527CB60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F0BDA-EF26-4317-BF7E-35EBCA63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D32F-3DAE-4D8E-8E79-290CCB09D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FB0-86B5-4FFA-902E-51280AAE0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0C48-7C04-4220-9586-DC4D7A412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7C12-7D31-450C-9B41-22E350AC2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F410-120E-49B7-8477-F0B154119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CF3E-AE3A-48BC-837C-EDEBF781F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6A5F-04F2-4974-A682-6D5AC9AE9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D071-3E5A-4F7C-9E84-75CBF19D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4D57-1A1E-400F-A9B0-4B23DF687A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4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11-01T07:36:47Z</dcterms:modified>
  <cp:revision>141</cp:revision>
  <dc:subject/>
  <dc:title>Chapter 2- Classification of Igneous ROcks</dc:title>
</cp:coreProperties>
</file>