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30AE-EFE4-4884-B604-4FBB6839F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6CF8-9867-4F3F-AD65-B3B1C6E60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2D0B-5294-443D-BC5E-6BA7A7A8A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0D5D-987D-4976-AD6D-20854074B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12D30-253E-4B93-B0AE-6E6EFCBA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054C9-632D-479F-8F6C-44B9A350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B0B59-BA94-44EB-B1C2-A22CD97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39FD7-8F97-4FA7-962F-33E1FA6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3FAF7-F3BD-49C2-9218-A0BB9536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3068C-98ED-4FD7-89E8-277F39B1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5485-A213-4498-A50B-DBA854D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C1E7-E828-425B-B299-8D696A052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73923-52C2-480D-859E-69BD9AE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C2A27-09B0-4154-BF7F-9255C48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F3756-2CB2-4931-BD79-EB1D68A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8A8AD-BDB8-435C-A0C8-AA70781C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0454C-2A01-43BA-ABFE-51887FAF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EE97-3DF7-4A5E-87C4-45887465F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79D7-77A7-4F5D-B94A-E6BD94E84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7894-F006-4D9F-B1EE-E9E58C989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DCFB-28EF-4136-A044-88335B02A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FF3E-906C-4F19-AE6E-4ACF467A2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A977-606A-4DA7-9E85-683D64534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1E7F-1BD8-46B5-A36D-93059EAC1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FCE3-8592-4BFB-BB81-D9813CB2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33D9-1B4F-4A47-89F0-D5E8BEDBF5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4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11-01T07:36:47Z</dcterms:modified>
  <cp:revision>141</cp:revision>
  <dc:subject/>
  <dc:title>Chapter 2- Classification of Igneous ROcks</dc:title>
</cp:coreProperties>
</file>