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C57-E926-49BF-92CA-1B52507B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AE0-349B-464E-9C78-BCA3F2B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FF3-F094-44F7-AC4B-55B53195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589-CDC6-4E7D-B495-23E07946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138-BE3E-40A8-9FE2-3C6F0D7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4A49-1121-4A82-8ED8-C5293212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7098-C2EE-41F6-904D-232C972E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B9CD-3BC6-4425-B4ED-FF3F6F0E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21C-2CA7-492F-8923-797E5CD2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809-F153-4971-9963-FD3CEB54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A3AE-5241-4A60-B9A5-B1AE229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615-7FD3-43BC-8C3A-5B92CBCF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7720-28EA-4E6F-8377-FCD9688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7150-56D9-4EBB-A9FB-44502A7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6960-349A-40D8-80C7-1D21EA37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4E4-EE28-49CF-B29B-D6C7522D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0FBC-48FE-4970-BFE7-316707DD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3A0A-D218-420D-BB95-8B04688A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CA72C-64AC-4132-8E9B-3C9F44C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E1C7-4CE1-47C7-9877-9C928638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5217-FDBE-4E12-8CD7-A006B091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55B5-BF74-45B2-9614-E09F549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67D-B7FD-4844-A025-10639444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91DB-6ECE-4526-9560-0289898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24F3-94FB-44F9-BD68-2927414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9310-F2C0-4DC2-889D-E4CDD57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023EF-9F14-46B7-9511-BAF2560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3CE4-94A0-4AD5-A7D3-D22DE46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42F7-6DD0-462A-8E60-1D1828FF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8774-7D30-4F57-9A38-F47C8F61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4A93-0E2E-411B-B12C-281FAA0E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5AD2-A08F-458B-8D05-9431C46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B81B-51BE-4C32-854A-BD32A48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98D-7902-41A1-8E80-7BEC49F5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6E45-723A-4D0B-BED2-E5332A29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E2D8-B49D-448A-A1F0-AE3C213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2A93-944B-444A-ADC4-D9FD45C6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F47F-75FD-4871-A5D7-8B548712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8B69-1D90-4BCE-9D70-D848FFC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6A14-A7B6-4FA4-AC7E-8F28E5F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7900-968B-41E0-97E7-56EB0EC5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215C-BD22-4D2D-80F4-FCE4F63A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9D3D-D8BB-4229-A03D-E87D1214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0430-E636-4B3F-8FEA-8EC424C7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555-B0D9-4358-B35D-3B8C47E0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FC21-3D7E-4D2C-ABE1-CB58DFEE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E2FB-B0EA-4E29-87D9-02F7767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88A0B-5BF1-481A-8C5D-64C3C27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107E-6BFF-4B27-8545-DD228F3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7EA2-EAED-4950-9C91-BD7CBEB5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D4B4F-6848-47D4-8C7F-9E12C70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B75B-C16B-46C6-ABC6-610FA72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9999-0B57-4707-ABED-4D94071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C9FDF-6D06-4132-B0BE-25FDC3B0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9602-32E4-43C2-9071-1EFFA700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91-277D-4AF2-B87A-3996E72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1CF1E-5A85-4A2B-9875-4E7A3A01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34-08D9-4B09-8EF3-2EF8805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57A-FEF1-425A-81FC-A13E524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C4E-8F16-4A8B-80EA-1B3EA13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7A5-81BC-46BA-AD3C-BCBE498CF512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43D-402E-485D-AB82-2AFAE98C9B3D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ffffff"/>
                </a:buClr>
                <a:buFont typeface="Perpetu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96B-FE64-4B8B-8792-FB0F575EDA58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0AA4-C1AE-4BB1-8C5E-7181E90D965D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D70-44E8-40A2-A843-AA041753ECDE}" type="slidenum">
              <a:rPr b="1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4776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CE  424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Franklin Gothic Book"/>
              </a:rPr>
              <a:t>HYDROLOGY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34880" y="4299840"/>
            <a:ext cx="36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 Saleh A. AlHasso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tretch/>
        </p:blipFill>
        <p:spPr>
          <a:xfrm>
            <a:off x="285840" y="2425680"/>
            <a:ext cx="8126280" cy="145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5"/>
          <p:cNvGraphicFramePr/>
          <p:nvPr/>
        </p:nvGraphicFramePr>
        <p:xfrm>
          <a:off x="4281480" y="1335240"/>
          <a:ext cx="44337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1480" y="1335240"/>
                    <a:ext cx="44337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12720" y="222120"/>
            <a:ext cx="80740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Perpetua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Losses =   157,000 - 72,000 =  85,500 m3 =  Water not available to runoff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The water budget equation for the catchment in a time Δt  is 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Perpetua"/>
              </a:rPr>
              <a:t>P -R -G -E -T = Δ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Take   Δt = Duration of Runoff  = 10 hou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Rainfall occurred in 90 minutes and the rest (8.5 hours) the precipitation was zero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   </a:t>
            </a:r>
            <a:r>
              <a:rPr b="1" lang="el-GR" sz="16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S = 0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1.      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G + E + T 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= water not available to runoff  = Losses  =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Hence  :     </a:t>
            </a: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P - R = 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= Precipitation     = 150x100x100x10.5/100 = 157,500 m</a:t>
            </a: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Perpetu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= Runoff volume = 2.0x10x60x60= 72,000 m</a:t>
            </a:r>
            <a:r>
              <a:rPr b="1" lang="en-US" sz="1400" spc="-1" strike="noStrike">
                <a:solidFill>
                  <a:srgbClr val="000000"/>
                </a:solidFill>
                <a:latin typeface="Perpetu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     Runoff/rainfall =  72,000/157,500  =  0.457      or   </a:t>
            </a:r>
            <a:r>
              <a:rPr b="1" lang="en-US" sz="1600" spc="-1" strike="noStrike">
                <a:solidFill>
                  <a:srgbClr val="69240c"/>
                </a:solidFill>
                <a:latin typeface="Perpetua"/>
              </a:rPr>
              <a:t>45.7%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Franklin Gothic Book"/>
              </a:rPr>
              <a:t>1.4. World Water Distribution :</a:t>
            </a: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87440" y="135252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cea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96.5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can cover Earth to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2.6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km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aline water on land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erpetua"/>
              </a:rPr>
              <a:t>1%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esh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Perpetua"/>
              </a:rPr>
              <a:t>2.5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f total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lar Ic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68.6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of fresh water</a:t>
            </a: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Perpetua"/>
              </a:rPr>
              <a:t>2/3 of total Fresh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oundwa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30.1 %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of fresh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kes &amp; River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0.266 %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of fresh wa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7386480" y="1263600"/>
            <a:ext cx="676440" cy="58104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7085160" y="1049400"/>
            <a:ext cx="1295280" cy="141588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7354800" y="1359000"/>
            <a:ext cx="755640" cy="803160"/>
          </a:xfrm>
          <a:prstGeom prst="ellipse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4880" y="274680"/>
            <a:ext cx="8251920" cy="66816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Franklin Gothic Book"/>
              </a:rPr>
              <a:t>Global Water Balance 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1240" y="1309680"/>
            <a:ext cx="84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obal Average Precipitation (per year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ean (70.8 %)  and  Land  (29.2%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270 mm x 0.708  +  800 mm x 0.292 = 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1132  mm/y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60 % of Land Precip. will be Evap. (i.e. 60%X800 = 480 mm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lobal Average Evaporation (per year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400 mm x 0.708  + 480 mm x 0.292  =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1132  mm/y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Total Runoff to ocean = 316  mm/yr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182520" y="2300400"/>
            <a:ext cx="482760" cy="428400"/>
          </a:xfrm>
          <a:prstGeom prst="rightArrow">
            <a:avLst>
              <a:gd name="adj1" fmla="val 50000"/>
              <a:gd name="adj2" fmla="val 2817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241200" y="4230720"/>
            <a:ext cx="482760" cy="428760"/>
          </a:xfrm>
          <a:prstGeom prst="rightArrow">
            <a:avLst>
              <a:gd name="adj1" fmla="val 50000"/>
              <a:gd name="adj2" fmla="val 28195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080" y="5303880"/>
            <a:ext cx="501480" cy="476280"/>
          </a:xfrm>
          <a:prstGeom prst="rightArrow">
            <a:avLst>
              <a:gd name="adj1" fmla="val 50000"/>
              <a:gd name="adj2" fmla="val 28224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10332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Franklin Gothic Book"/>
              </a:rPr>
              <a:t>1.6. Application in Engineering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42920" y="517680"/>
            <a:ext cx="922320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dr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water resources engineer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as those for irrigation, water supply, flood control, water power and navig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re specific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capacity of storage structures such as reservoi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agnitude of flood flows to enable safe disposal of excess 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loodplain analysis and deline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inimum flow and quantity of flow available at various seas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rosion and sediment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interaction of the flood wave and hydraulic structures, such as levees, reservoirs, and brid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4669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►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hydrologic study should of necessity precede structural and other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tailed design stud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Franklin Gothic Book"/>
              </a:rPr>
              <a:t>1.7. Sources of Data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01480" y="1916280"/>
            <a:ext cx="826164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e data normally requir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records ( temperature, humidity, wind speed)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ion data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-flow record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ion and transpiration data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tration characteristics of the area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characteristic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geological characteristic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9960" y="1179000"/>
            <a:ext cx="8477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-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Perpetua"/>
              </a:rPr>
              <a:t>Hydrolog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 is the science of water in all its type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the science that deals with the occurrence, circulation, and distribution of water of the earth and earth’s atmosphe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concerned with water in streams and lakes, rainfall and snowfall, snow and ice on the land, and groundwa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91120" indent="-59112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t is of inter-disciplinary natu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78000" y="282600"/>
            <a:ext cx="3135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208160"/>
            <a:ext cx="847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In general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Perpetua"/>
              </a:rPr>
              <a:t>hydrolog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 deals wi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stimation of water resources(supply &amp;demand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study of processes such as precipitation, runoff, evapotranspiration and their interactio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study of  water problems such as floods and droughts and strategies to combat th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78880" indent="-578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lanning, design, and operation of Hydraulic Structures for control and use of  Water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90520" y="573120"/>
            <a:ext cx="4476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17440" y="239760"/>
            <a:ext cx="4476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2. Hydrologic Cyc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567160" y="2598840"/>
            <a:ext cx="68256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761000" y="2397240"/>
            <a:ext cx="682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27720" y="319572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7067520" y="345600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7488360" y="2629080"/>
            <a:ext cx="6825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003480" y="3368520"/>
            <a:ext cx="68256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612880" y="2905200"/>
            <a:ext cx="682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867360" y="5548320"/>
            <a:ext cx="682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412920" y="806400"/>
          <a:ext cx="835020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806400"/>
                    <a:ext cx="83502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Franklin Gothic Book"/>
              </a:rPr>
              <a:t>- Hydrologic Cycle Process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Slide Number Placeholder 3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826240" y="2935440"/>
            <a:ext cx="1638360" cy="6188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886360" y="30351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44880" y="2938320"/>
            <a:ext cx="1577880" cy="79236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175640" y="33116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il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946680" y="1795320"/>
            <a:ext cx="3506760" cy="62100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9640" y="187164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mospheric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238640" y="4070520"/>
            <a:ext cx="2922480" cy="6206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039640" y="41814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wat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4238640" y="2416320"/>
            <a:ext cx="117360" cy="517320"/>
          </a:xfrm>
          <a:prstGeom prst="downArrow">
            <a:avLst>
              <a:gd name="adj1" fmla="val 50000"/>
              <a:gd name="adj2" fmla="val 11019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049800" y="2416320"/>
            <a:ext cx="117720" cy="517320"/>
          </a:xfrm>
          <a:prstGeom prst="downArrow">
            <a:avLst>
              <a:gd name="adj1" fmla="val 50000"/>
              <a:gd name="adj2" fmla="val 10986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4"/>
          <p:cNvSpPr/>
          <p:nvPr/>
        </p:nvSpPr>
        <p:spPr>
          <a:xfrm>
            <a:off x="5114880" y="2416320"/>
            <a:ext cx="117360" cy="517320"/>
          </a:xfrm>
          <a:prstGeom prst="upArrow">
            <a:avLst>
              <a:gd name="adj1" fmla="val 50000"/>
              <a:gd name="adj2" fmla="val 11019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6927840" y="2416320"/>
            <a:ext cx="115920" cy="517320"/>
          </a:xfrm>
          <a:prstGeom prst="upArrow">
            <a:avLst>
              <a:gd name="adj1" fmla="val 50000"/>
              <a:gd name="adj2" fmla="val 1115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4707000" y="3727440"/>
            <a:ext cx="115920" cy="343080"/>
          </a:xfrm>
          <a:prstGeom prst="downArrow">
            <a:avLst>
              <a:gd name="adj1" fmla="val 50000"/>
              <a:gd name="adj2" fmla="val 73991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7"/>
          <p:cNvSpPr/>
          <p:nvPr/>
        </p:nvSpPr>
        <p:spPr>
          <a:xfrm>
            <a:off x="6049800" y="3552840"/>
            <a:ext cx="117720" cy="517680"/>
          </a:xfrm>
          <a:prstGeom prst="downArrow">
            <a:avLst>
              <a:gd name="adj1" fmla="val 50000"/>
              <a:gd name="adj2" fmla="val 109939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6810480" y="3552840"/>
            <a:ext cx="117360" cy="517680"/>
          </a:xfrm>
          <a:prstGeom prst="upArrow">
            <a:avLst>
              <a:gd name="adj1" fmla="val 50000"/>
              <a:gd name="adj2" fmla="val 110276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9"/>
          <p:cNvSpPr/>
          <p:nvPr/>
        </p:nvSpPr>
        <p:spPr>
          <a:xfrm>
            <a:off x="5538960" y="3046320"/>
            <a:ext cx="291960" cy="104760"/>
          </a:xfrm>
          <a:prstGeom prst="rightArrow">
            <a:avLst>
              <a:gd name="adj1" fmla="val 50000"/>
              <a:gd name="adj2" fmla="val 6967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896760" y="232884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1"/>
          <p:cNvSpPr/>
          <p:nvPr/>
        </p:nvSpPr>
        <p:spPr>
          <a:xfrm>
            <a:off x="882720" y="28479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861840" y="39513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3"/>
          <p:cNvSpPr/>
          <p:nvPr/>
        </p:nvSpPr>
        <p:spPr>
          <a:xfrm>
            <a:off x="819000" y="44625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4"/>
          <p:cNvSpPr/>
          <p:nvPr/>
        </p:nvSpPr>
        <p:spPr>
          <a:xfrm>
            <a:off x="833400" y="505476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1126440" y="164304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Times New Roman"/>
              </a:rPr>
              <a:t>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1372320" y="2173320"/>
            <a:ext cx="2471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pitation ;  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poration  ;  E , 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iltration    ; 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unoff ; Q or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water Rechar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ercolation) ; q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flow   ;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5079960" y="5319720"/>
            <a:ext cx="992160" cy="460440"/>
          </a:xfrm>
          <a:prstGeom prst="rect">
            <a:avLst/>
          </a:prstGeom>
          <a:noFill/>
          <a:ln w="2844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6206040" y="5302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2d1f"/>
                </a:solidFill>
                <a:latin typeface="Times New Roman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623880" y="4397400"/>
            <a:ext cx="3149640" cy="900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0"/>
          <p:cNvSpPr/>
          <p:nvPr/>
        </p:nvSpPr>
        <p:spPr>
          <a:xfrm flipH="1">
            <a:off x="3963960" y="3251160"/>
            <a:ext cx="15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1"/>
          <p:cNvSpPr/>
          <p:nvPr/>
        </p:nvSpPr>
        <p:spPr>
          <a:xfrm>
            <a:off x="4146480" y="29192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 Surf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2"/>
          <p:cNvSpPr/>
          <p:nvPr/>
        </p:nvSpPr>
        <p:spPr>
          <a:xfrm>
            <a:off x="4003560" y="3084480"/>
            <a:ext cx="174600" cy="401760"/>
          </a:xfrm>
          <a:prstGeom prst="downArrow">
            <a:avLst>
              <a:gd name="adj1" fmla="val 50000"/>
              <a:gd name="adj2" fmla="val 5752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3"/>
          <p:cNvSpPr/>
          <p:nvPr/>
        </p:nvSpPr>
        <p:spPr>
          <a:xfrm>
            <a:off x="896760" y="341460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0600" y="1044720"/>
            <a:ext cx="5241960" cy="474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Franklin Gothic Book"/>
              </a:rPr>
              <a:t>Catchment Area or Watershed?</a:t>
            </a:r>
            <a:r>
              <a:rPr b="1" lang="en-US" sz="3600" spc="-1" strike="noStrike">
                <a:solidFill>
                  <a:srgbClr val="cc33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Slide Number Placeholder 3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41200" y="178452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Perpetua"/>
              </a:rPr>
              <a:t>Catchment area or drainage basin or river basin or watershed is defined as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rea drained by a stream or a system of connecting streams such that the surface runoff originating in this area leaves the area in concentrated flow through a single outlet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457200" y="18720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3. Water Budge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9"/>
          <p:cNvGrpSpPr/>
          <p:nvPr/>
        </p:nvGrpSpPr>
        <p:grpSpPr>
          <a:xfrm>
            <a:off x="1173240" y="3646440"/>
            <a:ext cx="6524640" cy="2986200"/>
            <a:chOff x="1173240" y="3646440"/>
            <a:chExt cx="6524640" cy="2986200"/>
          </a:xfrm>
        </p:grpSpPr>
        <p:sp>
          <p:nvSpPr>
            <p:cNvPr id="289" name="Freeform 4"/>
            <p:cNvSpPr/>
            <p:nvPr/>
          </p:nvSpPr>
          <p:spPr>
            <a:xfrm>
              <a:off x="1901880" y="4373640"/>
              <a:ext cx="3986280" cy="1484280"/>
            </a:xfrm>
            <a:prstGeom prst="pie">
              <a:avLst/>
            </a:prstGeom>
            <a:noFill/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                               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846440" y="5043600"/>
              <a:ext cx="1160280" cy="18396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3230640" y="4229280"/>
              <a:ext cx="606240" cy="106344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>
              <a:off x="3049560" y="4503600"/>
              <a:ext cx="390600" cy="18432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3552840" y="4570560"/>
              <a:ext cx="131760" cy="43812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"/>
            <p:cNvSpPr/>
            <p:nvPr/>
          </p:nvSpPr>
          <p:spPr>
            <a:xfrm>
              <a:off x="4532400" y="4465800"/>
              <a:ext cx="503280" cy="107604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4672080" y="4491000"/>
              <a:ext cx="147600" cy="49860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4362480" y="4834080"/>
              <a:ext cx="338040" cy="36648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2741760" y="5280120"/>
              <a:ext cx="1579320" cy="108900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867040" y="6067440"/>
              <a:ext cx="604800" cy="13176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894040" y="6226200"/>
              <a:ext cx="285840" cy="368280"/>
            </a:xfrm>
            <a:prstGeom prst="pie">
              <a:avLst/>
            </a:pr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1411200" y="3646440"/>
              <a:ext cx="4229280" cy="2986200"/>
            </a:xfrm>
            <a:prstGeom prst="pie">
              <a:avLst/>
            </a:pr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1425600" y="5148360"/>
              <a:ext cx="1636560" cy="6714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1789200" y="3746520"/>
              <a:ext cx="1361880" cy="13888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5"/>
            <p:cNvSpPr/>
            <p:nvPr/>
          </p:nvSpPr>
          <p:spPr>
            <a:xfrm>
              <a:off x="5510160" y="5580000"/>
              <a:ext cx="139680" cy="81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3035160" y="5081760"/>
              <a:ext cx="139680" cy="80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5794200" y="4900680"/>
              <a:ext cx="1903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 Outle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Station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 flipH="1">
              <a:off x="5594040" y="5253120"/>
              <a:ext cx="517320" cy="34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5440320" y="3875040"/>
              <a:ext cx="19033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tchment boundary o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atershed or divid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site a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 flipH="1">
              <a:off x="5217840" y="4214880"/>
              <a:ext cx="517320" cy="34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1"/>
            <p:cNvSpPr/>
            <p:nvPr/>
          </p:nvSpPr>
          <p:spPr>
            <a:xfrm>
              <a:off x="2768760" y="5541840"/>
              <a:ext cx="1373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ream Outlet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2"/>
            <p:cNvSpPr/>
            <p:nvPr/>
          </p:nvSpPr>
          <p:spPr>
            <a:xfrm flipH="1" flipV="1">
              <a:off x="3092040" y="5186520"/>
              <a:ext cx="12600" cy="420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1173240" y="5307120"/>
              <a:ext cx="1455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chment boundary for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site a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>
              <a:off x="2292480" y="5464080"/>
              <a:ext cx="350640" cy="14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3989520" y="5899320"/>
              <a:ext cx="9604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ibutar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H="1">
              <a:off x="3614400" y="6124680"/>
              <a:ext cx="492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Franklin Gothic Book"/>
              </a:rPr>
              <a:t>Water budget equat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Slide Number Placeholder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325520"/>
            <a:ext cx="847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ydrologic analysis for various applications and models begins with the system concep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55840" y="96840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System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9"/>
          <p:cNvGrpSpPr/>
          <p:nvPr/>
        </p:nvGrpSpPr>
        <p:grpSpPr>
          <a:xfrm>
            <a:off x="585720" y="2482920"/>
            <a:ext cx="6956280" cy="1553760"/>
            <a:chOff x="585720" y="2482920"/>
            <a:chExt cx="6956280" cy="1553760"/>
          </a:xfrm>
        </p:grpSpPr>
        <p:sp>
          <p:nvSpPr>
            <p:cNvPr id="320" name="Text Box 5"/>
            <p:cNvSpPr/>
            <p:nvPr/>
          </p:nvSpPr>
          <p:spPr>
            <a:xfrm>
              <a:off x="3016080" y="3112920"/>
              <a:ext cx="2162160" cy="9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OR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585720" y="3328560"/>
              <a:ext cx="1747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PUT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2390760" y="3560760"/>
              <a:ext cx="63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8"/>
            <p:cNvSpPr/>
            <p:nvPr/>
          </p:nvSpPr>
          <p:spPr>
            <a:xfrm>
              <a:off x="5178240" y="3574080"/>
              <a:ext cx="547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5815080" y="3408120"/>
              <a:ext cx="172692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4941720" y="2482920"/>
              <a:ext cx="242100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Boundar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H="1">
              <a:off x="4235400" y="2804400"/>
              <a:ext cx="111456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12"/>
          <p:cNvSpPr/>
          <p:nvPr/>
        </p:nvSpPr>
        <p:spPr>
          <a:xfrm>
            <a:off x="-745920" y="3186720"/>
            <a:ext cx="106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ectangle 20" descr=""/>
          <p:cNvPicPr/>
          <p:nvPr/>
        </p:nvPicPr>
        <p:blipFill>
          <a:blip r:embed="rId1"/>
          <a:stretch/>
        </p:blipFill>
        <p:spPr>
          <a:xfrm>
            <a:off x="500040" y="4267080"/>
            <a:ext cx="8406000" cy="10242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1"/>
          <p:cNvSpPr/>
          <p:nvPr/>
        </p:nvSpPr>
        <p:spPr>
          <a:xfrm>
            <a:off x="876600" y="5816880"/>
            <a:ext cx="43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 =  inflow volume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 =  outflow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4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Franklin Gothic Book"/>
              </a:rPr>
              <a:t>Typical Water Budget System Components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Slide Number Placeholder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44"/>
          <p:cNvGrpSpPr/>
          <p:nvPr/>
        </p:nvGrpSpPr>
        <p:grpSpPr>
          <a:xfrm>
            <a:off x="552600" y="1208160"/>
            <a:ext cx="4327560" cy="3022200"/>
            <a:chOff x="552600" y="1208160"/>
            <a:chExt cx="4327560" cy="3022200"/>
          </a:xfrm>
        </p:grpSpPr>
        <p:sp>
          <p:nvSpPr>
            <p:cNvPr id="333" name="Freeform 85"/>
            <p:cNvSpPr/>
            <p:nvPr/>
          </p:nvSpPr>
          <p:spPr>
            <a:xfrm>
              <a:off x="577440" y="1355400"/>
              <a:ext cx="3699360" cy="2408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6"/>
            <p:cNvSpPr/>
            <p:nvPr/>
          </p:nvSpPr>
          <p:spPr>
            <a:xfrm>
              <a:off x="552600" y="2946240"/>
              <a:ext cx="3732120" cy="128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9"/>
            <p:cNvSpPr/>
            <p:nvPr/>
          </p:nvSpPr>
          <p:spPr>
            <a:xfrm>
              <a:off x="1834920" y="2872800"/>
              <a:ext cx="465120" cy="90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1"/>
            <p:cNvSpPr/>
            <p:nvPr/>
          </p:nvSpPr>
          <p:spPr>
            <a:xfrm>
              <a:off x="4088880" y="3602160"/>
              <a:ext cx="384120" cy="90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3"/>
            <p:cNvSpPr/>
            <p:nvPr/>
          </p:nvSpPr>
          <p:spPr>
            <a:xfrm>
              <a:off x="1106640" y="1278720"/>
              <a:ext cx="63720" cy="658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4"/>
            <p:cNvSpPr/>
            <p:nvPr/>
          </p:nvSpPr>
          <p:spPr>
            <a:xfrm>
              <a:off x="2551320" y="1491840"/>
              <a:ext cx="63720" cy="761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1621440" y="2614680"/>
              <a:ext cx="85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3"/>
            <p:cNvSpPr/>
            <p:nvPr/>
          </p:nvSpPr>
          <p:spPr>
            <a:xfrm>
              <a:off x="1224360" y="1249560"/>
              <a:ext cx="17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4"/>
            <p:cNvSpPr/>
            <p:nvPr/>
          </p:nvSpPr>
          <p:spPr>
            <a:xfrm>
              <a:off x="1109880" y="1208160"/>
              <a:ext cx="7340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4"/>
            <p:cNvSpPr/>
            <p:nvPr/>
          </p:nvSpPr>
          <p:spPr>
            <a:xfrm>
              <a:off x="2663640" y="1422720"/>
              <a:ext cx="21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4"/>
            <p:cNvSpPr/>
            <p:nvPr/>
          </p:nvSpPr>
          <p:spPr>
            <a:xfrm>
              <a:off x="4008960" y="3769920"/>
              <a:ext cx="87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27"/>
            <p:cNvSpPr/>
            <p:nvPr/>
          </p:nvSpPr>
          <p:spPr>
            <a:xfrm>
              <a:off x="3333240" y="16300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34"/>
            <p:cNvSpPr/>
            <p:nvPr/>
          </p:nvSpPr>
          <p:spPr>
            <a:xfrm>
              <a:off x="3214080" y="1812960"/>
              <a:ext cx="65160" cy="442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45"/>
          <p:cNvSpPr/>
          <p:nvPr/>
        </p:nvSpPr>
        <p:spPr>
          <a:xfrm>
            <a:off x="1263600" y="4691160"/>
            <a:ext cx="682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P  -  R  -  G  -  E  -  T  = 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P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 – Qs – Qg – ET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 =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S/ </a:t>
            </a:r>
            <a:r>
              <a:rPr b="1" lang="en-US" sz="3200" spc="-1" strike="noStrike">
                <a:solidFill>
                  <a:srgbClr val="696464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96464"/>
                </a:solidFill>
                <a:latin typeface="Arial"/>
              </a:rPr>
              <a:t> 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6"/>
          <p:cNvSpPr/>
          <p:nvPr/>
        </p:nvSpPr>
        <p:spPr>
          <a:xfrm>
            <a:off x="4903920" y="1238400"/>
            <a:ext cx="39416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P = precipi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E = evapora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T = transpi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R = Surface runo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G = net groundwater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S = change in stor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742217"/>
                </a:solidFill>
                <a:latin typeface="Arial"/>
              </a:rPr>
              <a:t>Qs =  R/ </a:t>
            </a:r>
            <a:r>
              <a:rPr b="1" lang="en-US" sz="2400" spc="-1" strike="noStrike">
                <a:solidFill>
                  <a:srgbClr val="742217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Qg = G/ </a:t>
            </a:r>
            <a:r>
              <a:rPr b="1" lang="en-US" sz="2400" spc="-1" strike="noStrike">
                <a:solidFill>
                  <a:srgbClr val="742217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742217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12720" y="230040"/>
            <a:ext cx="8253360" cy="59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erpetua"/>
              </a:rPr>
              <a:t>Example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small catchment of area 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50 ha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ceived a rainfall  of 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05 mm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90 minute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ue to a storm.  At the outlet of the catchment,  the stream draining the catchment  was dry before the storm and experienced  a  runoff  lasting  for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10 hour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ith an  average  discharge value </a:t>
            </a:r>
            <a:r>
              <a:rPr b="0" lang="en-US" sz="2800" spc="-1" strike="noStrike">
                <a:solidFill>
                  <a:srgbClr val="0066ff"/>
                </a:solidFill>
                <a:latin typeface="Perpetua"/>
              </a:rPr>
              <a:t>of 2.0 m3/sec.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 stream was again dry after the runoff event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What is the amount of water which was not available to runoff due to combined effect of infiltration,  evaporation and transpiration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What is the ratio of runoff  to precipitation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6:43:10Z</dcterms:created>
  <dc:creator>Said Ghabayen</dc:creator>
  <dc:description/>
  <dc:language>en-US</dc:language>
  <cp:lastModifiedBy>user</cp:lastModifiedBy>
  <dcterms:modified xsi:type="dcterms:W3CDTF">2011-03-06T19:22:31Z</dcterms:modified>
  <cp:revision>112</cp:revision>
  <dc:subject/>
  <dc:title>Graphical Description of Data</dc:title>
</cp:coreProperties>
</file>