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705167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AA89-1BFD-4CA0-9743-D7C64BE1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66A-FB10-46CC-8673-257C2FED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5B50-8DA4-4C0C-A582-A3C63D5B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175-3F6E-42D7-BB75-459D4CF3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0820-BD39-425B-A71D-FC652415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06E6-1F1A-413B-ACA9-259ABCA7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CE22-0243-4B4C-904F-07B5CD3C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D503-1F25-4933-AB4C-1EE34A83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A175-DDAD-4FA4-A4EA-6926E617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E65E-D360-46BF-B534-A7CBFAF8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A183-C575-4386-8BD3-49E7566E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6A3-7287-482B-A796-04D1CFFD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ACDE-8361-46AA-8CC6-4988A03E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1539-9FAC-4519-A59C-D4160051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A760-F9BD-4AE8-ABEC-8ECFFEAA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F2CF-E085-4FD6-8785-6EF6F7DE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322E-271C-4F93-AE8E-72389C8D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20C33-EA59-4BB6-A765-0862868E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EB489-9F49-4A5A-BCE4-975B6BF1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56979-E1F7-4AD4-AE9D-4310E3E6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D72A7-085F-45B4-9FEF-3BB6240B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4FA5C-7DAF-470F-B631-F876E83B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0C8C-98DD-491F-9D77-72A517F0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99294-D23C-4946-947A-A27F73A9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EEF1D-607F-4526-A4D4-CE8A15E7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8A787-AE70-4147-A99A-0A7A39BF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718E1-7DA2-4451-AA90-DB570935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F7878-1A68-4D4C-B189-A2009FAB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4FDDF-F538-456F-83A9-CB1D694B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08ACC-AD84-4E4A-93A6-E0C85ED6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AF644-271D-4BE8-88D1-F43BE895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8D3CC-D9A0-465F-85DE-6FDC3913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7BA7B-D386-4413-B9E7-45A71146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606C-FC57-4571-99ED-4A84796C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9DEBC-ED72-4E28-869E-409F7053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3FECE-B9D2-40E1-B9C8-56AEFDB9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1CF55-A31C-462D-ACBB-5F08964B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D9F31-500A-4B3D-9F90-FFDB97D1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D8D8A-C48D-4491-A781-D98DF30F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C9C47-D6A2-477B-B5FA-6FB3F40A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AB650-C9F7-40DD-BB4E-96AED0C8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BC4E3-045E-492E-9DFF-325E4018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B97B2-C64D-4F9A-9628-C0C3DCA1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E27CE-7DA5-4135-94D9-C0B90914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4B1-324D-4AF2-A938-AD8B5377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505C3-A5D3-4E85-9FE9-4530AFB7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9489C-6008-4D24-A3B3-3C18B8D9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2022D-C1A5-4EDF-B12B-16CA2EFB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D9081-FA1D-4C48-8E69-DC543DD0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78D8B-D446-46CF-8D23-D9F3C79C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A14CA-8B27-4497-BD64-8DC275F2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324EC-8766-491E-A9F6-E6546A0E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BA44A-5758-4525-9428-D44E4D09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078B0-B5BF-4633-887F-A813FE5D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77A01-0820-4030-85B6-B8900D57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968-44DE-4CAE-BE83-02CB54A9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0695B-2813-4981-95AB-BBBB5BC1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FD3-8E16-4DB8-9222-E7F3C61F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6408-FAF4-44C8-A0C5-F39DAD16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F2F9-80FD-4203-9CFB-7B771741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5BC2-E82F-47D4-B30A-838895678295}" type="slidenum">
              <a:rPr b="1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56EB-B578-4506-814B-D810EAF6272E}" type="slidenum">
              <a:rPr b="1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buClr>
                  <a:srgbClr val="ffffff"/>
                </a:buClr>
                <a:buFont typeface="Perpetu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16C4-9F01-4B91-841C-DB3DAD6AFC56}" type="slidenum">
              <a:rPr b="1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6BF0-CF56-4230-BBA4-4E7E59B1AFC6}" type="slidenum">
              <a:rPr b="1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36F3-9D34-4042-882D-53EB85D1A5F7}" type="slidenum">
              <a:rPr b="1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347760"/>
            <a:ext cx="8229600" cy="1504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Franklin Gothic Book"/>
              </a:rPr>
              <a:t>   </a:t>
            </a:r>
            <a:r>
              <a:rPr b="1" lang="en-US" sz="3200" spc="-1" strike="noStrike">
                <a:solidFill>
                  <a:srgbClr val="cc3300"/>
                </a:solidFill>
                <a:latin typeface="Franklin Gothic Book"/>
              </a:rPr>
              <a:t>CE  424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Franklin Gothic Book"/>
              </a:rPr>
              <a:t>HYDROLOGY 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434880" y="4299840"/>
            <a:ext cx="360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or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 Saleh A. AlHasso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tretch/>
        </p:blipFill>
        <p:spPr>
          <a:xfrm>
            <a:off x="285840" y="2425680"/>
            <a:ext cx="8126280" cy="145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Object 5"/>
          <p:cNvGraphicFramePr/>
          <p:nvPr/>
        </p:nvGraphicFramePr>
        <p:xfrm>
          <a:off x="4281480" y="1335240"/>
          <a:ext cx="4433760" cy="33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1480" y="1335240"/>
                    <a:ext cx="443376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612720" y="222120"/>
            <a:ext cx="8074080" cy="632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Perpetua"/>
              </a:rPr>
              <a:t>Solution 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Losses =   157,000 - 72,000 =  85,500 m3 =  Water not available to runoff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The water budget equation for the catchment in a time Δt  is :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                              </a:t>
            </a:r>
            <a:r>
              <a:rPr b="1" lang="en-US" sz="1800" spc="-1" strike="noStrike">
                <a:solidFill>
                  <a:srgbClr val="0033cc"/>
                </a:solidFill>
                <a:latin typeface="Perpetua"/>
              </a:rPr>
              <a:t>P -R -G -E -T = Δ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Take   Δt = Duration of Runoff  = 10 hour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Rainfall occurred in 90 minutes and the rest (8.5 hours) the precipitation was zero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1" lang="el-GR" sz="1600" spc="-1" strike="noStrike">
                <a:solidFill>
                  <a:srgbClr val="000000"/>
                </a:solidFill>
                <a:latin typeface="Cambria"/>
              </a:rPr>
              <a:t>Δ</a:t>
            </a: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S = 0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9240c"/>
                </a:solidFill>
                <a:latin typeface="Perpetua"/>
              </a:rPr>
              <a:t>1.       </a:t>
            </a:r>
            <a:r>
              <a:rPr b="1" lang="en-US" sz="1600" spc="-1" strike="noStrike">
                <a:solidFill>
                  <a:srgbClr val="0033cc"/>
                </a:solidFill>
                <a:latin typeface="Perpetua"/>
              </a:rPr>
              <a:t>G + E + T </a:t>
            </a: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= water not available to runoff  = Losses  = </a:t>
            </a:r>
            <a:r>
              <a:rPr b="1" lang="en-US" sz="1600" spc="-1" strike="noStrike">
                <a:solidFill>
                  <a:srgbClr val="0033cc"/>
                </a:solidFill>
                <a:latin typeface="Perpetu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Hence  :     </a:t>
            </a:r>
            <a:r>
              <a:rPr b="1" lang="en-US" sz="1600" spc="-1" strike="noStrike">
                <a:solidFill>
                  <a:srgbClr val="0033cc"/>
                </a:solidFill>
                <a:latin typeface="Perpetua"/>
              </a:rPr>
              <a:t>P - R = L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Perpetu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 = Precipitation     = 150x100x100x10.5/100 = 157,500 m</a:t>
            </a: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Perpetua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 = Runoff volume = 2.0x10x60x60= 72,000 m</a:t>
            </a: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9240c"/>
                </a:solidFill>
                <a:latin typeface="Perpetua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     Runoff/rainfall =  72,000/157,500  =  0.457      or   </a:t>
            </a:r>
            <a:r>
              <a:rPr b="1" lang="en-US" sz="1600" spc="-1" strike="noStrike">
                <a:solidFill>
                  <a:srgbClr val="69240c"/>
                </a:solidFill>
                <a:latin typeface="Perpetua"/>
              </a:rPr>
              <a:t>45.7%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50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Franklin Gothic Book"/>
              </a:rPr>
              <a:t>1.4. World Water Distribution :</a:t>
            </a: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87440" y="1352520"/>
            <a:ext cx="822960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cean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Perpetua"/>
              </a:rPr>
              <a:t>96.5 %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of total wa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can cover Earth to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2.6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km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aline water on land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Perpetua"/>
              </a:rPr>
              <a:t>1%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f total wa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resh: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2.5 %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of total wa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olar Ic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Perpetua"/>
              </a:rPr>
              <a:t>68.6 %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of fresh water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2/3 of total Fresh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roundwater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Perpetua"/>
              </a:rPr>
              <a:t>30.1 %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of fresh wa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akes &amp; River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Perpetua"/>
              </a:rPr>
              <a:t>0.266 %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of fresh wa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Oval 6"/>
          <p:cNvSpPr/>
          <p:nvPr/>
        </p:nvSpPr>
        <p:spPr>
          <a:xfrm>
            <a:off x="7386480" y="1263600"/>
            <a:ext cx="676440" cy="58104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7"/>
          <p:cNvSpPr/>
          <p:nvPr/>
        </p:nvSpPr>
        <p:spPr>
          <a:xfrm>
            <a:off x="7085160" y="1049400"/>
            <a:ext cx="1295280" cy="141588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8"/>
          <p:cNvSpPr/>
          <p:nvPr/>
        </p:nvSpPr>
        <p:spPr>
          <a:xfrm>
            <a:off x="7354800" y="1359000"/>
            <a:ext cx="755640" cy="8031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34880" y="274680"/>
            <a:ext cx="8251920" cy="66816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Franklin Gothic Book"/>
              </a:rPr>
              <a:t>Global Water Balance :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71240" y="1309680"/>
            <a:ext cx="84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Global Average Precipitation (per year)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ean (70.8 %)  and  Land  (29.2%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1270 mm x 0.708  +  800 mm x 0.292 =  </a:t>
            </a: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1132  mm/yr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60 % of Land Precip. will be Evap. (i.e. 60%X800 = 480 mm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Global Average Evaporation (per year)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1400 mm x 0.708  + 480 mm x 0.292  = </a:t>
            </a: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1132  mm/yr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Total Runoff to ocean = 316  mm/yr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182520" y="2300400"/>
            <a:ext cx="482760" cy="428400"/>
          </a:xfrm>
          <a:prstGeom prst="rightArrow">
            <a:avLst>
              <a:gd name="adj1" fmla="val 50000"/>
              <a:gd name="adj2" fmla="val 28172"/>
            </a:avLst>
          </a:prstGeom>
          <a:solidFill>
            <a:srgbClr val="9b2d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241200" y="4230720"/>
            <a:ext cx="482760" cy="428760"/>
          </a:xfrm>
          <a:prstGeom prst="rightArrow">
            <a:avLst>
              <a:gd name="adj1" fmla="val 50000"/>
              <a:gd name="adj2" fmla="val 28195"/>
            </a:avLst>
          </a:prstGeom>
          <a:solidFill>
            <a:srgbClr val="9b2d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"/>
          <p:cNvSpPr/>
          <p:nvPr/>
        </p:nvSpPr>
        <p:spPr>
          <a:xfrm>
            <a:off x="262080" y="5303880"/>
            <a:ext cx="501480" cy="476280"/>
          </a:xfrm>
          <a:prstGeom prst="rightArrow">
            <a:avLst>
              <a:gd name="adj1" fmla="val 50000"/>
              <a:gd name="adj2" fmla="val 28224"/>
            </a:avLst>
          </a:prstGeom>
          <a:solidFill>
            <a:srgbClr val="9b2d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10332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Franklin Gothic Book"/>
              </a:rPr>
              <a:t>1.6. Application in Engineering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42920" y="517680"/>
            <a:ext cx="9223200" cy="63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ydr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eeded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water resources engineer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as those for irrigation, water supply, flood control, water power and navig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More specific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ampl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669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capacity of storage structures such as reservoi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669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magnitude of flood flows to enable safe disposal of excess f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669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loodplain analysis and deline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669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minimum flow and quantity of flow available at various seas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669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rosion and sediment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669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interaction of the flood wave and hydraulic structures, such as levees, reservoirs, and brid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6692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►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hydrologic study should of necessity precede structural and other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etailed design stud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Franklin Gothic Book"/>
              </a:rPr>
              <a:t>1.7. Sources of Data 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501480" y="1916280"/>
            <a:ext cx="826164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e data normally requir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ther records ( temperature, humidity, wind speed)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pitation data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-flow record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poration and transpiration data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tration characteristics of the area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water characteristic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nd geological characteristics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9960" y="1179000"/>
            <a:ext cx="84772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-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Perpetua"/>
              </a:rPr>
              <a:t>Hydrolog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 is the science of water in all its types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91120" indent="-591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91120" indent="-59112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It is the science that deals with the occurrence, circulation, and distribution of water of the earth and earth’s atmosphere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91120" indent="-59112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It is concerned with water in streams and lakes, rainfall and snowfall, snow and ice on the land, and groundwater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91120" indent="-59112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It is of inter-disciplinary nature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378000" y="282600"/>
            <a:ext cx="3135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.1 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28760" y="1208160"/>
            <a:ext cx="847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In general,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Perpetua"/>
              </a:rPr>
              <a:t>hydrolog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 deals with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78880" indent="-578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Estimation of water resources(supply &amp;demand)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78880" indent="-578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The study of processes such as precipitation, runoff, evapotranspiration and their interaction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78880" indent="-578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The study of  water problems such as floods and droughts and strategies to combat them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78880" indent="-578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Planning, design, and operation of Hydraulic Structures for control and use of  Water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90520" y="573120"/>
            <a:ext cx="4476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.1 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217440" y="239760"/>
            <a:ext cx="4476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.2. Hydrologic Cyc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2567160" y="2598840"/>
            <a:ext cx="682560" cy="3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4761000" y="2397240"/>
            <a:ext cx="6825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527720" y="3195720"/>
            <a:ext cx="68256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7067520" y="3456000"/>
            <a:ext cx="68256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7488360" y="2629080"/>
            <a:ext cx="6825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3003480" y="3368520"/>
            <a:ext cx="68256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612880" y="2905200"/>
            <a:ext cx="68292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6867360" y="5548320"/>
            <a:ext cx="68292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5"/>
          <p:cNvGraphicFramePr/>
          <p:nvPr/>
        </p:nvGraphicFramePr>
        <p:xfrm>
          <a:off x="412920" y="806400"/>
          <a:ext cx="8350200" cy="54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806400"/>
                    <a:ext cx="835020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- Hydrologic Cycle Processe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Slide Number Placeholder 3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5826240" y="2935440"/>
            <a:ext cx="1638360" cy="618840"/>
          </a:xfrm>
          <a:prstGeom prst="rect">
            <a:avLst/>
          </a:prstGeom>
          <a:noFill/>
          <a:ln w="2844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886360" y="303516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face W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3944880" y="2938320"/>
            <a:ext cx="1577880" cy="792360"/>
          </a:xfrm>
          <a:prstGeom prst="rect">
            <a:avLst/>
          </a:prstGeom>
          <a:noFill/>
          <a:ln w="2844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175640" y="331164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il w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3946680" y="1795320"/>
            <a:ext cx="3506760" cy="621000"/>
          </a:xfrm>
          <a:prstGeom prst="rect">
            <a:avLst/>
          </a:prstGeom>
          <a:noFill/>
          <a:ln w="2844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589640" y="187164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mospheric w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4238640" y="4070520"/>
            <a:ext cx="2922480" cy="620640"/>
          </a:xfrm>
          <a:prstGeom prst="rect">
            <a:avLst/>
          </a:prstGeom>
          <a:noFill/>
          <a:ln w="2844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5039640" y="418140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ndwat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2"/>
          <p:cNvSpPr/>
          <p:nvPr/>
        </p:nvSpPr>
        <p:spPr>
          <a:xfrm>
            <a:off x="4238640" y="2416320"/>
            <a:ext cx="117360" cy="517320"/>
          </a:xfrm>
          <a:prstGeom prst="downArrow">
            <a:avLst>
              <a:gd name="adj1" fmla="val 50000"/>
              <a:gd name="adj2" fmla="val 11019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3"/>
          <p:cNvSpPr/>
          <p:nvPr/>
        </p:nvSpPr>
        <p:spPr>
          <a:xfrm>
            <a:off x="6049800" y="2416320"/>
            <a:ext cx="117720" cy="517320"/>
          </a:xfrm>
          <a:prstGeom prst="downArrow">
            <a:avLst>
              <a:gd name="adj1" fmla="val 50000"/>
              <a:gd name="adj2" fmla="val 10986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4"/>
          <p:cNvSpPr/>
          <p:nvPr/>
        </p:nvSpPr>
        <p:spPr>
          <a:xfrm>
            <a:off x="5114880" y="2416320"/>
            <a:ext cx="117360" cy="517320"/>
          </a:xfrm>
          <a:prstGeom prst="upArrow">
            <a:avLst>
              <a:gd name="adj1" fmla="val 50000"/>
              <a:gd name="adj2" fmla="val 11019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5"/>
          <p:cNvSpPr/>
          <p:nvPr/>
        </p:nvSpPr>
        <p:spPr>
          <a:xfrm>
            <a:off x="6927840" y="2416320"/>
            <a:ext cx="115920" cy="517320"/>
          </a:xfrm>
          <a:prstGeom prst="upArrow">
            <a:avLst>
              <a:gd name="adj1" fmla="val 50000"/>
              <a:gd name="adj2" fmla="val 11156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6"/>
          <p:cNvSpPr/>
          <p:nvPr/>
        </p:nvSpPr>
        <p:spPr>
          <a:xfrm>
            <a:off x="4707000" y="3727440"/>
            <a:ext cx="115920" cy="343080"/>
          </a:xfrm>
          <a:prstGeom prst="downArrow">
            <a:avLst>
              <a:gd name="adj1" fmla="val 50000"/>
              <a:gd name="adj2" fmla="val 73991"/>
            </a:avLst>
          </a:prstGeom>
          <a:solidFill>
            <a:srgbClr val="9b2d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7"/>
          <p:cNvSpPr/>
          <p:nvPr/>
        </p:nvSpPr>
        <p:spPr>
          <a:xfrm>
            <a:off x="6049800" y="3552840"/>
            <a:ext cx="117720" cy="517680"/>
          </a:xfrm>
          <a:prstGeom prst="downArrow">
            <a:avLst>
              <a:gd name="adj1" fmla="val 50000"/>
              <a:gd name="adj2" fmla="val 109939"/>
            </a:avLst>
          </a:prstGeom>
          <a:solidFill>
            <a:srgbClr val="9b2d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6810480" y="3552840"/>
            <a:ext cx="117360" cy="517680"/>
          </a:xfrm>
          <a:prstGeom prst="upArrow">
            <a:avLst>
              <a:gd name="adj1" fmla="val 50000"/>
              <a:gd name="adj2" fmla="val 110276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9"/>
          <p:cNvSpPr/>
          <p:nvPr/>
        </p:nvSpPr>
        <p:spPr>
          <a:xfrm>
            <a:off x="5538960" y="3046320"/>
            <a:ext cx="291960" cy="104760"/>
          </a:xfrm>
          <a:prstGeom prst="rightArrow">
            <a:avLst>
              <a:gd name="adj1" fmla="val 50000"/>
              <a:gd name="adj2" fmla="val 696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0"/>
          <p:cNvSpPr/>
          <p:nvPr/>
        </p:nvSpPr>
        <p:spPr>
          <a:xfrm>
            <a:off x="896760" y="232884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1"/>
          <p:cNvSpPr/>
          <p:nvPr/>
        </p:nvSpPr>
        <p:spPr>
          <a:xfrm>
            <a:off x="882720" y="284796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2"/>
          <p:cNvSpPr/>
          <p:nvPr/>
        </p:nvSpPr>
        <p:spPr>
          <a:xfrm>
            <a:off x="861840" y="395136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3"/>
          <p:cNvSpPr/>
          <p:nvPr/>
        </p:nvSpPr>
        <p:spPr>
          <a:xfrm>
            <a:off x="819000" y="446256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9b2d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4"/>
          <p:cNvSpPr/>
          <p:nvPr/>
        </p:nvSpPr>
        <p:spPr>
          <a:xfrm>
            <a:off x="833400" y="505476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1126440" y="164304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2d1f"/>
                </a:solidFill>
                <a:latin typeface="Times New Roman"/>
              </a:rPr>
              <a:t>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1372320" y="2173320"/>
            <a:ext cx="2471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ipitation ;  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poration  ;  E , 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iltration    ; 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face Runoff ; Q or 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ndwater Recharg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ercolation) ; q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flow   ; 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7"/>
          <p:cNvSpPr/>
          <p:nvPr/>
        </p:nvSpPr>
        <p:spPr>
          <a:xfrm>
            <a:off x="5079960" y="5319720"/>
            <a:ext cx="992160" cy="460440"/>
          </a:xfrm>
          <a:prstGeom prst="rect">
            <a:avLst/>
          </a:prstGeom>
          <a:noFill/>
          <a:ln w="2844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8"/>
          <p:cNvSpPr/>
          <p:nvPr/>
        </p:nvSpPr>
        <p:spPr>
          <a:xfrm>
            <a:off x="6206040" y="53020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2d1f"/>
                </a:solidFill>
                <a:latin typeface="Times New Roman"/>
              </a:rPr>
              <a:t>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9"/>
          <p:cNvSpPr/>
          <p:nvPr/>
        </p:nvSpPr>
        <p:spPr>
          <a:xfrm>
            <a:off x="623880" y="4397400"/>
            <a:ext cx="3149640" cy="900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0"/>
          <p:cNvSpPr/>
          <p:nvPr/>
        </p:nvSpPr>
        <p:spPr>
          <a:xfrm flipH="1">
            <a:off x="3963960" y="3251160"/>
            <a:ext cx="15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1"/>
          <p:cNvSpPr/>
          <p:nvPr/>
        </p:nvSpPr>
        <p:spPr>
          <a:xfrm>
            <a:off x="4146480" y="29192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d Surfa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2"/>
          <p:cNvSpPr/>
          <p:nvPr/>
        </p:nvSpPr>
        <p:spPr>
          <a:xfrm>
            <a:off x="4003560" y="3084480"/>
            <a:ext cx="174600" cy="401760"/>
          </a:xfrm>
          <a:prstGeom prst="downArrow">
            <a:avLst>
              <a:gd name="adj1" fmla="val 50000"/>
              <a:gd name="adj2" fmla="val 5752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3"/>
          <p:cNvSpPr/>
          <p:nvPr/>
        </p:nvSpPr>
        <p:spPr>
          <a:xfrm>
            <a:off x="896760" y="3414600"/>
            <a:ext cx="381240" cy="152640"/>
          </a:xfrm>
          <a:prstGeom prst="rightArrow">
            <a:avLst>
              <a:gd name="adj1" fmla="val 50000"/>
              <a:gd name="adj2" fmla="val 6244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0600" y="1044720"/>
            <a:ext cx="5241960" cy="474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3300"/>
                </a:solidFill>
                <a:latin typeface="Franklin Gothic Book"/>
              </a:rPr>
              <a:t>Catchment Area or Watershed?</a:t>
            </a:r>
            <a:r>
              <a:rPr b="1" lang="en-US" sz="3600" spc="-1" strike="noStrike">
                <a:solidFill>
                  <a:srgbClr val="cc3300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Slide Number Placeholder 3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41200" y="1784520"/>
            <a:ext cx="8229600" cy="22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Perpetua"/>
              </a:rPr>
              <a:t>Catchment area or drainage basin or river basin or watershed is defined as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area drained by a stream or a system of connecting streams such that the surface runoff originating in this area leaves the area in concentrated flow through a single outlet. 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Rectangle 36"/>
          <p:cNvSpPr/>
          <p:nvPr/>
        </p:nvSpPr>
        <p:spPr>
          <a:xfrm>
            <a:off x="457200" y="187200"/>
            <a:ext cx="82296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.3. Water Budge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9"/>
          <p:cNvGrpSpPr/>
          <p:nvPr/>
        </p:nvGrpSpPr>
        <p:grpSpPr>
          <a:xfrm>
            <a:off x="1173240" y="3646440"/>
            <a:ext cx="6524640" cy="2986200"/>
            <a:chOff x="1173240" y="3646440"/>
            <a:chExt cx="6524640" cy="2986200"/>
          </a:xfrm>
        </p:grpSpPr>
        <p:sp>
          <p:nvSpPr>
            <p:cNvPr id="289" name="Freeform 4"/>
            <p:cNvSpPr/>
            <p:nvPr/>
          </p:nvSpPr>
          <p:spPr>
            <a:xfrm>
              <a:off x="1901880" y="4373640"/>
              <a:ext cx="3986280" cy="1484280"/>
            </a:xfrm>
            <a:prstGeom prst="pie">
              <a:avLst/>
            </a:pr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                                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>
              <a:off x="1846440" y="5043600"/>
              <a:ext cx="1160280" cy="183960"/>
            </a:xfrm>
            <a:prstGeom prst="pie">
              <a:avLst/>
            </a:pr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7"/>
            <p:cNvSpPr/>
            <p:nvPr/>
          </p:nvSpPr>
          <p:spPr>
            <a:xfrm>
              <a:off x="3230640" y="4229280"/>
              <a:ext cx="606240" cy="1063440"/>
            </a:xfrm>
            <a:prstGeom prst="pie">
              <a:avLst/>
            </a:pr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"/>
            <p:cNvSpPr/>
            <p:nvPr/>
          </p:nvSpPr>
          <p:spPr>
            <a:xfrm>
              <a:off x="3049560" y="4503600"/>
              <a:ext cx="390600" cy="184320"/>
            </a:xfrm>
            <a:prstGeom prst="pie">
              <a:avLst/>
            </a:pr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3552840" y="4570560"/>
              <a:ext cx="131760" cy="438120"/>
            </a:xfrm>
            <a:prstGeom prst="pie">
              <a:avLst/>
            </a:pr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1"/>
            <p:cNvSpPr/>
            <p:nvPr/>
          </p:nvSpPr>
          <p:spPr>
            <a:xfrm>
              <a:off x="4532400" y="4465800"/>
              <a:ext cx="503280" cy="1076040"/>
            </a:xfrm>
            <a:prstGeom prst="pie">
              <a:avLst/>
            </a:pr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3"/>
            <p:cNvSpPr/>
            <p:nvPr/>
          </p:nvSpPr>
          <p:spPr>
            <a:xfrm>
              <a:off x="4672080" y="4491000"/>
              <a:ext cx="147600" cy="498600"/>
            </a:xfrm>
            <a:prstGeom prst="pie">
              <a:avLst/>
            </a:pr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4"/>
            <p:cNvSpPr/>
            <p:nvPr/>
          </p:nvSpPr>
          <p:spPr>
            <a:xfrm>
              <a:off x="4362480" y="4834080"/>
              <a:ext cx="338040" cy="366480"/>
            </a:xfrm>
            <a:prstGeom prst="pie">
              <a:avLst/>
            </a:pr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5"/>
            <p:cNvSpPr/>
            <p:nvPr/>
          </p:nvSpPr>
          <p:spPr>
            <a:xfrm>
              <a:off x="2741760" y="5280120"/>
              <a:ext cx="1579320" cy="1089000"/>
            </a:xfrm>
            <a:prstGeom prst="pie">
              <a:avLst/>
            </a:pr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"/>
            <p:cNvSpPr/>
            <p:nvPr/>
          </p:nvSpPr>
          <p:spPr>
            <a:xfrm>
              <a:off x="2867040" y="6067440"/>
              <a:ext cx="604800" cy="131760"/>
            </a:xfrm>
            <a:prstGeom prst="pie">
              <a:avLst/>
            </a:pr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8"/>
            <p:cNvSpPr/>
            <p:nvPr/>
          </p:nvSpPr>
          <p:spPr>
            <a:xfrm>
              <a:off x="2894040" y="6226200"/>
              <a:ext cx="285840" cy="368280"/>
            </a:xfrm>
            <a:prstGeom prst="pie">
              <a:avLst/>
            </a:pr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9"/>
            <p:cNvSpPr/>
            <p:nvPr/>
          </p:nvSpPr>
          <p:spPr>
            <a:xfrm>
              <a:off x="1411200" y="3646440"/>
              <a:ext cx="4229280" cy="2986200"/>
            </a:xfrm>
            <a:prstGeom prst="pie">
              <a:avLst/>
            </a:pr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3"/>
            <p:cNvSpPr/>
            <p:nvPr/>
          </p:nvSpPr>
          <p:spPr>
            <a:xfrm>
              <a:off x="1425600" y="5148360"/>
              <a:ext cx="1636560" cy="67140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4"/>
            <p:cNvSpPr/>
            <p:nvPr/>
          </p:nvSpPr>
          <p:spPr>
            <a:xfrm>
              <a:off x="1789200" y="3746520"/>
              <a:ext cx="1361880" cy="138888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5"/>
            <p:cNvSpPr/>
            <p:nvPr/>
          </p:nvSpPr>
          <p:spPr>
            <a:xfrm>
              <a:off x="5510160" y="5580000"/>
              <a:ext cx="139680" cy="81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6"/>
            <p:cNvSpPr/>
            <p:nvPr/>
          </p:nvSpPr>
          <p:spPr>
            <a:xfrm>
              <a:off x="3035160" y="5081760"/>
              <a:ext cx="139680" cy="80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7"/>
            <p:cNvSpPr/>
            <p:nvPr/>
          </p:nvSpPr>
          <p:spPr>
            <a:xfrm>
              <a:off x="5794200" y="4900680"/>
              <a:ext cx="1903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eam Outlet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 Station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8"/>
            <p:cNvSpPr/>
            <p:nvPr/>
          </p:nvSpPr>
          <p:spPr>
            <a:xfrm flipH="1">
              <a:off x="5594040" y="5253120"/>
              <a:ext cx="517320" cy="341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9"/>
            <p:cNvSpPr/>
            <p:nvPr/>
          </p:nvSpPr>
          <p:spPr>
            <a:xfrm>
              <a:off x="5440320" y="3875040"/>
              <a:ext cx="19033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tchment boundary o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watershed or divid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e site at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0"/>
            <p:cNvSpPr/>
            <p:nvPr/>
          </p:nvSpPr>
          <p:spPr>
            <a:xfrm flipH="1">
              <a:off x="5217840" y="4214880"/>
              <a:ext cx="517320" cy="342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1"/>
            <p:cNvSpPr/>
            <p:nvPr/>
          </p:nvSpPr>
          <p:spPr>
            <a:xfrm>
              <a:off x="2768760" y="5541840"/>
              <a:ext cx="13730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eam Outlet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2"/>
            <p:cNvSpPr/>
            <p:nvPr/>
          </p:nvSpPr>
          <p:spPr>
            <a:xfrm flipH="1" flipV="1">
              <a:off x="3092040" y="5186520"/>
              <a:ext cx="12600" cy="420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33"/>
            <p:cNvSpPr/>
            <p:nvPr/>
          </p:nvSpPr>
          <p:spPr>
            <a:xfrm>
              <a:off x="1173240" y="5307120"/>
              <a:ext cx="14558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tchment boundary for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site at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4"/>
            <p:cNvSpPr/>
            <p:nvPr/>
          </p:nvSpPr>
          <p:spPr>
            <a:xfrm>
              <a:off x="2292480" y="5464080"/>
              <a:ext cx="350640" cy="144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7"/>
            <p:cNvSpPr/>
            <p:nvPr/>
          </p:nvSpPr>
          <p:spPr>
            <a:xfrm>
              <a:off x="3989520" y="5899320"/>
              <a:ext cx="9604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ibutary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38"/>
            <p:cNvSpPr/>
            <p:nvPr/>
          </p:nvSpPr>
          <p:spPr>
            <a:xfrm flipH="1">
              <a:off x="3614400" y="6124680"/>
              <a:ext cx="492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Franklin Gothic Book"/>
              </a:rPr>
              <a:t>Water budget equ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Slide Number Placeholder 1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325520"/>
            <a:ext cx="8475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Hydrologic analysis for various applications and models begins with the system concept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555840" y="968400"/>
            <a:ext cx="296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System Concep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9"/>
          <p:cNvGrpSpPr/>
          <p:nvPr/>
        </p:nvGrpSpPr>
        <p:grpSpPr>
          <a:xfrm>
            <a:off x="585720" y="2482920"/>
            <a:ext cx="6956280" cy="1553760"/>
            <a:chOff x="585720" y="2482920"/>
            <a:chExt cx="6956280" cy="1553760"/>
          </a:xfrm>
        </p:grpSpPr>
        <p:sp>
          <p:nvSpPr>
            <p:cNvPr id="320" name="Text Box 5"/>
            <p:cNvSpPr/>
            <p:nvPr/>
          </p:nvSpPr>
          <p:spPr>
            <a:xfrm>
              <a:off x="3016080" y="3112920"/>
              <a:ext cx="2162160" cy="9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PERATOR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6"/>
            <p:cNvSpPr/>
            <p:nvPr/>
          </p:nvSpPr>
          <p:spPr>
            <a:xfrm>
              <a:off x="585720" y="3328560"/>
              <a:ext cx="1747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PUT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2390760" y="3560760"/>
              <a:ext cx="63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8"/>
            <p:cNvSpPr/>
            <p:nvPr/>
          </p:nvSpPr>
          <p:spPr>
            <a:xfrm>
              <a:off x="5178240" y="3574080"/>
              <a:ext cx="54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9"/>
            <p:cNvSpPr/>
            <p:nvPr/>
          </p:nvSpPr>
          <p:spPr>
            <a:xfrm>
              <a:off x="5815080" y="3408120"/>
              <a:ext cx="172692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TPUT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0"/>
            <p:cNvSpPr/>
            <p:nvPr/>
          </p:nvSpPr>
          <p:spPr>
            <a:xfrm>
              <a:off x="4941720" y="2482920"/>
              <a:ext cx="2421000" cy="2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ystem Boundar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 flipH="1">
              <a:off x="4235400" y="2804400"/>
              <a:ext cx="111456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12"/>
          <p:cNvSpPr/>
          <p:nvPr/>
        </p:nvSpPr>
        <p:spPr>
          <a:xfrm>
            <a:off x="-745920" y="3186720"/>
            <a:ext cx="106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Rectangle 20" descr=""/>
          <p:cNvPicPr/>
          <p:nvPr/>
        </p:nvPicPr>
        <p:blipFill>
          <a:blip r:embed="rId1"/>
          <a:stretch/>
        </p:blipFill>
        <p:spPr>
          <a:xfrm>
            <a:off x="500040" y="4267080"/>
            <a:ext cx="8406000" cy="10242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1"/>
          <p:cNvSpPr/>
          <p:nvPr/>
        </p:nvSpPr>
        <p:spPr>
          <a:xfrm>
            <a:off x="876600" y="5816880"/>
            <a:ext cx="43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  =  inflow volume per unit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  =  outflow per unit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4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Franklin Gothic Book"/>
              </a:rPr>
              <a:t>Typical Water Budget System Components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Slide Number Placeholder 2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144"/>
          <p:cNvGrpSpPr/>
          <p:nvPr/>
        </p:nvGrpSpPr>
        <p:grpSpPr>
          <a:xfrm>
            <a:off x="552600" y="1208160"/>
            <a:ext cx="4327560" cy="3022200"/>
            <a:chOff x="552600" y="1208160"/>
            <a:chExt cx="4327560" cy="3022200"/>
          </a:xfrm>
        </p:grpSpPr>
        <p:sp>
          <p:nvSpPr>
            <p:cNvPr id="333" name="Freeform 85"/>
            <p:cNvSpPr/>
            <p:nvPr/>
          </p:nvSpPr>
          <p:spPr>
            <a:xfrm>
              <a:off x="577440" y="1355400"/>
              <a:ext cx="3699360" cy="2408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6"/>
            <p:cNvSpPr/>
            <p:nvPr/>
          </p:nvSpPr>
          <p:spPr>
            <a:xfrm>
              <a:off x="552600" y="2946240"/>
              <a:ext cx="3732120" cy="1284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89"/>
            <p:cNvSpPr/>
            <p:nvPr/>
          </p:nvSpPr>
          <p:spPr>
            <a:xfrm>
              <a:off x="1834920" y="2872800"/>
              <a:ext cx="465120" cy="90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91"/>
            <p:cNvSpPr/>
            <p:nvPr/>
          </p:nvSpPr>
          <p:spPr>
            <a:xfrm>
              <a:off x="4088880" y="3602160"/>
              <a:ext cx="384120" cy="907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93"/>
            <p:cNvSpPr/>
            <p:nvPr/>
          </p:nvSpPr>
          <p:spPr>
            <a:xfrm>
              <a:off x="1106640" y="1278720"/>
              <a:ext cx="63720" cy="6584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94"/>
            <p:cNvSpPr/>
            <p:nvPr/>
          </p:nvSpPr>
          <p:spPr>
            <a:xfrm>
              <a:off x="2551320" y="1491840"/>
              <a:ext cx="63720" cy="7617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00"/>
            <p:cNvSpPr/>
            <p:nvPr/>
          </p:nvSpPr>
          <p:spPr>
            <a:xfrm>
              <a:off x="1621440" y="2614680"/>
              <a:ext cx="85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03"/>
            <p:cNvSpPr/>
            <p:nvPr/>
          </p:nvSpPr>
          <p:spPr>
            <a:xfrm>
              <a:off x="1224360" y="1249560"/>
              <a:ext cx="17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04"/>
            <p:cNvSpPr/>
            <p:nvPr/>
          </p:nvSpPr>
          <p:spPr>
            <a:xfrm>
              <a:off x="1109880" y="1208160"/>
              <a:ext cx="73404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14"/>
            <p:cNvSpPr/>
            <p:nvPr/>
          </p:nvSpPr>
          <p:spPr>
            <a:xfrm>
              <a:off x="2663640" y="1422720"/>
              <a:ext cx="211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24"/>
            <p:cNvSpPr/>
            <p:nvPr/>
          </p:nvSpPr>
          <p:spPr>
            <a:xfrm>
              <a:off x="4008960" y="3769920"/>
              <a:ext cx="87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27"/>
            <p:cNvSpPr/>
            <p:nvPr/>
          </p:nvSpPr>
          <p:spPr>
            <a:xfrm>
              <a:off x="3333240" y="163008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34"/>
            <p:cNvSpPr/>
            <p:nvPr/>
          </p:nvSpPr>
          <p:spPr>
            <a:xfrm>
              <a:off x="3214080" y="1812960"/>
              <a:ext cx="65160" cy="4420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Rectangle 145"/>
          <p:cNvSpPr/>
          <p:nvPr/>
        </p:nvSpPr>
        <p:spPr>
          <a:xfrm>
            <a:off x="1263600" y="4691160"/>
            <a:ext cx="682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P  -  R  -  G  -  E  -  T  =  </a:t>
            </a:r>
            <a:r>
              <a:rPr b="1" lang="en-US" sz="3200" spc="-1" strike="noStrike">
                <a:solidFill>
                  <a:srgbClr val="696464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P/ </a:t>
            </a:r>
            <a:r>
              <a:rPr b="1" lang="en-US" sz="3200" spc="-1" strike="noStrike">
                <a:solidFill>
                  <a:srgbClr val="696464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t – Qs – Qg – ET/ </a:t>
            </a:r>
            <a:r>
              <a:rPr b="1" lang="en-US" sz="3200" spc="-1" strike="noStrike">
                <a:solidFill>
                  <a:srgbClr val="696464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t = </a:t>
            </a:r>
            <a:r>
              <a:rPr b="1" lang="en-US" sz="3200" spc="-1" strike="noStrike">
                <a:solidFill>
                  <a:srgbClr val="696464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S/ </a:t>
            </a:r>
            <a:r>
              <a:rPr b="1" lang="en-US" sz="3200" spc="-1" strike="noStrike">
                <a:solidFill>
                  <a:srgbClr val="696464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t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46"/>
          <p:cNvSpPr/>
          <p:nvPr/>
        </p:nvSpPr>
        <p:spPr>
          <a:xfrm>
            <a:off x="4903920" y="1238400"/>
            <a:ext cx="394164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P = precipi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E = evaporatio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T = transpir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R = Surface runof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G = net groundwater fl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S = change in stora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742217"/>
                </a:solidFill>
                <a:latin typeface="Arial"/>
              </a:rPr>
              <a:t>Qs =  R/ </a:t>
            </a:r>
            <a:r>
              <a:rPr b="1" lang="en-US" sz="2400" spc="-1" strike="noStrike">
                <a:solidFill>
                  <a:srgbClr val="742217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742217"/>
                </a:solidFill>
                <a:latin typeface="Arial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42217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742217"/>
                </a:solidFill>
                <a:latin typeface="Arial"/>
              </a:rPr>
              <a:t>Qg = G/ </a:t>
            </a:r>
            <a:r>
              <a:rPr b="1" lang="en-US" sz="2400" spc="-1" strike="noStrike">
                <a:solidFill>
                  <a:srgbClr val="742217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742217"/>
                </a:solidFill>
                <a:latin typeface="Arial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612720" y="230040"/>
            <a:ext cx="8253360" cy="59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Perpetua"/>
              </a:rPr>
              <a:t>Example 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small catchment of area  </a:t>
            </a:r>
            <a:r>
              <a:rPr b="0" lang="en-US" sz="2800" spc="-1" strike="noStrike">
                <a:solidFill>
                  <a:srgbClr val="0066ff"/>
                </a:solidFill>
                <a:latin typeface="Perpetua"/>
              </a:rPr>
              <a:t>150 ha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received a rainfall  of  </a:t>
            </a:r>
            <a:r>
              <a:rPr b="0" lang="en-US" sz="2800" spc="-1" strike="noStrike">
                <a:solidFill>
                  <a:srgbClr val="0066ff"/>
                </a:solidFill>
                <a:latin typeface="Perpetua"/>
              </a:rPr>
              <a:t>105 mm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 </a:t>
            </a:r>
            <a:r>
              <a:rPr b="0" lang="en-US" sz="2800" spc="-1" strike="noStrike">
                <a:solidFill>
                  <a:srgbClr val="0066ff"/>
                </a:solidFill>
                <a:latin typeface="Perpetua"/>
              </a:rPr>
              <a:t>90 minutes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ue to a storm.  At the outlet of the catchment,  the stream draining the catchment  was dry before the storm and experienced  a  runoff  lasting  for </a:t>
            </a:r>
            <a:r>
              <a:rPr b="0" lang="en-US" sz="2800" spc="-1" strike="noStrike">
                <a:solidFill>
                  <a:srgbClr val="0066ff"/>
                </a:solidFill>
                <a:latin typeface="Perpetua"/>
              </a:rPr>
              <a:t>10 hours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ith an  average  discharge value </a:t>
            </a:r>
            <a:r>
              <a:rPr b="0" lang="en-US" sz="2800" spc="-1" strike="noStrike">
                <a:solidFill>
                  <a:srgbClr val="0066ff"/>
                </a:solidFill>
                <a:latin typeface="Perpetua"/>
              </a:rPr>
              <a:t>of 2.0 m3/sec.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 stream was again dry after the runoff event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What is the amount of water which was not available to runoff due to combined effect of infiltration,  evaporation and transpiration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What is the ratio of runoff  to precipitation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6:43:10Z</dcterms:created>
  <dc:creator>Said Ghabayen</dc:creator>
  <dc:description/>
  <dc:language>en-US</dc:language>
  <cp:lastModifiedBy>user</cp:lastModifiedBy>
  <dcterms:modified xsi:type="dcterms:W3CDTF">2011-03-06T19:22:31Z</dcterms:modified>
  <cp:revision>112</cp:revision>
  <dc:subject/>
  <dc:title>Graphical Description of Data</dc:title>
</cp:coreProperties>
</file>