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8.wmf" ContentType="image/x-wmf"/>
  <Override PartName="/ppt/media/image57.wmf" ContentType="image/x-wmf"/>
  <Override PartName="/ppt/media/image55.wmf" ContentType="image/x-wmf"/>
  <Override PartName="/ppt/media/image54.wmf" ContentType="image/x-wmf"/>
  <Override PartName="/ppt/media/image50.wmf" ContentType="image/x-wmf"/>
  <Override PartName="/ppt/media/image49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56.wmf" ContentType="image/x-wmf"/>
  <Override PartName="/ppt/media/image52.wmf" ContentType="image/x-wmf"/>
  <Override PartName="/ppt/media/image12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60.wmf" ContentType="image/x-wmf"/>
  <Override PartName="/ppt/media/image19.wmf" ContentType="image/x-wmf"/>
  <Override PartName="/ppt/media/image21.png" ContentType="image/png"/>
  <Override PartName="/ppt/media/image61.wmf" ContentType="image/x-wmf"/>
  <Override PartName="/ppt/media/image22.png" ContentType="image/png"/>
  <Override PartName="/ppt/media/image62.wmf" ContentType="image/x-wmf"/>
  <Override PartName="/ppt/media/image23.png" ContentType="image/png"/>
  <Override PartName="/ppt/media/image63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29.wmf" ContentType="image/x-wmf"/>
  <Override PartName="/ppt/media/image66.wmf" ContentType="image/x-wmf"/>
  <Override PartName="/ppt/media/image26.wmf" ContentType="image/x-wmf"/>
  <Override PartName="/ppt/media/image65.wmf" ContentType="image/x-wmf"/>
  <Override PartName="/ppt/media/image25.png" ContentType="image/png"/>
  <Override PartName="/ppt/media/image64.wmf" ContentType="image/x-wmf"/>
  <Override PartName="/ppt/media/image27.wmf" ContentType="image/x-wmf"/>
  <Override PartName="/ppt/media/image24.wmf" ContentType="image/x-wmf"/>
  <Override PartName="/ppt/media/image16.png" ContentType="image/png"/>
  <Override PartName="/ppt/media/image4.png" ContentType="image/png"/>
  <Override PartName="/ppt/media/image5.png" ContentType="image/png"/>
  <Override PartName="/ppt/media/image2.wmf" ContentType="image/x-wmf"/>
  <Override PartName="/ppt/media/image14.wmf" ContentType="image/x-wmf"/>
  <Override PartName="/ppt/media/image3.gif" ContentType="image/gif"/>
  <Override PartName="/ppt/media/image40.wmf" ContentType="image/x-wmf"/>
  <Override PartName="/ppt/media/image6.png" ContentType="image/png"/>
  <Override PartName="/ppt/media/image10.wmf" ContentType="image/x-wmf"/>
  <Override PartName="/ppt/media/image47.wmf" ContentType="image/x-wmf"/>
  <Override PartName="/ppt/media/image11.png" ContentType="image/png"/>
  <Override PartName="/ppt/media/image51.wmf" ContentType="image/x-wmf"/>
  <Override PartName="/ppt/media/image9.wmf" ContentType="image/x-wmf"/>
  <Override PartName="/ppt/media/image39.wmf" ContentType="image/x-wmf"/>
  <Override PartName="/ppt/media/image8.wmf" ContentType="image/x-wmf"/>
  <Override PartName="/ppt/media/image38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0312-A5F7-4145-9DA0-A18C08392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476D-C8EF-4725-AFE4-48A6202AD9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8F11-6F27-4C17-B03B-BA0505E37B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2923-9CAE-4685-88F1-6030F5B929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1595-C0C5-40E9-A8D1-5D8A39D478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9B61-5027-423D-894D-78758A2F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EEB4-2AAE-457B-A3F1-26665BDB8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A7D8-71A8-411C-AE98-C4DCDB1CA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A293-4657-4E33-BD33-86E17DD08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C61C-6DF7-4751-AF5D-5B9A44A93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CD2-5972-4B5B-A26C-81EEC51EE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A979-5FE0-47AB-8C17-4B0DE087E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A2B9-CDBE-43A2-A74E-3EEFA4043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F484-BEB8-400A-BD16-A89A24083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A66D-D446-41A1-9441-016D1D18A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09DC-BABB-4668-BCD4-780A46677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A79A-E66F-4090-BA81-4EB774D0D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E96D-A1B1-4A49-B306-C288FAA4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36B7-3494-499D-9677-C1C666EC5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E569-86E9-41E3-9A9F-3A3247022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AE83-68CB-4DE2-98A0-FE012235A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F128-F384-4985-9BC2-C0DEC0EA3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DF2C-7BF9-4B13-8CF3-4C63B7484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14AF-AC24-4D2D-A9D6-EB6D7BB5B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884D-A385-4598-8EBC-A8014BF8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DAF5-49B9-455D-B76C-794DE510B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67EC-12F2-4D9D-86E9-E04AAE0CF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07E7-C082-4C35-B623-3823C2B50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39C-2DF5-4E4D-BED7-8B04928F68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B4A5-3F51-4737-A6D1-326F07AD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2C8A-B6B2-46ED-A125-2F5A99A85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8F70-5120-45DF-831B-5439CE0B8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B6E6-A7FB-4D63-A9F8-DFACD13A4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6DDA-4254-461F-9B20-5F80F8DEC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1AB3-FE75-42FB-8F00-2BF56270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6724-F999-469F-B7C3-DEED03447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3C0-6A24-4C59-B283-E4DB01626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D092-8896-4636-B435-B5DCC443E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B6ED-ACA1-4242-84F4-98252547D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2CA9-70D8-41B9-8909-3B3F6803E1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637E-23BC-4596-9E52-8B255B318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BA6A-EE42-4662-87F1-DA278817A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776D-2894-40DC-B199-493265A0C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7FE7-8B8D-441D-B1A0-D00E57875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CA63-5EEC-4344-8FB1-2EF720E49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DB6A-F869-410E-ADE8-A7E53EE24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1920-6E34-43B1-AE08-16E9BB2AA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3CB7-9DAB-45CA-9AC6-2641A3486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95B6-0598-416F-AC62-BC572ACF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E4BB-BDE7-411A-BB53-BBBC9A8C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5F4A-BBD5-4747-B993-3F02C94667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A9A9-6F16-4256-A1E8-C08CE2EE9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A594-7E16-4423-B603-B2AC6DEB5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900A-3074-4F49-B574-EBBA5C746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6298-ADCA-4C0F-A8C4-B2BAD1B01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65F1-395F-46A7-AB88-9C0DB86E5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A0FB-A9AF-47B4-99F0-88A8B7E7E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E1EE-32C5-49F0-BD68-1CDF7D38C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E9F-8587-47AA-9B70-D8B996628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AC72-A0CE-4DA9-AA7C-5F2499924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0818-89E5-4CF0-BEE3-302FA720C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084B-DE34-4362-99DA-992921B88E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3608-CACC-4458-B0A3-FFCA76682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5D30-1ED6-4083-A38A-EFFCB4F89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E4D8-FD9D-4FF0-82D7-74D396C3F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76A4-2E87-427A-858D-63284C30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3E0B-32FB-46CF-ACE7-9B027EDAA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35B-6692-40F5-B961-D3E8E592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5B1-9B2D-43F6-ADBE-9B8E91A7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094-AC16-4324-B1AB-504946DA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ED0-0A81-4A58-9F52-9E5C57CF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BC8-C0D8-4975-A698-593A48FC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DCC-F3C1-4A0F-B96C-BE2C7377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C6A-E0DD-4214-AF4F-7AF10256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18D-CEE5-4FF5-90BF-6A71AB44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821-AEB6-461F-B90E-80D241E8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597-17FA-4DB2-8809-4EA7BEE2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93E-C59B-440F-A790-E6FE571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89E-364A-4AC3-95F8-5B807397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8FCF-E4B8-4B8E-88D1-0F33D6407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3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E  424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43080"/>
            <a:ext cx="64008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ydrograph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r. Saleh AlHass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E5BC-C6B9-4CE1-A094-29768B4A1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 rot="3378000">
            <a:off x="4345560" y="2427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8"/>
          <p:cNvSpPr/>
          <p:nvPr/>
        </p:nvSpPr>
        <p:spPr>
          <a:xfrm rot="21591000">
            <a:off x="6172200" y="363600"/>
            <a:ext cx="26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9"/>
          <p:cNvSpPr/>
          <p:nvPr/>
        </p:nvSpPr>
        <p:spPr>
          <a:xfrm>
            <a:off x="6172200" y="990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lling flood water in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6"/>
          <p:cNvSpPr/>
          <p:nvPr/>
        </p:nvSpPr>
        <p:spPr>
          <a:xfrm rot="3378000">
            <a:off x="4343760" y="2428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7"/>
          <p:cNvSpPr/>
          <p:nvPr/>
        </p:nvSpPr>
        <p:spPr>
          <a:xfrm>
            <a:off x="2706840" y="647640"/>
            <a:ext cx="21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9"/>
          <p:cNvSpPr/>
          <p:nvPr/>
        </p:nvSpPr>
        <p:spPr>
          <a:xfrm>
            <a:off x="2971800" y="114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0"/>
          <p:cNvSpPr/>
          <p:nvPr/>
        </p:nvSpPr>
        <p:spPr>
          <a:xfrm>
            <a:off x="4114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1"/>
          <p:cNvSpPr/>
          <p:nvPr/>
        </p:nvSpPr>
        <p:spPr>
          <a:xfrm>
            <a:off x="2971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8"/>
          <p:cNvSpPr/>
          <p:nvPr/>
        </p:nvSpPr>
        <p:spPr>
          <a:xfrm>
            <a:off x="6172200" y="304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9"/>
          <p:cNvSpPr/>
          <p:nvPr/>
        </p:nvSpPr>
        <p:spPr>
          <a:xfrm>
            <a:off x="6248520" y="9144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difference between the peak of the rain storm and the peak flow of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9"/>
          <p:cNvSpPr/>
          <p:nvPr/>
        </p:nvSpPr>
        <p:spPr>
          <a:xfrm>
            <a:off x="3049560" y="3773520"/>
            <a:ext cx="3086280" cy="341280"/>
          </a:xfrm>
          <a:prstGeom prst="pie">
            <a:avLst/>
          </a:prstGeom>
          <a:noFill/>
          <a:ln w="28440">
            <a:solidFill>
              <a:srgbClr val="9900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4154400" y="43052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Bas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6"/>
          <p:cNvSpPr/>
          <p:nvPr/>
        </p:nvSpPr>
        <p:spPr>
          <a:xfrm rot="3378000">
            <a:off x="4343760" y="2428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7"/>
          <p:cNvSpPr/>
          <p:nvPr/>
        </p:nvSpPr>
        <p:spPr>
          <a:xfrm>
            <a:off x="2706840" y="647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9"/>
          <p:cNvSpPr/>
          <p:nvPr/>
        </p:nvSpPr>
        <p:spPr>
          <a:xfrm>
            <a:off x="2971800" y="114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0"/>
          <p:cNvSpPr/>
          <p:nvPr/>
        </p:nvSpPr>
        <p:spPr>
          <a:xfrm>
            <a:off x="4114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1"/>
          <p:cNvSpPr/>
          <p:nvPr/>
        </p:nvSpPr>
        <p:spPr>
          <a:xfrm>
            <a:off x="2971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8"/>
          <p:cNvSpPr/>
          <p:nvPr/>
        </p:nvSpPr>
        <p:spPr>
          <a:xfrm>
            <a:off x="617220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Bas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9"/>
          <p:cNvSpPr/>
          <p:nvPr/>
        </p:nvSpPr>
        <p:spPr>
          <a:xfrm>
            <a:off x="5943600" y="990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mal discharge of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8"/>
          <p:cNvSpPr/>
          <p:nvPr/>
        </p:nvSpPr>
        <p:spPr>
          <a:xfrm>
            <a:off x="3227400" y="2908440"/>
            <a:ext cx="2146320" cy="965160"/>
          </a:xfrm>
          <a:prstGeom prst="pie">
            <a:avLst/>
          </a:prstGeom>
          <a:noFill/>
          <a:ln cap="rnd" w="28440">
            <a:solidFill>
              <a:srgbClr val="990033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9"/>
          <p:cNvSpPr/>
          <p:nvPr/>
        </p:nvSpPr>
        <p:spPr>
          <a:xfrm>
            <a:off x="3049560" y="3773520"/>
            <a:ext cx="3086280" cy="34128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4154400" y="43052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Bas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3925800" y="339084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Int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4"/>
          <p:cNvSpPr/>
          <p:nvPr/>
        </p:nvSpPr>
        <p:spPr>
          <a:xfrm>
            <a:off x="3697200" y="24004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6"/>
          <p:cNvSpPr/>
          <p:nvPr/>
        </p:nvSpPr>
        <p:spPr>
          <a:xfrm rot="3378000">
            <a:off x="4343760" y="2428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7"/>
          <p:cNvSpPr/>
          <p:nvPr/>
        </p:nvSpPr>
        <p:spPr>
          <a:xfrm>
            <a:off x="2706840" y="647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9"/>
          <p:cNvSpPr/>
          <p:nvPr/>
        </p:nvSpPr>
        <p:spPr>
          <a:xfrm>
            <a:off x="2971800" y="114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0"/>
          <p:cNvSpPr/>
          <p:nvPr/>
        </p:nvSpPr>
        <p:spPr>
          <a:xfrm>
            <a:off x="4114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2971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6172200" y="304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9"/>
          <p:cNvSpPr/>
          <p:nvPr/>
        </p:nvSpPr>
        <p:spPr>
          <a:xfrm>
            <a:off x="6172200" y="1000080"/>
            <a:ext cx="2666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Int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GW (B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1"/>
          <p:cNvSpPr/>
          <p:nvPr/>
        </p:nvSpPr>
        <p:spPr>
          <a:xfrm>
            <a:off x="7215120" y="500040"/>
            <a:ext cx="4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2"/>
          <p:cNvSpPr/>
          <p:nvPr/>
        </p:nvSpPr>
        <p:spPr>
          <a:xfrm>
            <a:off x="7286760" y="20574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3"/>
          <p:cNvSpPr/>
          <p:nvPr/>
        </p:nvSpPr>
        <p:spPr>
          <a:xfrm>
            <a:off x="6429240" y="266688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am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tal Run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026"/>
          <p:cNvSpPr/>
          <p:nvPr/>
        </p:nvSpPr>
        <p:spPr>
          <a:xfrm>
            <a:off x="928800" y="1828800"/>
            <a:ext cx="36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lume of water reaching the river from surface ru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GW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ase flo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28"/>
          <p:cNvSpPr/>
          <p:nvPr/>
        </p:nvSpPr>
        <p:spPr>
          <a:xfrm>
            <a:off x="10666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29"/>
          <p:cNvSpPr/>
          <p:nvPr/>
        </p:nvSpPr>
        <p:spPr>
          <a:xfrm>
            <a:off x="5486400" y="7621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Int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031"/>
          <p:cNvSpPr/>
          <p:nvPr/>
        </p:nvSpPr>
        <p:spPr>
          <a:xfrm>
            <a:off x="4952880" y="1828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lume of water reaching the river through the soil and underlying rock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41904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actors influen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torm Hydro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838080" y="2438280"/>
            <a:ext cx="335304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Are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Sha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Slo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Rock Ty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Soi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4572000" y="2438280"/>
            <a:ext cx="41911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Land U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Drainage Den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Precipitation / Tem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Tid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ag00503_"/>
          <p:cNvPicPr/>
          <p:nvPr/>
        </p:nvPicPr>
        <p:blipFill>
          <a:blip r:embed="rId1"/>
          <a:stretch/>
        </p:blipFill>
        <p:spPr>
          <a:xfrm>
            <a:off x="2971800" y="5029200"/>
            <a:ext cx="2093760" cy="16002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7"/>
          <p:cNvSpPr/>
          <p:nvPr/>
        </p:nvSpPr>
        <p:spPr>
          <a:xfrm>
            <a:off x="4642920" y="6381720"/>
            <a:ext cx="124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crosoft Word 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3"/>
          <p:cNvSpPr/>
          <p:nvPr/>
        </p:nvSpPr>
        <p:spPr>
          <a:xfrm>
            <a:off x="41904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pretation of Storm Hydro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19040" y="44197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ainfall Int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419040" y="2590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419040" y="3200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cession Li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419040" y="3809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La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419040" y="5029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Peak flow compared to Bas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419040" y="5562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Recovery rate, back to Bas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5"/>
          <p:cNvSpPr/>
          <p:nvPr/>
        </p:nvSpPr>
        <p:spPr>
          <a:xfrm>
            <a:off x="457200" y="1905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Arial"/>
              </a:rPr>
              <a:t>You need to refer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2"/>
          <p:cNvSpPr/>
          <p:nvPr/>
        </p:nvSpPr>
        <p:spPr>
          <a:xfrm>
            <a:off x="5943600" y="1752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Basin la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07"/>
          <p:cNvSpPr/>
          <p:nvPr/>
        </p:nvSpPr>
        <p:spPr>
          <a:xfrm>
            <a:off x="5773680" y="2066760"/>
            <a:ext cx="1800" cy="2335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08"/>
          <p:cNvSpPr/>
          <p:nvPr/>
        </p:nvSpPr>
        <p:spPr>
          <a:xfrm>
            <a:off x="5773680" y="4402080"/>
            <a:ext cx="2836800" cy="36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09"/>
          <p:cNvSpPr/>
          <p:nvPr/>
        </p:nvSpPr>
        <p:spPr>
          <a:xfrm>
            <a:off x="5769000" y="2232000"/>
            <a:ext cx="2827440" cy="166680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0"/>
          <p:cNvSpPr/>
          <p:nvPr/>
        </p:nvSpPr>
        <p:spPr>
          <a:xfrm>
            <a:off x="5915160" y="4041720"/>
            <a:ext cx="93600" cy="36036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1"/>
          <p:cNvSpPr/>
          <p:nvPr/>
        </p:nvSpPr>
        <p:spPr>
          <a:xfrm>
            <a:off x="6008760" y="3409920"/>
            <a:ext cx="95040" cy="99216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12"/>
          <p:cNvSpPr/>
          <p:nvPr/>
        </p:nvSpPr>
        <p:spPr>
          <a:xfrm>
            <a:off x="6103800" y="3951360"/>
            <a:ext cx="93960" cy="4507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13"/>
          <p:cNvSpPr/>
          <p:nvPr/>
        </p:nvSpPr>
        <p:spPr>
          <a:xfrm>
            <a:off x="6237360" y="3124080"/>
            <a:ext cx="1328760" cy="573120"/>
          </a:xfrm>
          <a:prstGeom prst="pi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14"/>
          <p:cNvSpPr/>
          <p:nvPr/>
        </p:nvSpPr>
        <p:spPr>
          <a:xfrm>
            <a:off x="6126120" y="3637080"/>
            <a:ext cx="1911240" cy="2016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15"/>
          <p:cNvSpPr/>
          <p:nvPr/>
        </p:nvSpPr>
        <p:spPr>
          <a:xfrm>
            <a:off x="5726160" y="372744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16"/>
          <p:cNvSpPr/>
          <p:nvPr/>
        </p:nvSpPr>
        <p:spPr>
          <a:xfrm>
            <a:off x="5726160" y="23734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17"/>
          <p:cNvSpPr/>
          <p:nvPr/>
        </p:nvSpPr>
        <p:spPr>
          <a:xfrm>
            <a:off x="5726160" y="304956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18"/>
          <p:cNvSpPr/>
          <p:nvPr/>
        </p:nvSpPr>
        <p:spPr>
          <a:xfrm>
            <a:off x="5819760" y="3341520"/>
            <a:ext cx="3240" cy="1052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19"/>
          <p:cNvSpPr/>
          <p:nvPr/>
        </p:nvSpPr>
        <p:spPr>
          <a:xfrm>
            <a:off x="5819760" y="35020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20"/>
          <p:cNvSpPr/>
          <p:nvPr/>
        </p:nvSpPr>
        <p:spPr>
          <a:xfrm>
            <a:off x="5819760" y="372744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21"/>
          <p:cNvSpPr/>
          <p:nvPr/>
        </p:nvSpPr>
        <p:spPr>
          <a:xfrm>
            <a:off x="5819760" y="395136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22"/>
          <p:cNvSpPr/>
          <p:nvPr/>
        </p:nvSpPr>
        <p:spPr>
          <a:xfrm>
            <a:off x="5819760" y="417672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23"/>
          <p:cNvSpPr/>
          <p:nvPr/>
        </p:nvSpPr>
        <p:spPr>
          <a:xfrm>
            <a:off x="5726160" y="4402080"/>
            <a:ext cx="4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24"/>
          <p:cNvSpPr/>
          <p:nvPr/>
        </p:nvSpPr>
        <p:spPr>
          <a:xfrm flipV="1">
            <a:off x="577368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25"/>
          <p:cNvSpPr/>
          <p:nvPr/>
        </p:nvSpPr>
        <p:spPr>
          <a:xfrm flipV="1">
            <a:off x="624528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26"/>
          <p:cNvSpPr/>
          <p:nvPr/>
        </p:nvSpPr>
        <p:spPr>
          <a:xfrm flipV="1">
            <a:off x="671688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27"/>
          <p:cNvSpPr/>
          <p:nvPr/>
        </p:nvSpPr>
        <p:spPr>
          <a:xfrm flipV="1">
            <a:off x="718992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28"/>
          <p:cNvSpPr/>
          <p:nvPr/>
        </p:nvSpPr>
        <p:spPr>
          <a:xfrm flipV="1">
            <a:off x="766116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9"/>
          <p:cNvSpPr/>
          <p:nvPr/>
        </p:nvSpPr>
        <p:spPr>
          <a:xfrm flipV="1">
            <a:off x="817884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0"/>
          <p:cNvSpPr/>
          <p:nvPr/>
        </p:nvSpPr>
        <p:spPr>
          <a:xfrm flipV="1">
            <a:off x="8604360" y="4402080"/>
            <a:ext cx="0" cy="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1"/>
          <p:cNvSpPr/>
          <p:nvPr/>
        </p:nvSpPr>
        <p:spPr>
          <a:xfrm>
            <a:off x="5584680" y="4446720"/>
            <a:ext cx="32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        12       24      36      48       30    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32"/>
          <p:cNvSpPr/>
          <p:nvPr/>
        </p:nvSpPr>
        <p:spPr>
          <a:xfrm>
            <a:off x="5867280" y="4800600"/>
            <a:ext cx="29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33"/>
          <p:cNvSpPr/>
          <p:nvPr/>
        </p:nvSpPr>
        <p:spPr>
          <a:xfrm>
            <a:off x="5489640" y="223848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34"/>
          <p:cNvSpPr/>
          <p:nvPr/>
        </p:nvSpPr>
        <p:spPr>
          <a:xfrm>
            <a:off x="5489640" y="2914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5"/>
          <p:cNvSpPr/>
          <p:nvPr/>
        </p:nvSpPr>
        <p:spPr>
          <a:xfrm>
            <a:off x="5489640" y="359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36"/>
          <p:cNvSpPr/>
          <p:nvPr/>
        </p:nvSpPr>
        <p:spPr>
          <a:xfrm rot="16200000">
            <a:off x="4433400" y="325656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156"/>
          <p:cNvGrpSpPr/>
          <p:nvPr/>
        </p:nvGrpSpPr>
        <p:grpSpPr>
          <a:xfrm>
            <a:off x="6527880" y="2824200"/>
            <a:ext cx="1463760" cy="1403640"/>
            <a:chOff x="6527880" y="2824200"/>
            <a:chExt cx="1463760" cy="1403640"/>
          </a:xfrm>
        </p:grpSpPr>
        <p:sp>
          <p:nvSpPr>
            <p:cNvPr id="500" name="Text Box 137"/>
            <p:cNvSpPr/>
            <p:nvPr/>
          </p:nvSpPr>
          <p:spPr>
            <a:xfrm>
              <a:off x="6810480" y="3951360"/>
              <a:ext cx="118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990033"/>
                  </a:solidFill>
                  <a:latin typeface="Arial"/>
                </a:rPr>
                <a:t>Base 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38"/>
            <p:cNvSpPr/>
            <p:nvPr/>
          </p:nvSpPr>
          <p:spPr>
            <a:xfrm>
              <a:off x="6576840" y="3429000"/>
              <a:ext cx="13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rough 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39"/>
            <p:cNvSpPr/>
            <p:nvPr/>
          </p:nvSpPr>
          <p:spPr>
            <a:xfrm>
              <a:off x="6527880" y="2824200"/>
              <a:ext cx="896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verland fl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Text Box 140"/>
          <p:cNvSpPr/>
          <p:nvPr/>
        </p:nvSpPr>
        <p:spPr>
          <a:xfrm rot="16898400">
            <a:off x="5888520" y="262332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1"/>
          <p:cNvSpPr/>
          <p:nvPr/>
        </p:nvSpPr>
        <p:spPr>
          <a:xfrm rot="3378000">
            <a:off x="6876000" y="2918520"/>
            <a:ext cx="138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Recession li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43"/>
          <p:cNvSpPr/>
          <p:nvPr/>
        </p:nvSpPr>
        <p:spPr>
          <a:xfrm>
            <a:off x="5867280" y="3124080"/>
            <a:ext cx="5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44"/>
          <p:cNvSpPr/>
          <p:nvPr/>
        </p:nvSpPr>
        <p:spPr>
          <a:xfrm>
            <a:off x="6080040" y="2081160"/>
            <a:ext cx="70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45"/>
          <p:cNvSpPr/>
          <p:nvPr/>
        </p:nvSpPr>
        <p:spPr>
          <a:xfrm>
            <a:off x="6786720" y="203688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46"/>
          <p:cNvSpPr/>
          <p:nvPr/>
        </p:nvSpPr>
        <p:spPr>
          <a:xfrm>
            <a:off x="6080040" y="203688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47"/>
          <p:cNvSpPr/>
          <p:nvPr/>
        </p:nvSpPr>
        <p:spPr>
          <a:xfrm>
            <a:off x="5776920" y="34113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48"/>
          <p:cNvSpPr/>
          <p:nvPr/>
        </p:nvSpPr>
        <p:spPr>
          <a:xfrm>
            <a:off x="5776920" y="3637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9"/>
          <p:cNvSpPr/>
          <p:nvPr/>
        </p:nvSpPr>
        <p:spPr>
          <a:xfrm>
            <a:off x="5776920" y="38624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50"/>
          <p:cNvSpPr/>
          <p:nvPr/>
        </p:nvSpPr>
        <p:spPr>
          <a:xfrm>
            <a:off x="6786720" y="2171880"/>
            <a:ext cx="0" cy="13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51"/>
          <p:cNvSpPr/>
          <p:nvPr/>
        </p:nvSpPr>
        <p:spPr>
          <a:xfrm flipV="1">
            <a:off x="6786720" y="2080800"/>
            <a:ext cx="282240" cy="135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2"/>
          <p:cNvSpPr/>
          <p:nvPr/>
        </p:nvSpPr>
        <p:spPr>
          <a:xfrm>
            <a:off x="7068960" y="1946160"/>
            <a:ext cx="11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</a:rPr>
              <a:t>Peak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2" presetSubtype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9500"/>
                            </p:stCondLst>
                            <p:childTnLst>
                              <p:par>
                                <p:cTn id="190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75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775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75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6925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425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925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8925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68920" y="228600"/>
            <a:ext cx="960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6600"/>
                </a:solidFill>
                <a:latin typeface="Arial"/>
              </a:rPr>
              <a:t>Are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28600" y="9907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asins receive more precipitation than small therefore have larger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run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28600" y="2362320"/>
            <a:ext cx="87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size means long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water has a longer distance to travel to reach the trunk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5257800" y="7621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234000" y="228600"/>
            <a:ext cx="124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Sha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ongated basin will produce a low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peak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ong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n a circular one of the sam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AutoShape 9"/>
          <p:cNvCxnSpPr/>
          <p:nvPr/>
        </p:nvCxnSpPr>
        <p:spPr>
          <a:xfrm flipH="1" rot="16200000">
            <a:off x="2133720" y="3366720"/>
            <a:ext cx="2160" cy="2160"/>
          </a:xfrm>
          <a:prstGeom prst="curvedConnector5">
            <a:avLst>
              <a:gd name="adj1" fmla="val 51900000"/>
              <a:gd name="adj2" fmla="val 40000"/>
              <a:gd name="adj3" fmla="val 51900000"/>
            </a:avLst>
          </a:prstGeom>
          <a:ln w="0">
            <a:noFill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34720" y="228600"/>
            <a:ext cx="1125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Slo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nel flow can be faster down a steep slope therefore steep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horter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Hydro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1295280"/>
            <a:ext cx="8763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Record of River Discharge over a period of tim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                           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Q  vs 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80880" y="2286000"/>
            <a:ext cx="66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River</a:t>
            </a:r>
            <a:r>
              <a:rPr b="1" i="1" lang="en-GB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Discharge : Q = 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v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285840" y="3787920"/>
            <a:ext cx="7948440" cy="1294560"/>
            <a:chOff x="285840" y="3787920"/>
            <a:chExt cx="7948440" cy="1294560"/>
          </a:xfrm>
        </p:grpSpPr>
        <p:grpSp>
          <p:nvGrpSpPr>
            <p:cNvPr id="55" name="Group 12"/>
            <p:cNvGrpSpPr/>
            <p:nvPr/>
          </p:nvGrpSpPr>
          <p:grpSpPr>
            <a:xfrm>
              <a:off x="500040" y="3787920"/>
              <a:ext cx="7734240" cy="651960"/>
              <a:chOff x="500040" y="3787920"/>
              <a:chExt cx="7734240" cy="651960"/>
            </a:xfrm>
          </p:grpSpPr>
          <p:sp>
            <p:nvSpPr>
              <p:cNvPr id="56" name="Text Box 6"/>
              <p:cNvSpPr/>
              <p:nvPr/>
            </p:nvSpPr>
            <p:spPr>
              <a:xfrm>
                <a:off x="500040" y="3787920"/>
                <a:ext cx="397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lang="en-GB" sz="18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r>
                  <a:rPr b="1" lang="en-GB" sz="1800" spc="-1" strike="noStrike">
                    <a:solidFill>
                      <a:srgbClr val="006600"/>
                    </a:solidFill>
                    <a:latin typeface="Arial"/>
                  </a:rPr>
                  <a:t>cross sectional are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7"/>
              <p:cNvSpPr/>
              <p:nvPr/>
            </p:nvSpPr>
            <p:spPr>
              <a:xfrm>
                <a:off x="3357720" y="3929040"/>
                <a:ext cx="487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6600"/>
                    </a:solidFill>
                    <a:latin typeface="Arial"/>
                  </a:rPr>
                  <a:t>rivers mean (average) veloc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3071880" y="3858480"/>
                <a:ext cx="5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 Box 9"/>
            <p:cNvSpPr/>
            <p:nvPr/>
          </p:nvSpPr>
          <p:spPr>
            <a:xfrm>
              <a:off x="285840" y="4714200"/>
              <a:ext cx="62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at a particular point in its cour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0"/>
          <p:cNvSpPr/>
          <p:nvPr/>
        </p:nvSpPr>
        <p:spPr>
          <a:xfrm>
            <a:off x="380880" y="5572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"/>
              </a:rPr>
              <a:t>Storm Hydro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09480" y="62866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66"/>
                </a:solidFill>
                <a:latin typeface="Arial"/>
              </a:rPr>
              <a:t>Show the change in discharge caused by a period of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267840" y="228600"/>
            <a:ext cx="19454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Rock Typ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able rocks mean rapid infiltration and little overland flow therefore shallow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49480" y="228600"/>
            <a:ext cx="79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Soi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9044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ltration is generally greater on thick soil, although less porous soils eg. clay act as impermeable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190440" y="274176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re infiltration occurs the longer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hallower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255960" y="228600"/>
            <a:ext cx="17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Land U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isation - concrete and tarmac form impermeable surfaces, creating a steep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hortening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ime 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90440" y="274176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orestation - intercepts the precipitation, creating a shallow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engthening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ime 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28320" y="228600"/>
            <a:ext cx="3015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Drainage Den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228600" y="9907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er density will allow rapid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overlan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457200" y="228600"/>
            <a:ext cx="478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Precipitation &amp; Tempera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228600" y="838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intense rainstorms can produce rapid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overland f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teep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22860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have been extreme temperatures, the ground can be hard (either baked or frozen) causing rapid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urface run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228600" y="3276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 on the ground can act as a store producing a long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lag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shallow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Once a thaw sets in the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come st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647640" y="502920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313200" y="228600"/>
            <a:ext cx="283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00"/>
                </a:solidFill>
                <a:latin typeface="Arial"/>
              </a:rPr>
              <a:t>Tid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28600" y="990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ring tides can block the normal exit for the water, therefore extending the length of time the river basin takes to return to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base flo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647640" y="4952880"/>
            <a:ext cx="7848720" cy="119124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rea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Rock Ty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Drain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oil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Precipitation /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Slop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Land Use</a:t>
            </a: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Tid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A7FF-9DB0-47CF-90B5-BAE199E76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ydrograph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2864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843F-BBF4-4D17-9530-A41DF25DE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ydrograph Analysis :</a:t>
            </a:r>
            <a:br>
              <a:rPr sz="40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ydrograph : Q  v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42600" y="1856880"/>
            <a:ext cx="5072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ation 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 Time , 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f Concentration ,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on Limb (falling li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Flow ,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Peak (rise time),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flow , 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ion of BF from Run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ydrograph Compon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457200" y="642924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Wanielista, M., R. Kersten, and R. Eagli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ydrology: Water Quantity and Quality Control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2"/>
          <p:cNvGraphicFramePr/>
          <p:nvPr/>
        </p:nvGraphicFramePr>
        <p:xfrm>
          <a:off x="571680" y="714240"/>
          <a:ext cx="7715160" cy="566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714240"/>
                    <a:ext cx="77151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BAD4-1BC6-4075-AE94-23ECEF6ED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3"/>
          <p:cNvSpPr/>
          <p:nvPr/>
        </p:nvSpPr>
        <p:spPr>
          <a:xfrm flipV="1">
            <a:off x="2786040" y="2571480"/>
            <a:ext cx="0" cy="289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4"/>
          <p:cNvSpPr/>
          <p:nvPr/>
        </p:nvSpPr>
        <p:spPr>
          <a:xfrm>
            <a:off x="2786040" y="5429160"/>
            <a:ext cx="403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"/>
          <p:cNvSpPr/>
          <p:nvPr/>
        </p:nvSpPr>
        <p:spPr>
          <a:xfrm>
            <a:off x="3060720" y="3643200"/>
            <a:ext cx="3405240" cy="1384560"/>
          </a:xfrm>
          <a:prstGeom prst="pie">
            <a:avLst/>
          </a:pr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4268880" y="4571640"/>
            <a:ext cx="1141200" cy="43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506760" y="2668680"/>
            <a:ext cx="301680" cy="453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8"/>
          <p:cNvSpPr/>
          <p:nvPr/>
        </p:nvSpPr>
        <p:spPr>
          <a:xfrm>
            <a:off x="3809880" y="31258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3811680" y="457200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>
            <a:off x="3657600" y="30495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3659040" y="3962520"/>
            <a:ext cx="1293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2"/>
          <p:cNvSpPr/>
          <p:nvPr/>
        </p:nvSpPr>
        <p:spPr>
          <a:xfrm>
            <a:off x="3809880" y="357192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3"/>
          <p:cNvSpPr/>
          <p:nvPr/>
        </p:nvSpPr>
        <p:spPr>
          <a:xfrm>
            <a:off x="5715000" y="3962520"/>
            <a:ext cx="144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3886200" y="1981080"/>
            <a:ext cx="14479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ration of excess precipi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5"/>
          <p:cNvSpPr/>
          <p:nvPr/>
        </p:nvSpPr>
        <p:spPr>
          <a:xfrm flipH="1">
            <a:off x="4802040" y="4268880"/>
            <a:ext cx="98928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6"/>
          <p:cNvSpPr/>
          <p:nvPr/>
        </p:nvSpPr>
        <p:spPr>
          <a:xfrm flipH="1">
            <a:off x="3714840" y="2820960"/>
            <a:ext cx="628560" cy="2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7"/>
          <p:cNvSpPr/>
          <p:nvPr/>
        </p:nvSpPr>
        <p:spPr>
          <a:xfrm>
            <a:off x="4800600" y="4952880"/>
            <a:ext cx="114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43080" y="304920"/>
            <a:ext cx="8458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Why Construct &amp; Analy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Hydrographs </a:t>
            </a:r>
            <a:r>
              <a:rPr b="0" lang="en-GB" sz="5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920" y="2895480"/>
            <a:ext cx="74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To find out discharge pattern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  <a:ea typeface="Arial"/>
              </a:rPr>
              <a:t>a particular drainage ba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BD06921_"/>
          <p:cNvPicPr/>
          <p:nvPr/>
        </p:nvPicPr>
        <p:blipFill>
          <a:blip r:embed="rId2"/>
          <a:stretch/>
        </p:blipFill>
        <p:spPr>
          <a:xfrm>
            <a:off x="6400800" y="4876920"/>
            <a:ext cx="2503440" cy="1730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14200" y="42148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Help predict flooding ev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  <a:ea typeface="Arial"/>
              </a:rPr>
              <a:t>therefore influence implementation of flood prevention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7451280" y="4797360"/>
            <a:ext cx="124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crosoft Word clip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7510-287C-47E0-863D-439AEA29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eparation of Base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106200">
              <a:spcBef>
                <a:spcPts val="1199"/>
              </a:spcBef>
              <a:spcAft>
                <a:spcPts val="300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.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nerally accepted that the inflection point on the recession limb of a hydrograph is the result of a change in the controlling physical processes of the excess precipitation flowing to the basin out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00">
              <a:spcBef>
                <a:spcPts val="1199"/>
              </a:spcBef>
              <a:spcAft>
                <a:spcPts val="300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 this example, base flow is considered to be a straight line connecting that point at which the hydrograph begins to rise rapidly and the inflection point on the recession side of the hydro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00">
              <a:spcBef>
                <a:spcPts val="1199"/>
              </a:spcBef>
              <a:spcAft>
                <a:spcPts val="300"/>
              </a:spcAft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inflection point may be found by plotting the hydrograph in semi-log fashion with flow being plotted on the log scale and noting the time at which the recession side fits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3CA-3325-4C25-8581-68405AEB1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eparation of Base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2"/>
          <p:cNvGraphicFramePr/>
          <p:nvPr/>
        </p:nvGraphicFramePr>
        <p:xfrm>
          <a:off x="857160" y="1428840"/>
          <a:ext cx="7215120" cy="51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28840"/>
                    <a:ext cx="721512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785C-A312-4927-8646-1F553064C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ydrograph &amp; Base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Object 2"/>
          <p:cNvGraphicFramePr/>
          <p:nvPr/>
        </p:nvGraphicFramePr>
        <p:xfrm>
          <a:off x="785880" y="1285920"/>
          <a:ext cx="7215120" cy="53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285920"/>
                    <a:ext cx="72151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7837-BA13-4416-92B6-B5C51FF1C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eparate Base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2"/>
          <p:cNvGraphicFramePr/>
          <p:nvPr/>
        </p:nvGraphicFramePr>
        <p:xfrm>
          <a:off x="928800" y="1143000"/>
          <a:ext cx="7000920" cy="55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143000"/>
                    <a:ext cx="700092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= d * U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Runoff = rainfall depth * Unit Hydrograph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2CF4-101E-4C61-91E5-D21E5756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1408-1374-40FA-A34F-3ED2B2C78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drograph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The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rman -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rton     - 19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sler &amp; Brater - 1949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ydrograph of surface runoff resulting from a relatively short, intense rain, called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n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or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unoff hydrograph may be “made up” of runoff that is generated as flow through the soil (Black, 19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7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1B9E-5156-46DF-BEA9-FC199C428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Unit Hyd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hydrograph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irect runoff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sulting from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-inch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c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) of excess precipitation spread uniformly in space and time over a watershed for a given d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ey poi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-inch (1c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orm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 space 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 the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orm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ime - the excess rate is constant over the ti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UH (ex.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2h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U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3FA-C72A-4A6D-8B6E-7BC60576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00A1-ECA1-4BC8-9A87-1C01DD6B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ethods of Developing UH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om Streamflow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ynth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ny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-Area (Clark,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tted”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orpho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429120" y="785520"/>
            <a:ext cx="10287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Unit Hydrograph Derivation</a:t>
            </a: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) Tabulate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otal hydrograp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ime  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) Tabulate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e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f given or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par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method of 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) Find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ect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off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drograph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R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by subtracting the baseflow from the total             hydrograph.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H = Q – B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) Find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volu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water under the D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ol. = </a:t>
            </a: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 * </a:t>
            </a:r>
            <a:r>
              <a:rPr b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9"/>
          <p:cNvSpPr/>
          <p:nvPr/>
        </p:nvSpPr>
        <p:spPr>
          <a:xfrm>
            <a:off x="3227400" y="2908440"/>
            <a:ext cx="2146320" cy="965160"/>
          </a:xfrm>
          <a:prstGeom prst="pi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3049560" y="3773520"/>
            <a:ext cx="3086280" cy="34128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6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8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173320" y="4929120"/>
            <a:ext cx="66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 30    72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h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2928960" y="53578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___ Components of Stream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</a:rPr>
              <a:t>___ Elements of Hydro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5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"/>
          <p:cNvSpPr/>
          <p:nvPr/>
        </p:nvSpPr>
        <p:spPr>
          <a:xfrm rot="16200000">
            <a:off x="107640" y="3313080"/>
            <a:ext cx="30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4154400" y="43052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Base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3925800" y="339084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t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3697200" y="24004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Overland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 rot="3378000">
            <a:off x="4343760" y="2428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Recession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5"/>
          <p:cNvSpPr/>
          <p:nvPr/>
        </p:nvSpPr>
        <p:spPr>
          <a:xfrm>
            <a:off x="2706840" y="6476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n la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6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7"/>
          <p:cNvSpPr/>
          <p:nvPr/>
        </p:nvSpPr>
        <p:spPr>
          <a:xfrm>
            <a:off x="2971800" y="114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8"/>
          <p:cNvSpPr/>
          <p:nvPr/>
        </p:nvSpPr>
        <p:spPr>
          <a:xfrm>
            <a:off x="4114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9"/>
          <p:cNvSpPr/>
          <p:nvPr/>
        </p:nvSpPr>
        <p:spPr>
          <a:xfrm>
            <a:off x="2971800" y="1066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0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2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7"/>
          <p:cNvSpPr/>
          <p:nvPr/>
        </p:nvSpPr>
        <p:spPr>
          <a:xfrm>
            <a:off x="4500720" y="9144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flow (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cre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9"/>
          <p:cNvSpPr/>
          <p:nvPr/>
        </p:nvSpPr>
        <p:spPr>
          <a:xfrm rot="18955800">
            <a:off x="-1116360" y="1071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lood Hydro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A762-4163-4AA2-A960-22FDAFC0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Unit Hydrograph Der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3"/>
          <p:cNvGraphicFramePr/>
          <p:nvPr/>
        </p:nvGraphicFramePr>
        <p:xfrm>
          <a:off x="142920" y="1000080"/>
          <a:ext cx="8715240" cy="58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00080"/>
                    <a:ext cx="871524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Unit Hydrograph Der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)  Divide the volume of water(step iv) by the drainage area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to get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ive rainfall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runoff) per unit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 vol. /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)  Divide the ordinates of th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R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effective rainfall(step 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sult is a unit hydrograph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for the duration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9867-2A15-48C1-BD41-5F22FEC52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Unit Hydrograph Deriv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3"/>
          <p:cNvGraphicFramePr/>
          <p:nvPr/>
        </p:nvGraphicFramePr>
        <p:xfrm>
          <a:off x="571680" y="1571760"/>
          <a:ext cx="7858080" cy="52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571760"/>
                    <a:ext cx="7858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4B31-D65A-4497-9037-2F3F283CB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Object 2"/>
          <p:cNvGraphicFramePr/>
          <p:nvPr/>
        </p:nvGraphicFramePr>
        <p:xfrm>
          <a:off x="0" y="0"/>
          <a:ext cx="89298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59C1-488B-4C87-8802-C9B95BC63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btain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H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  Ordi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857160" y="1905120"/>
            <a:ext cx="72867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rdinates of the unit hydrograph are obtained by dividing each flow in the direct runoff hydrograph by the depth of excess precipi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is example, the units of the unit hydrograph would be cfs/inch (of excess precipitatio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F9CA-F8A3-40D2-94B7-6DB9CF2D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inal 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Object 3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5880"/>
                    <a:ext cx="914400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FF1-0CA2-4F1F-90C2-F961F5552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e Duration of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85480" y="121392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duration of the derived unit hydrograph is found by examining the precipitation for the event and determining that precipitation which is in ex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s is generally accomplished by plotting the precipitation in hyetograph form and drawing a horizontal line such that the precipitation above this line is equal to the depth of excess precipitation as previously determ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s horizontal line is generally referred to as th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index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based on the assumption of a constant or uniform infiltra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uniform infiltration necessary to cause 1.65 inches of excess precipitation was determined to be approximately 0.2 inches per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55F4-5E47-406B-ADCA-F64B17BF8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stimating Excess Prec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2712960" y="2125800"/>
            <a:ext cx="394812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2716200" y="2128680"/>
            <a:ext cx="3941640" cy="3573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2770200" y="5486400"/>
            <a:ext cx="77760" cy="21600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2968560" y="5486400"/>
            <a:ext cx="77760" cy="21600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3168720" y="5033880"/>
            <a:ext cx="69840" cy="6685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3359160" y="4811760"/>
            <a:ext cx="7920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3559320" y="5033880"/>
            <a:ext cx="77760" cy="6685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375912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3957480" y="4811760"/>
            <a:ext cx="6984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4149720" y="5264280"/>
            <a:ext cx="77760" cy="4381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4348080" y="4811760"/>
            <a:ext cx="795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4"/>
          <p:cNvSpPr/>
          <p:nvPr/>
        </p:nvSpPr>
        <p:spPr>
          <a:xfrm>
            <a:off x="454824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5"/>
          <p:cNvSpPr/>
          <p:nvPr/>
        </p:nvSpPr>
        <p:spPr>
          <a:xfrm>
            <a:off x="4748040" y="4811760"/>
            <a:ext cx="7020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93884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513864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5337000" y="4811760"/>
            <a:ext cx="795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9"/>
          <p:cNvSpPr/>
          <p:nvPr/>
        </p:nvSpPr>
        <p:spPr>
          <a:xfrm>
            <a:off x="5537160" y="4811760"/>
            <a:ext cx="6984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0"/>
          <p:cNvSpPr/>
          <p:nvPr/>
        </p:nvSpPr>
        <p:spPr>
          <a:xfrm>
            <a:off x="5729400" y="5033880"/>
            <a:ext cx="77760" cy="6685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1"/>
          <p:cNvSpPr/>
          <p:nvPr/>
        </p:nvSpPr>
        <p:spPr>
          <a:xfrm>
            <a:off x="5927760" y="4811760"/>
            <a:ext cx="77760" cy="89064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2"/>
          <p:cNvSpPr/>
          <p:nvPr/>
        </p:nvSpPr>
        <p:spPr>
          <a:xfrm>
            <a:off x="6127920" y="5033880"/>
            <a:ext cx="77760" cy="6685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3"/>
          <p:cNvSpPr/>
          <p:nvPr/>
        </p:nvSpPr>
        <p:spPr>
          <a:xfrm>
            <a:off x="6326280" y="5264280"/>
            <a:ext cx="71280" cy="43812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4"/>
          <p:cNvSpPr/>
          <p:nvPr/>
        </p:nvSpPr>
        <p:spPr>
          <a:xfrm>
            <a:off x="6518160" y="5486400"/>
            <a:ext cx="77760" cy="21600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5"/>
          <p:cNvSpPr/>
          <p:nvPr/>
        </p:nvSpPr>
        <p:spPr>
          <a:xfrm>
            <a:off x="3359160" y="4589640"/>
            <a:ext cx="79200" cy="2156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6"/>
          <p:cNvSpPr/>
          <p:nvPr/>
        </p:nvSpPr>
        <p:spPr>
          <a:xfrm>
            <a:off x="3957480" y="4589640"/>
            <a:ext cx="69840" cy="2156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7"/>
          <p:cNvSpPr/>
          <p:nvPr/>
        </p:nvSpPr>
        <p:spPr>
          <a:xfrm>
            <a:off x="4348080" y="3692520"/>
            <a:ext cx="79560" cy="111276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8"/>
          <p:cNvSpPr/>
          <p:nvPr/>
        </p:nvSpPr>
        <p:spPr>
          <a:xfrm>
            <a:off x="4548240" y="3470400"/>
            <a:ext cx="77760" cy="133488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9"/>
          <p:cNvSpPr/>
          <p:nvPr/>
        </p:nvSpPr>
        <p:spPr>
          <a:xfrm>
            <a:off x="4748040" y="2351160"/>
            <a:ext cx="70200" cy="245412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"/>
          <p:cNvSpPr/>
          <p:nvPr/>
        </p:nvSpPr>
        <p:spPr>
          <a:xfrm>
            <a:off x="4938840" y="3922560"/>
            <a:ext cx="77760" cy="88272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5138640" y="4589640"/>
            <a:ext cx="77760" cy="2156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2"/>
          <p:cNvSpPr/>
          <p:nvPr/>
        </p:nvSpPr>
        <p:spPr>
          <a:xfrm>
            <a:off x="5337000" y="4145040"/>
            <a:ext cx="79560" cy="6602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3"/>
          <p:cNvSpPr/>
          <p:nvPr/>
        </p:nvSpPr>
        <p:spPr>
          <a:xfrm>
            <a:off x="5927760" y="4589640"/>
            <a:ext cx="77760" cy="215640"/>
          </a:xfrm>
          <a:prstGeom prst="rect">
            <a:avLst/>
          </a:prstGeom>
          <a:solidFill>
            <a:srgbClr val="8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4"/>
          <p:cNvSpPr/>
          <p:nvPr/>
        </p:nvSpPr>
        <p:spPr>
          <a:xfrm>
            <a:off x="2712960" y="2127240"/>
            <a:ext cx="1800" cy="357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5"/>
          <p:cNvSpPr/>
          <p:nvPr/>
        </p:nvSpPr>
        <p:spPr>
          <a:xfrm>
            <a:off x="2682720" y="570564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6"/>
          <p:cNvSpPr/>
          <p:nvPr/>
        </p:nvSpPr>
        <p:spPr>
          <a:xfrm>
            <a:off x="2682720" y="526104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7"/>
          <p:cNvSpPr/>
          <p:nvPr/>
        </p:nvSpPr>
        <p:spPr>
          <a:xfrm>
            <a:off x="2682720" y="480852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8"/>
          <p:cNvSpPr/>
          <p:nvPr/>
        </p:nvSpPr>
        <p:spPr>
          <a:xfrm>
            <a:off x="2682720" y="4363920"/>
            <a:ext cx="60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9"/>
          <p:cNvSpPr/>
          <p:nvPr/>
        </p:nvSpPr>
        <p:spPr>
          <a:xfrm>
            <a:off x="2682720" y="391968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0"/>
          <p:cNvSpPr/>
          <p:nvPr/>
        </p:nvSpPr>
        <p:spPr>
          <a:xfrm>
            <a:off x="2682720" y="346716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1"/>
          <p:cNvSpPr/>
          <p:nvPr/>
        </p:nvSpPr>
        <p:spPr>
          <a:xfrm>
            <a:off x="2682720" y="3022560"/>
            <a:ext cx="60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2"/>
          <p:cNvSpPr/>
          <p:nvPr/>
        </p:nvSpPr>
        <p:spPr>
          <a:xfrm>
            <a:off x="2682720" y="2570040"/>
            <a:ext cx="60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43"/>
          <p:cNvSpPr/>
          <p:nvPr/>
        </p:nvSpPr>
        <p:spPr>
          <a:xfrm>
            <a:off x="2682720" y="2125800"/>
            <a:ext cx="60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4"/>
          <p:cNvSpPr/>
          <p:nvPr/>
        </p:nvSpPr>
        <p:spPr>
          <a:xfrm>
            <a:off x="2714760" y="5705640"/>
            <a:ext cx="3946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5"/>
          <p:cNvSpPr/>
          <p:nvPr/>
        </p:nvSpPr>
        <p:spPr>
          <a:xfrm flipV="1">
            <a:off x="27129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6"/>
          <p:cNvSpPr/>
          <p:nvPr/>
        </p:nvSpPr>
        <p:spPr>
          <a:xfrm flipV="1">
            <a:off x="291132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7"/>
          <p:cNvSpPr/>
          <p:nvPr/>
        </p:nvSpPr>
        <p:spPr>
          <a:xfrm flipV="1">
            <a:off x="31114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8"/>
          <p:cNvSpPr/>
          <p:nvPr/>
        </p:nvSpPr>
        <p:spPr>
          <a:xfrm flipV="1">
            <a:off x="330372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49"/>
          <p:cNvSpPr/>
          <p:nvPr/>
        </p:nvSpPr>
        <p:spPr>
          <a:xfrm flipV="1">
            <a:off x="35020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50"/>
          <p:cNvSpPr/>
          <p:nvPr/>
        </p:nvSpPr>
        <p:spPr>
          <a:xfrm flipV="1">
            <a:off x="37018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1"/>
          <p:cNvSpPr/>
          <p:nvPr/>
        </p:nvSpPr>
        <p:spPr>
          <a:xfrm flipV="1">
            <a:off x="390060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2"/>
          <p:cNvSpPr/>
          <p:nvPr/>
        </p:nvSpPr>
        <p:spPr>
          <a:xfrm flipV="1">
            <a:off x="40924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3"/>
          <p:cNvSpPr/>
          <p:nvPr/>
        </p:nvSpPr>
        <p:spPr>
          <a:xfrm flipV="1">
            <a:off x="429264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4"/>
          <p:cNvSpPr/>
          <p:nvPr/>
        </p:nvSpPr>
        <p:spPr>
          <a:xfrm flipV="1">
            <a:off x="449100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5"/>
          <p:cNvSpPr/>
          <p:nvPr/>
        </p:nvSpPr>
        <p:spPr>
          <a:xfrm flipV="1">
            <a:off x="46911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6"/>
          <p:cNvSpPr/>
          <p:nvPr/>
        </p:nvSpPr>
        <p:spPr>
          <a:xfrm flipV="1">
            <a:off x="488160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7"/>
          <p:cNvSpPr/>
          <p:nvPr/>
        </p:nvSpPr>
        <p:spPr>
          <a:xfrm flipV="1">
            <a:off x="50817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8"/>
          <p:cNvSpPr/>
          <p:nvPr/>
        </p:nvSpPr>
        <p:spPr>
          <a:xfrm flipV="1">
            <a:off x="52815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9"/>
          <p:cNvSpPr/>
          <p:nvPr/>
        </p:nvSpPr>
        <p:spPr>
          <a:xfrm flipV="1">
            <a:off x="547992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0"/>
          <p:cNvSpPr/>
          <p:nvPr/>
        </p:nvSpPr>
        <p:spPr>
          <a:xfrm flipV="1">
            <a:off x="567216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1"/>
          <p:cNvSpPr/>
          <p:nvPr/>
        </p:nvSpPr>
        <p:spPr>
          <a:xfrm flipV="1">
            <a:off x="587052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2"/>
          <p:cNvSpPr/>
          <p:nvPr/>
        </p:nvSpPr>
        <p:spPr>
          <a:xfrm flipV="1">
            <a:off x="60706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3"/>
          <p:cNvSpPr/>
          <p:nvPr/>
        </p:nvSpPr>
        <p:spPr>
          <a:xfrm flipV="1">
            <a:off x="62704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4"/>
          <p:cNvSpPr/>
          <p:nvPr/>
        </p:nvSpPr>
        <p:spPr>
          <a:xfrm flipV="1">
            <a:off x="64612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5"/>
          <p:cNvSpPr/>
          <p:nvPr/>
        </p:nvSpPr>
        <p:spPr>
          <a:xfrm flipV="1">
            <a:off x="6661080" y="5675040"/>
            <a:ext cx="0" cy="6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66"/>
          <p:cNvSpPr/>
          <p:nvPr/>
        </p:nvSpPr>
        <p:spPr>
          <a:xfrm>
            <a:off x="2583000" y="5645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7"/>
          <p:cNvSpPr/>
          <p:nvPr/>
        </p:nvSpPr>
        <p:spPr>
          <a:xfrm>
            <a:off x="2496960" y="520056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8"/>
          <p:cNvSpPr/>
          <p:nvPr/>
        </p:nvSpPr>
        <p:spPr>
          <a:xfrm>
            <a:off x="2496960" y="47480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69"/>
          <p:cNvSpPr/>
          <p:nvPr/>
        </p:nvSpPr>
        <p:spPr>
          <a:xfrm>
            <a:off x="2496960" y="430380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0"/>
          <p:cNvSpPr/>
          <p:nvPr/>
        </p:nvSpPr>
        <p:spPr>
          <a:xfrm>
            <a:off x="2496960" y="385920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1"/>
          <p:cNvSpPr/>
          <p:nvPr/>
        </p:nvSpPr>
        <p:spPr>
          <a:xfrm>
            <a:off x="2496960" y="340668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2"/>
          <p:cNvSpPr/>
          <p:nvPr/>
        </p:nvSpPr>
        <p:spPr>
          <a:xfrm>
            <a:off x="2496960" y="296244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3"/>
          <p:cNvSpPr/>
          <p:nvPr/>
        </p:nvSpPr>
        <p:spPr>
          <a:xfrm>
            <a:off x="2496960" y="25099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4"/>
          <p:cNvSpPr/>
          <p:nvPr/>
        </p:nvSpPr>
        <p:spPr>
          <a:xfrm>
            <a:off x="2496960" y="20653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5"/>
          <p:cNvSpPr/>
          <p:nvPr/>
        </p:nvSpPr>
        <p:spPr>
          <a:xfrm>
            <a:off x="278928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6"/>
          <p:cNvSpPr/>
          <p:nvPr/>
        </p:nvSpPr>
        <p:spPr>
          <a:xfrm>
            <a:off x="298944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7"/>
          <p:cNvSpPr/>
          <p:nvPr/>
        </p:nvSpPr>
        <p:spPr>
          <a:xfrm>
            <a:off x="317988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8"/>
          <p:cNvSpPr/>
          <p:nvPr/>
        </p:nvSpPr>
        <p:spPr>
          <a:xfrm>
            <a:off x="337968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79"/>
          <p:cNvSpPr/>
          <p:nvPr/>
        </p:nvSpPr>
        <p:spPr>
          <a:xfrm>
            <a:off x="357840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0"/>
          <p:cNvSpPr/>
          <p:nvPr/>
        </p:nvSpPr>
        <p:spPr>
          <a:xfrm>
            <a:off x="377820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1"/>
          <p:cNvSpPr/>
          <p:nvPr/>
        </p:nvSpPr>
        <p:spPr>
          <a:xfrm>
            <a:off x="397044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2"/>
          <p:cNvSpPr/>
          <p:nvPr/>
        </p:nvSpPr>
        <p:spPr>
          <a:xfrm>
            <a:off x="416880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3"/>
          <p:cNvSpPr/>
          <p:nvPr/>
        </p:nvSpPr>
        <p:spPr>
          <a:xfrm>
            <a:off x="436896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4"/>
          <p:cNvSpPr/>
          <p:nvPr/>
        </p:nvSpPr>
        <p:spPr>
          <a:xfrm>
            <a:off x="4567320" y="579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5"/>
          <p:cNvSpPr/>
          <p:nvPr/>
        </p:nvSpPr>
        <p:spPr>
          <a:xfrm>
            <a:off x="472968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86"/>
          <p:cNvSpPr/>
          <p:nvPr/>
        </p:nvSpPr>
        <p:spPr>
          <a:xfrm>
            <a:off x="492804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87"/>
          <p:cNvSpPr/>
          <p:nvPr/>
        </p:nvSpPr>
        <p:spPr>
          <a:xfrm>
            <a:off x="512784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8"/>
          <p:cNvSpPr/>
          <p:nvPr/>
        </p:nvSpPr>
        <p:spPr>
          <a:xfrm>
            <a:off x="532800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89"/>
          <p:cNvSpPr/>
          <p:nvPr/>
        </p:nvSpPr>
        <p:spPr>
          <a:xfrm>
            <a:off x="551844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0"/>
          <p:cNvSpPr/>
          <p:nvPr/>
        </p:nvSpPr>
        <p:spPr>
          <a:xfrm>
            <a:off x="571860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1"/>
          <p:cNvSpPr/>
          <p:nvPr/>
        </p:nvSpPr>
        <p:spPr>
          <a:xfrm>
            <a:off x="591696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2"/>
          <p:cNvSpPr/>
          <p:nvPr/>
        </p:nvSpPr>
        <p:spPr>
          <a:xfrm>
            <a:off x="611712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3"/>
          <p:cNvSpPr/>
          <p:nvPr/>
        </p:nvSpPr>
        <p:spPr>
          <a:xfrm>
            <a:off x="630900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4"/>
          <p:cNvSpPr/>
          <p:nvPr/>
        </p:nvSpPr>
        <p:spPr>
          <a:xfrm>
            <a:off x="6507360" y="5791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5"/>
          <p:cNvSpPr/>
          <p:nvPr/>
        </p:nvSpPr>
        <p:spPr>
          <a:xfrm>
            <a:off x="4429440" y="596736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ime (hrs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6"/>
          <p:cNvSpPr/>
          <p:nvPr/>
        </p:nvSpPr>
        <p:spPr>
          <a:xfrm rot="16200000">
            <a:off x="1867320" y="3841560"/>
            <a:ext cx="1038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cipitation (inch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2744640" y="4800600"/>
            <a:ext cx="3924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2943360" y="3621240"/>
            <a:ext cx="1157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9"/>
          <p:cNvSpPr/>
          <p:nvPr/>
        </p:nvSpPr>
        <p:spPr>
          <a:xfrm>
            <a:off x="2981520" y="3643200"/>
            <a:ext cx="1131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form loss rat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0"/>
          <p:cNvSpPr/>
          <p:nvPr/>
        </p:nvSpPr>
        <p:spPr>
          <a:xfrm>
            <a:off x="3002040" y="3797280"/>
            <a:ext cx="11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.2 inches per hou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103"/>
          <p:cNvGrpSpPr/>
          <p:nvPr/>
        </p:nvGrpSpPr>
        <p:grpSpPr>
          <a:xfrm>
            <a:off x="2889360" y="3959280"/>
            <a:ext cx="460080" cy="752400"/>
            <a:chOff x="2889360" y="3959280"/>
            <a:chExt cx="460080" cy="752400"/>
          </a:xfrm>
        </p:grpSpPr>
        <p:sp>
          <p:nvSpPr>
            <p:cNvPr id="736" name="Line 101"/>
            <p:cNvSpPr/>
            <p:nvPr/>
          </p:nvSpPr>
          <p:spPr>
            <a:xfrm flipH="1">
              <a:off x="2912760" y="3959280"/>
              <a:ext cx="43668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2"/>
            <p:cNvSpPr/>
            <p:nvPr/>
          </p:nvSpPr>
          <p:spPr>
            <a:xfrm>
              <a:off x="2889360" y="4618080"/>
              <a:ext cx="698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0EDC-FC70-4A1F-A7C8-178F669CF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cess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2362320" y="1828800"/>
          <a:ext cx="435744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357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52"/>
          <p:cNvGrpSpPr/>
          <p:nvPr/>
        </p:nvGrpSpPr>
        <p:grpSpPr>
          <a:xfrm>
            <a:off x="2173320" y="5067360"/>
            <a:ext cx="5562720" cy="1145520"/>
            <a:chOff x="2173320" y="5067360"/>
            <a:chExt cx="5562720" cy="1145520"/>
          </a:xfrm>
        </p:grpSpPr>
        <p:sp>
          <p:nvSpPr>
            <p:cNvPr id="115" name="Freeform 3"/>
            <p:cNvSpPr/>
            <p:nvPr/>
          </p:nvSpPr>
          <p:spPr>
            <a:xfrm>
              <a:off x="2478240" y="5067360"/>
              <a:ext cx="4584600" cy="1440"/>
            </a:xfrm>
            <a:prstGeom prst="pi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2401920" y="50673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 flipV="1">
              <a:off x="247824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 flipV="1">
              <a:off x="324000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400212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 flipV="1">
              <a:off x="476424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 flipV="1">
              <a:off x="552600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 flipV="1">
              <a:off x="636444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7050240" y="506736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6"/>
            <p:cNvSpPr/>
            <p:nvPr/>
          </p:nvSpPr>
          <p:spPr>
            <a:xfrm>
              <a:off x="2173320" y="514368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       12     24    36    48     30    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7"/>
            <p:cNvSpPr/>
            <p:nvPr/>
          </p:nvSpPr>
          <p:spPr>
            <a:xfrm>
              <a:off x="2401920" y="575316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ours from start of rain st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51"/>
          <p:cNvGrpSpPr/>
          <p:nvPr/>
        </p:nvGrpSpPr>
        <p:grpSpPr>
          <a:xfrm>
            <a:off x="1406520" y="1117440"/>
            <a:ext cx="1073160" cy="3949920"/>
            <a:chOff x="1406520" y="1117440"/>
            <a:chExt cx="1073160" cy="3949920"/>
          </a:xfrm>
        </p:grpSpPr>
        <p:sp>
          <p:nvSpPr>
            <p:cNvPr id="127" name="Freeform 2"/>
            <p:cNvSpPr/>
            <p:nvPr/>
          </p:nvSpPr>
          <p:spPr>
            <a:xfrm>
              <a:off x="2478240" y="1117440"/>
              <a:ext cx="1440" cy="3949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01920" y="39243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2401920" y="16383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2401920" y="278136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2021040" y="1409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9"/>
            <p:cNvSpPr/>
            <p:nvPr/>
          </p:nvSpPr>
          <p:spPr>
            <a:xfrm>
              <a:off x="2021040" y="2552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2021040" y="3695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1"/>
            <p:cNvSpPr/>
            <p:nvPr/>
          </p:nvSpPr>
          <p:spPr>
            <a:xfrm rot="16200000">
              <a:off x="265320" y="3155400"/>
              <a:ext cx="27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Discharge (m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/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12B1-E975-4931-9C3E-90888EC48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nging the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643960" cy="52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often, it will be necessary to change the duration of the unit hydrograp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unit hydrographs are to be averaged, then they must be of the same dur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, convolution of the unit hydrograph with a precipitation event requires that the duration of the unit hydrograph be equal to the time step of the incremental precipit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st common method of altering the duration of a unit hydrograph is by the S-curve meth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-curve method involves continually lagging a unit hydrograph by its duration and adding the ordin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present example, the 6-hour unit hydrograph is continually lagged by 6 hours and the ordinates ar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6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9001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1736-D38D-497E-890E-2950EEA27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A7A5-696D-4D59-BCAC-7D95DB3D6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87156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7821-5BC6-48A5-A462-3E58AABE7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CFF-AED9-4A4D-AAE5-2A095450D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elop S-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0" name="Object 3"/>
          <p:cNvGraphicFramePr/>
          <p:nvPr/>
        </p:nvGraphicFramePr>
        <p:xfrm>
          <a:off x="500040" y="1214280"/>
          <a:ext cx="792972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214280"/>
                    <a:ext cx="79297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5E90-9D7A-4EAC-B0C5-46D2FDF7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vert to 1-Hour D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rrive at a 1-hour unit hydrograph, the S-curve is lagged by 1 hour and the difference between the two lagged S-curves is found to be a 1 hour unit hydrograph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because the S-curve was formulated from unit hydrographs having a 6 hour duration of uniformly distributed precipitation, the hydrograph resulting from the subtracting the two S-curves will be the result of 1/6 of an inch of precipita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the ordinates of the newly created 1-hour unit hydrograph must be multiplied by 6 in order to be a true unit hydrograph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1-hour unit hydrograph should have a higher peak which occurs earlier than the 6-hour unit hydrograp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3470-35D5-4D56-B176-D63A1F8FC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 1-hour U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Object 3" descr=""/>
          <p:cNvPicPr/>
          <p:nvPr/>
        </p:nvPicPr>
        <p:blipFill>
          <a:blip r:embed="rId1"/>
          <a:stretch/>
        </p:blipFill>
        <p:spPr>
          <a:xfrm>
            <a:off x="-857160" y="642960"/>
            <a:ext cx="105012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2201-2DEA-4F93-9BF0-7895DDC87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642960" y="1500120"/>
            <a:ext cx="835812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does exist a shortcut method for changing the duration of the unit hydrograph if the two durations are multiples of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done by displacing the the unit hydro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xample, if you had a two hour unit hydrograph and you wanted to change it to a four hour unit hydro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9AC3-C6BC-46E2-884E-2CD154AF4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3" name="Object 3"/>
          <p:cNvGraphicFramePr/>
          <p:nvPr/>
        </p:nvGraphicFramePr>
        <p:xfrm>
          <a:off x="2571840" y="3143160"/>
          <a:ext cx="3071880" cy="357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3143160"/>
                    <a:ext cx="30718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Rectangle 4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898560" y="1357200"/>
            <a:ext cx="7635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, a two hour unit hydrograph is given and a four hour unit hydrograph is need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two possibilities, develop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 - cur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since they are multiples use the shortcut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ACCA-E655-44E4-83D3-C43383F40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357120" y="1000080"/>
            <a:ext cx="878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2 hr-UH is then displaced by 2 hou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one because the 2 hr-UH will be used to repres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4 hr-U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Object 5"/>
          <p:cNvGraphicFramePr/>
          <p:nvPr/>
        </p:nvGraphicFramePr>
        <p:xfrm>
          <a:off x="3429000" y="2071800"/>
          <a:ext cx="364320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71800"/>
                    <a:ext cx="364320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5791320" y="9144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Rainfall shown in mm, as a bar grap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A1D6-969F-4A7A-9056-D40CA096A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898560" y="1214280"/>
            <a:ext cx="7635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two hydrographs are then sum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7" name="Object 5"/>
          <p:cNvGraphicFramePr/>
          <p:nvPr/>
        </p:nvGraphicFramePr>
        <p:xfrm>
          <a:off x="2071800" y="1785960"/>
          <a:ext cx="4714920" cy="50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785960"/>
                    <a:ext cx="471492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C69-CED8-4941-B2A8-C76CB6196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Shortcut Method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0508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357120" y="928800"/>
            <a:ext cx="8786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ly the summed hydrograph is divided by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one because when two unit hydrographs are added, the area under the curve is two units.  This has to be reduced back to one unit of runof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Object 5"/>
          <p:cNvGraphicFramePr/>
          <p:nvPr/>
        </p:nvGraphicFramePr>
        <p:xfrm>
          <a:off x="2857680" y="2428920"/>
          <a:ext cx="542916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2428920"/>
                    <a:ext cx="5429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3FC5-3A6C-4517-B864-6930AFBFE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verage Several UH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000080"/>
            <a:ext cx="7848720" cy="55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recommend that several unit hydrographs be derived and aver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t hydrographs must be of the same duration in order to be properly aver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ften not sufficient to simply average the ordinates of the unit hydrographs in order to obtain the final unit hydrograph.  A numerical average of several unit hydrographs which are different “shapes” may result in an “unrepresentative” unit hydro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ften recommended to plot the unit hydrographs that are to be averaged.  Then an average or representative unit hydrograph should be sketched or fitted to the plotted unit hydrograp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ly, the average unit hydrograph must have a volume of 1 inch of runoff for the ba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0EAC-394E-464C-A390-C23C85B16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nthetic UHG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ny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-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HABBS Implementation Pla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HRSC Hom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ttp://www.nohrsc.nws.gov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ttp://www.nohrsc.nws.gov/98/html/uhg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5AFC-E482-47B1-A1F2-2B8E75FE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ny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peak flow and time of peak flow are two of the most important parameters characterizing a unit hydrograph, the Snyder method employs factors defining these parameters, which are then used in the synthesis of the unit graph (Snyder, 193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peak flow factor,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lag fact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asic assumption in this method is that basins which have similar physiographic characteristics are located in the same area will have similar values of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refore, for ungaged basins, it is preferred that the basin be near or similar to gaged basins for which these coefficients can be determine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D769-11D1-4ECE-8E9F-DC1B9D7B4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Basic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3"/>
              <p:cNvSpPr txBox="1"/>
              <p:nvPr/>
            </p:nvSpPr>
            <p:spPr>
              <a:xfrm>
                <a:off x="1571760" y="1214280"/>
                <a:ext cx="50720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Object 4"/>
              <p:cNvSpPr txBox="1"/>
              <p:nvPr/>
            </p:nvSpPr>
            <p:spPr>
              <a:xfrm>
                <a:off x="1785960" y="2428920"/>
                <a:ext cx="5429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urat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G</m:t>
                        </m:r>
                      </m:sub>
                    </m:sSub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Object 6"/>
              <p:cNvSpPr txBox="1"/>
              <p:nvPr/>
            </p:nvSpPr>
            <p:spPr>
              <a:xfrm>
                <a:off x="1785960" y="4000680"/>
                <a:ext cx="54291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G</m:t>
                            </m:r>
                          </m:sub>
                        </m:sSub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7"/>
              <p:cNvSpPr txBox="1"/>
              <p:nvPr/>
            </p:nvSpPr>
            <p:spPr>
              <a:xfrm>
                <a:off x="1714680" y="5143680"/>
                <a:ext cx="5429160" cy="12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a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9875-5336-4DE8-8A6F-226AB7125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419076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 Sh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nal shape of the Snyder unit hydrograph is controlled by the equations for width at 50% and 75% of the peak of the U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1857240" y="2928600"/>
            <a:ext cx="5429160" cy="3214800"/>
            <a:chOff x="1857240" y="2928600"/>
            <a:chExt cx="5429160" cy="3214800"/>
          </a:xfrm>
        </p:grpSpPr>
        <p:sp>
          <p:nvSpPr>
            <p:cNvPr id="814" name="Line 4"/>
            <p:cNvSpPr/>
            <p:nvPr/>
          </p:nvSpPr>
          <p:spPr>
            <a:xfrm flipV="1">
              <a:off x="1857240" y="2928600"/>
              <a:ext cx="0" cy="32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5"/>
            <p:cNvSpPr/>
            <p:nvPr/>
          </p:nvSpPr>
          <p:spPr>
            <a:xfrm>
              <a:off x="1858680" y="6141960"/>
              <a:ext cx="54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"/>
            <p:cNvSpPr/>
            <p:nvPr/>
          </p:nvSpPr>
          <p:spPr>
            <a:xfrm>
              <a:off x="1857240" y="4416840"/>
              <a:ext cx="2103120" cy="1726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"/>
            <p:cNvSpPr/>
            <p:nvPr/>
          </p:nvSpPr>
          <p:spPr>
            <a:xfrm>
              <a:off x="3958920" y="4416840"/>
              <a:ext cx="2103120" cy="17265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8"/>
            <p:cNvSpPr/>
            <p:nvPr/>
          </p:nvSpPr>
          <p:spPr>
            <a:xfrm>
              <a:off x="3697920" y="4887360"/>
              <a:ext cx="52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9"/>
            <p:cNvSpPr/>
            <p:nvPr/>
          </p:nvSpPr>
          <p:spPr>
            <a:xfrm>
              <a:off x="3260160" y="5357880"/>
              <a:ext cx="131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F785-1827-4FF1-827E-B0CB7510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Object 3"/>
          <p:cNvGraphicFramePr/>
          <p:nvPr/>
        </p:nvGraphicFramePr>
        <p:xfrm>
          <a:off x="2743200" y="2209680"/>
          <a:ext cx="4148280" cy="367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414828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BFEE-6F4C-465D-85A4-5C779818C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imensionless Rat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Object 3"/>
          <p:cNvGraphicFramePr/>
          <p:nvPr/>
        </p:nvGraphicFramePr>
        <p:xfrm>
          <a:off x="2286000" y="1600200"/>
          <a:ext cx="4303800" cy="511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3038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56CF-57F7-46A0-B623-4729802E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iangular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Object 3"/>
          <p:cNvGraphicFramePr/>
          <p:nvPr/>
        </p:nvGraphicFramePr>
        <p:xfrm>
          <a:off x="2743200" y="1981080"/>
          <a:ext cx="3814920" cy="36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3814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7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3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5867280" y="83808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Discharge in m</a:t>
            </a:r>
            <a:r>
              <a:rPr b="1" lang="en-GB" sz="20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/s, as a lin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8319-85A4-4F7D-987F-E68A00C59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iangular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Object 3"/>
          <p:cNvGraphicFramePr/>
          <p:nvPr/>
        </p:nvGraphicFramePr>
        <p:xfrm>
          <a:off x="1604880" y="1828800"/>
          <a:ext cx="954000" cy="25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1828800"/>
                    <a:ext cx="95400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4"/>
          <p:cNvGraphicFramePr/>
          <p:nvPr/>
        </p:nvGraphicFramePr>
        <p:xfrm>
          <a:off x="1371600" y="2438280"/>
          <a:ext cx="1422360" cy="25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438280"/>
                    <a:ext cx="14223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5"/>
          <p:cNvGraphicFramePr/>
          <p:nvPr/>
        </p:nvGraphicFramePr>
        <p:xfrm>
          <a:off x="1066680" y="3124080"/>
          <a:ext cx="2032200" cy="443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3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124080"/>
                    <a:ext cx="203220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6"/>
          <p:cNvGraphicFramePr/>
          <p:nvPr/>
        </p:nvGraphicFramePr>
        <p:xfrm>
          <a:off x="1676520" y="3886200"/>
          <a:ext cx="803160" cy="457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886200"/>
                    <a:ext cx="80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7"/>
          <p:cNvGraphicFramePr/>
          <p:nvPr/>
        </p:nvGraphicFramePr>
        <p:xfrm>
          <a:off x="1371600" y="4724280"/>
          <a:ext cx="1479600" cy="4572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4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4724280"/>
                    <a:ext cx="1479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Rectangle 8"/>
          <p:cNvSpPr/>
          <p:nvPr/>
        </p:nvSpPr>
        <p:spPr>
          <a:xfrm>
            <a:off x="3963960" y="4726080"/>
            <a:ext cx="3578400" cy="11883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645.33 is the conversion used for delivering 1-inch of runoff (the area under the unit hydrograph) from 1-square mile in 1-hour (3600 seconds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Object 9"/>
          <p:cNvGraphicFramePr/>
          <p:nvPr/>
        </p:nvGraphicFramePr>
        <p:xfrm>
          <a:off x="1676520" y="5562720"/>
          <a:ext cx="869760" cy="457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84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562720"/>
                    <a:ext cx="869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10"/>
          <p:cNvGraphicFramePr/>
          <p:nvPr/>
        </p:nvGraphicFramePr>
        <p:xfrm>
          <a:off x="4495680" y="1752480"/>
          <a:ext cx="2374920" cy="22654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84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1752480"/>
                    <a:ext cx="23749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Line 11"/>
          <p:cNvSpPr/>
          <p:nvPr/>
        </p:nvSpPr>
        <p:spPr>
          <a:xfrm flipH="1" flipV="1">
            <a:off x="2896920" y="4954320"/>
            <a:ext cx="912600" cy="150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047D-ECE2-4B98-A022-C178B5CE7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484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1219320" y="2514600"/>
            <a:ext cx="6553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s from the initial assumption that 3/8 of the volume under the UHG is under the rising limb and the remaining 5/8 is under the recession li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Object 4"/>
          <p:cNvGraphicFramePr/>
          <p:nvPr/>
        </p:nvGraphicFramePr>
        <p:xfrm>
          <a:off x="1676520" y="3809880"/>
          <a:ext cx="5643360" cy="17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9880"/>
                    <a:ext cx="564336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5"/>
          <p:cNvGraphicFramePr/>
          <p:nvPr/>
        </p:nvGraphicFramePr>
        <p:xfrm>
          <a:off x="3962520" y="1828800"/>
          <a:ext cx="869760" cy="45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828800"/>
                    <a:ext cx="869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75EA-A4CE-4FCE-A59C-70F6357C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uration &amp; Ti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Object 3"/>
          <p:cNvGraphicFramePr/>
          <p:nvPr/>
        </p:nvGraphicFramePr>
        <p:xfrm>
          <a:off x="3809880" y="2590920"/>
          <a:ext cx="727200" cy="40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90920"/>
                    <a:ext cx="727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Object 4"/>
              <p:cNvSpPr txBox="1"/>
              <p:nvPr/>
            </p:nvSpPr>
            <p:spPr>
              <a:xfrm>
                <a:off x="3733920" y="3276720"/>
                <a:ext cx="927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2" name="Rectangle 5"/>
          <p:cNvSpPr/>
          <p:nvPr/>
        </p:nvSpPr>
        <p:spPr>
          <a:xfrm>
            <a:off x="5334120" y="2819520"/>
            <a:ext cx="190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= La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Object 6"/>
          <p:cNvGraphicFramePr/>
          <p:nvPr/>
        </p:nvGraphicFramePr>
        <p:xfrm>
          <a:off x="3733920" y="3962520"/>
          <a:ext cx="955440" cy="25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962520"/>
                    <a:ext cx="95544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7"/>
          <p:cNvGraphicFramePr/>
          <p:nvPr/>
        </p:nvGraphicFramePr>
        <p:xfrm>
          <a:off x="3733920" y="4419720"/>
          <a:ext cx="1003320" cy="406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6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419720"/>
                    <a:ext cx="10033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Rectangle 8"/>
          <p:cNvSpPr/>
          <p:nvPr/>
        </p:nvSpPr>
        <p:spPr>
          <a:xfrm>
            <a:off x="2362320" y="4800600"/>
            <a:ext cx="335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stimation purpo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8" name="Object 9"/>
          <p:cNvGraphicFramePr/>
          <p:nvPr/>
        </p:nvGraphicFramePr>
        <p:xfrm>
          <a:off x="5791320" y="4952880"/>
          <a:ext cx="803160" cy="241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4952880"/>
                    <a:ext cx="80316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Rectangle 10"/>
          <p:cNvSpPr/>
          <p:nvPr/>
        </p:nvSpPr>
        <p:spPr>
          <a:xfrm>
            <a:off x="2666880" y="1905120"/>
            <a:ext cx="3124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from the tri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11"/>
          <p:cNvSpPr/>
          <p:nvPr/>
        </p:nvSpPr>
        <p:spPr>
          <a:xfrm flipH="1" flipV="1">
            <a:off x="4649400" y="2896920"/>
            <a:ext cx="684360" cy="7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2"/>
          <p:cNvSpPr/>
          <p:nvPr/>
        </p:nvSpPr>
        <p:spPr>
          <a:xfrm flipH="1">
            <a:off x="4726080" y="3201840"/>
            <a:ext cx="684000" cy="150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D1C0-52F3-4EA2-A93D-981C4E65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ime of Concen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90800" y="1934640"/>
            <a:ext cx="4759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Eq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4EF-0973-4B6F-A4F7-D5B51CD66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 Regressio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3"/>
          <p:cNvGraphicFramePr/>
          <p:nvPr/>
        </p:nvGraphicFramePr>
        <p:xfrm>
          <a:off x="3429000" y="2133720"/>
          <a:ext cx="1574640" cy="55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133720"/>
                    <a:ext cx="157464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4"/>
          <p:cNvSpPr/>
          <p:nvPr/>
        </p:nvSpPr>
        <p:spPr>
          <a:xfrm>
            <a:off x="1523880" y="3200400"/>
            <a:ext cx="601992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a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lag time i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= Length of the longest drainage path in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(1000/CN) - 10  (CN=curve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Slope = The average watershed slope in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D356-AC5E-4D6E-B3F6-018C589A4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egment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“hydraulic”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ameter being estimated is essentially the time of concentration or longest travel time within the ba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 longest travel time corresponds to the longest drainag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ow path is broken into segments with the flow in each segment being represented by some type of flow reg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flow representations are overland, sheet, rill and gully, and channel flow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BD61-4E06-449E-9EB1-1050CFE90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 Basic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3"/>
              <p:cNvSpPr txBox="1"/>
              <p:nvPr/>
            </p:nvSpPr>
            <p:spPr>
              <a:xfrm>
                <a:off x="6553080" y="990720"/>
                <a:ext cx="1079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7" name="Rectangle 4"/>
          <p:cNvSpPr/>
          <p:nvPr/>
        </p:nvSpPr>
        <p:spPr>
          <a:xfrm>
            <a:off x="6095880" y="2438280"/>
            <a:ext cx="21337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Cuen (1989) and SCS (1972) provide values of k for several flow situations (slope in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5"/>
          <p:cNvGraphicFramePr/>
          <p:nvPr/>
        </p:nvGraphicFramePr>
        <p:xfrm>
          <a:off x="762120" y="1981080"/>
          <a:ext cx="5646600" cy="21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564660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6"/>
          <p:cNvGraphicFramePr/>
          <p:nvPr/>
        </p:nvGraphicFramePr>
        <p:xfrm>
          <a:off x="304920" y="4191120"/>
          <a:ext cx="5643360" cy="2290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91120"/>
                    <a:ext cx="564336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Rectangle 7"/>
          <p:cNvSpPr/>
          <p:nvPr/>
        </p:nvSpPr>
        <p:spPr>
          <a:xfrm>
            <a:off x="5257800" y="48006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rell &amp; Hamilton, 19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35EE-A50D-4010-9344-CA31C307A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iangular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it can be said that the triangular version will not cause or introduce noticeable differences in the simulation of a storm event, particularly when one is concerned with the peak f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ong term simulations, the triangular unit hydrograph does have a potential impact, due to the shape of the recession li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.S. Army Corps of Engineers (HEC 1990) fits a Clark unit hydrograph to match the peak flows estimated by the Snyder unit hydrograph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lso possible to fit a synthetic or mathematical function to the peak flow and timing parameters of the desired unit hydro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n and White (1982) fitted a gamma probability distribution using peak flow and time to peak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F03A-834D-409D-9DF6-8C008CAA9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itting a Gamma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3"/>
              <p:cNvSpPr txBox="1"/>
              <p:nvPr/>
            </p:nvSpPr>
            <p:spPr>
              <a:xfrm>
                <a:off x="3581280" y="1752480"/>
                <a:ext cx="18669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/</m:t>
                            </m:r>
                            <m:r>
                              <m:t xml:space="preserve">b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99" name="Object 4"/>
          <p:cNvGraphicFramePr/>
          <p:nvPr/>
        </p:nvGraphicFramePr>
        <p:xfrm>
          <a:off x="2057400" y="2590920"/>
          <a:ext cx="5019840" cy="33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90920"/>
                    <a:ext cx="501984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1494-33D6-4160-A755-6AF0B7602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ime-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7183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8"/>
          <p:cNvSpPr/>
          <p:nvPr/>
        </p:nvSpPr>
        <p:spPr>
          <a:xfrm rot="600">
            <a:off x="6171840" y="379440"/>
            <a:ext cx="20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33"/>
                </a:solidFill>
                <a:latin typeface="Arial"/>
              </a:rPr>
              <a:t>Rising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5867280" y="914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ising flood water in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243D-8FDA-464C-A299-E2F222A5B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ime-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Object 3"/>
          <p:cNvGraphicFramePr/>
          <p:nvPr/>
        </p:nvGraphicFramePr>
        <p:xfrm>
          <a:off x="2127240" y="2360520"/>
          <a:ext cx="4900680" cy="21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240" y="2360520"/>
                    <a:ext cx="4900680" cy="21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BEA9-3750-41AB-9C71-27C9263DD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ime-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3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237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C486-751C-481A-9A83-681E4D8BD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ypothe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90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ershed is divided into 8 isochrones of travel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ar reservoir routing coefficient, R, estimated as 5.5 ho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ime interval of 2.0 hours will be used for the comp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4" name="Object 4"/>
          <p:cNvGraphicFramePr/>
          <p:nvPr/>
        </p:nvGraphicFramePr>
        <p:xfrm>
          <a:off x="2743200" y="3276720"/>
          <a:ext cx="3814920" cy="29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76720"/>
                    <a:ext cx="38149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0BA2-2B97-4CAB-B40B-6A581BA0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ule of Thu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779040" y="2018880"/>
            <a:ext cx="7907400" cy="201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- The linear reservoir routing coefficient can be estimated as approximately 0.75 times the time of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FA13-2E42-46CA-BDE5-CC047B6B7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Basin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1" name="Object 3"/>
          <p:cNvGraphicFramePr/>
          <p:nvPr/>
        </p:nvGraphicFramePr>
        <p:xfrm>
          <a:off x="2590920" y="2362320"/>
          <a:ext cx="5656320" cy="239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62320"/>
                    <a:ext cx="565632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4"/>
          <p:cNvGraphicFramePr/>
          <p:nvPr/>
        </p:nvGraphicFramePr>
        <p:xfrm>
          <a:off x="1295280" y="3429000"/>
          <a:ext cx="2908440" cy="228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429000"/>
                    <a:ext cx="290844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AC87-B19D-4994-8B24-35B1791CD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cremental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7" name="Object 3"/>
          <p:cNvGraphicFramePr/>
          <p:nvPr/>
        </p:nvGraphicFramePr>
        <p:xfrm>
          <a:off x="2743200" y="1828800"/>
          <a:ext cx="5300640" cy="35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828800"/>
                    <a:ext cx="5300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Object 4"/>
          <p:cNvGraphicFramePr/>
          <p:nvPr/>
        </p:nvGraphicFramePr>
        <p:xfrm>
          <a:off x="838080" y="4191120"/>
          <a:ext cx="2908440" cy="2280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2908440" cy="22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78A7-0EC6-4AD6-B88F-08F334097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Time-Area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3" name="Object 3"/>
          <p:cNvGraphicFramePr/>
          <p:nvPr/>
        </p:nvGraphicFramePr>
        <p:xfrm>
          <a:off x="2590920" y="1752480"/>
          <a:ext cx="5300640" cy="35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530064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5" name="Object 4"/>
          <p:cNvGraphicFramePr/>
          <p:nvPr/>
        </p:nvGraphicFramePr>
        <p:xfrm>
          <a:off x="1066680" y="4495680"/>
          <a:ext cx="2222640" cy="174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95680"/>
                    <a:ext cx="222264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EF7A-CB01-4D2C-9E04-B1820EC5D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ouble Getting a Time-Area Cu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Object 3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860400" cy="258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0" name="Object 4"/>
              <p:cNvSpPr txBox="1"/>
              <p:nvPr/>
            </p:nvSpPr>
            <p:spPr>
              <a:xfrm>
                <a:off x="3981600" y="2865600"/>
                <a:ext cx="33526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      fo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Ti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5"/>
              <p:cNvSpPr txBox="1"/>
              <p:nvPr/>
            </p:nvSpPr>
            <p:spPr>
              <a:xfrm>
                <a:off x="3632040" y="3398760"/>
                <a:ext cx="42292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for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Ti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Rectangle 6"/>
          <p:cNvSpPr/>
          <p:nvPr/>
        </p:nvSpPr>
        <p:spPr>
          <a:xfrm>
            <a:off x="3963960" y="4268880"/>
            <a:ext cx="3730680" cy="1189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nthetic time-area curve -  The U.S. Army Corps of Engineers (HEC 19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5C93-C16E-4887-A5F3-48C9BFCD2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stantaneous U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3"/>
              <p:cNvSpPr txBox="1"/>
              <p:nvPr/>
            </p:nvSpPr>
            <p:spPr>
              <a:xfrm>
                <a:off x="3505320" y="1828800"/>
                <a:ext cx="21589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U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UH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ct 4"/>
              <p:cNvSpPr txBox="1"/>
              <p:nvPr/>
            </p:nvSpPr>
            <p:spPr>
              <a:xfrm>
                <a:off x="3962520" y="2514600"/>
                <a:ext cx="1003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7" name="Rectangle 5"/>
          <p:cNvSpPr/>
          <p:nvPr/>
        </p:nvSpPr>
        <p:spPr>
          <a:xfrm>
            <a:off x="2438280" y="35812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= the time step used n the calculation of the translation unit hydro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nal unit hydrograph may be found by averaging 2 instantaneous unit hydrographs that are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time step a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26D-CBF8-4621-8B0A-523C76CA5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Object 3"/>
          <p:cNvGraphicFramePr/>
          <p:nvPr/>
        </p:nvGraphicFramePr>
        <p:xfrm>
          <a:off x="2209680" y="1752480"/>
          <a:ext cx="455148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4551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reeform 2"/>
          <p:cNvSpPr/>
          <p:nvPr/>
        </p:nvSpPr>
        <p:spPr>
          <a:xfrm>
            <a:off x="2478240" y="1117440"/>
            <a:ext cx="1440" cy="3949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2478240" y="5067360"/>
            <a:ext cx="4584600" cy="1440"/>
          </a:xfrm>
          <a:prstGeom prst="pie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"/>
          <p:cNvSpPr/>
          <p:nvPr/>
        </p:nvSpPr>
        <p:spPr>
          <a:xfrm>
            <a:off x="2471760" y="1397160"/>
            <a:ext cx="4565520" cy="281916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706840" y="4457880"/>
            <a:ext cx="152280" cy="60948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2859120" y="3390840"/>
            <a:ext cx="152280" cy="16765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011400" y="4305240"/>
            <a:ext cx="152640" cy="7621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240192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2401920" y="1638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2401920" y="2781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3"/>
          <p:cNvSpPr/>
          <p:nvPr/>
        </p:nvSpPr>
        <p:spPr>
          <a:xfrm>
            <a:off x="2554200" y="3276720"/>
            <a:ext cx="1800" cy="17780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2554200" y="3543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2554200" y="3924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2554200" y="43052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2554200" y="468648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2401920" y="5067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9"/>
          <p:cNvSpPr/>
          <p:nvPr/>
        </p:nvSpPr>
        <p:spPr>
          <a:xfrm flipV="1">
            <a:off x="2478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"/>
          <p:cNvSpPr/>
          <p:nvPr/>
        </p:nvSpPr>
        <p:spPr>
          <a:xfrm flipV="1">
            <a:off x="3240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 flipV="1">
            <a:off x="400212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 flipV="1">
            <a:off x="4764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3"/>
          <p:cNvSpPr/>
          <p:nvPr/>
        </p:nvSpPr>
        <p:spPr>
          <a:xfrm flipV="1">
            <a:off x="552600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4"/>
          <p:cNvSpPr/>
          <p:nvPr/>
        </p:nvSpPr>
        <p:spPr>
          <a:xfrm flipV="1">
            <a:off x="63644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5"/>
          <p:cNvSpPr/>
          <p:nvPr/>
        </p:nvSpPr>
        <p:spPr>
          <a:xfrm flipV="1">
            <a:off x="7050240" y="506736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2173320" y="5143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      12     24    36    48     30  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2401920" y="57531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s from start of rain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202104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2021040" y="2552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0"/>
          <p:cNvSpPr/>
          <p:nvPr/>
        </p:nvSpPr>
        <p:spPr>
          <a:xfrm>
            <a:off x="2021040" y="3695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 rot="16200000">
            <a:off x="265320" y="31554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harge (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5"/>
          <p:cNvSpPr/>
          <p:nvPr/>
        </p:nvSpPr>
        <p:spPr>
          <a:xfrm rot="16898400">
            <a:off x="2683440" y="2186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ing 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8"/>
          <p:cNvSpPr/>
          <p:nvPr/>
        </p:nvSpPr>
        <p:spPr>
          <a:xfrm>
            <a:off x="2706840" y="3024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2554200" y="33908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2554200" y="3772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4"/>
          <p:cNvSpPr/>
          <p:nvPr/>
        </p:nvSpPr>
        <p:spPr>
          <a:xfrm>
            <a:off x="2554200" y="41529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5"/>
          <p:cNvSpPr/>
          <p:nvPr/>
        </p:nvSpPr>
        <p:spPr>
          <a:xfrm>
            <a:off x="4114800" y="1295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4114800" y="11426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45720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33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6172200" y="304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Peak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5867280" y="914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ximum discharge in th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A2A2-38FF-45CD-9F8D-C5E9E7631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cremental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Object 3"/>
          <p:cNvGraphicFramePr/>
          <p:nvPr/>
        </p:nvGraphicFramePr>
        <p:xfrm>
          <a:off x="1905120" y="2133720"/>
          <a:ext cx="5300640" cy="35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133720"/>
                    <a:ext cx="5300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602A-254D-40B4-8CE9-5732EF85D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cremental 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Object 3"/>
          <p:cNvGraphicFramePr/>
          <p:nvPr/>
        </p:nvGraphicFramePr>
        <p:xfrm>
          <a:off x="1828800" y="2362320"/>
          <a:ext cx="5300640" cy="35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5300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F50D-936D-44D1-BFD2-F623C1694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stantaneous UH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2" name="Object 3"/>
          <p:cNvGraphicFramePr/>
          <p:nvPr/>
        </p:nvGraphicFramePr>
        <p:xfrm>
          <a:off x="1981080" y="2133720"/>
          <a:ext cx="5300640" cy="35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530064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9230-F567-4747-B5AD-9A9111CF9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g &amp; A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Object 3"/>
          <p:cNvGraphicFramePr/>
          <p:nvPr/>
        </p:nvGraphicFramePr>
        <p:xfrm>
          <a:off x="1981080" y="1981080"/>
          <a:ext cx="5300640" cy="35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30064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C4F0-0E80-4D5A-84ED-2DE86E81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morpho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609480" y="1981080"/>
            <a:ext cx="7772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tream network topology and probabilit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of Stream Numbe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: 3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of Stream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: 1.5-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of Strea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: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4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1295640" cy="795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5" descr=""/>
          <p:cNvPicPr/>
          <p:nvPr/>
        </p:nvPicPr>
        <p:blipFill>
          <a:blip r:embed="rId2"/>
          <a:stretch/>
        </p:blipFill>
        <p:spPr>
          <a:xfrm>
            <a:off x="4343400" y="3809880"/>
            <a:ext cx="1219320" cy="8683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3"/>
          <a:stretch/>
        </p:blipFill>
        <p:spPr>
          <a:xfrm>
            <a:off x="4343400" y="4876920"/>
            <a:ext cx="12193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2073-D816-4982-A36C-0885322DD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hler Stream 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5"/>
          <p:cNvSpPr/>
          <p:nvPr/>
        </p:nvSpPr>
        <p:spPr>
          <a:xfrm>
            <a:off x="2971800" y="2209680"/>
            <a:ext cx="5335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6"/>
          <p:cNvSpPr/>
          <p:nvPr/>
        </p:nvSpPr>
        <p:spPr>
          <a:xfrm flipV="1">
            <a:off x="3505320" y="220932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7"/>
          <p:cNvSpPr/>
          <p:nvPr/>
        </p:nvSpPr>
        <p:spPr>
          <a:xfrm>
            <a:off x="3505320" y="2971800"/>
            <a:ext cx="5331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8"/>
          <p:cNvSpPr/>
          <p:nvPr/>
        </p:nvSpPr>
        <p:spPr>
          <a:xfrm>
            <a:off x="4038480" y="39625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9"/>
          <p:cNvSpPr/>
          <p:nvPr/>
        </p:nvSpPr>
        <p:spPr>
          <a:xfrm flipV="1">
            <a:off x="4038480" y="3429000"/>
            <a:ext cx="11430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0"/>
          <p:cNvSpPr/>
          <p:nvPr/>
        </p:nvSpPr>
        <p:spPr>
          <a:xfrm flipH="1" flipV="1">
            <a:off x="4876920" y="2514600"/>
            <a:ext cx="3045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1"/>
          <p:cNvSpPr/>
          <p:nvPr/>
        </p:nvSpPr>
        <p:spPr>
          <a:xfrm flipV="1">
            <a:off x="4876920" y="19810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2"/>
          <p:cNvSpPr/>
          <p:nvPr/>
        </p:nvSpPr>
        <p:spPr>
          <a:xfrm flipH="1" flipV="1">
            <a:off x="4571640" y="18284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3"/>
          <p:cNvSpPr/>
          <p:nvPr/>
        </p:nvSpPr>
        <p:spPr>
          <a:xfrm flipV="1">
            <a:off x="5181480" y="29718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4"/>
          <p:cNvSpPr/>
          <p:nvPr/>
        </p:nvSpPr>
        <p:spPr>
          <a:xfrm>
            <a:off x="3048120" y="342900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5"/>
          <p:cNvSpPr/>
          <p:nvPr/>
        </p:nvSpPr>
        <p:spPr>
          <a:xfrm>
            <a:off x="2743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6"/>
          <p:cNvSpPr/>
          <p:nvPr/>
        </p:nvSpPr>
        <p:spPr>
          <a:xfrm>
            <a:off x="38098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7"/>
          <p:cNvSpPr/>
          <p:nvPr/>
        </p:nvSpPr>
        <p:spPr>
          <a:xfrm>
            <a:off x="31240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8"/>
          <p:cNvSpPr/>
          <p:nvPr/>
        </p:nvSpPr>
        <p:spPr>
          <a:xfrm>
            <a:off x="52578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9"/>
          <p:cNvSpPr/>
          <p:nvPr/>
        </p:nvSpPr>
        <p:spPr>
          <a:xfrm>
            <a:off x="46483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0"/>
          <p:cNvSpPr/>
          <p:nvPr/>
        </p:nvSpPr>
        <p:spPr>
          <a:xfrm>
            <a:off x="5715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21"/>
          <p:cNvSpPr/>
          <p:nvPr/>
        </p:nvSpPr>
        <p:spPr>
          <a:xfrm>
            <a:off x="38862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23"/>
          <p:cNvSpPr/>
          <p:nvPr/>
        </p:nvSpPr>
        <p:spPr>
          <a:xfrm>
            <a:off x="4724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4"/>
          <p:cNvSpPr/>
          <p:nvPr/>
        </p:nvSpPr>
        <p:spPr>
          <a:xfrm>
            <a:off x="4114800" y="449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5"/>
          <p:cNvSpPr/>
          <p:nvPr/>
        </p:nvSpPr>
        <p:spPr>
          <a:xfrm>
            <a:off x="50292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B7B5-55B7-4197-860C-0352FBD8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380880" y="1905120"/>
            <a:ext cx="8382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travels through basin, making transitions from lower to higher stream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times and transition probabilities can be approximated using Strahler stream ordering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a probability density function analogous to an instantaneous unit hydro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gnore surface/subsurface travel times to get a channel-based GIU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D250-EB51-4719-A193-8E5CF13D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UH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-based, triangular instantaneous unit hydrograp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km, V in m/s,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4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2057400" cy="9144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5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3352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4T17:02:25Z</dcterms:created>
  <dc:creator>Dennis Johnson</dc:creator>
  <dc:description/>
  <dc:language>en-US</dc:language>
  <cp:lastModifiedBy>Good</cp:lastModifiedBy>
  <cp:lastPrinted>1999-10-22T20:52:16Z</cp:lastPrinted>
  <dcterms:modified xsi:type="dcterms:W3CDTF">2011-03-02T19:28:15Z</dcterms:modified>
  <cp:revision>52</cp:revision>
  <dc:subject/>
  <dc:title>Unit Hydrograph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frf@riverside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docs\www\class\hydromet\09_Oct13_1999\docs\fiedler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