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57.wmf" ContentType="image/x-wmf"/>
  <Override PartName="/ppt/media/image55.wmf" ContentType="image/x-wmf"/>
  <Override PartName="/ppt/media/image54.wmf" ContentType="image/x-wmf"/>
  <Override PartName="/ppt/media/image50.wmf" ContentType="image/x-wmf"/>
  <Override PartName="/ppt/media/image49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56.wmf" ContentType="image/x-wmf"/>
  <Override PartName="/ppt/media/image52.wmf" ContentType="image/x-wmf"/>
  <Override PartName="/ppt/media/image12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60.wmf" ContentType="image/x-wmf"/>
  <Override PartName="/ppt/media/image19.wmf" ContentType="image/x-wmf"/>
  <Override PartName="/ppt/media/image21.png" ContentType="image/png"/>
  <Override PartName="/ppt/media/image6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66.wmf" ContentType="image/x-wmf"/>
  <Override PartName="/ppt/media/image26.wmf" ContentType="image/x-wmf"/>
  <Override PartName="/ppt/media/image65.wmf" ContentType="image/x-wmf"/>
  <Override PartName="/ppt/media/image25.png" ContentType="image/png"/>
  <Override PartName="/ppt/media/image64.wmf" ContentType="image/x-wmf"/>
  <Override PartName="/ppt/media/image27.wmf" ContentType="image/x-wmf"/>
  <Override PartName="/ppt/media/image24.wmf" ContentType="image/x-wmf"/>
  <Override PartName="/ppt/media/image16.png" ContentType="image/png"/>
  <Override PartName="/ppt/media/image4.png" ContentType="image/png"/>
  <Override PartName="/ppt/media/image5.png" ContentType="image/png"/>
  <Override PartName="/ppt/media/image2.wmf" ContentType="image/x-wmf"/>
  <Override PartName="/ppt/media/image14.wmf" ContentType="image/x-wmf"/>
  <Override PartName="/ppt/media/image3.gif" ContentType="image/gif"/>
  <Override PartName="/ppt/media/image40.wmf" ContentType="image/x-wmf"/>
  <Override PartName="/ppt/media/image6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51.wmf" ContentType="image/x-wmf"/>
  <Override PartName="/ppt/media/image9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97A4-2FE9-4A8D-AB81-FD2AE3D2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7189-9EEF-4F76-8E3D-8CC176971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1658-B622-43DA-B194-883A01E75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ED13-9A6F-476F-BF44-BEF8DA046D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AB09-F5E5-42D2-8528-EBF33E44A0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795E-EBC9-4BA7-9103-71936C5BB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5BD2-45B7-4F8E-9F33-2D97D53F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932C-3E74-4E66-A496-79ECC848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74F5-8E75-42BA-BE19-42294812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5DF-9163-4273-B619-9CFA0F68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C2FD-7238-45C8-A86B-F4B262EAF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580B-59DF-4C77-B3B9-5F277310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0900-DBD3-4D6E-A1C6-0ECE38C25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FCF7-5E4F-4D23-A3D6-852A6815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985E-C86D-48A1-A37D-3B393750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30A8-5BFA-4C98-AE4C-8B300FE0B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34BB-B723-4A8B-AADB-F520AACD5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8B16-03BB-4D39-86DB-D2A789B12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A751-B590-46C7-9DA0-41689D53F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E13-090B-40C2-AE5B-89AEC1219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5BE4-6B40-423F-B3A6-1EF80DE56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49FF-D4E3-4081-8E4F-A9B4666B1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14A3-C6A0-4237-9F43-E88F395D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72B9-4319-4086-AA6E-BAF69D0D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7E4F-17D4-49E0-9415-DDFF33F8C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3A3-48DC-4094-A880-9FCC8790B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045-6844-40E3-BC28-89BD1FFC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57B4-0EA4-4E1C-B916-47AEAA2A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F8E8-2526-4ED1-97D2-6E9B42D18F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371D-384C-4B05-817E-40A67B54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6E35-60FF-4809-A403-D2A9EAD6B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526A-F388-4206-9469-327CCF01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B6C3-A65B-4B17-A871-22ACBFBCA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AE97-6B79-44D9-B125-93CC5988B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EB56-A9BD-4574-AA87-5B49E42D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0ED3-1355-4E97-BB20-EEDC96CE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A9B8-19D8-4C46-B886-45C4DDD01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6D6-E0D3-4066-8142-0CC96036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ACCF-5753-48AD-A3A2-E7458AB98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B4E4-3AD1-4FA0-9186-E9641C9C8B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B02-4D24-4228-91A9-8B3A31CF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8436-505A-4069-87B1-07FF03BB2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0276-4B24-4611-ACCE-D9F389B9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CF81-AFD2-4A6E-88FA-830D8E0CD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40E6-4220-4781-B8DF-72C016C40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83A3-317F-442B-8788-95376309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B299-D870-4628-99DF-D707CAAE7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183-3318-44D7-B6A5-89ED2DE4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C58F-140F-4961-8CAE-631B0FBB2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4B35-3A13-44C6-931D-57FC918EC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C44A-10B2-475D-A0D8-20DB0ED218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3508-34B8-462F-BA74-A2CCFE84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D94-1B9D-488E-952A-267A8DBC4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A8E-94E5-492D-8546-61A0D2DF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95E4-651D-45A0-BDAD-EA42CEE4E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262-815F-466E-B30B-F700F1BBE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C882-F903-4101-A111-28BE23074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4B1-93E1-454E-A0E6-34756494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E37-29EF-4781-BB41-49573354E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2D6E-44D2-4166-8172-B8C7C480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793A-CAC2-4799-88EB-21C825498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872E-4855-466B-BB07-9541555127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36B-457F-4EA3-AC6C-306595E3D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213-70A3-4110-BC26-4ABA95B1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515C-4E3E-49B2-82A1-EDA98BE7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8182-351A-4C2F-A2EA-1F926A423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05F-0933-495E-9599-43F9B0E7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761-CF2C-4DBF-911B-13F9F332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DE0-1187-477F-A95A-F1CBBC59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FEF-B3D0-4A16-9447-087C07FB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9D4-997F-40D8-ACB3-DA66DD16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5C7-1BB4-4698-83B2-0B01A2A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AED-969B-4C42-B5A5-7076B373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E65-9608-413C-B8D4-0F150113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BF4-2E86-4335-8235-D055DDC1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BD7-22C8-4949-8DB8-E228C0F3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F3C-1D78-42CF-B953-594AEFD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ADB-4FA9-42C3-929F-6F14380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B66-3612-414C-8C66-B3C7F5C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807F-E2FC-42BC-B2D0-8A09B6945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3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E  424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64008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ydrograph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. Saleh AlHass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C59B-6CAE-4447-B01B-435AD459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 rot="3378000">
            <a:off x="4345560" y="2427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8"/>
          <p:cNvSpPr/>
          <p:nvPr/>
        </p:nvSpPr>
        <p:spPr>
          <a:xfrm rot="21591000">
            <a:off x="6172200" y="363600"/>
            <a:ext cx="26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9"/>
          <p:cNvSpPr/>
          <p:nvPr/>
        </p:nvSpPr>
        <p:spPr>
          <a:xfrm>
            <a:off x="6172200" y="99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lling flood water in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6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7"/>
          <p:cNvSpPr/>
          <p:nvPr/>
        </p:nvSpPr>
        <p:spPr>
          <a:xfrm>
            <a:off x="2706840" y="647640"/>
            <a:ext cx="21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9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0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1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8"/>
          <p:cNvSpPr/>
          <p:nvPr/>
        </p:nvSpPr>
        <p:spPr>
          <a:xfrm>
            <a:off x="6172200" y="304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9"/>
          <p:cNvSpPr/>
          <p:nvPr/>
        </p:nvSpPr>
        <p:spPr>
          <a:xfrm>
            <a:off x="6248520" y="914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difference between the peak of the rain storm and the peak flow of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9"/>
          <p:cNvSpPr/>
          <p:nvPr/>
        </p:nvSpPr>
        <p:spPr>
          <a:xfrm>
            <a:off x="3049560" y="3773520"/>
            <a:ext cx="3086280" cy="341280"/>
          </a:xfrm>
          <a:prstGeom prst="pie">
            <a:avLst/>
          </a:prstGeom>
          <a:noFill/>
          <a:ln w="28440">
            <a:solidFill>
              <a:srgbClr val="9900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4154400" y="4305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7"/>
          <p:cNvSpPr/>
          <p:nvPr/>
        </p:nvSpPr>
        <p:spPr>
          <a:xfrm>
            <a:off x="2706840" y="647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9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0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1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617220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9"/>
          <p:cNvSpPr/>
          <p:nvPr/>
        </p:nvSpPr>
        <p:spPr>
          <a:xfrm>
            <a:off x="5943600" y="990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 discharge of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8"/>
          <p:cNvSpPr/>
          <p:nvPr/>
        </p:nvSpPr>
        <p:spPr>
          <a:xfrm>
            <a:off x="3227400" y="2908440"/>
            <a:ext cx="2146320" cy="965160"/>
          </a:xfrm>
          <a:prstGeom prst="pie">
            <a:avLst/>
          </a:prstGeom>
          <a:noFill/>
          <a:ln cap="rnd" w="28440">
            <a:solidFill>
              <a:srgbClr val="990033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9"/>
          <p:cNvSpPr/>
          <p:nvPr/>
        </p:nvSpPr>
        <p:spPr>
          <a:xfrm>
            <a:off x="3049560" y="3773520"/>
            <a:ext cx="3086280" cy="34128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4154400" y="4305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3925800" y="339084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4"/>
          <p:cNvSpPr/>
          <p:nvPr/>
        </p:nvSpPr>
        <p:spPr>
          <a:xfrm>
            <a:off x="3697200" y="24004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6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7"/>
          <p:cNvSpPr/>
          <p:nvPr/>
        </p:nvSpPr>
        <p:spPr>
          <a:xfrm>
            <a:off x="2706840" y="647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9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0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6172200" y="304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9"/>
          <p:cNvSpPr/>
          <p:nvPr/>
        </p:nvSpPr>
        <p:spPr>
          <a:xfrm>
            <a:off x="6172200" y="1000080"/>
            <a:ext cx="2666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W (B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1"/>
          <p:cNvSpPr/>
          <p:nvPr/>
        </p:nvSpPr>
        <p:spPr>
          <a:xfrm>
            <a:off x="7215120" y="500040"/>
            <a:ext cx="4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2"/>
          <p:cNvSpPr/>
          <p:nvPr/>
        </p:nvSpPr>
        <p:spPr>
          <a:xfrm>
            <a:off x="7286760" y="20574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3"/>
          <p:cNvSpPr/>
          <p:nvPr/>
        </p:nvSpPr>
        <p:spPr>
          <a:xfrm>
            <a:off x="6429240" y="26668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am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tal Run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026"/>
          <p:cNvSpPr/>
          <p:nvPr/>
        </p:nvSpPr>
        <p:spPr>
          <a:xfrm>
            <a:off x="928800" y="1828800"/>
            <a:ext cx="36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lume of water reaching the river from surface ru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G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se fl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28"/>
          <p:cNvSpPr/>
          <p:nvPr/>
        </p:nvSpPr>
        <p:spPr>
          <a:xfrm>
            <a:off x="10666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29"/>
          <p:cNvSpPr/>
          <p:nvPr/>
        </p:nvSpPr>
        <p:spPr>
          <a:xfrm>
            <a:off x="5486400" y="762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031"/>
          <p:cNvSpPr/>
          <p:nvPr/>
        </p:nvSpPr>
        <p:spPr>
          <a:xfrm>
            <a:off x="4952880" y="1828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lume of water reaching the river through the soil and underlying rock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41904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actors influen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torm Hydro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838080" y="2438280"/>
            <a:ext cx="335304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Are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Sha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Slo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Rock Ty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Soi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4572000" y="2438280"/>
            <a:ext cx="41911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Land U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Drainage Den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Precipitation / Tem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Tid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ag00503_"/>
          <p:cNvPicPr/>
          <p:nvPr/>
        </p:nvPicPr>
        <p:blipFill>
          <a:blip r:embed="rId1"/>
          <a:stretch/>
        </p:blipFill>
        <p:spPr>
          <a:xfrm>
            <a:off x="2971800" y="5029200"/>
            <a:ext cx="2093760" cy="16002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7"/>
          <p:cNvSpPr/>
          <p:nvPr/>
        </p:nvSpPr>
        <p:spPr>
          <a:xfrm>
            <a:off x="4642920" y="6381720"/>
            <a:ext cx="124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crosoft Word 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3"/>
          <p:cNvSpPr/>
          <p:nvPr/>
        </p:nvSpPr>
        <p:spPr>
          <a:xfrm>
            <a:off x="41904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ation of Storm Hydro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19040" y="44197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ainfall 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419040" y="2590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19040" y="3200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cession 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19040" y="3809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La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419040" y="5029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Peak flow compared to Bas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419040" y="5562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covery rate, back to Bas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5"/>
          <p:cNvSpPr/>
          <p:nvPr/>
        </p:nvSpPr>
        <p:spPr>
          <a:xfrm>
            <a:off x="457200" y="1905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You need to refer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2"/>
          <p:cNvSpPr/>
          <p:nvPr/>
        </p:nvSpPr>
        <p:spPr>
          <a:xfrm>
            <a:off x="5943600" y="1752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Basin la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07"/>
          <p:cNvSpPr/>
          <p:nvPr/>
        </p:nvSpPr>
        <p:spPr>
          <a:xfrm>
            <a:off x="5773680" y="2066760"/>
            <a:ext cx="1800" cy="2335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08"/>
          <p:cNvSpPr/>
          <p:nvPr/>
        </p:nvSpPr>
        <p:spPr>
          <a:xfrm>
            <a:off x="5773680" y="4402080"/>
            <a:ext cx="2836800" cy="36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09"/>
          <p:cNvSpPr/>
          <p:nvPr/>
        </p:nvSpPr>
        <p:spPr>
          <a:xfrm>
            <a:off x="5769000" y="2232000"/>
            <a:ext cx="2827440" cy="166680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0"/>
          <p:cNvSpPr/>
          <p:nvPr/>
        </p:nvSpPr>
        <p:spPr>
          <a:xfrm>
            <a:off x="5915160" y="4041720"/>
            <a:ext cx="93600" cy="3603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1"/>
          <p:cNvSpPr/>
          <p:nvPr/>
        </p:nvSpPr>
        <p:spPr>
          <a:xfrm>
            <a:off x="6008760" y="3409920"/>
            <a:ext cx="95040" cy="9921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12"/>
          <p:cNvSpPr/>
          <p:nvPr/>
        </p:nvSpPr>
        <p:spPr>
          <a:xfrm>
            <a:off x="6103800" y="3951360"/>
            <a:ext cx="93960" cy="4507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13"/>
          <p:cNvSpPr/>
          <p:nvPr/>
        </p:nvSpPr>
        <p:spPr>
          <a:xfrm>
            <a:off x="6237360" y="3124080"/>
            <a:ext cx="1328760" cy="573120"/>
          </a:xfrm>
          <a:prstGeom prst="pi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14"/>
          <p:cNvSpPr/>
          <p:nvPr/>
        </p:nvSpPr>
        <p:spPr>
          <a:xfrm>
            <a:off x="6126120" y="3637080"/>
            <a:ext cx="1911240" cy="2016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5"/>
          <p:cNvSpPr/>
          <p:nvPr/>
        </p:nvSpPr>
        <p:spPr>
          <a:xfrm>
            <a:off x="5726160" y="372744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16"/>
          <p:cNvSpPr/>
          <p:nvPr/>
        </p:nvSpPr>
        <p:spPr>
          <a:xfrm>
            <a:off x="5726160" y="23734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17"/>
          <p:cNvSpPr/>
          <p:nvPr/>
        </p:nvSpPr>
        <p:spPr>
          <a:xfrm>
            <a:off x="5726160" y="304956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18"/>
          <p:cNvSpPr/>
          <p:nvPr/>
        </p:nvSpPr>
        <p:spPr>
          <a:xfrm>
            <a:off x="5819760" y="3341520"/>
            <a:ext cx="3240" cy="1052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19"/>
          <p:cNvSpPr/>
          <p:nvPr/>
        </p:nvSpPr>
        <p:spPr>
          <a:xfrm>
            <a:off x="5819760" y="35020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20"/>
          <p:cNvSpPr/>
          <p:nvPr/>
        </p:nvSpPr>
        <p:spPr>
          <a:xfrm>
            <a:off x="5819760" y="372744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21"/>
          <p:cNvSpPr/>
          <p:nvPr/>
        </p:nvSpPr>
        <p:spPr>
          <a:xfrm>
            <a:off x="5819760" y="395136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22"/>
          <p:cNvSpPr/>
          <p:nvPr/>
        </p:nvSpPr>
        <p:spPr>
          <a:xfrm>
            <a:off x="5819760" y="417672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3"/>
          <p:cNvSpPr/>
          <p:nvPr/>
        </p:nvSpPr>
        <p:spPr>
          <a:xfrm>
            <a:off x="5726160" y="44020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4"/>
          <p:cNvSpPr/>
          <p:nvPr/>
        </p:nvSpPr>
        <p:spPr>
          <a:xfrm flipV="1">
            <a:off x="577368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25"/>
          <p:cNvSpPr/>
          <p:nvPr/>
        </p:nvSpPr>
        <p:spPr>
          <a:xfrm flipV="1">
            <a:off x="624528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6"/>
          <p:cNvSpPr/>
          <p:nvPr/>
        </p:nvSpPr>
        <p:spPr>
          <a:xfrm flipV="1">
            <a:off x="671688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7"/>
          <p:cNvSpPr/>
          <p:nvPr/>
        </p:nvSpPr>
        <p:spPr>
          <a:xfrm flipV="1">
            <a:off x="718992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8"/>
          <p:cNvSpPr/>
          <p:nvPr/>
        </p:nvSpPr>
        <p:spPr>
          <a:xfrm flipV="1">
            <a:off x="766116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9"/>
          <p:cNvSpPr/>
          <p:nvPr/>
        </p:nvSpPr>
        <p:spPr>
          <a:xfrm flipV="1">
            <a:off x="817884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0"/>
          <p:cNvSpPr/>
          <p:nvPr/>
        </p:nvSpPr>
        <p:spPr>
          <a:xfrm flipV="1">
            <a:off x="860436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1"/>
          <p:cNvSpPr/>
          <p:nvPr/>
        </p:nvSpPr>
        <p:spPr>
          <a:xfrm>
            <a:off x="5584680" y="4446720"/>
            <a:ext cx="32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       12       24      36      48       30    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32"/>
          <p:cNvSpPr/>
          <p:nvPr/>
        </p:nvSpPr>
        <p:spPr>
          <a:xfrm>
            <a:off x="5867280" y="4800600"/>
            <a:ext cx="29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33"/>
          <p:cNvSpPr/>
          <p:nvPr/>
        </p:nvSpPr>
        <p:spPr>
          <a:xfrm>
            <a:off x="5489640" y="223848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4"/>
          <p:cNvSpPr/>
          <p:nvPr/>
        </p:nvSpPr>
        <p:spPr>
          <a:xfrm>
            <a:off x="5489640" y="2914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5"/>
          <p:cNvSpPr/>
          <p:nvPr/>
        </p:nvSpPr>
        <p:spPr>
          <a:xfrm>
            <a:off x="5489640" y="359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36"/>
          <p:cNvSpPr/>
          <p:nvPr/>
        </p:nvSpPr>
        <p:spPr>
          <a:xfrm rot="16200000">
            <a:off x="4433400" y="325656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56"/>
          <p:cNvGrpSpPr/>
          <p:nvPr/>
        </p:nvGrpSpPr>
        <p:grpSpPr>
          <a:xfrm>
            <a:off x="6527880" y="2824200"/>
            <a:ext cx="1463760" cy="1403640"/>
            <a:chOff x="6527880" y="2824200"/>
            <a:chExt cx="1463760" cy="1403640"/>
          </a:xfrm>
        </p:grpSpPr>
        <p:sp>
          <p:nvSpPr>
            <p:cNvPr id="500" name="Text Box 137"/>
            <p:cNvSpPr/>
            <p:nvPr/>
          </p:nvSpPr>
          <p:spPr>
            <a:xfrm>
              <a:off x="6810480" y="3951360"/>
              <a:ext cx="118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990033"/>
                  </a:solidFill>
                  <a:latin typeface="Arial"/>
                </a:rPr>
                <a:t>Base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38"/>
            <p:cNvSpPr/>
            <p:nvPr/>
          </p:nvSpPr>
          <p:spPr>
            <a:xfrm>
              <a:off x="6576840" y="342900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rough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39"/>
            <p:cNvSpPr/>
            <p:nvPr/>
          </p:nvSpPr>
          <p:spPr>
            <a:xfrm>
              <a:off x="6527880" y="2824200"/>
              <a:ext cx="89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verland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Text Box 140"/>
          <p:cNvSpPr/>
          <p:nvPr/>
        </p:nvSpPr>
        <p:spPr>
          <a:xfrm rot="16898400">
            <a:off x="5888520" y="262332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1"/>
          <p:cNvSpPr/>
          <p:nvPr/>
        </p:nvSpPr>
        <p:spPr>
          <a:xfrm rot="3378000">
            <a:off x="6876000" y="2918520"/>
            <a:ext cx="138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Recession li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43"/>
          <p:cNvSpPr/>
          <p:nvPr/>
        </p:nvSpPr>
        <p:spPr>
          <a:xfrm>
            <a:off x="5867280" y="3124080"/>
            <a:ext cx="5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44"/>
          <p:cNvSpPr/>
          <p:nvPr/>
        </p:nvSpPr>
        <p:spPr>
          <a:xfrm>
            <a:off x="6080040" y="2081160"/>
            <a:ext cx="70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45"/>
          <p:cNvSpPr/>
          <p:nvPr/>
        </p:nvSpPr>
        <p:spPr>
          <a:xfrm>
            <a:off x="6786720" y="203688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46"/>
          <p:cNvSpPr/>
          <p:nvPr/>
        </p:nvSpPr>
        <p:spPr>
          <a:xfrm>
            <a:off x="6080040" y="203688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7"/>
          <p:cNvSpPr/>
          <p:nvPr/>
        </p:nvSpPr>
        <p:spPr>
          <a:xfrm>
            <a:off x="5776920" y="34113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48"/>
          <p:cNvSpPr/>
          <p:nvPr/>
        </p:nvSpPr>
        <p:spPr>
          <a:xfrm>
            <a:off x="5776920" y="3637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9"/>
          <p:cNvSpPr/>
          <p:nvPr/>
        </p:nvSpPr>
        <p:spPr>
          <a:xfrm>
            <a:off x="5776920" y="3862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50"/>
          <p:cNvSpPr/>
          <p:nvPr/>
        </p:nvSpPr>
        <p:spPr>
          <a:xfrm>
            <a:off x="6786720" y="2171880"/>
            <a:ext cx="0" cy="13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51"/>
          <p:cNvSpPr/>
          <p:nvPr/>
        </p:nvSpPr>
        <p:spPr>
          <a:xfrm flipV="1">
            <a:off x="6786720" y="2080800"/>
            <a:ext cx="282240" cy="135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2"/>
          <p:cNvSpPr/>
          <p:nvPr/>
        </p:nvSpPr>
        <p:spPr>
          <a:xfrm>
            <a:off x="7068960" y="1946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Peak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500"/>
                            </p:stCondLst>
                            <p:childTnLst>
                              <p:par>
                                <p:cTn id="190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775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6925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425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925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8925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68920" y="228600"/>
            <a:ext cx="96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Are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28600" y="9907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asins receive more precipitation than small therefore have larger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run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28600" y="2362320"/>
            <a:ext cx="87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size means long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water has a longer distance to travel to reach the trunk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5257800" y="7621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34000" y="228600"/>
            <a:ext cx="124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Sha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ngated basin will produce a low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peak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ong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a circular one of the sam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AutoShape 9"/>
          <p:cNvCxnSpPr/>
          <p:nvPr/>
        </p:nvCxnSpPr>
        <p:spPr>
          <a:xfrm flipH="1" rot="16200000">
            <a:off x="2133720" y="3366720"/>
            <a:ext cx="2160" cy="2160"/>
          </a:xfrm>
          <a:prstGeom prst="curvedConnector5">
            <a:avLst>
              <a:gd name="adj1" fmla="val 51900000"/>
              <a:gd name="adj2" fmla="val 40000"/>
              <a:gd name="adj3" fmla="val 51900000"/>
            </a:avLst>
          </a:prstGeom>
          <a:ln w="0">
            <a:noFill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34720" y="228600"/>
            <a:ext cx="1125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Slo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flow can be faster down a steep slope therefore steep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ort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Hydro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1295280"/>
            <a:ext cx="8763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Record of River Discharge over a period of tim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                          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Q  vs 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0880" y="2286000"/>
            <a:ext cx="66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River</a:t>
            </a:r>
            <a:r>
              <a:rPr b="1" i="1" lang="en-GB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Discharge : Q = 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v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285840" y="3787920"/>
            <a:ext cx="7948440" cy="1294560"/>
            <a:chOff x="285840" y="3787920"/>
            <a:chExt cx="7948440" cy="1294560"/>
          </a:xfrm>
        </p:grpSpPr>
        <p:grpSp>
          <p:nvGrpSpPr>
            <p:cNvPr id="55" name="Group 12"/>
            <p:cNvGrpSpPr/>
            <p:nvPr/>
          </p:nvGrpSpPr>
          <p:grpSpPr>
            <a:xfrm>
              <a:off x="500040" y="3787920"/>
              <a:ext cx="7734240" cy="651960"/>
              <a:chOff x="500040" y="3787920"/>
              <a:chExt cx="7734240" cy="651960"/>
            </a:xfrm>
          </p:grpSpPr>
          <p:sp>
            <p:nvSpPr>
              <p:cNvPr id="56" name="Text Box 6"/>
              <p:cNvSpPr/>
              <p:nvPr/>
            </p:nvSpPr>
            <p:spPr>
              <a:xfrm>
                <a:off x="500040" y="3787920"/>
                <a:ext cx="397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lang="en-GB" sz="18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6600"/>
                    </a:solidFill>
                    <a:latin typeface="Arial"/>
                  </a:rPr>
                  <a:t>cross sectional ar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7"/>
              <p:cNvSpPr/>
              <p:nvPr/>
            </p:nvSpPr>
            <p:spPr>
              <a:xfrm>
                <a:off x="3357720" y="3929040"/>
                <a:ext cx="487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6600"/>
                    </a:solidFill>
                    <a:latin typeface="Arial"/>
                  </a:rPr>
                  <a:t>rivers mean (average) velo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3071880" y="3858480"/>
                <a:ext cx="5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9"/>
            <p:cNvSpPr/>
            <p:nvPr/>
          </p:nvSpPr>
          <p:spPr>
            <a:xfrm>
              <a:off x="285840" y="4714200"/>
              <a:ext cx="62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at a particular point in its cour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0"/>
          <p:cNvSpPr/>
          <p:nvPr/>
        </p:nvSpPr>
        <p:spPr>
          <a:xfrm>
            <a:off x="380880" y="5572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torm Hydro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09480" y="62866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66"/>
                </a:solidFill>
                <a:latin typeface="Arial"/>
              </a:rPr>
              <a:t>Show the change in discharge caused by a period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267840" y="228600"/>
            <a:ext cx="19454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Rock Ty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able rocks mean rapid infiltration and little overland flow therefore shallow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49480" y="228600"/>
            <a:ext cx="79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Soi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9044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ltration is generally greater on thick soil, although less porous soils eg. clay act as impermeable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190440" y="274176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re infiltration occurs the longer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allower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255960" y="228600"/>
            <a:ext cx="17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Land U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isation - concrete and tarmac form impermeable surfaces, creating a steep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ortening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ime 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90440" y="27417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orestation - intercepts the precipitation, creating a shallow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engthening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ime 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28320" y="228600"/>
            <a:ext cx="3015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Drainage Den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228600" y="9907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er density will allow rapid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overl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457200" y="228600"/>
            <a:ext cx="478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Precipitation &amp; Tempera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228600" y="838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intense rainstorms can produce rapid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overland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teep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22860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have been extreme temperatures, the ground can be hard (either baked or frozen) causing rapid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urface ru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228600" y="3276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on the ground can act as a store producing a long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allow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Once a thaw sets in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come st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647640" y="502920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313200" y="228600"/>
            <a:ext cx="283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Tid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ring tides can block the normal exit for the water, therefore extending the length of time the river basin takes to return to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base fl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9842-77BD-4CE9-AC76-57E56407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ydrograp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2864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7F51-AA86-4E1C-84CA-70E20E01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ydrograph Analysis :</a:t>
            </a:r>
            <a:br>
              <a:rPr sz="40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ydrograph : Q  v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42600" y="1856880"/>
            <a:ext cx="5072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tion 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 Time , 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Concentration ,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on Limb (falling li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Flow ,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Peak (rise time),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flow , 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ion of BF from Run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ydrograph Compon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457200" y="642924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Wanielista, M., R. Kersten, and R. Eagli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ydrology: Water Quantity and Quality Control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2"/>
          <p:cNvGraphicFramePr/>
          <p:nvPr/>
        </p:nvGraphicFramePr>
        <p:xfrm>
          <a:off x="571680" y="714240"/>
          <a:ext cx="7715160" cy="56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14240"/>
                    <a:ext cx="77151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124-D32A-4E52-BE59-E34472BE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3"/>
          <p:cNvSpPr/>
          <p:nvPr/>
        </p:nvSpPr>
        <p:spPr>
          <a:xfrm flipV="1">
            <a:off x="2786040" y="2571480"/>
            <a:ext cx="0" cy="289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4"/>
          <p:cNvSpPr/>
          <p:nvPr/>
        </p:nvSpPr>
        <p:spPr>
          <a:xfrm>
            <a:off x="2786040" y="5429160"/>
            <a:ext cx="403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"/>
          <p:cNvSpPr/>
          <p:nvPr/>
        </p:nvSpPr>
        <p:spPr>
          <a:xfrm>
            <a:off x="3060720" y="3643200"/>
            <a:ext cx="3405240" cy="13845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4268880" y="4571640"/>
            <a:ext cx="1141200" cy="43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506760" y="2668680"/>
            <a:ext cx="301680" cy="453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3809880" y="31258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3811680" y="457200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>
            <a:off x="3657600" y="30495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3659040" y="396252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2"/>
          <p:cNvSpPr/>
          <p:nvPr/>
        </p:nvSpPr>
        <p:spPr>
          <a:xfrm>
            <a:off x="3809880" y="357192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3"/>
          <p:cNvSpPr/>
          <p:nvPr/>
        </p:nvSpPr>
        <p:spPr>
          <a:xfrm>
            <a:off x="5715000" y="3962520"/>
            <a:ext cx="144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3886200" y="1981080"/>
            <a:ext cx="1447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ration of excess precipi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5"/>
          <p:cNvSpPr/>
          <p:nvPr/>
        </p:nvSpPr>
        <p:spPr>
          <a:xfrm flipH="1">
            <a:off x="4802040" y="4268880"/>
            <a:ext cx="98928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6"/>
          <p:cNvSpPr/>
          <p:nvPr/>
        </p:nvSpPr>
        <p:spPr>
          <a:xfrm flipH="1">
            <a:off x="3714840" y="2820960"/>
            <a:ext cx="628560" cy="2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7"/>
          <p:cNvSpPr/>
          <p:nvPr/>
        </p:nvSpPr>
        <p:spPr>
          <a:xfrm>
            <a:off x="4800600" y="495288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43080" y="304920"/>
            <a:ext cx="8458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Why Construct &amp; Analy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Hydrographs </a:t>
            </a:r>
            <a:r>
              <a:rPr b="0" lang="en-GB" sz="5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920" y="2895480"/>
            <a:ext cx="74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To find out discharge pattern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  <a:ea typeface="Arial"/>
              </a:rPr>
              <a:t>a particular drainage b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D06921_"/>
          <p:cNvPicPr/>
          <p:nvPr/>
        </p:nvPicPr>
        <p:blipFill>
          <a:blip r:embed="rId2"/>
          <a:stretch/>
        </p:blipFill>
        <p:spPr>
          <a:xfrm>
            <a:off x="6400800" y="4876920"/>
            <a:ext cx="2503440" cy="173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14200" y="42148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Help predict flooding ev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  <a:ea typeface="Arial"/>
              </a:rPr>
              <a:t>therefore influence implementation of flood prevention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451280" y="4797360"/>
            <a:ext cx="124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crosoft Word 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C93D-08AB-41F4-A381-A06B9714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paration of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106200">
              <a:spcBef>
                <a:spcPts val="1199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.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nerally accepted that the inflection point on the recession limb of a hydrograph is the result of a change in the controlling physical processes of the excess precipitation flowing to the basin ou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">
              <a:spcBef>
                <a:spcPts val="1199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this example, base flow is considered to be a straight line connecting that point at which the hydrograph begins to rise rapidly and the inflection point on the recession side of the hydro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">
              <a:spcBef>
                <a:spcPts val="1199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flection point may be found by plotting the hydrograph in semi-log fashion with flow being plotted on the log scale and noting the time at which the recession side fits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A51-2561-4F7F-ABE1-C38597A0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paration of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2"/>
          <p:cNvGraphicFramePr/>
          <p:nvPr/>
        </p:nvGraphicFramePr>
        <p:xfrm>
          <a:off x="857160" y="1428840"/>
          <a:ext cx="7215120" cy="51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21512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D5DA-C501-47FA-9F15-6BB71A939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ydrograph &amp;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Object 2"/>
          <p:cNvGraphicFramePr/>
          <p:nvPr/>
        </p:nvGraphicFramePr>
        <p:xfrm>
          <a:off x="785880" y="1285920"/>
          <a:ext cx="7215120" cy="53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285920"/>
                    <a:ext cx="72151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CE74-5F9B-4E78-9635-00E8D5211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parate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2"/>
          <p:cNvGraphicFramePr/>
          <p:nvPr/>
        </p:nvGraphicFramePr>
        <p:xfrm>
          <a:off x="928800" y="1143000"/>
          <a:ext cx="7000920" cy="55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143000"/>
                    <a:ext cx="700092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= d * U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Runoff = rainfall depth * Unit Hydrograph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251-E5A6-4330-A752-F76CD7353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AA70-0DB4-48AA-A1C1-7BE2C8B3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drograph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rman -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ton     - 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sler &amp; Brater - 1949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ydrograph of surface runoff resulting from a relatively short, intense rain, calle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or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unoff hydrograph may be “made up” of runoff that is generated as flow through the soil (Black, 19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0FFB-5BC3-4438-A243-53505B1A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Unit Hyd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ydrograph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rect runoff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ulting from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-inc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c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 of excess precipitation spread uniformly in space and time over a watershed for a given d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ey poi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inch (1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orm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 space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 the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orm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ime - the excess rate is constant over the ti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UH (ex.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U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B9F1-A80B-4703-B2ED-EED760140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34E0-2C9C-40A6-BEDB-D79B27B58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thods of Developing UH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om Streamflow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ynth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ny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-Area (Clark,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tted”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orpho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429120" y="785520"/>
            <a:ext cx="10287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) Tabulate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otal hydrograp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ime  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) Tabulate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e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f given or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par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method of 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) Find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ect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off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drograph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R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by subtracting the baseflow from the total             hydrograph.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H = Q – B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) Find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volu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water under the D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ol. = 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 * 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9"/>
          <p:cNvSpPr/>
          <p:nvPr/>
        </p:nvSpPr>
        <p:spPr>
          <a:xfrm>
            <a:off x="3227400" y="2908440"/>
            <a:ext cx="2146320" cy="965160"/>
          </a:xfrm>
          <a:prstGeom prst="pi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3049560" y="3773520"/>
            <a:ext cx="3086280" cy="34128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173320" y="4929120"/>
            <a:ext cx="66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 30    72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2928960" y="53578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___ Components of Stream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___ Elements of Hydro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 rot="16200000">
            <a:off x="107640" y="3313080"/>
            <a:ext cx="30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154400" y="4305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3925800" y="339084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3697200" y="24004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5"/>
          <p:cNvSpPr/>
          <p:nvPr/>
        </p:nvSpPr>
        <p:spPr>
          <a:xfrm>
            <a:off x="2706840" y="647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6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7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8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9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0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2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7"/>
          <p:cNvSpPr/>
          <p:nvPr/>
        </p:nvSpPr>
        <p:spPr>
          <a:xfrm>
            <a:off x="4500720" y="9144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 (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cre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9"/>
          <p:cNvSpPr/>
          <p:nvPr/>
        </p:nvSpPr>
        <p:spPr>
          <a:xfrm rot="18955800">
            <a:off x="-1116360" y="1071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ood Hydro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C45A-BFB1-48D6-B8B0-295889316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3"/>
          <p:cNvGraphicFramePr/>
          <p:nvPr/>
        </p:nvGraphicFramePr>
        <p:xfrm>
          <a:off x="142920" y="1000080"/>
          <a:ext cx="8715240" cy="58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00080"/>
                    <a:ext cx="871524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)  Divide the volume of water(step iv) by the drainage area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to get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ive rainfall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runoff) per unit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 vol. /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)  Divide the ordinates of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R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effective rainfall(step 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sult is a unit hydrograph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for the duration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3F53-D064-48B7-94F5-34983D759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3"/>
          <p:cNvGraphicFramePr/>
          <p:nvPr/>
        </p:nvGraphicFramePr>
        <p:xfrm>
          <a:off x="571680" y="1571760"/>
          <a:ext cx="7858080" cy="52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571760"/>
                    <a:ext cx="7858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7A48-FB39-45B8-A30E-B9781985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Object 2"/>
          <p:cNvGraphicFramePr/>
          <p:nvPr/>
        </p:nvGraphicFramePr>
        <p:xfrm>
          <a:off x="0" y="0"/>
          <a:ext cx="89298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102-4520-49A1-8343-1EC0DD53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bta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H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857160" y="1905120"/>
            <a:ext cx="7286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rdinates of the unit hydrograph are obtained by dividing each flow in the direct runoff hydrograph by the depth of excess precipi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is example, the units of the unit hydrograph would be cfs/inch (of excess precipitat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6FD-ADD3-46D7-B705-E1938424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inal 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Object 3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5880"/>
                    <a:ext cx="914400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A20-5C28-4FB6-971B-18975E29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e Duration of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uration of the derived unit hydrograph is found by examining the precipitation for the event and determining that precipitation which is in ex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is generally accomplished by plotting the precipitation in hyetograph form and drawing a horizontal line such that the precipitation above this line is equal to the depth of excess precipitation as previously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horizontal line is generally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index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based on the assumption of a constant or uniform infiltra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uniform infiltration necessary to cause 1.65 inches of excess precipitation was determined to be approximately 0.2 inches per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169C-30C2-4F98-A1C3-8CAEBB519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stimating Excess Prec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712960" y="2125800"/>
            <a:ext cx="394812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2716200" y="2128680"/>
            <a:ext cx="3941640" cy="3573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2770200" y="5486400"/>
            <a:ext cx="77760" cy="21600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2968560" y="5486400"/>
            <a:ext cx="77760" cy="21600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3168720" y="5033880"/>
            <a:ext cx="6984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3359160" y="4811760"/>
            <a:ext cx="7920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3559320" y="5033880"/>
            <a:ext cx="7776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375912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3957480" y="4811760"/>
            <a:ext cx="6984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4149720" y="5264280"/>
            <a:ext cx="77760" cy="4381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4348080" y="4811760"/>
            <a:ext cx="795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4"/>
          <p:cNvSpPr/>
          <p:nvPr/>
        </p:nvSpPr>
        <p:spPr>
          <a:xfrm>
            <a:off x="454824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4748040" y="4811760"/>
            <a:ext cx="7020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93884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513864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5337000" y="4811760"/>
            <a:ext cx="795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5537160" y="4811760"/>
            <a:ext cx="6984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0"/>
          <p:cNvSpPr/>
          <p:nvPr/>
        </p:nvSpPr>
        <p:spPr>
          <a:xfrm>
            <a:off x="5729400" y="5033880"/>
            <a:ext cx="7776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1"/>
          <p:cNvSpPr/>
          <p:nvPr/>
        </p:nvSpPr>
        <p:spPr>
          <a:xfrm>
            <a:off x="592776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6127920" y="5033880"/>
            <a:ext cx="7776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6326280" y="5264280"/>
            <a:ext cx="71280" cy="4381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6518160" y="5486400"/>
            <a:ext cx="77760" cy="21600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3359160" y="4589640"/>
            <a:ext cx="7920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3957480" y="4589640"/>
            <a:ext cx="6984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4348080" y="3692520"/>
            <a:ext cx="79560" cy="111276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8"/>
          <p:cNvSpPr/>
          <p:nvPr/>
        </p:nvSpPr>
        <p:spPr>
          <a:xfrm>
            <a:off x="4548240" y="3470400"/>
            <a:ext cx="77760" cy="133488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4748040" y="2351160"/>
            <a:ext cx="70200" cy="245412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"/>
          <p:cNvSpPr/>
          <p:nvPr/>
        </p:nvSpPr>
        <p:spPr>
          <a:xfrm>
            <a:off x="4938840" y="3922560"/>
            <a:ext cx="77760" cy="88272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5138640" y="4589640"/>
            <a:ext cx="7776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2"/>
          <p:cNvSpPr/>
          <p:nvPr/>
        </p:nvSpPr>
        <p:spPr>
          <a:xfrm>
            <a:off x="5337000" y="4145040"/>
            <a:ext cx="79560" cy="6602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3"/>
          <p:cNvSpPr/>
          <p:nvPr/>
        </p:nvSpPr>
        <p:spPr>
          <a:xfrm>
            <a:off x="5927760" y="4589640"/>
            <a:ext cx="7776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4"/>
          <p:cNvSpPr/>
          <p:nvPr/>
        </p:nvSpPr>
        <p:spPr>
          <a:xfrm>
            <a:off x="2712960" y="2127240"/>
            <a:ext cx="1800" cy="357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5"/>
          <p:cNvSpPr/>
          <p:nvPr/>
        </p:nvSpPr>
        <p:spPr>
          <a:xfrm>
            <a:off x="2682720" y="570564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6"/>
          <p:cNvSpPr/>
          <p:nvPr/>
        </p:nvSpPr>
        <p:spPr>
          <a:xfrm>
            <a:off x="2682720" y="526104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7"/>
          <p:cNvSpPr/>
          <p:nvPr/>
        </p:nvSpPr>
        <p:spPr>
          <a:xfrm>
            <a:off x="2682720" y="480852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8"/>
          <p:cNvSpPr/>
          <p:nvPr/>
        </p:nvSpPr>
        <p:spPr>
          <a:xfrm>
            <a:off x="2682720" y="4363920"/>
            <a:ext cx="6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9"/>
          <p:cNvSpPr/>
          <p:nvPr/>
        </p:nvSpPr>
        <p:spPr>
          <a:xfrm>
            <a:off x="2682720" y="391968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0"/>
          <p:cNvSpPr/>
          <p:nvPr/>
        </p:nvSpPr>
        <p:spPr>
          <a:xfrm>
            <a:off x="2682720" y="346716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1"/>
          <p:cNvSpPr/>
          <p:nvPr/>
        </p:nvSpPr>
        <p:spPr>
          <a:xfrm>
            <a:off x="2682720" y="3022560"/>
            <a:ext cx="6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2"/>
          <p:cNvSpPr/>
          <p:nvPr/>
        </p:nvSpPr>
        <p:spPr>
          <a:xfrm>
            <a:off x="2682720" y="2570040"/>
            <a:ext cx="6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43"/>
          <p:cNvSpPr/>
          <p:nvPr/>
        </p:nvSpPr>
        <p:spPr>
          <a:xfrm>
            <a:off x="2682720" y="212580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4"/>
          <p:cNvSpPr/>
          <p:nvPr/>
        </p:nvSpPr>
        <p:spPr>
          <a:xfrm>
            <a:off x="2714760" y="5705640"/>
            <a:ext cx="394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5"/>
          <p:cNvSpPr/>
          <p:nvPr/>
        </p:nvSpPr>
        <p:spPr>
          <a:xfrm flipV="1">
            <a:off x="27129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6"/>
          <p:cNvSpPr/>
          <p:nvPr/>
        </p:nvSpPr>
        <p:spPr>
          <a:xfrm flipV="1">
            <a:off x="29113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7"/>
          <p:cNvSpPr/>
          <p:nvPr/>
        </p:nvSpPr>
        <p:spPr>
          <a:xfrm flipV="1">
            <a:off x="31114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8"/>
          <p:cNvSpPr/>
          <p:nvPr/>
        </p:nvSpPr>
        <p:spPr>
          <a:xfrm flipV="1">
            <a:off x="33037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49"/>
          <p:cNvSpPr/>
          <p:nvPr/>
        </p:nvSpPr>
        <p:spPr>
          <a:xfrm flipV="1">
            <a:off x="35020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50"/>
          <p:cNvSpPr/>
          <p:nvPr/>
        </p:nvSpPr>
        <p:spPr>
          <a:xfrm flipV="1">
            <a:off x="37018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1"/>
          <p:cNvSpPr/>
          <p:nvPr/>
        </p:nvSpPr>
        <p:spPr>
          <a:xfrm flipV="1">
            <a:off x="390060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2"/>
          <p:cNvSpPr/>
          <p:nvPr/>
        </p:nvSpPr>
        <p:spPr>
          <a:xfrm flipV="1">
            <a:off x="40924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3"/>
          <p:cNvSpPr/>
          <p:nvPr/>
        </p:nvSpPr>
        <p:spPr>
          <a:xfrm flipV="1">
            <a:off x="429264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4"/>
          <p:cNvSpPr/>
          <p:nvPr/>
        </p:nvSpPr>
        <p:spPr>
          <a:xfrm flipV="1">
            <a:off x="449100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5"/>
          <p:cNvSpPr/>
          <p:nvPr/>
        </p:nvSpPr>
        <p:spPr>
          <a:xfrm flipV="1">
            <a:off x="46911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6"/>
          <p:cNvSpPr/>
          <p:nvPr/>
        </p:nvSpPr>
        <p:spPr>
          <a:xfrm flipV="1">
            <a:off x="488160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7"/>
          <p:cNvSpPr/>
          <p:nvPr/>
        </p:nvSpPr>
        <p:spPr>
          <a:xfrm flipV="1">
            <a:off x="50817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8"/>
          <p:cNvSpPr/>
          <p:nvPr/>
        </p:nvSpPr>
        <p:spPr>
          <a:xfrm flipV="1">
            <a:off x="52815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9"/>
          <p:cNvSpPr/>
          <p:nvPr/>
        </p:nvSpPr>
        <p:spPr>
          <a:xfrm flipV="1">
            <a:off x="54799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0"/>
          <p:cNvSpPr/>
          <p:nvPr/>
        </p:nvSpPr>
        <p:spPr>
          <a:xfrm flipV="1">
            <a:off x="56721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1"/>
          <p:cNvSpPr/>
          <p:nvPr/>
        </p:nvSpPr>
        <p:spPr>
          <a:xfrm flipV="1">
            <a:off x="58705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2"/>
          <p:cNvSpPr/>
          <p:nvPr/>
        </p:nvSpPr>
        <p:spPr>
          <a:xfrm flipV="1">
            <a:off x="60706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3"/>
          <p:cNvSpPr/>
          <p:nvPr/>
        </p:nvSpPr>
        <p:spPr>
          <a:xfrm flipV="1">
            <a:off x="62704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4"/>
          <p:cNvSpPr/>
          <p:nvPr/>
        </p:nvSpPr>
        <p:spPr>
          <a:xfrm flipV="1">
            <a:off x="64612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5"/>
          <p:cNvSpPr/>
          <p:nvPr/>
        </p:nvSpPr>
        <p:spPr>
          <a:xfrm flipV="1">
            <a:off x="66610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6"/>
          <p:cNvSpPr/>
          <p:nvPr/>
        </p:nvSpPr>
        <p:spPr>
          <a:xfrm>
            <a:off x="2583000" y="5645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7"/>
          <p:cNvSpPr/>
          <p:nvPr/>
        </p:nvSpPr>
        <p:spPr>
          <a:xfrm>
            <a:off x="2496960" y="520056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8"/>
          <p:cNvSpPr/>
          <p:nvPr/>
        </p:nvSpPr>
        <p:spPr>
          <a:xfrm>
            <a:off x="2496960" y="47480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9"/>
          <p:cNvSpPr/>
          <p:nvPr/>
        </p:nvSpPr>
        <p:spPr>
          <a:xfrm>
            <a:off x="2496960" y="430380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0"/>
          <p:cNvSpPr/>
          <p:nvPr/>
        </p:nvSpPr>
        <p:spPr>
          <a:xfrm>
            <a:off x="2496960" y="385920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1"/>
          <p:cNvSpPr/>
          <p:nvPr/>
        </p:nvSpPr>
        <p:spPr>
          <a:xfrm>
            <a:off x="2496960" y="340668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2"/>
          <p:cNvSpPr/>
          <p:nvPr/>
        </p:nvSpPr>
        <p:spPr>
          <a:xfrm>
            <a:off x="2496960" y="29624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3"/>
          <p:cNvSpPr/>
          <p:nvPr/>
        </p:nvSpPr>
        <p:spPr>
          <a:xfrm>
            <a:off x="2496960" y="25099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4"/>
          <p:cNvSpPr/>
          <p:nvPr/>
        </p:nvSpPr>
        <p:spPr>
          <a:xfrm>
            <a:off x="2496960" y="20653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5"/>
          <p:cNvSpPr/>
          <p:nvPr/>
        </p:nvSpPr>
        <p:spPr>
          <a:xfrm>
            <a:off x="278928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6"/>
          <p:cNvSpPr/>
          <p:nvPr/>
        </p:nvSpPr>
        <p:spPr>
          <a:xfrm>
            <a:off x="298944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7"/>
          <p:cNvSpPr/>
          <p:nvPr/>
        </p:nvSpPr>
        <p:spPr>
          <a:xfrm>
            <a:off x="317988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8"/>
          <p:cNvSpPr/>
          <p:nvPr/>
        </p:nvSpPr>
        <p:spPr>
          <a:xfrm>
            <a:off x="337968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9"/>
          <p:cNvSpPr/>
          <p:nvPr/>
        </p:nvSpPr>
        <p:spPr>
          <a:xfrm>
            <a:off x="357840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0"/>
          <p:cNvSpPr/>
          <p:nvPr/>
        </p:nvSpPr>
        <p:spPr>
          <a:xfrm>
            <a:off x="377820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1"/>
          <p:cNvSpPr/>
          <p:nvPr/>
        </p:nvSpPr>
        <p:spPr>
          <a:xfrm>
            <a:off x="397044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2"/>
          <p:cNvSpPr/>
          <p:nvPr/>
        </p:nvSpPr>
        <p:spPr>
          <a:xfrm>
            <a:off x="416880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3"/>
          <p:cNvSpPr/>
          <p:nvPr/>
        </p:nvSpPr>
        <p:spPr>
          <a:xfrm>
            <a:off x="436896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4"/>
          <p:cNvSpPr/>
          <p:nvPr/>
        </p:nvSpPr>
        <p:spPr>
          <a:xfrm>
            <a:off x="456732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5"/>
          <p:cNvSpPr/>
          <p:nvPr/>
        </p:nvSpPr>
        <p:spPr>
          <a:xfrm>
            <a:off x="472968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6"/>
          <p:cNvSpPr/>
          <p:nvPr/>
        </p:nvSpPr>
        <p:spPr>
          <a:xfrm>
            <a:off x="492804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7"/>
          <p:cNvSpPr/>
          <p:nvPr/>
        </p:nvSpPr>
        <p:spPr>
          <a:xfrm>
            <a:off x="512784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8"/>
          <p:cNvSpPr/>
          <p:nvPr/>
        </p:nvSpPr>
        <p:spPr>
          <a:xfrm>
            <a:off x="532800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89"/>
          <p:cNvSpPr/>
          <p:nvPr/>
        </p:nvSpPr>
        <p:spPr>
          <a:xfrm>
            <a:off x="551844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0"/>
          <p:cNvSpPr/>
          <p:nvPr/>
        </p:nvSpPr>
        <p:spPr>
          <a:xfrm>
            <a:off x="571860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1"/>
          <p:cNvSpPr/>
          <p:nvPr/>
        </p:nvSpPr>
        <p:spPr>
          <a:xfrm>
            <a:off x="591696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2"/>
          <p:cNvSpPr/>
          <p:nvPr/>
        </p:nvSpPr>
        <p:spPr>
          <a:xfrm>
            <a:off x="611712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3"/>
          <p:cNvSpPr/>
          <p:nvPr/>
        </p:nvSpPr>
        <p:spPr>
          <a:xfrm>
            <a:off x="630900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4"/>
          <p:cNvSpPr/>
          <p:nvPr/>
        </p:nvSpPr>
        <p:spPr>
          <a:xfrm>
            <a:off x="650736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5"/>
          <p:cNvSpPr/>
          <p:nvPr/>
        </p:nvSpPr>
        <p:spPr>
          <a:xfrm>
            <a:off x="4429440" y="596736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 (hrs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6"/>
          <p:cNvSpPr/>
          <p:nvPr/>
        </p:nvSpPr>
        <p:spPr>
          <a:xfrm rot="16200000">
            <a:off x="1867320" y="3841560"/>
            <a:ext cx="1038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cipitation (inch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2744640" y="4800600"/>
            <a:ext cx="3924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2943360" y="3621240"/>
            <a:ext cx="1157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9"/>
          <p:cNvSpPr/>
          <p:nvPr/>
        </p:nvSpPr>
        <p:spPr>
          <a:xfrm>
            <a:off x="2981520" y="3643200"/>
            <a:ext cx="113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form loss rat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0"/>
          <p:cNvSpPr/>
          <p:nvPr/>
        </p:nvSpPr>
        <p:spPr>
          <a:xfrm>
            <a:off x="3002040" y="379728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 inches per hou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03"/>
          <p:cNvGrpSpPr/>
          <p:nvPr/>
        </p:nvGrpSpPr>
        <p:grpSpPr>
          <a:xfrm>
            <a:off x="2889360" y="3959280"/>
            <a:ext cx="460080" cy="752400"/>
            <a:chOff x="2889360" y="3959280"/>
            <a:chExt cx="460080" cy="752400"/>
          </a:xfrm>
        </p:grpSpPr>
        <p:sp>
          <p:nvSpPr>
            <p:cNvPr id="736" name="Line 101"/>
            <p:cNvSpPr/>
            <p:nvPr/>
          </p:nvSpPr>
          <p:spPr>
            <a:xfrm flipH="1">
              <a:off x="2912760" y="3959280"/>
              <a:ext cx="43668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2"/>
            <p:cNvSpPr/>
            <p:nvPr/>
          </p:nvSpPr>
          <p:spPr>
            <a:xfrm>
              <a:off x="2889360" y="4618080"/>
              <a:ext cx="698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D57E-0AC8-4A85-85A4-1324732FC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cess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2362320" y="1828800"/>
          <a:ext cx="435744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357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52"/>
          <p:cNvGrpSpPr/>
          <p:nvPr/>
        </p:nvGrpSpPr>
        <p:grpSpPr>
          <a:xfrm>
            <a:off x="2173320" y="5067360"/>
            <a:ext cx="5562720" cy="1145520"/>
            <a:chOff x="2173320" y="5067360"/>
            <a:chExt cx="5562720" cy="1145520"/>
          </a:xfrm>
        </p:grpSpPr>
        <p:sp>
          <p:nvSpPr>
            <p:cNvPr id="115" name="Freeform 3"/>
            <p:cNvSpPr/>
            <p:nvPr/>
          </p:nvSpPr>
          <p:spPr>
            <a:xfrm>
              <a:off x="2478240" y="5067360"/>
              <a:ext cx="4584600" cy="144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2401920" y="5067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V="1">
              <a:off x="24782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 flipV="1">
              <a:off x="324000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400212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 flipV="1">
              <a:off x="47642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 flipV="1">
              <a:off x="552600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 flipV="1">
              <a:off x="63644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70502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2173320" y="514368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       12     24    36    48     30    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7"/>
            <p:cNvSpPr/>
            <p:nvPr/>
          </p:nvSpPr>
          <p:spPr>
            <a:xfrm>
              <a:off x="2401920" y="575316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ours from start of rain st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51"/>
          <p:cNvGrpSpPr/>
          <p:nvPr/>
        </p:nvGrpSpPr>
        <p:grpSpPr>
          <a:xfrm>
            <a:off x="1406520" y="1117440"/>
            <a:ext cx="1073160" cy="3949920"/>
            <a:chOff x="1406520" y="1117440"/>
            <a:chExt cx="1073160" cy="3949920"/>
          </a:xfrm>
        </p:grpSpPr>
        <p:sp>
          <p:nvSpPr>
            <p:cNvPr id="127" name="Freeform 2"/>
            <p:cNvSpPr/>
            <p:nvPr/>
          </p:nvSpPr>
          <p:spPr>
            <a:xfrm>
              <a:off x="2478240" y="1117440"/>
              <a:ext cx="1440" cy="394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01920" y="3924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2401920" y="1638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2401920" y="2781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2021040" y="1409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9"/>
            <p:cNvSpPr/>
            <p:nvPr/>
          </p:nvSpPr>
          <p:spPr>
            <a:xfrm>
              <a:off x="2021040" y="2552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2021040" y="3695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1"/>
            <p:cNvSpPr/>
            <p:nvPr/>
          </p:nvSpPr>
          <p:spPr>
            <a:xfrm rot="16200000">
              <a:off x="265320" y="3155400"/>
              <a:ext cx="27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ischarge (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/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A7B-4699-4C71-B49F-A1EFAE65D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nging the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643960" cy="52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often, it will be necessary to change the duration of the unit hydrograp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unit hydrographs are to be averaged, then they must be of the same dur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convolution of the unit hydrograph with a precipitation event requires that the duration of the unit hydrograph be equal to the time step of the incremental precipit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st common method of altering the duration of a unit hydrograph is by the S-curve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-curve method involves continually lagging a unit hydrograph by its duration and adding the ordin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present example, the 6-hour unit hydrograph is continually lagged by 6 hours and the ordinates ar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6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900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6058-52B6-43A9-9884-8D8071442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D5A-1D98-4366-83D7-38767CD5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87156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B00C-3CFC-47AE-80CF-3C01B4FF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ECCD-9999-48C6-AD93-702C0D411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elop S-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Object 3"/>
          <p:cNvGraphicFramePr/>
          <p:nvPr/>
        </p:nvGraphicFramePr>
        <p:xfrm>
          <a:off x="500040" y="1214280"/>
          <a:ext cx="79297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14280"/>
                    <a:ext cx="79297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B9C-C437-4B70-A153-A422D59D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vert to 1-Hour D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rrive at a 1-hour unit hydrograph, the S-curve is lagged by 1 hour and the difference between the two lagged S-curves is found to be a 1 hour unit hydrograph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because the S-curve was formulated from unit hydrographs having a 6 hour duration of uniformly distributed precipitation, the hydrograph resulting from the subtracting the two S-curves will be the result of 1/6 of an inch of precipita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 ordinates of the newly created 1-hour unit hydrograph must be multiplied by 6 in order to be a true unit hydrograph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1-hour unit hydrograph should have a higher peak which occurs earlier than the 6-hour unit hydrograp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4C3-A27A-4B83-B085-7F8DA2CA5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 1-hour U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Object 3" descr=""/>
          <p:cNvPicPr/>
          <p:nvPr/>
        </p:nvPicPr>
        <p:blipFill>
          <a:blip r:embed="rId1"/>
          <a:stretch/>
        </p:blipFill>
        <p:spPr>
          <a:xfrm>
            <a:off x="-857160" y="642960"/>
            <a:ext cx="105012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02A-B29B-47C9-83DE-558D83C4A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642960" y="1500120"/>
            <a:ext cx="835812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does exist a shortcut method for changing the duration of the unit hydrograph if the two durations are multiples of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done by displacing the the unit hydr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xample, if you had a two hour unit hydrograph and you wanted to change it to a four hour unit hydr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FB0E-36DC-49E5-B734-DB638FAAA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Object 3"/>
          <p:cNvGraphicFramePr/>
          <p:nvPr/>
        </p:nvGraphicFramePr>
        <p:xfrm>
          <a:off x="2571840" y="3143160"/>
          <a:ext cx="30718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3143160"/>
                    <a:ext cx="30718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Rectangle 4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898560" y="1357200"/>
            <a:ext cx="7635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, a two hour unit hydrograph is given and a four hour unit hydrograph is need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wo possibilities, develop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 - cur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since they are multiples use the shortcut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EFDD-B1DB-4ED8-B8CB-261625E9C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357120" y="1000080"/>
            <a:ext cx="878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2 hr-UH is then displaced by 2 hou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one because the 2 hr-UH will be used to repres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4 hr-U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5"/>
          <p:cNvGraphicFramePr/>
          <p:nvPr/>
        </p:nvGraphicFramePr>
        <p:xfrm>
          <a:off x="3429000" y="2071800"/>
          <a:ext cx="364320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71800"/>
                    <a:ext cx="364320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5791320" y="9144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ainfall shown in mm, as a bar gra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32C-7657-4634-A72F-1C44073AE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898560" y="1214280"/>
            <a:ext cx="7635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two hydrographs are then sum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Object 5"/>
          <p:cNvGraphicFramePr/>
          <p:nvPr/>
        </p:nvGraphicFramePr>
        <p:xfrm>
          <a:off x="2071800" y="1785960"/>
          <a:ext cx="4714920" cy="50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785960"/>
                    <a:ext cx="471492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E90-4042-4A0E-B9CC-27C48DA0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357120" y="928800"/>
            <a:ext cx="8786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ly the summed hydrograph is divided by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one because when two unit hydrographs are added, the area under the curve is two units.  This has to be reduced back to one unit of runof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5"/>
          <p:cNvGraphicFramePr/>
          <p:nvPr/>
        </p:nvGraphicFramePr>
        <p:xfrm>
          <a:off x="2857680" y="2428920"/>
          <a:ext cx="54291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2428920"/>
                    <a:ext cx="5429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18C6-59F2-4F6A-93E8-3A4ADED8C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verage Several UH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000080"/>
            <a:ext cx="7848720" cy="55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recommend that several unit hydrographs be derived and aver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t hydrographs must be of the same duration in order to be properly aver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ften not sufficient to simply average the ordinates of the unit hydrographs in order to obtain the final unit hydrograph.  A numerical average of several unit hydrographs which are different “shapes” may result in an “unrepresentative” unit hydro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ften recommended to plot the unit hydrographs that are to be averaged.  Then an average or representative unit hydrograph should be sketched or fitted to the plotted unit hydrograp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ly, the average unit hydrograph must have a volume of 1 inch of runoff for the ba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85C1-EAEF-43A9-AD28-ABF4C0CDB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nthetic UHG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ny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-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HABBS Implementation Pl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HRSC Hom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ttp://www.nohrsc.nws.gov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ttp://www.nohrsc.nws.gov/98/html/uhg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46A-C875-463D-A98A-944FD22B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ny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peak flow and time of peak flow are two of the most important parameters characterizing a unit hydrograph, the Snyder method employs factors defining these parameters, which are then used in the synthesis of the unit graph (Snyder, 193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peak flow factor,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lag fact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sic assumption in this method is that basins which have similar physiographic characteristics are located in the same area will have similar values of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refore, for ungaged basins, it is preferred that the basin be near or similar to gaged basins for which these coefficients can be determine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6262-8828-49A9-907F-4F308C4E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Basic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3"/>
              <p:cNvSpPr txBox="1"/>
              <p:nvPr/>
            </p:nvSpPr>
            <p:spPr>
              <a:xfrm>
                <a:off x="1571760" y="1214280"/>
                <a:ext cx="50720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1785960" y="2428920"/>
                <a:ext cx="5429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urat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G</m:t>
                        </m:r>
                      </m:sub>
                    </m:sSub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6"/>
              <p:cNvSpPr txBox="1"/>
              <p:nvPr/>
            </p:nvSpPr>
            <p:spPr>
              <a:xfrm>
                <a:off x="1785960" y="4000680"/>
                <a:ext cx="54291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G</m:t>
                            </m:r>
                          </m:sub>
                        </m:sSub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7"/>
              <p:cNvSpPr txBox="1"/>
              <p:nvPr/>
            </p:nvSpPr>
            <p:spPr>
              <a:xfrm>
                <a:off x="1714680" y="5143680"/>
                <a:ext cx="542916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a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D1E-A8BD-4E98-AD8C-B719193C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419076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 Sh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l shape of the Snyder unit hydrograph is controlled by the equations for width at 50% and 75% of the peak of the U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1857240" y="2928600"/>
            <a:ext cx="5429160" cy="3214800"/>
            <a:chOff x="1857240" y="2928600"/>
            <a:chExt cx="5429160" cy="3214800"/>
          </a:xfrm>
        </p:grpSpPr>
        <p:sp>
          <p:nvSpPr>
            <p:cNvPr id="814" name="Line 4"/>
            <p:cNvSpPr/>
            <p:nvPr/>
          </p:nvSpPr>
          <p:spPr>
            <a:xfrm flipV="1">
              <a:off x="1857240" y="2928600"/>
              <a:ext cx="0" cy="32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5"/>
            <p:cNvSpPr/>
            <p:nvPr/>
          </p:nvSpPr>
          <p:spPr>
            <a:xfrm>
              <a:off x="1858680" y="6141960"/>
              <a:ext cx="54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"/>
            <p:cNvSpPr/>
            <p:nvPr/>
          </p:nvSpPr>
          <p:spPr>
            <a:xfrm>
              <a:off x="1857240" y="4416840"/>
              <a:ext cx="2103120" cy="1726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"/>
            <p:cNvSpPr/>
            <p:nvPr/>
          </p:nvSpPr>
          <p:spPr>
            <a:xfrm>
              <a:off x="3958920" y="4416840"/>
              <a:ext cx="2103120" cy="1726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8"/>
            <p:cNvSpPr/>
            <p:nvPr/>
          </p:nvSpPr>
          <p:spPr>
            <a:xfrm>
              <a:off x="3697920" y="4887360"/>
              <a:ext cx="52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9"/>
            <p:cNvSpPr/>
            <p:nvPr/>
          </p:nvSpPr>
          <p:spPr>
            <a:xfrm>
              <a:off x="3260160" y="5357880"/>
              <a:ext cx="131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18A-770D-46B2-871A-63E00C39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Object 3"/>
          <p:cNvGraphicFramePr/>
          <p:nvPr/>
        </p:nvGraphicFramePr>
        <p:xfrm>
          <a:off x="2743200" y="2209680"/>
          <a:ext cx="4148280" cy="36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41482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171-6844-4BDC-A87F-0AAC3CB17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imensionles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Object 3"/>
          <p:cNvGraphicFramePr/>
          <p:nvPr/>
        </p:nvGraphicFramePr>
        <p:xfrm>
          <a:off x="2286000" y="1600200"/>
          <a:ext cx="4303800" cy="511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3038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1F51-04FA-450A-82B3-7875AC82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iangular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Object 3"/>
          <p:cNvGraphicFramePr/>
          <p:nvPr/>
        </p:nvGraphicFramePr>
        <p:xfrm>
          <a:off x="2743200" y="1981080"/>
          <a:ext cx="381492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3814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7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5867280" y="83808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Discharge in m</a:t>
            </a:r>
            <a:r>
              <a:rPr b="1" lang="en-GB" sz="20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/s, as a l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5AA-C73D-4A53-81B3-F4BA8D890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iangular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Object 3"/>
          <p:cNvGraphicFramePr/>
          <p:nvPr/>
        </p:nvGraphicFramePr>
        <p:xfrm>
          <a:off x="1604880" y="1828800"/>
          <a:ext cx="954000" cy="25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828800"/>
                    <a:ext cx="9540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4"/>
          <p:cNvGraphicFramePr/>
          <p:nvPr/>
        </p:nvGraphicFramePr>
        <p:xfrm>
          <a:off x="1371600" y="2438280"/>
          <a:ext cx="1422360" cy="25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38280"/>
                    <a:ext cx="142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5"/>
          <p:cNvGraphicFramePr/>
          <p:nvPr/>
        </p:nvGraphicFramePr>
        <p:xfrm>
          <a:off x="1066680" y="3124080"/>
          <a:ext cx="2032200" cy="44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3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124080"/>
                    <a:ext cx="203220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6"/>
          <p:cNvGraphicFramePr/>
          <p:nvPr/>
        </p:nvGraphicFramePr>
        <p:xfrm>
          <a:off x="1676520" y="3886200"/>
          <a:ext cx="803160" cy="457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886200"/>
                    <a:ext cx="80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7"/>
          <p:cNvGraphicFramePr/>
          <p:nvPr/>
        </p:nvGraphicFramePr>
        <p:xfrm>
          <a:off x="1371600" y="4724280"/>
          <a:ext cx="1479600" cy="457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4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724280"/>
                    <a:ext cx="1479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Rectangle 8"/>
          <p:cNvSpPr/>
          <p:nvPr/>
        </p:nvSpPr>
        <p:spPr>
          <a:xfrm>
            <a:off x="3963960" y="4726080"/>
            <a:ext cx="3578400" cy="11883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645.33 is the conversion used for delivering 1-inch of runoff (the area under the unit hydrograph) from 1-square mile in 1-hour (3600 second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Object 9"/>
          <p:cNvGraphicFramePr/>
          <p:nvPr/>
        </p:nvGraphicFramePr>
        <p:xfrm>
          <a:off x="1676520" y="5562720"/>
          <a:ext cx="869760" cy="457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84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562720"/>
                    <a:ext cx="869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10"/>
          <p:cNvGraphicFramePr/>
          <p:nvPr/>
        </p:nvGraphicFramePr>
        <p:xfrm>
          <a:off x="4495680" y="1752480"/>
          <a:ext cx="2374920" cy="22654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84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1752480"/>
                    <a:ext cx="23749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Line 11"/>
          <p:cNvSpPr/>
          <p:nvPr/>
        </p:nvSpPr>
        <p:spPr>
          <a:xfrm flipH="1" flipV="1">
            <a:off x="2896920" y="4954320"/>
            <a:ext cx="912600" cy="15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BE8D-308E-45F8-BE40-108493BC4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484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1219320" y="2514600"/>
            <a:ext cx="6553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s from the initial assumption that 3/8 of the volume under the UHG is under the rising limb and the remaining 5/8 is under the recession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Object 4"/>
          <p:cNvGraphicFramePr/>
          <p:nvPr/>
        </p:nvGraphicFramePr>
        <p:xfrm>
          <a:off x="1676520" y="3809880"/>
          <a:ext cx="5643360" cy="17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9880"/>
                    <a:ext cx="56433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5"/>
          <p:cNvGraphicFramePr/>
          <p:nvPr/>
        </p:nvGraphicFramePr>
        <p:xfrm>
          <a:off x="3962520" y="1828800"/>
          <a:ext cx="869760" cy="45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828800"/>
                    <a:ext cx="869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6231-D3ED-4A31-8BB5-5D01B8926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uration &amp; Ti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3"/>
          <p:cNvGraphicFramePr/>
          <p:nvPr/>
        </p:nvGraphicFramePr>
        <p:xfrm>
          <a:off x="3809880" y="2590920"/>
          <a:ext cx="727200" cy="40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90920"/>
                    <a:ext cx="727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Object 4"/>
              <p:cNvSpPr txBox="1"/>
              <p:nvPr/>
            </p:nvSpPr>
            <p:spPr>
              <a:xfrm>
                <a:off x="3733920" y="3276720"/>
                <a:ext cx="927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2" name="Rectangle 5"/>
          <p:cNvSpPr/>
          <p:nvPr/>
        </p:nvSpPr>
        <p:spPr>
          <a:xfrm>
            <a:off x="5334120" y="281952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La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6"/>
          <p:cNvGraphicFramePr/>
          <p:nvPr/>
        </p:nvGraphicFramePr>
        <p:xfrm>
          <a:off x="3733920" y="3962520"/>
          <a:ext cx="955440" cy="25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962520"/>
                    <a:ext cx="95544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7"/>
          <p:cNvGraphicFramePr/>
          <p:nvPr/>
        </p:nvGraphicFramePr>
        <p:xfrm>
          <a:off x="3733920" y="4419720"/>
          <a:ext cx="1003320" cy="406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6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419720"/>
                    <a:ext cx="1003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Rectangle 8"/>
          <p:cNvSpPr/>
          <p:nvPr/>
        </p:nvSpPr>
        <p:spPr>
          <a:xfrm>
            <a:off x="2362320" y="480060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stimation purpo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8" name="Object 9"/>
          <p:cNvGraphicFramePr/>
          <p:nvPr/>
        </p:nvGraphicFramePr>
        <p:xfrm>
          <a:off x="5791320" y="4952880"/>
          <a:ext cx="803160" cy="241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4952880"/>
                    <a:ext cx="80316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Rectangle 10"/>
          <p:cNvSpPr/>
          <p:nvPr/>
        </p:nvSpPr>
        <p:spPr>
          <a:xfrm>
            <a:off x="2666880" y="1905120"/>
            <a:ext cx="312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from the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1"/>
          <p:cNvSpPr/>
          <p:nvPr/>
        </p:nvSpPr>
        <p:spPr>
          <a:xfrm flipH="1" flipV="1">
            <a:off x="4649400" y="2896920"/>
            <a:ext cx="684360" cy="7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2"/>
          <p:cNvSpPr/>
          <p:nvPr/>
        </p:nvSpPr>
        <p:spPr>
          <a:xfrm flipH="1">
            <a:off x="4726080" y="3201840"/>
            <a:ext cx="684000" cy="15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2C3-09CF-4FC5-B691-2B06EF48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 of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90800" y="1934640"/>
            <a:ext cx="4759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Eq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44E0-DFF5-4493-BB72-FF5908CB6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Regressio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3"/>
          <p:cNvGraphicFramePr/>
          <p:nvPr/>
        </p:nvGraphicFramePr>
        <p:xfrm>
          <a:off x="3429000" y="2133720"/>
          <a:ext cx="1574640" cy="55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133720"/>
                    <a:ext cx="15746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523880" y="3200400"/>
            <a:ext cx="601992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a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lag time i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= Length of the longest drainage path in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(1000/CN) - 10  (CN=curve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Slope = The average watershed slope in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F19-3937-4166-9033-74CD9DF48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gment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“hydraulic”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ameter being estimated is essentially the time of concentration or longest travel time within the ba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longest travel time corresponds to the longest drainag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ow path is broken into segments with the flow in each segment being represented by some type of flow reg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flow representations are overland, sheet, rill and gully, and channel flow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FA7-1794-4EA0-937D-F8746B88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Basic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3"/>
              <p:cNvSpPr txBox="1"/>
              <p:nvPr/>
            </p:nvSpPr>
            <p:spPr>
              <a:xfrm>
                <a:off x="6553080" y="990720"/>
                <a:ext cx="1079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7" name="Rectangle 4"/>
          <p:cNvSpPr/>
          <p:nvPr/>
        </p:nvSpPr>
        <p:spPr>
          <a:xfrm>
            <a:off x="6095880" y="2438280"/>
            <a:ext cx="21337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Cuen (1989) and SCS (1972) provide values of k for several flow situations (slope in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5"/>
          <p:cNvGraphicFramePr/>
          <p:nvPr/>
        </p:nvGraphicFramePr>
        <p:xfrm>
          <a:off x="762120" y="1981080"/>
          <a:ext cx="5646600" cy="21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564660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6"/>
          <p:cNvGraphicFramePr/>
          <p:nvPr/>
        </p:nvGraphicFramePr>
        <p:xfrm>
          <a:off x="304920" y="4191120"/>
          <a:ext cx="5643360" cy="2290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91120"/>
                    <a:ext cx="564336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Rectangle 7"/>
          <p:cNvSpPr/>
          <p:nvPr/>
        </p:nvSpPr>
        <p:spPr>
          <a:xfrm>
            <a:off x="5257800" y="48006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ell &amp; Hamilton, 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79E-EA4D-43A3-B664-01472AC0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iangular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it can be said that the triangular version will not cause or introduce noticeable differences in the simulation of a storm event, particularly when one is concerned with the peak 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ong term simulations, the triangular unit hydrograph does have a potential impact, due to the shape of the recession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.S. Army Corps of Engineers (HEC 1990) fits a Clark unit hydrograph to match the peak flows estimated by the Snyder unit hydrograph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possible to fit a synthetic or mathematical function to the peak flow and timing parameters of the desired unit hydro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n and White (1982) fitted a gamma probability distribution using peak flow and time to peak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D6D-2026-4970-9860-69451BFB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itting a Gamma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3"/>
              <p:cNvSpPr txBox="1"/>
              <p:nvPr/>
            </p:nvSpPr>
            <p:spPr>
              <a:xfrm>
                <a:off x="3581280" y="1752480"/>
                <a:ext cx="1866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9" name="Object 4"/>
          <p:cNvGraphicFramePr/>
          <p:nvPr/>
        </p:nvGraphicFramePr>
        <p:xfrm>
          <a:off x="2057400" y="2590920"/>
          <a:ext cx="5019840" cy="33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90920"/>
                    <a:ext cx="501984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1153-6B53-4DFB-B313-FE6C1364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-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7183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8"/>
          <p:cNvSpPr/>
          <p:nvPr/>
        </p:nvSpPr>
        <p:spPr>
          <a:xfrm rot="600">
            <a:off x="6171840" y="379440"/>
            <a:ext cx="20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5867280" y="914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ising flood water in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7B2-63D5-4ACE-952B-F956FEA9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-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Object 3"/>
          <p:cNvGraphicFramePr/>
          <p:nvPr/>
        </p:nvGraphicFramePr>
        <p:xfrm>
          <a:off x="2127240" y="2360520"/>
          <a:ext cx="4900680" cy="21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240" y="2360520"/>
                    <a:ext cx="49006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E068-71C0-4262-91AD-066F7F93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-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3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237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C61B-AD3A-4938-81C9-A7A28264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ypothe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90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ershed is divided into 8 isochrones of trave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ar reservoir routing coefficient, R, estimated as 5.5 h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me interval of 2.0 hours will be used for the comp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Object 4"/>
          <p:cNvGraphicFramePr/>
          <p:nvPr/>
        </p:nvGraphicFramePr>
        <p:xfrm>
          <a:off x="2743200" y="3276720"/>
          <a:ext cx="3814920" cy="29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76720"/>
                    <a:ext cx="38149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DB4D-0012-4DC9-915E-A1268473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ule of Thu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779040" y="2018880"/>
            <a:ext cx="7907400" cy="20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- The linear reservoir routing coefficient can be estimated as approximately 0.75 times the time of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9E04-4874-44EA-BB96-8B3FE98F6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Basin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1" name="Object 3"/>
          <p:cNvGraphicFramePr/>
          <p:nvPr/>
        </p:nvGraphicFramePr>
        <p:xfrm>
          <a:off x="2590920" y="2362320"/>
          <a:ext cx="5656320" cy="239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565632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4"/>
          <p:cNvGraphicFramePr/>
          <p:nvPr/>
        </p:nvGraphicFramePr>
        <p:xfrm>
          <a:off x="1295280" y="3429000"/>
          <a:ext cx="2908440" cy="228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429000"/>
                    <a:ext cx="290844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9B8E-68BF-440A-A4F8-B88A9122E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cremental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Object 3"/>
          <p:cNvGraphicFramePr/>
          <p:nvPr/>
        </p:nvGraphicFramePr>
        <p:xfrm>
          <a:off x="2743200" y="1828800"/>
          <a:ext cx="530064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828800"/>
                    <a:ext cx="5300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Object 4"/>
          <p:cNvGraphicFramePr/>
          <p:nvPr/>
        </p:nvGraphicFramePr>
        <p:xfrm>
          <a:off x="838080" y="4191120"/>
          <a:ext cx="2908440" cy="2280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2908440" cy="22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DB84-EF84-4A76-AD66-3CF51F594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Time-Area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3" name="Object 3"/>
          <p:cNvGraphicFramePr/>
          <p:nvPr/>
        </p:nvGraphicFramePr>
        <p:xfrm>
          <a:off x="2590920" y="1752480"/>
          <a:ext cx="5300640" cy="35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530064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Object 4"/>
          <p:cNvGraphicFramePr/>
          <p:nvPr/>
        </p:nvGraphicFramePr>
        <p:xfrm>
          <a:off x="1066680" y="4495680"/>
          <a:ext cx="2222640" cy="174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95680"/>
                    <a:ext cx="222264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D007-03F4-4B2D-BD14-B92B324E4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ouble Getting a Time-Area Cu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Object 3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860400" cy="258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0" name="Object 4"/>
              <p:cNvSpPr txBox="1"/>
              <p:nvPr/>
            </p:nvSpPr>
            <p:spPr>
              <a:xfrm>
                <a:off x="3981600" y="2865600"/>
                <a:ext cx="3352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     fo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Ti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5"/>
              <p:cNvSpPr txBox="1"/>
              <p:nvPr/>
            </p:nvSpPr>
            <p:spPr>
              <a:xfrm>
                <a:off x="3632040" y="3398760"/>
                <a:ext cx="42292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for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Ti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Rectangle 6"/>
          <p:cNvSpPr/>
          <p:nvPr/>
        </p:nvSpPr>
        <p:spPr>
          <a:xfrm>
            <a:off x="3963960" y="4268880"/>
            <a:ext cx="3730680" cy="1189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nthetic time-area curve -  The U.S. Army Corps of Engineers (HEC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179E-26D1-470F-8394-C7F43CAE6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stantaneous U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3"/>
              <p:cNvSpPr txBox="1"/>
              <p:nvPr/>
            </p:nvSpPr>
            <p:spPr>
              <a:xfrm>
                <a:off x="3505320" y="1828800"/>
                <a:ext cx="21589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U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UH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4"/>
              <p:cNvSpPr txBox="1"/>
              <p:nvPr/>
            </p:nvSpPr>
            <p:spPr>
              <a:xfrm>
                <a:off x="3962520" y="2514600"/>
                <a:ext cx="1003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Rectangle 5"/>
          <p:cNvSpPr/>
          <p:nvPr/>
        </p:nvSpPr>
        <p:spPr>
          <a:xfrm>
            <a:off x="2438280" y="3581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= the time step used n the calculation of the translation unit hydr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nal unit hydrograph may be found by averaging 2 instantaneous unit hydrographs that are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time step a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B3D1-C72C-48C9-89B4-14ECEBDBD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Object 3"/>
          <p:cNvGraphicFramePr/>
          <p:nvPr/>
        </p:nvGraphicFramePr>
        <p:xfrm>
          <a:off x="2209680" y="1752480"/>
          <a:ext cx="455148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4551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6172200" y="304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5867280" y="914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ximum discharge in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1D5E-1B87-406B-9A7F-1ECFFF9BE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crement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Object 3"/>
          <p:cNvGraphicFramePr/>
          <p:nvPr/>
        </p:nvGraphicFramePr>
        <p:xfrm>
          <a:off x="1905120" y="2133720"/>
          <a:ext cx="530064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300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22A-43D6-4D41-9EE6-F2CC3386E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cremental 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Object 3"/>
          <p:cNvGraphicFramePr/>
          <p:nvPr/>
        </p:nvGraphicFramePr>
        <p:xfrm>
          <a:off x="1828800" y="2362320"/>
          <a:ext cx="530064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5300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1C57-0BB6-4268-A57B-6E8801E26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stantaneous U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Object 3"/>
          <p:cNvGraphicFramePr/>
          <p:nvPr/>
        </p:nvGraphicFramePr>
        <p:xfrm>
          <a:off x="1981080" y="2133720"/>
          <a:ext cx="5300640" cy="35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530064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EF2-801F-49C1-8F52-6168D9FE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g &amp; A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Object 3"/>
          <p:cNvGraphicFramePr/>
          <p:nvPr/>
        </p:nvGraphicFramePr>
        <p:xfrm>
          <a:off x="1981080" y="1981080"/>
          <a:ext cx="5300640" cy="35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30064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A4B-7525-44FC-B104-D7BCDDFD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orpho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609480" y="198108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tream network topology and probabilit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Stream Numbe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: 3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Stream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: 1.5-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Strea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: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4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1295640" cy="795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5" descr=""/>
          <p:cNvPicPr/>
          <p:nvPr/>
        </p:nvPicPr>
        <p:blipFill>
          <a:blip r:embed="rId2"/>
          <a:stretch/>
        </p:blipFill>
        <p:spPr>
          <a:xfrm>
            <a:off x="4343400" y="3809880"/>
            <a:ext cx="1219320" cy="8683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3"/>
          <a:stretch/>
        </p:blipFill>
        <p:spPr>
          <a:xfrm>
            <a:off x="4343400" y="4876920"/>
            <a:ext cx="12193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C6D-5EAC-4DE9-A2B8-16CFD9AC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hler Stream 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5"/>
          <p:cNvSpPr/>
          <p:nvPr/>
        </p:nvSpPr>
        <p:spPr>
          <a:xfrm>
            <a:off x="2971800" y="22096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6"/>
          <p:cNvSpPr/>
          <p:nvPr/>
        </p:nvSpPr>
        <p:spPr>
          <a:xfrm flipV="1">
            <a:off x="3505320" y="220932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7"/>
          <p:cNvSpPr/>
          <p:nvPr/>
        </p:nvSpPr>
        <p:spPr>
          <a:xfrm>
            <a:off x="3505320" y="2971800"/>
            <a:ext cx="5331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8"/>
          <p:cNvSpPr/>
          <p:nvPr/>
        </p:nvSpPr>
        <p:spPr>
          <a:xfrm>
            <a:off x="4038480" y="39625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9"/>
          <p:cNvSpPr/>
          <p:nvPr/>
        </p:nvSpPr>
        <p:spPr>
          <a:xfrm flipV="1">
            <a:off x="4038480" y="342900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0"/>
          <p:cNvSpPr/>
          <p:nvPr/>
        </p:nvSpPr>
        <p:spPr>
          <a:xfrm flipH="1" flipV="1">
            <a:off x="4876920" y="2514600"/>
            <a:ext cx="3045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1"/>
          <p:cNvSpPr/>
          <p:nvPr/>
        </p:nvSpPr>
        <p:spPr>
          <a:xfrm flipV="1">
            <a:off x="4876920" y="19810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2"/>
          <p:cNvSpPr/>
          <p:nvPr/>
        </p:nvSpPr>
        <p:spPr>
          <a:xfrm flipH="1" flipV="1">
            <a:off x="4571640" y="18284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3"/>
          <p:cNvSpPr/>
          <p:nvPr/>
        </p:nvSpPr>
        <p:spPr>
          <a:xfrm flipV="1">
            <a:off x="5181480" y="29718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4"/>
          <p:cNvSpPr/>
          <p:nvPr/>
        </p:nvSpPr>
        <p:spPr>
          <a:xfrm>
            <a:off x="3048120" y="342900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5"/>
          <p:cNvSpPr/>
          <p:nvPr/>
        </p:nvSpPr>
        <p:spPr>
          <a:xfrm>
            <a:off x="2743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3809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7"/>
          <p:cNvSpPr/>
          <p:nvPr/>
        </p:nvSpPr>
        <p:spPr>
          <a:xfrm>
            <a:off x="31240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8"/>
          <p:cNvSpPr/>
          <p:nvPr/>
        </p:nvSpPr>
        <p:spPr>
          <a:xfrm>
            <a:off x="52578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9"/>
          <p:cNvSpPr/>
          <p:nvPr/>
        </p:nvSpPr>
        <p:spPr>
          <a:xfrm>
            <a:off x="46483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0"/>
          <p:cNvSpPr/>
          <p:nvPr/>
        </p:nvSpPr>
        <p:spPr>
          <a:xfrm>
            <a:off x="5715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21"/>
          <p:cNvSpPr/>
          <p:nvPr/>
        </p:nvSpPr>
        <p:spPr>
          <a:xfrm>
            <a:off x="38862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23"/>
          <p:cNvSpPr/>
          <p:nvPr/>
        </p:nvSpPr>
        <p:spPr>
          <a:xfrm>
            <a:off x="4724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4"/>
          <p:cNvSpPr/>
          <p:nvPr/>
        </p:nvSpPr>
        <p:spPr>
          <a:xfrm>
            <a:off x="411480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50292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0C1-346D-4CA0-85F5-D8498729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80880" y="1905120"/>
            <a:ext cx="8382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travels through basin, making transitions from lower to higher stream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times and transition probabilities can be approximated using Strahler stream order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probability density function analogous to an instantaneous unit hydro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gnore surface/subsurface travel times to get a channel-based GI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E1C1-C54C-46BD-9A44-40848355C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UH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-based, triangular instantaneous unit hydro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km, V in m/s,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4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2057400" cy="9144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5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3352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17:02:25Z</dcterms:created>
  <dc:creator>Dennis Johnson</dc:creator>
  <dc:description/>
  <dc:language>en-US</dc:language>
  <cp:lastModifiedBy>Good</cp:lastModifiedBy>
  <cp:lastPrinted>1999-10-22T20:52:16Z</cp:lastPrinted>
  <dcterms:modified xsi:type="dcterms:W3CDTF">2011-03-02T19:28:15Z</dcterms:modified>
  <cp:revision>52</cp:revision>
  <dc:subject/>
  <dc:title>Unit Hydrograph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frf@riverside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docs\www\class\hydromet\09_Oct13_1999\docs\fiedler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