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0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6F1-63CF-499C-9891-D9DD0492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753-19BB-447B-8C1D-FB91B4073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36A-B7D7-4DF0-9354-365FFD97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568-F77F-494E-AFB0-32C4DD1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B0A-2D44-4883-93EA-89AF0F33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7E7-470B-4433-A995-139A07E7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9E4-112D-4067-AE2C-7F1E1786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614E-D91C-447E-9476-3E8936A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9663-D402-427C-90F7-30C9A22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6D98-76FF-477D-B07A-7237A7BB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EFC5-642C-4452-A2DE-50A9894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609E-B310-4909-98D1-FEF79DF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8C3E-9ADF-4281-A6CB-45E2587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CED-7B13-48AC-95DC-7080241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E94E-5F17-4E1C-A446-A8296AC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46CF-96E2-4D83-907D-4BBBA767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84C-2134-466F-89A1-12F96ED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0C1D-9F5F-485B-9634-53D84802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73B-24BA-49D4-A99A-84B5A873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C8A-8153-429B-9AD7-82C04896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920-95C4-46EB-8C48-78E80FE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6FC-F367-4469-83C5-E36F217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247-5DB0-4718-A5B1-0783BDD3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EA7-FD05-4A1D-9236-027BC0A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3BE-76D0-4F87-9DA0-A2962F0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ACA-E160-41EC-95A1-8D3A406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8D5-8ACB-4B88-8BD4-38806A3E88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08C1-D6C8-489B-AF4E-E317ED6A2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03E-F8EC-4F37-9D9D-D6F9702C9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8EBE-690F-4C13-BE2D-4061FABB28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 development lifecycle (SDLC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entire process consisting of all activities required to build, launch, and maintain an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problem or need and obtai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and monitor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ver and understand the details of the problem or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system components that solve the problem or satisfy the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, test, and integrate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ystem tests and then deploy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F44-EFF8-4099-9426-771330D1C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s development pro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actual approach used to develop a particular information system (aka: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ied process (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cesses/methodologies now use Agile and Itera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3D6B-ABF1-473B-91CC-9629155EB8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ile develop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n information system development process that emphasizes flexibility to anticipate new requirements dur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 on feet; responsiv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- an approach to system development in which the system is “grown” piece by piece through multiple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mall part of system (mini-project), then repeat processes to refine and add more, then repeat to refine and add more, unti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83C1-16EE-4886-BEDC-04DE9D4E4B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erative and Agile Systems Development Lifecycle (SDL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8229600" cy="43750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5C10-28E7-4E1A-97C8-6C06B4356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etail Comp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door and sporting clothing and access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iing, mountain biking, water s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king, camping, mountain cli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cky Mountain and Wester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ed mail order and phon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retail 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extensive E-business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D8C4-3F9A-4D23-96CF-3286079431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60880" cy="529272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97D4-5CBC-4580-AE37-8B43B8770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533520" y="1434960"/>
            <a:ext cx="8153280" cy="5123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7ED4-6A90-436F-BB41-D8D6BE9031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project for chap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information system (ap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added to larger supply chain managem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s one iteration of the small project, assuming there ar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 through all six core processes of SDL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is to complete iteration in six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89E-E32E-46A6-BCDA-A201325DB8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rchasing agents attend apparel and fabric trade shows around the world to order new products from supp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nformation system (app) to collect and track information about suppliers and new products while at trade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radeshow Projec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s prop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723-E282-483F-86A1-AFF1A83637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-Projec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problem and document the objective of the system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approval to commence the project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with key stakeholders, including executiv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reached, approve plan and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6080" y="6091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rom Beginning to End: An Overview of Systems Analysis and Desig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560" y="3655800"/>
            <a:ext cx="465948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D2F0-FA3F-4C59-A919-4F05A1918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ystem Vision Document</a:t>
            </a:r>
            <a:br>
              <a:rPr sz="32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blem descrip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3914640" y="152280"/>
            <a:ext cx="4222800" cy="6172200"/>
          </a:xfrm>
          <a:prstGeom prst="rect">
            <a:avLst/>
          </a:prstGeom>
          <a:ln w="0">
            <a:noFill/>
          </a:ln>
        </p:spPr>
      </p:pic>
      <p:sp>
        <p:nvSpPr>
          <p:cNvPr id="2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62E-A449-4045-9A32-EF2B8225CC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scrip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11" descr=""/>
          <p:cNvPicPr/>
          <p:nvPr/>
        </p:nvPicPr>
        <p:blipFill>
          <a:blip r:embed="rId1"/>
          <a:stretch/>
        </p:blipFill>
        <p:spPr>
          <a:xfrm>
            <a:off x="304920" y="1763640"/>
            <a:ext cx="8381880" cy="3613320"/>
          </a:xfrm>
          <a:prstGeom prst="rect">
            <a:avLst/>
          </a:prstGeom>
          <a:ln w="0">
            <a:noFill/>
          </a:ln>
        </p:spPr>
      </p:pic>
      <p:sp>
        <p:nvSpPr>
          <p:cNvPr id="2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1680-0BB1-4A55-80D8-ABAB7F12A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38148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B27-138A-4B6D-8E1D-8C8257FB12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71808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3CC-14BD-4ACA-9F86-9D25B65D3C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1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2: Plan th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major components (functional areas) that a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iterations and assign each function to an it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de to do Supplier subsystem fir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 one iteration as it is small and straight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eam members and responsi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D25-3FC7-43E3-8CE6-D2C9FBBD9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2096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Breakdown Structure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ased on the next four core processes in SDLC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5791320" cy="546912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B2FB-7C12-4E2B-8127-7F410BDB6D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25909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Sequence Draft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laborates on Work Breakdown Structur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3276720" y="0"/>
            <a:ext cx="4748040" cy="6248520"/>
          </a:xfrm>
          <a:prstGeom prst="rect">
            <a:avLst/>
          </a:prstGeom>
          <a:ln w="0">
            <a:noFill/>
          </a:ln>
        </p:spPr>
      </p:pic>
      <p:sp>
        <p:nvSpPr>
          <p:cNvPr id="2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4B0-1FA5-4713-9B11-B367D5383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2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preliminary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use cases and a 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classes and a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3E1-0B9E-40F2-AE7C-BFB898C8E3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Use Ca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685800" y="1440000"/>
            <a:ext cx="7772400" cy="4690800"/>
          </a:xfrm>
          <a:prstGeom prst="rect">
            <a:avLst/>
          </a:prstGeom>
          <a:ln w="0">
            <a:noFill/>
          </a:ln>
        </p:spPr>
      </p:pic>
      <p:sp>
        <p:nvSpPr>
          <p:cNvPr id="2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56DE-0640-4772-A4D4-ACEDBC9662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Object Clas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9" name="Picture 10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90808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E52-6B69-46C2-AC5E-05EC44EBD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1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 Development and Systems Analysis and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s Development Life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to Ridgeline Mountain Outfit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RMO’s Tradeshow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You are Headed—The Rest of the 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9AB-5487-4CB3-8A31-D48FE3F317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liminary Class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914400" y="158112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3EB0-155B-4D12-BB34-A38ADFCA50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3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in-depth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nd document the detailed workflow of each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user experience with screens and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D65-EC68-4258-9BA3-45315B7B6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ails Focus on Supplier Information Sub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sup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suppli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up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contr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8A1-625C-45A7-AFFD-A79156B250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 Case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upplier information subsyste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1295280" y="1568520"/>
            <a:ext cx="6477120" cy="4595760"/>
          </a:xfrm>
          <a:prstGeom prst="rect">
            <a:avLst/>
          </a:prstGeom>
          <a:ln w="0">
            <a:noFill/>
          </a:ln>
        </p:spPr>
      </p:pic>
      <p:sp>
        <p:nvSpPr>
          <p:cNvPr id="3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049-6B8C-48AD-8C86-1062228037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Workflow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219640" cy="601992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7C7-D3D2-4CCF-8892-549D100A36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Screen Layout</a:t>
            </a:r>
            <a:br>
              <a:rPr sz="39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400800" cy="4813200"/>
          </a:xfrm>
          <a:prstGeom prst="rect">
            <a:avLst/>
          </a:prstGeom>
          <a:ln w="0">
            <a:noFill/>
          </a:ln>
        </p:spPr>
      </p:pic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BD6-A162-417C-9EA5-ED190C0DA9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4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database (sch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ble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 and index iden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system’s high leve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owser, Windows, or Smart phone; OO or proced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itectural configuration (compon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class diagra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bsystem architectural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DA9-0160-49B7-9431-67BC66E4A5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 Sche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248160" cy="483876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8D6E-8119-4F37-8295-1E1197FA92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chitectural Configuration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479916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E7E-41CA-4ABD-8459-D20CE0E6C4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eliminary Design Class Diagram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Includes View Layer Classes and Domain Layer Class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Need to add Utility Classes as well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2739960" y="533520"/>
            <a:ext cx="5224680" cy="541008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3AC3-21BE-4AC5-9DFE-0118A2F444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reading this chapter, you should be abl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purpose of systems analysis and design in the development of informa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characteristics of iterative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six core processes of the Systems Developmen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B70-7B88-4E43-8145-E91A7073D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system Architectural Design Diagra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895480" y="676440"/>
            <a:ext cx="5867640" cy="5500440"/>
          </a:xfrm>
          <a:prstGeom prst="rect">
            <a:avLst/>
          </a:prstGeom>
          <a:ln w="0">
            <a:noFill/>
          </a:ln>
        </p:spPr>
      </p:pic>
      <p:sp>
        <p:nvSpPr>
          <p:cNvPr id="3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82D-D924-4D58-93BF-24695D984B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es on Managing the Projec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design diagrams sh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in a complex activity with multiple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level architect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evel detailed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diagram builds on/complements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thing is diagrammed, especially for a small project. Pick and choo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s also done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n’t design everything then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 some design, some coding, some design, some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FBDA-7145-4E1D-BD69-3DA397522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5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with design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e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5: Build, Test, and Integrate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programming (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nit and integratio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99A1-A38B-494A-A9AF-478B100BE4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de Example for One Clas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2666880" y="360360"/>
            <a:ext cx="5943600" cy="5622840"/>
          </a:xfrm>
          <a:prstGeom prst="rect">
            <a:avLst/>
          </a:prstGeom>
          <a:ln w="0">
            <a:noFill/>
          </a:ln>
        </p:spPr>
      </p:pic>
      <p:sp>
        <p:nvSpPr>
          <p:cNvPr id="3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BB97-A6D9-4CF7-93A3-ADA4C93AF2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flow of Testing Tas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763120" cy="261144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2613-BBBE-4E17-97F3-380D86F1B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en Capture for Look up supplier use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947880" y="1719360"/>
            <a:ext cx="7248240" cy="441144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5415-7A70-4FB4-9F4C-0C27E3F1E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6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6: Complete System Testing and Deploy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system functional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ser accept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deploy part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FA4B-383A-4A0F-BA6B-B279C889E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Iteration Reca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as a 6 day iteration of smal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terations are longer (2 to 4 wee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might be 2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ojects have many more iter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users need to be involved, particularly in day 1, 2, 3 and 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s 4 and 5 involved design and programming concurr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ime was spent programming along with design (not emphasized h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B43-014B-4BEF-885F-76367DEF56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s Book is about Activities and Tasks in th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532400"/>
          </a:xfrm>
          <a:prstGeom prst="rect">
            <a:avLst/>
          </a:prstGeom>
          <a:ln w="0">
            <a:noFill/>
          </a:ln>
        </p:spPr>
      </p:pic>
      <p:sp>
        <p:nvSpPr>
          <p:cNvPr id="3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D19B-EE5E-4BD3-867C-69D9ED20E4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: From Beginning to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project overview emphasizing analysis and design and iterativ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A: The Systems Analy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the role of the systems analyst in systems development, including system concepts and car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2: Investigating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3: Systems analysis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: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use ca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372-C129-4796-95B4-3B2712057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ocuments that are used in planning a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iagrams used in systems analysis and systems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use ca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object clas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123-54AC-4500-A4B5-01E527ABA5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4: Doma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domain clas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5: Extending the Requirement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ing more details about use cases and domain classes for systems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B: The Traditional Approach to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is using data flow diagrams (DFDs) in place of use case descriptions and use case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s common now, but widely known by experienced develop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8611-9654-4DA9-9B3C-21E26D3CE6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6: Essentials of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4: system design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7: Designing User and System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computer interaction, user interface design principles, outputs and reports, system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8: Approaches to Syste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the SDLC, models, tools, techniques, and agile method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9: Project Planning and Project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es 1 and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1F95-173C-4B65-9114-2E9B1450C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Chapter C: Project Management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hands on project management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0: Object-Oriented Design: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inciples, design models, and designing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1: Object-Oriented Design: Use Case Re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layer design and desig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2: Databases, Controls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database design and protecting the integrity of the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2A3-27EA-483B-A560-D1DEF6B7BC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3: Making the System Ope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es 5 and 6: programming, testing, and de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4: Current Trends in Syste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system development methodologies: Unified process, extreme programming, and sc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technology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software 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eb as an application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76AD-DF6F-41BC-BADA-6FD2FF9BD9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text is about developing information systems that solve an organization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1 takes you through the whole process for one small inform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 development involves 6 core processes, known as the SD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t of the text elaborates on the basic processes shown in chapter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8C7-4001-4935-A2B9-484592EA5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s to review and know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velopment life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 development process (method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EE6-B222-4E59-970A-43DE1C9D4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sequence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classes (domain clas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level structural design (architectural des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5E8-9369-498D-828A-6CA0DA5D0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xt is about developing information systems that solve an organization n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pter 1 takes you through the process of developing one rather small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st of the text elaborates on the basic processes shown in 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5AE-1A0D-45B5-AA2E-9F93096BDD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pp) – a computer software program that executes on a computing device to carry out a specific set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dest scop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 set of interrelated components that collects, processes, stores, and provides as output the information needed to complete busin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in scope than “a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abase and related manu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620D-84E6-4820-83EA-EE750CC640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 planned undertaking that has a beginning and end and that produces some definit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sed to develop an information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equires knowledge of systems analysis and systems design tools and techn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DD3-FEA0-469A-9F83-3051778E83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analys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understand and specify what an information system should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desig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define and describe in detail the system that solves th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44:10Z</dcterms:modified>
  <cp:revision>38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