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0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FAFD-BEC4-41EB-912F-0E268259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5197-62DA-41A0-8F64-05828983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C2A-163C-45EB-B924-944E585C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B52-F6DB-47EE-9463-D8E6559F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E74-D14C-483A-B085-715BBE06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0BD-D939-47A5-BE7D-5EC530D7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D289-BF3C-4465-B5DB-BD619114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EE3B-82BB-44AD-AA29-CBF88244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BD11-9182-4181-8CFE-D91BF9D0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1937-8971-4DD6-93B1-F1721D15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EC99-C407-42A4-93FB-0B0F8A7F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4D8D-C469-4556-A65D-DF7311AF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A7AF-37D9-4335-8996-26B6305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E89-D95E-4E1C-ADD0-5F9D30D5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269A-4111-40E4-9533-D6AD1417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22C9-A398-4045-9C17-78DE0E4B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DF21-BA76-414A-8679-E99CE744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CF98-7561-4F5E-ACA4-BA1F787E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E90D-6890-4F1D-840E-72DD195F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4C6-600A-4250-9BD1-DB1BD65E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AFD-9138-4718-90EA-AFE35521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D65-C7EC-4F58-BA13-FCF9663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BEA-DF63-4D40-8BFF-B67FBC28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654-8C13-4FB3-838F-BFB1D68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30B-EC76-4D4E-91D7-90B0AB59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BDB-BEB5-4892-AB7D-4BFC0E59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62B5-00E9-46CB-8648-01E2FA42EC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B2B4-DB1B-4B82-9DA3-F52E6E23FC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332E-65E6-418D-8ECB-E20F1F0612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F908-F6B9-4F4F-BA2F-9CD870C1BB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 development lifecycle (SDLC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e entire process consisting of all activities required to build, launch, and maintain an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the problem or need and obtain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 and monitor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over and understand the details of the problem or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the system components that solve the problem or satisfy the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, test, and integrate 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system tests and then deploy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9767-F684-4952-B2BB-7B2B8965A3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tion systems development pro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e actual approach used to develop a particular information system (aka: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fied process (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eme programming (X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cesses/methodologies now use Agile and Iterativ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2C2-30D9-433C-B8EB-06F58141FE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gile develop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an information system development process that emphasizes flexibility to anticipate new requirements dur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 on feet; responsiv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- an approach to system development in which the system is “grown” piece by piece through multiple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small part of system (mini-project), then repeat processes to refine and add more, then repeat to refine and add more, until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A605-0045-4E71-88B4-BA7C95A40F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terative and Agile Systems Development Lifecycle (SDL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1"/>
          <a:stretch/>
        </p:blipFill>
        <p:spPr>
          <a:xfrm>
            <a:off x="457200" y="1736640"/>
            <a:ext cx="8229600" cy="43750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616F-4667-4398-BF73-368BF8F281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Retail Compan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door and sporting clothing and access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iing, mountain biking, water s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king, camping, mountain clim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cky Mountain and Western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ed mail order and phone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retail 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extensive E-business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2711-42B1-4B67-A208-47A818F6D8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160880" cy="529272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A5EF-5013-4435-86CD-52C834AD92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533520" y="1434960"/>
            <a:ext cx="8153280" cy="51231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33F3-4298-4AED-9599-25E935336C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O Tradeshow System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project for chap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information system (ap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ng added to larger supply chain management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s one iteration of the small project, assuming there are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s through all six core processes of SDL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is to complete iteration in six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4E6B-1A7E-424E-8DE3-7F956F303A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O Tradeshow System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urchasing agents attend apparel and fabric trade shows around the world to order new products from suppl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– information system (app) to collect and track information about suppliers and new products while at tradesh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radeshow Projec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– is propo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information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information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17CB-D139-4366-901F-F7961A2EFC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-Project Activ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problem and document the objective of the system (core process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sion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approval to commence the project (core process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with key stakeholders, including executiv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reached, approve plan and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6080" y="6091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rom Beginning to End: An Overview of Systems Analysis and Desig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560" y="3655800"/>
            <a:ext cx="465948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D0D9-43CF-4C40-AC35-9052A9BE33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ystem Vision Document</a:t>
            </a:r>
            <a:br>
              <a:rPr sz="3200"/>
            </a:b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oblem descrip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ystem capabiliti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usiness benefits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3914640" y="152280"/>
            <a:ext cx="4222800" cy="6172200"/>
          </a:xfrm>
          <a:prstGeom prst="rect">
            <a:avLst/>
          </a:prstGeom>
          <a:ln w="0">
            <a:noFill/>
          </a:ln>
        </p:spPr>
      </p:pic>
      <p:sp>
        <p:nvSpPr>
          <p:cNvPr id="25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F861-6B27-4ED7-BC24-2B1E1EF8F9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scrip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9" name="Picture 11" descr=""/>
          <p:cNvPicPr/>
          <p:nvPr/>
        </p:nvPicPr>
        <p:blipFill>
          <a:blip r:embed="rId1"/>
          <a:stretch/>
        </p:blipFill>
        <p:spPr>
          <a:xfrm>
            <a:off x="304920" y="1763640"/>
            <a:ext cx="8381880" cy="3613320"/>
          </a:xfrm>
          <a:prstGeom prst="rect">
            <a:avLst/>
          </a:prstGeom>
          <a:ln w="0">
            <a:noFill/>
          </a:ln>
        </p:spPr>
      </p:pic>
      <p:sp>
        <p:nvSpPr>
          <p:cNvPr id="2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7B5-CBF1-4AB0-92B3-76AE31A6F2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Capabil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338148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0D91-B455-490F-B130-0B27A6F56A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siness Benef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9" name="Picture 7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718080"/>
          </a:xfrm>
          <a:prstGeom prst="rect">
            <a:avLst/>
          </a:prstGeom>
          <a:ln w="0">
            <a:noFill/>
          </a:ln>
        </p:spPr>
      </p:pic>
      <p:sp>
        <p:nvSpPr>
          <p:cNvPr id="2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F5D3-3385-4030-893F-ABC43DEA13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1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2: Plan the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major components (functional areas) that are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lier information sub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t information sub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the iterations and assign each function to an it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cide to do Supplier subsystem fir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 one iteration as it is small and straight for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eam members and responsi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57ED-0EDB-4749-B1FB-4E4480BBFD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22096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ork Breakdown Structure for Iteratio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Based on the next four core processes in SDLC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Picture 8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5791320" cy="5469120"/>
          </a:xfrm>
          <a:prstGeom prst="rect">
            <a:avLst/>
          </a:prstGeom>
          <a:ln w="0">
            <a:noFill/>
          </a:ln>
        </p:spPr>
      </p:pic>
      <p:sp>
        <p:nvSpPr>
          <p:cNvPr id="2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C40B-DF1A-45AE-8181-FDDD000D6E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25909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ork Sequence Draft for Iteratio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laborates on Work Breakdown Structur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3276720" y="0"/>
            <a:ext cx="4748040" cy="6248520"/>
          </a:xfrm>
          <a:prstGeom prst="rect">
            <a:avLst/>
          </a:prstGeom>
          <a:ln w="0">
            <a:noFill/>
          </a:ln>
        </p:spPr>
      </p:pic>
      <p:sp>
        <p:nvSpPr>
          <p:cNvPr id="2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FEB8-1A06-4775-B00F-39FA4C4FDB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2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3: Discover and Understand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preliminary fact-finding to understand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preliminary list of use cases and a use cas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preliminary list of classes and a 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3DEB-E9BF-4E02-B4F2-A471FCB4B9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Use Cases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4" name="Picture 7" descr=""/>
          <p:cNvPicPr/>
          <p:nvPr/>
        </p:nvPicPr>
        <p:blipFill>
          <a:blip r:embed="rId1"/>
          <a:stretch/>
        </p:blipFill>
        <p:spPr>
          <a:xfrm>
            <a:off x="685800" y="1440000"/>
            <a:ext cx="7772400" cy="4690800"/>
          </a:xfrm>
          <a:prstGeom prst="rect">
            <a:avLst/>
          </a:prstGeom>
          <a:ln w="0">
            <a:noFill/>
          </a:ln>
        </p:spPr>
      </p:pic>
      <p:sp>
        <p:nvSpPr>
          <p:cNvPr id="2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FA3E-8FA3-4CE2-BDDD-DC8FB17118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Object Classes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9" name="Picture 10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534520" cy="2908080"/>
          </a:xfrm>
          <a:prstGeom prst="rect">
            <a:avLst/>
          </a:prstGeom>
          <a:ln w="0">
            <a:noFill/>
          </a:ln>
        </p:spPr>
      </p:pic>
      <p:sp>
        <p:nvSpPr>
          <p:cNvPr id="3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C8A9-EEC8-44B7-8C56-BEF8578167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1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 Development and Systems Analysis and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s Development Life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 to Ridgeline Mountain Outfit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ing RMO’s Tradeshow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You are Headed—The Rest of the 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F6F-BBEC-4142-8C8E-A8A68140C7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liminary Class Diagram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914400" y="1581120"/>
            <a:ext cx="7162920" cy="4591080"/>
          </a:xfrm>
          <a:prstGeom prst="rect">
            <a:avLst/>
          </a:prstGeom>
          <a:ln w="0">
            <a:noFill/>
          </a:ln>
        </p:spPr>
      </p:pic>
      <p:sp>
        <p:nvSpPr>
          <p:cNvPr id="3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8E3A-57E4-4B70-9873-28F4CCB79B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3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3: Discover and Understand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in-depth fact-finding to understand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and document the detailed workflow of each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the user experience with screens and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1385-A379-42AD-B25F-F7A4A031F1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ails Focus on Supplier Information Sub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up supp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/update suppli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up 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/update contr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65E5-9D81-40A5-85FF-CA8C5049E4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 Case Diagram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upplier information subsyste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1"/>
          <a:stretch/>
        </p:blipFill>
        <p:spPr>
          <a:xfrm>
            <a:off x="1295280" y="1568520"/>
            <a:ext cx="6477120" cy="4595760"/>
          </a:xfrm>
          <a:prstGeom prst="rect">
            <a:avLst/>
          </a:prstGeom>
          <a:ln w="0">
            <a:noFill/>
          </a:ln>
        </p:spPr>
      </p:pic>
      <p:sp>
        <p:nvSpPr>
          <p:cNvPr id="3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C45B-F15C-4664-B0A9-735A1070E3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438280" cy="449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ity Diagram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Workflow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Look up supplier use case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219640" cy="6019920"/>
          </a:xfrm>
          <a:prstGeom prst="rect">
            <a:avLst/>
          </a:prstGeom>
          <a:ln w="0">
            <a:noFill/>
          </a:ln>
        </p:spPr>
      </p:pic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ABBC-CED1-40BA-9373-F32ADB45D7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 Screen Layout</a:t>
            </a:r>
            <a:br>
              <a:rPr sz="39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Look up supplier use case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95280" y="1432080"/>
            <a:ext cx="6400800" cy="4813200"/>
          </a:xfrm>
          <a:prstGeom prst="rect">
            <a:avLst/>
          </a:prstGeom>
          <a:ln w="0">
            <a:noFill/>
          </a:ln>
        </p:spPr>
      </p:pic>
      <p:sp>
        <p:nvSpPr>
          <p:cNvPr id="3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F464-A9F6-42B0-8D23-8904046895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4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the database (sch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ble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 and index ident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tribute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the system’s high leve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owser, Windows, or Smart phone; OO or proced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chitectural configuration (componen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 class diagra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bsystem architectural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BB43-0AC1-4279-900E-714189D918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base Sche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447920" y="1409760"/>
            <a:ext cx="6248160" cy="483876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4A1C-A587-4906-8E68-146915A75A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rchitectural Configuration Dia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479916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58CC-CCBA-4EEB-A3A4-45D223A296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eliminary Design Class Diagram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Includes View Layer Classes and Domain Layer Classe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Need to add Utility Classes as well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2739960" y="533520"/>
            <a:ext cx="5224680" cy="5410080"/>
          </a:xfrm>
          <a:prstGeom prst="rect">
            <a:avLst/>
          </a:prstGeom>
          <a:ln w="0">
            <a:noFill/>
          </a:ln>
        </p:spPr>
      </p:pic>
      <p:sp>
        <p:nvSpPr>
          <p:cNvPr id="35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06FD-E87C-4A36-83E9-3602024F84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reading this chapter, you should be able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purpose of systems analysis and design in the development of informa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characteristics of iterative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six core processes of the Systems Development Life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EC22-AB4C-420C-B25A-9502CF66B2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27432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ubsystem Architectural Design Diagram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2895480" y="676440"/>
            <a:ext cx="5867640" cy="5500440"/>
          </a:xfrm>
          <a:prstGeom prst="rect">
            <a:avLst/>
          </a:prstGeom>
          <a:ln w="0">
            <a:noFill/>
          </a:ln>
        </p:spPr>
      </p:pic>
      <p:sp>
        <p:nvSpPr>
          <p:cNvPr id="35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0275-4C16-48C5-94C7-BB38CD7A35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tes on Managing the Projec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design diagrams sh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in a complex activity with multiple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 level architect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 level detailed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diagram builds on/complements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everything is diagrammed, especially for a small project. Pick and choo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is also done concurr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don’t design everything then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do some design, some coding, some design, some 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BF03-F9A4-494A-96AF-CBD2B94438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5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with design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ed use case by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5: Build, Test, and Integrate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programming (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use case by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unit and integration t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18C1-601B-4D22-A08D-CF6669C843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27432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ode Example for One Clas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2666880" y="360360"/>
            <a:ext cx="5943600" cy="5622840"/>
          </a:xfrm>
          <a:prstGeom prst="rect">
            <a:avLst/>
          </a:prstGeom>
          <a:ln w="0">
            <a:noFill/>
          </a:ln>
        </p:spPr>
      </p:pic>
      <p:sp>
        <p:nvSpPr>
          <p:cNvPr id="3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769E-090A-45E8-9BF9-F9973CFAD1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kflow of Testing Tas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763120" cy="2611440"/>
          </a:xfrm>
          <a:prstGeom prst="rect">
            <a:avLst/>
          </a:prstGeom>
          <a:ln w="0">
            <a:noFill/>
          </a:ln>
        </p:spPr>
      </p:pic>
      <p:sp>
        <p:nvSpPr>
          <p:cNvPr id="3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63EC-20B5-4B5E-AE28-2631D33E58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een Capture for Look up supplier use c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947880" y="1719360"/>
            <a:ext cx="7248240" cy="4411440"/>
          </a:xfrm>
          <a:prstGeom prst="rect">
            <a:avLst/>
          </a:prstGeom>
          <a:ln w="0">
            <a:noFill/>
          </a:ln>
        </p:spPr>
      </p:pic>
      <p:sp>
        <p:nvSpPr>
          <p:cNvPr id="3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AB1C-EFE0-4C1F-A2A1-DA47047A23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6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6: Complete System Testing and Deploy 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system functional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user acceptance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y deploy part of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266A-E93B-44C8-8BB5-C3D5B58C4E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Iteration Reca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as a 6 day iteration of smal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terations are longer (2 to 4 wee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oject might be 2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projects have many more iter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 users need to be involved, particularly in day 1, 2, 3 and 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ys 4 and 5 involved design and programming concurren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time was spent programming along with design (not emphasized her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0354-0E79-46B5-BB55-F2CF2F4BBB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s Book is about Activities and Tasks in th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58200" cy="4532400"/>
          </a:xfrm>
          <a:prstGeom prst="rect">
            <a:avLst/>
          </a:prstGeom>
          <a:ln w="0">
            <a:noFill/>
          </a:ln>
        </p:spPr>
      </p:pic>
      <p:sp>
        <p:nvSpPr>
          <p:cNvPr id="3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E47A-4723-4045-A075-4CBFF02AC0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: From Beginning to 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project overview emphasizing analysis and design and iterativ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Chapter A: The Systems Analy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the role of the systems analyst in systems development, including system concepts and car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2: Investigating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 3: Systems analysis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3: Us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or Identifying and modeling use cases for systems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E1C7-802B-4297-8C8F-C1AEE10E73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dentify key documents that are used in planning a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dentify key diagrams used in systems analysis and systems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utility of identifying use cases in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utility of identifying object classes in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ED1B-C0D7-4D7E-972E-DFF8F732BB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4: Domain 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or Identifying and modeling domain classes for systems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5: Extending the Requirements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ing more details about use cases and domain classes for systems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Chapter B: The Traditional Approach to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analysis using data flow diagrams (DFDs) in place of use case descriptions and use case dia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s common now, but widely known by experienced develop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51B5-3557-4E0A-BF96-860EEB1000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6: Essentials of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 4: system design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7: Designing User and System Inte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computer interaction, user interface design principles, outputs and reports, system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8: Approaches to System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the SDLC, models, tools, techniques, and agile method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9: Project Planning and Project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es 1 and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FF5D-FB67-49B7-83F1-33C7BA64FF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Chapter C: Project Management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hands on project management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0: Object-Oriented Design: 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inciples, design models, and designing us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1: Object-Oriented Design: Use Case Re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layer design and design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2: Databases, Controls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database design and protecting the integrity of the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6EB5-464A-45C9-A5AD-776F53E87B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3: Making the System Oper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es 5 and 6: programming, testing, and deploy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4: Current Trends in System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s in system development methodologies: Unified process, extreme programming, and sc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s in technology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s in software avai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eb as an application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AEC6-C456-45D9-B33B-884B313547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text is about developing information systems that solve an organization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ter 1 takes you through the whole process for one small informa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ystem development involves 6 core processes, known as the SD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t of the text elaborates on the basic processes shown in chapter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1A13-B27E-41A6-87AD-C6173F773A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rms to review and know inclu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development lifecycle (SDL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system development process (methodolog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8932-C360-4DBC-A0D1-427FB2B642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sion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breakdown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sequence d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 classes (domain clas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level structural design (architectural desig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sch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een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D11D-456F-43B7-B798-B882CCB093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ext is about developing information systems that solve an organization ne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pter 1 takes you through the process of developing one rather small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st of the text elaborates on the basic processes shown in 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22C3-74F4-4BD0-A452-081FA7D73F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uter appl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pp) – a computer software program that executes on a computing device to carry out a specific set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dest scop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 set of interrelated components that collects, processes, stores, and provides as output the information needed to complete busines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r in scope than “a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atabase and related manu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9963-FCA6-43E8-B6D4-241BEFBDDB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a planned undertaking that has a beginning and end and that produces some definit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sed to develop an information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Requires knowledge of systems analysis and systems design tools and techn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A2E0-1105-4A7A-89DA-39566064A6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s analys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ose activities that enable a person to understand and specify what an information system should accomp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s desig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ose activities that enable a person to define and describe in detail the system that solves th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44:10Z</dcterms:modified>
  <cp:revision>38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