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761A-5A1A-4F2B-B50A-EB284A90A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2403-F401-48D0-9D04-5BD6D46F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07B-BF21-4370-B997-1CC625DC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B5F-97A6-40DB-938A-0FB3A995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687-D2E0-4C7F-8FD5-6C8155BC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1B6-C182-45CA-BD42-9CB8D780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1517-F0FA-4075-951B-B7DF0333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0D65-9837-4083-82CA-CCAFE70B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3530-D3AB-4730-977D-2276E335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CB3E-F199-44EF-AC4B-F63E63BB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C0A9-8566-42F4-B54A-95E8E41B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3C40-4EBB-4B53-9AD2-A92B3FBA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CF45-6EE6-4857-820F-E09D277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2DB-1A01-44EA-B5DA-CDF72232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9B2D-DCB8-4C06-9BEC-F86D91B9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56A0-0280-41D4-A1F1-52EEFE4F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0B7A-B12F-4059-882B-074057CB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8ECB-081B-48A5-A11D-F5022A90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EACC-B963-433D-9DA4-10492A92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101-3E5A-4C5A-B78C-DF643365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424-D2FC-4B2D-9FEF-F2D5D00F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0D8-2BD3-470C-9638-E70320D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8D9-710D-44BC-9900-A9E35303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E58-4768-4D3F-9ED7-EACD6C82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D24-E557-4E73-B11B-4E92B1BA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9AF-C76D-40D0-B42C-80FFA08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C19A-C49B-4498-87C6-CC570D6FC2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EC5F-C621-433B-B258-855C7FF0B2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1A50-C2EC-4F52-B403-285DAE4C86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914400" y="4572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28A7-3B1C-4519-96FC-F13C8FF59A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Proposed Application Architecture: Integrate SCM and New CSM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0958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C1F4-608E-458D-9F74-BA1D389E3E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New Consolidated Sales and Marketing System (CSMS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online, phone, and retail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Fulfillment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shipments, rate produc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Account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pping history, linkups, “mountain bucks”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al packages, partner relationships, more complete merchandise information and repor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EF8B-4F74-4197-A532-1CD1A4691A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s Analysis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Consolidated Sales and Marketing System (CSMS) will require discovering and understanding extensive and complex business processes and busin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DLC indicates the project starts with identifying the problem, obtaining approval, and planning the project (as seen in Chapter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o the heart of systems analysis, this text skips right to analysis activities generally and the specifically for the RMO CSM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lanning and project management are covered I detail later in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D5A7-F94C-4F70-9524-C369F05D46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s Analysis Activitie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nvolve discovery and understand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763120" cy="3146400"/>
          </a:xfrm>
          <a:prstGeom prst="rect">
            <a:avLst/>
          </a:prstGeom>
          <a:ln w="0">
            <a:noFill/>
          </a:ln>
        </p:spPr>
      </p:pic>
      <p:sp>
        <p:nvSpPr>
          <p:cNvPr id="22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DF42-9E4B-474F-918E-BDFA8EE071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s Analysis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Detail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, questionnaires, documents, observing business processes, researching vendors, comments and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 functional requirements and non-func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sential, important, vs. nice to ha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User-Interface 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ow of interaction between user and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Requirements with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involvement, feedback, adapt to chang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EDF2-5C7B-4CD9-AD6C-63E824B138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What Are Requirements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Requirement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quirements– the activities the system must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uses, functions the users carr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s in Chap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Functional Requirements– other syste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 and performanc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1752480" y="6172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5ACD-FFA7-4814-8AC0-55181FFB7E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URPS+ Requirements Acrony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ction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bil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abil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formance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ur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more catego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3934-3619-4C48-87F0-6B9F70574D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URPS+ Requirements Acrony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032360"/>
          </a:xfrm>
          <a:prstGeom prst="rect">
            <a:avLst/>
          </a:prstGeom>
          <a:ln w="0">
            <a:noFill/>
          </a:ln>
        </p:spPr>
      </p:pic>
      <p:sp>
        <p:nvSpPr>
          <p:cNvPr id="24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EF57-DCEC-48C0-8BB2-84085A1733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odels and Model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efine requirements? After collecting information, create 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– a representation of some aspect of the system being bui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al model– something written down,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models– diagram, sch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 models– formulas, statistics,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graphical modeling symbols/terminology used for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0132-B739-4354-BDEF-C54DC145CD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ome Analysis and Design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1295280" y="1081080"/>
            <a:ext cx="6400800" cy="517680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vestigating System Requirement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9060-07A2-4261-97DA-D672381BA1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easons for Model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from the modeling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ing complexity by abstr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ing all th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ng with other development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ng with a variety of users and 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ing what was done for future maintenance/enha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9EE-6A3B-4A72-93BE-061B584279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ho do you involve and talk to?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ho have an interest in the successful implementation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ith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outside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who regularly interact with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ho don’t directly interact, but use the information or have  financial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6E70-BDC1-4093-8B8E-AE718799F5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f a comprehensive accounting system for public company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010640" cy="4549680"/>
          </a:xfrm>
          <a:prstGeom prst="rect">
            <a:avLst/>
          </a:prstGeom>
          <a:ln w="0">
            <a:noFill/>
          </a:ln>
        </p:spPr>
      </p:pic>
      <p:sp>
        <p:nvSpPr>
          <p:cNvPr id="2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9B7E-76D3-4706-9FBC-68B7B862DC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or RMO CSMS Project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one/mail sales order cle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Warehouse and shipping perso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rketing personnel who maintain online catalog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rketing, sales, accounting, and financial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enior execu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ternal shippers (e.g., UPS and FedE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D035-7A14-433A-A963-DF1D79A593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2895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RMO Internal Stakeholder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3476520" y="152280"/>
            <a:ext cx="4216680" cy="6096240"/>
          </a:xfrm>
          <a:prstGeom prst="rect">
            <a:avLst/>
          </a:prstGeom>
          <a:ln w="0">
            <a:noFill/>
          </a:ln>
        </p:spPr>
      </p:pic>
      <p:sp>
        <p:nvSpPr>
          <p:cNvPr id="27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C3BC-446A-4829-AC68-3CAE7FC8A2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formation Gathering Techniqu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ing users and other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tributing and collecting 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viewing inputs, outputs, an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ing and documenting business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searching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lecting active user comments and 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F3AF-E0E6-4DE9-A573-C97D063BDF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rviewing Users and Other Stakeholder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et with individuals or group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tain and discuss answers to th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cument the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ollow up as needed in future meetings or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A902-A4A5-4F5C-994C-5BF4D50371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mes for Information Gathering Question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2584440"/>
          </a:xfrm>
          <a:prstGeom prst="rect">
            <a:avLst/>
          </a:prstGeom>
          <a:ln w="0">
            <a:noFill/>
          </a:ln>
        </p:spPr>
      </p:pic>
      <p:sp>
        <p:nvSpPr>
          <p:cNvPr id="29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89C5-DFCA-491F-A630-5D3BAE51A3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reparing for Interview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1"/>
          <a:stretch/>
        </p:blipFill>
        <p:spPr>
          <a:xfrm>
            <a:off x="914400" y="998640"/>
            <a:ext cx="7010280" cy="5132160"/>
          </a:xfrm>
          <a:prstGeom prst="rect">
            <a:avLst/>
          </a:prstGeom>
          <a:ln w="0">
            <a:noFill/>
          </a:ln>
        </p:spPr>
      </p:pic>
      <p:sp>
        <p:nvSpPr>
          <p:cNvPr id="29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A427-D9B7-4412-BC6B-2803376493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2133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terview Session Agend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2832120" y="228600"/>
            <a:ext cx="4876920" cy="5902200"/>
          </a:xfrm>
          <a:prstGeom prst="rect">
            <a:avLst/>
          </a:prstGeom>
          <a:ln w="0">
            <a:noFill/>
          </a:ln>
        </p:spPr>
      </p:pic>
      <p:sp>
        <p:nvSpPr>
          <p:cNvPr id="30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5104-A95B-44BF-B627-4EA2332499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2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MO Consolidated Sales and Marketing System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ystems Analysis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at Are Requirem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Models and Mod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formation-Gathering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ocumenting Workflows with Activity Dia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2E46-3E3A-457C-BF02-2B082926C9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Keeping an Open Items Lis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2384280"/>
          </a:xfrm>
          <a:prstGeom prst="rect">
            <a:avLst/>
          </a:prstGeom>
          <a:ln w="0">
            <a:noFill/>
          </a:ln>
        </p:spPr>
      </p:pic>
      <p:sp>
        <p:nvSpPr>
          <p:cNvPr id="3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FB33-B7EC-4457-822A-727B7442BF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281952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istribute and Collect Questionnaire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895480" y="152280"/>
            <a:ext cx="5832720" cy="601992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6487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0AA9-6855-4B69-AF9C-6FF222B191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Review Inputs, Outputs, and Procedur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1"/>
          <a:stretch/>
        </p:blipFill>
        <p:spPr>
          <a:xfrm>
            <a:off x="609480" y="1324080"/>
            <a:ext cx="7925040" cy="4806720"/>
          </a:xfrm>
          <a:prstGeom prst="rect">
            <a:avLst/>
          </a:prstGeom>
          <a:ln w="0">
            <a:noFill/>
          </a:ln>
        </p:spPr>
      </p:pic>
      <p:sp>
        <p:nvSpPr>
          <p:cNvPr id="31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13C6-5216-44E4-943F-B53E69B85E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dditional Techniqu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and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with Activity diagram (next s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at others have done for similar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papers, vendor literature,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Active User Comments and 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on models an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know it when the se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8710-4BDA-41AA-90B9-2D78BCC382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Documenting Workflows with Activity Diagram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– sequence of processing steps that completely handles one business transaction or customer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– describes user (or system) activities, the person who does each activity, and the sequential flow of thes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howing a graphical model of a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ML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96A5-7FC4-4DEC-8C41-A7619E664C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ctivity Diagrams Symbo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01000" cy="4673520"/>
          </a:xfrm>
          <a:prstGeom prst="rect">
            <a:avLst/>
          </a:prstGeom>
          <a:ln w="0">
            <a:noFill/>
          </a:ln>
        </p:spPr>
      </p:pic>
      <p:sp>
        <p:nvSpPr>
          <p:cNvPr id="33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9E62-A60C-41A5-AEC3-E7D72CFC90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2057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ctivity Diagram for RMO Order Fulfillm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4830840" cy="609624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F5DF-FBDA-4511-9059-EE6E1CCC59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ctivity Diagram with Concurrent Path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8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935600"/>
          </a:xfrm>
          <a:prstGeom prst="rect">
            <a:avLst/>
          </a:prstGeom>
          <a:ln w="0">
            <a:noFill/>
          </a:ln>
        </p:spPr>
      </p:pic>
      <p:sp>
        <p:nvSpPr>
          <p:cNvPr id="34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6B1A-9CD8-4CD9-9311-4BD5833E82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analysis activates correspond to the core SDLC pro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over and understand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projects originate from the information system strategic plan, which contains an technology architecture plan and an application architectur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MO CSMS Project will be used throughout the text as an example of analysis an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E2AB-F0CD-416D-85F7-6FBDE9FDC7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analysis involves defining system requirements– functional and non-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activitie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detailed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user-interface dia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requirements with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PS+ is the acronym for functional, usability, reliability, performance, and securit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738A-8717-48D2-9BD3-A93E4DFC84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the activities of system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lain the difference between functional and non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the role of models in system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entify and understand different kinds of stakeholders and their contributions to requirements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information-gathering techniques and determine when each is best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velop activity diagrams to model work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60BC-37C6-4CCF-A832-27206A86B7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modeling are used to explore and docu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represents some aspect of a system, and can include textual, graphical, and mathema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odeling Language (UML) is the standard set of notations and terminology for information system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006-7EAB-4DF6-9629-77BD6110A7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 are the people who have an interest in the success of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internal vs. external stakeholders and operational vs. executiv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gathering techniques are used to collect information about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, questionnaires, reviewing documents, observing business processes, researching vendors, comments and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ML Activity Diagram is used to document (model) workflows after collect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A4B6-B190-46D0-B97C-D2963BC26A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introduced the system development lifecycle (SDLC) and demonstrated its use for a small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ands the SDLC processes to cover a wider range of concepts, tools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e process 3: Discover and understand the details of the problem or need—is the main focus of system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ctivities are detailed in this chap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arger Ridgeline Mountain Outfitters (RMO) project is introduced that will be used throughout the text to illustrate analysis and desig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1981080" y="6172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48A2-76F8-4BB3-98F9-41C3B38FF8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MO has an elaborate set of information systems that support operations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expectations, modern technological capabilities, and competitive pressures led RMO to believe it is time to upgrade support for sales and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Consolidated Sales and Marketing System was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major project that grew out of the RMO strategic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60CD-C5EB-4D93-A559-CCF1DC533B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 and competitive advantage for organizations involves leverag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systems strategic pl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based on the overall strategic needs of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ormation systems strategic plan includes definition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archite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archite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ed by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E72A-9AC1-4908-9BE7-5A119150FD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formation Systems Strategic Pla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archite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the set of computing hardware, network hardware and topology, and system software employed by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archite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information systems that supports the organization (information systems, subsystems, and supporting technolog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DFF5-4037-4F7A-9D6B-0041464F50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MO Existing Application Architectur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Chain Management (S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years old; Java/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show system will interface with S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/Mail Ord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years old; Visual Studio/MS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d capacity; minim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Sto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package solution; minim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upport System (C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based system; evolved over the years, minim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Lee Reising</cp:lastModifiedBy>
  <dcterms:modified xsi:type="dcterms:W3CDTF">2012-02-28T13:42:59Z</dcterms:modified>
  <cp:revision>37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