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C9C3-ECBB-428E-9D99-64D28A093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7B2C-80E6-4DD3-A85C-AB1546F7C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076-919E-46AB-9D88-E654CD50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82A-BFC9-4B31-9352-520A9013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590-1F7C-42EB-84B4-9D80CC9A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202-6445-4743-B69C-1C6BE0B7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5179-099C-4D0C-8A44-9CCAC385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91CC-6E50-4A3A-8391-CA37667A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D3D5-0ABD-49CA-810A-C9B9863A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AA52-0589-41B3-8230-E736D488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8E42-3923-4F35-8CCD-932F65FA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15FE-309D-4001-A209-01D8D138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0DAC-97BC-4404-91CE-F88765D5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DBC-B745-43F9-AFE5-ED4B80F4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DD39-2349-40F2-B84E-3DC5C9BA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19AC-0BB6-49F1-BB1F-9982FA88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409F-9139-4B33-9B06-8E89E39A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1525-CA32-4F4F-A11A-43D1A094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DE83-E751-48AF-8766-F923F79B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BED-AB4F-4DD7-8828-0BCEBFA5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3F1-0AC8-4C20-95D5-DFF22CEE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DB3-8969-46CF-967B-33B9A26B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3C2-E3E2-4D70-91F8-E68E0908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38F-42C2-4D25-BAD6-30747BA7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C4F-A760-42D6-84D5-DB60BDCD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A3C-7A1B-433E-9CD0-B788DFA9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F900-7879-4421-BEBE-2155D1EAD8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57200" y="1676520"/>
            <a:ext cx="6781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9D7A-9E47-4974-BD48-7089D6FAC8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E568-CE4F-494C-8DE7-8B7EC6CE3E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914400" y="4572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388620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ZINGER | JACKSON |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838080" y="152280"/>
            <a:ext cx="815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STEMS ANALYSIS AND DESIG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GILE, ITER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EBBA-D69B-4A07-A5F6-6E17AB088C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Proposed Application Architecture: Integrate SCM and New CSM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09580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7AB0-8303-4EA1-8D65-38BA9DF296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New Consolidated Sales and Marketing System (CSMS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Sub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s online, phone, and retail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Fulfillment Sub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shipments, rate product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Account Sub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pping history, linkups, “mountain bucks” re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Sub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al packages, partner relationships, more complete merchandise information and repor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7F0C-1040-499C-8620-C696B007C6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s Analysis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Consolidated Sales and Marketing System (CSMS) will require discovering and understanding extensive and complex business processes and busin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DLC indicates the project starts with identifying the problem, obtaining approval, and planning the project (as seen in Chapter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to the heart of systems analysis, this text skips right to analysis activities generally and the specifically for the RMO CSM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lanning and project management are covered I detail later in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E021-5B78-4DE7-99A4-D659AA0C92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s Analysis Activities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nvolve discovery and understand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763120" cy="3146400"/>
          </a:xfrm>
          <a:prstGeom prst="rect">
            <a:avLst/>
          </a:prstGeom>
          <a:ln w="0">
            <a:noFill/>
          </a:ln>
        </p:spPr>
      </p:pic>
      <p:sp>
        <p:nvSpPr>
          <p:cNvPr id="22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BBEE-172A-4D23-B70A-A34BB54C83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s Analysis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Detail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s, questionnaires, documents, observing business processes, researching vendors, comments and 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 functional requirements and non-function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sential, important, vs. nice to ha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User-Interface Di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low of interaction between user and 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Requirements with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involvement, feedback, adapt to chang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5944-B95C-4D06-B514-C9DDEF47AF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What Are Requirements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Requirement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quirements– the activities the system must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uses, functions the users carr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es in Chap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Functional Requirements– other syste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 and performance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1752480" y="61722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138B-EAF8-40C9-BDC1-EB4C7C9F59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URPS+ Requirements Acrony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ction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bility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iability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formance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urity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more categor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E925-ECB7-4150-9389-5CD2645FDE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URPS+ Requirements Acrony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032360"/>
          </a:xfrm>
          <a:prstGeom prst="rect">
            <a:avLst/>
          </a:prstGeom>
          <a:ln w="0">
            <a:noFill/>
          </a:ln>
        </p:spPr>
      </p:pic>
      <p:sp>
        <p:nvSpPr>
          <p:cNvPr id="24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1E3A-BF30-4128-97EC-7970C4EE6C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Models and Modeling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define requirements? After collecting information, create mod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– a representation of some aspect of the system being bui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al model– something written down,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models– diagram, sch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al models– formulas, statistics,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odeling Language (U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graphical modeling symbols/terminology used for inform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9269-0CAB-4207-9085-7CF19BDA47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ome Analysis and Design Mode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1"/>
          <a:stretch/>
        </p:blipFill>
        <p:spPr>
          <a:xfrm>
            <a:off x="1295280" y="1081080"/>
            <a:ext cx="6400800" cy="517680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vestigating System Requirement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69920" y="3655800"/>
            <a:ext cx="426744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Desig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ile, Iteractive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zinger, Jackson &amp;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1828800"/>
            <a:ext cx="6782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FFD7-6841-43D4-B68C-7AED0DF54D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easons for Modeling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from the modeling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ing complexity by abstr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mbering all the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ng with other development team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ng with a variety of users and stakehol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ing what was done for future maintenance/enhan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E7FD-7F05-4CD9-86CA-8E37918DB7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keholders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Who do you involve and talk to?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kehol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ersons who have an interest in the successful implementation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Stakehol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ersons within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s outside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s who regularly interact with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stakehol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ersons who don’t directly interact, but use the information or have  financial inte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B7C3-7918-45F0-B1E8-873AE1B82E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keholders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of a comprehensive accounting system for public company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010640" cy="4549680"/>
          </a:xfrm>
          <a:prstGeom prst="rect">
            <a:avLst/>
          </a:prstGeom>
          <a:ln w="0">
            <a:noFill/>
          </a:ln>
        </p:spPr>
      </p:pic>
      <p:sp>
        <p:nvSpPr>
          <p:cNvPr id="2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694D-7389-4915-8E2C-3215FBBA73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keholders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For RMO CSMS Project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one/mail sales order cle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Warehouse and shipping person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Marketing personnel who maintain online catalog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Marketing, sales, accounting, and financial mana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Senior execu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Custo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ternal shippers (e.g., UPS and FedE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3915-3D9A-4DF4-88B7-37230E9779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2895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RMO Internal Stakeholder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"/>
          <p:cNvPicPr/>
          <p:nvPr/>
        </p:nvPicPr>
        <p:blipFill>
          <a:blip r:embed="rId1"/>
          <a:stretch/>
        </p:blipFill>
        <p:spPr>
          <a:xfrm>
            <a:off x="3476520" y="152280"/>
            <a:ext cx="4216680" cy="6096240"/>
          </a:xfrm>
          <a:prstGeom prst="rect">
            <a:avLst/>
          </a:prstGeom>
          <a:ln w="0">
            <a:noFill/>
          </a:ln>
        </p:spPr>
      </p:pic>
      <p:sp>
        <p:nvSpPr>
          <p:cNvPr id="27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0828-B0E0-46B5-AB7F-E7FA69CA24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formation Gathering Technique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ing users and other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tributing and collecting 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viewing inputs, outputs, an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serving and documenting business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searching vendo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lecting active user comments and 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3A61-32F8-4069-8BED-633A3801FB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terviewing Users and Other Stakeholder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eet with individuals or groups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tain and discuss answers to th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ocument the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ollow up as needed in future meetings or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875D-609F-42D0-A88E-736A8AFEA4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mes for Information Gathering Question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839440" cy="2584440"/>
          </a:xfrm>
          <a:prstGeom prst="rect">
            <a:avLst/>
          </a:prstGeom>
          <a:ln w="0">
            <a:noFill/>
          </a:ln>
        </p:spPr>
      </p:pic>
      <p:sp>
        <p:nvSpPr>
          <p:cNvPr id="29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BF39-675E-4B8C-96F9-A1F9B9D66A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866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reparing for Interview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7" name="Picture 7" descr=""/>
          <p:cNvPicPr/>
          <p:nvPr/>
        </p:nvPicPr>
        <p:blipFill>
          <a:blip r:embed="rId1"/>
          <a:stretch/>
        </p:blipFill>
        <p:spPr>
          <a:xfrm>
            <a:off x="914400" y="998640"/>
            <a:ext cx="7010280" cy="5132160"/>
          </a:xfrm>
          <a:prstGeom prst="rect">
            <a:avLst/>
          </a:prstGeom>
          <a:ln w="0">
            <a:noFill/>
          </a:ln>
        </p:spPr>
      </p:pic>
      <p:sp>
        <p:nvSpPr>
          <p:cNvPr id="29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C379-6426-474D-AD10-FCEA401CCF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21337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terview Session Agend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2" name="Picture 7" descr=""/>
          <p:cNvPicPr/>
          <p:nvPr/>
        </p:nvPicPr>
        <p:blipFill>
          <a:blip r:embed="rId1"/>
          <a:stretch/>
        </p:blipFill>
        <p:spPr>
          <a:xfrm>
            <a:off x="2832120" y="228600"/>
            <a:ext cx="4876920" cy="5902200"/>
          </a:xfrm>
          <a:prstGeom prst="rect">
            <a:avLst/>
          </a:prstGeom>
          <a:ln w="0">
            <a:noFill/>
          </a:ln>
        </p:spPr>
      </p:pic>
      <p:sp>
        <p:nvSpPr>
          <p:cNvPr id="30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3C86-BA2A-4FB4-A0B7-761A978A9D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pter 2 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MO Consolidated Sales and Marketing System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ystems Analysis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What Are Requirem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Models and Mod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takehol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nformation-Gathering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ocumenting Workflows with Activity Dia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D8A9-58C5-445E-BD3A-B85007EED7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866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Keeping an Open Items Lis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839440" cy="2384280"/>
          </a:xfrm>
          <a:prstGeom prst="rect">
            <a:avLst/>
          </a:prstGeom>
          <a:ln w="0">
            <a:noFill/>
          </a:ln>
        </p:spPr>
      </p:pic>
      <p:sp>
        <p:nvSpPr>
          <p:cNvPr id="30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2195-DC82-49F4-8F86-01689C6B8B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281952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Distribute and Collect Questionnaire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895480" y="152280"/>
            <a:ext cx="5832720" cy="6019920"/>
          </a:xfrm>
          <a:prstGeom prst="rect">
            <a:avLst/>
          </a:prstGeom>
          <a:ln w="0">
            <a:noFill/>
          </a:ln>
        </p:spPr>
      </p:pic>
      <p:sp>
        <p:nvSpPr>
          <p:cNvPr id="31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6487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7518-616E-47F9-A221-881874B305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866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Review Inputs, Outputs, and Procedur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7" name="Picture 7" descr=""/>
          <p:cNvPicPr/>
          <p:nvPr/>
        </p:nvPicPr>
        <p:blipFill>
          <a:blip r:embed="rId1"/>
          <a:stretch/>
        </p:blipFill>
        <p:spPr>
          <a:xfrm>
            <a:off x="609480" y="1324080"/>
            <a:ext cx="7925040" cy="4806720"/>
          </a:xfrm>
          <a:prstGeom prst="rect">
            <a:avLst/>
          </a:prstGeom>
          <a:ln w="0">
            <a:noFill/>
          </a:ln>
        </p:spPr>
      </p:pic>
      <p:sp>
        <p:nvSpPr>
          <p:cNvPr id="31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3CF5-9C20-41D5-9255-FCD37E2431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dditional Techniqu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 and Document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and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with Activity diagram (next s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Vendo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what others have done for similar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papers, vendor literature,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Active User Comments and 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on models an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know it when the se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BCA6-4889-4187-A273-26AD48BD86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Documenting Workflows with Activity Diagram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low– sequence of processing steps that completely handles one business transaction or customer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Diagram– describes user (or system) activities, the person who does each activity, and the sequential flow of thes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showing a graphical model of a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ML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DA77-68DC-4569-A253-DE67398DF6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ctivity Diagrams Symbo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01000" cy="4673520"/>
          </a:xfrm>
          <a:prstGeom prst="rect">
            <a:avLst/>
          </a:prstGeom>
          <a:ln w="0">
            <a:noFill/>
          </a:ln>
        </p:spPr>
      </p:pic>
      <p:sp>
        <p:nvSpPr>
          <p:cNvPr id="33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A833-609E-46D7-BFDD-0F758B4E2D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20574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ctivity Diagram for RMO Order Fulfillm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8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4830840" cy="6096240"/>
          </a:xfrm>
          <a:prstGeom prst="rect">
            <a:avLst/>
          </a:prstGeom>
          <a:ln w="0">
            <a:noFill/>
          </a:ln>
        </p:spPr>
      </p:pic>
      <p:sp>
        <p:nvSpPr>
          <p:cNvPr id="3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6C1F-2AD6-4D71-8EDE-0ED8B450DF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ctivity Diagram with Concurrent Path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8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935600"/>
          </a:xfrm>
          <a:prstGeom prst="rect">
            <a:avLst/>
          </a:prstGeom>
          <a:ln w="0">
            <a:noFill/>
          </a:ln>
        </p:spPr>
      </p:pic>
      <p:sp>
        <p:nvSpPr>
          <p:cNvPr id="34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F215-D802-4A42-BDBE-7295E38C42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analysis activates correspond to the core SDLC proc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over and understand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projects originate from the information system strategic plan, which contains an technology architecture plan and an application architectur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MO CSMS Project will be used throughout the text as an example of analysis an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D71B-6FB1-42A0-B8AE-09F6BD2E26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analysis involves defining system requirements– functional and non-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activities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 detailed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user-interface dia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e requirements with u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PS+ is the acronym for functional, usability, reliability, performance, and securit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9BF5-4D51-48B1-86E6-B0D47B12A2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scribe the activities of system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plain the difference between functional and nonfunc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scribe the role of models in system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dentify and understand different kinds of stakeholders and their contributions to requirements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scribe information-gathering techniques and determine when each is best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velop activity diagrams to model work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6594-35CF-4B54-90D7-B1017DED8F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and modeling are used to explore and docu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del represents some aspect of a system, and can include textual, graphical, and mathemat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odeling Language (UML) is the standard set of notations and terminology for information system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6596-1886-40B4-9153-587747FD89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 are the people who have an interest in the success of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internal vs. external stakeholders and operational vs. executive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gathering techniques are used to collect information about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s, questionnaires, reviewing documents, observing business processes, researching vendors, comments and 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ML Activity Diagram is used to document (model) workflows after collect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D4B5-2B74-424F-8A92-0BF802505B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1 introduced the system development lifecycle (SDLC) and demonstrated its use for a small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expands the SDLC processes to cover a wider range of concepts, tools an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e process 3: Discover and understand the details of the problem or need—is the main focus of system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analysis activities are detailed in this chap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arger Ridgeline Mountain Outfitters (RMO) project is introduced that will be used throughout the text to illustrate analysis and desig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1981080" y="61722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F20C-A161-458B-8AE0-AAD36C5038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dgeline Mountain Outfitters (RMO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MO has an elaborate set of information systems that support operations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expectations, modern technological capabilities, and competitive pressures led RMO to believe it is time to upgrade support for sales and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Consolidated Sales and Marketing System was pro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major project that grew out of the RMO strategic plan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9CF6-E3CF-4715-8C8F-8CC7572559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dgeline Mountain Outfitters (RMO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 and competitive advantage for organizations involves leverag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systems strategic pl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based on the overall strategic needs of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formation systems strategic plan includes definition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archite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 archite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eded by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ECE1-9C0E-4E3F-A1D8-ED6729F2E6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formation Systems Strategic Pla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archite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the set of computing hardware, network hardware and topology, and system software employed by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 archite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information systems that supports the organization (information systems, subsystems, and supporting technolog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FDC4-BB14-4779-852A-39F53113AF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MO Existing Application Architectur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Chain Management (S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years old; Java/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show system will interface with S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/Mail Ord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years old; Visual Studio/MS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d capacity; minim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l Sto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r package solution; minim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Support System (C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based system; evolved over the years, minim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4:53Z</dcterms:created>
  <dc:creator>John</dc:creator>
  <dc:description/>
  <dc:language>en-US</dc:language>
  <cp:lastModifiedBy>Lee Reising</cp:lastModifiedBy>
  <dcterms:modified xsi:type="dcterms:W3CDTF">2012-02-28T13:42:59Z</dcterms:modified>
  <cp:revision>37</cp:revision>
  <dc:subject/>
  <dc:title>Chapter 1: From bla to b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