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image6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4856-129C-4B23-B700-0404572F8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E336-AB49-40DF-8C49-38490FFDE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966-B3B2-4A74-AC19-9A9147E4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2A9-8F79-4B1E-8337-1F9AE827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D645-7BA3-4FE7-9BEF-3A713E48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0D2-9295-4A83-A3BB-C601A056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652E-23EC-4108-8379-2E9BB31B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07E8-B40D-4123-BF45-9C962CF1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6EE4-30D8-4BA4-8D51-2465A528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47CC-8408-4EAD-8270-34B65A9F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1AC3-811A-44CD-B723-E80CF868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7107-2FDB-457C-BBC4-38EE04B8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E7D2-5537-4B64-9BDA-AA881EC5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7AB9-6BA5-4242-905D-515B0638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86F3-35DC-4407-9E33-570F4136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B8C0-DBA6-4114-B294-6CF61A69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911A-5678-4683-9E35-D797D6CB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288A-14F3-44FF-8024-D4B65FFA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EA2E-AFCC-4751-A029-BA2213BE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87D-0645-4699-BC18-E755701B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FCE4-71A5-4383-A32F-A3880260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89B-122C-4A8E-BE7F-C6E53ED1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9CA9-7956-4C70-A78C-FE848671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7F1-54C9-4056-821D-6C5808F7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926-5613-455B-896D-EAAE5400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23E-CF46-4F6A-9B8D-91A59284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4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3CF3-8DF0-4CC6-A345-085D0EEFC0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1"/>
          <p:cNvSpPr/>
          <p:nvPr/>
        </p:nvSpPr>
        <p:spPr>
          <a:xfrm>
            <a:off x="457200" y="1676520"/>
            <a:ext cx="67816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19810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AE25-7E00-4505-BBE9-29F380318A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31E0-BE34-4BA5-83F6-D604F31CEC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44956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838080" y="152280"/>
            <a:ext cx="815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TRODUCTION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YSTEMS ANALYSIS AND DESIG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GILE, ITER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685800" y="41148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3809880" y="3276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ZINGER | JACKSON |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0F16-29B1-4E9F-AB58-226CF87F2D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Fully Developed Use Case Description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Create customer account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 (part 1 )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31136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A5D7-BF2E-4388-AB97-87EDA7C432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Fully Developed Use Case Description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Create customer account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 (part 2 )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534520" cy="4619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8080-4682-425C-A39E-4037F5797F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Use Case Description Detail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lated use cases &lt;&lt;includes&gt;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one use case invokes or includes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yone with an interest in the us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e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must be true before the use case beg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ost 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must be true when the use case is comple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e for planning test case expected resul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low of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activities that go on between actor and th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ception 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re and what can go wro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F772-85D2-4C9E-811A-F856E6EF37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Use Case Description Detail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cas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Verb-nou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enario (if nee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 use case can have more than one scenario (special case or more specific path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iggering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ased on event decomposition techn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Written previously when use case was identifi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or more users from use case dia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C90E-3FA4-4D5C-83E1-6913D4406A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2514600" cy="437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Another Fully Developed Use Case Description Example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Use case</a:t>
            </a:r>
            <a:br>
              <a:rPr sz="2400"/>
            </a:br>
            <a:r>
              <a:rPr b="1" i="1" lang="en-US" sz="2400" spc="-1" strike="noStrike">
                <a:solidFill>
                  <a:srgbClr val="330066"/>
                </a:solidFill>
                <a:latin typeface="Arial"/>
              </a:rPr>
              <a:t>Ship items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"/>
          <p:cNvPicPr/>
          <p:nvPr/>
        </p:nvPicPr>
        <p:blipFill>
          <a:blip r:embed="rId1"/>
          <a:stretch/>
        </p:blipFill>
        <p:spPr>
          <a:xfrm>
            <a:off x="3019320" y="76320"/>
            <a:ext cx="5577120" cy="6248160"/>
          </a:xfrm>
          <a:prstGeom prst="rect">
            <a:avLst/>
          </a:prstGeom>
          <a:ln w="0">
            <a:noFill/>
          </a:ln>
        </p:spPr>
      </p:pic>
      <p:sp>
        <p:nvSpPr>
          <p:cNvPr id="22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4893-F9D8-49E5-8BB1-F3E6E8CB4B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Fully Developed Use Case Description 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Ship items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 (part 1 )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10480" cy="436248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C37A-74F8-4E40-8A06-A3E3FD6A06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Fully Developed Use Case Description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Ship items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 (part 2 )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305920" cy="5164200"/>
          </a:xfrm>
          <a:prstGeom prst="rect">
            <a:avLst/>
          </a:prstGeom>
          <a:ln w="0">
            <a:noFill/>
          </a:ln>
        </p:spPr>
      </p:pic>
      <p:sp>
        <p:nvSpPr>
          <p:cNvPr id="23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E246-BF35-4A4E-A1AE-23F6B21D5B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2514600" cy="563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UML Activity Diagram for Use Case</a:t>
            </a: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Create Customer Account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Note: this shows flow of activities only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1"/>
          <a:stretch/>
        </p:blipFill>
        <p:spPr>
          <a:xfrm>
            <a:off x="2997360" y="380880"/>
            <a:ext cx="5049720" cy="5693040"/>
          </a:xfrm>
          <a:prstGeom prst="rect">
            <a:avLst/>
          </a:prstGeom>
          <a:ln w="0">
            <a:noFill/>
          </a:ln>
        </p:spPr>
      </p:pic>
      <p:sp>
        <p:nvSpPr>
          <p:cNvPr id="244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5D22-53EB-4019-A359-1144D626D1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2819160" cy="563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UML Activity Diagram for Use Case</a:t>
            </a: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Fill shopping cart</a:t>
            </a:r>
            <a:br>
              <a:rPr sz="2800"/>
            </a:br>
            <a:br>
              <a:rPr sz="32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Note: this shows use case with &lt;&lt;includes&gt;&gt; reltionship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4767480" cy="6019920"/>
          </a:xfrm>
          <a:prstGeom prst="rect">
            <a:avLst/>
          </a:prstGeom>
          <a:ln w="0">
            <a:noFill/>
          </a:ln>
        </p:spPr>
      </p:pic>
      <p:sp>
        <p:nvSpPr>
          <p:cNvPr id="25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64F3-5ECD-4F17-AD06-3076E3F780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ystem Sequence Diagram (SSD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UML sequence dia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pecial case for a sequence dia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shows actor and one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ne object represents the complet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s input &amp; output messaging requirements for a us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ctor, :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System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, object life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41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tending the Requirements Model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969920" y="3655800"/>
            <a:ext cx="426744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and Desig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ile, Iteractive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zinger, Jackson &amp;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880" y="1828800"/>
            <a:ext cx="6782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hapter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2D53-3D97-47C6-887C-B30A46B1CD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ystem Sequence Diagram (SSD)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Notatio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967360" cy="4744800"/>
          </a:xfrm>
          <a:prstGeom prst="rect">
            <a:avLst/>
          </a:prstGeom>
          <a:ln w="0">
            <a:noFill/>
          </a:ln>
        </p:spPr>
      </p:pic>
      <p:sp>
        <p:nvSpPr>
          <p:cNvPr id="26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8E41-E033-4400-A60E-06EFC25203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Message Notation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305920" cy="3452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2"/>
          <a:stretch/>
        </p:blipFill>
        <p:spPr>
          <a:xfrm>
            <a:off x="309600" y="1476360"/>
            <a:ext cx="8377200" cy="517680"/>
          </a:xfrm>
          <a:prstGeom prst="rect">
            <a:avLst/>
          </a:prstGeom>
          <a:ln w="0">
            <a:noFill/>
          </a:ln>
        </p:spPr>
      </p:pic>
      <p:sp>
        <p:nvSpPr>
          <p:cNvPr id="2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2103-F3AA-4353-9396-84D7B51F43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28195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SD Message Examples with Loop Frame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5357880" cy="6105600"/>
          </a:xfrm>
          <a:prstGeom prst="rect">
            <a:avLst/>
          </a:prstGeom>
          <a:ln w="0">
            <a:noFill/>
          </a:ln>
        </p:spPr>
      </p:pic>
      <p:sp>
        <p:nvSpPr>
          <p:cNvPr id="274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C172-6CB4-4070-9E9F-C7019AE48A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2819520" cy="556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SD Message Examples</a:t>
            </a:r>
            <a:br>
              <a:rPr sz="3200"/>
            </a:b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Opt Frame (optional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Alt Frame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if-else)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1"/>
          <a:stretch/>
        </p:blipFill>
        <p:spPr>
          <a:xfrm>
            <a:off x="3505320" y="152280"/>
            <a:ext cx="3732120" cy="6086520"/>
          </a:xfrm>
          <a:prstGeom prst="rect">
            <a:avLst/>
          </a:prstGeom>
          <a:ln w="0">
            <a:noFill/>
          </a:ln>
        </p:spPr>
      </p:pic>
      <p:sp>
        <p:nvSpPr>
          <p:cNvPr id="28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C014-CC49-4372-85D2-8254C58DFB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Steps for Developing SSD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dentify input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e use case flow of activities or activity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scribe the message from the external actor to the system using the message no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me it verb-noun: what the system is asked to 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parameters the system will n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dentify any special conditions on input mess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eration/loop 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pt or Alt 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dentify and add output return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 message itself: aValue:= getValue(value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 explicit return on separate dashed 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A3A7-E40E-4995-82C8-1C21832A99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SD for </a:t>
            </a:r>
            <a:r>
              <a:rPr b="1" i="1" lang="en-US" sz="3600" spc="-1" strike="noStrike">
                <a:solidFill>
                  <a:srgbClr val="330066"/>
                </a:solidFill>
                <a:latin typeface="Arial"/>
              </a:rPr>
              <a:t>Create customer account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Use cas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0" name="Picture 5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560920" cy="4641840"/>
          </a:xfrm>
          <a:prstGeom prst="rect">
            <a:avLst/>
          </a:prstGeom>
          <a:ln w="0">
            <a:noFill/>
          </a:ln>
        </p:spPr>
      </p:pic>
      <p:sp>
        <p:nvSpPr>
          <p:cNvPr id="29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BEB3-23ED-4D87-8A6A-0DD8405E0E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236196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SD for </a:t>
            </a:r>
            <a:r>
              <a:rPr b="1" i="1" lang="en-US" sz="3200" spc="-1" strike="noStrike">
                <a:solidFill>
                  <a:srgbClr val="330066"/>
                </a:solidFill>
                <a:latin typeface="Arial"/>
              </a:rPr>
              <a:t>Ship items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Use Case</a:t>
            </a:r>
            <a:br>
              <a:rPr sz="3200"/>
            </a:br>
            <a:br>
              <a:rPr sz="2800"/>
            </a:br>
            <a:br>
              <a:rPr sz="28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6" descr=""/>
          <p:cNvPicPr/>
          <p:nvPr/>
        </p:nvPicPr>
        <p:blipFill>
          <a:blip r:embed="rId1"/>
          <a:stretch/>
        </p:blipFill>
        <p:spPr>
          <a:xfrm>
            <a:off x="3244680" y="152280"/>
            <a:ext cx="4394520" cy="6172200"/>
          </a:xfrm>
          <a:prstGeom prst="rect">
            <a:avLst/>
          </a:prstGeom>
          <a:ln w="0">
            <a:noFill/>
          </a:ln>
        </p:spPr>
      </p:pic>
      <p:sp>
        <p:nvSpPr>
          <p:cNvPr id="29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6AFB-DFEB-4AEA-B805-1107C315BE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State Machine Diagram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te machine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UML diagram showing the life of an object in states and tran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condition during an object’s life when it satisfies some criterion, performs some action, or waits for an 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movement of an object from one state to another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ction Ex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description of activities performed as part of a tran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D113-60D1-43BE-B20B-3BCCEE62B4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ate Machine Diagram 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seudo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starting point of a state machine diagram (black do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rigin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original state of an object before tran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stination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state to which the object moves after the tran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uard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true false test to see whether a transition can f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DCAC-C30E-4E6B-80D5-03C9F8C23D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ate Machine Diagram</a:t>
            </a:r>
            <a:br>
              <a:rPr sz="36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for a Printer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4381560"/>
          </a:xfrm>
          <a:prstGeom prst="rect">
            <a:avLst/>
          </a:prstGeom>
          <a:ln w="0">
            <a:noFill/>
          </a:ln>
        </p:spPr>
      </p:pic>
      <p:sp>
        <p:nvSpPr>
          <p:cNvPr id="31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9D2A-9F42-4B31-B314-ABE005681E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pter 5 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 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Diagrams for Use C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Sequence Diagram—Identifying Inputs and 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Machine Diagram—Identifying Object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Requirement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DB55-1A39-44FF-BF24-3153176BD6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omposite Sta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ate containing other states and tran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inter can be On and either Idle or Wor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7235640" cy="3884760"/>
          </a:xfrm>
          <a:prstGeom prst="rect">
            <a:avLst/>
          </a:prstGeom>
          <a:ln w="0">
            <a:noFill/>
          </a:ln>
        </p:spPr>
      </p:pic>
      <p:sp>
        <p:nvSpPr>
          <p:cNvPr id="319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E031-0ED3-4938-A469-1DDC4FD6AD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oncurrent Paths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ultiple paths in composite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inter On paths are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602400" cy="3996000"/>
          </a:xfrm>
          <a:prstGeom prst="rect">
            <a:avLst/>
          </a:prstGeom>
          <a:ln w="0">
            <a:noFill/>
          </a:ln>
        </p:spPr>
      </p:pic>
      <p:sp>
        <p:nvSpPr>
          <p:cNvPr id="32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F600-9981-4E5B-B4A8-B9A8A1D269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eps for Developing State Machine Diagra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ew the class diagram and select classes that might require state machine dia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each class, make a list of status conditions (states) you can identi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egin building diagram fragments by identifying transitions that cause an object to leave the identified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quence these states in the correct order and aggregate combinations into larger frag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ew paths and look for independent, concurrent pa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146F-3C0C-46B5-8C53-7909073442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eps for Developing State Machine Diagram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ook for additional transitions and test both dir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and each transition with appropriate message event, guard condition, and action ex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ew and test the state machine diagram for the 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ke sure state are really state for the object in the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llow the life cycle of an object coming into existence and being dele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 sure the diagram covers all exception con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ok again for concurrent paths and composit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27D5-785F-45C4-89FA-B77E112315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RMO Domain Class States for SaleItem Objec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39" name="Picture 6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16034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"/>
          <p:cNvPicPr/>
          <p:nvPr/>
        </p:nvPicPr>
        <p:blipFill>
          <a:blip r:embed="rId2"/>
          <a:stretch/>
        </p:blipFill>
        <p:spPr>
          <a:xfrm>
            <a:off x="685800" y="3352680"/>
            <a:ext cx="7543800" cy="2611440"/>
          </a:xfrm>
          <a:prstGeom prst="rect">
            <a:avLst/>
          </a:prstGeom>
          <a:ln w="0">
            <a:noFill/>
          </a:ln>
        </p:spPr>
      </p:pic>
      <p:sp>
        <p:nvSpPr>
          <p:cNvPr id="34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5675-9141-4F82-B719-4BB99D11F5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inal State Machine Diagram for SaleItem Objec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Item() and archive() transitions ad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rkBackOrdered() transition ad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6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8483400" cy="2573280"/>
          </a:xfrm>
          <a:prstGeom prst="rect">
            <a:avLst/>
          </a:prstGeom>
          <a:ln w="0">
            <a:noFill/>
          </a:ln>
        </p:spPr>
      </p:pic>
      <p:sp>
        <p:nvSpPr>
          <p:cNvPr id="34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344E-F2A4-443A-B836-32924F9C1A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RMO Domain Class States for Sale Objec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34160" cy="2752560"/>
          </a:xfrm>
          <a:prstGeom prst="rect">
            <a:avLst/>
          </a:prstGeom>
          <a:ln w="0">
            <a:noFill/>
          </a:ln>
        </p:spPr>
      </p:pic>
      <p:sp>
        <p:nvSpPr>
          <p:cNvPr id="35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2FA8-1F4C-4B79-92B2-E71EA4F08E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itial State Machine Diagram for RMO Sale Objec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609480" y="1859040"/>
            <a:ext cx="8001000" cy="3813120"/>
          </a:xfrm>
          <a:prstGeom prst="rect">
            <a:avLst/>
          </a:prstGeom>
          <a:ln w="0">
            <a:noFill/>
          </a:ln>
        </p:spPr>
      </p:pic>
      <p:sp>
        <p:nvSpPr>
          <p:cNvPr id="35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7E92-36FD-4E69-9A09-9AD2EAF29D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inal State Machine Diagram for Sale Objec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1600200" y="1346040"/>
            <a:ext cx="5737320" cy="4803840"/>
          </a:xfrm>
          <a:prstGeom prst="rect">
            <a:avLst/>
          </a:prstGeom>
          <a:ln w="0">
            <a:noFill/>
          </a:ln>
        </p:spPr>
      </p:pic>
      <p:sp>
        <p:nvSpPr>
          <p:cNvPr id="36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A53D-373D-4D42-8753-EC5A6C2821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tending and Integrating Requirements Model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cas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cas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ity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 sequence diagram (S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main Cla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main model class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e machin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AF5C-10CB-443C-A271-2654F4332F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0880" y="11426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Write fully developed use case descri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evelop activity diagrams to model flow of activ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evelop system sequence dia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evelop state machine diagrams to model object behavi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Explain how use case descriptions and UML diagrams work together to define functional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230A-0BAC-425C-9C45-290FA5B4EE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tegrating Requirements Model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507160" cy="2621160"/>
          </a:xfrm>
          <a:prstGeom prst="rect">
            <a:avLst/>
          </a:prstGeom>
          <a:ln w="0">
            <a:noFill/>
          </a:ln>
        </p:spPr>
      </p:pic>
      <p:sp>
        <p:nvSpPr>
          <p:cNvPr id="37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E42D-53AF-4722-8664-8DE2186283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304920" y="12193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s 3 and 4 identified and modeled the two primary aspects of functional requirements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se cas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omai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focuses on additional techniques and models to extend the requirements models to show more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eveloped use case descrip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vide information about each use case, including actors, stakeholders, preconditions, post conditions, the flow of activities and exceptions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tivity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first shown in Chapter 2) can also be used to show the flow of activities for a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6391-7BA1-428D-BDA9-57D382BF4D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3049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ystem sequence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SSDs) show the inputs and outputs for each use case as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ate machine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how the states an object can be in over time between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cases are modeled in more detail using fully developed use case descriptions, activity diagrams, and system sequenc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main classes are modeled in more detail using state machin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all use cases and domain classes are modeled at this level of detail. Only model when there is complexity and a need to communicate detai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EDFE-276A-41E3-B5A9-99A8AB2BB2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s 3 and 4 identified and modeled the two primary aspects of functional requirements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se cas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omai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focuses on additional techniques and models to extend the requirements models to show more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eveloped use case descrip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vide information about each use case, including actors, stakeholders, preconditions, post conditions, the flow of activities and exceptions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tivity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first shown in Chapter 2) can also be used to show the flow of activities for a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4C91-E760-4498-8840-73724F75E9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ystem sequence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SSDs) show the inputs and outputs for each use case as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ate machine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how the states an object can be in over time between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cases are modeled in more detail using fully developed use case descriptions, activity diagrams, and system sequenc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main classes are modeled in more detail using state machin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all use cases and domain classes are modeled at this level of detail. Only model when there is complexity and a need to communicate detai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329B-E55B-4B66-8BEE-7774BD0CFA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Use Case Description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shown in Chapter 3 for most use ca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8001000" cy="2763720"/>
          </a:xfrm>
          <a:prstGeom prst="rect">
            <a:avLst/>
          </a:prstGeom>
          <a:ln w="0">
            <a:noFill/>
          </a:ln>
        </p:spPr>
      </p:pic>
      <p:sp>
        <p:nvSpPr>
          <p:cNvPr id="19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EA8E-B302-435F-A0FD-527A2C0643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Use Case Description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lly developed use case 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ore complex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use case description templat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cas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enario (if nee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iggering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ed use cases (&lt;&lt;includes&gt;&gt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w of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ceptio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7173-B17D-4731-8454-9E932C2702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2666880" cy="391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Fully Developed Use Case Descrip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Use case: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0066"/>
                </a:solidFill>
                <a:latin typeface="Arial"/>
              </a:rPr>
              <a:t>Create customer account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2971800" y="152280"/>
            <a:ext cx="5924520" cy="6172200"/>
          </a:xfrm>
          <a:prstGeom prst="rect">
            <a:avLst/>
          </a:prstGeom>
          <a:ln w="0">
            <a:noFill/>
          </a:ln>
        </p:spPr>
      </p:pic>
      <p:sp>
        <p:nvSpPr>
          <p:cNvPr id="20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6:54:53Z</dcterms:created>
  <dc:creator>John</dc:creator>
  <dc:description/>
  <dc:language>en-US</dc:language>
  <cp:lastModifiedBy>Lee Reising</cp:lastModifiedBy>
  <dcterms:modified xsi:type="dcterms:W3CDTF">2012-02-28T13:54:04Z</dcterms:modified>
  <cp:revision>91</cp:revision>
  <dc:subject/>
  <dc:title>Chapter 1: From bla to bl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