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26.png" ContentType="image/png"/>
  <Override PartName="/ppt/media/image7.png" ContentType="image/png"/>
  <Override PartName="/ppt/media/image6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982AF-6E42-492A-8922-DBA628899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97C68-EB15-49F5-94F2-1CEEE610F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5A41-12E1-4323-BB0A-60810D1E6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4C93-66BF-4E9C-9E8F-F9C1A9C30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4351-1FB6-4C66-AAED-66C977C56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4973-159F-47DC-A8DD-AAD420279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227C6-CA08-4B0C-A35F-62A028728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9EEA8-C3ED-4AB5-BEBA-C825AEE65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57DED-4D72-494A-935E-122D17AA2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ABE40-C92F-46FA-BF49-B83F63D03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27223-A295-4279-B1F1-04A1F0E79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D036E-282E-440B-A029-C266A78BA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D12F2-6825-4FD4-8C2F-59440A08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CD60-C7BA-468C-A3CE-D4E7B3FF4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19F06-6624-47F6-AACA-71065CE1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DDAF8-6758-4349-8F63-F5498C0A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B5C98-1B73-4FC5-926F-A03BAEE5F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3233A-4213-4500-94D4-DA9CD7E92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2FAAF-0D1F-4B6D-AD53-82D347916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4FA9-05C9-400F-9A77-2D13DE40C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5C61-8E45-4AD6-A4EF-CC4389C10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4645-5FDA-4477-BB75-C9C53F862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B3F4-7A35-4844-87AF-EE5625841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6439-3D2C-4FC9-A5F7-B31CA3A3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55CD-AD02-41C8-8DD1-35DB9E89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7363-D314-46AD-A4A1-B680A261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s Analysis and Design in a Changing World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344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2B774-CA13-4A22-896E-A3AF260D2F0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1"/>
          <p:cNvSpPr/>
          <p:nvPr/>
        </p:nvSpPr>
        <p:spPr>
          <a:xfrm>
            <a:off x="457200" y="1676520"/>
            <a:ext cx="678168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4"/>
          </p:nvPr>
        </p:nvSpPr>
        <p:spPr>
          <a:xfrm>
            <a:off x="4572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5"/>
          </p:nvPr>
        </p:nvSpPr>
        <p:spPr>
          <a:xfrm>
            <a:off x="19810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s Analysis and Design in a Changing World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6"/>
          </p:nvPr>
        </p:nvSpPr>
        <p:spPr>
          <a:xfrm>
            <a:off x="73152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5581B-CA60-4845-B949-233DF25E6FD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3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s Analysis and Design in a Changing World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06D06-6251-4768-AE14-E0811D4CAF6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066680" y="449568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apter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838080" y="152280"/>
            <a:ext cx="815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INTRODUCTION 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YSTEMS ANALYSIS AND DESIG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AN AGILE, ITERATIVE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0" y="3048120"/>
            <a:ext cx="9144000" cy="3809880"/>
          </a:xfrm>
          <a:prstGeom prst="rect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0"/>
          <p:cNvSpPr/>
          <p:nvPr/>
        </p:nvSpPr>
        <p:spPr>
          <a:xfrm>
            <a:off x="685800" y="41148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9"/>
          <p:cNvSpPr/>
          <p:nvPr/>
        </p:nvSpPr>
        <p:spPr>
          <a:xfrm>
            <a:off x="3809880" y="32767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TZINGER | JACKSON | BU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C1D8C-F25B-4522-AB15-2F1C8B01697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9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Fully Developed Use Case Description </a:t>
            </a:r>
            <a:r>
              <a:rPr b="1" i="1" lang="en-US" sz="3000" spc="-1" strike="noStrike">
                <a:solidFill>
                  <a:srgbClr val="330066"/>
                </a:solidFill>
                <a:latin typeface="Arial"/>
              </a:rPr>
              <a:t>Create customer account</a:t>
            </a: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 (part 1 )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5" name="Picture 5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686800" cy="4311360"/>
          </a:xfrm>
          <a:prstGeom prst="rect">
            <a:avLst/>
          </a:prstGeom>
          <a:ln w="0">
            <a:noFill/>
          </a:ln>
        </p:spPr>
      </p:pic>
      <p:sp>
        <p:nvSpPr>
          <p:cNvPr id="206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65AA7-E10D-4963-ACFC-187572D90CD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9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Fully Developed Use Case Description </a:t>
            </a:r>
            <a:r>
              <a:rPr b="1" i="1" lang="en-US" sz="3000" spc="-1" strike="noStrike">
                <a:solidFill>
                  <a:srgbClr val="330066"/>
                </a:solidFill>
                <a:latin typeface="Arial"/>
              </a:rPr>
              <a:t>Create customer account</a:t>
            </a: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 (part 2 )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0" name="Picture 4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534520" cy="4619520"/>
          </a:xfrm>
          <a:prstGeom prst="rect">
            <a:avLst/>
          </a:prstGeom>
          <a:ln w="0">
            <a:noFill/>
          </a:ln>
        </p:spPr>
      </p:pic>
      <p:sp>
        <p:nvSpPr>
          <p:cNvPr id="211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0153C-4243-4CDB-BD74-3BE52CC40D5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Use Case Description Details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elated use cases &lt;&lt;includes&gt;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f one use case invokes or includes ano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takehold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nyone with an interest in the use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recondi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at must be true before the use case begi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ost condi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at must be true when the use case is comple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se for planning test case expected resul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low of activ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activities that go on between actor and the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xception condi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ere and what can go wro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D0854-3C44-48AD-8B3D-D3A546C039E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Use Case Description Details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case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Verb-nou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cenario (if need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A use case can have more than one scenario (special case or more specific path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iggering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Based on event decomposition techniqu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rief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Written previously when use case was identifi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ne or more users from use case diagra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916EB-961B-4EAC-885B-14116EFB59E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2514600" cy="437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Another Fully Developed Use Case Description Example</a:t>
            </a: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Use case</a:t>
            </a:r>
            <a:br>
              <a:rPr sz="2400"/>
            </a:br>
            <a:r>
              <a:rPr b="1" i="1" lang="en-US" sz="2400" spc="-1" strike="noStrike">
                <a:solidFill>
                  <a:srgbClr val="330066"/>
                </a:solidFill>
                <a:latin typeface="Arial"/>
              </a:rPr>
              <a:t>Ship items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9"/>
          <p:cNvSpPr/>
          <p:nvPr/>
        </p:nvSpPr>
        <p:spPr>
          <a:xfrm>
            <a:off x="609480" y="1600200"/>
            <a:ext cx="8001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0" descr=""/>
          <p:cNvPicPr/>
          <p:nvPr/>
        </p:nvPicPr>
        <p:blipFill>
          <a:blip r:embed="rId1"/>
          <a:stretch/>
        </p:blipFill>
        <p:spPr>
          <a:xfrm>
            <a:off x="3019320" y="76320"/>
            <a:ext cx="5577120" cy="6248160"/>
          </a:xfrm>
          <a:prstGeom prst="rect">
            <a:avLst/>
          </a:prstGeom>
          <a:ln w="0">
            <a:noFill/>
          </a:ln>
        </p:spPr>
      </p:pic>
      <p:sp>
        <p:nvSpPr>
          <p:cNvPr id="228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E06D3-A058-4786-918A-8815B6B8F3F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9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Fully Developed Use Case Description  </a:t>
            </a:r>
            <a:r>
              <a:rPr b="1" i="1" lang="en-US" sz="3000" spc="-1" strike="noStrike">
                <a:solidFill>
                  <a:srgbClr val="330066"/>
                </a:solidFill>
                <a:latin typeface="Arial"/>
              </a:rPr>
              <a:t>Ship items</a:t>
            </a: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 (part 1 )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32" name="Picture 4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610480" cy="4362480"/>
          </a:xfrm>
          <a:prstGeom prst="rect">
            <a:avLst/>
          </a:prstGeom>
          <a:ln w="0">
            <a:noFill/>
          </a:ln>
        </p:spPr>
      </p:pic>
      <p:sp>
        <p:nvSpPr>
          <p:cNvPr id="233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E036C-73DC-4DF4-A330-F1F944E8C7C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9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Fully Developed Use Case Description </a:t>
            </a:r>
            <a:r>
              <a:rPr b="1" i="1" lang="en-US" sz="3000" spc="-1" strike="noStrike">
                <a:solidFill>
                  <a:srgbClr val="330066"/>
                </a:solidFill>
                <a:latin typeface="Arial"/>
              </a:rPr>
              <a:t>Ship items</a:t>
            </a: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 (part 2 )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37" name="Picture 4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305920" cy="5164200"/>
          </a:xfrm>
          <a:prstGeom prst="rect">
            <a:avLst/>
          </a:prstGeom>
          <a:ln w="0">
            <a:noFill/>
          </a:ln>
        </p:spPr>
      </p:pic>
      <p:sp>
        <p:nvSpPr>
          <p:cNvPr id="238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F0D9A-81B2-4964-8DBF-8153FBC6A7E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2514600" cy="563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UML Activity Diagram for Use Case</a:t>
            </a:r>
            <a:br>
              <a:rPr sz="3200"/>
            </a:br>
            <a:br>
              <a:rPr sz="3200"/>
            </a:br>
            <a:r>
              <a:rPr b="1" i="1" lang="en-US" sz="2800" spc="-1" strike="noStrike">
                <a:solidFill>
                  <a:srgbClr val="330066"/>
                </a:solidFill>
                <a:latin typeface="Arial"/>
              </a:rPr>
              <a:t>Create Customer Account</a:t>
            </a: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Note: this shows flow of activities only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609480" y="1600200"/>
            <a:ext cx="8001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6" descr=""/>
          <p:cNvPicPr/>
          <p:nvPr/>
        </p:nvPicPr>
        <p:blipFill>
          <a:blip r:embed="rId1"/>
          <a:stretch/>
        </p:blipFill>
        <p:spPr>
          <a:xfrm>
            <a:off x="2997360" y="380880"/>
            <a:ext cx="5049720" cy="5693040"/>
          </a:xfrm>
          <a:prstGeom prst="rect">
            <a:avLst/>
          </a:prstGeom>
          <a:ln w="0">
            <a:noFill/>
          </a:ln>
        </p:spPr>
      </p:pic>
      <p:sp>
        <p:nvSpPr>
          <p:cNvPr id="244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1E55-C8FE-4E6B-838F-43BE2103F4B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2819160" cy="563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UML Activity Diagram for Use Case</a:t>
            </a:r>
            <a:br>
              <a:rPr sz="3200"/>
            </a:br>
            <a:br>
              <a:rPr sz="3200"/>
            </a:br>
            <a:r>
              <a:rPr b="1" i="1" lang="en-US" sz="2800" spc="-1" strike="noStrike">
                <a:solidFill>
                  <a:srgbClr val="330066"/>
                </a:solidFill>
                <a:latin typeface="Arial"/>
              </a:rPr>
              <a:t>Fill shopping cart</a:t>
            </a:r>
            <a:br>
              <a:rPr sz="2800"/>
            </a:br>
            <a:br>
              <a:rPr sz="3200"/>
            </a:b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Note: this shows use case with &lt;&lt;includes&gt;&gt; reltionship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609480" y="1600200"/>
            <a:ext cx="8001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6" descr=""/>
          <p:cNvPicPr/>
          <p:nvPr/>
        </p:nvPicPr>
        <p:blipFill>
          <a:blip r:embed="rId1"/>
          <a:stretch/>
        </p:blipFill>
        <p:spPr>
          <a:xfrm>
            <a:off x="3352680" y="228600"/>
            <a:ext cx="4767480" cy="6019920"/>
          </a:xfrm>
          <a:prstGeom prst="rect">
            <a:avLst/>
          </a:prstGeom>
          <a:ln w="0">
            <a:noFill/>
          </a:ln>
        </p:spPr>
      </p:pic>
      <p:sp>
        <p:nvSpPr>
          <p:cNvPr id="251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8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76336-90B8-4B6A-AC05-0165A1812F2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ystem Sequence Diagram (SSD)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 UML sequence diagra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pecial case for a sequence diagra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ly shows actor and one ob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one object represents the complete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ws input &amp; output messaging requirements for a use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ctor, :</a:t>
            </a:r>
            <a:r>
              <a:rPr b="0" lang="en-GB" sz="3000" spc="-1" strike="noStrike" u="sng">
                <a:solidFill>
                  <a:srgbClr val="000000"/>
                </a:solidFill>
                <a:uFillTx/>
                <a:latin typeface="Arial"/>
              </a:rPr>
              <a:t>System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, object lifel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essa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6411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Extending the Requirements Model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969920" y="3655800"/>
            <a:ext cx="4267440" cy="15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 to Syste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is and Desig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gile, Iteractive App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zinger, Jackson &amp; Bu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380880" y="1828800"/>
            <a:ext cx="67820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Chapter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B9FB3-EFAB-4AF9-90B7-F4D1EBCE203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ystem Sequence Diagram (SSD)</a:t>
            </a:r>
            <a:br>
              <a:rPr sz="3600"/>
            </a:b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Notation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60" name="Picture 5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5967360" cy="4744800"/>
          </a:xfrm>
          <a:prstGeom prst="rect">
            <a:avLst/>
          </a:prstGeom>
          <a:ln w="0">
            <a:noFill/>
          </a:ln>
        </p:spPr>
      </p:pic>
      <p:sp>
        <p:nvSpPr>
          <p:cNvPr id="261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4D16B-2F96-4D56-98A9-698B7808103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9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Message Notation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65" name="Picture 5" descr=""/>
          <p:cNvPicPr/>
          <p:nvPr/>
        </p:nvPicPr>
        <p:blipFill>
          <a:blip r:embed="rId1"/>
          <a:stretch/>
        </p:blipFill>
        <p:spPr>
          <a:xfrm>
            <a:off x="380880" y="2286000"/>
            <a:ext cx="8305920" cy="34527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7" descr=""/>
          <p:cNvPicPr/>
          <p:nvPr/>
        </p:nvPicPr>
        <p:blipFill>
          <a:blip r:embed="rId2"/>
          <a:stretch/>
        </p:blipFill>
        <p:spPr>
          <a:xfrm>
            <a:off x="309600" y="1476360"/>
            <a:ext cx="8377200" cy="517680"/>
          </a:xfrm>
          <a:prstGeom prst="rect">
            <a:avLst/>
          </a:prstGeom>
          <a:ln w="0">
            <a:noFill/>
          </a:ln>
        </p:spPr>
      </p:pic>
      <p:sp>
        <p:nvSpPr>
          <p:cNvPr id="267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8B941-3DBF-4F28-AC1A-AF18144B45D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281952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SSD Message Examples with Loop Frame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4"/>
          <p:cNvSpPr/>
          <p:nvPr/>
        </p:nvSpPr>
        <p:spPr>
          <a:xfrm>
            <a:off x="609480" y="1600200"/>
            <a:ext cx="8001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6" descr=""/>
          <p:cNvPicPr/>
          <p:nvPr/>
        </p:nvPicPr>
        <p:blipFill>
          <a:blip r:embed="rId1"/>
          <a:stretch/>
        </p:blipFill>
        <p:spPr>
          <a:xfrm>
            <a:off x="2743200" y="152280"/>
            <a:ext cx="5357880" cy="6105600"/>
          </a:xfrm>
          <a:prstGeom prst="rect">
            <a:avLst/>
          </a:prstGeom>
          <a:ln w="0">
            <a:noFill/>
          </a:ln>
        </p:spPr>
      </p:pic>
      <p:sp>
        <p:nvSpPr>
          <p:cNvPr id="274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8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4BB8A-A4F1-44B6-A2DC-EF69FF84681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2819520" cy="556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SSD Message Examples</a:t>
            </a:r>
            <a:br>
              <a:rPr sz="3200"/>
            </a:br>
            <a:br>
              <a:rPr sz="28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Opt Frame (optional)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Alt Frame</a:t>
            </a:r>
            <a:br>
              <a:rPr sz="28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(if-else)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609480" y="1600200"/>
            <a:ext cx="8001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6" descr=""/>
          <p:cNvPicPr/>
          <p:nvPr/>
        </p:nvPicPr>
        <p:blipFill>
          <a:blip r:embed="rId1"/>
          <a:stretch/>
        </p:blipFill>
        <p:spPr>
          <a:xfrm>
            <a:off x="3505320" y="152280"/>
            <a:ext cx="3732120" cy="6086520"/>
          </a:xfrm>
          <a:prstGeom prst="rect">
            <a:avLst/>
          </a:prstGeom>
          <a:ln w="0">
            <a:noFill/>
          </a:ln>
        </p:spPr>
      </p:pic>
      <p:sp>
        <p:nvSpPr>
          <p:cNvPr id="281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8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C0C19-8347-44DE-A071-01686246B1A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9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Steps for Developing SSD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dentify input mess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4190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e use case flow of activities or activity dia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escribe the message from the external actor to the system using the message no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4190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me it verb-noun: what the system is asked to d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4190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ider parameters the system will ne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dentify any special conditions on input messa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4190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teration/loop fra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4190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Opt or Alt fra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dentify and add output return val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4190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On message itself: aValue:= getValue(valueI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4190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s explicit return on separate dashed 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C477E-A3BA-4A25-930F-B2920D97DE5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9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SD for </a:t>
            </a:r>
            <a:r>
              <a:rPr b="1" i="1" lang="en-US" sz="3600" spc="-1" strike="noStrike">
                <a:solidFill>
                  <a:srgbClr val="330066"/>
                </a:solidFill>
                <a:latin typeface="Arial"/>
              </a:rPr>
              <a:t>Create customer account</a:t>
            </a: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 Use case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90" name="Picture 5" descr=""/>
          <p:cNvPicPr/>
          <p:nvPr/>
        </p:nvPicPr>
        <p:blipFill>
          <a:blip r:embed="rId1"/>
          <a:stretch/>
        </p:blipFill>
        <p:spPr>
          <a:xfrm>
            <a:off x="1905120" y="1371600"/>
            <a:ext cx="5560920" cy="4641840"/>
          </a:xfrm>
          <a:prstGeom prst="rect">
            <a:avLst/>
          </a:prstGeom>
          <a:ln w="0">
            <a:noFill/>
          </a:ln>
        </p:spPr>
      </p:pic>
      <p:sp>
        <p:nvSpPr>
          <p:cNvPr id="291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75A94-FBCD-49E5-9D70-BA63B94169B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2361960" cy="342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SSD for </a:t>
            </a:r>
            <a:r>
              <a:rPr b="1" i="1" lang="en-US" sz="3200" spc="-1" strike="noStrike">
                <a:solidFill>
                  <a:srgbClr val="330066"/>
                </a:solidFill>
                <a:latin typeface="Arial"/>
              </a:rPr>
              <a:t>Ship items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 Use Case</a:t>
            </a:r>
            <a:br>
              <a:rPr sz="3200"/>
            </a:br>
            <a:br>
              <a:rPr sz="2800"/>
            </a:br>
            <a:br>
              <a:rPr sz="28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609480" y="1600200"/>
            <a:ext cx="8001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6" descr=""/>
          <p:cNvPicPr/>
          <p:nvPr/>
        </p:nvPicPr>
        <p:blipFill>
          <a:blip r:embed="rId1"/>
          <a:stretch/>
        </p:blipFill>
        <p:spPr>
          <a:xfrm>
            <a:off x="3244680" y="152280"/>
            <a:ext cx="4394520" cy="6172200"/>
          </a:xfrm>
          <a:prstGeom prst="rect">
            <a:avLst/>
          </a:prstGeom>
          <a:ln w="0">
            <a:noFill/>
          </a:ln>
        </p:spPr>
      </p:pic>
      <p:sp>
        <p:nvSpPr>
          <p:cNvPr id="298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8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EC3D4-E003-4E47-84B1-51BC6D4838E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State Machine Diagram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tate machine diagr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 UML diagram showing the life of an object in states and transi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 condition during an object’s life when it satisfies some criterion, performs some action, or waits for an ev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movement of an object from one state to another 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ction Expre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 description of activities performed as part of a trans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86F83-25CB-4180-B887-D3B1357DCE9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tate Machine Diagram </a:t>
            </a: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(continued)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seudo st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starting point of a state machine diagram (black do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rigin st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original state of an object before trans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estination st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state to which the object moves after the trans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uard cond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 true false test to see whether a transition can f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19EA8-BEFB-43FB-A991-23C619E429C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17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tate Machine Diagram</a:t>
            </a:r>
            <a:br>
              <a:rPr sz="36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for a Printer</a:t>
            </a: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12" name="Picture 5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8076960" cy="4381560"/>
          </a:xfrm>
          <a:prstGeom prst="rect">
            <a:avLst/>
          </a:prstGeom>
          <a:ln w="0">
            <a:noFill/>
          </a:ln>
        </p:spPr>
      </p:pic>
      <p:sp>
        <p:nvSpPr>
          <p:cNvPr id="313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41C3E-059C-4486-B846-7DF59794EF2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hapter 5 Outl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se Descri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 Diagrams for Use Ca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Sequence Diagram—Identifying Inputs and Outp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te Machine Diagram—Identifying Object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ing Requirements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C4F20-F03B-4943-BCAB-C17B184C118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94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Composite States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ate containing other states and transi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inter can be On and either Idle or Work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5" descr=""/>
          <p:cNvPicPr/>
          <p:nvPr/>
        </p:nvPicPr>
        <p:blipFill>
          <a:blip r:embed="rId1"/>
          <a:stretch/>
        </p:blipFill>
        <p:spPr>
          <a:xfrm>
            <a:off x="990720" y="2209680"/>
            <a:ext cx="7235640" cy="3884760"/>
          </a:xfrm>
          <a:prstGeom prst="rect">
            <a:avLst/>
          </a:prstGeom>
          <a:ln w="0">
            <a:noFill/>
          </a:ln>
        </p:spPr>
      </p:pic>
      <p:sp>
        <p:nvSpPr>
          <p:cNvPr id="319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124AE-0F52-4728-B12D-061AD43EF30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94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Concurrent Paths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ultiple paths in composite 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inter On paths are independ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5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6602400" cy="3996000"/>
          </a:xfrm>
          <a:prstGeom prst="rect">
            <a:avLst/>
          </a:prstGeom>
          <a:ln w="0">
            <a:noFill/>
          </a:ln>
        </p:spPr>
      </p:pic>
      <p:sp>
        <p:nvSpPr>
          <p:cNvPr id="32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FFC38-2730-4A38-BB62-9F0BCA3B246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9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teps for Developing State Machine Diagram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eview the class diagram and select classes that might require state machine diagra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or each class, make a list of status conditions (states) you can identif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egin building diagram fragments by identifying transitions that cause an object to leave the identified st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equence these states in the correct order and aggregate combinations into larger frag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eview paths and look for independent, concurrent pat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CD046-4A6A-4B3D-98BA-2707F49F4A7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9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teps for Developing State Machine Diagram 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(continued)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ook for additional transitions and test both dire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xpand each transition with appropriate message event, guard condition, and action expre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eview and test the state machine diagram for the cla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4190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ke sure state are really state for the object in the cla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4190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ollow the life cycle of an object coming into existence and being dele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4190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e sure the diagram covers all exception con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4190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ook again for concurrent paths and composite st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F7DA0-F453-4867-B195-FD4DD34B261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4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RMO Domain Class States for SaleItem Object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39" name="Picture 6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6782040" cy="16034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7" descr=""/>
          <p:cNvPicPr/>
          <p:nvPr/>
        </p:nvPicPr>
        <p:blipFill>
          <a:blip r:embed="rId2"/>
          <a:stretch/>
        </p:blipFill>
        <p:spPr>
          <a:xfrm>
            <a:off x="685800" y="3352680"/>
            <a:ext cx="7543800" cy="2611440"/>
          </a:xfrm>
          <a:prstGeom prst="rect">
            <a:avLst/>
          </a:prstGeom>
          <a:ln w="0">
            <a:noFill/>
          </a:ln>
        </p:spPr>
      </p:pic>
      <p:sp>
        <p:nvSpPr>
          <p:cNvPr id="341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6CFD1-1A9B-42A0-A826-A89ABE13284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4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Final State Machine Diagram for SaleItem Object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dItem() and archive() transitions ad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rkBackOrdered() transition ad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6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8483400" cy="2573280"/>
          </a:xfrm>
          <a:prstGeom prst="rect">
            <a:avLst/>
          </a:prstGeom>
          <a:ln w="0">
            <a:noFill/>
          </a:ln>
        </p:spPr>
      </p:pic>
      <p:sp>
        <p:nvSpPr>
          <p:cNvPr id="347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4B4DE-F674-44BD-9FAD-CCFBABE86EC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4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RMO Domain Class States for Sale Object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51" name="Picture 5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534160" cy="2752560"/>
          </a:xfrm>
          <a:prstGeom prst="rect">
            <a:avLst/>
          </a:prstGeom>
          <a:ln w="0">
            <a:noFill/>
          </a:ln>
        </p:spPr>
      </p:pic>
      <p:sp>
        <p:nvSpPr>
          <p:cNvPr id="352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F237E-737F-418B-89F6-6BAB186908B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4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Initial State Machine Diagram for RMO Sale Object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56" name="Picture 4" descr=""/>
          <p:cNvPicPr/>
          <p:nvPr/>
        </p:nvPicPr>
        <p:blipFill>
          <a:blip r:embed="rId1"/>
          <a:stretch/>
        </p:blipFill>
        <p:spPr>
          <a:xfrm>
            <a:off x="609480" y="1859040"/>
            <a:ext cx="8001000" cy="3813120"/>
          </a:xfrm>
          <a:prstGeom prst="rect">
            <a:avLst/>
          </a:prstGeom>
          <a:ln w="0">
            <a:noFill/>
          </a:ln>
        </p:spPr>
      </p:pic>
      <p:sp>
        <p:nvSpPr>
          <p:cNvPr id="357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19FFD-2456-4A13-BC80-9DBDB210AF4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4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Final State Machine Diagram for Sale Object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61" name="Picture 5" descr=""/>
          <p:cNvPicPr/>
          <p:nvPr/>
        </p:nvPicPr>
        <p:blipFill>
          <a:blip r:embed="rId1"/>
          <a:stretch/>
        </p:blipFill>
        <p:spPr>
          <a:xfrm>
            <a:off x="1600200" y="1346040"/>
            <a:ext cx="5737320" cy="4803840"/>
          </a:xfrm>
          <a:prstGeom prst="rect">
            <a:avLst/>
          </a:prstGeom>
          <a:ln w="0">
            <a:noFill/>
          </a:ln>
        </p:spPr>
      </p:pic>
      <p:sp>
        <p:nvSpPr>
          <p:cNvPr id="362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B978F-86CA-4F60-85EB-D2F5228E0F2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4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Extending and Integrating Requirements Model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case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case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ivity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ystem sequence diagram (SS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main Cla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main model class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te machine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5D15D-4897-4608-AAB2-F20379756D7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earning Objectiv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80880" y="1142640"/>
            <a:ext cx="830592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Write fully developed use case descrip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Develop activity diagrams to model flow of activ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Develop system sequence diagra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Develop state machine diagrams to model object behavi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Explain how use case descriptions and UML diagrams work together to define functional requir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89BD4-0B8A-4AF2-97E6-54134227915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4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Integrating Requirements Model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71" name="Picture 4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507160" cy="2621160"/>
          </a:xfrm>
          <a:prstGeom prst="rect">
            <a:avLst/>
          </a:prstGeom>
          <a:ln w="0">
            <a:noFill/>
          </a:ln>
        </p:spPr>
      </p:pic>
      <p:sp>
        <p:nvSpPr>
          <p:cNvPr id="372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7CE4F-1676-4CFB-9B6E-F0570BB5D4B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umma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304920" y="1219320"/>
            <a:ext cx="82296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pters 3 and 4 identified and modeled the two primary aspects of functional requirements: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use cas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domain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hapter focuses on additional techniques and models to extend the requirements models to show more de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lly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developed use case description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rovide information about each use case, including actors, stakeholders, preconditions, post conditions, the flow of activities and exceptions condi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ctivity diagram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first shown in Chapter 2) can also be used to show the flow of activities for a us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9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E86D-F0C5-40B7-8217-B893086D5C3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ummary 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(continued)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6"/>
          <p:cNvSpPr/>
          <p:nvPr/>
        </p:nvSpPr>
        <p:spPr>
          <a:xfrm>
            <a:off x="30492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ystem sequence diagram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SSDs) show the inputs and outputs for each use case as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tate machine diagram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how the states an object can be in over time between us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cases are modeled in more detail using fully developed use case descriptions, activity diagrams, and system sequence di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main classes are modeled in more detail using state machine di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 all use cases and domain classes are modeled at this level of detail. Only model when there is complexity and a need to communicate detail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9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6F401-C39F-4470-88C9-2879A2E9E20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vervie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pters 3 and 4 identified and modeled the two primary aspects of functional requirements: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use cas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domain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hapter focuses on additional techniques and models to extend the requirements models to show more de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lly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developed use case description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rovide information about each use case, including actors, stakeholders, preconditions, post conditions, the flow of activities and exceptions condi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ctivity diagram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first shown in Chapter 2) can also be used to show the flow of activities for a us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31D8C-183E-47B5-B913-C215F4EE0BF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verview 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(continued)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ystem sequence diagram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SSDs) show the inputs and outputs for each use case as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tate machine diagram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how the states an object can be in over time between us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cases are modeled in more detail using fully developed use case descriptions, activity diagrams, and system sequence di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main classes are modeled in more detail using state machine di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 all use cases and domain classes are modeled at this level of detail. Only model when there is complexity and a need to communicate detail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F458A-8036-4C70-81A8-B4FE17CA278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Use Case Description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rief descrip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 shown in Chapter 3 for most use cas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6" descr=""/>
          <p:cNvPicPr/>
          <p:nvPr/>
        </p:nvPicPr>
        <p:blipFill>
          <a:blip r:embed="rId1"/>
          <a:stretch/>
        </p:blipFill>
        <p:spPr>
          <a:xfrm>
            <a:off x="609480" y="2514600"/>
            <a:ext cx="8001000" cy="2763720"/>
          </a:xfrm>
          <a:prstGeom prst="rect">
            <a:avLst/>
          </a:prstGeom>
          <a:ln w="0">
            <a:noFill/>
          </a:ln>
        </p:spPr>
      </p:pic>
      <p:sp>
        <p:nvSpPr>
          <p:cNvPr id="191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C60FE-7606-4004-B02A-8CD21E2D301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Use Case Description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ully developed use case descrip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more complex us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use case description template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 case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enario (if need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iggering 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rief 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ated use cases (&lt;&lt;includes&gt;&gt;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keho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t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low of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ception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76381-6BE3-43A1-8E76-84D2FE62B62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2666880" cy="391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Fully Developed Use Case Description</a:t>
            </a: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Use case: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330066"/>
                </a:solidFill>
                <a:latin typeface="Arial"/>
              </a:rPr>
              <a:t>Create customer account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0" name="Picture 5" descr=""/>
          <p:cNvPicPr/>
          <p:nvPr/>
        </p:nvPicPr>
        <p:blipFill>
          <a:blip r:embed="rId1"/>
          <a:stretch/>
        </p:blipFill>
        <p:spPr>
          <a:xfrm>
            <a:off x="2971800" y="152280"/>
            <a:ext cx="5924520" cy="6172200"/>
          </a:xfrm>
          <a:prstGeom prst="rect">
            <a:avLst/>
          </a:prstGeom>
          <a:ln w="0">
            <a:noFill/>
          </a:ln>
        </p:spPr>
      </p:pic>
      <p:sp>
        <p:nvSpPr>
          <p:cNvPr id="201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1T16:54:53Z</dcterms:created>
  <dc:creator>John</dc:creator>
  <dc:description/>
  <dc:language>en-US</dc:language>
  <cp:lastModifiedBy>Lee Reising</cp:lastModifiedBy>
  <dcterms:modified xsi:type="dcterms:W3CDTF">2012-02-28T13:54:04Z</dcterms:modified>
  <cp:revision>91</cp:revision>
  <dc:subject/>
  <dc:title>Chapter 1: From bla to bl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